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C6F-02BE-4BB2-95B2-3FBF887A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410-5799-4535-821A-01B2346C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B13B3-E87F-453A-AD3F-D128BE26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AFDAC-9DF0-4EFF-8FA2-B8E033BD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7C2FF-0156-4D27-A58E-1BD73B09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003EA-872B-47F8-9331-070364F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C805F-F268-483D-A6F7-5E76B85D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9CA89-4A55-4370-AFDF-6577ABA4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5C7F9-6083-48B7-8A68-1E62150D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4778C-A1CC-409B-A7CF-C3095D04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08AEA-667B-43D5-A800-95B360DE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07CCA-2124-44BC-8B4D-03262C44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223-BCFE-4BFE-A59E-5680AA4E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2AF4A-ABB7-4B0F-9643-E9BDCE46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D162D-8CFB-4FDD-AC57-33B21A78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7825D-6338-4346-8997-8C047D61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27DCA-D9C8-4409-9608-25EFBFAF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F9922-1AAC-47DB-ABA5-1F15C8BD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D37AE-A1F2-4F42-9F45-3970D726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0E019-57E4-42FB-ABC9-4B9D20A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6B41B-DE58-419A-AC74-014898A3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E64F7-E55B-4B63-87A7-DB7F2988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66890-507A-4711-A2FF-EFB8128C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705-31B9-44B8-8F99-B6B7EC7F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0765C-3BAA-4BDA-B7F7-C7E707E1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638B-4354-4346-A45E-E6E40F56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C692E-C3D3-4D09-9499-8914D398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54181-B9CD-466D-BC76-4BC18F7E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75841-BA28-4074-8A83-FD85A7B5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23CE0-9A61-4A17-97CA-79910637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B81A3-1685-44E1-ADFB-CFF1949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DE7F7-2945-4A72-B370-806957C0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049C5-F115-42E0-94F6-6AC5F308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5F337-33B4-4319-B346-A019B913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8D70-A676-41C4-BC14-1E3CA211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FAFF1-0E39-417F-8A70-AC7DD21C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00BA3-E858-4946-9AF7-AEEB86CE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4BC46-217E-4CF2-A983-3D575743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0698F-D74F-4ED6-9934-165E0F48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B29BF-F3F4-45DF-A979-C0A55BE4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1A894-23E2-412F-B89E-2C75DB0F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8487A-3765-4180-A720-549E3B6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C5CC2-7995-4F22-8723-C2BA534E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E3B36-92E1-49BD-9635-4B6F4259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ADC42-3F71-4B78-84E9-10F7296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DBE-2619-433E-8AA8-C355695F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DE245-67A7-4D1C-A6F0-3B5BF5D5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88456-6CB4-49D0-A5B6-4E2AE1C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3A1BF-895B-43EA-9352-685445F4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10DCD-4A37-4271-A25B-0610B3A0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8C760-C882-46FA-A27C-7E5BF561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793C-B419-4DCE-980C-C9263971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E237-2F59-4728-9826-7E4A6E25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1BCA-4DC9-4F2F-A603-EA51BFD5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B087-676F-4E11-8C4A-5D04D787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3B30-AD2B-4333-B997-E748B589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C16-EE35-4D71-B638-32E58D73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AC25-02E9-464F-AF4C-AEA3A8B8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08EB-10B6-4C44-ACEA-F3187C61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4BD2-B019-4B01-8FAD-96D3A92E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9D27-3288-4201-B88A-1B8077B3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0B7D-21C4-49B2-8E8D-6E8204B5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043B-9BED-40D1-A2B6-D65AFA27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FD1A-CD8D-4E15-B7DB-25C35BA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4980-A4FB-4E58-8085-66D2561E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5FB6-6950-482E-BC00-7D00D7A5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A90A-B902-4F0F-A899-E0B147E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6ED-C146-4F8C-86B5-FADA600D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FA6E-E753-4D64-A65E-1CFFD034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3473-38B1-4330-8CE1-0FE29F2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783B-1469-4D5F-991B-59DF74F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E4F3-EF7F-4B66-A4F6-DEA3C7C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2F82-073F-4CFC-A3BC-B88D4C0D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0B0A-E7D1-4F74-BCB9-FCAA7EA9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B61A-1CA3-4D9A-AF8F-2715C566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717A-5976-4FD2-A21A-7C8888E2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2435-DF8E-4156-8C08-6E26B6C0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1E8C-FA98-4ECC-AE27-4C464E2A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FD1-1AD6-4481-81FB-93F5BB5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CC3B9-9FFD-47F5-A12B-8938FC7F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03AEB-7ADF-4AF9-B185-D5BFAB05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4709-BD33-4083-8616-C9E33FCA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06BD-133C-48BD-BE85-622873D5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EAE4-03C2-46D8-9C09-0D2C62D0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DEE48-AE3F-42B5-9C02-3203D22F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EF90-8F5E-4478-912B-9191F1CC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41D72-9F48-4FD3-BE2C-570520BA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564A1-3520-4659-8946-4169D998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526C8-A8D3-42AC-B248-F113AEF2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1E6-E2E4-48D0-8D2C-082622A2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EEDD-4335-4F66-84C5-B399076A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B1635-68BD-4E2E-8346-539E2F09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D897B-0847-4F72-A577-1EB8CA55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0DA72-3FE6-46D2-9EDF-39F7F1AC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5FDB-565D-46DB-8068-4A3B3547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85364-E527-4F0C-85C5-05B03392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2A16C-F0E8-4FC1-9CFB-BA8831A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3B768-9AE5-44CD-8DED-42E5730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3EC12-3618-4AD7-B6C7-202FC222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350F8-9CB2-4421-AF9F-375BC287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D3B-3BB5-43A2-A95E-1CD0F113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10B9D-9695-4072-89E7-3665D3A6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0DD5-261C-40B6-85C9-C07322E1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A1544-2B8D-4535-99D3-15F5B22B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3F59-69A8-4B2C-9F88-16EF8F9C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295A-C299-434B-9455-BEEA47A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A1CA1-F2EE-477A-87E0-F0B29C90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75333-EC55-436C-92BA-E5826B35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6FCB9-5A5A-457E-B4B3-F3E0338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C23AC-5604-45F8-88FF-67FFE46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8A75F-C110-4A7F-9FB5-818B97A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CAA-6270-4E9C-8BC3-8394AB8F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EB70C-B8CF-4A66-8EE6-EB34CD71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C2CF2-E929-4D59-BFB7-36AAC654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F187B-A6B4-496E-99A4-58DA4122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493AB-9B50-4938-AC0E-12D06693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FFB5E-E7CE-46B1-8001-D618931F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D9C4C-2DAC-4744-9A67-CAC7AEDA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F31E5-3940-4F6F-AA31-2ED7CC61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79900-85A9-40A8-A352-2200876E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D9C3F-40AA-49B6-9C08-161EABB0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C1312-20D0-4367-82EE-89BF4417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7CD-4032-4C15-A719-A5DD2870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2DE0-4E44-44F6-AE3D-0E6C343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5F1CB-6320-49EA-8780-4E09381A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24E79-95E1-46AF-9E6C-954730E8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DEC08-8BDC-49AD-95AC-98CF4A16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6064-2914-42D3-8F01-CA14C09D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606D9-F8B1-4220-B43B-4709EEA1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D53FF-23DA-45AC-9C1C-6D6E1A86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A426D-8FF7-4D73-A2E9-7471E31E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0D246-397D-474A-9345-3ED030D2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FED72-4480-4BC2-B02D-3A02928D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1D6-0B00-4CDE-8F77-4725D2CC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DB9B2-0D14-4CB5-9F37-5C797EE9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C5D77-5E6A-4110-A2A3-C89B8BC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8E036-7FDF-4401-9647-E109FCD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49007-0744-4A86-A4B7-17E14628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A4E8-CDA7-41E2-A829-0BAB6695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ADD10-1BEA-4D91-930A-D75F4CF2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FE69-6AC5-48CB-8D60-5CF309B8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A6B3D-8AEC-4B31-B112-86162769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E232C-A117-4E49-81C6-2126E5D0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94F22-9AC0-4A11-997D-C36E71F8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FDB6-BBF9-4CBE-85E4-AE31998EEF59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4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88B-BEBF-436A-8611-93F05E34231B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4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D39B-BD29-4A4B-87D5-37F4680F20F9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4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6F71-C1E9-45A2-B68A-13B7FEF1C1DB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D87-31E6-4DFC-B0C5-13356D41A91E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4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5B9A-583B-45EE-A376-B614973C44CA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6AEA-41CA-4281-84AB-5BAB5F592875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4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0BB7-9650-4164-BADD-EED88FDE2199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4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A6EB-12DD-4D29-95AF-34BDA4368792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4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5083-22C0-497F-8D0F-D0A009A75FBF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4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1FD-C628-496B-BF6F-0F9E30AAA5B8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4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4646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D1D9-13C8-462D-8957-352DEFB9B2F4}" type="slidenum">
              <a:rPr b="0" lang="zh-CN" sz="1200" spc="-1" strike="noStrike">
                <a:solidFill>
                  <a:srgbClr val="000000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7"/>
          <p:cNvSpPr/>
          <p:nvPr/>
        </p:nvSpPr>
        <p:spPr>
          <a:xfrm>
            <a:off x="0" y="11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2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有理数（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课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2.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理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108000" y="2952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义务教育教科书  数学  七年级  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45" fill="hold"/>
                                        <p:tgtEl>
                                          <p:spTgt spid="5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204920" y="23760"/>
            <a:ext cx="45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：把下列各数填在相应的集合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3"/>
              <p:cNvSpPr txBox="1"/>
              <p:nvPr/>
            </p:nvSpPr>
            <p:spPr>
              <a:xfrm>
                <a:off x="173160" y="506520"/>
                <a:ext cx="88725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0,4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%,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Text Box 4"/>
          <p:cNvSpPr/>
          <p:nvPr/>
        </p:nvSpPr>
        <p:spPr>
          <a:xfrm>
            <a:off x="848160" y="1555920"/>
            <a:ext cx="8019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正数集合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{                                                    }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负数集合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{                                                    }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分数集合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{                                                    }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整数集合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{                                                    }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非负数集合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{                                                }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有理数集合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{                                                }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5"/>
              <p:cNvSpPr txBox="1"/>
              <p:nvPr/>
            </p:nvSpPr>
            <p:spPr>
              <a:xfrm>
                <a:off x="2746440" y="1406520"/>
                <a:ext cx="4111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%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6"/>
              <p:cNvSpPr txBox="1"/>
              <p:nvPr/>
            </p:nvSpPr>
            <p:spPr>
              <a:xfrm>
                <a:off x="2749680" y="2139840"/>
                <a:ext cx="25081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7"/>
              <p:cNvSpPr txBox="1"/>
              <p:nvPr/>
            </p:nvSpPr>
            <p:spPr>
              <a:xfrm>
                <a:off x="2838600" y="2473200"/>
                <a:ext cx="41716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8"/>
              <p:cNvSpPr txBox="1"/>
              <p:nvPr/>
            </p:nvSpPr>
            <p:spPr>
              <a:xfrm>
                <a:off x="2790720" y="3200400"/>
                <a:ext cx="2390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0,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9"/>
              <p:cNvSpPr txBox="1"/>
              <p:nvPr/>
            </p:nvSpPr>
            <p:spPr>
              <a:xfrm>
                <a:off x="3097080" y="3429000"/>
                <a:ext cx="43848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0,4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%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10"/>
              <p:cNvSpPr txBox="1"/>
              <p:nvPr/>
            </p:nvSpPr>
            <p:spPr>
              <a:xfrm>
                <a:off x="3160800" y="3962520"/>
                <a:ext cx="552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0,4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%,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Text Box 11"/>
          <p:cNvSpPr/>
          <p:nvPr/>
        </p:nvSpPr>
        <p:spPr>
          <a:xfrm>
            <a:off x="228600" y="45720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注意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像        这种可以先化简成整数的数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整数不是分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2"/>
              <p:cNvSpPr txBox="1"/>
              <p:nvPr/>
            </p:nvSpPr>
            <p:spPr>
              <a:xfrm>
                <a:off x="2527200" y="4714920"/>
                <a:ext cx="978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Text Box 13"/>
          <p:cNvSpPr/>
          <p:nvPr/>
        </p:nvSpPr>
        <p:spPr>
          <a:xfrm>
            <a:off x="1432080" y="5638680"/>
            <a:ext cx="76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，非负整数集合包括正整数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，也称为自然数集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064160" y="101520"/>
            <a:ext cx="47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下列说法正确的是   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非负有理数就是正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B. 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仅表示没有，是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正整数和负整数统称为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整数和分数统称为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5238720" y="15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304920" y="281952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最小的正整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最大的负整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所有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-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负整数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不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非负整数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7360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1056960" y="33526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6358320" y="33066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-1,-2,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5030640" y="380988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0,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2198880" y="4554360"/>
            <a:ext cx="476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下列说法正确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①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最小的正有理数；     ②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最大的负有理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最小的非负有理数；④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最大的非正有理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①②                             B.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③④                             D.①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4497120" y="451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580040" y="101520"/>
            <a:ext cx="49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将下列各数分别填入相应的集合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3"/>
              <p:cNvSpPr txBox="1"/>
              <p:nvPr/>
            </p:nvSpPr>
            <p:spPr>
              <a:xfrm>
                <a:off x="655560" y="609480"/>
                <a:ext cx="72500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Oval 4"/>
          <p:cNvSpPr/>
          <p:nvPr/>
        </p:nvSpPr>
        <p:spPr>
          <a:xfrm>
            <a:off x="914400" y="1981080"/>
            <a:ext cx="3505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5"/>
          <p:cNvSpPr/>
          <p:nvPr/>
        </p:nvSpPr>
        <p:spPr>
          <a:xfrm>
            <a:off x="4876920" y="1981080"/>
            <a:ext cx="350496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6"/>
          <p:cNvSpPr/>
          <p:nvPr/>
        </p:nvSpPr>
        <p:spPr>
          <a:xfrm>
            <a:off x="914400" y="4419720"/>
            <a:ext cx="3505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7"/>
          <p:cNvSpPr/>
          <p:nvPr/>
        </p:nvSpPr>
        <p:spPr>
          <a:xfrm>
            <a:off x="4876920" y="4343400"/>
            <a:ext cx="350496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2008080" y="3772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正整数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604656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负分数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1937160" y="6248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正有理数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6040440" y="6172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非正数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2"/>
              <p:cNvSpPr txBox="1"/>
              <p:nvPr/>
            </p:nvSpPr>
            <p:spPr>
              <a:xfrm>
                <a:off x="1168560" y="2336760"/>
                <a:ext cx="278892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3"/>
              <p:cNvSpPr txBox="1"/>
              <p:nvPr/>
            </p:nvSpPr>
            <p:spPr>
              <a:xfrm>
                <a:off x="4757760" y="2286000"/>
                <a:ext cx="3735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…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14"/>
              <p:cNvSpPr txBox="1"/>
              <p:nvPr/>
            </p:nvSpPr>
            <p:spPr>
              <a:xfrm>
                <a:off x="866880" y="4851360"/>
                <a:ext cx="36972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…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5"/>
              <p:cNvSpPr txBox="1"/>
              <p:nvPr/>
            </p:nvSpPr>
            <p:spPr>
              <a:xfrm>
                <a:off x="5249880" y="4464000"/>
                <a:ext cx="305604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,0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60480" y="25560"/>
            <a:ext cx="923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既是分数又是负数的数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既是非负数又是整数的数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非负整数又称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非负数包括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非正数包括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7280280" y="56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非负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6951240" y="30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负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5427000" y="1020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自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52280" y="2773440"/>
            <a:ext cx="87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7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下图中的两个圆分别表示正数集合和分数集合，请你在每个圆中及它们重叠的部分各填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个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7"/>
          <p:cNvSpPr/>
          <p:nvPr/>
        </p:nvSpPr>
        <p:spPr>
          <a:xfrm>
            <a:off x="1600200" y="4525920"/>
            <a:ext cx="3429000" cy="1676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8"/>
          <p:cNvSpPr/>
          <p:nvPr/>
        </p:nvSpPr>
        <p:spPr>
          <a:xfrm>
            <a:off x="3124080" y="4525920"/>
            <a:ext cx="3429000" cy="1676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2479680" y="6126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正数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4689360" y="6080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分数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472968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6783120" y="1523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473616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4"/>
          <p:cNvSpPr/>
          <p:nvPr/>
        </p:nvSpPr>
        <p:spPr>
          <a:xfrm>
            <a:off x="6783120" y="2011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2760" y="76320"/>
            <a:ext cx="89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观察下列各组数，请找出它们的规律，并在横线上填上相应的数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2240" y="1371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ct 4"/>
              <p:cNvSpPr txBox="1"/>
              <p:nvPr/>
            </p:nvSpPr>
            <p:spPr>
              <a:xfrm>
                <a:off x="762120" y="1066680"/>
                <a:ext cx="51814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,0,2,4</m:t>
                    </m:r>
                    <m:r>
                      <m:rPr>
                        <m:lit/>
                        <m:nor/>
                      </m:rPr>
                      <m:t xml:space="preserve">,_____,_____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Text Box 5"/>
          <p:cNvSpPr/>
          <p:nvPr/>
        </p:nvSpPr>
        <p:spPr>
          <a:xfrm>
            <a:off x="3582720" y="1096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4925880" y="1096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7"/>
              <p:cNvSpPr txBox="1"/>
              <p:nvPr/>
            </p:nvSpPr>
            <p:spPr>
              <a:xfrm>
                <a:off x="762120" y="1601640"/>
                <a:ext cx="594360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_____,_____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8"/>
              <p:cNvSpPr txBox="1"/>
              <p:nvPr/>
            </p:nvSpPr>
            <p:spPr>
              <a:xfrm>
                <a:off x="4267080" y="1523880"/>
                <a:ext cx="639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9"/>
              <p:cNvSpPr txBox="1"/>
              <p:nvPr/>
            </p:nvSpPr>
            <p:spPr>
              <a:xfrm>
                <a:off x="5689440" y="1523880"/>
                <a:ext cx="384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10"/>
              <p:cNvSpPr txBox="1"/>
              <p:nvPr/>
            </p:nvSpPr>
            <p:spPr>
              <a:xfrm>
                <a:off x="762120" y="2800440"/>
                <a:ext cx="7340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1,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,1,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rPr>
                        <m:lit/>
                        <m:nor/>
                      </m:rPr>
                      <m:t xml:space="preserve">,___,___,___,___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Text Box 11"/>
          <p:cNvSpPr/>
          <p:nvPr/>
        </p:nvSpPr>
        <p:spPr>
          <a:xfrm>
            <a:off x="462096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5535360" y="28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6314760" y="28494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7364160" y="28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15"/>
              <p:cNvSpPr txBox="1"/>
              <p:nvPr/>
            </p:nvSpPr>
            <p:spPr>
              <a:xfrm>
                <a:off x="762120" y="3562200"/>
                <a:ext cx="67514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4,6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,_____,_____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3" name="Text Box 16"/>
          <p:cNvSpPr/>
          <p:nvPr/>
        </p:nvSpPr>
        <p:spPr>
          <a:xfrm>
            <a:off x="492912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7"/>
          <p:cNvSpPr/>
          <p:nvPr/>
        </p:nvSpPr>
        <p:spPr>
          <a:xfrm>
            <a:off x="6241680" y="36576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8"/>
          <p:cNvSpPr/>
          <p:nvPr/>
        </p:nvSpPr>
        <p:spPr>
          <a:xfrm>
            <a:off x="2794320" y="5067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这节课我们学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89800" y="30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1892160" y="558720"/>
            <a:ext cx="380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什么是有理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有理数的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按整数与分数划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按性质划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2050200" y="259092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如何区分整数和分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2228760" y="3078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如何理解非正数和非负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1219320" y="3687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整数和分数，正数和负数之间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4016880" y="4673520"/>
            <a:ext cx="9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学会观察一列数字之间的规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5136120" y="58294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进步往往从归纳反思开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WordArt 2"/>
          <p:cNvSpPr txBox="1"/>
          <p:nvPr/>
        </p:nvSpPr>
        <p:spPr>
          <a:xfrm>
            <a:off x="900000" y="162864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节课我们继续学习！再见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40788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学习目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3548160" y="635040"/>
            <a:ext cx="130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理解什么是有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有理数的两种分类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整数、分数与正负数之间的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观察一列数字，找出它们的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20640" y="308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学习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3128400" y="3657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有理数的两种分类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636480" y="422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学习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92680" y="46782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整数、分数与正负数之间的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412920" y="-76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复习与回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3160800" y="49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上一节课我们讲了些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228600" y="105408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正数和负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既不是正数，也不是负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正数与负数通常用来表示具有相反意义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0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所表示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在生产中，通常用正负数来表示允许误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331560" y="3992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温故知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76320" y="4597560"/>
            <a:ext cx="89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年 吉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如果自行车车条的长度比标准长度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记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+2m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那么比标准长度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.5m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应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119760" y="55926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-1.5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36440" y="476280"/>
            <a:ext cx="90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粮食每袋标准重量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千克，先测得甲、乙、丙三袋粮食重量如下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千克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千克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49.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千克，如果超重部分用正数表示，请用正数和负数记录甲、乙、丙三袋粮食的超重数和不足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212760" y="2743200"/>
            <a:ext cx="839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，国际乒联在正式比赛中采用打球，对大球的直径有严格的标准，现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个乒乓球，测量它们的直径，超过标准的毫米数记为正数，不足的记为负数，测量结果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A.-0.1mm     B.-0.2mm     C.+0.25mm     D.-0.05mm E.+0.1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你认为应该选哪一个乒乓球用于比赛呢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468360" y="1773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835280" y="1773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276720" y="17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-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7669080" y="3500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814320" y="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我们学过的数有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7160" y="709560"/>
            <a:ext cx="39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正整数：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910080" y="1395360"/>
            <a:ext cx="13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零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1476360" y="2133720"/>
            <a:ext cx="47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负整数：如－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，－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，－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6"/>
          <p:cNvGrpSpPr/>
          <p:nvPr/>
        </p:nvGrpSpPr>
        <p:grpSpPr>
          <a:xfrm>
            <a:off x="1217520" y="2768760"/>
            <a:ext cx="5792760" cy="965160"/>
            <a:chOff x="1217520" y="2768760"/>
            <a:chExt cx="5792760" cy="965160"/>
          </a:xfrm>
        </p:grpSpPr>
        <p:sp>
          <p:nvSpPr>
            <p:cNvPr id="556" name="Text Box 7"/>
            <p:cNvSpPr/>
            <p:nvPr/>
          </p:nvSpPr>
          <p:spPr>
            <a:xfrm>
              <a:off x="1217520" y="296424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正分数：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Object 8"/>
                <p:cNvSpPr txBox="1"/>
                <p:nvPr/>
              </p:nvSpPr>
              <p:spPr>
                <a:xfrm>
                  <a:off x="2927520" y="2768760"/>
                  <a:ext cx="408276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,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8" name="Group 9"/>
          <p:cNvGrpSpPr/>
          <p:nvPr/>
        </p:nvGrpSpPr>
        <p:grpSpPr>
          <a:xfrm>
            <a:off x="1218960" y="3809880"/>
            <a:ext cx="7086960" cy="878040"/>
            <a:chOff x="1218960" y="3809880"/>
            <a:chExt cx="7086960" cy="878040"/>
          </a:xfrm>
        </p:grpSpPr>
        <p:sp>
          <p:nvSpPr>
            <p:cNvPr id="559" name="Text Box 10"/>
            <p:cNvSpPr/>
            <p:nvPr/>
          </p:nvSpPr>
          <p:spPr>
            <a:xfrm>
              <a:off x="1218960" y="396864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华文新魏"/>
                </a:rPr>
                <a:t>负分数：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Object 11"/>
                <p:cNvSpPr txBox="1"/>
                <p:nvPr/>
              </p:nvSpPr>
              <p:spPr>
                <a:xfrm>
                  <a:off x="2932200" y="3809880"/>
                  <a:ext cx="537372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1" name="Text Box 12"/>
          <p:cNvSpPr/>
          <p:nvPr/>
        </p:nvSpPr>
        <p:spPr>
          <a:xfrm>
            <a:off x="2446920" y="4678200"/>
            <a:ext cx="33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正整数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和负整数合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整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3126600" y="533412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正分数、负分数合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分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1918800" y="597384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整数和分数合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有理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651960" y="76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有理数可以分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245520" y="3276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4"/>
          <p:cNvGrpSpPr/>
          <p:nvPr/>
        </p:nvGrpSpPr>
        <p:grpSpPr>
          <a:xfrm>
            <a:off x="914400" y="1295280"/>
            <a:ext cx="2830680" cy="4876920"/>
            <a:chOff x="914400" y="1295280"/>
            <a:chExt cx="2830680" cy="4876920"/>
          </a:xfrm>
        </p:grpSpPr>
        <mc:AlternateContent>
          <mc:Choice xmlns:a14="http://schemas.microsoft.com/office/drawing/2010/main" Requires="a14">
            <p:sp>
              <p:nvSpPr>
                <p:cNvPr id="567" name="Object 5"/>
                <p:cNvSpPr txBox="1"/>
                <p:nvPr/>
              </p:nvSpPr>
              <p:spPr>
                <a:xfrm>
                  <a:off x="914400" y="1295280"/>
                  <a:ext cx="2620800" cy="487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68" name="Text Box 6"/>
            <p:cNvSpPr/>
            <p:nvPr/>
          </p:nvSpPr>
          <p:spPr>
            <a:xfrm>
              <a:off x="2211120" y="1325520"/>
              <a:ext cx="153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____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7"/>
            <p:cNvSpPr/>
            <p:nvPr/>
          </p:nvSpPr>
          <p:spPr>
            <a:xfrm>
              <a:off x="2211120" y="5059440"/>
              <a:ext cx="153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____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0" name="Object 8"/>
              <p:cNvSpPr txBox="1"/>
              <p:nvPr/>
            </p:nvSpPr>
            <p:spPr>
              <a:xfrm>
                <a:off x="3429000" y="228600"/>
                <a:ext cx="190512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9"/>
              <p:cNvSpPr txBox="1"/>
              <p:nvPr/>
            </p:nvSpPr>
            <p:spPr>
              <a:xfrm>
                <a:off x="3429000" y="3809880"/>
                <a:ext cx="190512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572" name="Text Box 10"/>
          <p:cNvSpPr/>
          <p:nvPr/>
        </p:nvSpPr>
        <p:spPr>
          <a:xfrm>
            <a:off x="4420800" y="231624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4420800" y="13255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408200" y="33480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3"/>
          <p:cNvSpPr/>
          <p:nvPr/>
        </p:nvSpPr>
        <p:spPr>
          <a:xfrm>
            <a:off x="4331880" y="559260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4331880" y="38401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2602440" y="132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2596320" y="505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4665240" y="334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4954320" y="137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9"/>
          <p:cNvSpPr/>
          <p:nvPr/>
        </p:nvSpPr>
        <p:spPr>
          <a:xfrm>
            <a:off x="4665240" y="2316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负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4588920" y="3840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4633200" y="5562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负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6324480" y="2322360"/>
            <a:ext cx="245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我们怎么区分整数和分数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有没有有理数以外的数呢？如果有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新魏"/>
              </a:rPr>
              <a:t>请举一例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889200" y="302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有理数分类的几点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593640" y="838080"/>
            <a:ext cx="855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，如                  能约分成整数的数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_____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填“能”或“不能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算做分数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4"/>
              <p:cNvSpPr txBox="1"/>
              <p:nvPr/>
            </p:nvSpPr>
            <p:spPr>
              <a:xfrm>
                <a:off x="1752480" y="662040"/>
                <a:ext cx="1936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%,</m:t>
                    </m:r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8" name="Text Box 5"/>
          <p:cNvSpPr/>
          <p:nvPr/>
        </p:nvSpPr>
        <p:spPr>
          <a:xfrm>
            <a:off x="609480" y="2284560"/>
            <a:ext cx="84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两个整数的比（如         等）、有限小数（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.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等）、无限循环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如               等）都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分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；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无限不循环小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如    等）不是分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7250760" y="844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7"/>
              <p:cNvSpPr txBox="1"/>
              <p:nvPr/>
            </p:nvSpPr>
            <p:spPr>
              <a:xfrm>
                <a:off x="4606920" y="2143080"/>
                <a:ext cx="1047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8"/>
              <p:cNvSpPr txBox="1"/>
              <p:nvPr/>
            </p:nvSpPr>
            <p:spPr>
              <a:xfrm>
                <a:off x="1463760" y="3251160"/>
                <a:ext cx="1841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3</m:t>
                        </m:r>
                      </m:e>
                    </m:acc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4</m:t>
                        </m:r>
                      </m:e>
                    </m:acc>
                    <m:acc>
                      <m:accPr>
                        <m:chr m:val="˙"/>
                      </m:accPr>
                      <m:e>
                        <m:r>
                          <m:t xml:space="preserve">7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9"/>
              <p:cNvSpPr txBox="1"/>
              <p:nvPr/>
            </p:nvSpPr>
            <p:spPr>
              <a:xfrm>
                <a:off x="1905120" y="3809880"/>
                <a:ext cx="609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Text Box 10"/>
          <p:cNvSpPr/>
          <p:nvPr/>
        </p:nvSpPr>
        <p:spPr>
          <a:xfrm>
            <a:off x="1873800" y="4419720"/>
            <a:ext cx="52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无限不循环小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不是有理数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无理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1891800" y="5181480"/>
            <a:ext cx="57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整数中除了正整数和负整数，还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7821360" y="5187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1901520" y="6049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有理数还有其他的分类方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245520" y="3276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3"/>
              <p:cNvSpPr txBox="1"/>
              <p:nvPr/>
            </p:nvSpPr>
            <p:spPr>
              <a:xfrm>
                <a:off x="914400" y="1295280"/>
                <a:ext cx="2620800" cy="48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599" name="Text Box 4"/>
          <p:cNvSpPr/>
          <p:nvPr/>
        </p:nvSpPr>
        <p:spPr>
          <a:xfrm>
            <a:off x="2211120" y="13255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2211120" y="505944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2198520" y="307800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7"/>
              <p:cNvSpPr txBox="1"/>
              <p:nvPr/>
            </p:nvSpPr>
            <p:spPr>
              <a:xfrm>
                <a:off x="3429000" y="380880"/>
                <a:ext cx="190512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8"/>
              <p:cNvSpPr txBox="1"/>
              <p:nvPr/>
            </p:nvSpPr>
            <p:spPr>
              <a:xfrm>
                <a:off x="3429000" y="4191120"/>
                <a:ext cx="190512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604" name="Text Box 9"/>
          <p:cNvSpPr/>
          <p:nvPr/>
        </p:nvSpPr>
        <p:spPr>
          <a:xfrm>
            <a:off x="733320" y="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有理数还可以分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4344840" y="48744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4420800" y="24685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4420800" y="411480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4408200" y="620244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2384280" y="1325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2792160" y="3124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6"/>
          <p:cNvSpPr/>
          <p:nvPr/>
        </p:nvSpPr>
        <p:spPr>
          <a:xfrm>
            <a:off x="2307960" y="5059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负有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7"/>
          <p:cNvSpPr/>
          <p:nvPr/>
        </p:nvSpPr>
        <p:spPr>
          <a:xfrm>
            <a:off x="4633200" y="487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4665240" y="2468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4741200" y="4114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负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0"/>
          <p:cNvSpPr/>
          <p:nvPr/>
        </p:nvSpPr>
        <p:spPr>
          <a:xfrm>
            <a:off x="4665240" y="6202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负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6232680" y="2514600"/>
            <a:ext cx="291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注意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有理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是不同的，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就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但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正有理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2"/>
              <p:cNvSpPr txBox="1"/>
              <p:nvPr/>
            </p:nvSpPr>
            <p:spPr>
              <a:xfrm>
                <a:off x="8458200" y="3549600"/>
                <a:ext cx="533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Text Box 23"/>
          <p:cNvSpPr/>
          <p:nvPr/>
        </p:nvSpPr>
        <p:spPr>
          <a:xfrm>
            <a:off x="6232680" y="952560"/>
            <a:ext cx="275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正数和正有理数有什么区别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304920" y="2057400"/>
            <a:ext cx="8534160" cy="304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e1f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分类的基本原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按同一标准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不重不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3276720" y="609480"/>
            <a:ext cx="20160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学生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4"/>
          <p:cNvGrpSpPr/>
          <p:nvPr/>
        </p:nvGrpSpPr>
        <p:grpSpPr>
          <a:xfrm>
            <a:off x="0" y="1143000"/>
            <a:ext cx="2305080" cy="888840"/>
            <a:chOff x="0" y="1143000"/>
            <a:chExt cx="2305080" cy="888840"/>
          </a:xfrm>
        </p:grpSpPr>
        <p:sp>
          <p:nvSpPr>
            <p:cNvPr id="624" name="Rectangle 15"/>
            <p:cNvSpPr/>
            <p:nvPr/>
          </p:nvSpPr>
          <p:spPr>
            <a:xfrm>
              <a:off x="1008000" y="1528560"/>
              <a:ext cx="1297080" cy="287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e1f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>
              <a:off x="360360" y="1168200"/>
              <a:ext cx="647640" cy="64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0" y="1528560"/>
              <a:ext cx="1319400" cy="490680"/>
            </a:xfrm>
            <a:custGeom>
              <a:avLst/>
              <a:gdLst>
                <a:gd name="textAreaLeft" fmla="*/ 0 w 1319400"/>
                <a:gd name="textAreaRight" fmla="*/ 1319760 w 131940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0" y="1541520"/>
              <a:ext cx="1319400" cy="490320"/>
            </a:xfrm>
            <a:custGeom>
              <a:avLst/>
              <a:gdLst>
                <a:gd name="textAreaLeft" fmla="*/ 0 w 1319400"/>
                <a:gd name="textAreaRight" fmla="*/ 1319760 w 131940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WordArt 19"/>
            <p:cNvSpPr txBox="1"/>
            <p:nvPr/>
          </p:nvSpPr>
          <p:spPr>
            <a:xfrm>
              <a:off x="552600" y="1255680"/>
              <a:ext cx="301680" cy="52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?</a:t>
              </a:r>
              <a:endPara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629" name="WordArt 20"/>
            <p:cNvSpPr txBox="1"/>
            <p:nvPr/>
          </p:nvSpPr>
          <p:spPr>
            <a:xfrm>
              <a:off x="1152720" y="114300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提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630" name="WordArt 21"/>
            <p:cNvSpPr txBox="1"/>
            <p:nvPr/>
          </p:nvSpPr>
          <p:spPr>
            <a:xfrm>
              <a:off x="1712880" y="136836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示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9-05T00:26:32Z</dcterms:modified>
  <cp:revision>77</cp:revision>
  <dc:subject/>
  <dc:title>七  年 级 数 学</dc:title>
</cp:coreProperties>
</file>