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0C6-CD0D-406B-BF84-A09906A6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6A5-A74B-4DE7-9AC3-CD4CDEE6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2D9-5D72-4DEF-8E3D-9000DF4F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E07-4AAF-4029-9CDC-141A046B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48E8-26A5-4BBD-B37B-F12E5BC9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CE1D-7E55-4ADC-85DF-C8091E3B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E4BD-407F-4907-8FFD-C28793EE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D07E-EC23-489E-8CF6-B977625A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83F2-BBE5-4706-8E1B-898447AA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5F7E-C97F-42AC-8D42-F6603815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D26E-F4A5-4D72-9FFB-3900AE0E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197-3146-4733-8CE8-56AEF0A7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E605-851D-4858-97AE-4AC85E56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A2A0-C64E-4919-AE7C-E9FFF510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2299-38A5-4EE3-8056-CD39BDCB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8364-60E9-436D-82B1-BE263558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1628-1B1E-48FB-BDBB-1EF12434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8EC-E6ED-4B79-B559-BA02F657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310-7439-4251-8D41-F12914D6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D9C-28D7-49E1-980C-472528C2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13E-2AE3-4155-A5F3-6AE327C4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04E-CF82-46AC-88FD-B895B441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460-D40B-4E3F-8DF7-C59F9B53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FB5-2953-4A06-B29D-83908116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B79C-641B-4487-AF49-574CE3CAEA0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B2C2-6E48-450B-8ABB-CC84499F6BB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/>
          <p:nvPr/>
        </p:nvSpPr>
        <p:spPr>
          <a:xfrm>
            <a:off x="1000080" y="2571840"/>
            <a:ext cx="6553080" cy="1727280"/>
          </a:xfrm>
          <a:custGeom>
            <a:avLst/>
            <a:gdLst>
              <a:gd name="textAreaLeft" fmla="*/ 0 w 6553080"/>
              <a:gd name="textAreaRight" fmla="*/ 6553440 w 655308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00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71040"/>
            <a:ext cx="8686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归纳总结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2071800" y="457200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Franklin Gothic Book"/>
              </a:rPr>
              <a:t>任何有理数都可以用数轴 上唯一的一个点来表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357120" y="407196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此，我们知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608040" y="1204920"/>
            <a:ext cx="77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数和小数在数轴上怎么表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9"/>
          <p:cNvGrpSpPr/>
          <p:nvPr/>
        </p:nvGrpSpPr>
        <p:grpSpPr>
          <a:xfrm>
            <a:off x="1470600" y="2143080"/>
            <a:ext cx="6854040" cy="1630440"/>
            <a:chOff x="1470600" y="2143080"/>
            <a:chExt cx="6854040" cy="1630440"/>
          </a:xfrm>
        </p:grpSpPr>
        <p:grpSp>
          <p:nvGrpSpPr>
            <p:cNvPr id="253" name=""/>
            <p:cNvGrpSpPr/>
            <p:nvPr/>
          </p:nvGrpSpPr>
          <p:grpSpPr>
            <a:xfrm>
              <a:off x="1717560" y="3014640"/>
              <a:ext cx="5185080" cy="1440"/>
              <a:chOff x="1717560" y="3014640"/>
              <a:chExt cx="5185080" cy="1440"/>
            </a:xfrm>
          </p:grpSpPr>
          <p:sp>
            <p:nvSpPr>
              <p:cNvPr id="254" name="Line 30"/>
              <p:cNvSpPr/>
              <p:nvPr/>
            </p:nvSpPr>
            <p:spPr>
              <a:xfrm>
                <a:off x="1717560" y="3014640"/>
                <a:ext cx="51850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>
                <a:off x="1717560" y="3014640"/>
                <a:ext cx="5185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238640" y="2798640"/>
              <a:ext cx="1440" cy="216000"/>
              <a:chOff x="4238640" y="2798640"/>
              <a:chExt cx="1440" cy="216000"/>
            </a:xfrm>
          </p:grpSpPr>
          <p:sp>
            <p:nvSpPr>
              <p:cNvPr id="257" name="Line 31"/>
              <p:cNvSpPr/>
              <p:nvPr/>
            </p:nvSpPr>
            <p:spPr>
              <a:xfrm>
                <a:off x="4238640" y="2798640"/>
                <a:ext cx="144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4238640" y="2798640"/>
                <a:ext cx="144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815000" y="2798640"/>
              <a:ext cx="1440" cy="216000"/>
              <a:chOff x="4815000" y="2798640"/>
              <a:chExt cx="1440" cy="216000"/>
            </a:xfrm>
          </p:grpSpPr>
          <p:sp>
            <p:nvSpPr>
              <p:cNvPr id="260" name="Line 32"/>
              <p:cNvSpPr/>
              <p:nvPr/>
            </p:nvSpPr>
            <p:spPr>
              <a:xfrm>
                <a:off x="4815000" y="2798640"/>
                <a:ext cx="144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4815000" y="2798640"/>
                <a:ext cx="144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391360" y="2798640"/>
              <a:ext cx="1440" cy="216000"/>
              <a:chOff x="5391360" y="2798640"/>
              <a:chExt cx="1440" cy="216000"/>
            </a:xfrm>
          </p:grpSpPr>
          <p:sp>
            <p:nvSpPr>
              <p:cNvPr id="263" name="Line 33"/>
              <p:cNvSpPr/>
              <p:nvPr/>
            </p:nvSpPr>
            <p:spPr>
              <a:xfrm>
                <a:off x="5391360" y="2798640"/>
                <a:ext cx="144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5391360" y="2798640"/>
                <a:ext cx="144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967360" y="2798640"/>
              <a:ext cx="1800" cy="216000"/>
              <a:chOff x="5967360" y="2798640"/>
              <a:chExt cx="1800" cy="216000"/>
            </a:xfrm>
          </p:grpSpPr>
          <p:sp>
            <p:nvSpPr>
              <p:cNvPr id="266" name="Line 34"/>
              <p:cNvSpPr/>
              <p:nvPr/>
            </p:nvSpPr>
            <p:spPr>
              <a:xfrm>
                <a:off x="5967360" y="2798640"/>
                <a:ext cx="180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5967360" y="2798640"/>
                <a:ext cx="180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509920" y="2798640"/>
              <a:ext cx="1440" cy="216000"/>
              <a:chOff x="2509920" y="2798640"/>
              <a:chExt cx="1440" cy="216000"/>
            </a:xfrm>
          </p:grpSpPr>
          <p:sp>
            <p:nvSpPr>
              <p:cNvPr id="269" name="Line 35"/>
              <p:cNvSpPr/>
              <p:nvPr/>
            </p:nvSpPr>
            <p:spPr>
              <a:xfrm>
                <a:off x="2509920" y="2798640"/>
                <a:ext cx="144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2509920" y="2798640"/>
                <a:ext cx="144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086280" y="2798640"/>
              <a:ext cx="1440" cy="216000"/>
              <a:chOff x="3086280" y="2798640"/>
              <a:chExt cx="1440" cy="216000"/>
            </a:xfrm>
          </p:grpSpPr>
          <p:sp>
            <p:nvSpPr>
              <p:cNvPr id="272" name="Line 36"/>
              <p:cNvSpPr/>
              <p:nvPr/>
            </p:nvSpPr>
            <p:spPr>
              <a:xfrm>
                <a:off x="3086280" y="2798640"/>
                <a:ext cx="144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3086280" y="2798640"/>
                <a:ext cx="144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662280" y="2798640"/>
              <a:ext cx="1800" cy="216000"/>
              <a:chOff x="3662280" y="2798640"/>
              <a:chExt cx="1800" cy="216000"/>
            </a:xfrm>
          </p:grpSpPr>
          <p:sp>
            <p:nvSpPr>
              <p:cNvPr id="275" name="Line 37"/>
              <p:cNvSpPr/>
              <p:nvPr/>
            </p:nvSpPr>
            <p:spPr>
              <a:xfrm>
                <a:off x="3662280" y="2798640"/>
                <a:ext cx="180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3662280" y="2798640"/>
                <a:ext cx="180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38"/>
            <p:cNvSpPr/>
            <p:nvPr/>
          </p:nvSpPr>
          <p:spPr>
            <a:xfrm>
              <a:off x="4046040" y="301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39"/>
            <p:cNvSpPr/>
            <p:nvPr/>
          </p:nvSpPr>
          <p:spPr>
            <a:xfrm>
              <a:off x="4622400" y="301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40"/>
            <p:cNvSpPr/>
            <p:nvPr/>
          </p:nvSpPr>
          <p:spPr>
            <a:xfrm>
              <a:off x="5270040" y="301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1"/>
            <p:cNvSpPr/>
            <p:nvPr/>
          </p:nvSpPr>
          <p:spPr>
            <a:xfrm>
              <a:off x="5751720" y="301464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3482640" y="30146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2906280" y="30146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44"/>
            <p:cNvSpPr/>
            <p:nvPr/>
          </p:nvSpPr>
          <p:spPr>
            <a:xfrm>
              <a:off x="4054680" y="23590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原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45">
              <a:hlinkClick r:id="rId1" action="ppaction://hlinksldjump"/>
            </p:cNvPr>
            <p:cNvSpPr/>
            <p:nvPr/>
          </p:nvSpPr>
          <p:spPr>
            <a:xfrm>
              <a:off x="6620040" y="250344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正方向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（向左或向右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6"/>
            <p:cNvSpPr/>
            <p:nvPr/>
          </p:nvSpPr>
          <p:spPr>
            <a:xfrm>
              <a:off x="1470600" y="2143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单位长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47"/>
            <p:cNvGrpSpPr/>
            <p:nvPr/>
          </p:nvGrpSpPr>
          <p:grpSpPr>
            <a:xfrm>
              <a:off x="1501920" y="2503440"/>
              <a:ext cx="575640" cy="215640"/>
              <a:chOff x="1501920" y="2503440"/>
              <a:chExt cx="575640" cy="21564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1501920" y="2718000"/>
                <a:ext cx="574560" cy="1080"/>
                <a:chOff x="1501920" y="2718000"/>
                <a:chExt cx="574560" cy="1080"/>
              </a:xfrm>
            </p:grpSpPr>
            <p:sp>
              <p:nvSpPr>
                <p:cNvPr id="288" name="Line 48"/>
                <p:cNvSpPr/>
                <p:nvPr/>
              </p:nvSpPr>
              <p:spPr>
                <a:xfrm>
                  <a:off x="1501920" y="2718000"/>
                  <a:ext cx="5745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 txBox="1"/>
                <p:nvPr/>
              </p:nvSpPr>
              <p:spPr>
                <a:xfrm>
                  <a:off x="1501920" y="2718000"/>
                  <a:ext cx="5745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501920" y="2503440"/>
                <a:ext cx="1080" cy="214560"/>
                <a:chOff x="1501920" y="2503440"/>
                <a:chExt cx="1080" cy="214560"/>
              </a:xfrm>
            </p:grpSpPr>
            <p:sp>
              <p:nvSpPr>
                <p:cNvPr id="291" name="Line 49"/>
                <p:cNvSpPr/>
                <p:nvPr/>
              </p:nvSpPr>
              <p:spPr>
                <a:xfrm>
                  <a:off x="1501920" y="2503440"/>
                  <a:ext cx="1080" cy="21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 txBox="1"/>
                <p:nvPr/>
              </p:nvSpPr>
              <p:spPr>
                <a:xfrm>
                  <a:off x="1501920" y="2503440"/>
                  <a:ext cx="1080" cy="21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2076480" y="2503440"/>
                <a:ext cx="1080" cy="214560"/>
                <a:chOff x="2076480" y="2503440"/>
                <a:chExt cx="1080" cy="214560"/>
              </a:xfrm>
            </p:grpSpPr>
            <p:sp>
              <p:nvSpPr>
                <p:cNvPr id="294" name="Line 50"/>
                <p:cNvSpPr/>
                <p:nvPr/>
              </p:nvSpPr>
              <p:spPr>
                <a:xfrm>
                  <a:off x="2076480" y="2503440"/>
                  <a:ext cx="1080" cy="21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 txBox="1"/>
                <p:nvPr/>
              </p:nvSpPr>
              <p:spPr>
                <a:xfrm>
                  <a:off x="2076480" y="2503440"/>
                  <a:ext cx="1080" cy="21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" name="Group 51"/>
            <p:cNvGrpSpPr/>
            <p:nvPr/>
          </p:nvGrpSpPr>
          <p:grpSpPr>
            <a:xfrm>
              <a:off x="2476440" y="3063960"/>
              <a:ext cx="612000" cy="709560"/>
              <a:chOff x="2476440" y="3063960"/>
              <a:chExt cx="612000" cy="709560"/>
            </a:xfrm>
          </p:grpSpPr>
          <p:grpSp>
            <p:nvGrpSpPr>
              <p:cNvPr id="297" name="Group 52"/>
              <p:cNvGrpSpPr/>
              <p:nvPr/>
            </p:nvGrpSpPr>
            <p:grpSpPr>
              <a:xfrm>
                <a:off x="2663280" y="3063960"/>
                <a:ext cx="425160" cy="709560"/>
                <a:chOff x="2663280" y="3063960"/>
                <a:chExt cx="425160" cy="709560"/>
              </a:xfrm>
            </p:grpSpPr>
            <p:sp>
              <p:nvSpPr>
                <p:cNvPr id="298" name="Text Box 53"/>
                <p:cNvSpPr/>
                <p:nvPr/>
              </p:nvSpPr>
              <p:spPr>
                <a:xfrm>
                  <a:off x="2664720" y="337464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Text Box 54"/>
                <p:cNvSpPr/>
                <p:nvPr/>
              </p:nvSpPr>
              <p:spPr>
                <a:xfrm>
                  <a:off x="2663280" y="3063960"/>
                  <a:ext cx="425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Arial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0" name=""/>
                <p:cNvGrpSpPr/>
                <p:nvPr/>
              </p:nvGrpSpPr>
              <p:grpSpPr>
                <a:xfrm>
                  <a:off x="2758680" y="3422160"/>
                  <a:ext cx="282240" cy="1080"/>
                  <a:chOff x="2758680" y="3422160"/>
                  <a:chExt cx="282240" cy="1080"/>
                </a:xfrm>
              </p:grpSpPr>
              <p:sp>
                <p:nvSpPr>
                  <p:cNvPr id="301" name="Line 55"/>
                  <p:cNvSpPr/>
                  <p:nvPr/>
                </p:nvSpPr>
                <p:spPr>
                  <a:xfrm flipV="1">
                    <a:off x="2758680" y="3422160"/>
                    <a:ext cx="282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 txBox="1"/>
                  <p:nvPr/>
                </p:nvSpPr>
                <p:spPr>
                  <a:xfrm rot="10800000">
                    <a:off x="2758680" y="3422160"/>
                    <a:ext cx="28224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" name=""/>
              <p:cNvGrpSpPr/>
              <p:nvPr/>
            </p:nvGrpSpPr>
            <p:grpSpPr>
              <a:xfrm>
                <a:off x="2476440" y="3422520"/>
                <a:ext cx="188640" cy="1080"/>
                <a:chOff x="2476440" y="3422520"/>
                <a:chExt cx="188640" cy="1080"/>
              </a:xfrm>
            </p:grpSpPr>
            <p:sp>
              <p:nvSpPr>
                <p:cNvPr id="304" name="Line 56"/>
                <p:cNvSpPr/>
                <p:nvPr/>
              </p:nvSpPr>
              <p:spPr>
                <a:xfrm>
                  <a:off x="2476440" y="3422520"/>
                  <a:ext cx="18864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 txBox="1"/>
                <p:nvPr/>
              </p:nvSpPr>
              <p:spPr>
                <a:xfrm>
                  <a:off x="2476440" y="3422520"/>
                  <a:ext cx="18864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57"/>
            <p:cNvGrpSpPr/>
            <p:nvPr/>
          </p:nvGrpSpPr>
          <p:grpSpPr>
            <a:xfrm>
              <a:off x="4348080" y="3063960"/>
              <a:ext cx="322560" cy="709560"/>
              <a:chOff x="4348080" y="3063960"/>
              <a:chExt cx="322560" cy="709560"/>
            </a:xfrm>
          </p:grpSpPr>
          <p:sp>
            <p:nvSpPr>
              <p:cNvPr id="307" name="Text Box 58"/>
              <p:cNvSpPr/>
              <p:nvPr/>
            </p:nvSpPr>
            <p:spPr>
              <a:xfrm>
                <a:off x="4348080" y="3374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59"/>
              <p:cNvSpPr/>
              <p:nvPr/>
            </p:nvSpPr>
            <p:spPr>
              <a:xfrm>
                <a:off x="4348080" y="3063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4442040" y="3411360"/>
                <a:ext cx="179280" cy="1080"/>
                <a:chOff x="4442040" y="3411360"/>
                <a:chExt cx="179280" cy="1080"/>
              </a:xfrm>
            </p:grpSpPr>
            <p:sp>
              <p:nvSpPr>
                <p:cNvPr id="310" name="Line 60"/>
                <p:cNvSpPr/>
                <p:nvPr/>
              </p:nvSpPr>
              <p:spPr>
                <a:xfrm>
                  <a:off x="4442040" y="3411360"/>
                  <a:ext cx="17928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 txBox="1"/>
                <p:nvPr/>
              </p:nvSpPr>
              <p:spPr>
                <a:xfrm>
                  <a:off x="4442040" y="3411360"/>
                  <a:ext cx="1792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2" name="Oval 61"/>
            <p:cNvSpPr/>
            <p:nvPr/>
          </p:nvSpPr>
          <p:spPr>
            <a:xfrm flipV="1">
              <a:off x="2725920" y="2935080"/>
              <a:ext cx="107640" cy="108000"/>
            </a:xfrm>
            <a:prstGeom prst="ellipse">
              <a:avLst/>
            </a:prstGeom>
            <a:solidFill>
              <a:srgbClr val="fd0f0f"/>
            </a:solidFill>
            <a:ln w="9360">
              <a:solidFill>
                <a:srgbClr val="fd0f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62"/>
            <p:cNvSpPr/>
            <p:nvPr/>
          </p:nvSpPr>
          <p:spPr>
            <a:xfrm flipV="1">
              <a:off x="4454640" y="2935080"/>
              <a:ext cx="108000" cy="108000"/>
            </a:xfrm>
            <a:prstGeom prst="ellipse">
              <a:avLst/>
            </a:prstGeom>
            <a:solidFill>
              <a:srgbClr val="fd0f0f"/>
            </a:solidFill>
            <a:ln w="9360">
              <a:solidFill>
                <a:srgbClr val="fd0f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63"/>
            <p:cNvSpPr/>
            <p:nvPr/>
          </p:nvSpPr>
          <p:spPr>
            <a:xfrm flipV="1">
              <a:off x="5065920" y="2935080"/>
              <a:ext cx="107640" cy="108000"/>
            </a:xfrm>
            <a:prstGeom prst="ellipse">
              <a:avLst/>
            </a:prstGeom>
            <a:solidFill>
              <a:srgbClr val="fd0f0f"/>
            </a:solidFill>
            <a:ln w="9360">
              <a:solidFill>
                <a:srgbClr val="fd0f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64"/>
            <p:cNvSpPr/>
            <p:nvPr/>
          </p:nvSpPr>
          <p:spPr>
            <a:xfrm>
              <a:off x="4851000" y="31147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d0f0f"/>
                  </a:solidFill>
                  <a:latin typeface="Arial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FF3F-F7EC-449C-ABE2-BC513A243F2D}" type="slidenum">
              <a:t>10</a:t>
            </a:fld>
          </a:p>
        </p:txBody>
      </p:sp>
    </p:spTree>
  </p:cSld>
  <p:transition spd="med"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554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继续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924200" y="3429000"/>
            <a:ext cx="5031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位于数轴左（下）边的数总比右（上）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数小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②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般地，设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一个正数，则数轴上表示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原点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边，与原点的距离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单位长度；表示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点在原点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边，与原点的距离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单位长度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5"/>
          <p:cNvGrpSpPr/>
          <p:nvPr/>
        </p:nvGrpSpPr>
        <p:grpSpPr>
          <a:xfrm>
            <a:off x="1510200" y="1413000"/>
            <a:ext cx="5415840" cy="1663560"/>
            <a:chOff x="1510200" y="1413000"/>
            <a:chExt cx="5415840" cy="1663560"/>
          </a:xfrm>
        </p:grpSpPr>
        <p:sp>
          <p:nvSpPr>
            <p:cNvPr id="319" name="Text Box 6"/>
            <p:cNvSpPr/>
            <p:nvPr/>
          </p:nvSpPr>
          <p:spPr>
            <a:xfrm>
              <a:off x="1510200" y="1413000"/>
              <a:ext cx="49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观察数轴上的有理数排列的大小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7"/>
            <p:cNvGrpSpPr/>
            <p:nvPr/>
          </p:nvGrpSpPr>
          <p:grpSpPr>
            <a:xfrm>
              <a:off x="1741320" y="2492640"/>
              <a:ext cx="5184720" cy="583920"/>
              <a:chOff x="1741320" y="2492640"/>
              <a:chExt cx="5184720" cy="58392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1741320" y="2708280"/>
                <a:ext cx="5184720" cy="1080"/>
                <a:chOff x="1741320" y="2708280"/>
                <a:chExt cx="5184720" cy="1080"/>
              </a:xfrm>
            </p:grpSpPr>
            <p:sp>
              <p:nvSpPr>
                <p:cNvPr id="322" name="Line 8"/>
                <p:cNvSpPr/>
                <p:nvPr/>
              </p:nvSpPr>
              <p:spPr>
                <a:xfrm>
                  <a:off x="1741320" y="2708280"/>
                  <a:ext cx="518472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bevel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 txBox="1"/>
                <p:nvPr/>
              </p:nvSpPr>
              <p:spPr>
                <a:xfrm>
                  <a:off x="1741320" y="2708280"/>
                  <a:ext cx="5184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4262400" y="2492640"/>
                <a:ext cx="1440" cy="215640"/>
                <a:chOff x="4262400" y="2492640"/>
                <a:chExt cx="1440" cy="215640"/>
              </a:xfrm>
            </p:grpSpPr>
            <p:sp>
              <p:nvSpPr>
                <p:cNvPr id="325" name="Line 9"/>
                <p:cNvSpPr/>
                <p:nvPr/>
              </p:nvSpPr>
              <p:spPr>
                <a:xfrm>
                  <a:off x="4262400" y="2492640"/>
                  <a:ext cx="1440" cy="2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 txBox="1"/>
                <p:nvPr/>
              </p:nvSpPr>
              <p:spPr>
                <a:xfrm>
                  <a:off x="4262400" y="2492640"/>
                  <a:ext cx="1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838400" y="2492640"/>
                <a:ext cx="1800" cy="215640"/>
                <a:chOff x="4838400" y="2492640"/>
                <a:chExt cx="1800" cy="215640"/>
              </a:xfrm>
            </p:grpSpPr>
            <p:sp>
              <p:nvSpPr>
                <p:cNvPr id="328" name="Line 10"/>
                <p:cNvSpPr/>
                <p:nvPr/>
              </p:nvSpPr>
              <p:spPr>
                <a:xfrm>
                  <a:off x="4838400" y="2492640"/>
                  <a:ext cx="1800" cy="2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 txBox="1"/>
                <p:nvPr/>
              </p:nvSpPr>
              <p:spPr>
                <a:xfrm>
                  <a:off x="4838400" y="2492640"/>
                  <a:ext cx="1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414760" y="2492640"/>
                <a:ext cx="1800" cy="215640"/>
                <a:chOff x="5414760" y="2492640"/>
                <a:chExt cx="1800" cy="215640"/>
              </a:xfrm>
            </p:grpSpPr>
            <p:sp>
              <p:nvSpPr>
                <p:cNvPr id="331" name="Line 11"/>
                <p:cNvSpPr/>
                <p:nvPr/>
              </p:nvSpPr>
              <p:spPr>
                <a:xfrm>
                  <a:off x="5414760" y="2492640"/>
                  <a:ext cx="1800" cy="2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 txBox="1"/>
                <p:nvPr/>
              </p:nvSpPr>
              <p:spPr>
                <a:xfrm>
                  <a:off x="5414760" y="2492640"/>
                  <a:ext cx="1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991120" y="2492640"/>
                <a:ext cx="1440" cy="215640"/>
                <a:chOff x="5991120" y="2492640"/>
                <a:chExt cx="1440" cy="215640"/>
              </a:xfrm>
            </p:grpSpPr>
            <p:sp>
              <p:nvSpPr>
                <p:cNvPr id="334" name="Line 12"/>
                <p:cNvSpPr/>
                <p:nvPr/>
              </p:nvSpPr>
              <p:spPr>
                <a:xfrm>
                  <a:off x="5991120" y="2492640"/>
                  <a:ext cx="1440" cy="2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 txBox="1"/>
                <p:nvPr/>
              </p:nvSpPr>
              <p:spPr>
                <a:xfrm>
                  <a:off x="5991120" y="2492640"/>
                  <a:ext cx="1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533320" y="2492640"/>
                <a:ext cx="1800" cy="215640"/>
                <a:chOff x="2533320" y="2492640"/>
                <a:chExt cx="1800" cy="215640"/>
              </a:xfrm>
            </p:grpSpPr>
            <p:sp>
              <p:nvSpPr>
                <p:cNvPr id="337" name="Line 13"/>
                <p:cNvSpPr/>
                <p:nvPr/>
              </p:nvSpPr>
              <p:spPr>
                <a:xfrm>
                  <a:off x="2533320" y="2492640"/>
                  <a:ext cx="1800" cy="2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 txBox="1"/>
                <p:nvPr/>
              </p:nvSpPr>
              <p:spPr>
                <a:xfrm>
                  <a:off x="2533320" y="2492640"/>
                  <a:ext cx="1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109680" y="2492640"/>
                <a:ext cx="1800" cy="215640"/>
                <a:chOff x="3109680" y="2492640"/>
                <a:chExt cx="1800" cy="215640"/>
              </a:xfrm>
            </p:grpSpPr>
            <p:sp>
              <p:nvSpPr>
                <p:cNvPr id="340" name="Line 14"/>
                <p:cNvSpPr/>
                <p:nvPr/>
              </p:nvSpPr>
              <p:spPr>
                <a:xfrm>
                  <a:off x="3109680" y="2492640"/>
                  <a:ext cx="1800" cy="2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 txBox="1"/>
                <p:nvPr/>
              </p:nvSpPr>
              <p:spPr>
                <a:xfrm>
                  <a:off x="3109680" y="2492640"/>
                  <a:ext cx="1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686040" y="2492640"/>
                <a:ext cx="1440" cy="215640"/>
                <a:chOff x="3686040" y="2492640"/>
                <a:chExt cx="1440" cy="215640"/>
              </a:xfrm>
            </p:grpSpPr>
            <p:sp>
              <p:nvSpPr>
                <p:cNvPr id="343" name="Line 15"/>
                <p:cNvSpPr/>
                <p:nvPr/>
              </p:nvSpPr>
              <p:spPr>
                <a:xfrm>
                  <a:off x="3686040" y="2492640"/>
                  <a:ext cx="1440" cy="2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 txBox="1"/>
                <p:nvPr/>
              </p:nvSpPr>
              <p:spPr>
                <a:xfrm>
                  <a:off x="3686040" y="2492640"/>
                  <a:ext cx="1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Text Box 16"/>
              <p:cNvSpPr/>
              <p:nvPr/>
            </p:nvSpPr>
            <p:spPr>
              <a:xfrm>
                <a:off x="4069800" y="2708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7"/>
              <p:cNvSpPr/>
              <p:nvPr/>
            </p:nvSpPr>
            <p:spPr>
              <a:xfrm>
                <a:off x="4646160" y="2708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8"/>
              <p:cNvSpPr/>
              <p:nvPr/>
            </p:nvSpPr>
            <p:spPr>
              <a:xfrm>
                <a:off x="5293800" y="2708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9"/>
              <p:cNvSpPr/>
              <p:nvPr/>
            </p:nvSpPr>
            <p:spPr>
              <a:xfrm>
                <a:off x="5775120" y="27082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20"/>
              <p:cNvSpPr/>
              <p:nvPr/>
            </p:nvSpPr>
            <p:spPr>
              <a:xfrm>
                <a:off x="3506040" y="27082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1"/>
              <p:cNvSpPr/>
              <p:nvPr/>
            </p:nvSpPr>
            <p:spPr>
              <a:xfrm>
                <a:off x="2929680" y="27082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2"/>
              <p:cNvSpPr/>
              <p:nvPr/>
            </p:nvSpPr>
            <p:spPr>
              <a:xfrm>
                <a:off x="2353680" y="27082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85960" y="428400"/>
            <a:ext cx="657216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554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讨论下列数轴画得对错？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3"/>
          <p:cNvGrpSpPr/>
          <p:nvPr/>
        </p:nvGrpSpPr>
        <p:grpSpPr>
          <a:xfrm>
            <a:off x="1343160" y="2300400"/>
            <a:ext cx="5867280" cy="304200"/>
            <a:chOff x="1343160" y="2300400"/>
            <a:chExt cx="5867280" cy="304200"/>
          </a:xfrm>
        </p:grpSpPr>
        <p:grpSp>
          <p:nvGrpSpPr>
            <p:cNvPr id="354" name=""/>
            <p:cNvGrpSpPr/>
            <p:nvPr/>
          </p:nvGrpSpPr>
          <p:grpSpPr>
            <a:xfrm>
              <a:off x="1343160" y="2603520"/>
              <a:ext cx="5867280" cy="1080"/>
              <a:chOff x="1343160" y="2603520"/>
              <a:chExt cx="5867280" cy="1080"/>
            </a:xfrm>
          </p:grpSpPr>
          <p:sp>
            <p:nvSpPr>
              <p:cNvPr id="355" name="Line 4"/>
              <p:cNvSpPr/>
              <p:nvPr/>
            </p:nvSpPr>
            <p:spPr>
              <a:xfrm>
                <a:off x="1343160" y="2603520"/>
                <a:ext cx="586728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1343160" y="2603520"/>
                <a:ext cx="58672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943360" y="2451240"/>
              <a:ext cx="1440" cy="151560"/>
              <a:chOff x="2943360" y="2451240"/>
              <a:chExt cx="1440" cy="151560"/>
            </a:xfrm>
          </p:grpSpPr>
          <p:sp>
            <p:nvSpPr>
              <p:cNvPr id="358" name="Line 5"/>
              <p:cNvSpPr/>
              <p:nvPr/>
            </p:nvSpPr>
            <p:spPr>
              <a:xfrm flipV="1">
                <a:off x="2943360" y="2451240"/>
                <a:ext cx="144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 rot="10800000">
                <a:off x="2943360" y="2451240"/>
                <a:ext cx="1440" cy="15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991480" y="2451240"/>
              <a:ext cx="1440" cy="151560"/>
              <a:chOff x="5991480" y="2451240"/>
              <a:chExt cx="1440" cy="151560"/>
            </a:xfrm>
          </p:grpSpPr>
          <p:sp>
            <p:nvSpPr>
              <p:cNvPr id="361" name="Line 6"/>
              <p:cNvSpPr/>
              <p:nvPr/>
            </p:nvSpPr>
            <p:spPr>
              <a:xfrm flipV="1">
                <a:off x="5991480" y="2451240"/>
                <a:ext cx="144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 rot="10800000">
                <a:off x="5991480" y="2451240"/>
                <a:ext cx="1440" cy="15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552480" y="2451240"/>
              <a:ext cx="2160" cy="151560"/>
              <a:chOff x="3552480" y="2451240"/>
              <a:chExt cx="2160" cy="151560"/>
            </a:xfrm>
          </p:grpSpPr>
          <p:sp>
            <p:nvSpPr>
              <p:cNvPr id="364" name="Line 7"/>
              <p:cNvSpPr/>
              <p:nvPr/>
            </p:nvSpPr>
            <p:spPr>
              <a:xfrm flipV="1">
                <a:off x="3552840" y="2451240"/>
                <a:ext cx="180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 rot="10800000">
                <a:off x="3552480" y="2451240"/>
                <a:ext cx="1800" cy="15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5381280" y="2451240"/>
              <a:ext cx="2160" cy="151560"/>
              <a:chOff x="5381280" y="2451240"/>
              <a:chExt cx="2160" cy="151560"/>
            </a:xfrm>
          </p:grpSpPr>
          <p:sp>
            <p:nvSpPr>
              <p:cNvPr id="367" name="Line 8"/>
              <p:cNvSpPr/>
              <p:nvPr/>
            </p:nvSpPr>
            <p:spPr>
              <a:xfrm flipV="1">
                <a:off x="5381640" y="2451240"/>
                <a:ext cx="180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 rot="10800000">
                <a:off x="5381280" y="2451240"/>
                <a:ext cx="1800" cy="15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4772160" y="2451240"/>
              <a:ext cx="1440" cy="151560"/>
              <a:chOff x="4772160" y="2451240"/>
              <a:chExt cx="1440" cy="151560"/>
            </a:xfrm>
          </p:grpSpPr>
          <p:sp>
            <p:nvSpPr>
              <p:cNvPr id="370" name="Line 9"/>
              <p:cNvSpPr/>
              <p:nvPr/>
            </p:nvSpPr>
            <p:spPr>
              <a:xfrm flipV="1">
                <a:off x="4772160" y="2451240"/>
                <a:ext cx="144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 rot="10800000">
                <a:off x="4772160" y="2451240"/>
                <a:ext cx="1440" cy="15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1723680" y="2451240"/>
              <a:ext cx="2160" cy="151560"/>
              <a:chOff x="1723680" y="2451240"/>
              <a:chExt cx="2160" cy="151560"/>
            </a:xfrm>
          </p:grpSpPr>
          <p:sp>
            <p:nvSpPr>
              <p:cNvPr id="373" name="Line 10"/>
              <p:cNvSpPr/>
              <p:nvPr/>
            </p:nvSpPr>
            <p:spPr>
              <a:xfrm flipV="1">
                <a:off x="1724040" y="2451240"/>
                <a:ext cx="180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 rot="10800000">
                <a:off x="1723680" y="2451240"/>
                <a:ext cx="1800" cy="15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2333880" y="2451240"/>
              <a:ext cx="1440" cy="151560"/>
              <a:chOff x="2333880" y="2451240"/>
              <a:chExt cx="1440" cy="151560"/>
            </a:xfrm>
          </p:grpSpPr>
          <p:sp>
            <p:nvSpPr>
              <p:cNvPr id="376" name="Line 11"/>
              <p:cNvSpPr/>
              <p:nvPr/>
            </p:nvSpPr>
            <p:spPr>
              <a:xfrm flipV="1">
                <a:off x="2333880" y="2451240"/>
                <a:ext cx="144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 rot="10800000">
                <a:off x="2333880" y="2451240"/>
                <a:ext cx="1440" cy="15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6600960" y="2451240"/>
              <a:ext cx="1440" cy="151560"/>
              <a:chOff x="6600960" y="2451240"/>
              <a:chExt cx="1440" cy="151560"/>
            </a:xfrm>
          </p:grpSpPr>
          <p:sp>
            <p:nvSpPr>
              <p:cNvPr id="379" name="Line 12"/>
              <p:cNvSpPr/>
              <p:nvPr/>
            </p:nvSpPr>
            <p:spPr>
              <a:xfrm flipV="1">
                <a:off x="6600960" y="2451240"/>
                <a:ext cx="144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 txBox="1"/>
              <p:nvPr/>
            </p:nvSpPr>
            <p:spPr>
              <a:xfrm rot="10800000">
                <a:off x="6600960" y="2451240"/>
                <a:ext cx="1440" cy="15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162680" y="2300400"/>
              <a:ext cx="1440" cy="303120"/>
              <a:chOff x="4162680" y="2300400"/>
              <a:chExt cx="1440" cy="303120"/>
            </a:xfrm>
          </p:grpSpPr>
          <p:sp>
            <p:nvSpPr>
              <p:cNvPr id="382" name="Line 13"/>
              <p:cNvSpPr/>
              <p:nvPr/>
            </p:nvSpPr>
            <p:spPr>
              <a:xfrm flipV="1">
                <a:off x="4162680" y="2300400"/>
                <a:ext cx="1440" cy="30312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 rot="10800000">
                <a:off x="4162680" y="2300400"/>
                <a:ext cx="1440" cy="303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Text Box 14"/>
          <p:cNvSpPr/>
          <p:nvPr/>
        </p:nvSpPr>
        <p:spPr>
          <a:xfrm>
            <a:off x="733320" y="23004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1571760" y="283356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1266840" y="25290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2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1      1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733320" y="32907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8"/>
          <p:cNvGrpSpPr/>
          <p:nvPr/>
        </p:nvGrpSpPr>
        <p:grpSpPr>
          <a:xfrm>
            <a:off x="1495440" y="3290400"/>
            <a:ext cx="5867280" cy="304920"/>
            <a:chOff x="1495440" y="3290400"/>
            <a:chExt cx="5867280" cy="304920"/>
          </a:xfrm>
        </p:grpSpPr>
        <p:grpSp>
          <p:nvGrpSpPr>
            <p:cNvPr id="389" name=""/>
            <p:cNvGrpSpPr/>
            <p:nvPr/>
          </p:nvGrpSpPr>
          <p:grpSpPr>
            <a:xfrm>
              <a:off x="1495440" y="3594240"/>
              <a:ext cx="5867280" cy="1080"/>
              <a:chOff x="1495440" y="3594240"/>
              <a:chExt cx="5867280" cy="1080"/>
            </a:xfrm>
          </p:grpSpPr>
          <p:sp>
            <p:nvSpPr>
              <p:cNvPr id="390" name="Line 19"/>
              <p:cNvSpPr/>
              <p:nvPr/>
            </p:nvSpPr>
            <p:spPr>
              <a:xfrm>
                <a:off x="1495440" y="3594240"/>
                <a:ext cx="586728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1495440" y="3594240"/>
                <a:ext cx="58672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3095640" y="3442320"/>
              <a:ext cx="1440" cy="151920"/>
              <a:chOff x="3095640" y="3442320"/>
              <a:chExt cx="1440" cy="151920"/>
            </a:xfrm>
          </p:grpSpPr>
          <p:sp>
            <p:nvSpPr>
              <p:cNvPr id="393" name="Line 20"/>
              <p:cNvSpPr/>
              <p:nvPr/>
            </p:nvSpPr>
            <p:spPr>
              <a:xfrm flipV="1">
                <a:off x="3095640" y="3442320"/>
                <a:ext cx="1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 txBox="1"/>
              <p:nvPr/>
            </p:nvSpPr>
            <p:spPr>
              <a:xfrm rot="10800000">
                <a:off x="3095640" y="3442320"/>
                <a:ext cx="144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143760" y="3442320"/>
              <a:ext cx="1440" cy="151920"/>
              <a:chOff x="6143760" y="3442320"/>
              <a:chExt cx="1440" cy="151920"/>
            </a:xfrm>
          </p:grpSpPr>
          <p:sp>
            <p:nvSpPr>
              <p:cNvPr id="396" name="Line 21"/>
              <p:cNvSpPr/>
              <p:nvPr/>
            </p:nvSpPr>
            <p:spPr>
              <a:xfrm flipV="1">
                <a:off x="6143760" y="3442320"/>
                <a:ext cx="1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 txBox="1"/>
              <p:nvPr/>
            </p:nvSpPr>
            <p:spPr>
              <a:xfrm rot="10800000">
                <a:off x="6143760" y="3442320"/>
                <a:ext cx="144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3704760" y="3442320"/>
              <a:ext cx="2160" cy="151920"/>
              <a:chOff x="3704760" y="3442320"/>
              <a:chExt cx="2160" cy="151920"/>
            </a:xfrm>
          </p:grpSpPr>
          <p:sp>
            <p:nvSpPr>
              <p:cNvPr id="399" name="Line 22"/>
              <p:cNvSpPr/>
              <p:nvPr/>
            </p:nvSpPr>
            <p:spPr>
              <a:xfrm flipV="1">
                <a:off x="3705120" y="3442320"/>
                <a:ext cx="18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 rot="10800000">
                <a:off x="3704760" y="3442320"/>
                <a:ext cx="180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533560" y="3442320"/>
              <a:ext cx="2160" cy="151920"/>
              <a:chOff x="5533560" y="3442320"/>
              <a:chExt cx="2160" cy="151920"/>
            </a:xfrm>
          </p:grpSpPr>
          <p:sp>
            <p:nvSpPr>
              <p:cNvPr id="402" name="Line 23"/>
              <p:cNvSpPr/>
              <p:nvPr/>
            </p:nvSpPr>
            <p:spPr>
              <a:xfrm flipV="1">
                <a:off x="5533920" y="3442320"/>
                <a:ext cx="18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 rot="10800000">
                <a:off x="5533560" y="3442320"/>
                <a:ext cx="180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4924440" y="3442320"/>
              <a:ext cx="1440" cy="151920"/>
              <a:chOff x="4924440" y="3442320"/>
              <a:chExt cx="1440" cy="151920"/>
            </a:xfrm>
          </p:grpSpPr>
          <p:sp>
            <p:nvSpPr>
              <p:cNvPr id="405" name="Line 24"/>
              <p:cNvSpPr/>
              <p:nvPr/>
            </p:nvSpPr>
            <p:spPr>
              <a:xfrm flipV="1">
                <a:off x="4924440" y="3442320"/>
                <a:ext cx="1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 txBox="1"/>
              <p:nvPr/>
            </p:nvSpPr>
            <p:spPr>
              <a:xfrm rot="10800000">
                <a:off x="4924440" y="3442320"/>
                <a:ext cx="144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875960" y="3442320"/>
              <a:ext cx="2160" cy="151920"/>
              <a:chOff x="1875960" y="3442320"/>
              <a:chExt cx="2160" cy="151920"/>
            </a:xfrm>
          </p:grpSpPr>
          <p:sp>
            <p:nvSpPr>
              <p:cNvPr id="408" name="Line 25"/>
              <p:cNvSpPr/>
              <p:nvPr/>
            </p:nvSpPr>
            <p:spPr>
              <a:xfrm flipV="1">
                <a:off x="1876320" y="3442320"/>
                <a:ext cx="18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 rot="10800000">
                <a:off x="1875960" y="3442320"/>
                <a:ext cx="180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2486160" y="3442320"/>
              <a:ext cx="1440" cy="151920"/>
              <a:chOff x="2486160" y="3442320"/>
              <a:chExt cx="1440" cy="151920"/>
            </a:xfrm>
          </p:grpSpPr>
          <p:sp>
            <p:nvSpPr>
              <p:cNvPr id="411" name="Line 26"/>
              <p:cNvSpPr/>
              <p:nvPr/>
            </p:nvSpPr>
            <p:spPr>
              <a:xfrm flipV="1">
                <a:off x="2486160" y="3442320"/>
                <a:ext cx="1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 txBox="1"/>
              <p:nvPr/>
            </p:nvSpPr>
            <p:spPr>
              <a:xfrm rot="10800000">
                <a:off x="2486160" y="3442320"/>
                <a:ext cx="144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6753240" y="3442320"/>
              <a:ext cx="1440" cy="151920"/>
              <a:chOff x="6753240" y="3442320"/>
              <a:chExt cx="1440" cy="151920"/>
            </a:xfrm>
          </p:grpSpPr>
          <p:sp>
            <p:nvSpPr>
              <p:cNvPr id="414" name="Line 27"/>
              <p:cNvSpPr/>
              <p:nvPr/>
            </p:nvSpPr>
            <p:spPr>
              <a:xfrm flipV="1">
                <a:off x="6753240" y="3442320"/>
                <a:ext cx="1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 txBox="1"/>
              <p:nvPr/>
            </p:nvSpPr>
            <p:spPr>
              <a:xfrm rot="10800000">
                <a:off x="6753240" y="3442320"/>
                <a:ext cx="144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314960" y="3290400"/>
              <a:ext cx="1440" cy="303480"/>
              <a:chOff x="4314960" y="3290400"/>
              <a:chExt cx="1440" cy="303480"/>
            </a:xfrm>
          </p:grpSpPr>
          <p:sp>
            <p:nvSpPr>
              <p:cNvPr id="417" name="Line 28"/>
              <p:cNvSpPr/>
              <p:nvPr/>
            </p:nvSpPr>
            <p:spPr>
              <a:xfrm flipV="1">
                <a:off x="4314960" y="3290400"/>
                <a:ext cx="1440" cy="30348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 txBox="1"/>
              <p:nvPr/>
            </p:nvSpPr>
            <p:spPr>
              <a:xfrm rot="10800000">
                <a:off x="4314960" y="3290400"/>
                <a:ext cx="1440" cy="30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Text Box 29"/>
          <p:cNvSpPr/>
          <p:nvPr/>
        </p:nvSpPr>
        <p:spPr>
          <a:xfrm>
            <a:off x="1876320" y="351936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0"/>
          <p:cNvSpPr/>
          <p:nvPr/>
        </p:nvSpPr>
        <p:spPr>
          <a:xfrm>
            <a:off x="1419120" y="3519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1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2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3      0      1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647720" y="4510080"/>
            <a:ext cx="5486400" cy="1440"/>
            <a:chOff x="1647720" y="4510080"/>
            <a:chExt cx="5486400" cy="1440"/>
          </a:xfrm>
        </p:grpSpPr>
        <p:sp>
          <p:nvSpPr>
            <p:cNvPr id="422" name="Line 31"/>
            <p:cNvSpPr/>
            <p:nvPr/>
          </p:nvSpPr>
          <p:spPr>
            <a:xfrm>
              <a:off x="1647720" y="4510080"/>
              <a:ext cx="5486400" cy="144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647720" y="4510080"/>
              <a:ext cx="54864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32"/>
          <p:cNvGrpSpPr/>
          <p:nvPr/>
        </p:nvGrpSpPr>
        <p:grpSpPr>
          <a:xfrm>
            <a:off x="1952280" y="4357440"/>
            <a:ext cx="4267080" cy="152280"/>
            <a:chOff x="1952280" y="4357440"/>
            <a:chExt cx="4267080" cy="152280"/>
          </a:xfrm>
        </p:grpSpPr>
        <p:grpSp>
          <p:nvGrpSpPr>
            <p:cNvPr id="425" name=""/>
            <p:cNvGrpSpPr/>
            <p:nvPr/>
          </p:nvGrpSpPr>
          <p:grpSpPr>
            <a:xfrm>
              <a:off x="3170880" y="4357440"/>
              <a:ext cx="1440" cy="152280"/>
              <a:chOff x="3170880" y="4357440"/>
              <a:chExt cx="1440" cy="152280"/>
            </a:xfrm>
          </p:grpSpPr>
          <p:sp>
            <p:nvSpPr>
              <p:cNvPr id="426" name="Line 33"/>
              <p:cNvSpPr/>
              <p:nvPr/>
            </p:nvSpPr>
            <p:spPr>
              <a:xfrm flipV="1">
                <a:off x="3171240" y="4357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 txBox="1"/>
              <p:nvPr/>
            </p:nvSpPr>
            <p:spPr>
              <a:xfrm rot="10800000">
                <a:off x="3170880" y="4357440"/>
                <a:ext cx="10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1952280" y="4357440"/>
              <a:ext cx="1440" cy="152280"/>
              <a:chOff x="1952280" y="4357440"/>
              <a:chExt cx="1440" cy="152280"/>
            </a:xfrm>
          </p:grpSpPr>
          <p:sp>
            <p:nvSpPr>
              <p:cNvPr id="429" name="Line 34"/>
              <p:cNvSpPr/>
              <p:nvPr/>
            </p:nvSpPr>
            <p:spPr>
              <a:xfrm flipV="1">
                <a:off x="1952640" y="4357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 txBox="1"/>
              <p:nvPr/>
            </p:nvSpPr>
            <p:spPr>
              <a:xfrm rot="10800000">
                <a:off x="1952280" y="4357440"/>
                <a:ext cx="10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561760" y="4357440"/>
              <a:ext cx="1440" cy="152280"/>
              <a:chOff x="2561760" y="4357440"/>
              <a:chExt cx="1440" cy="152280"/>
            </a:xfrm>
          </p:grpSpPr>
          <p:sp>
            <p:nvSpPr>
              <p:cNvPr id="432" name="Line 35"/>
              <p:cNvSpPr/>
              <p:nvPr/>
            </p:nvSpPr>
            <p:spPr>
              <a:xfrm flipV="1">
                <a:off x="2561760" y="4357440"/>
                <a:ext cx="14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 txBox="1"/>
              <p:nvPr/>
            </p:nvSpPr>
            <p:spPr>
              <a:xfrm rot="10800000">
                <a:off x="2561760" y="4357440"/>
                <a:ext cx="144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6217920" y="4357440"/>
              <a:ext cx="1440" cy="152280"/>
              <a:chOff x="6217920" y="4357440"/>
              <a:chExt cx="1440" cy="152280"/>
            </a:xfrm>
          </p:grpSpPr>
          <p:sp>
            <p:nvSpPr>
              <p:cNvPr id="435" name="Line 36"/>
              <p:cNvSpPr/>
              <p:nvPr/>
            </p:nvSpPr>
            <p:spPr>
              <a:xfrm flipV="1">
                <a:off x="6217920" y="4357440"/>
                <a:ext cx="14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 rot="10800000">
                <a:off x="6217920" y="4357440"/>
                <a:ext cx="144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5608080" y="4357440"/>
              <a:ext cx="1440" cy="152280"/>
              <a:chOff x="5608080" y="4357440"/>
              <a:chExt cx="1440" cy="152280"/>
            </a:xfrm>
          </p:grpSpPr>
          <p:sp>
            <p:nvSpPr>
              <p:cNvPr id="438" name="Line 37"/>
              <p:cNvSpPr/>
              <p:nvPr/>
            </p:nvSpPr>
            <p:spPr>
              <a:xfrm flipV="1">
                <a:off x="5608440" y="4357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 rot="10800000">
                <a:off x="5608080" y="4357440"/>
                <a:ext cx="10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4998960" y="4357440"/>
              <a:ext cx="1440" cy="152280"/>
              <a:chOff x="4998960" y="4357440"/>
              <a:chExt cx="1440" cy="152280"/>
            </a:xfrm>
          </p:grpSpPr>
          <p:sp>
            <p:nvSpPr>
              <p:cNvPr id="441" name="Line 38"/>
              <p:cNvSpPr/>
              <p:nvPr/>
            </p:nvSpPr>
            <p:spPr>
              <a:xfrm flipV="1">
                <a:off x="4999320" y="4357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 rot="10800000">
                <a:off x="4998960" y="4357440"/>
                <a:ext cx="10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4389840" y="4357440"/>
              <a:ext cx="1440" cy="152280"/>
              <a:chOff x="4389840" y="4357440"/>
              <a:chExt cx="1440" cy="152280"/>
            </a:xfrm>
          </p:grpSpPr>
          <p:sp>
            <p:nvSpPr>
              <p:cNvPr id="444" name="Line 39"/>
              <p:cNvSpPr/>
              <p:nvPr/>
            </p:nvSpPr>
            <p:spPr>
              <a:xfrm flipV="1">
                <a:off x="4389840" y="4357440"/>
                <a:ext cx="14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 txBox="1"/>
              <p:nvPr/>
            </p:nvSpPr>
            <p:spPr>
              <a:xfrm rot="10800000">
                <a:off x="4389840" y="4357440"/>
                <a:ext cx="144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780000" y="4357440"/>
              <a:ext cx="1440" cy="152280"/>
              <a:chOff x="3780000" y="4357440"/>
              <a:chExt cx="1440" cy="152280"/>
            </a:xfrm>
          </p:grpSpPr>
          <p:sp>
            <p:nvSpPr>
              <p:cNvPr id="447" name="Line 40"/>
              <p:cNvSpPr/>
              <p:nvPr/>
            </p:nvSpPr>
            <p:spPr>
              <a:xfrm flipV="1">
                <a:off x="3780360" y="4357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 txBox="1"/>
              <p:nvPr/>
            </p:nvSpPr>
            <p:spPr>
              <a:xfrm rot="10800000">
                <a:off x="3780000" y="4357440"/>
                <a:ext cx="10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41"/>
          <p:cNvSpPr/>
          <p:nvPr/>
        </p:nvSpPr>
        <p:spPr>
          <a:xfrm>
            <a:off x="809640" y="42051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2"/>
          <p:cNvSpPr/>
          <p:nvPr/>
        </p:nvSpPr>
        <p:spPr>
          <a:xfrm>
            <a:off x="1419120" y="4433760"/>
            <a:ext cx="586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2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1     0       1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3"/>
          <p:cNvSpPr/>
          <p:nvPr/>
        </p:nvSpPr>
        <p:spPr>
          <a:xfrm>
            <a:off x="809640" y="52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44"/>
          <p:cNvGrpSpPr/>
          <p:nvPr/>
        </p:nvGrpSpPr>
        <p:grpSpPr>
          <a:xfrm>
            <a:off x="1571760" y="5500800"/>
            <a:ext cx="5562360" cy="444240"/>
            <a:chOff x="1571760" y="5500800"/>
            <a:chExt cx="5562360" cy="444240"/>
          </a:xfrm>
        </p:grpSpPr>
        <p:grpSp>
          <p:nvGrpSpPr>
            <p:cNvPr id="453" name=""/>
            <p:cNvGrpSpPr/>
            <p:nvPr/>
          </p:nvGrpSpPr>
          <p:grpSpPr>
            <a:xfrm>
              <a:off x="1571760" y="5576760"/>
              <a:ext cx="5562360" cy="1080"/>
              <a:chOff x="1571760" y="5576760"/>
              <a:chExt cx="5562360" cy="1080"/>
            </a:xfrm>
          </p:grpSpPr>
          <p:sp>
            <p:nvSpPr>
              <p:cNvPr id="454" name="Line 45"/>
              <p:cNvSpPr/>
              <p:nvPr/>
            </p:nvSpPr>
            <p:spPr>
              <a:xfrm>
                <a:off x="1571760" y="5576760"/>
                <a:ext cx="556236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 txBox="1"/>
              <p:nvPr/>
            </p:nvSpPr>
            <p:spPr>
              <a:xfrm>
                <a:off x="1571760" y="5576760"/>
                <a:ext cx="55623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466880" y="5500800"/>
              <a:ext cx="1440" cy="151920"/>
              <a:chOff x="4466880" y="5500800"/>
              <a:chExt cx="1440" cy="151920"/>
            </a:xfrm>
          </p:grpSpPr>
          <p:sp>
            <p:nvSpPr>
              <p:cNvPr id="457" name="Line 46"/>
              <p:cNvSpPr/>
              <p:nvPr/>
            </p:nvSpPr>
            <p:spPr>
              <a:xfrm flipV="1">
                <a:off x="4466880" y="5500800"/>
                <a:ext cx="1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 txBox="1"/>
              <p:nvPr/>
            </p:nvSpPr>
            <p:spPr>
              <a:xfrm rot="10800000">
                <a:off x="4466880" y="5500800"/>
                <a:ext cx="144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552480" y="5500800"/>
              <a:ext cx="1440" cy="151920"/>
              <a:chOff x="3552480" y="5500800"/>
              <a:chExt cx="1440" cy="151920"/>
            </a:xfrm>
          </p:grpSpPr>
          <p:sp>
            <p:nvSpPr>
              <p:cNvPr id="460" name="Line 47"/>
              <p:cNvSpPr/>
              <p:nvPr/>
            </p:nvSpPr>
            <p:spPr>
              <a:xfrm flipV="1">
                <a:off x="3552480" y="5500800"/>
                <a:ext cx="1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 txBox="1"/>
              <p:nvPr/>
            </p:nvSpPr>
            <p:spPr>
              <a:xfrm rot="10800000">
                <a:off x="3552480" y="5500800"/>
                <a:ext cx="144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5685840" y="5500800"/>
              <a:ext cx="1440" cy="151920"/>
              <a:chOff x="5685840" y="5500800"/>
              <a:chExt cx="1440" cy="151920"/>
            </a:xfrm>
          </p:grpSpPr>
          <p:sp>
            <p:nvSpPr>
              <p:cNvPr id="463" name="Line 48"/>
              <p:cNvSpPr/>
              <p:nvPr/>
            </p:nvSpPr>
            <p:spPr>
              <a:xfrm flipV="1">
                <a:off x="5686200" y="5500800"/>
                <a:ext cx="10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 txBox="1"/>
              <p:nvPr/>
            </p:nvSpPr>
            <p:spPr>
              <a:xfrm rot="10800000">
                <a:off x="5685840" y="5500800"/>
                <a:ext cx="108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076360" y="5500800"/>
              <a:ext cx="1440" cy="151920"/>
              <a:chOff x="5076360" y="5500800"/>
              <a:chExt cx="1440" cy="151920"/>
            </a:xfrm>
          </p:grpSpPr>
          <p:sp>
            <p:nvSpPr>
              <p:cNvPr id="466" name="Line 49"/>
              <p:cNvSpPr/>
              <p:nvPr/>
            </p:nvSpPr>
            <p:spPr>
              <a:xfrm flipV="1">
                <a:off x="5076720" y="5500800"/>
                <a:ext cx="10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 txBox="1"/>
              <p:nvPr/>
            </p:nvSpPr>
            <p:spPr>
              <a:xfrm rot="10800000">
                <a:off x="5076360" y="5500800"/>
                <a:ext cx="108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Text Box 50"/>
            <p:cNvSpPr/>
            <p:nvPr/>
          </p:nvSpPr>
          <p:spPr>
            <a:xfrm>
              <a:off x="2333520" y="5576760"/>
              <a:ext cx="43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Franklin Gothic Book"/>
                </a:rPr>
                <a:t>－</a:t>
              </a: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1           0     1     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28600" y="428760"/>
            <a:ext cx="34290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554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总结归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712800" y="162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画数轴时要注意以下四点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928800" y="2340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⒈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画直线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928800" y="298764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⒉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在直线上取一点作为原点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928800" y="370836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⒊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确定正方向，并用箭头表示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928800" y="44290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⒋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根据需要选取适当单位长度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1004760" y="4440240"/>
            <a:ext cx="586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28600" y="428760"/>
            <a:ext cx="35002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554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同步练习</a:t>
            </a: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42"/>
          <p:cNvGrpSpPr/>
          <p:nvPr/>
        </p:nvGrpSpPr>
        <p:grpSpPr>
          <a:xfrm>
            <a:off x="1224720" y="2000160"/>
            <a:ext cx="7484400" cy="1695600"/>
            <a:chOff x="1224720" y="2000160"/>
            <a:chExt cx="7484400" cy="1695600"/>
          </a:xfrm>
        </p:grpSpPr>
        <p:grpSp>
          <p:nvGrpSpPr>
            <p:cNvPr id="478" name="Group 43"/>
            <p:cNvGrpSpPr/>
            <p:nvPr/>
          </p:nvGrpSpPr>
          <p:grpSpPr>
            <a:xfrm>
              <a:off x="1224720" y="2611440"/>
              <a:ext cx="7484400" cy="1084320"/>
              <a:chOff x="1224720" y="2611440"/>
              <a:chExt cx="7484400" cy="1084320"/>
            </a:xfrm>
          </p:grpSpPr>
          <p:sp>
            <p:nvSpPr>
              <p:cNvPr id="479" name="Text Box 44"/>
              <p:cNvSpPr/>
              <p:nvPr/>
            </p:nvSpPr>
            <p:spPr>
              <a:xfrm>
                <a:off x="1224720" y="2755800"/>
                <a:ext cx="748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r>
                  <a:rPr b="0" lang="zh-CN" sz="4800" spc="-1" strike="noStrike">
                    <a:solidFill>
                      <a:srgbClr val="000000"/>
                    </a:solidFill>
                    <a:latin typeface="Arial"/>
                  </a:rPr>
                  <a:t>， 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</a:rPr>
                  <a:t>-2 </a:t>
                </a:r>
                <a:r>
                  <a:rPr b="0" lang="zh-CN" sz="4800" spc="-1" strike="noStrike">
                    <a:solidFill>
                      <a:srgbClr val="000000"/>
                    </a:solidFill>
                    <a:latin typeface="Arial"/>
                  </a:rPr>
                  <a:t>， 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zh-CN" sz="4800" spc="-1" strike="noStrike">
                    <a:solidFill>
                      <a:srgbClr val="000000"/>
                    </a:solidFill>
                    <a:latin typeface="Arial"/>
                  </a:rPr>
                  <a:t>，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zh-CN" sz="4800" spc="-1" strike="noStrike">
                    <a:solidFill>
                      <a:srgbClr val="000000"/>
                    </a:solidFill>
                    <a:latin typeface="Arial"/>
                  </a:rPr>
                  <a:t>，     ，       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45"/>
              <p:cNvGrpSpPr/>
              <p:nvPr/>
            </p:nvGrpSpPr>
            <p:grpSpPr>
              <a:xfrm>
                <a:off x="6227280" y="2611440"/>
                <a:ext cx="406440" cy="1013040"/>
                <a:chOff x="6227280" y="2611440"/>
                <a:chExt cx="406440" cy="1013040"/>
              </a:xfrm>
            </p:grpSpPr>
            <p:sp>
              <p:nvSpPr>
                <p:cNvPr id="481" name="Text Box 46"/>
                <p:cNvSpPr/>
                <p:nvPr/>
              </p:nvSpPr>
              <p:spPr>
                <a:xfrm>
                  <a:off x="6227280" y="304308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Text Box 47"/>
                <p:cNvSpPr/>
                <p:nvPr/>
              </p:nvSpPr>
              <p:spPr>
                <a:xfrm>
                  <a:off x="6227280" y="261144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6298920" y="3116160"/>
                  <a:ext cx="216000" cy="1800"/>
                  <a:chOff x="6298920" y="3116160"/>
                  <a:chExt cx="216000" cy="1800"/>
                </a:xfrm>
              </p:grpSpPr>
              <p:sp>
                <p:nvSpPr>
                  <p:cNvPr id="484" name="Line 48"/>
                  <p:cNvSpPr/>
                  <p:nvPr/>
                </p:nvSpPr>
                <p:spPr>
                  <a:xfrm>
                    <a:off x="6298920" y="3116160"/>
                    <a:ext cx="216000" cy="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 txBox="1"/>
                  <p:nvPr/>
                </p:nvSpPr>
                <p:spPr>
                  <a:xfrm>
                    <a:off x="6298920" y="3116160"/>
                    <a:ext cx="216000" cy="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Group 49"/>
              <p:cNvGrpSpPr/>
              <p:nvPr/>
            </p:nvGrpSpPr>
            <p:grpSpPr>
              <a:xfrm>
                <a:off x="7379640" y="2682720"/>
                <a:ext cx="622800" cy="1013040"/>
                <a:chOff x="7379640" y="2682720"/>
                <a:chExt cx="622800" cy="1013040"/>
              </a:xfrm>
            </p:grpSpPr>
            <p:sp>
              <p:nvSpPr>
                <p:cNvPr id="487" name="Text Box 50"/>
                <p:cNvSpPr/>
                <p:nvPr/>
              </p:nvSpPr>
              <p:spPr>
                <a:xfrm>
                  <a:off x="7596000" y="311436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51"/>
                <p:cNvSpPr/>
                <p:nvPr/>
              </p:nvSpPr>
              <p:spPr>
                <a:xfrm>
                  <a:off x="7596000" y="26827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52"/>
                <p:cNvSpPr/>
                <p:nvPr/>
              </p:nvSpPr>
              <p:spPr>
                <a:xfrm>
                  <a:off x="7379640" y="2970000"/>
                  <a:ext cx="266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7665840" y="3186000"/>
                  <a:ext cx="216000" cy="1440"/>
                  <a:chOff x="7665840" y="3186000"/>
                  <a:chExt cx="216000" cy="1440"/>
                </a:xfrm>
              </p:grpSpPr>
              <p:sp>
                <p:nvSpPr>
                  <p:cNvPr id="491" name="Line 53"/>
                  <p:cNvSpPr/>
                  <p:nvPr/>
                </p:nvSpPr>
                <p:spPr>
                  <a:xfrm>
                    <a:off x="7665840" y="3186000"/>
                    <a:ext cx="21600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 txBox="1"/>
                  <p:nvPr/>
                </p:nvSpPr>
                <p:spPr>
                  <a:xfrm>
                    <a:off x="7665840" y="3186000"/>
                    <a:ext cx="216000" cy="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93" name="Text Box 54"/>
            <p:cNvSpPr/>
            <p:nvPr/>
          </p:nvSpPr>
          <p:spPr>
            <a:xfrm>
              <a:off x="1640520" y="2000160"/>
              <a:ext cx="414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41aec"/>
                  </a:solidFill>
                  <a:latin typeface="幼圆"/>
                  <a:ea typeface="幼圆"/>
                </a:rPr>
                <a:t>画数轴并表示出下列有理数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928960" y="428760"/>
            <a:ext cx="3929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554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同步练习</a:t>
            </a: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708440" y="3467160"/>
            <a:ext cx="360" cy="457200"/>
            <a:chOff x="4708440" y="3467160"/>
            <a:chExt cx="360" cy="457200"/>
          </a:xfrm>
        </p:grpSpPr>
        <p:sp>
          <p:nvSpPr>
            <p:cNvPr id="496" name="Line 6"/>
            <p:cNvSpPr/>
            <p:nvPr/>
          </p:nvSpPr>
          <p:spPr>
            <a:xfrm>
              <a:off x="4708440" y="34671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4708440" y="346716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7"/>
          <p:cNvSpPr/>
          <p:nvPr/>
        </p:nvSpPr>
        <p:spPr>
          <a:xfrm>
            <a:off x="4464720" y="3847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5377680" y="3847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870360" y="3619440"/>
            <a:ext cx="360" cy="304920"/>
            <a:chOff x="3870360" y="3619440"/>
            <a:chExt cx="360" cy="304920"/>
          </a:xfrm>
        </p:grpSpPr>
        <p:sp>
          <p:nvSpPr>
            <p:cNvPr id="501" name="Line 9"/>
            <p:cNvSpPr/>
            <p:nvPr/>
          </p:nvSpPr>
          <p:spPr>
            <a:xfrm>
              <a:off x="3870360" y="3619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>
              <a:off x="3870360" y="36194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032280" y="3619440"/>
            <a:ext cx="360" cy="304920"/>
            <a:chOff x="3032280" y="3619440"/>
            <a:chExt cx="360" cy="304920"/>
          </a:xfrm>
        </p:grpSpPr>
        <p:sp>
          <p:nvSpPr>
            <p:cNvPr id="504" name="Line 10"/>
            <p:cNvSpPr/>
            <p:nvPr/>
          </p:nvSpPr>
          <p:spPr>
            <a:xfrm>
              <a:off x="3032280" y="3619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>
              <a:off x="3032280" y="36194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451640" y="3619440"/>
            <a:ext cx="360" cy="304920"/>
            <a:chOff x="7451640" y="3619440"/>
            <a:chExt cx="360" cy="304920"/>
          </a:xfrm>
        </p:grpSpPr>
        <p:sp>
          <p:nvSpPr>
            <p:cNvPr id="507" name="Line 11"/>
            <p:cNvSpPr/>
            <p:nvPr/>
          </p:nvSpPr>
          <p:spPr>
            <a:xfrm>
              <a:off x="7451640" y="3619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7451640" y="36194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537240" y="3619440"/>
            <a:ext cx="360" cy="304920"/>
            <a:chOff x="6537240" y="3619440"/>
            <a:chExt cx="360" cy="304920"/>
          </a:xfrm>
        </p:grpSpPr>
        <p:sp>
          <p:nvSpPr>
            <p:cNvPr id="510" name="Line 12"/>
            <p:cNvSpPr/>
            <p:nvPr/>
          </p:nvSpPr>
          <p:spPr>
            <a:xfrm>
              <a:off x="6537240" y="3619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6537240" y="36194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622840" y="3619440"/>
            <a:ext cx="360" cy="304920"/>
            <a:chOff x="5622840" y="3619440"/>
            <a:chExt cx="360" cy="304920"/>
          </a:xfrm>
        </p:grpSpPr>
        <p:sp>
          <p:nvSpPr>
            <p:cNvPr id="513" name="Line 13"/>
            <p:cNvSpPr/>
            <p:nvPr/>
          </p:nvSpPr>
          <p:spPr>
            <a:xfrm>
              <a:off x="5622840" y="3619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>
              <a:off x="5622840" y="36194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14"/>
          <p:cNvSpPr/>
          <p:nvPr/>
        </p:nvSpPr>
        <p:spPr>
          <a:xfrm>
            <a:off x="6292080" y="3847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5"/>
          <p:cNvSpPr/>
          <p:nvPr/>
        </p:nvSpPr>
        <p:spPr>
          <a:xfrm>
            <a:off x="7206480" y="3847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6"/>
          <p:cNvSpPr/>
          <p:nvPr/>
        </p:nvSpPr>
        <p:spPr>
          <a:xfrm>
            <a:off x="3441600" y="384732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7"/>
          <p:cNvSpPr/>
          <p:nvPr/>
        </p:nvSpPr>
        <p:spPr>
          <a:xfrm>
            <a:off x="2603520" y="384732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8"/>
          <p:cNvSpPr/>
          <p:nvPr/>
        </p:nvSpPr>
        <p:spPr>
          <a:xfrm>
            <a:off x="2252520" y="3848040"/>
            <a:ext cx="152640" cy="7632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20"/>
          <p:cNvSpPr/>
          <p:nvPr/>
        </p:nvSpPr>
        <p:spPr>
          <a:xfrm>
            <a:off x="4197240" y="3848040"/>
            <a:ext cx="152640" cy="7632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1"/>
          <p:cNvSpPr/>
          <p:nvPr/>
        </p:nvSpPr>
        <p:spPr>
          <a:xfrm>
            <a:off x="6861240" y="3848040"/>
            <a:ext cx="152280" cy="7632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2109960" y="298440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3"/>
          <p:cNvSpPr/>
          <p:nvPr/>
        </p:nvSpPr>
        <p:spPr>
          <a:xfrm>
            <a:off x="4125960" y="305604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4"/>
          <p:cNvSpPr/>
          <p:nvPr/>
        </p:nvSpPr>
        <p:spPr>
          <a:xfrm>
            <a:off x="6648840" y="2984400"/>
            <a:ext cx="5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6"/>
          <p:cNvSpPr/>
          <p:nvPr/>
        </p:nvSpPr>
        <p:spPr>
          <a:xfrm>
            <a:off x="525600" y="49276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7"/>
          <p:cNvSpPr/>
          <p:nvPr/>
        </p:nvSpPr>
        <p:spPr>
          <a:xfrm>
            <a:off x="1576440" y="5000760"/>
            <a:ext cx="21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3956040" y="50007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1549800" y="5719680"/>
            <a:ext cx="17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2"/>
          <p:cNvSpPr/>
          <p:nvPr/>
        </p:nvSpPr>
        <p:spPr>
          <a:xfrm>
            <a:off x="3020040" y="1571760"/>
            <a:ext cx="31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出数轴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点分别表示哪个有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325240" y="3631680"/>
            <a:ext cx="360" cy="287640"/>
            <a:chOff x="2325240" y="3631680"/>
            <a:chExt cx="360" cy="287640"/>
          </a:xfrm>
        </p:grpSpPr>
        <p:sp>
          <p:nvSpPr>
            <p:cNvPr id="531" name="Line 33"/>
            <p:cNvSpPr/>
            <p:nvPr/>
          </p:nvSpPr>
          <p:spPr>
            <a:xfrm flipV="1">
              <a:off x="2325600" y="36316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 rot="10800000">
              <a:off x="2325240" y="3631680"/>
              <a:ext cx="360" cy="2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Text Box 34"/>
          <p:cNvSpPr/>
          <p:nvPr/>
        </p:nvSpPr>
        <p:spPr>
          <a:xfrm>
            <a:off x="1965240" y="38480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101600" y="3919680"/>
            <a:ext cx="7056720" cy="1440"/>
            <a:chOff x="1101600" y="3919680"/>
            <a:chExt cx="7056720" cy="1440"/>
          </a:xfrm>
        </p:grpSpPr>
        <p:sp>
          <p:nvSpPr>
            <p:cNvPr id="535" name="Line 35"/>
            <p:cNvSpPr/>
            <p:nvPr/>
          </p:nvSpPr>
          <p:spPr>
            <a:xfrm>
              <a:off x="1101600" y="3919680"/>
              <a:ext cx="7056720" cy="144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1101600" y="3919680"/>
              <a:ext cx="7056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28600" y="428760"/>
            <a:ext cx="35002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554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同步练习</a:t>
            </a: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28760" y="200016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在数轴上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,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表示数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-3,  2.6,         ,0,      ,         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-1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的点中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,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在原点左边的点有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         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个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Object 4" descr=""/>
          <p:cNvPicPr/>
          <p:nvPr/>
        </p:nvPicPr>
        <p:blipFill>
          <a:blip r:embed="rId1"/>
          <a:stretch/>
        </p:blipFill>
        <p:spPr>
          <a:xfrm>
            <a:off x="5622840" y="1884240"/>
            <a:ext cx="569880" cy="86544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7"/>
          <p:cNvSpPr/>
          <p:nvPr/>
        </p:nvSpPr>
        <p:spPr>
          <a:xfrm>
            <a:off x="-27000" y="36338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Object 6" descr=""/>
          <p:cNvPicPr/>
          <p:nvPr/>
        </p:nvPicPr>
        <p:blipFill>
          <a:blip r:embed="rId2"/>
          <a:stretch/>
        </p:blipFill>
        <p:spPr>
          <a:xfrm>
            <a:off x="6775560" y="1812960"/>
            <a:ext cx="631800" cy="10796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9"/>
          <p:cNvSpPr/>
          <p:nvPr/>
        </p:nvSpPr>
        <p:spPr>
          <a:xfrm>
            <a:off x="-27000" y="36338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Object 8" descr=""/>
          <p:cNvPicPr/>
          <p:nvPr/>
        </p:nvPicPr>
        <p:blipFill>
          <a:blip r:embed="rId3"/>
          <a:stretch/>
        </p:blipFill>
        <p:spPr>
          <a:xfrm>
            <a:off x="7496280" y="1886040"/>
            <a:ext cx="974520" cy="107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28600" y="428760"/>
            <a:ext cx="35002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554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同步练习</a:t>
            </a: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在数轴上点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表示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-4,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如果把原点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O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向负方向移动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1.5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个单位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,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那么在新数轴上点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表示的数是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                  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571680" y="1857240"/>
            <a:ext cx="81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Franklin Gothic Book"/>
              </a:rPr>
              <a:t>、怎样画数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00040" y="3571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Franklin Gothic Book"/>
              </a:rPr>
              <a:t>、数轴的三要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7"/>
          <p:cNvGrpSpPr/>
          <p:nvPr/>
        </p:nvGrpSpPr>
        <p:grpSpPr>
          <a:xfrm>
            <a:off x="2467440" y="-62640"/>
            <a:ext cx="4533120" cy="1414080"/>
            <a:chOff x="2467440" y="-62640"/>
            <a:chExt cx="4533120" cy="1414080"/>
          </a:xfrm>
        </p:grpSpPr>
        <p:sp>
          <p:nvSpPr>
            <p:cNvPr id="549" name="Freeform 8"/>
            <p:cNvSpPr/>
            <p:nvPr/>
          </p:nvSpPr>
          <p:spPr>
            <a:xfrm>
              <a:off x="2500200" y="649800"/>
              <a:ext cx="4500360" cy="47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cccc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Group 9"/>
            <p:cNvGrpSpPr/>
            <p:nvPr/>
          </p:nvGrpSpPr>
          <p:grpSpPr>
            <a:xfrm>
              <a:off x="2467440" y="-62640"/>
              <a:ext cx="4336920" cy="1414080"/>
              <a:chOff x="2467440" y="-62640"/>
              <a:chExt cx="4336920" cy="1414080"/>
            </a:xfrm>
          </p:grpSpPr>
          <p:sp>
            <p:nvSpPr>
              <p:cNvPr id="551" name="Freeform 10"/>
              <p:cNvSpPr/>
              <p:nvPr/>
            </p:nvSpPr>
            <p:spPr>
              <a:xfrm rot="158400">
                <a:off x="2695320" y="118800"/>
                <a:ext cx="1173960" cy="886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38160">
                <a:solidFill>
                  <a:srgbClr val="d9d8e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1"/>
              <p:cNvSpPr/>
              <p:nvPr/>
            </p:nvSpPr>
            <p:spPr>
              <a:xfrm>
                <a:off x="3087000" y="178200"/>
                <a:ext cx="1173960" cy="82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38160">
                <a:solidFill>
                  <a:srgbClr val="cc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2"/>
              <p:cNvSpPr/>
              <p:nvPr/>
            </p:nvSpPr>
            <p:spPr>
              <a:xfrm rot="961200">
                <a:off x="2695320" y="0"/>
                <a:ext cx="586800" cy="945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9080">
                <a:solidFill>
                  <a:srgbClr val="ffcc6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3"/>
              <p:cNvSpPr/>
              <p:nvPr/>
            </p:nvSpPr>
            <p:spPr>
              <a:xfrm>
                <a:off x="3282480" y="1080"/>
                <a:ext cx="978120" cy="236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19080">
                <a:solidFill>
                  <a:srgbClr val="d9d8e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4"/>
              <p:cNvSpPr/>
              <p:nvPr/>
            </p:nvSpPr>
            <p:spPr>
              <a:xfrm>
                <a:off x="2598120" y="710280"/>
                <a:ext cx="782280" cy="531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9080">
                <a:solidFill>
                  <a:srgbClr val="d9d8e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5"/>
              <p:cNvSpPr/>
              <p:nvPr/>
            </p:nvSpPr>
            <p:spPr>
              <a:xfrm rot="1629000">
                <a:off x="2500200" y="1078560"/>
                <a:ext cx="299160" cy="21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Oval 16"/>
              <p:cNvSpPr/>
              <p:nvPr/>
            </p:nvSpPr>
            <p:spPr>
              <a:xfrm>
                <a:off x="3674160" y="60120"/>
                <a:ext cx="293400" cy="59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17"/>
              <p:cNvSpPr/>
              <p:nvPr/>
            </p:nvSpPr>
            <p:spPr>
              <a:xfrm>
                <a:off x="4163040" y="56520"/>
                <a:ext cx="2641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3300"/>
                    </a:solidFill>
                    <a:latin typeface="Times New Roman"/>
                    <a:ea typeface="黑体"/>
                  </a:rPr>
                  <a:t>课堂小结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2928960" y="714240"/>
            <a:ext cx="287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Franklin Gothic Book"/>
              </a:rPr>
              <a:t>作   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1428840" y="328608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节课就到这里，下课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3714840" y="4287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14200" y="1143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1aec"/>
                </a:solidFill>
                <a:latin typeface="宋体"/>
              </a:rPr>
              <a:t>思考：回想一下，我们学过哪些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87280" y="1935000"/>
            <a:ext cx="172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正整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934920" y="2655720"/>
            <a:ext cx="172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87280" y="3375000"/>
            <a:ext cx="172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负整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016000" y="1935000"/>
            <a:ext cx="367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如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1,2,3</a:t>
            </a: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，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2016000" y="330372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如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-1,-2,-3</a:t>
            </a: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，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87280" y="4240080"/>
            <a:ext cx="172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正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87280" y="5175360"/>
            <a:ext cx="172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负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7"/>
          <p:cNvGrpSpPr/>
          <p:nvPr/>
        </p:nvGrpSpPr>
        <p:grpSpPr>
          <a:xfrm>
            <a:off x="2087640" y="4024440"/>
            <a:ext cx="4895640" cy="1150920"/>
            <a:chOff x="2087640" y="4024440"/>
            <a:chExt cx="4895640" cy="1150920"/>
          </a:xfrm>
        </p:grpSpPr>
        <p:sp>
          <p:nvSpPr>
            <p:cNvPr id="106" name="Rectangle 13"/>
            <p:cNvSpPr/>
            <p:nvPr/>
          </p:nvSpPr>
          <p:spPr>
            <a:xfrm>
              <a:off x="2087640" y="4240440"/>
              <a:ext cx="489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如          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Object 14" descr=""/>
            <p:cNvPicPr/>
            <p:nvPr/>
          </p:nvPicPr>
          <p:blipFill>
            <a:blip r:embed="rId1"/>
            <a:stretch/>
          </p:blipFill>
          <p:spPr>
            <a:xfrm>
              <a:off x="2704680" y="4024440"/>
              <a:ext cx="82512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Object 15" descr=""/>
            <p:cNvPicPr/>
            <p:nvPr/>
          </p:nvPicPr>
          <p:blipFill>
            <a:blip r:embed="rId2"/>
            <a:stretch/>
          </p:blipFill>
          <p:spPr>
            <a:xfrm>
              <a:off x="3495240" y="4024440"/>
              <a:ext cx="82512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Object 16" descr=""/>
            <p:cNvPicPr/>
            <p:nvPr/>
          </p:nvPicPr>
          <p:blipFill>
            <a:blip r:embed="rId3"/>
            <a:stretch/>
          </p:blipFill>
          <p:spPr>
            <a:xfrm>
              <a:off x="4182840" y="4375440"/>
              <a:ext cx="1144080" cy="59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Object 17" descr=""/>
          <p:cNvPicPr/>
          <p:nvPr/>
        </p:nvPicPr>
        <p:blipFill>
          <a:blip r:embed="rId4"/>
          <a:stretch/>
        </p:blipFill>
        <p:spPr>
          <a:xfrm>
            <a:off x="5616720" y="2224080"/>
            <a:ext cx="628560" cy="1511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8"/>
          <p:cNvSpPr/>
          <p:nvPr/>
        </p:nvSpPr>
        <p:spPr>
          <a:xfrm>
            <a:off x="6191280" y="2583000"/>
            <a:ext cx="172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整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ject 19" descr=""/>
          <p:cNvPicPr/>
          <p:nvPr/>
        </p:nvPicPr>
        <p:blipFill>
          <a:blip r:embed="rId5"/>
          <a:stretch/>
        </p:blipFill>
        <p:spPr>
          <a:xfrm>
            <a:off x="5821200" y="4505400"/>
            <a:ext cx="587520" cy="10303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0"/>
          <p:cNvSpPr/>
          <p:nvPr/>
        </p:nvSpPr>
        <p:spPr>
          <a:xfrm>
            <a:off x="6264360" y="4599000"/>
            <a:ext cx="172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Object 21" descr=""/>
          <p:cNvPicPr/>
          <p:nvPr/>
        </p:nvPicPr>
        <p:blipFill>
          <a:blip r:embed="rId6"/>
          <a:stretch/>
        </p:blipFill>
        <p:spPr>
          <a:xfrm>
            <a:off x="7128000" y="3087720"/>
            <a:ext cx="628560" cy="1511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2"/>
          <p:cNvSpPr/>
          <p:nvPr/>
        </p:nvSpPr>
        <p:spPr>
          <a:xfrm>
            <a:off x="7670880" y="2928960"/>
            <a:ext cx="901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有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理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8"/>
          <p:cNvGrpSpPr/>
          <p:nvPr/>
        </p:nvGrpSpPr>
        <p:grpSpPr>
          <a:xfrm>
            <a:off x="2035080" y="5097600"/>
            <a:ext cx="4896000" cy="1150920"/>
            <a:chOff x="2035080" y="5097600"/>
            <a:chExt cx="4896000" cy="1150920"/>
          </a:xfrm>
        </p:grpSpPr>
        <p:sp>
          <p:nvSpPr>
            <p:cNvPr id="117" name="Rectangle 23"/>
            <p:cNvSpPr/>
            <p:nvPr/>
          </p:nvSpPr>
          <p:spPr>
            <a:xfrm>
              <a:off x="2035080" y="5240520"/>
              <a:ext cx="4896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如           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Object 24" descr=""/>
            <p:cNvPicPr/>
            <p:nvPr/>
          </p:nvPicPr>
          <p:blipFill>
            <a:blip r:embed="rId7"/>
            <a:stretch/>
          </p:blipFill>
          <p:spPr>
            <a:xfrm>
              <a:off x="2620800" y="5386680"/>
              <a:ext cx="123840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Object 25" descr=""/>
            <p:cNvPicPr/>
            <p:nvPr/>
          </p:nvPicPr>
          <p:blipFill>
            <a:blip r:embed="rId8"/>
            <a:stretch/>
          </p:blipFill>
          <p:spPr>
            <a:xfrm>
              <a:off x="3690720" y="5097600"/>
              <a:ext cx="108432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Object 26" descr=""/>
            <p:cNvPicPr/>
            <p:nvPr/>
          </p:nvPicPr>
          <p:blipFill>
            <a:blip r:embed="rId9"/>
            <a:stretch/>
          </p:blipFill>
          <p:spPr>
            <a:xfrm>
              <a:off x="4483080" y="5097600"/>
              <a:ext cx="1084320" cy="1150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71040"/>
            <a:ext cx="8686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思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2"/>
          <p:cNvPicPr/>
          <p:nvPr/>
        </p:nvPicPr>
        <p:blipFill>
          <a:blip r:embed="rId1"/>
          <a:srcRect l="0" t="6098" r="0" b="0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003680" y="6072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146680" y="6072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144240" y="603108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71040"/>
            <a:ext cx="8686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画图操作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0" y="1214280"/>
            <a:ext cx="87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一条东西向的马路上，有一个汽车站，汽车站东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m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7.5m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处有一棵柳树和一棵杨树，汽车站西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m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4.8m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处分别有一棵槐树和一根电线杆，试画图表示这一情境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71040"/>
            <a:ext cx="8686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0" y="107172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一条东西向的马路上，有一个汽车站，汽车站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有一棵柳树和一棵杨树，汽车站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8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分别有一棵槐树和一根电线杆，试画图表示这一情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u=3666768805,764146787&amp;gp=3"/>
          <p:cNvPicPr/>
          <p:nvPr/>
        </p:nvPicPr>
        <p:blipFill>
          <a:blip r:embed="rId1"/>
          <a:stretch/>
        </p:blipFill>
        <p:spPr>
          <a:xfrm>
            <a:off x="7596360" y="3068640"/>
            <a:ext cx="936360" cy="165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u=1057376985,3660675280&amp;gp=2"/>
          <p:cNvPicPr/>
          <p:nvPr/>
        </p:nvPicPr>
        <p:blipFill>
          <a:blip r:embed="rId2"/>
          <a:stretch/>
        </p:blipFill>
        <p:spPr>
          <a:xfrm>
            <a:off x="1835280" y="3139920"/>
            <a:ext cx="931680" cy="165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u=275440986,1574364035&amp;gp=1"/>
          <p:cNvPicPr/>
          <p:nvPr/>
        </p:nvPicPr>
        <p:blipFill>
          <a:blip r:embed="rId3"/>
          <a:stretch/>
        </p:blipFill>
        <p:spPr>
          <a:xfrm>
            <a:off x="755640" y="3139920"/>
            <a:ext cx="10778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79280" y="5443560"/>
            <a:ext cx="8425080" cy="1440"/>
            <a:chOff x="179280" y="5443560"/>
            <a:chExt cx="8425080" cy="1440"/>
          </a:xfrm>
        </p:grpSpPr>
        <p:sp>
          <p:nvSpPr>
            <p:cNvPr id="134" name="Line 10"/>
            <p:cNvSpPr/>
            <p:nvPr/>
          </p:nvSpPr>
          <p:spPr>
            <a:xfrm>
              <a:off x="179280" y="5443560"/>
              <a:ext cx="8425080" cy="144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179280" y="5443560"/>
              <a:ext cx="8425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922560" y="4722840"/>
            <a:ext cx="1800" cy="1440"/>
            <a:chOff x="3922560" y="4722840"/>
            <a:chExt cx="1800" cy="1440"/>
          </a:xfrm>
        </p:grpSpPr>
        <p:sp>
          <p:nvSpPr>
            <p:cNvPr id="137" name="Line 11"/>
            <p:cNvSpPr/>
            <p:nvPr/>
          </p:nvSpPr>
          <p:spPr>
            <a:xfrm>
              <a:off x="3922560" y="47228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3922560" y="472284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635280" y="5227560"/>
            <a:ext cx="360" cy="216000"/>
            <a:chOff x="3635280" y="5227560"/>
            <a:chExt cx="360" cy="216000"/>
          </a:xfrm>
        </p:grpSpPr>
        <p:sp>
          <p:nvSpPr>
            <p:cNvPr id="140" name="Line 12"/>
            <p:cNvSpPr/>
            <p:nvPr/>
          </p:nvSpPr>
          <p:spPr>
            <a:xfrm>
              <a:off x="3635280" y="522756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635280" y="522756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13"/>
          <p:cNvSpPr/>
          <p:nvPr/>
        </p:nvSpPr>
        <p:spPr>
          <a:xfrm>
            <a:off x="3347280" y="45990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67280" y="5227560"/>
            <a:ext cx="360" cy="216000"/>
            <a:chOff x="4067280" y="5227560"/>
            <a:chExt cx="360" cy="216000"/>
          </a:xfrm>
        </p:grpSpPr>
        <p:sp>
          <p:nvSpPr>
            <p:cNvPr id="144" name="Line 14"/>
            <p:cNvSpPr/>
            <p:nvPr/>
          </p:nvSpPr>
          <p:spPr>
            <a:xfrm>
              <a:off x="4067280" y="522756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4067280" y="522756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075280" y="5227560"/>
            <a:ext cx="1440" cy="216000"/>
            <a:chOff x="5075280" y="5227560"/>
            <a:chExt cx="1440" cy="216000"/>
          </a:xfrm>
        </p:grpSpPr>
        <p:sp>
          <p:nvSpPr>
            <p:cNvPr id="147" name="Line 15"/>
            <p:cNvSpPr/>
            <p:nvPr/>
          </p:nvSpPr>
          <p:spPr>
            <a:xfrm>
              <a:off x="5075280" y="5227560"/>
              <a:ext cx="144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5075280" y="522756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8028000" y="5227560"/>
            <a:ext cx="1440" cy="216000"/>
            <a:chOff x="8028000" y="5227560"/>
            <a:chExt cx="1440" cy="216000"/>
          </a:xfrm>
        </p:grpSpPr>
        <p:sp>
          <p:nvSpPr>
            <p:cNvPr id="150" name="Line 16"/>
            <p:cNvSpPr/>
            <p:nvPr/>
          </p:nvSpPr>
          <p:spPr>
            <a:xfrm>
              <a:off x="8028000" y="5227560"/>
              <a:ext cx="144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8028000" y="522756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122560" y="5227560"/>
            <a:ext cx="1440" cy="216000"/>
            <a:chOff x="2122560" y="5227560"/>
            <a:chExt cx="1440" cy="216000"/>
          </a:xfrm>
        </p:grpSpPr>
        <p:sp>
          <p:nvSpPr>
            <p:cNvPr id="153" name="Line 17"/>
            <p:cNvSpPr/>
            <p:nvPr/>
          </p:nvSpPr>
          <p:spPr>
            <a:xfrm>
              <a:off x="2122560" y="5227560"/>
              <a:ext cx="144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2122560" y="522756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330200" y="5227560"/>
            <a:ext cx="360" cy="216000"/>
            <a:chOff x="1330200" y="5227560"/>
            <a:chExt cx="360" cy="216000"/>
          </a:xfrm>
        </p:grpSpPr>
        <p:sp>
          <p:nvSpPr>
            <p:cNvPr id="156" name="Line 18"/>
            <p:cNvSpPr/>
            <p:nvPr/>
          </p:nvSpPr>
          <p:spPr>
            <a:xfrm>
              <a:off x="1330200" y="522756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330200" y="522756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26"/>
          <p:cNvSpPr/>
          <p:nvPr/>
        </p:nvSpPr>
        <p:spPr>
          <a:xfrm>
            <a:off x="3805560" y="458136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4818240" y="458136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8"/>
          <p:cNvSpPr/>
          <p:nvPr/>
        </p:nvSpPr>
        <p:spPr>
          <a:xfrm>
            <a:off x="7772400" y="4581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9"/>
          <p:cNvSpPr/>
          <p:nvPr/>
        </p:nvSpPr>
        <p:spPr>
          <a:xfrm>
            <a:off x="1850400" y="459900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1104120" y="46530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1" descr="站亭３"/>
          <p:cNvPicPr/>
          <p:nvPr/>
        </p:nvPicPr>
        <p:blipFill>
          <a:blip r:embed="rId4"/>
          <a:stretch/>
        </p:blipFill>
        <p:spPr>
          <a:xfrm>
            <a:off x="3059280" y="3186000"/>
            <a:ext cx="1225440" cy="1582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2" descr="柳树"/>
          <p:cNvPicPr/>
          <p:nvPr/>
        </p:nvPicPr>
        <p:blipFill>
          <a:blip r:embed="rId5"/>
          <a:stretch/>
        </p:blipFill>
        <p:spPr>
          <a:xfrm>
            <a:off x="4500720" y="3097080"/>
            <a:ext cx="1295280" cy="1654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71040"/>
            <a:ext cx="8686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画图操作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3080" y="107172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一条东西向的马路上，有一个汽车站，汽车站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有一棵柳树和一棵杨树，汽车站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8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分别有一棵槐树和一根电线杆，试画图表示这一情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u=3666768805,764146787&amp;gp=3"/>
          <p:cNvPicPr/>
          <p:nvPr/>
        </p:nvPicPr>
        <p:blipFill>
          <a:blip r:embed="rId1"/>
          <a:stretch/>
        </p:blipFill>
        <p:spPr>
          <a:xfrm>
            <a:off x="7596360" y="3068640"/>
            <a:ext cx="936360" cy="1655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u=1057376985,3660675280&amp;gp=2"/>
          <p:cNvPicPr/>
          <p:nvPr/>
        </p:nvPicPr>
        <p:blipFill>
          <a:blip r:embed="rId2"/>
          <a:stretch/>
        </p:blipFill>
        <p:spPr>
          <a:xfrm>
            <a:off x="1835280" y="3139920"/>
            <a:ext cx="931680" cy="1657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u=275440986,1574364035&amp;gp=1"/>
          <p:cNvPicPr/>
          <p:nvPr/>
        </p:nvPicPr>
        <p:blipFill>
          <a:blip r:embed="rId3"/>
          <a:stretch/>
        </p:blipFill>
        <p:spPr>
          <a:xfrm>
            <a:off x="755640" y="3139920"/>
            <a:ext cx="10778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179280" y="5443560"/>
            <a:ext cx="8425080" cy="1440"/>
            <a:chOff x="179280" y="5443560"/>
            <a:chExt cx="8425080" cy="1440"/>
          </a:xfrm>
        </p:grpSpPr>
        <p:sp>
          <p:nvSpPr>
            <p:cNvPr id="171" name="Line 10"/>
            <p:cNvSpPr/>
            <p:nvPr/>
          </p:nvSpPr>
          <p:spPr>
            <a:xfrm>
              <a:off x="179280" y="5443560"/>
              <a:ext cx="8425080" cy="144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179280" y="5443560"/>
              <a:ext cx="8425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922560" y="4722840"/>
            <a:ext cx="1800" cy="1440"/>
            <a:chOff x="3922560" y="4722840"/>
            <a:chExt cx="1800" cy="1440"/>
          </a:xfrm>
        </p:grpSpPr>
        <p:sp>
          <p:nvSpPr>
            <p:cNvPr id="174" name="Line 11"/>
            <p:cNvSpPr/>
            <p:nvPr/>
          </p:nvSpPr>
          <p:spPr>
            <a:xfrm>
              <a:off x="3922560" y="47228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3922560" y="472284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635280" y="5227560"/>
            <a:ext cx="360" cy="216000"/>
            <a:chOff x="3635280" y="5227560"/>
            <a:chExt cx="360" cy="216000"/>
          </a:xfrm>
        </p:grpSpPr>
        <p:sp>
          <p:nvSpPr>
            <p:cNvPr id="177" name="Line 12"/>
            <p:cNvSpPr/>
            <p:nvPr/>
          </p:nvSpPr>
          <p:spPr>
            <a:xfrm>
              <a:off x="3635280" y="522756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635280" y="522756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3347280" y="45990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067280" y="5227560"/>
            <a:ext cx="360" cy="216000"/>
            <a:chOff x="4067280" y="5227560"/>
            <a:chExt cx="360" cy="216000"/>
          </a:xfrm>
        </p:grpSpPr>
        <p:sp>
          <p:nvSpPr>
            <p:cNvPr id="181" name="Line 14"/>
            <p:cNvSpPr/>
            <p:nvPr/>
          </p:nvSpPr>
          <p:spPr>
            <a:xfrm>
              <a:off x="4067280" y="522756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4067280" y="522756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075280" y="5227560"/>
            <a:ext cx="1440" cy="216000"/>
            <a:chOff x="5075280" y="5227560"/>
            <a:chExt cx="1440" cy="216000"/>
          </a:xfrm>
        </p:grpSpPr>
        <p:sp>
          <p:nvSpPr>
            <p:cNvPr id="184" name="Line 15"/>
            <p:cNvSpPr/>
            <p:nvPr/>
          </p:nvSpPr>
          <p:spPr>
            <a:xfrm>
              <a:off x="5075280" y="5227560"/>
              <a:ext cx="144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5075280" y="522756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28000" y="5227560"/>
            <a:ext cx="1440" cy="216000"/>
            <a:chOff x="8028000" y="5227560"/>
            <a:chExt cx="1440" cy="216000"/>
          </a:xfrm>
        </p:grpSpPr>
        <p:sp>
          <p:nvSpPr>
            <p:cNvPr id="187" name="Line 16"/>
            <p:cNvSpPr/>
            <p:nvPr/>
          </p:nvSpPr>
          <p:spPr>
            <a:xfrm>
              <a:off x="8028000" y="5227560"/>
              <a:ext cx="144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8028000" y="522756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122560" y="5227560"/>
            <a:ext cx="1440" cy="216000"/>
            <a:chOff x="2122560" y="5227560"/>
            <a:chExt cx="1440" cy="216000"/>
          </a:xfrm>
        </p:grpSpPr>
        <p:sp>
          <p:nvSpPr>
            <p:cNvPr id="190" name="Line 17"/>
            <p:cNvSpPr/>
            <p:nvPr/>
          </p:nvSpPr>
          <p:spPr>
            <a:xfrm>
              <a:off x="2122560" y="5227560"/>
              <a:ext cx="144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2122560" y="522756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330200" y="5227560"/>
            <a:ext cx="360" cy="216000"/>
            <a:chOff x="1330200" y="5227560"/>
            <a:chExt cx="360" cy="216000"/>
          </a:xfrm>
        </p:grpSpPr>
        <p:sp>
          <p:nvSpPr>
            <p:cNvPr id="193" name="Line 18"/>
            <p:cNvSpPr/>
            <p:nvPr/>
          </p:nvSpPr>
          <p:spPr>
            <a:xfrm>
              <a:off x="1330200" y="522756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1330200" y="522756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9"/>
          <p:cNvSpPr/>
          <p:nvPr/>
        </p:nvSpPr>
        <p:spPr>
          <a:xfrm>
            <a:off x="3419640" y="5373720"/>
            <a:ext cx="3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3907440" y="5373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4844160" y="5338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7547760" y="538956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7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1866240" y="533880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753480" y="5318280"/>
            <a:ext cx="10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-4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3805560" y="458136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4818240" y="458136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7772400" y="4581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850400" y="459900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1104120" y="46530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1" descr="站亭３"/>
          <p:cNvPicPr/>
          <p:nvPr/>
        </p:nvPicPr>
        <p:blipFill>
          <a:blip r:embed="rId4"/>
          <a:stretch/>
        </p:blipFill>
        <p:spPr>
          <a:xfrm>
            <a:off x="3059280" y="3186000"/>
            <a:ext cx="1225440" cy="1582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2" descr="柳树"/>
          <p:cNvPicPr/>
          <p:nvPr/>
        </p:nvPicPr>
        <p:blipFill>
          <a:blip r:embed="rId5"/>
          <a:stretch/>
        </p:blipFill>
        <p:spPr>
          <a:xfrm>
            <a:off x="4500720" y="3097080"/>
            <a:ext cx="1295280" cy="1654200"/>
          </a:xfrm>
          <a:prstGeom prst="rect">
            <a:avLst/>
          </a:prstGeom>
          <a:ln w="0">
            <a:noFill/>
          </a:ln>
        </p:spPr>
      </p:pic>
      <p:sp>
        <p:nvSpPr>
          <p:cNvPr id="208" name="标题 1"/>
          <p:cNvSpPr/>
          <p:nvPr/>
        </p:nvSpPr>
        <p:spPr>
          <a:xfrm>
            <a:off x="214200" y="2428920"/>
            <a:ext cx="8686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怎样用数简明的表示这些树，电线杆和车站的位置？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671040"/>
            <a:ext cx="8686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展开联想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755640" y="213372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Franklin Gothic Book"/>
              </a:rPr>
              <a:t>我们是否可以用一条直线上的一些点表示有理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71040"/>
            <a:ext cx="8686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展开联想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928800" y="13572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Franklin Gothic Book"/>
              </a:rPr>
              <a:t>我们是否可以用一条直线上的一些点表示有理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071720" y="300024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Franklin Gothic Book"/>
              </a:rPr>
              <a:t>在数学中，通常用一条直线上的点表示数，这条直线叫做数轴，它满足以下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4"/>
          <p:cNvGrpSpPr/>
          <p:nvPr/>
        </p:nvGrpSpPr>
        <p:grpSpPr>
          <a:xfrm>
            <a:off x="1587600" y="1968120"/>
            <a:ext cx="5867280" cy="688680"/>
            <a:chOff x="1587600" y="1968120"/>
            <a:chExt cx="5867280" cy="688680"/>
          </a:xfrm>
        </p:grpSpPr>
        <p:grpSp>
          <p:nvGrpSpPr>
            <p:cNvPr id="215" name=""/>
            <p:cNvGrpSpPr/>
            <p:nvPr/>
          </p:nvGrpSpPr>
          <p:grpSpPr>
            <a:xfrm>
              <a:off x="1587600" y="2273400"/>
              <a:ext cx="5867280" cy="1440"/>
              <a:chOff x="1587600" y="2273400"/>
              <a:chExt cx="5867280" cy="1440"/>
            </a:xfrm>
          </p:grpSpPr>
          <p:sp>
            <p:nvSpPr>
              <p:cNvPr id="216" name="Line 5"/>
              <p:cNvSpPr/>
              <p:nvPr/>
            </p:nvSpPr>
            <p:spPr>
              <a:xfrm>
                <a:off x="1587600" y="2273400"/>
                <a:ext cx="58672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1587600" y="2273400"/>
                <a:ext cx="5867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187800" y="2120760"/>
              <a:ext cx="1440" cy="152640"/>
              <a:chOff x="3187800" y="2120760"/>
              <a:chExt cx="1440" cy="152640"/>
            </a:xfrm>
          </p:grpSpPr>
          <p:sp>
            <p:nvSpPr>
              <p:cNvPr id="219" name="Line 6"/>
              <p:cNvSpPr/>
              <p:nvPr/>
            </p:nvSpPr>
            <p:spPr>
              <a:xfrm flipV="1">
                <a:off x="3187800" y="212076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 rot="10800000">
                <a:off x="3187800" y="2120760"/>
                <a:ext cx="144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235920" y="2120760"/>
              <a:ext cx="1440" cy="152640"/>
              <a:chOff x="6235920" y="2120760"/>
              <a:chExt cx="1440" cy="152640"/>
            </a:xfrm>
          </p:grpSpPr>
          <p:sp>
            <p:nvSpPr>
              <p:cNvPr id="222" name="Line 7"/>
              <p:cNvSpPr/>
              <p:nvPr/>
            </p:nvSpPr>
            <p:spPr>
              <a:xfrm flipV="1">
                <a:off x="6235920" y="212076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 rot="10800000">
                <a:off x="6235920" y="2120760"/>
                <a:ext cx="144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3796920" y="2120760"/>
              <a:ext cx="2160" cy="152640"/>
              <a:chOff x="3796920" y="2120760"/>
              <a:chExt cx="2160" cy="152640"/>
            </a:xfrm>
          </p:grpSpPr>
          <p:sp>
            <p:nvSpPr>
              <p:cNvPr id="225" name="Line 8"/>
              <p:cNvSpPr/>
              <p:nvPr/>
            </p:nvSpPr>
            <p:spPr>
              <a:xfrm flipV="1">
                <a:off x="3797280" y="2120760"/>
                <a:ext cx="180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 rot="10800000">
                <a:off x="3796920" y="2120760"/>
                <a:ext cx="180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625720" y="2120760"/>
              <a:ext cx="2160" cy="152640"/>
              <a:chOff x="5625720" y="2120760"/>
              <a:chExt cx="2160" cy="152640"/>
            </a:xfrm>
          </p:grpSpPr>
          <p:sp>
            <p:nvSpPr>
              <p:cNvPr id="228" name="Line 9"/>
              <p:cNvSpPr/>
              <p:nvPr/>
            </p:nvSpPr>
            <p:spPr>
              <a:xfrm flipV="1">
                <a:off x="5626080" y="2120760"/>
                <a:ext cx="180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 rot="10800000">
                <a:off x="5625720" y="2120760"/>
                <a:ext cx="180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016600" y="2120760"/>
              <a:ext cx="1440" cy="152640"/>
              <a:chOff x="5016600" y="2120760"/>
              <a:chExt cx="1440" cy="152640"/>
            </a:xfrm>
          </p:grpSpPr>
          <p:sp>
            <p:nvSpPr>
              <p:cNvPr id="231" name="Line 10"/>
              <p:cNvSpPr/>
              <p:nvPr/>
            </p:nvSpPr>
            <p:spPr>
              <a:xfrm flipV="1">
                <a:off x="5016600" y="212076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 rot="10800000">
                <a:off x="5016600" y="2120760"/>
                <a:ext cx="144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968120" y="2120760"/>
              <a:ext cx="2160" cy="152640"/>
              <a:chOff x="1968120" y="2120760"/>
              <a:chExt cx="2160" cy="152640"/>
            </a:xfrm>
          </p:grpSpPr>
          <p:sp>
            <p:nvSpPr>
              <p:cNvPr id="234" name="Line 11"/>
              <p:cNvSpPr/>
              <p:nvPr/>
            </p:nvSpPr>
            <p:spPr>
              <a:xfrm flipV="1">
                <a:off x="1968480" y="2120760"/>
                <a:ext cx="180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 rot="10800000">
                <a:off x="1968120" y="2120760"/>
                <a:ext cx="180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578320" y="2120760"/>
              <a:ext cx="1440" cy="152640"/>
              <a:chOff x="2578320" y="2120760"/>
              <a:chExt cx="1440" cy="152640"/>
            </a:xfrm>
          </p:grpSpPr>
          <p:sp>
            <p:nvSpPr>
              <p:cNvPr id="237" name="Line 12"/>
              <p:cNvSpPr/>
              <p:nvPr/>
            </p:nvSpPr>
            <p:spPr>
              <a:xfrm flipV="1">
                <a:off x="2578320" y="212076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 rot="10800000">
                <a:off x="2578320" y="2120760"/>
                <a:ext cx="144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6845400" y="2120760"/>
              <a:ext cx="1440" cy="152640"/>
              <a:chOff x="6845400" y="2120760"/>
              <a:chExt cx="1440" cy="152640"/>
            </a:xfrm>
          </p:grpSpPr>
          <p:sp>
            <p:nvSpPr>
              <p:cNvPr id="240" name="Line 13"/>
              <p:cNvSpPr/>
              <p:nvPr/>
            </p:nvSpPr>
            <p:spPr>
              <a:xfrm flipV="1">
                <a:off x="6845400" y="212076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 rot="10800000">
                <a:off x="6845400" y="2120760"/>
                <a:ext cx="144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407120" y="1968120"/>
              <a:ext cx="1440" cy="304920"/>
              <a:chOff x="4407120" y="1968120"/>
              <a:chExt cx="1440" cy="304920"/>
            </a:xfrm>
          </p:grpSpPr>
          <p:sp>
            <p:nvSpPr>
              <p:cNvPr id="243" name="Line 14"/>
              <p:cNvSpPr/>
              <p:nvPr/>
            </p:nvSpPr>
            <p:spPr>
              <a:xfrm flipV="1">
                <a:off x="4407120" y="1968120"/>
                <a:ext cx="144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 rot="10800000">
                <a:off x="4407120" y="19681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Text Box 15"/>
            <p:cNvSpPr/>
            <p:nvPr/>
          </p:nvSpPr>
          <p:spPr>
            <a:xfrm>
              <a:off x="4254480" y="219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6"/>
            <p:cNvSpPr/>
            <p:nvPr/>
          </p:nvSpPr>
          <p:spPr>
            <a:xfrm>
              <a:off x="4864320" y="219708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17"/>
          <p:cNvSpPr/>
          <p:nvPr/>
        </p:nvSpPr>
        <p:spPr>
          <a:xfrm>
            <a:off x="574560" y="2852640"/>
            <a:ext cx="8569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画一条水平直线，在直线上取一点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叫原点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规定直线上向右的方向为正方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选取一长度作为单位长度，就得到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数轴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07:16:49Z</dcterms:created>
  <dc:creator/>
  <dc:description/>
  <dc:language>en-US</dc:language>
  <cp:lastModifiedBy>微软用户</cp:lastModifiedBy>
  <dcterms:modified xsi:type="dcterms:W3CDTF">2014-12-06T05:36:56Z</dcterms:modified>
  <cp:revision>1</cp:revision>
  <dc:subject/>
  <dc:title/>
</cp:coreProperties>
</file>