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.jpeg" ContentType="image/jpeg"/>
  <Override PartName="/ppt/media/type.wav" ContentType="audio/x-wav"/>
  <Override PartName="/ppt/media/image2.png" ContentType="image/png"/>
  <Override PartName="/ppt/media/image9.jpeg" ContentType="image/jpeg"/>
  <Override PartName="/ppt/media/image11.jpeg" ContentType="image/jpeg"/>
  <Override PartName="/ppt/media/chimes.wav" ContentType="audio/x-wav"/>
  <Override PartName="/ppt/media/image3.wmf" ContentType="image/x-wmf"/>
  <Override PartName="/ppt/media/image4.png" ContentType="image/png"/>
  <Override PartName="/ppt/media/camera.wav" ContentType="audio/x-wav"/>
  <Override PartName="/ppt/media/image10.png" ContentType="image/png"/>
  <Override PartName="/ppt/media/image6.jpeg" ContentType="image/jpeg"/>
  <Override PartName="/ppt/media/image5.wmf" ContentType="image/x-wm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image" Target="../media/image7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jpe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1.3.1 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有理数的加法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(1)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4000" y="2282760"/>
            <a:ext cx="500364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+ 8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- 5 )    +   ( - 3)   = -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5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3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=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 3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= 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5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- 5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+     0    = -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5867280" y="2716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号两数相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5724360" y="40114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异号两数相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57405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一数与零相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179280" y="843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观察下面式子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你可以把有理数的加法分成几种类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67160" y="501984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互为相反数相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364000" y="2500200"/>
            <a:ext cx="279720" cy="935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5076720" y="3651120"/>
            <a:ext cx="432000" cy="1224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788000" y="530064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0560" y="602784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96720" y="3200400"/>
            <a:ext cx="47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 )   +   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6 )    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6720" y="3962520"/>
            <a:ext cx="48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8 )   +   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6 )    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6360" y="2462040"/>
            <a:ext cx="5065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5)     +   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5) 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2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6360" y="1676520"/>
            <a:ext cx="540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)     +    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3)     =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2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67480" y="54864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907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以下算式你能得出同号两数相加的法则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522936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把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绝对值相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472428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数相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相同的符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364000" y="2133360"/>
            <a:ext cx="3887640" cy="2159280"/>
            <a:chOff x="5364000" y="2133360"/>
            <a:chExt cx="3887640" cy="2159280"/>
          </a:xfrm>
        </p:grpSpPr>
        <p:sp>
          <p:nvSpPr>
            <p:cNvPr id="250" name=""/>
            <p:cNvSpPr/>
            <p:nvPr/>
          </p:nvSpPr>
          <p:spPr>
            <a:xfrm flipH="1">
              <a:off x="5434920" y="3068640"/>
              <a:ext cx="2232360" cy="1224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364000" y="2133360"/>
              <a:ext cx="3887640" cy="1450800"/>
              <a:chOff x="5364000" y="2133360"/>
              <a:chExt cx="3887640" cy="145080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5724360" y="2133360"/>
                <a:ext cx="1943280" cy="934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5434920" y="2923920"/>
                <a:ext cx="2232360" cy="144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364000" y="3068640"/>
                <a:ext cx="2232000" cy="432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59640" y="2637000"/>
                <a:ext cx="1692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ahoma"/>
                  </a:rPr>
                  <a:t>这个符号是怎么来的呢？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77240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1773360"/>
            <a:ext cx="548640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5)   + ( -3 )  =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3)    + (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 )  =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)   + 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9 ) =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11)  +  (+4 ) =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55897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并用较大的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绝对值减去较小的绝对值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4724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异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数相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765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从以下算式你能得出异号两数相加的法则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435280" y="1268280"/>
            <a:ext cx="3708720" cy="2665440"/>
            <a:chOff x="5435280" y="1268280"/>
            <a:chExt cx="3708720" cy="2665440"/>
          </a:xfrm>
        </p:grpSpPr>
        <p:sp>
          <p:nvSpPr>
            <p:cNvPr id="262" name=""/>
            <p:cNvSpPr/>
            <p:nvPr/>
          </p:nvSpPr>
          <p:spPr>
            <a:xfrm flipH="1">
              <a:off x="5508720" y="1773000"/>
              <a:ext cx="2016000" cy="216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435280" y="1268280"/>
              <a:ext cx="3708720" cy="2016000"/>
              <a:chOff x="5435280" y="1268280"/>
              <a:chExt cx="3708720" cy="2016000"/>
            </a:xfrm>
          </p:grpSpPr>
          <p:sp>
            <p:nvSpPr>
              <p:cNvPr id="264" name=""/>
              <p:cNvSpPr/>
              <p:nvPr/>
            </p:nvSpPr>
            <p:spPr>
              <a:xfrm flipH="1">
                <a:off x="5580000" y="1773000"/>
                <a:ext cx="1944720" cy="144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5435280" y="1773000"/>
                <a:ext cx="2089080" cy="863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435280" y="1773000"/>
                <a:ext cx="2089080" cy="1511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51640" y="1268280"/>
                <a:ext cx="1692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ahoma"/>
                  </a:rPr>
                  <a:t>这个符号是怎么来的呢？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3931200" y="4797360"/>
            <a:ext cx="33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绝对值较大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加数的符号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58920" y="1557360"/>
            <a:ext cx="548640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5)   + ( -5 )  =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-3)    + (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 )  =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765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从以下算式你能得出什么法则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465300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互为相反数的两个数相加得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7360" y="5516640"/>
            <a:ext cx="31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一个数同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相加，仍得这个数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299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)   +  0 =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  +  (-4 ) =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4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700280"/>
            <a:ext cx="856908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数相加，取相同的符号，并把绝对值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相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异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数相加，取绝对值较大的加数的符号，并用较大的绝对值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减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较小的绝对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互为相反数的两个数相加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数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加，仍得这个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5661000"/>
            <a:ext cx="813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认为哪一种情况比较复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34720" y="981000"/>
            <a:ext cx="237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有理数加法法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75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4920" y="4046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析特征   强化理解   总结步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268280"/>
            <a:ext cx="87631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 -  4 )  +  ( -  8 ) =  -  ( 4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8 )= -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↓           ↓          ↓       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数相加      取相同符号    两个加数的绝对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 -  9 ) + (+ 2)    =  -   ( 9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2) =  -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↓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↓          ↓       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异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数相加     取绝对值较大    两个加数的绝对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符号               由大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减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544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号两数之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名符其实的和，做加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号两数之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面上叫“和”，其实是做减法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106668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676520"/>
            <a:ext cx="89154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 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8)+(+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5680" y="907920"/>
            <a:ext cx="2152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： 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245124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438280"/>
            <a:ext cx="4648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解： 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3124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9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3733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3138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8+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69480" y="312588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27720" y="31417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18200" y="42400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835280" y="907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39640" y="1773360"/>
                <a:ext cx="76327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68360" y="2997360"/>
                <a:ext cx="417492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003640" y="3284640"/>
          <a:ext cx="38880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3284640"/>
                    <a:ext cx="38880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250920" y="907920"/>
            <a:ext cx="16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64000" y="3067200"/>
            <a:ext cx="3097440" cy="103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请注意书写格式</a:t>
            </a: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!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68360" y="765000"/>
                <a:ext cx="82072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、</m:t>
                    </m:r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2</m:t>
                          </m:r>
                          <m:r>
                            <m:t xml:space="preserve">、</m:t>
                          </m:r>
                          <m:m>
                            <m:mr>
                              <m:e/>
                            </m:mr>
                          </m:m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68360" y="1916280"/>
                <a:ext cx="4608360" cy="23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、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解：</m:t>
                              </m:r>
                            </m:e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原式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68360" y="4292640"/>
                <a:ext cx="604836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、解：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原式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）</m:t>
                        </m:r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</m:mr>
                                    </m:m>
                                  </m:e>
                                  <m:e/>
                                </m:mr>
                              </m:m>
                            </m:e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971800" y="1447920"/>
            <a:ext cx="184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1052640"/>
            <a:ext cx="7138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直接写出结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5    +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2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1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0.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1.5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7  +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3.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一比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看谁最巧快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38880" y="1762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38880" y="25239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91160" y="3286080"/>
            <a:ext cx="10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15200" y="4002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0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3640" y="1773360"/>
            <a:ext cx="7812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比较下列各数的大小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______4    7____-4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-7_____4   -7_____-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如果向东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记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那么向西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.                                         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已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=-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=+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_______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已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=-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=+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_______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1981080" y="609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981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温故知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3429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0920" y="4292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92560" y="5156280"/>
            <a:ext cx="5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2060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82920" y="21398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25002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82920" y="25718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4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95280" y="64008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1413000"/>
            <a:ext cx="7200720" cy="31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有理数的加法法则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一个有理数由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符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绝对值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个部分组成的，在进行同号或异号两个有理数相加时，首先判断加法类型，再确定和的符号，最后确定绝对值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还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减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 ( -6 ) + ( -8 ) ; (2)  5.2  +  (- 4.5) ;  (3)        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7440" cy="53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经典行楷简"/>
                <a:ea typeface="经典行楷简"/>
              </a:rPr>
              <a:t>巩固练习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计算下列各题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300720" y="1413000"/>
                <a:ext cx="53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、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解：原式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−</m:t>
                        </m:r>
                        <m:r>
                          <m:t xml:space="preserve">（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）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380360" y="1413000"/>
                <a:ext cx="59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、解：原式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（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）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）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900000" y="2924280"/>
            <a:ext cx="773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口算下列各题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1)(-4)+(-7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2)(+4)+(-7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3)(-4)+(+7)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4)(+4)+(-4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5)(-9)+(+2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6)(-9)+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4796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162920" y="5181480"/>
          <a:ext cx="164772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181480"/>
                    <a:ext cx="16477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924280"/>
            <a:ext cx="647640" cy="533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299736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0" y="333360"/>
          <a:ext cx="914400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2670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7956720" y="189000"/>
          <a:ext cx="9903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189000"/>
                    <a:ext cx="9903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154764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051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268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经典行楷简"/>
              </a:rPr>
              <a:t>拓展迁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03280" y="2421000"/>
            <a:ext cx="67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=3     |b|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号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299736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32000" y="3645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+|b|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465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&gt;0,b&lt;0, |a|&lt;|b|,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+b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           ）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3514680" cy="3514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7600" y="293400"/>
            <a:ext cx="3584520" cy="7398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经典行楷简"/>
              </a:rPr>
              <a:t>学有所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332000" y="1628640"/>
            <a:ext cx="698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想一想：在有理数的加法运算中，和与加数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若</a:t>
            </a: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|a -2|+|b+3|=0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则 </a:t>
            </a: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=(       )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=(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0000" y="2708280"/>
            <a:ext cx="7272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94040" indent="-1994040" algn="ctr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再     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5226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规定：   向东为正     向西为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28800" cy="81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922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动脑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916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在一条东西向的跑道上，先走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又走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能否确定他现在位于原来位置的哪个方向，与原来位置相距多少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9360" y="4437000"/>
            <a:ext cx="71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因为小明最后的位置与行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方向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有关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112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探索新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9450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哪几种不同的情况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342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二位同学来做数学游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其他同学根据游戏写出数学式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并计算出结果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6000"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463400"/>
            <a:ext cx="85345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 向东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再向东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两次一共向东走了多少米 ？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6580080" y="3759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87840" y="5151600"/>
            <a:ext cx="33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+5)+(+3)=+8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03520" y="33019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3284640"/>
            <a:ext cx="1440" cy="398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03520" y="337824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40720" y="3357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13400" y="337824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703520" y="3759120"/>
            <a:ext cx="6037200" cy="1295280"/>
            <a:chOff x="1703520" y="3759120"/>
            <a:chExt cx="6037200" cy="1295280"/>
          </a:xfrm>
        </p:grpSpPr>
        <p:sp>
          <p:nvSpPr>
            <p:cNvPr id="67" name=""/>
            <p:cNvSpPr/>
            <p:nvPr/>
          </p:nvSpPr>
          <p:spPr>
            <a:xfrm>
              <a:off x="1703520" y="383544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23440" y="375912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03520" y="4444920"/>
              <a:ext cx="6037200" cy="609480"/>
            </a:xfrm>
            <a:prstGeom prst="rightArrow">
              <a:avLst>
                <a:gd name="adj1" fmla="val 50000"/>
                <a:gd name="adj2" fmla="val 24763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700360" y="278136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27813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8366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情形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853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79280" y="3530520"/>
            <a:ext cx="8763120" cy="764640"/>
            <a:chOff x="179280" y="3530520"/>
            <a:chExt cx="8763120" cy="764640"/>
          </a:xfrm>
        </p:grpSpPr>
        <p:sp>
          <p:nvSpPr>
            <p:cNvPr id="75" name=""/>
            <p:cNvSpPr/>
            <p:nvPr/>
          </p:nvSpPr>
          <p:spPr>
            <a:xfrm>
              <a:off x="865080" y="383544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1       2        3        4        5        6        7      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179280" y="3530520"/>
              <a:ext cx="8763120" cy="459720"/>
              <a:chOff x="179280" y="3530520"/>
              <a:chExt cx="8763120" cy="4597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712800" y="3530520"/>
                <a:ext cx="8229600" cy="459720"/>
                <a:chOff x="712800" y="3530520"/>
                <a:chExt cx="8229600" cy="4597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712800" y="3759120"/>
                  <a:ext cx="7772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65280" y="36828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151080" y="36828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3913200" y="36828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675320" y="36828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199200" y="3682800"/>
                  <a:ext cx="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703520" y="36828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961320" y="36828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437080" y="36828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941400" y="36828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85200" y="3530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Tahoma"/>
                      <a:ea typeface="黑体"/>
                    </a:rPr>
                    <a:t>东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179280" y="35305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4204800" y="404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+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4072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向西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再向西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两次一共向东走了多少米 ？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7596360" y="3187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32590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3187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886200" y="3241800"/>
            <a:ext cx="3733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00200" y="324180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43084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438480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537080"/>
            <a:ext cx="6019920" cy="533520"/>
          </a:xfrm>
          <a:prstGeom prst="leftArrow">
            <a:avLst>
              <a:gd name="adj1" fmla="val 50000"/>
              <a:gd name="adj2" fmla="val 2820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70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708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52228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5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= -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3470400"/>
            <a:ext cx="8534520" cy="705240"/>
            <a:chOff x="457200" y="3470400"/>
            <a:chExt cx="8534520" cy="705240"/>
          </a:xfrm>
        </p:grpSpPr>
        <p:grpSp>
          <p:nvGrpSpPr>
            <p:cNvPr id="105" name=""/>
            <p:cNvGrpSpPr/>
            <p:nvPr/>
          </p:nvGrpSpPr>
          <p:grpSpPr>
            <a:xfrm>
              <a:off x="990720" y="3546360"/>
              <a:ext cx="7619760" cy="629280"/>
              <a:chOff x="990720" y="3546360"/>
              <a:chExt cx="7619760" cy="629280"/>
            </a:xfrm>
          </p:grpSpPr>
          <p:sp>
            <p:nvSpPr>
              <p:cNvPr id="106" name=""/>
              <p:cNvSpPr/>
              <p:nvPr/>
            </p:nvSpPr>
            <p:spPr>
              <a:xfrm>
                <a:off x="990720" y="371592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8      -7      -6       -5      -4       -3      -2        -1 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142640" y="3546360"/>
                <a:ext cx="7391160" cy="151920"/>
                <a:chOff x="1142640" y="3546360"/>
                <a:chExt cx="7391160" cy="1519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142640" y="3698280"/>
                  <a:ext cx="739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1599480" y="3546360"/>
                  <a:ext cx="6705360" cy="151920"/>
                  <a:chOff x="1599480" y="3546360"/>
                  <a:chExt cx="6705360" cy="15192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1599480" y="3546360"/>
                    <a:ext cx="0" cy="151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284920" y="3546360"/>
                    <a:ext cx="0" cy="151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047040" y="3622320"/>
                    <a:ext cx="0" cy="75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808800" y="3546360"/>
                    <a:ext cx="0" cy="151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570920" y="3546360"/>
                    <a:ext cx="0" cy="151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5333040" y="3546360"/>
                    <a:ext cx="0" cy="151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094800" y="3546360"/>
                    <a:ext cx="0" cy="151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856920" y="3622320"/>
                    <a:ext cx="0" cy="75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19040" y="3546360"/>
                    <a:ext cx="0" cy="151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8304840" y="3546360"/>
                    <a:ext cx="0" cy="151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0" name=""/>
            <p:cNvSpPr/>
            <p:nvPr/>
          </p:nvSpPr>
          <p:spPr>
            <a:xfrm>
              <a:off x="8534520" y="347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</a:rPr>
                <a:t>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347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7200" y="7938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情形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4200" y="41324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1844640"/>
            <a:ext cx="845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向东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再向西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两次一共向东走了多少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36640" y="5105520"/>
            <a:ext cx="44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33354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3141720"/>
            <a:ext cx="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544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1520" y="3259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095880" y="34110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33920" y="318276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809880" y="314172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2644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43210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3210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02320"/>
            <a:ext cx="1447920" cy="304560"/>
          </a:xfrm>
          <a:prstGeom prst="rightArrow">
            <a:avLst>
              <a:gd name="adj1" fmla="val 50000"/>
              <a:gd name="adj2" fmla="val 11885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00400" y="3357720"/>
            <a:ext cx="3809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95280" y="3595680"/>
            <a:ext cx="8229600" cy="666000"/>
            <a:chOff x="395280" y="3595680"/>
            <a:chExt cx="8229600" cy="666000"/>
          </a:xfrm>
        </p:grpSpPr>
        <p:sp>
          <p:nvSpPr>
            <p:cNvPr id="139" name=""/>
            <p:cNvSpPr/>
            <p:nvPr/>
          </p:nvSpPr>
          <p:spPr>
            <a:xfrm>
              <a:off x="547560" y="380196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0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        2        3        4         5   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2480" y="380196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4600" y="372600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00400" y="372600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86200" y="372600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47960" y="372600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86400" y="36496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48160" y="36496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10280" y="36496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72400" y="3726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67680" y="35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5280" y="35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50920" y="981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情形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54640" y="4191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1557360"/>
            <a:ext cx="845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向东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再向西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两次一共向东走了多少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334120"/>
            <a:ext cx="5029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400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213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4290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276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590920" y="3200040"/>
            <a:ext cx="3852720" cy="1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317484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3434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43434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47242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3657600"/>
            <a:ext cx="7620120" cy="688320"/>
            <a:chOff x="838080" y="3657600"/>
            <a:chExt cx="7620120" cy="688320"/>
          </a:xfrm>
        </p:grpSpPr>
        <p:sp>
          <p:nvSpPr>
            <p:cNvPr id="166" name=""/>
            <p:cNvSpPr/>
            <p:nvPr/>
          </p:nvSpPr>
          <p:spPr>
            <a:xfrm>
              <a:off x="1600200" y="3886200"/>
              <a:ext cx="63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       -2      -1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1        2          3   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838080" y="3657600"/>
              <a:ext cx="7620120" cy="685800"/>
              <a:chOff x="838080" y="3657600"/>
              <a:chExt cx="7620120" cy="685800"/>
            </a:xfrm>
          </p:grpSpPr>
          <p:sp>
            <p:nvSpPr>
              <p:cNvPr id="168" name=""/>
              <p:cNvSpPr/>
              <p:nvPr/>
            </p:nvSpPr>
            <p:spPr>
              <a:xfrm>
                <a:off x="1447560" y="3886200"/>
                <a:ext cx="6553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00200" y="3886200"/>
                <a:ext cx="6476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04760" y="3733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90560" y="3733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52680" y="3733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14800" y="3733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876560" y="3733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38680" y="3733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76760" y="3733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238880" y="3733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0100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东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8080" y="3657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24000" y="907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情形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03120" y="42894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80" y="1773360"/>
            <a:ext cx="8761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向东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再向西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两次一共向东走了多少米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4797360"/>
            <a:ext cx="4270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74800" y="355284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61000" y="34797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74800" y="3573360"/>
            <a:ext cx="3810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673000" y="3432240"/>
            <a:ext cx="3809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2924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60760" y="3497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39640" y="3736800"/>
            <a:ext cx="8002440" cy="764640"/>
            <a:chOff x="539640" y="3736800"/>
            <a:chExt cx="8002440" cy="764640"/>
          </a:xfrm>
        </p:grpSpPr>
        <p:sp>
          <p:nvSpPr>
            <p:cNvPr id="191" name=""/>
            <p:cNvSpPr/>
            <p:nvPr/>
          </p:nvSpPr>
          <p:spPr>
            <a:xfrm>
              <a:off x="922320" y="40417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1         2        3       4         5       6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39640" y="3736800"/>
              <a:ext cx="8001000" cy="520560"/>
              <a:chOff x="539640" y="3736800"/>
              <a:chExt cx="800100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1074600" y="3989160"/>
                <a:ext cx="7086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89000" y="3912840"/>
                <a:ext cx="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74800" y="38368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6920" y="38368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98680" y="38368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60800" y="38368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22920" y="38368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61000" y="38368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46800" y="38368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083440" y="3736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ahoma"/>
                  </a:rPr>
                  <a:t>东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640" y="3736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250920" y="981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另外两种情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1700280"/>
            <a:ext cx="8305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向西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再向东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两次一共向东走了多少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334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0=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016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712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66688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627280" y="3429000"/>
            <a:ext cx="3889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57760" y="2849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4549680"/>
            <a:ext cx="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4549680"/>
            <a:ext cx="0" cy="93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4648320"/>
            <a:ext cx="3810240" cy="533160"/>
          </a:xfrm>
          <a:prstGeom prst="leftArrow">
            <a:avLst>
              <a:gd name="adj1" fmla="val 50000"/>
              <a:gd name="adj2" fmla="val 17866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85800" y="3581280"/>
            <a:ext cx="8076960" cy="795240"/>
            <a:chOff x="685800" y="3581280"/>
            <a:chExt cx="8076960" cy="795240"/>
          </a:xfrm>
        </p:grpSpPr>
        <p:grpSp>
          <p:nvGrpSpPr>
            <p:cNvPr id="216" name=""/>
            <p:cNvGrpSpPr/>
            <p:nvPr/>
          </p:nvGrpSpPr>
          <p:grpSpPr>
            <a:xfrm>
              <a:off x="1295280" y="3581280"/>
              <a:ext cx="7467480" cy="795240"/>
              <a:chOff x="1295280" y="3581280"/>
              <a:chExt cx="7467480" cy="795240"/>
            </a:xfrm>
          </p:grpSpPr>
          <p:sp>
            <p:nvSpPr>
              <p:cNvPr id="217" name=""/>
              <p:cNvSpPr/>
              <p:nvPr/>
            </p:nvSpPr>
            <p:spPr>
              <a:xfrm>
                <a:off x="1295280" y="3863880"/>
                <a:ext cx="693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60320" y="3919320"/>
                <a:ext cx="6492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66880" y="3787560"/>
                <a:ext cx="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29000" y="37116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14800" y="37116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560" y="37116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37116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76760" y="37116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315200" y="37116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50920" y="3860640"/>
                <a:ext cx="609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5      -4      -3       -2      -1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305560" y="3581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东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85800" y="3657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68360" y="907920"/>
            <a:ext cx="39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另外两种情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77880" y="42894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3:54:16Z</dcterms:created>
  <dc:creator>Administrator</dc:creator>
  <dc:description/>
  <cp:keywords/>
  <dc:language>en-US</dc:language>
  <cp:lastModifiedBy>User</cp:lastModifiedBy>
  <cp:lastPrinted>1899-12-30T00:00:00Z</cp:lastPrinted>
  <dcterms:modified xsi:type="dcterms:W3CDTF">2014-11-11T08:13:35Z</dcterms:modified>
  <cp:revision>1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