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1.4.1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有理数的乘法（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9079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计算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2781360"/>
            <a:ext cx="705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95280" y="1844640"/>
                <a:ext cx="79916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5</m:t>
                    </m:r>
                    <m:r>
                      <m:t xml:space="preserve">×</m:t>
                    </m:r>
                    <m:r>
                      <m:t xml:space="preserve">（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）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4000" y="2997360"/>
                <a:ext cx="8135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50920" y="4005360"/>
                <a:ext cx="5257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053080" y="5157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836640"/>
            <a:ext cx="69120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.  (-0.5) ×(-1) ×( -              )×(-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.  78.6×(-0.34) ×2005×0×(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32360" y="1603440"/>
                <a:ext cx="11523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732720" y="2781360"/>
                <a:ext cx="12240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16000" y="4581360"/>
                <a:ext cx="43196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156360" y="4645080"/>
                <a:ext cx="1008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4360" y="2276640"/>
                <a:ext cx="6481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910440" y="382896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原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4000" y="5589720"/>
                <a:ext cx="8496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348000" y="76500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结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934920" y="2133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负因数的个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偶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34136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几个不等于零的数相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的符号由负因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决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0040" y="2708280"/>
            <a:ext cx="46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当负因数的个数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321300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几个数相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其中有因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3860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两个数相乘，交换两个因数的位置，积不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869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三个数相乘，先把前两个数相乘，或先把后两个数相乘，积不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59040" y="5862600"/>
            <a:ext cx="49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乘法结合律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ab)c=a(bc)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349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法交换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b=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宋体"/>
                <a:ea typeface="宋体"/>
              </a:rPr>
              <a:t>Zx.xk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宋体"/>
                <a:ea typeface="宋体"/>
              </a:rPr>
              <a:t>Zx.xk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50920" y="27075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计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34520" y="9349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乘法法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700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数相乘，同号得正，异号得负，并把绝对值相乘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任何数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乘，积仍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4" name=""/>
          <p:cNvGrpSpPr/>
          <p:nvPr/>
        </p:nvGrpSpPr>
        <p:grpSpPr>
          <a:xfrm>
            <a:off x="900000" y="2896920"/>
            <a:ext cx="4300560" cy="3993480"/>
            <a:chOff x="900000" y="2896920"/>
            <a:chExt cx="4300560" cy="3993480"/>
          </a:xfrm>
        </p:grpSpPr>
        <p:grpSp>
          <p:nvGrpSpPr>
            <p:cNvPr id="45" name=""/>
            <p:cNvGrpSpPr/>
            <p:nvPr/>
          </p:nvGrpSpPr>
          <p:grpSpPr>
            <a:xfrm>
              <a:off x="900000" y="2896920"/>
              <a:ext cx="4300560" cy="3993480"/>
              <a:chOff x="900000" y="2896920"/>
              <a:chExt cx="4300560" cy="3993480"/>
            </a:xfrm>
          </p:grpSpPr>
          <p:sp>
            <p:nvSpPr>
              <p:cNvPr id="46" name=""/>
              <p:cNvSpPr/>
              <p:nvPr/>
            </p:nvSpPr>
            <p:spPr>
              <a:xfrm>
                <a:off x="900000" y="2896920"/>
                <a:ext cx="4300560" cy="39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1).(-2.5)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×4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 </a:t>
                </a:r>
                <a:br>
                  <a:rPr sz="3200"/>
                </a:b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2).(-2005)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×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3).(-2.25) ×(-3  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4).3.5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2771640" y="4508640"/>
                    <a:ext cx="660600" cy="93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900600"/>
                  <a:ext cx="3697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" name=""/>
          <p:cNvSpPr/>
          <p:nvPr/>
        </p:nvSpPr>
        <p:spPr>
          <a:xfrm>
            <a:off x="755640" y="5445000"/>
            <a:ext cx="79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填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,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___0,b___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76920" y="319716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-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2920" y="355752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40240" y="41497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4160" y="47242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61400" y="5646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13760" y="566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0400" y="765000"/>
            <a:ext cx="20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计算下列各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62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×3×4×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2421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×3×(-4) ×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328464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 2×(-3) ×(-4) ×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292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  (-2) ×(-3) ×(-4) ×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2800" y="1625760"/>
            <a:ext cx="12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-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93120" y="241776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+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24440" y="3281400"/>
            <a:ext cx="12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-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5800" y="4292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+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501336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想一想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6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积的符号与负因数的个数有什么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65800" y="365292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256536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8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57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负因数的个数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偶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正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836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个不等于零的数相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的符号由负因数的个数决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02440" y="5805360"/>
            <a:ext cx="52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负因数的个数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奇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9080" y="20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×3×(-4) ×(-5)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+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5080" y="270828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 (-2) ×(-3) ×(-4) ×(-5)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+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4149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×3×4×(-5)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-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941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 2×(-3) ×(-4) ×(-5)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-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43680" y="170028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-6 )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88400" y="170028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×(-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90844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个数相乘，交换两个因数的位置，积不变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3789360"/>
            <a:ext cx="4537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917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法交换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b=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4508640"/>
            <a:ext cx="3505320" cy="1904760"/>
          </a:xfrm>
          <a:prstGeom prst="cloudCallout">
            <a:avLst>
              <a:gd name="adj1" fmla="val -12092"/>
              <a:gd name="adj2" fmla="val -169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比较它们的结果，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013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换些数再试一试，你得到了什么结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822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7800" y="2344680"/>
            <a:ext cx="10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9800" y="2276640"/>
            <a:ext cx="10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97000"/>
            <a:ext cx="59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［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( -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280" y="2205000"/>
            <a:ext cx="38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-4)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）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85264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个数相乘，先把前两个数相乘，或先把后两个数相乘，积不变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040" y="4005360"/>
            <a:ext cx="6286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08132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乘法结合律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ab)c=a(bc)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4653000"/>
            <a:ext cx="3505320" cy="1905120"/>
          </a:xfrm>
          <a:prstGeom prst="cloudCallout">
            <a:avLst>
              <a:gd name="adj1" fmla="val 32518"/>
              <a:gd name="adj2" fmla="val -191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比较它们的结果，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13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换些数再试一试，你得到了什么结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72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80600" y="116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66720" y="11653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4520" y="218916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3 ×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160" y="218916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11253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理数乘法的运算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149720"/>
            <a:ext cx="508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根据乘法交换律和结合律可以推出：三个以上有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数相乘，可以任意交换因数的位置，也可先把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几个数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2060640"/>
            <a:ext cx="4537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117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法交换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b=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213000"/>
            <a:ext cx="4680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59040" y="3289320"/>
            <a:ext cx="49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乘法结合律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ab)c=a(bc)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765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84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(-3) ×     ×(-      ) ×(-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13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(-5) ×6×(-        ) 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53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(1-2) ×(2-3) …(2005-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677960" y="1341360"/>
                <a:ext cx="446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00720" y="1341360"/>
                <a:ext cx="387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87560" y="1339920"/>
                <a:ext cx="550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71640" y="306864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11640" y="292572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8360" y="2133720"/>
                <a:ext cx="5904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4000" y="3894120"/>
                <a:ext cx="46796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28640" y="5229360"/>
                <a:ext cx="4962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5</m:t>
                    </m:r>
                    <m:r>
                      <m:t xml:space="preserve">×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rot="16200000">
            <a:off x="3672360" y="4832640"/>
            <a:ext cx="358920" cy="2160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5950080"/>
            <a:ext cx="30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06000" y="52862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40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看出下式的结果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说明理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64800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8×(-8.1) ×0×(-19.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几个数相乘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如果其中有因数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积等于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47040" y="414972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乘法中的特殊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3320" y="306864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原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5:59:39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4-11-11T08:11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