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wmf" ContentType="image/x-wmf"/>
  <Override PartName="/ppt/media/image1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920" y="-4680"/>
            <a:ext cx="915192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1.4.1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有理数的乘法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(1)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765000"/>
            <a:ext cx="6372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  <a:ea typeface="黑体"/>
              </a:rPr>
              <a:t>计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9×6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；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  <a:ea typeface="幼圆"/>
              </a:rPr>
              <a:t>−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9)×6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；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02724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解：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1)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</a:rPr>
              <a:t>9×6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2)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</a:rPr>
              <a:t>  (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  <a:ea typeface="幼圆"/>
              </a:rPr>
              <a:t>−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</a:rPr>
              <a:t>9)×6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0c"/>
                </a:solidFill>
                <a:latin typeface="Times New Roman"/>
                <a:ea typeface="幼圆"/>
              </a:rPr>
              <a:t>            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  <a:ea typeface="幼圆"/>
              </a:rPr>
              <a:t>=  +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</a:rPr>
              <a:t>(9×6)           = 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  <a:ea typeface="幼圆"/>
              </a:rPr>
              <a:t>−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</a:rPr>
              <a:t>(9×6)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0c"/>
                </a:solidFill>
                <a:latin typeface="Times New Roman"/>
                <a:ea typeface="幼圆"/>
              </a:rPr>
              <a:t>           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  <a:ea typeface="幼圆"/>
              </a:rPr>
              <a:t>=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</a:rPr>
              <a:t>54 ;                     = 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  <a:ea typeface="幼圆"/>
              </a:rPr>
              <a:t>−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</a:rPr>
              <a:t> 54;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45054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3)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3 × 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-4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）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-3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） 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× 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-4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67280" y="59500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907400" y="4797360"/>
            <a:ext cx="1236600" cy="1828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705720" y="2948040"/>
            <a:ext cx="24382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求解步骤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116000" y="3543480"/>
            <a:ext cx="5324400" cy="2117160"/>
            <a:chOff x="1116000" y="3543480"/>
            <a:chExt cx="5324400" cy="2117160"/>
          </a:xfrm>
        </p:grpSpPr>
        <p:sp>
          <p:nvSpPr>
            <p:cNvPr id="171" name=""/>
            <p:cNvSpPr/>
            <p:nvPr/>
          </p:nvSpPr>
          <p:spPr>
            <a:xfrm>
              <a:off x="4307040" y="3543480"/>
              <a:ext cx="2057400" cy="5331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16000" y="3543480"/>
              <a:ext cx="2057400" cy="5331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58920" y="5049720"/>
              <a:ext cx="2057400" cy="610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83000" y="5049720"/>
              <a:ext cx="2057400" cy="610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566040" y="3548160"/>
            <a:ext cx="26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 Alternative"/>
                <a:ea typeface="Arial Alternative"/>
              </a:rPr>
              <a:t>确定积的符号</a:t>
            </a:r>
            <a:r>
              <a:rPr b="1" lang="zh-CN" sz="2400" spc="-1" strike="noStrike">
                <a:solidFill>
                  <a:srgbClr val="000c0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398952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 Alternative"/>
                <a:ea typeface="Arial Alternative"/>
              </a:rPr>
              <a:t>绝对值相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16720" y="838080"/>
            <a:ext cx="0" cy="60199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8440" y="21337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3 ×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-4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-3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-4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508464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  <a:ea typeface="幼圆"/>
              </a:rPr>
              <a:t>−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3 ×4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）         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Times New Roman"/>
              </a:rPr>
              <a:t>3×4</a:t>
            </a:r>
            <a:r>
              <a:rPr b="1" lang="zh-CN" sz="2800" spc="-1" strike="noStrike">
                <a:solidFill>
                  <a:srgbClr val="000c0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44720" y="5950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c0c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c0c"/>
                </a:solidFill>
                <a:latin typeface="Arial"/>
              </a:rPr>
              <a:t>−</a:t>
            </a:r>
            <a:r>
              <a:rPr b="1" lang="en-US" sz="32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c0c"/>
                </a:solidFill>
                <a:latin typeface="Times New Roman"/>
              </a:rPr>
              <a:t>12</a:t>
            </a:r>
            <a:r>
              <a:rPr b="1" lang="en-US" sz="3200" spc="-1" strike="noStrike">
                <a:solidFill>
                  <a:srgbClr val="000c0c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24000" y="1413000"/>
            <a:ext cx="80643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运算方法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有理数相乘，先确定积的＿＿＿＿＿＿，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确定积的＿＿＿＿＿＿＿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35640" y="2133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符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2924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绝对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78136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31840" y="3344760"/>
            <a:ext cx="508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宋体"/>
                <a:ea typeface="宋体"/>
              </a:rPr>
              <a:t>Zx.xk </a:t>
            </a:r>
            <a:endParaRPr b="0" lang="en-US" sz="5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981000"/>
            <a:ext cx="91440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计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１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5 x (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－３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)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２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－４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) x 6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３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－７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) x(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－９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)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４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0.5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　 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　 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0.7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５）（－３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－    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６）（－     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71640" y="16286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2852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71640" y="2133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3429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.3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01440" y="400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48000" y="4653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93080" y="37893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780000" y="3789360"/>
          <a:ext cx="39024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3789360"/>
                    <a:ext cx="3902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908000" y="4437000"/>
          <a:ext cx="36360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437000"/>
                    <a:ext cx="3636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219640" y="3789360"/>
          <a:ext cx="36216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19640" y="3789360"/>
                    <a:ext cx="3621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79280" y="907920"/>
            <a:ext cx="835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计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c0c"/>
                </a:solidFill>
                <a:latin typeface="Arial"/>
              </a:rPr>
              <a:t>-2006 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x1   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-8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 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-1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25040" y="43959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245360" y="1341360"/>
          <a:ext cx="189864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5360" y="1341360"/>
                    <a:ext cx="18986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324000" y="2060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解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-2006 x1=-2006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51840" y="2060640"/>
            <a:ext cx="446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-8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-1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=8x1=8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619280" y="2565360"/>
          <a:ext cx="4103640" cy="9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2565360"/>
                    <a:ext cx="410364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744480" y="283860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50028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乘以一个数仍得这个数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乘以一个数得这个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数的相反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365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两个带分数相乘，一般要化成假分数以便约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01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两因式相乘时，第一个因式前面可以不加括号，但后面的因式必须添加括号。如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若写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8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-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错误的，因为两个运算符号是不能连在一起写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9640" y="83664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计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     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×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　；　　　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 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(-    ) × ( -2 ) 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。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233352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解：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   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×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6920" y="31417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-   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-2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3789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观察上面两题有何特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450864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总结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有理数中仍然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乘积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两个数互为倒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0360" y="5229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0c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数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a(a≠0)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的倒数是什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61080" y="530064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a≠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倒数是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340000" y="2924280"/>
          <a:ext cx="36180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924280"/>
                    <a:ext cx="3618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1979640" y="2133720"/>
          <a:ext cx="39204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2133720"/>
                    <a:ext cx="3920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651640" y="1484280"/>
          <a:ext cx="36324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1484280"/>
                    <a:ext cx="36324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547640" y="1341360"/>
          <a:ext cx="3906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1341360"/>
                    <a:ext cx="3906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7885080" y="5013360"/>
          <a:ext cx="407880" cy="115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85080" y="5013360"/>
                    <a:ext cx="4078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50920" y="1197000"/>
            <a:ext cx="864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说出下列各数的倒数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１，－１，    ，－      ，５，－５，      ，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321300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思考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buClr>
                <a:srgbClr val="000c0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若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小于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0,b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大于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0,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则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ab____0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buClr>
                <a:srgbClr val="00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若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小于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0,b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小于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0,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则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ab_____0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若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大于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0,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则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应满足什么条件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若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小于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0,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则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应满足什么条件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340000" y="1700280"/>
          <a:ext cx="35712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700280"/>
                    <a:ext cx="3571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3851280" y="1700280"/>
          <a:ext cx="35712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1700280"/>
                    <a:ext cx="3571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6877080" y="1628640"/>
            <a:ext cx="419040" cy="1079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8317080" y="1628640"/>
            <a:ext cx="419040" cy="1079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790160" y="402264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4160" y="351936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32080" y="4476600"/>
            <a:ext cx="14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74840" y="4925880"/>
            <a:ext cx="14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异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95280" y="1052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用正负数表示气温的变化量，上升为正，下降为负。登山队攀登一座山峰，每登高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千米，气温的变化量为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-6℃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，攀登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千米后，气温有什么变化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2920" y="2997360"/>
            <a:ext cx="712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解：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-6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×3=-18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答：气温下降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18℃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50920" y="907920"/>
            <a:ext cx="846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c0c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商店降价销售某种商品，每件降５元，售出６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件后，与按原价销售同样数量的商品相比，销售额有什么变化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26370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解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规定：提价为正，降价为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92360" y="3429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－５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)×60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＝－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30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15040" y="422100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答：销售额减少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300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元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归纳总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50760" y="4349880"/>
            <a:ext cx="14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两个带分数相乘，一般要化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假分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便约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6000" y="328464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乘以一个数仍得这个数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乘以一个数得这个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数的相反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197000"/>
            <a:ext cx="439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有理数乘法法则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1700280"/>
            <a:ext cx="6696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数相乘，同号得正，异号得负，并把绝对值相乘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20360" y="2637000"/>
            <a:ext cx="2741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任何数同０相乘，都得０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93480" y="4941720"/>
            <a:ext cx="28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乘积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两个数互为倒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0920" y="5516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两因式相乘时，第一个因式前面可以不加括号，但后面的因式必须添加括号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3964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0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、计算</a:t>
            </a:r>
            <a:r>
              <a:rPr b="1" lang="en-US" sz="3200" spc="-1" strike="noStrike">
                <a:solidFill>
                  <a:srgbClr val="000c0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68360" y="20289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X6=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8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计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93372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   X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 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08400" y="20462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080" y="2028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8366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: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森林里住着一只蜗牛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每天都要离开家去寻找食物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如果蜗牛一直以每分钟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2cm 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的速度向右爬行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那么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分钟后蜗牛在什么位置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042920" y="3500280"/>
            <a:ext cx="7561440" cy="890640"/>
            <a:chOff x="1042920" y="3500280"/>
            <a:chExt cx="7561440" cy="890640"/>
          </a:xfrm>
        </p:grpSpPr>
        <p:grpSp>
          <p:nvGrpSpPr>
            <p:cNvPr id="48" name=""/>
            <p:cNvGrpSpPr/>
            <p:nvPr/>
          </p:nvGrpSpPr>
          <p:grpSpPr>
            <a:xfrm>
              <a:off x="1042920" y="3500280"/>
              <a:ext cx="7561440" cy="312840"/>
              <a:chOff x="1042920" y="3500280"/>
              <a:chExt cx="7561440" cy="312840"/>
            </a:xfrm>
          </p:grpSpPr>
          <p:sp>
            <p:nvSpPr>
              <p:cNvPr id="49" name=""/>
              <p:cNvSpPr/>
              <p:nvPr/>
            </p:nvSpPr>
            <p:spPr>
              <a:xfrm>
                <a:off x="1042920" y="3813120"/>
                <a:ext cx="756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775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1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327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103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879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655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 txBox="1"/>
            <p:nvPr/>
          </p:nvSpPr>
          <p:spPr>
            <a:xfrm>
              <a:off x="1414440" y="393192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-2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2760480" y="393192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0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3924360" y="3933720"/>
              <a:ext cx="226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2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5208480" y="393192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4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6432480" y="393192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6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7657920" y="393192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8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484360" y="299736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270828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79736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分钟后蜗牛应在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点的右边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6cm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4360" y="2205000"/>
            <a:ext cx="439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40000" y="2492280"/>
            <a:ext cx="1152360" cy="115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11280" y="323208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c0c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234936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443640" y="3717360"/>
            <a:ext cx="21744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3320" y="5589720"/>
            <a:ext cx="42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可以表示为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＋２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＋３） ＝＋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48720" y="23493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规定：向右为正，现在之后为正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1066 L 0.40157 0.01066 E">
                                      <p:cBhvr>
                                        <p:cTn id="42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11280" y="765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问题２：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如果蜗牛一直以每分钟２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cm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的速度向左爬行，那么３分钟后蜗牛在什么位置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042920" y="3500280"/>
            <a:ext cx="7561440" cy="888840"/>
            <a:chOff x="1042920" y="3500280"/>
            <a:chExt cx="7561440" cy="888840"/>
          </a:xfrm>
        </p:grpSpPr>
        <p:grpSp>
          <p:nvGrpSpPr>
            <p:cNvPr id="74" name=""/>
            <p:cNvGrpSpPr/>
            <p:nvPr/>
          </p:nvGrpSpPr>
          <p:grpSpPr>
            <a:xfrm>
              <a:off x="1042920" y="3500280"/>
              <a:ext cx="7561440" cy="312840"/>
              <a:chOff x="1042920" y="3500280"/>
              <a:chExt cx="7561440" cy="312840"/>
            </a:xfrm>
          </p:grpSpPr>
          <p:sp>
            <p:nvSpPr>
              <p:cNvPr id="75" name=""/>
              <p:cNvSpPr/>
              <p:nvPr/>
            </p:nvSpPr>
            <p:spPr>
              <a:xfrm>
                <a:off x="1042920" y="3813120"/>
                <a:ext cx="756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75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1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27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103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879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55640" y="350028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 txBox="1"/>
            <p:nvPr/>
          </p:nvSpPr>
          <p:spPr>
            <a:xfrm>
              <a:off x="1414440" y="393192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-6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2663640" y="393192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-4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816360" y="393192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-2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5111640" y="393192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0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6335640" y="393192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2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7559640" y="393192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4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116000" y="4797360"/>
            <a:ext cx="73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 rot="10800000">
            <a:off x="321840" y="458136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分钟后蜗牛应在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点的左边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6cm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59280" y="2637000"/>
            <a:ext cx="1052640" cy="1052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0" y="1700280"/>
            <a:ext cx="439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232080"/>
            <a:ext cx="4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c0c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19280" y="3718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11720" y="5300640"/>
            <a:ext cx="42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可以表示为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－２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＋３） ＝－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8720" y="184464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规定：向右为正，现在之后为正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57706E-006 L -0.41181 -0.00302 E">
                                      <p:cBhvr>
                                        <p:cTn id="8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26920" y="907920"/>
            <a:ext cx="756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765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问题３：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如果蜗牛一直以每分钟２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cm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的速度向右爬行，那么３分钟前蜗牛在什么位置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00000" y="3068640"/>
            <a:ext cx="7561440" cy="888840"/>
            <a:chOff x="900000" y="3068640"/>
            <a:chExt cx="7561440" cy="888840"/>
          </a:xfrm>
        </p:grpSpPr>
        <p:grpSp>
          <p:nvGrpSpPr>
            <p:cNvPr id="99" name=""/>
            <p:cNvGrpSpPr/>
            <p:nvPr/>
          </p:nvGrpSpPr>
          <p:grpSpPr>
            <a:xfrm>
              <a:off x="900000" y="3068640"/>
              <a:ext cx="7561440" cy="312840"/>
              <a:chOff x="900000" y="3068640"/>
              <a:chExt cx="7561440" cy="312840"/>
            </a:xfrm>
          </p:grpSpPr>
          <p:sp>
            <p:nvSpPr>
              <p:cNvPr id="100" name=""/>
              <p:cNvSpPr/>
              <p:nvPr/>
            </p:nvSpPr>
            <p:spPr>
              <a:xfrm>
                <a:off x="900000" y="3381480"/>
                <a:ext cx="756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720" y="306864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408720" y="306864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184720" y="306864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960720" y="306864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736720" y="306864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512720" y="306864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 txBox="1"/>
            <p:nvPr/>
          </p:nvSpPr>
          <p:spPr>
            <a:xfrm>
              <a:off x="1271520" y="350028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-6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520720" y="350028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-4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3673440" y="350028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-2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4968720" y="350028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0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6192720" y="350028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2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7416720" y="350028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4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050920" y="4797360"/>
            <a:ext cx="44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4508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分钟前蜗牛应在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点的左边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6cm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1006560" cy="1079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724360" y="1700280"/>
            <a:ext cx="30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50160" y="279864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c0c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4920" y="3286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7720" y="5430960"/>
            <a:ext cx="42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可以表示为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＋２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－３） ＝－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8720" y="17002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规定：向右为正，现在之后为正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99421E-006 L -0.40555 0.00023 E">
                                      <p:cBhvr>
                                        <p:cTn id="12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19280" y="90792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76500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问题４：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如果蜗牛一直以每分钟２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cm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的速度向左爬行，那么３分钟前蜗牛在什么位置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826920" y="3213000"/>
            <a:ext cx="7561440" cy="890640"/>
            <a:chOff x="826920" y="3213000"/>
            <a:chExt cx="7561440" cy="890640"/>
          </a:xfrm>
        </p:grpSpPr>
        <p:grpSp>
          <p:nvGrpSpPr>
            <p:cNvPr id="124" name=""/>
            <p:cNvGrpSpPr/>
            <p:nvPr/>
          </p:nvGrpSpPr>
          <p:grpSpPr>
            <a:xfrm>
              <a:off x="826920" y="3213000"/>
              <a:ext cx="7561440" cy="312840"/>
              <a:chOff x="826920" y="3213000"/>
              <a:chExt cx="7561440" cy="312840"/>
            </a:xfrm>
          </p:grpSpPr>
          <p:sp>
            <p:nvSpPr>
              <p:cNvPr id="125" name=""/>
              <p:cNvSpPr/>
              <p:nvPr/>
            </p:nvSpPr>
            <p:spPr>
              <a:xfrm>
                <a:off x="826920" y="3525840"/>
                <a:ext cx="756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559640" y="321300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335640" y="321300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111640" y="321300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87640" y="321300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663640" y="321300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39640" y="321300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 txBox="1"/>
            <p:nvPr/>
          </p:nvSpPr>
          <p:spPr>
            <a:xfrm>
              <a:off x="1198440" y="364464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-2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544480" y="364464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0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3708360" y="3646440"/>
              <a:ext cx="226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2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992480" y="364464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4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216480" y="364464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6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7441920" y="3644640"/>
              <a:ext cx="2271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c0c"/>
                  </a:solidFill>
                  <a:latin typeface="宋体"/>
                </a:rPr>
                <a:t>8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c0c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50920" y="47242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分钟前蜗牛应在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点的右边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6cm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95640" y="24224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26920" y="4365720"/>
            <a:ext cx="489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5800" y="29257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c0c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99280" y="3429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11720" y="5661000"/>
            <a:ext cx="42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可以表示为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－２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－３） ＝＋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48720" y="184464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规定：向右为正，现在之后为正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26419E-006 L 0.39775 -0.00533 E">
                                      <p:cBhvr>
                                        <p:cTn id="162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47640" y="1515960"/>
            <a:ext cx="63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39960"/>
            <a:ext cx="9144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观察这四个式子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＋２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＋３）＝＋６　（－２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－３）＝＋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－２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＋３）＝－６　（＋２）</a:t>
            </a:r>
            <a:r>
              <a:rPr b="1" lang="en-US" sz="2800" spc="-1" strike="noStrike">
                <a:solidFill>
                  <a:srgbClr val="000c0c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（－３）＝－６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根据你对有理数乘法的思考，总结填空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正数乘正数积为＿＿数：负数乘负数积为＿＿数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负数乘正数积为＿＿数：正数乘负数积为＿＿数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乘积的绝对值等于各乘数绝对值的＿＿＿＿＿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0036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5964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71640" y="407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4076640"/>
            <a:ext cx="8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0000" y="4724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580536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？思考：当一个因数为０时，积是多少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58160" y="2997360"/>
            <a:ext cx="20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号得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4360" y="458136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异号得负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1197000"/>
            <a:ext cx="4392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有理数乘法法则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6696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数相乘，同号得正，异号得负，并把绝对值相乘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06080" y="3789360"/>
            <a:ext cx="37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任何数同０相乘，都得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0920" y="765000"/>
            <a:ext cx="84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先阅读，再填空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-5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-3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…………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同号两数相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-5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）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×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-3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（  ）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…………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得正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3= 15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………………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把绝对值相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所以  （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-5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）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-3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= 1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07664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填空：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-7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）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 4……____________________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-7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）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 4 =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(   )………__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7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×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4 = 28………____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所以 （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-7</a:t>
            </a:r>
            <a:r>
              <a:rPr b="1" lang="zh-CN" sz="2800" spc="-1" strike="noStrike">
                <a:solidFill>
                  <a:srgbClr val="000c0c"/>
                </a:solidFill>
                <a:latin typeface="宋体"/>
              </a:rPr>
              <a:t>）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000c0c"/>
                </a:solidFill>
                <a:latin typeface="宋体"/>
              </a:rPr>
              <a:t> 4 = ____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40053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异号两数相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450864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得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94172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把绝对值相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32360" y="5373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－２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0T01:35:37Z</dcterms:created>
  <dc:creator>Administrator</dc:creator>
  <dc:description/>
  <cp:keywords/>
  <dc:language>en-US</dc:language>
  <cp:lastModifiedBy>User</cp:lastModifiedBy>
  <cp:lastPrinted>1899-12-30T00:00:00Z</cp:lastPrinted>
  <dcterms:modified xsi:type="dcterms:W3CDTF">2014-11-11T08:12:02Z</dcterms:modified>
  <cp:revision>9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