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12.png" ContentType="image/png"/>
  <Override PartName="/ppt/media/image11.wmf" ContentType="image/x-wmf"/>
  <Override PartName="/ppt/media/image14.png" ContentType="image/png"/>
  <Override PartName="/ppt/media/image13.wmf" ContentType="image/x-wmf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image5.gif" ContentType="image/gif"/>
  <Override PartName="/ppt/media/image8.png" ContentType="image/png"/>
  <Override PartName="/ppt/media/image6.png" ContentType="image/png"/>
  <Override PartName="/ppt/media/image4.gif" ContentType="image/gif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4484-7213-416C-B85C-083E1C94D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573D-D8A0-40E7-A459-460C01CA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7938-0F63-4126-B891-762BC2828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FFA4-9EDF-4D62-9D59-16259E7C1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46E9-9661-4995-8276-623E2466F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B444-8497-42DA-B7EA-F9E278B1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12B1-49A4-4735-A3E1-CC4BCD9E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206E-195D-412F-9243-C8896896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1ACE-D279-44EF-945A-B5CDA705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A497-FF7A-4DB0-8D24-D30C8BF3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2C08-E728-40FD-91E9-66689DA5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6C77-78B0-49A4-B574-0A2A9FCC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CCC8-9FAA-4277-96DC-2B54989E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4EC0-2013-469A-BFBF-7C826645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5AC7-F6C9-4582-B6C7-B5DF863A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1D42-FEAF-4538-A892-7EB7A388C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E4EF-AE4A-46C2-BAE7-D9E455F66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421C-5576-43BA-9405-2D405CEB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4F6B-AB29-4C0A-8EAB-E88A5FFA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63D6-CBB0-46E6-8BC4-226C4564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F9AD-830D-4684-BB26-F0143FCD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50E1-1B8A-4747-BF7F-0BAF638A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3F88-4CAA-4EB5-B789-A899CE7F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E5AE-46DB-468A-BD14-EC848B79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F964-041C-4E29-B786-A02E7204A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4000"/>
                <a:gd name="textAreaBottom" fmla="*/ 594360 h 59400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>
                <a:gd name="textAreaLeft" fmla="*/ 0 w 306720"/>
                <a:gd name="textAreaRight" fmla="*/ 307080 w 3067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>
                    <a:gd name="textAreaLeft" fmla="*/ 0 w 249120"/>
                    <a:gd name="textAreaRight" fmla="*/ 249120 w 249120"/>
                    <a:gd name="textAreaTop" fmla="*/ 0 h 138240"/>
                    <a:gd name="textAreaBottom" fmla="*/ 138600 h 13824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0960"/>
                    <a:gd name="textAreaBottom" fmla="*/ 211320 h 21096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400"/>
                    <a:gd name="textAreaBottom" fmla="*/ 698760 h 69840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399960"/>
                    <a:gd name="textAreaBottom" fmla="*/ 400320 h 39996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600"/>
                    <a:gd name="textAreaBottom" fmla="*/ 336960 h 33660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440"/>
                    <a:gd name="textAreaBottom" fmla="*/ 136800 h 13644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456840"/>
                  <a:gd name="textAreaBottom" fmla="*/ 457200 h 45684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79680" y="113040"/>
                  <a:ext cx="243360" cy="198000"/>
                </a:xfrm>
                <a:custGeom>
                  <a:avLst/>
                  <a:gdLst>
                    <a:gd name="textAreaLeft" fmla="*/ 0 w 243360"/>
                    <a:gd name="textAreaRight" fmla="*/ 243360 w 243360"/>
                    <a:gd name="textAreaTop" fmla="*/ 0 h 198000"/>
                    <a:gd name="textAreaBottom" fmla="*/ 198360 h 19800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0360" y="524160"/>
                  <a:ext cx="427680" cy="695160"/>
                </a:xfrm>
                <a:custGeom>
                  <a:avLst/>
                  <a:gdLst>
                    <a:gd name="textAreaLeft" fmla="*/ 0 w 427680"/>
                    <a:gd name="textAreaRight" fmla="*/ 428040 w 42768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08320" y="286200"/>
                  <a:ext cx="803160" cy="1425240"/>
                </a:xfrm>
                <a:custGeom>
                  <a:avLst/>
                  <a:gdLst>
                    <a:gd name="textAreaLeft" fmla="*/ 0 w 803160"/>
                    <a:gd name="textAreaRight" fmla="*/ 803520 w 80316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440"/>
                  <a:ext cx="1205280" cy="2133360"/>
                </a:xfrm>
                <a:custGeom>
                  <a:avLst/>
                  <a:gdLst>
                    <a:gd name="textAreaLeft" fmla="*/ 0 w 1205280"/>
                    <a:gd name="textAreaRight" fmla="*/ 1205640 w 12052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5640" y="1423080"/>
                  <a:ext cx="268560" cy="19332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320"/>
                    <a:gd name="textAreaBottom" fmla="*/ 193680 h 19332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5800" y="1277280"/>
                  <a:ext cx="287640" cy="22824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240"/>
                    <a:gd name="textAreaBottom" fmla="*/ 228600 h 22824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09920" y="330480"/>
                  <a:ext cx="287640" cy="23292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32920"/>
                    <a:gd name="textAreaBottom" fmla="*/ 233280 h 23292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1600" y="221400"/>
                  <a:ext cx="284760" cy="218880"/>
                </a:xfrm>
                <a:custGeom>
                  <a:avLst/>
                  <a:gdLst>
                    <a:gd name="textAreaLeft" fmla="*/ 0 w 284760"/>
                    <a:gd name="textAreaRight" fmla="*/ 285120 w 28476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>
                <a:gd name="textAreaLeft" fmla="*/ 0 w 3571920"/>
                <a:gd name="textAreaRight" fmla="*/ 3572280 w 3571920"/>
                <a:gd name="textAreaTop" fmla="*/ 0 h 1614600"/>
                <a:gd name="textAreaBottom" fmla="*/ 1614960 h 161460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>
                <a:gd name="textAreaLeft" fmla="*/ 0 w 2361960"/>
                <a:gd name="textAreaRight" fmla="*/ 2362320 w 2361960"/>
                <a:gd name="textAreaTop" fmla="*/ 0 h 1459080"/>
                <a:gd name="textAreaBottom" fmla="*/ 1459440 h 145908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840"/>
                  <a:gd name="textAreaBottom" fmla="*/ 340200 h 339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880"/>
                  <a:gd name="textAreaBottom" fmla="*/ 975240 h 9748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"/>
          <p:cNvGrpSpPr/>
          <p:nvPr/>
        </p:nvGrpSpPr>
        <p:grpSpPr>
          <a:xfrm>
            <a:off x="7794720" y="4317840"/>
            <a:ext cx="981360" cy="1160640"/>
            <a:chOff x="7794720" y="4317840"/>
            <a:chExt cx="981360" cy="11606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89320" y="4657320"/>
              <a:ext cx="998280" cy="465480"/>
            </a:xfrm>
            <a:custGeom>
              <a:avLst/>
              <a:gdLst>
                <a:gd name="textAreaLeft" fmla="*/ 0 w 998280"/>
                <a:gd name="textAreaRight" fmla="*/ 998640 w 998280"/>
                <a:gd name="textAreaTop" fmla="*/ 0 h 465480"/>
                <a:gd name="textAreaBottom" fmla="*/ 465840 h 46548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3320" y="4620600"/>
              <a:ext cx="660240" cy="42048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7794720" y="4317840"/>
              <a:ext cx="981360" cy="1160640"/>
              <a:chOff x="7794720" y="4317840"/>
              <a:chExt cx="981360" cy="11606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760" y="5060520"/>
                <a:ext cx="93600" cy="9720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5840" y="4650120"/>
                <a:ext cx="1058760" cy="4957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5720"/>
                  <a:gd name="textAreaBottom" fmla="*/ 496080 h 4957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7360" y="4757040"/>
                <a:ext cx="749160" cy="280440"/>
              </a:xfrm>
              <a:custGeom>
                <a:avLst/>
                <a:gdLst>
                  <a:gd name="textAreaLeft" fmla="*/ 0 w 749160"/>
                  <a:gd name="textAreaRight" fmla="*/ 749520 w 749160"/>
                  <a:gd name="textAreaTop" fmla="*/ 0 h 280440"/>
                  <a:gd name="textAreaBottom" fmla="*/ 280800 h 2804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000" y="4557960"/>
                <a:ext cx="100080" cy="1879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7920"/>
                  <a:gd name="textAreaBottom" fmla="*/ 188280 h 1879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1840" y="4757760"/>
                <a:ext cx="306360" cy="16596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5960"/>
                  <a:gd name="textAreaBottom" fmla="*/ 166320 h 16596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E0DA-3F69-4C50-95B4-87EC8B417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WordArt 3" descr=""/>
          <p:cNvPicPr/>
          <p:nvPr/>
        </p:nvPicPr>
        <p:blipFill>
          <a:blip r:embed="rId1"/>
          <a:stretch/>
        </p:blipFill>
        <p:spPr>
          <a:xfrm>
            <a:off x="603360" y="1328760"/>
            <a:ext cx="7149960" cy="1852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5564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0"/>
          <p:cNvSpPr/>
          <p:nvPr/>
        </p:nvSpPr>
        <p:spPr>
          <a:xfrm>
            <a:off x="3132000" y="3429000"/>
            <a:ext cx="28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f01b1"/>
                </a:solidFill>
                <a:latin typeface="Comic Sans MS"/>
                <a:ea typeface="楷体_GB2312"/>
              </a:rPr>
              <a:t>第一课时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31"/>
          <p:cNvSpPr/>
          <p:nvPr/>
        </p:nvSpPr>
        <p:spPr>
          <a:xfrm>
            <a:off x="1116000" y="623736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f01b1"/>
                </a:solidFill>
                <a:latin typeface="Comic Sans MS"/>
                <a:ea typeface="楷体_GB2312"/>
              </a:rPr>
              <a:t>初一数学备课组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07999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52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0" name="Picture 7" descr="1321307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9"/>
          <p:cNvSpPr/>
          <p:nvPr/>
        </p:nvSpPr>
        <p:spPr>
          <a:xfrm>
            <a:off x="755640" y="2349360"/>
            <a:ext cx="125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计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468360" y="3508200"/>
                <a:ext cx="45622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÷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43" name="WordArt 12" descr=""/>
          <p:cNvPicPr/>
          <p:nvPr/>
        </p:nvPicPr>
        <p:blipFill>
          <a:blip r:embed="rId2"/>
          <a:stretch/>
        </p:blipFill>
        <p:spPr>
          <a:xfrm>
            <a:off x="384120" y="182520"/>
            <a:ext cx="402264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5" name="Picture 4" descr="1321307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6"/>
          <p:cNvSpPr/>
          <p:nvPr/>
        </p:nvSpPr>
        <p:spPr>
          <a:xfrm>
            <a:off x="755640" y="2349360"/>
            <a:ext cx="125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计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Rectangle 4"/>
              <p:cNvSpPr txBox="1"/>
              <p:nvPr/>
            </p:nvSpPr>
            <p:spPr>
              <a:xfrm>
                <a:off x="898560" y="3363840"/>
                <a:ext cx="420840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÷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48" name="WordArt 12" descr=""/>
          <p:cNvPicPr/>
          <p:nvPr/>
        </p:nvPicPr>
        <p:blipFill>
          <a:blip r:embed="rId2"/>
          <a:stretch/>
        </p:blipFill>
        <p:spPr>
          <a:xfrm>
            <a:off x="384120" y="182520"/>
            <a:ext cx="402264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0" name="Picture 4" descr="1321307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1" name="WordArt 5" descr=""/>
          <p:cNvPicPr/>
          <p:nvPr/>
        </p:nvPicPr>
        <p:blipFill>
          <a:blip r:embed="rId2"/>
          <a:stretch/>
        </p:blipFill>
        <p:spPr>
          <a:xfrm>
            <a:off x="384120" y="182520"/>
            <a:ext cx="4022640" cy="128124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6"/>
          <p:cNvSpPr/>
          <p:nvPr/>
        </p:nvSpPr>
        <p:spPr>
          <a:xfrm>
            <a:off x="755640" y="2349360"/>
            <a:ext cx="125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计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3" name="Rectangle 4" descr=""/>
          <p:cNvPicPr/>
          <p:nvPr/>
        </p:nvPicPr>
        <p:blipFill>
          <a:blip r:embed="rId3"/>
          <a:stretch/>
        </p:blipFill>
        <p:spPr>
          <a:xfrm>
            <a:off x="1031760" y="3424320"/>
            <a:ext cx="3994200" cy="66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5" name="Picture 4" descr="1321307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6" name="WordArt 5" descr=""/>
          <p:cNvPicPr/>
          <p:nvPr/>
        </p:nvPicPr>
        <p:blipFill>
          <a:blip r:embed="rId2"/>
          <a:stretch/>
        </p:blipFill>
        <p:spPr>
          <a:xfrm>
            <a:off x="384120" y="182520"/>
            <a:ext cx="4022640" cy="128124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6"/>
          <p:cNvSpPr/>
          <p:nvPr/>
        </p:nvSpPr>
        <p:spPr>
          <a:xfrm>
            <a:off x="755640" y="2349360"/>
            <a:ext cx="125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计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8" name="Rectangle 4" descr=""/>
          <p:cNvPicPr/>
          <p:nvPr/>
        </p:nvPicPr>
        <p:blipFill>
          <a:blip r:embed="rId3"/>
          <a:stretch/>
        </p:blipFill>
        <p:spPr>
          <a:xfrm>
            <a:off x="971640" y="3052800"/>
            <a:ext cx="367668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0" name="Picture 4" descr="132130783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1" name="WordArt 5" descr=""/>
          <p:cNvPicPr/>
          <p:nvPr/>
        </p:nvPicPr>
        <p:blipFill>
          <a:blip r:embed="rId2"/>
          <a:stretch/>
        </p:blipFill>
        <p:spPr>
          <a:xfrm>
            <a:off x="384120" y="182520"/>
            <a:ext cx="4022640" cy="128124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6"/>
          <p:cNvSpPr/>
          <p:nvPr/>
        </p:nvSpPr>
        <p:spPr>
          <a:xfrm>
            <a:off x="755640" y="2349360"/>
            <a:ext cx="125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计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3" name="Rectangle 4" descr=""/>
          <p:cNvPicPr/>
          <p:nvPr/>
        </p:nvPicPr>
        <p:blipFill>
          <a:blip r:embed="rId3"/>
          <a:stretch/>
        </p:blipFill>
        <p:spPr>
          <a:xfrm>
            <a:off x="1233360" y="3132000"/>
            <a:ext cx="336708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WordArt 2"/>
          <p:cNvSpPr txBox="1"/>
          <p:nvPr/>
        </p:nvSpPr>
        <p:spPr>
          <a:xfrm>
            <a:off x="4067280" y="144360"/>
            <a:ext cx="133020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小结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395280" y="299736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两个有理数相除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同号得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正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 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异号得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负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并把绝对值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相除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0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除以任何非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0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数都得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0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572760" y="765000"/>
            <a:ext cx="13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除法法则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Text Box 23"/>
          <p:cNvSpPr/>
          <p:nvPr/>
        </p:nvSpPr>
        <p:spPr>
          <a:xfrm>
            <a:off x="826920" y="162864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新宋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新宋体"/>
              </a:rPr>
              <a:t>除以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新宋体"/>
              </a:rPr>
              <a:t>一个不等于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新宋体"/>
              </a:rPr>
              <a:t>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新宋体"/>
              </a:rPr>
              <a:t>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新宋体"/>
              </a:rPr>
              <a:t>数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新宋体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新宋体"/>
              </a:rPr>
              <a:t>等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新宋体"/>
              </a:rPr>
              <a:t>乘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新宋体"/>
              </a:rPr>
              <a:t>这个的数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新宋体"/>
              </a:rPr>
              <a:t>倒数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新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2"/>
          <p:cNvSpPr/>
          <p:nvPr/>
        </p:nvSpPr>
        <p:spPr>
          <a:xfrm>
            <a:off x="1943280" y="692280"/>
            <a:ext cx="58687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新宋体"/>
              </a:rPr>
              <a:t>计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新宋体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新宋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新宋体"/>
              </a:rPr>
              <a:t>(-18) ÷6 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新宋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新宋体"/>
              </a:rPr>
              <a:t>(-63) ÷(-7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新宋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新宋体"/>
              </a:rPr>
              <a:t>1 ÷(-9)   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新宋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新宋体"/>
              </a:rPr>
              <a:t>0÷(-8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354348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2914560" y="21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3489480" y="154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1979640" y="486900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新宋体"/>
              </a:rPr>
              <a:t>(5)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) ÷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)=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WordArt 7"/>
          <p:cNvSpPr txBox="1"/>
          <p:nvPr/>
        </p:nvSpPr>
        <p:spPr>
          <a:xfrm rot="6340800">
            <a:off x="-74160" y="802440"/>
            <a:ext cx="18748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测一测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807560" y="620640"/>
            <a:ext cx="90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计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689840" y="2997360"/>
            <a:ext cx="283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2×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3)=____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024200" y="3789360"/>
            <a:ext cx="354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4)×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3)=____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2354400" y="141300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8×9=____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1742400" y="4433760"/>
            <a:ext cx="283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0×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6)=____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1401120" y="2273400"/>
            <a:ext cx="31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4)×3   =____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5224320" y="2994120"/>
            <a:ext cx="293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6) ÷2=____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5224320" y="3716280"/>
            <a:ext cx="30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12÷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4)=____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5292720" y="140976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72÷9=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5161320" y="2201760"/>
            <a:ext cx="38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－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12)÷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4)=____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5295600" y="4365720"/>
            <a:ext cx="281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0÷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6)=____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Line 15"/>
          <p:cNvSpPr/>
          <p:nvPr/>
        </p:nvSpPr>
        <p:spPr>
          <a:xfrm>
            <a:off x="4788000" y="1268280"/>
            <a:ext cx="0" cy="374508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WordArt 16"/>
          <p:cNvSpPr txBox="1"/>
          <p:nvPr/>
        </p:nvSpPr>
        <p:spPr>
          <a:xfrm>
            <a:off x="0" y="0"/>
            <a:ext cx="133020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探索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1964880" y="5084640"/>
            <a:ext cx="42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观察右侧算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两个有理数相除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1865520" y="56610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除法能否转化为乘法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1800000" y="6278400"/>
            <a:ext cx="27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商的绝对值如何确定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中宋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20"/>
          <p:cNvSpPr/>
          <p:nvPr/>
        </p:nvSpPr>
        <p:spPr>
          <a:xfrm>
            <a:off x="3598200" y="299412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－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中宋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Rectangle 21"/>
          <p:cNvSpPr/>
          <p:nvPr/>
        </p:nvSpPr>
        <p:spPr>
          <a:xfrm>
            <a:off x="3636720" y="3645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中宋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22"/>
          <p:cNvSpPr/>
          <p:nvPr/>
        </p:nvSpPr>
        <p:spPr>
          <a:xfrm>
            <a:off x="3636720" y="1341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中宋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23"/>
          <p:cNvSpPr/>
          <p:nvPr/>
        </p:nvSpPr>
        <p:spPr>
          <a:xfrm>
            <a:off x="3453840" y="2205000"/>
            <a:ext cx="9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－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中宋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24"/>
          <p:cNvSpPr/>
          <p:nvPr/>
        </p:nvSpPr>
        <p:spPr>
          <a:xfrm>
            <a:off x="3803400" y="44337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中宋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25"/>
          <p:cNvSpPr/>
          <p:nvPr/>
        </p:nvSpPr>
        <p:spPr>
          <a:xfrm>
            <a:off x="7198560" y="292104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－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中宋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26"/>
          <p:cNvSpPr/>
          <p:nvPr/>
        </p:nvSpPr>
        <p:spPr>
          <a:xfrm>
            <a:off x="7342920" y="364176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－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中宋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27"/>
          <p:cNvSpPr/>
          <p:nvPr/>
        </p:nvSpPr>
        <p:spPr>
          <a:xfrm>
            <a:off x="6972120" y="13366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中宋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28"/>
          <p:cNvSpPr/>
          <p:nvPr/>
        </p:nvSpPr>
        <p:spPr>
          <a:xfrm>
            <a:off x="7332480" y="43624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中宋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30"/>
          <p:cNvSpPr/>
          <p:nvPr/>
        </p:nvSpPr>
        <p:spPr>
          <a:xfrm>
            <a:off x="8028000" y="213372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中宋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WordArt 32"/>
          <p:cNvSpPr txBox="1"/>
          <p:nvPr/>
        </p:nvSpPr>
        <p:spPr>
          <a:xfrm>
            <a:off x="4643280" y="189000"/>
            <a:ext cx="3168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谁是口算王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2" name="Text Box 38"/>
          <p:cNvSpPr/>
          <p:nvPr/>
        </p:nvSpPr>
        <p:spPr>
          <a:xfrm>
            <a:off x="5751000" y="5661000"/>
            <a:ext cx="247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商的符号如何确定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中宋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2"/>
          <p:cNvSpPr/>
          <p:nvPr/>
        </p:nvSpPr>
        <p:spPr>
          <a:xfrm>
            <a:off x="0" y="2637000"/>
            <a:ext cx="4968720" cy="27352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84360" y="476280"/>
            <a:ext cx="4824360" cy="2449800"/>
            <a:chOff x="684360" y="476280"/>
            <a:chExt cx="4824360" cy="2449800"/>
          </a:xfrm>
        </p:grpSpPr>
        <p:sp>
          <p:nvSpPr>
            <p:cNvPr id="185" name="Text Box 4"/>
            <p:cNvSpPr/>
            <p:nvPr/>
          </p:nvSpPr>
          <p:spPr>
            <a:xfrm>
              <a:off x="755640" y="549360"/>
              <a:ext cx="28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正数除以正数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Text Box 5"/>
            <p:cNvSpPr/>
            <p:nvPr/>
          </p:nvSpPr>
          <p:spPr>
            <a:xfrm>
              <a:off x="684360" y="1469880"/>
              <a:ext cx="28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负数除以正数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Text Box 6"/>
            <p:cNvSpPr/>
            <p:nvPr/>
          </p:nvSpPr>
          <p:spPr>
            <a:xfrm>
              <a:off x="755640" y="2333520"/>
              <a:ext cx="28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零除以正数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3637080" y="476280"/>
              <a:ext cx="172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新宋体"/>
                </a:rPr>
                <a:t>8÷4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Rectangle 8"/>
            <p:cNvSpPr/>
            <p:nvPr/>
          </p:nvSpPr>
          <p:spPr>
            <a:xfrm>
              <a:off x="3492720" y="1409760"/>
              <a:ext cx="201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新宋体"/>
                </a:rPr>
                <a:t>(-8)÷4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Rectangle 9"/>
            <p:cNvSpPr/>
            <p:nvPr/>
          </p:nvSpPr>
          <p:spPr>
            <a:xfrm>
              <a:off x="3719520" y="2344680"/>
              <a:ext cx="164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新宋体"/>
                </a:rPr>
                <a:t>0÷4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724360" y="189000"/>
            <a:ext cx="1558800" cy="3023640"/>
            <a:chOff x="5724360" y="189000"/>
            <a:chExt cx="1558800" cy="3023640"/>
          </a:xfrm>
        </p:grpSpPr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5724360" y="1125360"/>
                  <a:ext cx="1558800" cy="115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t xml:space="preserve">×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5800680" y="2061720"/>
                  <a:ext cx="1003320" cy="1150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t xml:space="preserve">÷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t xml:space="preserve">8</m:t>
                      </m:r>
                      <m:r>
                        <m:t xml:space="preserve">×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5795640" y="189000"/>
                  <a:ext cx="965520" cy="115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)</m:t>
                      </m:r>
                      <m:r>
                        <m:t xml:space="preserve">÷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)</m:t>
                      </m:r>
                      <m:r>
                        <m:t xml:space="preserve">×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5" name="Rectangle 14"/>
          <p:cNvSpPr/>
          <p:nvPr/>
        </p:nvSpPr>
        <p:spPr>
          <a:xfrm>
            <a:off x="1247040" y="3357720"/>
            <a:ext cx="29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因为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-2)×4= -8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Rectangle 15"/>
          <p:cNvSpPr/>
          <p:nvPr/>
        </p:nvSpPr>
        <p:spPr>
          <a:xfrm>
            <a:off x="1216440" y="4149720"/>
            <a:ext cx="28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所以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-8)÷4= -2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916360" y="3213000"/>
            <a:ext cx="3671640" cy="2879640"/>
            <a:chOff x="2916360" y="3213000"/>
            <a:chExt cx="3671640" cy="2879640"/>
          </a:xfrm>
        </p:grpSpPr>
        <p:sp>
          <p:nvSpPr>
            <p:cNvPr id="198" name="Rectangle 17"/>
            <p:cNvSpPr/>
            <p:nvPr/>
          </p:nvSpPr>
          <p:spPr>
            <a:xfrm>
              <a:off x="2916360" y="3213000"/>
              <a:ext cx="3671640" cy="2879640"/>
            </a:xfrm>
            <a:prstGeom prst="rect">
              <a:avLst/>
            </a:prstGeom>
            <a:noFill/>
            <a:ln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3365280" y="3213000"/>
                  <a:ext cx="264600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÷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×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3076200" y="3933720"/>
                  <a:ext cx="3377880" cy="86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b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3274920" y="4868640"/>
                  <a:ext cx="2520360" cy="93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2" name="Text Box 21"/>
          <p:cNvSpPr/>
          <p:nvPr/>
        </p:nvSpPr>
        <p:spPr>
          <a:xfrm>
            <a:off x="1476360" y="6021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omic Sans MS"/>
              </a:rPr>
              <a:t>除以一个非零的数等于乘以这个正数的倒数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4788000" y="476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=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23"/>
          <p:cNvSpPr/>
          <p:nvPr/>
        </p:nvSpPr>
        <p:spPr>
          <a:xfrm>
            <a:off x="4788000" y="1413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=-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24"/>
          <p:cNvSpPr/>
          <p:nvPr/>
        </p:nvSpPr>
        <p:spPr>
          <a:xfrm>
            <a:off x="4788000" y="2349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25"/>
          <p:cNvSpPr/>
          <p:nvPr/>
        </p:nvSpPr>
        <p:spPr>
          <a:xfrm>
            <a:off x="6804000" y="476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=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26"/>
          <p:cNvSpPr/>
          <p:nvPr/>
        </p:nvSpPr>
        <p:spPr>
          <a:xfrm>
            <a:off x="7236000" y="1413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=-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27"/>
          <p:cNvSpPr/>
          <p:nvPr/>
        </p:nvSpPr>
        <p:spPr>
          <a:xfrm>
            <a:off x="6877080" y="2349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755640" y="506520"/>
            <a:ext cx="52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新宋体"/>
              </a:rPr>
              <a:t>有理数除法法则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新宋体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1908000" y="2924280"/>
            <a:ext cx="60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新宋体"/>
              </a:rPr>
              <a:t>a</a:t>
            </a:r>
            <a:r>
              <a:rPr b="1" lang="en-US" sz="5400" spc="-1" strike="noStrike">
                <a:solidFill>
                  <a:srgbClr val="2f01b1"/>
                </a:solidFill>
                <a:latin typeface="Times New Roman"/>
                <a:ea typeface="新宋体"/>
              </a:rPr>
              <a:t>÷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新宋体"/>
              </a:rPr>
              <a:t>b=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新宋体"/>
              </a:rPr>
              <a:t>a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新宋体"/>
              </a:rPr>
              <a:t> </a:t>
            </a:r>
            <a:r>
              <a:rPr b="1" lang="en-US" sz="5400" spc="-1" strike="noStrike">
                <a:solidFill>
                  <a:srgbClr val="2f01b1"/>
                </a:solidFill>
                <a:latin typeface="Times New Roman"/>
                <a:ea typeface="新宋体"/>
              </a:rPr>
              <a:t>·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新宋体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新宋体"/>
              </a:rPr>
              <a:t>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新宋体"/>
              </a:rPr>
              <a:t>(b≠0)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4429080" y="2349360"/>
                <a:ext cx="104472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Text Box 6"/>
          <p:cNvSpPr/>
          <p:nvPr/>
        </p:nvSpPr>
        <p:spPr>
          <a:xfrm>
            <a:off x="2514600" y="5357880"/>
            <a:ext cx="3497400" cy="12909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除          乘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除数            倒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1066680" y="43657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注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除法在运算时有 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要素要发生变化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3419640" y="515772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变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3851280" y="587700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变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3429000" y="5662440"/>
            <a:ext cx="838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3708360" y="645336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611280" y="1484280"/>
            <a:ext cx="817236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除以一个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中宋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等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中宋"/>
              </a:rPr>
              <a:t>_________________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4211640" y="1484280"/>
            <a:ext cx="52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中宋"/>
              </a:rPr>
              <a:t>乘以这个数的倒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2031840" y="3344760"/>
            <a:ext cx="508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宋体"/>
              </a:rPr>
              <a:t>Z.x.x. K </a:t>
            </a: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790560" y="404640"/>
            <a:ext cx="83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新宋体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宋体"/>
              </a:rPr>
              <a:t>1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新宋体"/>
              </a:rPr>
              <a:t>计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宋体"/>
              </a:rPr>
              <a:t>:    (1)   (-36) ÷9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宋体"/>
              </a:rPr>
              <a:t>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宋体"/>
              </a:rPr>
              <a:t>(2)   (           ) ÷(             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067280" y="907920"/>
                <a:ext cx="10270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6227640" y="836640"/>
                <a:ext cx="7905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" name="Text Box 5"/>
          <p:cNvSpPr/>
          <p:nvPr/>
        </p:nvSpPr>
        <p:spPr>
          <a:xfrm>
            <a:off x="2087640" y="4221000"/>
            <a:ext cx="705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3327480" y="36640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132000" y="3933720"/>
            <a:ext cx="4968720" cy="1224000"/>
            <a:chOff x="3132000" y="3933720"/>
            <a:chExt cx="4968720" cy="1224000"/>
          </a:xfrm>
        </p:grpSpPr>
        <mc:AlternateContent>
          <mc:Choice xmlns:a14="http://schemas.microsoft.com/office/drawing/2010/main" Requires="a14">
            <p:sp>
              <p:nvSpPr>
                <p:cNvPr id="227" name=""/>
                <p:cNvSpPr txBox="1"/>
                <p:nvPr/>
              </p:nvSpPr>
              <p:spPr>
                <a:xfrm>
                  <a:off x="5746680" y="3933720"/>
                  <a:ext cx="858600" cy="12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228" name=""/>
            <p:cNvGrpSpPr/>
            <p:nvPr/>
          </p:nvGrpSpPr>
          <p:grpSpPr>
            <a:xfrm>
              <a:off x="3132000" y="3933720"/>
              <a:ext cx="4968720" cy="1224000"/>
              <a:chOff x="3132000" y="3933720"/>
              <a:chExt cx="4968720" cy="1224000"/>
            </a:xfrm>
          </p:grpSpPr>
          <p:sp>
            <p:nvSpPr>
              <p:cNvPr id="229" name="Text Box 10"/>
              <p:cNvSpPr/>
              <p:nvPr/>
            </p:nvSpPr>
            <p:spPr>
              <a:xfrm>
                <a:off x="3132000" y="4292640"/>
                <a:ext cx="503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0" name=""/>
                  <p:cNvSpPr txBox="1"/>
                  <p:nvPr/>
                </p:nvSpPr>
                <p:spPr>
                  <a:xfrm>
                    <a:off x="3635280" y="3933720"/>
                    <a:ext cx="1116000" cy="1224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31" name="Text Box 12"/>
              <p:cNvSpPr/>
              <p:nvPr/>
            </p:nvSpPr>
            <p:spPr>
              <a:xfrm>
                <a:off x="4964040" y="4294080"/>
                <a:ext cx="31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Comic Sans MS"/>
                  </a:rPr>
                  <a:t>×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Comic Sans MS"/>
                  </a:rPr>
                  <a:t> (      )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3203640" y="5084640"/>
            <a:ext cx="3024000" cy="1224000"/>
            <a:chOff x="3203640" y="5084640"/>
            <a:chExt cx="3024000" cy="1224000"/>
          </a:xfrm>
        </p:grpSpPr>
        <p:sp>
          <p:nvSpPr>
            <p:cNvPr id="233" name="Text Box 14"/>
            <p:cNvSpPr/>
            <p:nvPr/>
          </p:nvSpPr>
          <p:spPr>
            <a:xfrm>
              <a:off x="3203640" y="5445000"/>
              <a:ext cx="30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3779640" y="5084640"/>
                  <a:ext cx="472680" cy="12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5" name=""/>
          <p:cNvGrpSpPr/>
          <p:nvPr/>
        </p:nvGrpSpPr>
        <p:grpSpPr>
          <a:xfrm>
            <a:off x="1258920" y="1773360"/>
            <a:ext cx="7129440" cy="1224000"/>
            <a:chOff x="1258920" y="1773360"/>
            <a:chExt cx="7129440" cy="1224000"/>
          </a:xfrm>
        </p:grpSpPr>
        <p:sp>
          <p:nvSpPr>
            <p:cNvPr id="236" name="Text Box 17"/>
            <p:cNvSpPr/>
            <p:nvPr/>
          </p:nvSpPr>
          <p:spPr>
            <a:xfrm>
              <a:off x="1258920" y="2133720"/>
              <a:ext cx="712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omic Sans MS"/>
                </a:rPr>
                <a:t>解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:       (1)   (-36) ÷9 =(-36) </a:t>
              </a:r>
              <a:r>
                <a:rPr b="1" lang="en-US" sz="2800" spc="-1" strike="noStrike">
                  <a:solidFill>
                    <a:srgbClr val="ff3300"/>
                  </a:solidFill>
                  <a:latin typeface="Comic Sans MS"/>
                </a:rPr>
                <a:t>×</a:t>
              </a: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=-4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6372360" y="1773360"/>
                  <a:ext cx="434880" cy="12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8" name=""/>
          <p:cNvGrpSpPr/>
          <p:nvPr/>
        </p:nvGrpSpPr>
        <p:grpSpPr>
          <a:xfrm>
            <a:off x="2484360" y="2708280"/>
            <a:ext cx="5472000" cy="1224000"/>
            <a:chOff x="2484360" y="2708280"/>
            <a:chExt cx="5472000" cy="1224000"/>
          </a:xfrm>
        </p:grpSpPr>
        <p:sp>
          <p:nvSpPr>
            <p:cNvPr id="239" name="Text Box 20"/>
            <p:cNvSpPr/>
            <p:nvPr/>
          </p:nvSpPr>
          <p:spPr>
            <a:xfrm>
              <a:off x="2484360" y="3068640"/>
              <a:ext cx="54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(2)                      (        )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3419280" y="2708280"/>
              <a:ext cx="2879640" cy="1224000"/>
              <a:chOff x="3419280" y="2708280"/>
              <a:chExt cx="2879640" cy="1224000"/>
            </a:xfrm>
          </p:grpSpPr>
          <mc:AlternateContent>
            <mc:Choice xmlns:a14="http://schemas.microsoft.com/office/drawing/2010/main" Requires="a14">
              <p:sp>
                <p:nvSpPr>
                  <p:cNvPr id="241" name=""/>
                  <p:cNvSpPr txBox="1"/>
                  <p:nvPr/>
                </p:nvSpPr>
                <p:spPr>
                  <a:xfrm>
                    <a:off x="3419280" y="2708280"/>
                    <a:ext cx="1116000" cy="1224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42" name="Text Box 23"/>
              <p:cNvSpPr/>
              <p:nvPr/>
            </p:nvSpPr>
            <p:spPr>
              <a:xfrm>
                <a:off x="4748040" y="3068640"/>
                <a:ext cx="625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mic Sans MS"/>
                  </a:rPr>
                  <a:t>÷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43" name=""/>
                  <p:cNvSpPr txBox="1"/>
                  <p:nvPr/>
                </p:nvSpPr>
                <p:spPr>
                  <a:xfrm>
                    <a:off x="5508360" y="2708280"/>
                    <a:ext cx="790560" cy="1224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1334880" y="2565360"/>
            <a:ext cx="293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6) ÷2=____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407960" y="3284640"/>
            <a:ext cx="30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12÷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4)=____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351440" y="1125360"/>
            <a:ext cx="233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72÷9=____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1175400" y="1773360"/>
            <a:ext cx="37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12)÷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4)=____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290240" y="4152960"/>
            <a:ext cx="281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0÷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6)=____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3382200" y="249228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－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中宋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3526560" y="3213000"/>
            <a:ext cx="74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－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中宋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2916360" y="105264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中宋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3327120" y="4149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中宋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WordArt 12"/>
          <p:cNvSpPr txBox="1"/>
          <p:nvPr/>
        </p:nvSpPr>
        <p:spPr>
          <a:xfrm>
            <a:off x="4067280" y="0"/>
            <a:ext cx="133020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探索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54" name="Rectangle 13"/>
          <p:cNvSpPr/>
          <p:nvPr/>
        </p:nvSpPr>
        <p:spPr>
          <a:xfrm>
            <a:off x="1138320" y="2565360"/>
            <a:ext cx="3578040" cy="1406520"/>
          </a:xfrm>
          <a:prstGeom prst="rect">
            <a:avLst/>
          </a:prstGeom>
          <a:noFill/>
          <a:ln w="572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Rectangle 14"/>
          <p:cNvSpPr/>
          <p:nvPr/>
        </p:nvSpPr>
        <p:spPr>
          <a:xfrm>
            <a:off x="1116000" y="4149720"/>
            <a:ext cx="3600360" cy="576360"/>
          </a:xfrm>
          <a:prstGeom prst="rect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Rectangle 15"/>
          <p:cNvSpPr/>
          <p:nvPr/>
        </p:nvSpPr>
        <p:spPr>
          <a:xfrm>
            <a:off x="1116000" y="981000"/>
            <a:ext cx="3600360" cy="1441440"/>
          </a:xfrm>
          <a:prstGeom prst="rect">
            <a:avLst/>
          </a:prstGeom>
          <a:noFill/>
          <a:ln w="5724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1707840" y="5373720"/>
            <a:ext cx="247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商的符号如何确定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中宋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17"/>
          <p:cNvSpPr/>
          <p:nvPr/>
        </p:nvSpPr>
        <p:spPr>
          <a:xfrm>
            <a:off x="5472000" y="5376960"/>
            <a:ext cx="27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商的绝对值如何确定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中宋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18"/>
          <p:cNvSpPr/>
          <p:nvPr/>
        </p:nvSpPr>
        <p:spPr>
          <a:xfrm>
            <a:off x="5871600" y="2492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异号两数相除得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19"/>
          <p:cNvSpPr/>
          <p:nvPr/>
        </p:nvSpPr>
        <p:spPr>
          <a:xfrm>
            <a:off x="5814720" y="3357720"/>
            <a:ext cx="221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中宋"/>
              </a:rPr>
              <a:t>,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并把绝对值相除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20"/>
          <p:cNvSpPr/>
          <p:nvPr/>
        </p:nvSpPr>
        <p:spPr>
          <a:xfrm>
            <a:off x="5799960" y="98100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华文中宋"/>
              </a:rPr>
              <a:t>同号两数相除得正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21"/>
          <p:cNvSpPr/>
          <p:nvPr/>
        </p:nvSpPr>
        <p:spPr>
          <a:xfrm>
            <a:off x="5741640" y="1700280"/>
            <a:ext cx="221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  <a:ea typeface="华文中宋"/>
              </a:rPr>
              <a:t>, 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华文中宋"/>
              </a:rPr>
              <a:t>并把绝对值相除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Text Box 22"/>
          <p:cNvSpPr/>
          <p:nvPr/>
        </p:nvSpPr>
        <p:spPr>
          <a:xfrm>
            <a:off x="5673600" y="4149720"/>
            <a:ext cx="26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零除以任何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非零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数得零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3995640" y="1700280"/>
            <a:ext cx="5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中宋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3" descr="20"/>
          <p:cNvPicPr/>
          <p:nvPr/>
        </p:nvPicPr>
        <p:blipFill>
          <a:blip r:embed="rId1"/>
          <a:stretch/>
        </p:blipFill>
        <p:spPr>
          <a:xfrm>
            <a:off x="0" y="-25560"/>
            <a:ext cx="9172440" cy="6883560"/>
          </a:xfrm>
          <a:prstGeom prst="rect">
            <a:avLst/>
          </a:prstGeom>
          <a:ln w="0">
            <a:noFill/>
          </a:ln>
        </p:spPr>
      </p:pic>
      <p:sp>
        <p:nvSpPr>
          <p:cNvPr id="266" name="WordArt 2"/>
          <p:cNvSpPr txBox="1"/>
          <p:nvPr/>
        </p:nvSpPr>
        <p:spPr>
          <a:xfrm>
            <a:off x="2124000" y="333360"/>
            <a:ext cx="482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有理数的除法法则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2361600" y="1871640"/>
            <a:ext cx="4820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r>
              <a:rPr b="1" lang="zh-CN" sz="3200" spc="-1" strike="noStrike" u="sng">
                <a:solidFill>
                  <a:srgbClr val="00b200"/>
                </a:solidFill>
                <a:uFillTx/>
                <a:latin typeface="华文中宋"/>
                <a:ea typeface="华文中宋"/>
              </a:rPr>
              <a:t>两个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有理数相除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同号得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____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异号得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_____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并把绝对值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__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除以任何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一个</a:t>
            </a:r>
            <a:r>
              <a:rPr b="1" lang="zh-CN" sz="2800" spc="-1" strike="noStrike" u="sng">
                <a:solidFill>
                  <a:srgbClr val="00b200"/>
                </a:solidFill>
                <a:uFillTx/>
                <a:latin typeface="Comic Sans MS"/>
              </a:rPr>
              <a:t>不等于</a:t>
            </a:r>
            <a:r>
              <a:rPr b="1" lang="en-US" sz="2800" spc="-1" strike="noStrike" u="sng">
                <a:solidFill>
                  <a:srgbClr val="00b200"/>
                </a:solidFill>
                <a:uFillTx/>
                <a:latin typeface="Comic Sans MS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的数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都得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6815520" y="1700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正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2999160" y="2343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6260040" y="2346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相除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7094520" y="32846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中宋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3197520" y="4365720"/>
            <a:ext cx="197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0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不能作为除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WordArt 9"/>
          <p:cNvSpPr txBox="1"/>
          <p:nvPr/>
        </p:nvSpPr>
        <p:spPr>
          <a:xfrm>
            <a:off x="1116000" y="4149720"/>
            <a:ext cx="93348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注意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74" name="Picture 10" descr="gifbj068"/>
          <p:cNvPicPr/>
          <p:nvPr/>
        </p:nvPicPr>
        <p:blipFill>
          <a:blip r:embed="rId2"/>
          <a:stretch/>
        </p:blipFill>
        <p:spPr>
          <a:xfrm>
            <a:off x="7380360" y="4724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1" descr="20048215431224"/>
          <p:cNvPicPr/>
          <p:nvPr/>
        </p:nvPicPr>
        <p:blipFill>
          <a:blip r:embed="rId3"/>
          <a:stretch/>
        </p:blipFill>
        <p:spPr>
          <a:xfrm>
            <a:off x="7236000" y="1341360"/>
            <a:ext cx="1439640" cy="1800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0" descr="20"/>
          <p:cNvPicPr/>
          <p:nvPr/>
        </p:nvPicPr>
        <p:blipFill>
          <a:blip r:embed="rId1"/>
          <a:stretch/>
        </p:blipFill>
        <p:spPr>
          <a:xfrm>
            <a:off x="0" y="-25560"/>
            <a:ext cx="9172440" cy="6883560"/>
          </a:xfrm>
          <a:prstGeom prst="rect">
            <a:avLst/>
          </a:prstGeom>
          <a:ln w="0">
            <a:noFill/>
          </a:ln>
        </p:spPr>
      </p:pic>
      <p:pic>
        <p:nvPicPr>
          <p:cNvPr id="277" name="WordArt 2" descr=""/>
          <p:cNvPicPr/>
          <p:nvPr/>
        </p:nvPicPr>
        <p:blipFill>
          <a:blip r:embed="rId2"/>
          <a:stretch/>
        </p:blipFill>
        <p:spPr>
          <a:xfrm>
            <a:off x="1316160" y="36360"/>
            <a:ext cx="1755720" cy="92736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3"/>
          <p:cNvSpPr/>
          <p:nvPr/>
        </p:nvSpPr>
        <p:spPr>
          <a:xfrm>
            <a:off x="1030680" y="907920"/>
            <a:ext cx="288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(1) 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8)÷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4507560" y="907920"/>
            <a:ext cx="30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(2) 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3.2)÷0.0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560" y="1773360"/>
            <a:ext cx="3947760" cy="725400"/>
            <a:chOff x="7560" y="1773360"/>
            <a:chExt cx="3947760" cy="725400"/>
          </a:xfrm>
        </p:grpSpPr>
        <p:sp>
          <p:nvSpPr>
            <p:cNvPr id="281" name="Text Box 5"/>
            <p:cNvSpPr/>
            <p:nvPr/>
          </p:nvSpPr>
          <p:spPr>
            <a:xfrm>
              <a:off x="7560" y="1773360"/>
              <a:ext cx="63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解</a:t>
              </a:r>
              <a:r>
                <a:rPr b="1" lang="en-US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Text Box 6"/>
            <p:cNvSpPr/>
            <p:nvPr/>
          </p:nvSpPr>
          <p:spPr>
            <a:xfrm>
              <a:off x="819720" y="1915920"/>
              <a:ext cx="1262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(1)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原式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Text Box 7"/>
            <p:cNvSpPr/>
            <p:nvPr/>
          </p:nvSpPr>
          <p:spPr>
            <a:xfrm>
              <a:off x="2125800" y="1917360"/>
              <a:ext cx="182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=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华文中宋"/>
                </a:rPr>
                <a:t>+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(        )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4" name="Text Box 8"/>
          <p:cNvSpPr/>
          <p:nvPr/>
        </p:nvSpPr>
        <p:spPr>
          <a:xfrm>
            <a:off x="2557800" y="263700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=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512240" y="2781360"/>
            <a:ext cx="4319280" cy="582840"/>
            <a:chOff x="4512240" y="2781360"/>
            <a:chExt cx="4319280" cy="582840"/>
          </a:xfrm>
        </p:grpSpPr>
        <p:sp>
          <p:nvSpPr>
            <p:cNvPr id="286" name="Text Box 9"/>
            <p:cNvSpPr/>
            <p:nvPr/>
          </p:nvSpPr>
          <p:spPr>
            <a:xfrm>
              <a:off x="4512240" y="2781360"/>
              <a:ext cx="1262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(2)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原式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Text Box 10"/>
            <p:cNvSpPr/>
            <p:nvPr/>
          </p:nvSpPr>
          <p:spPr>
            <a:xfrm>
              <a:off x="5794200" y="2782800"/>
              <a:ext cx="303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=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中宋"/>
                </a:rPr>
                <a:t>－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(                )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8" name="Text Box 11"/>
          <p:cNvSpPr/>
          <p:nvPr/>
        </p:nvSpPr>
        <p:spPr>
          <a:xfrm>
            <a:off x="5853600" y="3357720"/>
            <a:ext cx="130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35"/>
          <p:cNvSpPr/>
          <p:nvPr/>
        </p:nvSpPr>
        <p:spPr>
          <a:xfrm>
            <a:off x="870480" y="3789360"/>
            <a:ext cx="12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原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73"/>
          <p:cNvSpPr/>
          <p:nvPr/>
        </p:nvSpPr>
        <p:spPr>
          <a:xfrm>
            <a:off x="2771640" y="198900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8÷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 Box 74"/>
          <p:cNvSpPr/>
          <p:nvPr/>
        </p:nvSpPr>
        <p:spPr>
          <a:xfrm>
            <a:off x="6732720" y="285264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2÷0.0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Text Box 75"/>
          <p:cNvSpPr/>
          <p:nvPr/>
        </p:nvSpPr>
        <p:spPr>
          <a:xfrm>
            <a:off x="250920" y="314172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(</a:t>
            </a:r>
            <a:r>
              <a:rPr b="1" lang="zh-CN" sz="2800" spc="-1" strike="noStrike">
                <a:solidFill>
                  <a:srgbClr val="703dff"/>
                </a:solidFill>
                <a:latin typeface="Comic Sans MS"/>
              </a:rPr>
              <a:t>同号得正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,</a:t>
            </a:r>
            <a:r>
              <a:rPr b="1" lang="zh-CN" sz="2800" spc="-1" strike="noStrike">
                <a:solidFill>
                  <a:srgbClr val="703dff"/>
                </a:solidFill>
                <a:latin typeface="Comic Sans MS"/>
              </a:rPr>
              <a:t>绝对值相除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76"/>
          <p:cNvSpPr/>
          <p:nvPr/>
        </p:nvSpPr>
        <p:spPr>
          <a:xfrm>
            <a:off x="611280" y="566100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(</a:t>
            </a:r>
            <a:r>
              <a:rPr b="1" lang="zh-CN" sz="2800" spc="-1" strike="noStrike">
                <a:solidFill>
                  <a:srgbClr val="703dff"/>
                </a:solidFill>
                <a:latin typeface="Comic Sans MS"/>
              </a:rPr>
              <a:t>同号得正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,</a:t>
            </a:r>
            <a:r>
              <a:rPr b="1" lang="zh-CN" sz="2800" spc="-1" strike="noStrike">
                <a:solidFill>
                  <a:srgbClr val="703dff"/>
                </a:solidFill>
                <a:latin typeface="Comic Sans MS"/>
              </a:rPr>
              <a:t>绝对值相除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 Box 77"/>
          <p:cNvSpPr/>
          <p:nvPr/>
        </p:nvSpPr>
        <p:spPr>
          <a:xfrm>
            <a:off x="4932360" y="393372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(</a:t>
            </a:r>
            <a:r>
              <a:rPr b="1" lang="zh-CN" sz="2800" spc="-1" strike="noStrike">
                <a:solidFill>
                  <a:srgbClr val="703dff"/>
                </a:solidFill>
                <a:latin typeface="Comic Sans MS"/>
              </a:rPr>
              <a:t>异号得负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,</a:t>
            </a:r>
            <a:r>
              <a:rPr b="1" lang="zh-CN" sz="2800" spc="-1" strike="noStrike">
                <a:solidFill>
                  <a:srgbClr val="703dff"/>
                </a:solidFill>
                <a:latin typeface="Comic Sans MS"/>
              </a:rPr>
              <a:t>绝对值相除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500720" y="1484280"/>
            <a:ext cx="3600360" cy="1212840"/>
            <a:chOff x="4500720" y="1484280"/>
            <a:chExt cx="3600360" cy="1212840"/>
          </a:xfrm>
        </p:grpSpPr>
        <p:sp>
          <p:nvSpPr>
            <p:cNvPr id="296" name="AutoShape 78"/>
            <p:cNvSpPr/>
            <p:nvPr/>
          </p:nvSpPr>
          <p:spPr>
            <a:xfrm>
              <a:off x="4500720" y="1484280"/>
              <a:ext cx="3600360" cy="12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7" name="Line 80"/>
            <p:cNvSpPr/>
            <p:nvPr/>
          </p:nvSpPr>
          <p:spPr>
            <a:xfrm>
              <a:off x="6150240" y="2090880"/>
              <a:ext cx="2379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8" name="Rectangle 81"/>
            <p:cNvSpPr/>
            <p:nvPr/>
          </p:nvSpPr>
          <p:spPr>
            <a:xfrm>
              <a:off x="5565600" y="1700280"/>
              <a:ext cx="22320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4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9" name="Rectangle 82"/>
            <p:cNvSpPr/>
            <p:nvPr/>
          </p:nvSpPr>
          <p:spPr>
            <a:xfrm>
              <a:off x="6429240" y="1700280"/>
              <a:ext cx="22320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4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0" name="Rectangle 83"/>
            <p:cNvSpPr/>
            <p:nvPr/>
          </p:nvSpPr>
          <p:spPr>
            <a:xfrm>
              <a:off x="7092360" y="1627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1" name="Rectangle 85"/>
            <p:cNvSpPr/>
            <p:nvPr/>
          </p:nvSpPr>
          <p:spPr>
            <a:xfrm>
              <a:off x="7092360" y="22035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Rectangle 86"/>
            <p:cNvSpPr/>
            <p:nvPr/>
          </p:nvSpPr>
          <p:spPr>
            <a:xfrm>
              <a:off x="6163920" y="2151000"/>
              <a:ext cx="2170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Rectangle 87"/>
            <p:cNvSpPr/>
            <p:nvPr/>
          </p:nvSpPr>
          <p:spPr>
            <a:xfrm>
              <a:off x="6160680" y="1546200"/>
              <a:ext cx="2170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4" name="Rectangle 89"/>
            <p:cNvSpPr/>
            <p:nvPr/>
          </p:nvSpPr>
          <p:spPr>
            <a:xfrm>
              <a:off x="4899240" y="1816200"/>
              <a:ext cx="1440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5" name="Rectangle 90"/>
            <p:cNvSpPr/>
            <p:nvPr/>
          </p:nvSpPr>
          <p:spPr>
            <a:xfrm>
              <a:off x="4698720" y="1816200"/>
              <a:ext cx="2170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" name="Rectangle 91"/>
            <p:cNvSpPr/>
            <p:nvPr/>
          </p:nvSpPr>
          <p:spPr>
            <a:xfrm>
              <a:off x="4557960" y="1816200"/>
              <a:ext cx="1440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Rectangle 92"/>
            <p:cNvSpPr/>
            <p:nvPr/>
          </p:nvSpPr>
          <p:spPr>
            <a:xfrm>
              <a:off x="7139160" y="1843200"/>
              <a:ext cx="1440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Rectangle 94"/>
            <p:cNvSpPr/>
            <p:nvPr/>
          </p:nvSpPr>
          <p:spPr>
            <a:xfrm>
              <a:off x="6732360" y="1843200"/>
              <a:ext cx="1468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</a:t>
              </a:r>
              <a:endParaRPr b="0" lang="en-US" sz="3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Rectangle 100"/>
            <p:cNvSpPr/>
            <p:nvPr/>
          </p:nvSpPr>
          <p:spPr>
            <a:xfrm>
              <a:off x="5772240" y="1843200"/>
              <a:ext cx="1440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0" name="Text Box 122"/>
          <p:cNvSpPr/>
          <p:nvPr/>
        </p:nvSpPr>
        <p:spPr>
          <a:xfrm>
            <a:off x="2195640" y="429264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(a1/6×3/2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Text Box 123"/>
          <p:cNvSpPr/>
          <p:nvPr/>
        </p:nvSpPr>
        <p:spPr>
          <a:xfrm>
            <a:off x="2266920" y="49417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1/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Text Box 125"/>
          <p:cNvSpPr/>
          <p:nvPr/>
        </p:nvSpPr>
        <p:spPr>
          <a:xfrm>
            <a:off x="2266920" y="371628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1/6÷2/3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031840" y="3344760"/>
            <a:ext cx="5080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宋体"/>
              </a:rPr>
              <a:t>Zx.xk </a:t>
            </a:r>
            <a:endParaRPr b="0" lang="en-US" sz="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20"/>
          <p:cNvPicPr/>
          <p:nvPr/>
        </p:nvPicPr>
        <p:blipFill>
          <a:blip r:embed="rId1"/>
          <a:stretch/>
        </p:blipFill>
        <p:spPr>
          <a:xfrm>
            <a:off x="0" y="-25560"/>
            <a:ext cx="9172440" cy="6883560"/>
          </a:xfrm>
          <a:prstGeom prst="rect">
            <a:avLst/>
          </a:prstGeom>
          <a:ln w="0">
            <a:noFill/>
          </a:ln>
        </p:spPr>
      </p:pic>
      <p:pic>
        <p:nvPicPr>
          <p:cNvPr id="315" name="WordArt 3" descr=""/>
          <p:cNvPicPr/>
          <p:nvPr/>
        </p:nvPicPr>
        <p:blipFill>
          <a:blip r:embed="rId2"/>
          <a:stretch/>
        </p:blipFill>
        <p:spPr>
          <a:xfrm>
            <a:off x="1316160" y="36360"/>
            <a:ext cx="1755720" cy="92736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4"/>
          <p:cNvSpPr/>
          <p:nvPr/>
        </p:nvSpPr>
        <p:spPr>
          <a:xfrm>
            <a:off x="1030680" y="907920"/>
            <a:ext cx="288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(1) 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8)÷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4507560" y="907920"/>
            <a:ext cx="30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(2) 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3.2)÷0.0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Text Box 22"/>
          <p:cNvSpPr/>
          <p:nvPr/>
        </p:nvSpPr>
        <p:spPr>
          <a:xfrm>
            <a:off x="468360" y="3902040"/>
            <a:ext cx="6253200" cy="13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求解中的第一步是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Rectangle 23"/>
          <p:cNvSpPr/>
          <p:nvPr/>
        </p:nvSpPr>
        <p:spPr>
          <a:xfrm>
            <a:off x="611280" y="450864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确定商的符号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Rectangle 24"/>
          <p:cNvSpPr/>
          <p:nvPr/>
        </p:nvSpPr>
        <p:spPr>
          <a:xfrm>
            <a:off x="980280" y="5599080"/>
            <a:ext cx="551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第二步是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Rectangle 30"/>
          <p:cNvSpPr/>
          <p:nvPr/>
        </p:nvSpPr>
        <p:spPr>
          <a:xfrm>
            <a:off x="3276720" y="560700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绝对值相除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971640" y="1917720"/>
            <a:ext cx="3600360" cy="1212840"/>
            <a:chOff x="971640" y="1917720"/>
            <a:chExt cx="3600360" cy="1212840"/>
          </a:xfrm>
        </p:grpSpPr>
        <p:sp>
          <p:nvSpPr>
            <p:cNvPr id="323" name="AutoShape 33"/>
            <p:cNvSpPr/>
            <p:nvPr/>
          </p:nvSpPr>
          <p:spPr>
            <a:xfrm>
              <a:off x="971640" y="1917720"/>
              <a:ext cx="3600360" cy="12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" name="Line 34"/>
            <p:cNvSpPr/>
            <p:nvPr/>
          </p:nvSpPr>
          <p:spPr>
            <a:xfrm>
              <a:off x="2621160" y="2524320"/>
              <a:ext cx="2379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5" name="Rectangle 35"/>
            <p:cNvSpPr/>
            <p:nvPr/>
          </p:nvSpPr>
          <p:spPr>
            <a:xfrm>
              <a:off x="2036520" y="2133720"/>
              <a:ext cx="22320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</a:t>
              </a:r>
              <a:endParaRPr b="0" lang="en-US" sz="4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" name="Rectangle 36"/>
            <p:cNvSpPr/>
            <p:nvPr/>
          </p:nvSpPr>
          <p:spPr>
            <a:xfrm>
              <a:off x="2900160" y="2133720"/>
              <a:ext cx="22320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</a:t>
              </a:r>
              <a:endParaRPr b="0" lang="en-US" sz="45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" name="Rectangle 37"/>
            <p:cNvSpPr/>
            <p:nvPr/>
          </p:nvSpPr>
          <p:spPr>
            <a:xfrm>
              <a:off x="3563280" y="206064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8" name="Rectangle 38"/>
            <p:cNvSpPr/>
            <p:nvPr/>
          </p:nvSpPr>
          <p:spPr>
            <a:xfrm>
              <a:off x="3563280" y="26370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Rectangle 39"/>
            <p:cNvSpPr/>
            <p:nvPr/>
          </p:nvSpPr>
          <p:spPr>
            <a:xfrm>
              <a:off x="2634840" y="2584440"/>
              <a:ext cx="2170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Rectangle 40"/>
            <p:cNvSpPr/>
            <p:nvPr/>
          </p:nvSpPr>
          <p:spPr>
            <a:xfrm>
              <a:off x="2631600" y="1979640"/>
              <a:ext cx="2170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Rectangle 41"/>
            <p:cNvSpPr/>
            <p:nvPr/>
          </p:nvSpPr>
          <p:spPr>
            <a:xfrm>
              <a:off x="1370160" y="2249640"/>
              <a:ext cx="1440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3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Rectangle 42"/>
            <p:cNvSpPr/>
            <p:nvPr/>
          </p:nvSpPr>
          <p:spPr>
            <a:xfrm>
              <a:off x="1169640" y="2249640"/>
              <a:ext cx="2170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Rectangle 43"/>
            <p:cNvSpPr/>
            <p:nvPr/>
          </p:nvSpPr>
          <p:spPr>
            <a:xfrm>
              <a:off x="1028880" y="2249640"/>
              <a:ext cx="1440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3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Rectangle 44"/>
            <p:cNvSpPr/>
            <p:nvPr/>
          </p:nvSpPr>
          <p:spPr>
            <a:xfrm>
              <a:off x="3610080" y="2276640"/>
              <a:ext cx="1440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Rectangle 45"/>
            <p:cNvSpPr/>
            <p:nvPr/>
          </p:nvSpPr>
          <p:spPr>
            <a:xfrm>
              <a:off x="3060720" y="2276640"/>
              <a:ext cx="43200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Rectangle 46"/>
            <p:cNvSpPr/>
            <p:nvPr/>
          </p:nvSpPr>
          <p:spPr>
            <a:xfrm>
              <a:off x="2243160" y="2276640"/>
              <a:ext cx="14400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0" lang="en-US" sz="3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3203640" y="242100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0T08:03:59Z</dcterms:created>
  <dc:creator>sdfsdf</dc:creator>
  <dc:description/>
  <cp:keywords/>
  <dc:language>en-US</dc:language>
  <cp:lastModifiedBy>asus</cp:lastModifiedBy>
  <cp:lastPrinted>1899-12-30T00:00:00Z</cp:lastPrinted>
  <dcterms:modified xsi:type="dcterms:W3CDTF">2014-11-14T01:36:51Z</dcterms:modified>
  <cp:revision>2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