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1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10.gif" ContentType="image/gif"/>
  <Override PartName="/ppt/media/image9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810-37EA-4104-8B8D-9CEC935F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49A-8541-44A9-82A4-104BD5C8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260-7FFD-40BA-8D10-64AFB468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99B-D0AB-4232-8FC8-54283055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8061-E3DA-45EA-8A5B-CDC987CF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5697-D008-4CAC-B69A-E9E02315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4830-0B18-43A0-ABD1-7E338A8B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9FE-DD77-4EA5-86E9-BBD7C0CF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7658-E84E-412D-B03E-CDE0793F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6477-130F-4558-9033-FCFA73B2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180-B876-4D98-82EE-E2BDEF6A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D758-0903-4802-BD84-3C985FFB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D3A5-1480-4F03-AB79-8F1C63564725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6840" y="199872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1.4.2</a:t>
            </a:r>
            <a:r>
              <a:rPr b="1" lang="zh-CN" sz="6000" spc="-1" strike="noStrike">
                <a:solidFill>
                  <a:srgbClr val="0000ff"/>
                </a:solidFill>
                <a:latin typeface="Calibri"/>
              </a:rPr>
              <a:t>有理数的除法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第二课时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468360" y="119700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某公司去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~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月平均每月亏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万元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~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月平均每月盈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万元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~1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月平均每月盈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万元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1~1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月平均每月亏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万元，这个公司去年总盈亏情况如何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611280" y="299736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解：记盈利额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亏损额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负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公司去年全年总的盈亏（单位：万元）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826920" y="4076640"/>
            <a:ext cx="70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1.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×3+2 ×3+1.7 ×4+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2.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×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190520" y="472428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-4.5+6+6.8-4.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1189440" y="52293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3.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039040" y="5805360"/>
            <a:ext cx="38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答：这个公司去年全年盈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万元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WordArt 13"/>
          <p:cNvSpPr txBox="1"/>
          <p:nvPr/>
        </p:nvSpPr>
        <p:spPr>
          <a:xfrm>
            <a:off x="539640" y="189000"/>
            <a:ext cx="309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数学在你我身边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7" descr="pic_2205751231"/>
          <p:cNvPicPr/>
          <p:nvPr/>
        </p:nvPicPr>
        <p:blipFill>
          <a:blip r:embed="rId1"/>
          <a:stretch/>
        </p:blipFill>
        <p:spPr>
          <a:xfrm>
            <a:off x="7775640" y="1989000"/>
            <a:ext cx="1368360" cy="2276640"/>
          </a:xfrm>
          <a:prstGeom prst="rect">
            <a:avLst/>
          </a:prstGeom>
          <a:ln w="0">
            <a:noFill/>
          </a:ln>
        </p:spPr>
      </p:pic>
      <p:sp>
        <p:nvSpPr>
          <p:cNvPr id="164" name="WordArt 28"/>
          <p:cNvSpPr txBox="1"/>
          <p:nvPr/>
        </p:nvSpPr>
        <p:spPr>
          <a:xfrm>
            <a:off x="2916360" y="90792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利用计算器计算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5" name="WordArt 29"/>
          <p:cNvSpPr txBox="1"/>
          <p:nvPr/>
        </p:nvSpPr>
        <p:spPr>
          <a:xfrm>
            <a:off x="0" y="189000"/>
            <a:ext cx="1224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探究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6" name="Text Box 30"/>
          <p:cNvSpPr/>
          <p:nvPr/>
        </p:nvSpPr>
        <p:spPr>
          <a:xfrm>
            <a:off x="755640" y="1773360"/>
            <a:ext cx="70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1.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×3+2 ×3+1.7 ×4+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2.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×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1"/>
          <p:cNvSpPr/>
          <p:nvPr/>
        </p:nvSpPr>
        <p:spPr>
          <a:xfrm>
            <a:off x="1116000" y="3933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果计算器的品牌不同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就参照自己计算器的使用说明进行自学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39"/>
          <p:cNvGrpSpPr/>
          <p:nvPr/>
        </p:nvGrpSpPr>
        <p:grpSpPr>
          <a:xfrm>
            <a:off x="1187280" y="2637000"/>
            <a:ext cx="6624720" cy="1130040"/>
            <a:chOff x="1187280" y="2637000"/>
            <a:chExt cx="6624720" cy="1130040"/>
          </a:xfrm>
        </p:grpSpPr>
        <p:sp>
          <p:nvSpPr>
            <p:cNvPr id="169" name="Text Box 37"/>
            <p:cNvSpPr/>
            <p:nvPr/>
          </p:nvSpPr>
          <p:spPr>
            <a:xfrm>
              <a:off x="1187280" y="2637000"/>
              <a:ext cx="662472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如果计算器带符号键              ，就根据教材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7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页，自学计算器的用法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38"/>
            <p:cNvSpPr/>
            <p:nvPr/>
          </p:nvSpPr>
          <p:spPr>
            <a:xfrm>
              <a:off x="5148360" y="2637000"/>
              <a:ext cx="960480" cy="504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（－）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755640" y="1413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用计算器计算（结果保留两位小数）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44856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  <a:ea typeface="华文行楷"/>
              </a:rPr>
              <a:t>课堂小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11280" y="3860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×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684360" y="4508640"/>
            <a:ext cx="88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25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÷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5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÷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.19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611280" y="31417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13+4.62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.4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611280" y="2276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57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5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26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280" y="1052640"/>
            <a:ext cx="807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．计算．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1+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-2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-3×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-1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；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8" name="Object 14"/>
          <p:cNvGraphicFramePr/>
          <p:nvPr/>
        </p:nvGraphicFramePr>
        <p:xfrm>
          <a:off x="1738440" y="3429000"/>
          <a:ext cx="501948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3429000"/>
                    <a:ext cx="50194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0"/>
          <p:cNvGraphicFramePr/>
          <p:nvPr/>
        </p:nvGraphicFramePr>
        <p:xfrm>
          <a:off x="1978200" y="2565360"/>
          <a:ext cx="432432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8200" y="2565360"/>
                    <a:ext cx="43243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6"/>
          <p:cNvGraphicFramePr/>
          <p:nvPr/>
        </p:nvGraphicFramePr>
        <p:xfrm>
          <a:off x="1547640" y="4581360"/>
          <a:ext cx="5040360" cy="122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4581360"/>
                    <a:ext cx="50403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1908000" y="4797360"/>
            <a:ext cx="6019920" cy="1295280"/>
            <a:chOff x="1908000" y="4797360"/>
            <a:chExt cx="6019920" cy="1295280"/>
          </a:xfrm>
        </p:grpSpPr>
        <p:grpSp>
          <p:nvGrpSpPr>
            <p:cNvPr id="185" name="Group 3"/>
            <p:cNvGrpSpPr/>
            <p:nvPr/>
          </p:nvGrpSpPr>
          <p:grpSpPr>
            <a:xfrm>
              <a:off x="1908000" y="4797360"/>
              <a:ext cx="3505320" cy="1295280"/>
              <a:chOff x="1908000" y="4797360"/>
              <a:chExt cx="3505320" cy="1295280"/>
            </a:xfrm>
          </p:grpSpPr>
          <p:pic>
            <p:nvPicPr>
              <p:cNvPr id="186" name="Picture 4" descr="Q_013"/>
              <p:cNvPicPr/>
              <p:nvPr/>
            </p:nvPicPr>
            <p:blipFill>
              <a:blip r:embed="rId1"/>
              <a:stretch/>
            </p:blipFill>
            <p:spPr>
              <a:xfrm>
                <a:off x="3431880" y="4797360"/>
                <a:ext cx="1981440" cy="117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AutoShape 5"/>
              <p:cNvSpPr/>
              <p:nvPr/>
            </p:nvSpPr>
            <p:spPr>
              <a:xfrm>
                <a:off x="2288880" y="5635440"/>
                <a:ext cx="838440" cy="228600"/>
              </a:xfrm>
              <a:prstGeom prst="sun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AutoShape 6"/>
              <p:cNvSpPr/>
              <p:nvPr/>
            </p:nvSpPr>
            <p:spPr>
              <a:xfrm>
                <a:off x="2822400" y="5483160"/>
                <a:ext cx="914400" cy="380880"/>
              </a:xfrm>
              <a:prstGeom prst="su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AutoShape 7"/>
              <p:cNvSpPr/>
              <p:nvPr/>
            </p:nvSpPr>
            <p:spPr>
              <a:xfrm>
                <a:off x="1908000" y="5940360"/>
                <a:ext cx="457200" cy="152280"/>
              </a:xfrm>
              <a:prstGeom prst="sun">
                <a:avLst>
                  <a:gd name="adj" fmla="val 25000"/>
                </a:avLst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AutoShape 8"/>
              <p:cNvSpPr/>
              <p:nvPr/>
            </p:nvSpPr>
            <p:spPr>
              <a:xfrm>
                <a:off x="3431880" y="5864040"/>
                <a:ext cx="609840" cy="15264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1" name="AutoShape 9"/>
            <p:cNvSpPr/>
            <p:nvPr/>
          </p:nvSpPr>
          <p:spPr>
            <a:xfrm>
              <a:off x="7013520" y="5711760"/>
              <a:ext cx="914400" cy="152280"/>
            </a:xfrm>
            <a:prstGeom prst="sun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Text Box 15"/>
          <p:cNvSpPr/>
          <p:nvPr/>
        </p:nvSpPr>
        <p:spPr>
          <a:xfrm>
            <a:off x="539640" y="2565360"/>
            <a:ext cx="82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理数的乘除加减混合，注意运算顺序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611280" y="4005360"/>
            <a:ext cx="76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根据实际问题列出算式并计算解答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17" descr="post-1093-1114777432"/>
          <p:cNvPicPr/>
          <p:nvPr/>
        </p:nvPicPr>
        <p:blipFill>
          <a:blip r:embed="rId2"/>
          <a:stretch/>
        </p:blipFill>
        <p:spPr>
          <a:xfrm>
            <a:off x="852480" y="5500800"/>
            <a:ext cx="7391520" cy="9525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8"/>
          <p:cNvSpPr/>
          <p:nvPr/>
        </p:nvSpPr>
        <p:spPr>
          <a:xfrm>
            <a:off x="611280" y="32846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会根据实际需要进行简便计算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WordArt 22"/>
          <p:cNvSpPr txBox="1"/>
          <p:nvPr/>
        </p:nvSpPr>
        <p:spPr>
          <a:xfrm>
            <a:off x="250920" y="692280"/>
            <a:ext cx="20192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归纳小结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699920"/>
            <a:ext cx="8209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谈谈你本节课的收获与困惑？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481040" y="2132640"/>
            <a:ext cx="42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教科书习题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.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8—1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题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395280" y="549360"/>
            <a:ext cx="20192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布置作业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589920" y="23922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WordArt 2" descr=""/>
          <p:cNvPicPr/>
          <p:nvPr/>
        </p:nvPicPr>
        <p:blipFill>
          <a:blip r:embed="rId1"/>
          <a:stretch/>
        </p:blipFill>
        <p:spPr>
          <a:xfrm>
            <a:off x="2255760" y="1974960"/>
            <a:ext cx="4778280" cy="26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79280" y="90792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有理数的除法法则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64960" y="1844640"/>
            <a:ext cx="8410680" cy="1191240"/>
          </a:xfrm>
          <a:prstGeom prst="rect">
            <a:avLst/>
          </a:prstGeom>
          <a:solidFill>
            <a:srgbClr val="cc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有理数除法法则一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：两数相除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同号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得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___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异号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得＿＿，并把绝对值相＿＿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除以任何一个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不等于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的数，都得＿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63520" y="4365720"/>
            <a:ext cx="842472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有理数除法法则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：除以一个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不等于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的数，等于乘以这个数＿＿＿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62320" y="2387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正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015000" y="234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负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192440" y="234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除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021440" y="2997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4427640" y="4869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倒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WordArt 14"/>
          <p:cNvSpPr txBox="1"/>
          <p:nvPr/>
        </p:nvSpPr>
        <p:spPr>
          <a:xfrm>
            <a:off x="0" y="189000"/>
            <a:ext cx="24382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知识回顾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79280" y="836640"/>
            <a:ext cx="828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观察下面两位同学的解法正确吗？若不正确，你能发现下面解法问题出在哪里吗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468360" y="1773360"/>
                <a:ext cx="26478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8"/>
              <p:cNvSpPr txBox="1"/>
              <p:nvPr/>
            </p:nvSpPr>
            <p:spPr>
              <a:xfrm>
                <a:off x="395280" y="2565360"/>
                <a:ext cx="3836880" cy="40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÷</m:t>
                        </m:r>
                        <m:r>
                          <m:t xml:space="preserve">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）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÷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÷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Line 10"/>
          <p:cNvSpPr/>
          <p:nvPr/>
        </p:nvSpPr>
        <p:spPr>
          <a:xfrm>
            <a:off x="2554200" y="3357720"/>
            <a:ext cx="122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754200" y="4221000"/>
            <a:ext cx="122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2409840" y="4221000"/>
            <a:ext cx="122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5"/>
              <p:cNvSpPr txBox="1"/>
              <p:nvPr/>
            </p:nvSpPr>
            <p:spPr>
              <a:xfrm>
                <a:off x="4140360" y="2492280"/>
                <a:ext cx="4495680" cy="35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÷</m:t>
                        </m:r>
                        <m:r>
                          <m:t xml:space="preserve">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）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÷</m:t>
                        </m:r>
                        <m:r>
                          <m:t xml:space="preserve">（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）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（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）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Line 16"/>
          <p:cNvSpPr/>
          <p:nvPr/>
        </p:nvSpPr>
        <p:spPr>
          <a:xfrm>
            <a:off x="6767640" y="3537000"/>
            <a:ext cx="1441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5541840" y="4473720"/>
            <a:ext cx="122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>
            <a:off x="2124000" y="5013360"/>
            <a:ext cx="2305080" cy="1401840"/>
          </a:xfrm>
          <a:prstGeom prst="wedgeEllipseCallout">
            <a:avLst>
              <a:gd name="adj1" fmla="val -83541"/>
              <a:gd name="adj2" fmla="val 3063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个解法是错误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20"/>
          <p:cNvSpPr/>
          <p:nvPr/>
        </p:nvSpPr>
        <p:spPr>
          <a:xfrm>
            <a:off x="6515280" y="4797360"/>
            <a:ext cx="2304720" cy="1401840"/>
          </a:xfrm>
          <a:prstGeom prst="wedgeEllipseCallout">
            <a:avLst>
              <a:gd name="adj1" fmla="val -83541"/>
              <a:gd name="adj2" fmla="val 3063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个解法是正确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1"/>
          <p:cNvSpPr/>
          <p:nvPr/>
        </p:nvSpPr>
        <p:spPr>
          <a:xfrm rot="20017800">
            <a:off x="1763640" y="3420720"/>
            <a:ext cx="723960" cy="152280"/>
          </a:xfrm>
          <a:prstGeom prst="leftArrow">
            <a:avLst>
              <a:gd name="adj1" fmla="val 50000"/>
              <a:gd name="adj2" fmla="val 118853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2"/>
          <p:cNvSpPr/>
          <p:nvPr/>
        </p:nvSpPr>
        <p:spPr>
          <a:xfrm rot="18487200">
            <a:off x="3385080" y="3492720"/>
            <a:ext cx="358920" cy="144720"/>
          </a:xfrm>
          <a:prstGeom prst="leftArrow">
            <a:avLst>
              <a:gd name="adj1" fmla="val 50000"/>
              <a:gd name="adj2" fmla="val 62002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23"/>
          <p:cNvSpPr/>
          <p:nvPr/>
        </p:nvSpPr>
        <p:spPr>
          <a:xfrm rot="18487200">
            <a:off x="6671160" y="3900960"/>
            <a:ext cx="965520" cy="163800"/>
          </a:xfrm>
          <a:prstGeom prst="leftArrow">
            <a:avLst>
              <a:gd name="adj1" fmla="val 50000"/>
              <a:gd name="adj2" fmla="val 147363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684360" y="981000"/>
                <a:ext cx="24476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÷</m:t>
                    </m:r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5"/>
              <p:cNvSpPr txBox="1"/>
              <p:nvPr/>
            </p:nvSpPr>
            <p:spPr>
              <a:xfrm>
                <a:off x="250920" y="2133720"/>
                <a:ext cx="3198600" cy="21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÷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÷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Line 6"/>
          <p:cNvSpPr/>
          <p:nvPr/>
        </p:nvSpPr>
        <p:spPr>
          <a:xfrm>
            <a:off x="1979640" y="3068640"/>
            <a:ext cx="122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1258920" y="3716280"/>
            <a:ext cx="122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3924360" y="2276640"/>
                <a:ext cx="4800600" cy="38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÷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Line 9"/>
          <p:cNvSpPr/>
          <p:nvPr/>
        </p:nvSpPr>
        <p:spPr>
          <a:xfrm>
            <a:off x="4788000" y="4221000"/>
            <a:ext cx="1657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5219640" y="299736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6838920" y="4653000"/>
            <a:ext cx="2305080" cy="1401840"/>
          </a:xfrm>
          <a:prstGeom prst="wedgeEllipseCallout">
            <a:avLst>
              <a:gd name="adj1" fmla="val -104958"/>
              <a:gd name="adj2" fmla="val 4694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个解法是正确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1619280" y="4149720"/>
            <a:ext cx="2305080" cy="1401840"/>
          </a:xfrm>
          <a:prstGeom prst="wedgeEllipseCallout">
            <a:avLst>
              <a:gd name="adj1" fmla="val -75342"/>
              <a:gd name="adj2" fmla="val -5124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个解法是错误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 rot="18487200">
            <a:off x="2527200" y="3384360"/>
            <a:ext cx="731880" cy="100080"/>
          </a:xfrm>
          <a:prstGeom prst="leftArrow">
            <a:avLst>
              <a:gd name="adj1" fmla="val 50000"/>
              <a:gd name="adj2" fmla="val 182824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5"/>
          <p:cNvSpPr/>
          <p:nvPr/>
        </p:nvSpPr>
        <p:spPr>
          <a:xfrm rot="18487200">
            <a:off x="5479920" y="3313080"/>
            <a:ext cx="731520" cy="100080"/>
          </a:xfrm>
          <a:prstGeom prst="leftArrow">
            <a:avLst>
              <a:gd name="adj1" fmla="val 50000"/>
              <a:gd name="adj2" fmla="val 182734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填空：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557000"/>
            <a:ext cx="784872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在小学，加减乘除四则运算的顺序是先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，再算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，如果有括号，先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里的。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71640" y="4048920"/>
            <a:ext cx="7272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有理数加减、乘除混合运算顺序与小学学的加减乘除四则运算的顺序一样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95280" y="32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谈话：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例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计算：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1619280" y="2565360"/>
          <a:ext cx="4392720" cy="7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565360"/>
                    <a:ext cx="43927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6"/>
          <p:cNvGraphicFramePr/>
          <p:nvPr/>
        </p:nvGraphicFramePr>
        <p:xfrm>
          <a:off x="1692360" y="1341360"/>
          <a:ext cx="328140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1341360"/>
                    <a:ext cx="32814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8"/>
          <p:cNvGraphicFramePr/>
          <p:nvPr/>
        </p:nvGraphicFramePr>
        <p:xfrm>
          <a:off x="1763640" y="3645000"/>
          <a:ext cx="5040360" cy="13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3645000"/>
                    <a:ext cx="504036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WordArt 9"/>
          <p:cNvSpPr txBox="1"/>
          <p:nvPr/>
        </p:nvSpPr>
        <p:spPr>
          <a:xfrm>
            <a:off x="0" y="0"/>
            <a:ext cx="20192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尝试计算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2340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跟踪练习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、计算：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1)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708200" y="1535040"/>
          <a:ext cx="2917800" cy="5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1535040"/>
                    <a:ext cx="291780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0" name="Object 6"/>
              <p:cNvSpPr txBox="1"/>
              <p:nvPr/>
            </p:nvSpPr>
            <p:spPr>
              <a:xfrm>
                <a:off x="1312920" y="2631960"/>
                <a:ext cx="32767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)</m:t>
                    </m:r>
                    <m:r>
                      <m:t xml:space="preserve">÷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8"/>
              <p:cNvSpPr txBox="1"/>
              <p:nvPr/>
            </p:nvSpPr>
            <p:spPr>
              <a:xfrm>
                <a:off x="1187280" y="2133720"/>
                <a:ext cx="38894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)</m:t>
                    </m:r>
                    <m:r>
                      <m:t xml:space="preserve">÷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1116000" y="3141720"/>
                <a:ext cx="5184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4"/>
          <p:cNvGrpSpPr/>
          <p:nvPr/>
        </p:nvGrpSpPr>
        <p:grpSpPr>
          <a:xfrm>
            <a:off x="611280" y="1052640"/>
            <a:ext cx="6408360" cy="1629720"/>
            <a:chOff x="611280" y="1052640"/>
            <a:chExt cx="6408360" cy="1629720"/>
          </a:xfrm>
        </p:grpSpPr>
        <p:sp>
          <p:nvSpPr>
            <p:cNvPr id="134" name="Text Box 5"/>
            <p:cNvSpPr/>
            <p:nvPr/>
          </p:nvSpPr>
          <p:spPr>
            <a:xfrm>
              <a:off x="611280" y="1052640"/>
              <a:ext cx="61041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、请你仔细阅读下列材料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组卷网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00"/>
                  </a:solidFill>
                  <a:latin typeface="华文细黑"/>
                  <a:ea typeface="华文细黑"/>
                </a:rPr>
                <a:t> 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Object 6"/>
                <p:cNvSpPr txBox="1"/>
                <p:nvPr/>
              </p:nvSpPr>
              <p:spPr>
                <a:xfrm>
                  <a:off x="688680" y="1746000"/>
                  <a:ext cx="6330960" cy="93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计算：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÷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6" name="Object 7"/>
              <p:cNvSpPr txBox="1"/>
              <p:nvPr/>
            </p:nvSpPr>
            <p:spPr>
              <a:xfrm>
                <a:off x="450720" y="2735280"/>
                <a:ext cx="64501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法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：原式＝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÷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2428920" y="3762360"/>
                <a:ext cx="3463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÷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2440080" y="4818240"/>
                <a:ext cx="34272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＝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AutoShape 10"/>
          <p:cNvSpPr/>
          <p:nvPr/>
        </p:nvSpPr>
        <p:spPr>
          <a:xfrm>
            <a:off x="6443640" y="4051440"/>
            <a:ext cx="2665440" cy="1584360"/>
          </a:xfrm>
          <a:prstGeom prst="wedgeEllipseCallout">
            <a:avLst>
              <a:gd name="adj1" fmla="val -65189"/>
              <a:gd name="adj2" fmla="val -68837"/>
            </a:avLst>
          </a:prstGeom>
          <a:gradFill rotWithShape="0">
            <a:gsLst>
              <a:gs pos="0">
                <a:srgbClr val="99ff99"/>
              </a:gs>
              <a:gs pos="50000">
                <a:srgbClr val="000000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按常规方法计算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3851280" y="2708280"/>
            <a:ext cx="273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4356000" y="479736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468360" y="765000"/>
                <a:ext cx="475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法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：原式的倒数为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5"/>
              <p:cNvSpPr txBox="1"/>
              <p:nvPr/>
            </p:nvSpPr>
            <p:spPr>
              <a:xfrm>
                <a:off x="468360" y="1268280"/>
                <a:ext cx="56372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原式＝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6"/>
              <p:cNvSpPr txBox="1"/>
              <p:nvPr/>
            </p:nvSpPr>
            <p:spPr>
              <a:xfrm>
                <a:off x="1293840" y="2276640"/>
                <a:ext cx="45831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7"/>
              <p:cNvSpPr txBox="1"/>
              <p:nvPr/>
            </p:nvSpPr>
            <p:spPr>
              <a:xfrm>
                <a:off x="1332000" y="3429000"/>
                <a:ext cx="44640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＝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8"/>
              <p:cNvSpPr txBox="1"/>
              <p:nvPr/>
            </p:nvSpPr>
            <p:spPr>
              <a:xfrm>
                <a:off x="531720" y="3894120"/>
                <a:ext cx="60008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故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÷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＝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7" name="Group 9"/>
          <p:cNvGrpSpPr/>
          <p:nvPr/>
        </p:nvGrpSpPr>
        <p:grpSpPr>
          <a:xfrm>
            <a:off x="108000" y="4923000"/>
            <a:ext cx="8497800" cy="1530360"/>
            <a:chOff x="108000" y="4923000"/>
            <a:chExt cx="8497800" cy="1530360"/>
          </a:xfrm>
        </p:grpSpPr>
        <p:sp>
          <p:nvSpPr>
            <p:cNvPr id="148" name="Text Box 10"/>
            <p:cNvSpPr/>
            <p:nvPr/>
          </p:nvSpPr>
          <p:spPr>
            <a:xfrm>
              <a:off x="108000" y="4923000"/>
              <a:ext cx="849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　再根据你对所提供材料的理解，选择合适的方法计算：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11"/>
                <p:cNvSpPr txBox="1"/>
                <p:nvPr/>
              </p:nvSpPr>
              <p:spPr>
                <a:xfrm>
                  <a:off x="3222720" y="5445360"/>
                  <a:ext cx="451008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÷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0" name="AutoShape 12"/>
          <p:cNvSpPr/>
          <p:nvPr/>
        </p:nvSpPr>
        <p:spPr>
          <a:xfrm>
            <a:off x="6227640" y="1844640"/>
            <a:ext cx="2665440" cy="1584360"/>
          </a:xfrm>
          <a:prstGeom prst="wedgeEllipseCallout">
            <a:avLst>
              <a:gd name="adj1" fmla="val -55180"/>
              <a:gd name="adj2" fmla="val -65532"/>
            </a:avLst>
          </a:prstGeom>
          <a:gradFill rotWithShape="0">
            <a:gsLst>
              <a:gs pos="0">
                <a:srgbClr val="99ff99"/>
              </a:gs>
              <a:gs pos="50000">
                <a:srgbClr val="000000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简便计算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先其</a:t>
            </a:r>
            <a:r>
              <a:rPr b="0" lang="zh-CN" sz="3600" spc="-1" strike="noStrike">
                <a:solidFill>
                  <a:srgbClr val="803842"/>
                </a:solidFill>
                <a:latin typeface="Arial"/>
                <a:ea typeface="华文新魏"/>
              </a:rPr>
              <a:t>倒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3"/>
          <p:cNvSpPr/>
          <p:nvPr/>
        </p:nvSpPr>
        <p:spPr>
          <a:xfrm>
            <a:off x="1763640" y="2276640"/>
            <a:ext cx="28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4789440" y="227664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5"/>
          <p:cNvSpPr/>
          <p:nvPr/>
        </p:nvSpPr>
        <p:spPr>
          <a:xfrm>
            <a:off x="4932360" y="393372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6"/>
          <p:cNvSpPr/>
          <p:nvPr/>
        </p:nvSpPr>
        <p:spPr>
          <a:xfrm>
            <a:off x="971640" y="4941720"/>
            <a:ext cx="43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1828440" y="235116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k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0:04:28Z</dcterms:created>
  <dc:creator/>
  <dc:description/>
  <dc:language>en-US</dc:language>
  <cp:lastModifiedBy>Administrator</cp:lastModifiedBy>
  <dcterms:modified xsi:type="dcterms:W3CDTF">2014-11-06T11:21:46Z</dcterms:modified>
  <cp:revision>52</cp:revision>
  <dc:subject/>
  <dc:title>幻灯片 1</dc:title>
</cp:coreProperties>
</file>