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type.wav" ContentType="audio/x-wav"/>
  <Override PartName="/ppt/media/chimes.wav" ContentType="audio/x-wav"/>
  <Override PartName="/ppt/media/image2.png" ContentType="image/png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F94-BBA6-4DE4-8A5C-8944D004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7B7-B6D1-492B-8547-4265E593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242-2D9B-4758-AE15-66FB147F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75A-CC2B-4F2D-823C-D58EE63D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C6E8-55D5-4FF4-9126-A47727D7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4A9A-9B82-4F2D-B89A-74A305A9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06CA-C417-4183-BB6C-05394C21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0D13-2A0F-4D3C-843A-1BB4A447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F649-156E-4D45-B801-F6625B87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60DC-B7EF-4762-85E3-8972F471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4401-AB9E-473B-BA12-B691AEA5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E32-E032-4C0F-819E-DDE7682C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53E7-DE6B-4728-9A3D-90F13A1C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80DE-0E2A-4DF2-8A12-0B68B601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C55C-A069-4155-9042-6CE4B71C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3403-8BC1-4D0A-9E01-A9F69C27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0263-6459-48BA-AED1-B19D75DB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346-A0C8-4946-8BD6-E08E531B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02D-9FFF-42CC-95D2-17954A7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0D1-E7F7-4F1D-AB5E-116D49F5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493-F36F-4D32-8A52-DC6B7675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384-367A-4712-B209-58DAF3D9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2A3-07F5-493B-8B42-1F19420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5FC-A5C3-49CE-8938-5A8B7B75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436D-AC43-4764-AEF7-6EC5704EA8A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6D0A-98FC-4BA2-AA66-CE9DB50A39C5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</a:rPr>
              <a:t>第一章  有理数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a0900"/>
                </a:solidFill>
                <a:latin typeface="Arial"/>
              </a:rPr>
              <a:t>1.3.2    </a:t>
            </a:r>
            <a:r>
              <a:rPr b="0" lang="zh-CN" sz="4800" spc="-1" strike="noStrike">
                <a:solidFill>
                  <a:srgbClr val="7a0900"/>
                </a:solidFill>
                <a:latin typeface="Arial"/>
              </a:rPr>
              <a:t>有理数的减法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11240" y="195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试一试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840240" y="890640"/>
            <a:ext cx="4641120" cy="4444560"/>
            <a:chOff x="840240" y="890640"/>
            <a:chExt cx="4641120" cy="4444560"/>
          </a:xfrm>
        </p:grpSpPr>
        <p:sp>
          <p:nvSpPr>
            <p:cNvPr id="299" name=""/>
            <p:cNvSpPr/>
            <p:nvPr/>
          </p:nvSpPr>
          <p:spPr>
            <a:xfrm>
              <a:off x="840240" y="890640"/>
              <a:ext cx="256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1)  6 –  9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1320" y="1557360"/>
              <a:ext cx="464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2)  ( +4 ) – ( – 7 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1320" y="2319480"/>
              <a:ext cx="4563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3)  (– 5 ) + (– 8 )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0600" y="3062160"/>
              <a:ext cx="358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4)  0 – ( – 5 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0600" y="3786120"/>
              <a:ext cx="4496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5)  ( – 2.5 ) – 5.9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860400" y="4510080"/>
              <a:ext cx="4444920" cy="825120"/>
              <a:chOff x="860400" y="4510080"/>
              <a:chExt cx="4444920" cy="825120"/>
            </a:xfrm>
          </p:grpSpPr>
          <p:sp>
            <p:nvSpPr>
              <p:cNvPr id="305" name=""/>
              <p:cNvSpPr/>
              <p:nvPr/>
            </p:nvSpPr>
            <p:spPr>
              <a:xfrm>
                <a:off x="860400" y="4510080"/>
                <a:ext cx="4444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7a77"/>
                    </a:solidFill>
                    <a:latin typeface="Times New Roman"/>
                  </a:rPr>
                  <a:t>(6)  -1.9 - (– 0.6 )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48120" y="4648320"/>
                <a:ext cx="0" cy="533160"/>
              </a:xfrm>
              <a:prstGeom prst="line">
                <a:avLst/>
              </a:prstGeom>
              <a:ln w="316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24200" y="4686480"/>
                <a:ext cx="0" cy="533160"/>
              </a:xfrm>
              <a:prstGeom prst="line">
                <a:avLst/>
              </a:prstGeom>
              <a:ln w="316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13480" y="990720"/>
            <a:ext cx="6669000" cy="1556280"/>
          </a:xfrm>
          <a:prstGeom prst="rect">
            <a:avLst/>
          </a:prstGeom>
          <a:solidFill>
            <a:srgbClr val="ebf7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补充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：数轴上的点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分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-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-1.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-0.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1.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回答下列问题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19520" y="2743200"/>
            <a:ext cx="427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(1)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点间的距离是多少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(2)C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点间的距离是多少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(3)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点间的距离是多少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你能发现所得结果与相应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数的差有什么关系吗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24840" y="26971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1720" y="3154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18720" y="36576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73160" y="5334120"/>
            <a:ext cx="4168440" cy="1068840"/>
          </a:xfrm>
          <a:prstGeom prst="rect">
            <a:avLst/>
          </a:prstGeom>
          <a:solidFill>
            <a:srgbClr val="dc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可以发现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数轴上任意两点间的距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是相应两数差的绝对值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33520" y="5410080"/>
            <a:ext cx="20160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思考题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rcRect l="6087" t="1280" r="4478" b="6123"/>
          <a:stretch/>
        </p:blipFill>
        <p:spPr>
          <a:xfrm>
            <a:off x="12600" y="-1260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2627280" y="765000"/>
            <a:ext cx="5962680" cy="29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r>
              <a:rPr b="1" lang="zh-CN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世界上最高的山峰是珠穆朗</a:t>
            </a:r>
            <a:endParaRPr b="1" lang="en-US" sz="32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玛峰，其海拔高度大约是</a:t>
            </a:r>
            <a:r>
              <a:rPr b="1" lang="en-US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8848</a:t>
            </a:r>
            <a:r>
              <a:rPr b="1" lang="zh-CN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米</a:t>
            </a:r>
            <a:r>
              <a:rPr b="1" lang="en-US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,</a:t>
            </a:r>
            <a:endParaRPr b="1" lang="en-US" sz="32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吐鲁番盆地的海拔高度大约是</a:t>
            </a:r>
            <a:endParaRPr b="1" lang="en-US" sz="32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-155</a:t>
            </a:r>
            <a:r>
              <a:rPr b="1" lang="zh-CN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米。两处高度相差多少米？</a:t>
            </a:r>
            <a:endParaRPr b="1" lang="en-US" sz="32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rcRect l="6087" t="1280" r="4478" b="6123"/>
          <a:stretch/>
        </p:blipFill>
        <p:spPr>
          <a:xfrm>
            <a:off x="12600" y="-1260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559320" y="298440"/>
            <a:ext cx="44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世界上最高的山峰是珠穆朗玛峰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其海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高度大约是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8848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米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吐鲁番盆地的海拔高度大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-155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米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两者的高度相差多少米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685240" y="1330200"/>
            <a:ext cx="3591360" cy="744840"/>
            <a:chOff x="2685240" y="1330200"/>
            <a:chExt cx="3591360" cy="744840"/>
          </a:xfrm>
        </p:grpSpPr>
        <p:sp>
          <p:nvSpPr>
            <p:cNvPr id="320" name=""/>
            <p:cNvSpPr/>
            <p:nvPr/>
          </p:nvSpPr>
          <p:spPr>
            <a:xfrm>
              <a:off x="2685240" y="1371600"/>
              <a:ext cx="912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解</a:t>
              </a:r>
              <a:r>
                <a:rPr b="1" lang="zh-CN" sz="40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: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67080" y="1330200"/>
              <a:ext cx="20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根据题意可得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465000" y="1981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8848-(-155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92840" y="25909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=8848+(+155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90480" y="3138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=900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14080" y="3733920"/>
            <a:ext cx="53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答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两者的高度相差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9003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米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1911960" y="1093680"/>
            <a:ext cx="329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思考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两正数的和是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两负数的和是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正数减负数得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负数减正数得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两正数的差数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两负数的差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4284360" y="141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正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42112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负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4284360" y="24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正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4284360" y="28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负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4381560" y="3270240"/>
            <a:ext cx="15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正数负数或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49920" y="3645000"/>
            <a:ext cx="15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正数负数或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99760" y="195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小结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71160" y="1274760"/>
            <a:ext cx="452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减去一个数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等于加上这个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相反数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45680" y="2575080"/>
            <a:ext cx="471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 0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减去一个数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得到这个数的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相反数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37240" y="3886200"/>
            <a:ext cx="59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减法运算转化成加法的过程中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必须同时改变减号和减数的符号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403280" y="2276640"/>
            <a:ext cx="544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66ff"/>
                </a:solidFill>
                <a:latin typeface="Arial"/>
              </a:rPr>
              <a:t>同学们</a:t>
            </a:r>
            <a:r>
              <a:rPr b="1" i="1" lang="zh-CN" sz="66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1" i="1" lang="zh-CN" sz="6600" spc="-1" strike="noStrike">
                <a:solidFill>
                  <a:srgbClr val="ff66ff"/>
                </a:solidFill>
                <a:latin typeface="Arial"/>
              </a:rPr>
              <a:t>再  见</a:t>
            </a:r>
            <a:r>
              <a:rPr b="1" i="1" lang="zh-CN" sz="6600" spc="-1" strike="noStrike">
                <a:solidFill>
                  <a:srgbClr val="ff66ff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516720" y="1628640"/>
            <a:ext cx="2303280" cy="2178360"/>
            <a:chOff x="6516720" y="1628640"/>
            <a:chExt cx="2303280" cy="2178360"/>
          </a:xfrm>
        </p:grpSpPr>
        <p:grpSp>
          <p:nvGrpSpPr>
            <p:cNvPr id="85" name=""/>
            <p:cNvGrpSpPr/>
            <p:nvPr/>
          </p:nvGrpSpPr>
          <p:grpSpPr>
            <a:xfrm>
              <a:off x="6516720" y="1628640"/>
              <a:ext cx="2303280" cy="1656720"/>
              <a:chOff x="6516720" y="1628640"/>
              <a:chExt cx="2303280" cy="1656720"/>
            </a:xfrm>
          </p:grpSpPr>
          <p:sp>
            <p:nvSpPr>
              <p:cNvPr id="86" name=""/>
              <p:cNvSpPr/>
              <p:nvPr/>
            </p:nvSpPr>
            <p:spPr>
              <a:xfrm>
                <a:off x="6516720" y="1882800"/>
                <a:ext cx="2303280" cy="1402560"/>
              </a:xfrm>
              <a:prstGeom prst="ellipse">
                <a:avLst/>
              </a:prstGeom>
              <a:noFill/>
              <a:ln w="442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7811640" y="1628640"/>
                <a:ext cx="1008000" cy="764640"/>
                <a:chOff x="7811640" y="1628640"/>
                <a:chExt cx="1008000" cy="7646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811640" y="1628640"/>
                  <a:ext cx="1008000" cy="764640"/>
                </a:xfrm>
                <a:custGeom>
                  <a:avLst/>
                  <a:gdLst>
                    <a:gd name="textAreaLeft" fmla="*/ 230040 w 1008000"/>
                    <a:gd name="textAreaRight" fmla="*/ 777960 w 1008000"/>
                    <a:gd name="textAreaTop" fmla="*/ 174600 h 764640"/>
                    <a:gd name="textAreaBottom" fmla="*/ 590040 h 764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4428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064000" y="1787400"/>
                  <a:ext cx="503280" cy="444960"/>
                </a:xfrm>
                <a:prstGeom prst="ellipse">
                  <a:avLst/>
                </a:prstGeom>
                <a:solidFill>
                  <a:srgbClr val="ff6600"/>
                </a:solidFill>
                <a:ln w="4428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6840360" y="1989000"/>
              <a:ext cx="147924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2 ~ 9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763640" y="0"/>
            <a:ext cx="6408720" cy="1655640"/>
            <a:chOff x="1763640" y="0"/>
            <a:chExt cx="6408720" cy="1655640"/>
          </a:xfrm>
        </p:grpSpPr>
        <p:sp>
          <p:nvSpPr>
            <p:cNvPr id="92" name=""/>
            <p:cNvSpPr/>
            <p:nvPr/>
          </p:nvSpPr>
          <p:spPr>
            <a:xfrm>
              <a:off x="1763640" y="0"/>
              <a:ext cx="6408720" cy="1655640"/>
            </a:xfrm>
            <a:prstGeom prst="cloudCallout">
              <a:avLst>
                <a:gd name="adj1" fmla="val 57578"/>
                <a:gd name="adj2" fmla="val 39069"/>
              </a:avLst>
            </a:prstGeom>
            <a:solidFill>
              <a:srgbClr val="99cc00">
                <a:alpha val="90000"/>
              </a:srgbClr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2627280" y="333360"/>
              <a:ext cx="4572000" cy="82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0033cc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楷体_GB2312"/>
                </a:rPr>
                <a:t>未来一周天气预报</a:t>
              </a:r>
              <a:endParaRPr b="1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547640" y="5056200"/>
            <a:ext cx="2565360" cy="1818000"/>
            <a:chOff x="1547640" y="5056200"/>
            <a:chExt cx="2565360" cy="1818000"/>
          </a:xfrm>
        </p:grpSpPr>
        <p:sp>
          <p:nvSpPr>
            <p:cNvPr id="95" name=""/>
            <p:cNvSpPr/>
            <p:nvPr/>
          </p:nvSpPr>
          <p:spPr>
            <a:xfrm>
              <a:off x="1547640" y="5157720"/>
              <a:ext cx="2303640" cy="1079640"/>
            </a:xfrm>
            <a:prstGeom prst="ellipse">
              <a:avLst/>
            </a:prstGeom>
            <a:noFill/>
            <a:ln w="442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79640" y="5084640"/>
              <a:ext cx="1233360" cy="360360"/>
            </a:xfrm>
            <a:prstGeom prst="cloudCallout">
              <a:avLst>
                <a:gd name="adj1" fmla="val -64930"/>
                <a:gd name="adj2" fmla="val 42069"/>
              </a:avLst>
            </a:prstGeom>
            <a:solidFill>
              <a:srgbClr val="00c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1640" y="5056200"/>
              <a:ext cx="147924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-1~ 6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243480" y="3500280"/>
            <a:ext cx="2900520" cy="1860840"/>
            <a:chOff x="6243480" y="3500280"/>
            <a:chExt cx="2900520" cy="1860840"/>
          </a:xfrm>
        </p:grpSpPr>
        <p:sp>
          <p:nvSpPr>
            <p:cNvPr id="99" name=""/>
            <p:cNvSpPr/>
            <p:nvPr/>
          </p:nvSpPr>
          <p:spPr>
            <a:xfrm>
              <a:off x="6243480" y="3565440"/>
              <a:ext cx="2376720" cy="1303200"/>
            </a:xfrm>
            <a:prstGeom prst="ellipse">
              <a:avLst/>
            </a:prstGeom>
            <a:noFill/>
            <a:ln w="442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56560" y="3500280"/>
              <a:ext cx="1387440" cy="342720"/>
            </a:xfrm>
            <a:prstGeom prst="cloudCallout">
              <a:avLst>
                <a:gd name="adj1" fmla="val -47939"/>
                <a:gd name="adj2" fmla="val 67129"/>
              </a:avLst>
            </a:prstGeom>
            <a:solidFill>
              <a:srgbClr val="00c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60920" y="3543120"/>
              <a:ext cx="166536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五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-4 ~ - 3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50920" y="1484280"/>
            <a:ext cx="2303280" cy="2105280"/>
            <a:chOff x="250920" y="1484280"/>
            <a:chExt cx="2303280" cy="2105280"/>
          </a:xfrm>
        </p:grpSpPr>
        <p:grpSp>
          <p:nvGrpSpPr>
            <p:cNvPr id="103" name=""/>
            <p:cNvGrpSpPr/>
            <p:nvPr/>
          </p:nvGrpSpPr>
          <p:grpSpPr>
            <a:xfrm>
              <a:off x="250920" y="1484280"/>
              <a:ext cx="2303280" cy="1530000"/>
              <a:chOff x="250920" y="1484280"/>
              <a:chExt cx="2303280" cy="1530000"/>
            </a:xfrm>
          </p:grpSpPr>
          <p:sp>
            <p:nvSpPr>
              <p:cNvPr id="104" name=""/>
              <p:cNvSpPr/>
              <p:nvPr/>
            </p:nvSpPr>
            <p:spPr>
              <a:xfrm>
                <a:off x="250920" y="1719000"/>
                <a:ext cx="2303280" cy="1295280"/>
              </a:xfrm>
              <a:prstGeom prst="ellipse">
                <a:avLst/>
              </a:prstGeom>
              <a:noFill/>
              <a:ln w="475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545840" y="1484280"/>
                <a:ext cx="1008000" cy="705960"/>
                <a:chOff x="1545840" y="1484280"/>
                <a:chExt cx="1008000" cy="7059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545840" y="1484280"/>
                  <a:ext cx="1008000" cy="705960"/>
                </a:xfrm>
                <a:custGeom>
                  <a:avLst/>
                  <a:gdLst>
                    <a:gd name="textAreaLeft" fmla="*/ 230040 w 1008000"/>
                    <a:gd name="textAreaRight" fmla="*/ 777960 w 1008000"/>
                    <a:gd name="textAreaTop" fmla="*/ 160920 h 705960"/>
                    <a:gd name="textAreaBottom" fmla="*/ 54504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475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798200" y="1630800"/>
                  <a:ext cx="503280" cy="411120"/>
                </a:xfrm>
                <a:prstGeom prst="ellipse">
                  <a:avLst/>
                </a:prstGeom>
                <a:solidFill>
                  <a:srgbClr val="ff6600"/>
                </a:solidFill>
                <a:ln w="475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" name=""/>
            <p:cNvSpPr/>
            <p:nvPr/>
          </p:nvSpPr>
          <p:spPr>
            <a:xfrm>
              <a:off x="611280" y="1771560"/>
              <a:ext cx="147924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一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0~ 8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771640" y="1844640"/>
            <a:ext cx="3600360" cy="2912040"/>
            <a:chOff x="2771640" y="1844640"/>
            <a:chExt cx="3600360" cy="2912040"/>
          </a:xfrm>
        </p:grpSpPr>
        <p:sp>
          <p:nvSpPr>
            <p:cNvPr id="110" name=""/>
            <p:cNvSpPr/>
            <p:nvPr/>
          </p:nvSpPr>
          <p:spPr>
            <a:xfrm>
              <a:off x="2771640" y="2035440"/>
              <a:ext cx="3600360" cy="2090520"/>
            </a:xfrm>
            <a:prstGeom prst="ellipse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82920" y="1844640"/>
              <a:ext cx="1927080" cy="476280"/>
            </a:xfrm>
            <a:prstGeom prst="cloudCallout">
              <a:avLst>
                <a:gd name="adj1" fmla="val -21333"/>
                <a:gd name="adj2" fmla="val 133666"/>
              </a:avLst>
            </a:prstGeom>
            <a:solidFill>
              <a:srgbClr val="00c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43120" y="2567160"/>
              <a:ext cx="231300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六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-3 ~ 4</a:t>
              </a:r>
              <a:r>
                <a:rPr b="1" lang="zh-CN" sz="3600" spc="-1" strike="noStrike" baseline="30000">
                  <a:solidFill>
                    <a:srgbClr val="000066"/>
                  </a:solidFill>
                  <a:latin typeface="Times New Roman"/>
                  <a:ea typeface="隶书"/>
                </a:rPr>
                <a:t>0</a:t>
              </a: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24000" y="3213000"/>
            <a:ext cx="2303280" cy="2178360"/>
            <a:chOff x="324000" y="3213000"/>
            <a:chExt cx="2303280" cy="2178360"/>
          </a:xfrm>
        </p:grpSpPr>
        <p:grpSp>
          <p:nvGrpSpPr>
            <p:cNvPr id="114" name=""/>
            <p:cNvGrpSpPr/>
            <p:nvPr/>
          </p:nvGrpSpPr>
          <p:grpSpPr>
            <a:xfrm>
              <a:off x="324000" y="3213000"/>
              <a:ext cx="2303280" cy="1583640"/>
              <a:chOff x="324000" y="3213000"/>
              <a:chExt cx="2303280" cy="1583640"/>
            </a:xfrm>
          </p:grpSpPr>
          <p:sp>
            <p:nvSpPr>
              <p:cNvPr id="115" name=""/>
              <p:cNvSpPr/>
              <p:nvPr/>
            </p:nvSpPr>
            <p:spPr>
              <a:xfrm>
                <a:off x="324000" y="3456000"/>
                <a:ext cx="2303280" cy="1340640"/>
              </a:xfrm>
              <a:prstGeom prst="ellipse">
                <a:avLst/>
              </a:prstGeom>
              <a:noFill/>
              <a:ln w="442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1618920" y="3213000"/>
                <a:ext cx="1008000" cy="730800"/>
                <a:chOff x="1618920" y="3213000"/>
                <a:chExt cx="1008000" cy="7308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618920" y="3213000"/>
                  <a:ext cx="1008000" cy="730800"/>
                </a:xfrm>
                <a:custGeom>
                  <a:avLst/>
                  <a:gdLst>
                    <a:gd name="textAreaLeft" fmla="*/ 230040 w 1008000"/>
                    <a:gd name="textAreaRight" fmla="*/ 777960 w 1008000"/>
                    <a:gd name="textAreaTop" fmla="*/ 166680 h 730800"/>
                    <a:gd name="textAreaBottom" fmla="*/ 564120 h 730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4428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871280" y="3364920"/>
                  <a:ext cx="503280" cy="425520"/>
                </a:xfrm>
                <a:prstGeom prst="ellipse">
                  <a:avLst/>
                </a:prstGeom>
                <a:solidFill>
                  <a:srgbClr val="ff6600"/>
                </a:solidFill>
                <a:ln w="4428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684360" y="3573360"/>
              <a:ext cx="147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1 ~ 7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16360" y="4881600"/>
            <a:ext cx="2303280" cy="1992600"/>
            <a:chOff x="4716360" y="4881600"/>
            <a:chExt cx="2303280" cy="1992600"/>
          </a:xfrm>
        </p:grpSpPr>
        <p:sp>
          <p:nvSpPr>
            <p:cNvPr id="121" name=""/>
            <p:cNvSpPr/>
            <p:nvPr/>
          </p:nvSpPr>
          <p:spPr>
            <a:xfrm>
              <a:off x="4716360" y="5056200"/>
              <a:ext cx="2303280" cy="1278000"/>
            </a:xfrm>
            <a:prstGeom prst="ellipse">
              <a:avLst/>
            </a:prstGeom>
            <a:noFill/>
            <a:ln w="442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03640" y="5056200"/>
              <a:ext cx="16542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-2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 ~ -5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rcRect l="64230" t="71080" r="32460" b="24174"/>
            <a:stretch/>
          </p:blipFill>
          <p:spPr>
            <a:xfrm>
              <a:off x="6083280" y="4881600"/>
              <a:ext cx="720720" cy="604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3524400" y="131040"/>
            <a:ext cx="1261440" cy="6482520"/>
            <a:chOff x="3524400" y="131040"/>
            <a:chExt cx="1261440" cy="6482520"/>
          </a:xfrm>
        </p:grpSpPr>
        <p:sp>
          <p:nvSpPr>
            <p:cNvPr id="125" name=""/>
            <p:cNvSpPr/>
            <p:nvPr/>
          </p:nvSpPr>
          <p:spPr>
            <a:xfrm>
              <a:off x="3715200" y="29394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0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15200" y="2147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1960" y="1426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1960" y="7786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1880" y="358704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11880" y="423468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11880" y="495540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24400" y="560304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4120" y="131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211640" y="131760"/>
              <a:ext cx="451080" cy="6344640"/>
              <a:chOff x="4211640" y="131760"/>
              <a:chExt cx="451080" cy="6344640"/>
            </a:xfrm>
          </p:grpSpPr>
          <p:sp>
            <p:nvSpPr>
              <p:cNvPr id="135" name=""/>
              <p:cNvSpPr/>
              <p:nvPr/>
            </p:nvSpPr>
            <p:spPr>
              <a:xfrm flipV="1">
                <a:off x="4516920" y="131760"/>
                <a:ext cx="0" cy="633996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662720" y="136800"/>
                <a:ext cx="0" cy="633960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11640" y="3306960"/>
                <a:ext cx="4510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1760" y="39772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61760" y="4647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1760" y="531864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61760" y="111204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61760" y="18435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61760" y="25750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1760" y="4413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1760" y="59889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200000">
                <a:off x="1563480" y="3376080"/>
                <a:ext cx="6049080" cy="142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430520" y="6324480"/>
              <a:ext cx="355320" cy="289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24000" y="2708280"/>
            <a:ext cx="3311280" cy="3313080"/>
            <a:chOff x="324000" y="2708280"/>
            <a:chExt cx="3311280" cy="3313080"/>
          </a:xfrm>
        </p:grpSpPr>
        <p:sp>
          <p:nvSpPr>
            <p:cNvPr id="149" name=""/>
            <p:cNvSpPr/>
            <p:nvPr/>
          </p:nvSpPr>
          <p:spPr>
            <a:xfrm>
              <a:off x="324000" y="2708280"/>
              <a:ext cx="3311280" cy="3313080"/>
            </a:xfrm>
            <a:prstGeom prst="cloudCallout">
              <a:avLst>
                <a:gd name="adj1" fmla="val -40171"/>
                <a:gd name="adj2" fmla="val 63606"/>
              </a:avLst>
            </a:prstGeom>
            <a:solidFill>
              <a:srgbClr val="ffffff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3213000"/>
              <a:ext cx="2808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你能从温度计看出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r>
                <a:rPr b="1" lang="zh-CN" sz="3600" spc="-1" strike="noStrike" baseline="30000">
                  <a:solidFill>
                    <a:srgbClr val="007a77"/>
                  </a:solidFill>
                  <a:latin typeface="Times New Roman"/>
                </a:rPr>
                <a:t>0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比 – 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lang="zh-CN" sz="3600" spc="-1" strike="noStrike" baseline="30000">
                  <a:solidFill>
                    <a:srgbClr val="007a77"/>
                  </a:solidFill>
                  <a:latin typeface="Times New Roman"/>
                </a:rPr>
                <a:t>0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高多少度吗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0840" y="260280"/>
            <a:ext cx="3600360" cy="2912040"/>
            <a:chOff x="150840" y="260280"/>
            <a:chExt cx="3600360" cy="2912040"/>
          </a:xfrm>
        </p:grpSpPr>
        <p:sp>
          <p:nvSpPr>
            <p:cNvPr id="152" name=""/>
            <p:cNvSpPr/>
            <p:nvPr/>
          </p:nvSpPr>
          <p:spPr>
            <a:xfrm>
              <a:off x="150840" y="451080"/>
              <a:ext cx="3600360" cy="2090520"/>
            </a:xfrm>
            <a:prstGeom prst="ellipse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62120" y="260280"/>
              <a:ext cx="1927080" cy="476280"/>
            </a:xfrm>
            <a:prstGeom prst="cloudCallout">
              <a:avLst>
                <a:gd name="adj1" fmla="val -21333"/>
                <a:gd name="adj2" fmla="val 133666"/>
              </a:avLst>
            </a:prstGeom>
            <a:solidFill>
              <a:srgbClr val="00c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22320" y="982800"/>
              <a:ext cx="231300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六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-3 ~ 4</a:t>
              </a:r>
              <a:r>
                <a:rPr b="1" lang="zh-CN" sz="3600" spc="-1" strike="noStrike" baseline="30000">
                  <a:solidFill>
                    <a:srgbClr val="000066"/>
                  </a:solidFill>
                  <a:latin typeface="Times New Roman"/>
                  <a:ea typeface="隶书"/>
                </a:rPr>
                <a:t>0</a:t>
              </a: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490720" y="60336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 - (-3)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69080" y="620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11240" y="1628640"/>
            <a:ext cx="26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+(+3)= 7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790880" y="2708280"/>
            <a:ext cx="4050720" cy="825120"/>
            <a:chOff x="4790880" y="2708280"/>
            <a:chExt cx="4050720" cy="825120"/>
          </a:xfrm>
        </p:grpSpPr>
        <p:sp>
          <p:nvSpPr>
            <p:cNvPr id="159" name=""/>
            <p:cNvSpPr/>
            <p:nvPr/>
          </p:nvSpPr>
          <p:spPr>
            <a:xfrm>
              <a:off x="4790880" y="2708280"/>
              <a:ext cx="225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4 - (-3)=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50880" y="2708280"/>
              <a:ext cx="18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33cc"/>
                  </a:solidFill>
                  <a:latin typeface="Times New Roman"/>
                </a:rPr>
                <a:t>4+(+3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randomBa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709280" y="566640"/>
            <a:ext cx="4050720" cy="825120"/>
            <a:chOff x="1709280" y="566640"/>
            <a:chExt cx="4050720" cy="825120"/>
          </a:xfrm>
        </p:grpSpPr>
        <p:sp>
          <p:nvSpPr>
            <p:cNvPr id="162" name=""/>
            <p:cNvSpPr/>
            <p:nvPr/>
          </p:nvSpPr>
          <p:spPr>
            <a:xfrm>
              <a:off x="1709280" y="566640"/>
              <a:ext cx="225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4 - (-3)=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69280" y="566640"/>
              <a:ext cx="18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4+(+3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291440" y="94320"/>
            <a:ext cx="1261440" cy="6482160"/>
            <a:chOff x="7291440" y="94320"/>
            <a:chExt cx="1261440" cy="6482160"/>
          </a:xfrm>
        </p:grpSpPr>
        <p:sp>
          <p:nvSpPr>
            <p:cNvPr id="165" name=""/>
            <p:cNvSpPr/>
            <p:nvPr/>
          </p:nvSpPr>
          <p:spPr>
            <a:xfrm>
              <a:off x="7482240" y="2902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0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2240" y="21099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69360" y="13892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69360" y="741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8920" y="3549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78920" y="419760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78920" y="491832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91440" y="5565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71160" y="94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979040" y="95760"/>
              <a:ext cx="451080" cy="6344280"/>
              <a:chOff x="7979040" y="95760"/>
              <a:chExt cx="451080" cy="634428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8284320" y="95760"/>
                <a:ext cx="0" cy="633960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8430120" y="100800"/>
                <a:ext cx="0" cy="633924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79040" y="3270600"/>
                <a:ext cx="4510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129160" y="394092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129160" y="4611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129160" y="52822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29160" y="107604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129160" y="18075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29160" y="25390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129160" y="4053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29160" y="5952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00000">
                <a:off x="5330880" y="3339720"/>
                <a:ext cx="6048720" cy="142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8197560" y="6287760"/>
              <a:ext cx="3553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469680" y="1254240"/>
            <a:ext cx="239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= 0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70400" y="1962000"/>
            <a:ext cx="284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=(-1)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19600" y="1254240"/>
            <a:ext cx="2520000" cy="2320560"/>
            <a:chOff x="1119600" y="1254240"/>
            <a:chExt cx="2520000" cy="2320560"/>
          </a:xfrm>
        </p:grpSpPr>
        <p:sp>
          <p:nvSpPr>
            <p:cNvPr id="191" name=""/>
            <p:cNvSpPr/>
            <p:nvPr/>
          </p:nvSpPr>
          <p:spPr>
            <a:xfrm>
              <a:off x="1709280" y="1254240"/>
              <a:ext cx="1905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0 - (-3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5720" y="1967040"/>
              <a:ext cx="251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(-1) - (-3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19600" y="2749680"/>
              <a:ext cx="251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(-5) - (-3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463920" y="2744640"/>
            <a:ext cx="284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=(-5)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426708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换成其他数字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用上面的方法试试看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09280" y="56664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69280" y="56664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91440" y="94320"/>
            <a:ext cx="1261440" cy="6482160"/>
            <a:chOff x="7291440" y="94320"/>
            <a:chExt cx="1261440" cy="6482160"/>
          </a:xfrm>
        </p:grpSpPr>
        <p:sp>
          <p:nvSpPr>
            <p:cNvPr id="199" name=""/>
            <p:cNvSpPr/>
            <p:nvPr/>
          </p:nvSpPr>
          <p:spPr>
            <a:xfrm>
              <a:off x="7482240" y="2902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0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82240" y="21099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9360" y="13892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9360" y="741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78920" y="3549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78920" y="419760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78920" y="491832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91440" y="5565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71160" y="94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979040" y="95760"/>
              <a:ext cx="451080" cy="6344280"/>
              <a:chOff x="7979040" y="95760"/>
              <a:chExt cx="451080" cy="634428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8284320" y="95760"/>
                <a:ext cx="0" cy="633960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8430120" y="100800"/>
                <a:ext cx="0" cy="633924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79040" y="3270600"/>
                <a:ext cx="4510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129160" y="394092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29160" y="4611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129160" y="52822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129160" y="107604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29160" y="18075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29160" y="25390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129160" y="4053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129160" y="5952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6200000">
                <a:off x="5330880" y="3339720"/>
                <a:ext cx="6048720" cy="142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8197560" y="6287760"/>
              <a:ext cx="3553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709280" y="125424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0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12400" y="1254240"/>
            <a:ext cx="20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0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26080" y="1967040"/>
            <a:ext cx="286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1)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13120" y="196200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1)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9600" y="2749680"/>
            <a:ext cx="286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5)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6640" y="274464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5)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709280" y="56664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69280" y="56664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291440" y="94320"/>
            <a:ext cx="1261440" cy="6482160"/>
            <a:chOff x="7291440" y="94320"/>
            <a:chExt cx="1261440" cy="6482160"/>
          </a:xfrm>
        </p:grpSpPr>
        <p:sp>
          <p:nvSpPr>
            <p:cNvPr id="231" name=""/>
            <p:cNvSpPr/>
            <p:nvPr/>
          </p:nvSpPr>
          <p:spPr>
            <a:xfrm>
              <a:off x="7482240" y="2902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0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82240" y="21099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69360" y="13892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69360" y="741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78920" y="3549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78920" y="419760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78920" y="491832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91440" y="5565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71160" y="94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7979040" y="95760"/>
              <a:ext cx="451080" cy="6344280"/>
              <a:chOff x="7979040" y="95760"/>
              <a:chExt cx="451080" cy="634428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8284320" y="95760"/>
                <a:ext cx="0" cy="633960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8430120" y="100800"/>
                <a:ext cx="0" cy="633924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79040" y="3270600"/>
                <a:ext cx="4510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129160" y="394092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129160" y="4611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29160" y="52822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129160" y="107604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29160" y="18075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129160" y="25390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129160" y="4053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129160" y="5952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5330880" y="3339720"/>
                <a:ext cx="6048720" cy="142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8197560" y="6287760"/>
              <a:ext cx="3553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709280" y="125424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0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4680" y="125424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26080" y="1967040"/>
            <a:ext cx="286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1)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13120" y="196200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1)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9600" y="2749680"/>
            <a:ext cx="286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5)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6640" y="274464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5)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581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这些数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减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(– 3)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结果与它们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(+3)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结果是相同的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7563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观察上面五对算式，对有理数的减法运算你能得出什么结论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黑体"/>
              </a:rPr>
              <a:t>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3124080"/>
            <a:ext cx="6933960" cy="37339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3733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有理数减法法则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419720"/>
            <a:ext cx="58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i="1" lang="zh-CN" sz="3600" spc="-1" strike="noStrike">
                <a:solidFill>
                  <a:srgbClr val="3366ff"/>
                </a:solidFill>
                <a:latin typeface="华文行楷"/>
                <a:ea typeface="华文行楷"/>
              </a:rPr>
              <a:t>减去一个数</a:t>
            </a:r>
            <a:r>
              <a:rPr b="1" i="1" lang="zh-CN" sz="3600" spc="-1" strike="noStrike">
                <a:solidFill>
                  <a:srgbClr val="3366ff"/>
                </a:solidFill>
                <a:latin typeface="华文行楷"/>
                <a:ea typeface="华文行楷"/>
              </a:rPr>
              <a:t>,</a:t>
            </a:r>
            <a:r>
              <a:rPr b="1" i="1" lang="zh-CN" sz="3600" spc="-1" strike="noStrike">
                <a:solidFill>
                  <a:srgbClr val="3366ff"/>
                </a:solidFill>
                <a:latin typeface="华文行楷"/>
                <a:ea typeface="华文行楷"/>
              </a:rPr>
              <a:t>等于加上这个数的相反数</a:t>
            </a:r>
            <a:r>
              <a:rPr b="1" i="1" lang="zh-CN" sz="3600" spc="-1" strike="noStrike">
                <a:solidFill>
                  <a:srgbClr val="3366ff"/>
                </a:solidFill>
                <a:latin typeface="华文行楷"/>
                <a:ea typeface="华文行楷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55627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a – b = a + (-b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2"/>
          <p:cNvSpPr/>
          <p:nvPr/>
        </p:nvSpPr>
        <p:spPr>
          <a:xfrm>
            <a:off x="1447920" y="228600"/>
            <a:ext cx="5867280" cy="12193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981080" y="3808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隶书"/>
              </a:rPr>
              <a:t>有理数减法法则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09480" y="1905120"/>
            <a:ext cx="8229600" cy="16002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Impact"/>
                <a:ea typeface="黑体"/>
              </a:rPr>
              <a:t>减去一个数，等于加上这个数的相反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762120" y="388620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注意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法在运算时有 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要素要发生变化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2514600" y="5029200"/>
            <a:ext cx="3962520" cy="12909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           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数           相反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429000" y="5334120"/>
            <a:ext cx="838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3352680" y="6095880"/>
            <a:ext cx="9144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36520" y="1125360"/>
            <a:ext cx="349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(1) 5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20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4160" y="304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比如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黑体"/>
              </a:rPr>
              <a:t>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8240" y="1219320"/>
            <a:ext cx="249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+(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-2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7360" y="1219320"/>
            <a:ext cx="138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=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3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14560" y="1981080"/>
            <a:ext cx="249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+(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-1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27720" y="2057400"/>
            <a:ext cx="15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= 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4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6480" y="274320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+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0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8760" y="2743200"/>
            <a:ext cx="138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=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8400" y="3429000"/>
            <a:ext cx="18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+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10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22800" y="3352680"/>
            <a:ext cx="15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=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6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.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94720" y="4191120"/>
            <a:ext cx="18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+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20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8760" y="4191120"/>
            <a:ext cx="138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=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7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4400" y="4191120"/>
            <a:ext cx="376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(5) 5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(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2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)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080" y="3429000"/>
            <a:ext cx="376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(4) 5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(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)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040" y="2743200"/>
            <a:ext cx="333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(3) 5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   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40" y="1905120"/>
            <a:ext cx="333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(2) 5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10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 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011240" y="195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练一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9760" y="990720"/>
            <a:ext cx="390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( -3) - ( -5)</a:t>
            </a:r>
            <a:r>
              <a:rPr b="0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320" y="1828800"/>
            <a:ext cx="23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0 - 7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9040" y="2705040"/>
            <a:ext cx="45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(3)  7.2  -  ( - 4.8)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87960" y="3505320"/>
            <a:ext cx="5515920" cy="1523880"/>
            <a:chOff x="687960" y="3505320"/>
            <a:chExt cx="5515920" cy="1523880"/>
          </a:xfrm>
        </p:grpSpPr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2084400" y="3505320"/>
                  <a:ext cx="411948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"/>
            <p:cNvSpPr/>
            <p:nvPr/>
          </p:nvSpPr>
          <p:spPr>
            <a:xfrm>
              <a:off x="687960" y="3659040"/>
              <a:ext cx="967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4)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842080" y="197172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减去一个数得到这个数的相反数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.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9-05T12:43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