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8.jpeg" ContentType="image/jpeg"/>
  <Override PartName="/ppt/media/image9.gif" ContentType="image/gif"/>
  <Override PartName="/ppt/media/image12.gif" ContentType="image/gif"/>
  <Override PartName="/ppt/media/image13.wmf" ContentType="image/x-wmf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a50021"/>
              </a:solidFill>
              <a:latin typeface="Arial Black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3A0AC-4E47-4E2B-9526-A53572FC3BD8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www.12999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B8C38-1FE0-45A3-87C6-3E918CEBB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01960-BA35-4D45-A4BC-5C16A4240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FCA8-02C2-4190-8736-041989E756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06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0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9DD7-8A7D-41F8-8215-55FEB123E7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6D3CE-383B-4C64-80AA-E6D7CB48E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830B4-09E4-46A9-9520-0AF3B3EDD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63BBE-8131-47BA-9D31-A578F958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0454F-2FE0-4E95-94B3-A8FA4B040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ABF8-520B-417D-9573-7DE53920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A4B2F-D669-4822-AF9A-B51F2F8C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6A6A2-7005-4249-8F5F-73D261118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D9D49-EF4B-4E2E-A80F-AFDA81BC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F10B1-D130-43FD-AE7B-3BFAEE7D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F5A48-ACCF-4D81-98DB-AD72C6467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9A25C-A482-4A21-A503-D16841230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C845F-2B89-4556-B34B-533374083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906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0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1AD4-1B5B-4253-9383-ABE67ECC54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D2DFB9-A777-455F-9ED3-6837A0B78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20D977-A739-4C31-A626-7E9440C25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E264D-D79E-465F-A81E-9D603BD2C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F3E32-502A-4F49-A672-396E0C468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BA44A-043B-4DB7-A0A7-51B496EE1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D1BF-C914-4D36-ADCC-E8B1BAC11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5CB34-C0D8-4335-AD53-3373347DE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A7C52E-DA21-4F3B-949A-C6D2482B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119A48-3F84-4083-ACDE-A0ADEB83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F12A7B-1B83-46C3-9B91-7A4BE2067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2E9D14-3905-4A02-BB5F-6C6D5F973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6C964E-BF6E-4DE8-BF4F-64C0F5ADE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906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0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B2B689-E69B-463C-8B97-16578A557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279C68-44E9-4F90-A24A-034EF784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68E822-C98D-467B-8C01-AAFB21AA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001B15-7128-4484-8164-24872D2E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F11F8-24FD-4FD9-9D81-A4FF68CB7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7D3715-CD52-41CC-BA05-284561D8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29469-E061-4B64-B7B0-8C96A5FBD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72DF1-F8BF-48C1-B53D-CB12567C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BE22E1-C205-4E5B-98B9-91164B68D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913090-F129-4525-B14D-62DCB8C65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1DC1-DE00-42C8-9B89-061CDB5F5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725A-2BEA-4F44-82A9-E75884A5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993EA-534B-4C9F-A83A-9954B4B2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906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760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A9D78-A4D0-4099-B735-BDD3BD829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BDB572-C1C6-48BE-B126-19C1C672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A895-924A-4303-954A-89E51805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ADCE87-3311-42AC-8B37-B2CD223A2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2F2F-DD2C-40B4-BA6E-8FB0AC022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625AA2-F94D-49A3-A6E8-4C03C2E88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7D3920-2C59-4567-A3D4-4F3EB4401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516720-8AF0-490F-9328-8CD574118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8EA82-C58F-4016-892A-86779FD26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5CD7D1-180F-4F3A-BAF4-4BA35A840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F6B64-2181-4C3C-916E-89C33D8A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37213F-7921-46BE-8A9C-373A92245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C24028-42E9-4253-BB8E-956EE3B50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90EB-31DE-4D8F-BE01-4F803C7BF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1906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760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29B2E-4913-4800-8149-B6774FED3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684519-8678-465E-B410-1592DA58F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90CE7-C1F0-4178-BD2B-F315D79D4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DA22C0-BF93-4989-BF67-883FDE337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BD2524-4505-47DB-970E-D17EE76A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8871BB-4D61-4873-B3D5-11A815045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FCB733-A7C1-4E75-B4C0-F6473F818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2F8A70-A792-4A73-AD2E-BBAA6E391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1EE866-ECFD-47D2-84E1-AA5F2206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3D191-E252-4F50-83E9-22EBA7F9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4D067-C396-489C-BE18-D36A07AD5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801958-FF34-4C4E-9F5A-E6FB6010B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0949FB-235E-44DC-BCF3-90618AFFC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1906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760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C5575F-DCD7-49B7-A6ED-7AD3FA814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ECD8E8-3249-41F5-9C41-008D9E462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8BBCDE-B524-4241-A52D-87286E52F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9A4A08-D784-4669-A5D9-F4C8E669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DB1FB-46D0-4EAF-BDC5-F62852D97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A02DAF-EB5F-4D0C-A2E6-9F7FADF7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304920" y="609480"/>
            <a:ext cx="8534160" cy="18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4603EE-3752-425F-A1F0-A1AF780A9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CB6BE3-4CB8-4E79-A97D-5F9B0C408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0E3D-0AED-4D0C-83DC-3E19B39E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86A2B8-B559-4521-9877-9DF4CF0CF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475F2E-CB05-4E84-8E5B-74D843D5D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F00006-BC29-4D8F-BF52-E1467C047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7840" y="384912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62DD11-46CD-4A40-A36C-83035F3E9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1906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76080" y="114264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30492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1906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76080" y="3849120"/>
            <a:ext cx="27478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27A500-C060-48AC-88EA-F010708C6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489960"/>
            <a:ext cx="85341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7840" y="1142640"/>
            <a:ext cx="416448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849120"/>
            <a:ext cx="8534160" cy="247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7C27-719C-41B1-8502-4FD62F99A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94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cc33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355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5548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435548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43554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5548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435548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435548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5548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35548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435548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5548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435548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435548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5548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435548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5548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435548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35548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435548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237D8-73E4-4480-BEB7-93B563D6B89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2971800"/>
            <a:ext cx="87631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a50021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a50021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12113-F25D-4001-B7FA-A298D8378D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35548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35548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35548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435548"/>
              </a:solidFill>
              <a:latin typeface="Times New Roman"/>
            </a:endParaRPr>
          </a:p>
          <a:p>
            <a:pPr lvl="2" marL="914400" algn="ctr">
              <a:spcBef>
                <a:spcPts val="451"/>
              </a:spcBef>
              <a:buClr>
                <a:srgbClr val="435548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35548"/>
                </a:solidFill>
                <a:latin typeface="Times New Roman"/>
              </a:rPr>
              <a:t>Third Outline Level</a:t>
            </a:r>
            <a:endParaRPr b="0" lang="en-US" sz="1800" spc="-1" strike="noStrike">
              <a:solidFill>
                <a:srgbClr val="435548"/>
              </a:solidFill>
              <a:latin typeface="Times New Roman"/>
            </a:endParaRPr>
          </a:p>
          <a:p>
            <a:pPr lvl="3" marL="1371600" algn="ctr">
              <a:spcBef>
                <a:spcPts val="400"/>
              </a:spcBef>
              <a:buClr>
                <a:srgbClr val="435548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5548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435548"/>
              </a:solidFill>
              <a:latin typeface="Times New Roman"/>
            </a:endParaRPr>
          </a:p>
          <a:p>
            <a:pPr lvl="4" marL="1828800" algn="ctr">
              <a:spcBef>
                <a:spcPts val="400"/>
              </a:spcBef>
              <a:buClr>
                <a:srgbClr val="435548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5548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435548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5548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435548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35548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435548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34A0-C929-4559-86CF-DCDB50F5FFE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8991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51920" y="1523520"/>
            <a:ext cx="67057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-360" y="663264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23EC9-4F15-437B-BFA0-7E58C5C61989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0" y="266688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-36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629400"/>
            <a:ext cx="289584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7009920" y="6629400"/>
            <a:ext cx="2133720" cy="1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F664-E79F-4150-8BDE-E04083C23B66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534160" cy="40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ffffff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6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7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8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8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3C16D-D30C-46F1-80FB-0D1F6E0179E7}" type="slidenum">
              <a:rPr b="1" lang="zh-CN" sz="8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55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9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20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Arial Black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21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800" spc="-1" strike="noStrike">
                <a:solidFill>
                  <a:srgbClr val="ffffff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3F380-92ED-469A-811B-140E89465DF9}" type="slidenum">
              <a:rPr b="0" lang="zh-CN" sz="8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6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3.xml"/><Relationship Id="rId3" Type="http://schemas.openxmlformats.org/officeDocument/2006/relationships/image" Target="../media/image9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" Target="slide3.xml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79280" y="260280"/>
            <a:ext cx="35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义务教育课程标准实验教科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900000" y="620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七年级上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39640" y="630864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人民教育出版社出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324000" y="1989000"/>
            <a:ext cx="31683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solidFill>
                  <a:srgbClr val="0066cc"/>
                </a:solidFill>
                <a:effectLst>
                  <a:outerShdw dist="153753" dir="2700000" blurRad="0" rotWithShape="0">
                    <a:srgbClr val="003c79"/>
                  </a:outerShdw>
                </a:effectLst>
                <a:latin typeface="宋体"/>
              </a:rPr>
              <a:t>第一章 有理数 </a:t>
            </a:r>
            <a:endParaRPr b="0" lang="en-US" sz="1800" spc="1" strike="noStrike">
              <a:ln w="0">
                <a:noFill/>
              </a:ln>
              <a:solidFill>
                <a:srgbClr val="0066cc"/>
              </a:solidFill>
              <a:effectLst>
                <a:outerShdw dist="153753" dir="2700000" blurRad="0" rotWithShape="0">
                  <a:srgbClr val="003c7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268360" y="306864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.5.1 </a:t>
            </a:r>
            <a:r>
              <a:rPr b="0" lang="zh-CN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乘方（第</a:t>
            </a:r>
            <a:r>
              <a:rPr b="0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1</a:t>
            </a:r>
            <a:r>
              <a:rPr b="0" lang="zh-CN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课时）</a:t>
            </a:r>
            <a:endParaRPr b="0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1143000" y="609480"/>
            <a:ext cx="739152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练习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判断下列各题是否正确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①        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②           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③            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④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3" name=""/>
              <p:cNvSpPr txBox="1"/>
              <p:nvPr/>
            </p:nvSpPr>
            <p:spPr>
              <a:xfrm>
                <a:off x="2590920" y="2098800"/>
                <a:ext cx="167616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2666880" y="3505320"/>
                <a:ext cx="224820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670120" y="2817720"/>
                <a:ext cx="23194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+</m:t>
                    </m:r>
                    <m:r>
                      <m:t xml:space="preserve">2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6" name=""/>
              <p:cNvSpPr txBox="1"/>
              <p:nvPr/>
            </p:nvSpPr>
            <p:spPr>
              <a:xfrm>
                <a:off x="2666880" y="4233960"/>
                <a:ext cx="524376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4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2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7" name=""/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>
            <a:hlinkClick r:id="" action="ppaction://hlinkshowjump?jump=lastslide"/>
          </p:cNvPr>
          <p:cNvSpPr/>
          <p:nvPr/>
        </p:nvSpPr>
        <p:spPr>
          <a:xfrm>
            <a:off x="6553080" y="64771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523880" y="3581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23880" y="20970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523880" y="28195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1523880" y="43434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Times New Roman"/>
              </a:rPr>
              <a:t>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7391520" y="5105520"/>
            <a:ext cx="1527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1260360" y="1239840"/>
            <a:ext cx="6624720" cy="1012320"/>
            <a:chOff x="1260360" y="1239840"/>
            <a:chExt cx="6624720" cy="1012320"/>
          </a:xfrm>
        </p:grpSpPr>
        <p:sp>
          <p:nvSpPr>
            <p:cNvPr id="497" name=""/>
            <p:cNvSpPr/>
            <p:nvPr/>
          </p:nvSpPr>
          <p:spPr>
            <a:xfrm>
              <a:off x="1260360" y="1239840"/>
              <a:ext cx="3816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例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1 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计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836720" y="1816200"/>
              <a:ext cx="100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Verdana"/>
                </a:rPr>
                <a:t>（</a:t>
              </a:r>
              <a:r>
                <a:rPr b="1" lang="zh-CN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lang="zh-CN" sz="18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627280" y="17924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（－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35280" y="1743120"/>
              <a:ext cx="379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076720" y="1790640"/>
              <a:ext cx="12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300720" y="1743120"/>
              <a:ext cx="1428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（－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97560" y="16714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38200" y="3403440"/>
            <a:ext cx="86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解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258920" y="342900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2195640" y="3355920"/>
            <a:ext cx="1584000" cy="509040"/>
            <a:chOff x="2195640" y="3355920"/>
            <a:chExt cx="1584000" cy="509040"/>
          </a:xfrm>
        </p:grpSpPr>
        <p:sp>
          <p:nvSpPr>
            <p:cNvPr id="507" name=""/>
            <p:cNvSpPr/>
            <p:nvPr/>
          </p:nvSpPr>
          <p:spPr>
            <a:xfrm>
              <a:off x="2195640" y="3405240"/>
              <a:ext cx="158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（－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r>
                <a:rPr b="0" lang="zh-CN" sz="18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196440" y="3355920"/>
              <a:ext cx="417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>
            <a:off x="2482920" y="3421080"/>
            <a:ext cx="194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348000" y="3429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258920" y="4005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1979640" y="3932280"/>
            <a:ext cx="1512360" cy="531000"/>
            <a:chOff x="1979640" y="3932280"/>
            <a:chExt cx="1512360" cy="531000"/>
          </a:xfrm>
        </p:grpSpPr>
        <p:sp>
          <p:nvSpPr>
            <p:cNvPr id="513" name=""/>
            <p:cNvSpPr/>
            <p:nvPr/>
          </p:nvSpPr>
          <p:spPr>
            <a:xfrm>
              <a:off x="1979640" y="4003560"/>
              <a:ext cx="1429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（－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04480" y="3932280"/>
              <a:ext cx="58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3059280" y="407664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×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 txBox="1"/>
          <p:nvPr/>
        </p:nvSpPr>
        <p:spPr>
          <a:xfrm>
            <a:off x="324000" y="333360"/>
            <a:ext cx="86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活动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517" name=""/>
          <p:cNvSpPr/>
          <p:nvPr/>
        </p:nvSpPr>
        <p:spPr>
          <a:xfrm>
            <a:off x="2771640" y="260280"/>
            <a:ext cx="5256360" cy="703800"/>
          </a:xfrm>
          <a:prstGeom prst="rect">
            <a:avLst/>
          </a:prstGeom>
          <a:solidFill>
            <a:srgbClr val="333399"/>
          </a:solidFill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因为     就是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n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个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1" lang="zh-CN" sz="2000" spc="-1" strike="noStrike">
                <a:solidFill>
                  <a:srgbClr val="ffff00"/>
                </a:solidFill>
                <a:latin typeface="Arial"/>
              </a:rPr>
              <a:t>相乘，所以可以利用有理数的乘法运算来进行有理数的乘方运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32880" y="3500280"/>
            <a:ext cx="67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－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8067240" y="407664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0" name=""/>
          <p:cNvGraphicFramePr/>
          <p:nvPr/>
        </p:nvGraphicFramePr>
        <p:xfrm>
          <a:off x="3348000" y="158760"/>
          <a:ext cx="466920" cy="533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158760"/>
                    <a:ext cx="4669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187280" y="1419120"/>
            <a:ext cx="6985080" cy="225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从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和例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，你发现负数的幂的正负有什么规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指数是（               ）数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负数的幂是（             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当指数是（                  ）数时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负数的幂是（                 ）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79280" y="433440"/>
            <a:ext cx="725760" cy="317520"/>
          </a:xfrm>
          <a:custGeom>
            <a:avLst/>
            <a:gdLst/>
            <a:ahLst/>
            <a:rect l="l" t="t" r="r" b="b"/>
            <a:pathLst>
              <a:path w="974" h="390">
                <a:moveTo>
                  <a:pt x="153" y="253"/>
                </a:moveTo>
                <a:cubicBezTo>
                  <a:pt x="195" y="267"/>
                  <a:pt x="185" y="284"/>
                  <a:pt x="217" y="308"/>
                </a:cubicBezTo>
                <a:cubicBezTo>
                  <a:pt x="266" y="344"/>
                  <a:pt x="303" y="378"/>
                  <a:pt x="363" y="390"/>
                </a:cubicBezTo>
                <a:cubicBezTo>
                  <a:pt x="472" y="384"/>
                  <a:pt x="542" y="379"/>
                  <a:pt x="637" y="344"/>
                </a:cubicBezTo>
                <a:cubicBezTo>
                  <a:pt x="659" y="311"/>
                  <a:pt x="691" y="283"/>
                  <a:pt x="729" y="271"/>
                </a:cubicBezTo>
                <a:cubicBezTo>
                  <a:pt x="783" y="235"/>
                  <a:pt x="795" y="218"/>
                  <a:pt x="857" y="198"/>
                </a:cubicBezTo>
                <a:cubicBezTo>
                  <a:pt x="875" y="192"/>
                  <a:pt x="893" y="186"/>
                  <a:pt x="911" y="180"/>
                </a:cubicBezTo>
                <a:cubicBezTo>
                  <a:pt x="920" y="177"/>
                  <a:pt x="939" y="171"/>
                  <a:pt x="939" y="171"/>
                </a:cubicBezTo>
                <a:cubicBezTo>
                  <a:pt x="974" y="134"/>
                  <a:pt x="954" y="167"/>
                  <a:pt x="930" y="143"/>
                </a:cubicBezTo>
                <a:cubicBezTo>
                  <a:pt x="923" y="136"/>
                  <a:pt x="929" y="121"/>
                  <a:pt x="921" y="116"/>
                </a:cubicBezTo>
                <a:cubicBezTo>
                  <a:pt x="897" y="99"/>
                  <a:pt x="866" y="98"/>
                  <a:pt x="838" y="88"/>
                </a:cubicBezTo>
                <a:cubicBezTo>
                  <a:pt x="820" y="82"/>
                  <a:pt x="783" y="70"/>
                  <a:pt x="783" y="70"/>
                </a:cubicBezTo>
                <a:cubicBezTo>
                  <a:pt x="719" y="27"/>
                  <a:pt x="630" y="27"/>
                  <a:pt x="555" y="15"/>
                </a:cubicBezTo>
                <a:cubicBezTo>
                  <a:pt x="308" y="23"/>
                  <a:pt x="340" y="0"/>
                  <a:pt x="207" y="43"/>
                </a:cubicBezTo>
                <a:cubicBezTo>
                  <a:pt x="171" y="98"/>
                  <a:pt x="211" y="49"/>
                  <a:pt x="162" y="79"/>
                </a:cubicBezTo>
                <a:cubicBezTo>
                  <a:pt x="129" y="99"/>
                  <a:pt x="141" y="120"/>
                  <a:pt x="98" y="134"/>
                </a:cubicBezTo>
                <a:cubicBezTo>
                  <a:pt x="92" y="140"/>
                  <a:pt x="76" y="144"/>
                  <a:pt x="79" y="152"/>
                </a:cubicBezTo>
                <a:cubicBezTo>
                  <a:pt x="82" y="161"/>
                  <a:pt x="98" y="158"/>
                  <a:pt x="107" y="162"/>
                </a:cubicBezTo>
                <a:cubicBezTo>
                  <a:pt x="117" y="167"/>
                  <a:pt x="125" y="174"/>
                  <a:pt x="134" y="180"/>
                </a:cubicBezTo>
                <a:cubicBezTo>
                  <a:pt x="0" y="197"/>
                  <a:pt x="86" y="197"/>
                  <a:pt x="143" y="207"/>
                </a:cubicBezTo>
                <a:cubicBezTo>
                  <a:pt x="137" y="208"/>
                  <a:pt x="87" y="220"/>
                  <a:pt x="79" y="226"/>
                </a:cubicBezTo>
                <a:cubicBezTo>
                  <a:pt x="71" y="233"/>
                  <a:pt x="50" y="250"/>
                  <a:pt x="61" y="253"/>
                </a:cubicBezTo>
                <a:cubicBezTo>
                  <a:pt x="156" y="276"/>
                  <a:pt x="153" y="210"/>
                  <a:pt x="153" y="253"/>
                </a:cubicBez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95280" y="433440"/>
            <a:ext cx="289080" cy="287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468360" y="50472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 flipH="1">
            <a:off x="538920" y="504720"/>
            <a:ext cx="73080" cy="144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52360" y="217440"/>
            <a:ext cx="7164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25600" y="18900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>
            <a:off x="755280" y="217440"/>
            <a:ext cx="7308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252000" y="792000"/>
            <a:ext cx="7164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55640" y="792000"/>
            <a:ext cx="7128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39640" y="8650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042920" y="333360"/>
            <a:ext cx="1440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观察与思考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/>
          <p:nvPr/>
        </p:nvSpPr>
        <p:spPr>
          <a:xfrm>
            <a:off x="2843280" y="177948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059280" y="228276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771640" y="2714760"/>
            <a:ext cx="15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133800" y="314640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28720" y="4294080"/>
            <a:ext cx="7343640" cy="1656000"/>
          </a:xfrm>
          <a:prstGeom prst="rect">
            <a:avLst/>
          </a:prstGeom>
          <a:solidFill>
            <a:srgbClr val="66ff33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根据有理数的乘法法则可以的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负数的奇次幂是负数，负数的偶次幂是正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显然，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正数的任何次幂都是正数，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的任何次幂都是</a:t>
            </a:r>
            <a:r>
              <a:rPr b="1" lang="zh-CN" sz="2400" spc="-1" strike="noStrike">
                <a:solidFill>
                  <a:srgbClr val="ff33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2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3" dur="80"/>
                                        <p:tgtEl>
                                          <p:spTgt spid="5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1332000" y="3429000"/>
            <a:ext cx="1728720" cy="531000"/>
            <a:chOff x="1332000" y="3429000"/>
            <a:chExt cx="1728720" cy="531000"/>
          </a:xfrm>
        </p:grpSpPr>
        <p:sp>
          <p:nvSpPr>
            <p:cNvPr id="540" name=""/>
            <p:cNvSpPr/>
            <p:nvPr/>
          </p:nvSpPr>
          <p:spPr>
            <a:xfrm>
              <a:off x="1332000" y="3500280"/>
              <a:ext cx="1584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（－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268360" y="3429000"/>
              <a:ext cx="792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1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2" name=""/>
          <p:cNvGrpSpPr/>
          <p:nvPr/>
        </p:nvGrpSpPr>
        <p:grpSpPr>
          <a:xfrm>
            <a:off x="1692360" y="4124160"/>
            <a:ext cx="647640" cy="531360"/>
            <a:chOff x="1692360" y="4124160"/>
            <a:chExt cx="647640" cy="531360"/>
          </a:xfrm>
        </p:grpSpPr>
        <p:sp>
          <p:nvSpPr>
            <p:cNvPr id="543" name=""/>
            <p:cNvSpPr/>
            <p:nvPr/>
          </p:nvSpPr>
          <p:spPr>
            <a:xfrm>
              <a:off x="1692360" y="419580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8360" y="412416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5" name=""/>
          <p:cNvGrpSpPr/>
          <p:nvPr/>
        </p:nvGrpSpPr>
        <p:grpSpPr>
          <a:xfrm>
            <a:off x="4716360" y="4005360"/>
            <a:ext cx="1511280" cy="531000"/>
            <a:chOff x="4716360" y="4005360"/>
            <a:chExt cx="1511280" cy="531000"/>
          </a:xfrm>
        </p:grpSpPr>
        <p:sp>
          <p:nvSpPr>
            <p:cNvPr id="546" name=""/>
            <p:cNvSpPr/>
            <p:nvPr/>
          </p:nvSpPr>
          <p:spPr>
            <a:xfrm>
              <a:off x="4716360" y="4076640"/>
              <a:ext cx="144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（－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722920" y="4005360"/>
              <a:ext cx="50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8" name=""/>
          <p:cNvGrpSpPr/>
          <p:nvPr/>
        </p:nvGrpSpPr>
        <p:grpSpPr>
          <a:xfrm>
            <a:off x="1547640" y="4770360"/>
            <a:ext cx="1152360" cy="532800"/>
            <a:chOff x="1547640" y="4770360"/>
            <a:chExt cx="1152360" cy="532800"/>
          </a:xfrm>
        </p:grpSpPr>
        <p:sp>
          <p:nvSpPr>
            <p:cNvPr id="549" name=""/>
            <p:cNvSpPr/>
            <p:nvPr/>
          </p:nvSpPr>
          <p:spPr>
            <a:xfrm>
              <a:off x="1547640" y="484344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2052360" y="477036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1476360" y="55101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10)</a:t>
            </a:r>
            <a:r>
              <a:rPr b="1" lang="zh-CN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4968720" y="5516640"/>
            <a:ext cx="23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10)</a:t>
            </a:r>
            <a:r>
              <a:rPr b="1" lang="zh-CN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684360" y="404640"/>
            <a:ext cx="86328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活动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3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4643280" y="3429000"/>
            <a:ext cx="1873080" cy="459720"/>
            <a:chOff x="4643280" y="3429000"/>
            <a:chExt cx="1873080" cy="459720"/>
          </a:xfrm>
        </p:grpSpPr>
        <p:sp>
          <p:nvSpPr>
            <p:cNvPr id="555" name=""/>
            <p:cNvSpPr/>
            <p:nvPr/>
          </p:nvSpPr>
          <p:spPr>
            <a:xfrm>
              <a:off x="4643280" y="3429000"/>
              <a:ext cx="146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（－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Verdana"/>
                </a:rPr>
                <a:t>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21400" y="3429000"/>
              <a:ext cx="894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611280" y="1197000"/>
            <a:ext cx="7416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、计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            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            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              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            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             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              （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203640" y="203508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4213080" y="203508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Verdana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1332000" y="20350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2340000" y="1989000"/>
            <a:ext cx="79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5292720" y="1989000"/>
            <a:ext cx="647640" cy="531360"/>
            <a:chOff x="5292720" y="1989000"/>
            <a:chExt cx="647640" cy="531360"/>
          </a:xfrm>
        </p:grpSpPr>
        <p:sp>
          <p:nvSpPr>
            <p:cNvPr id="563" name=""/>
            <p:cNvSpPr/>
            <p:nvPr/>
          </p:nvSpPr>
          <p:spPr>
            <a:xfrm>
              <a:off x="5292720" y="2060640"/>
              <a:ext cx="431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508720" y="1989000"/>
              <a:ext cx="43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5" name=""/>
          <p:cNvSpPr/>
          <p:nvPr/>
        </p:nvSpPr>
        <p:spPr>
          <a:xfrm>
            <a:off x="7020000" y="2035080"/>
            <a:ext cx="143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（－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028000" y="1989000"/>
            <a:ext cx="50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7" name=""/>
          <p:cNvGrpSpPr/>
          <p:nvPr/>
        </p:nvGrpSpPr>
        <p:grpSpPr>
          <a:xfrm>
            <a:off x="1547640" y="2421000"/>
            <a:ext cx="1152360" cy="532800"/>
            <a:chOff x="1547640" y="2421000"/>
            <a:chExt cx="1152360" cy="532800"/>
          </a:xfrm>
        </p:grpSpPr>
        <p:sp>
          <p:nvSpPr>
            <p:cNvPr id="568" name=""/>
            <p:cNvSpPr/>
            <p:nvPr/>
          </p:nvSpPr>
          <p:spPr>
            <a:xfrm>
              <a:off x="1547640" y="2494080"/>
              <a:ext cx="1152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052360" y="2421000"/>
              <a:ext cx="43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3797280" y="2421000"/>
            <a:ext cx="1406160" cy="672120"/>
            <a:chOff x="3797280" y="2421000"/>
            <a:chExt cx="1406160" cy="672120"/>
          </a:xfrm>
        </p:grpSpPr>
        <p:sp>
          <p:nvSpPr>
            <p:cNvPr id="571" name=""/>
            <p:cNvSpPr/>
            <p:nvPr/>
          </p:nvSpPr>
          <p:spPr>
            <a:xfrm>
              <a:off x="3872160" y="2421000"/>
              <a:ext cx="51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68920" y="2755800"/>
              <a:ext cx="52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797280" y="2555280"/>
              <a:ext cx="140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Verdana"/>
                </a:rPr>
                <a:t>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843280" y="256536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Verdana"/>
              </a:rPr>
              <a:t>（－    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195800" y="2487600"/>
            <a:ext cx="59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146560" y="256536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10)</a:t>
            </a:r>
            <a:r>
              <a:rPr b="1" lang="zh-CN" sz="1800" spc="-1" strike="noStrike" baseline="30000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165800" y="2565360"/>
            <a:ext cx="13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－</a:t>
            </a: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10)</a:t>
            </a:r>
            <a:r>
              <a:rPr b="1" lang="zh-CN" sz="1800" spc="-1" strike="noStrike" baseline="30000">
                <a:solidFill>
                  <a:srgbClr val="000000"/>
                </a:solidFill>
                <a:latin typeface="Verdan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8" name=""/>
          <p:cNvGrpSpPr/>
          <p:nvPr/>
        </p:nvGrpSpPr>
        <p:grpSpPr>
          <a:xfrm>
            <a:off x="4211640" y="4702320"/>
            <a:ext cx="2736720" cy="672120"/>
            <a:chOff x="4211640" y="4702320"/>
            <a:chExt cx="2736720" cy="672120"/>
          </a:xfrm>
        </p:grpSpPr>
        <p:grpSp>
          <p:nvGrpSpPr>
            <p:cNvPr id="579" name=""/>
            <p:cNvGrpSpPr/>
            <p:nvPr/>
          </p:nvGrpSpPr>
          <p:grpSpPr>
            <a:xfrm>
              <a:off x="5165640" y="4702320"/>
              <a:ext cx="1406160" cy="672120"/>
              <a:chOff x="5165640" y="4702320"/>
              <a:chExt cx="1406160" cy="672120"/>
            </a:xfrm>
          </p:grpSpPr>
          <p:sp>
            <p:nvSpPr>
              <p:cNvPr id="580" name=""/>
              <p:cNvSpPr/>
              <p:nvPr/>
            </p:nvSpPr>
            <p:spPr>
              <a:xfrm>
                <a:off x="5240520" y="4702320"/>
                <a:ext cx="516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1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37280" y="5037120"/>
                <a:ext cx="5202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Verdana"/>
                  </a:rPr>
                  <a:t>2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5165640" y="4836600"/>
                <a:ext cx="1406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Verdana"/>
                  </a:rPr>
                  <a:t>—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83" name=""/>
            <p:cNvSpPr/>
            <p:nvPr/>
          </p:nvSpPr>
          <p:spPr>
            <a:xfrm>
              <a:off x="4211640" y="4846320"/>
              <a:ext cx="2736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    </a:t>
              </a:r>
              <a:r>
                <a:rPr b="1" lang="zh-CN" sz="2000" spc="-1" strike="noStrike">
                  <a:solidFill>
                    <a:srgbClr val="000000"/>
                  </a:solidFill>
                  <a:latin typeface="Verdana"/>
                </a:rPr>
                <a:t>（－    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686560" y="4768560"/>
              <a:ext cx="591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5" name=""/>
          <p:cNvSpPr/>
          <p:nvPr/>
        </p:nvSpPr>
        <p:spPr>
          <a:xfrm>
            <a:off x="826920" y="3500280"/>
            <a:ext cx="93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解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627280" y="35733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940360" y="3463920"/>
            <a:ext cx="105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484360" y="4221000"/>
            <a:ext cx="16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5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6012000" y="4076640"/>
            <a:ext cx="16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2411280" y="4869000"/>
            <a:ext cx="182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0.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6012000" y="4702320"/>
            <a:ext cx="936360" cy="672120"/>
            <a:chOff x="6012000" y="4702320"/>
            <a:chExt cx="936360" cy="672120"/>
          </a:xfrm>
        </p:grpSpPr>
        <p:sp>
          <p:nvSpPr>
            <p:cNvPr id="592" name=""/>
            <p:cNvSpPr/>
            <p:nvPr/>
          </p:nvSpPr>
          <p:spPr>
            <a:xfrm>
              <a:off x="6375240" y="4702320"/>
              <a:ext cx="516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Verdana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283080" y="5037120"/>
              <a:ext cx="52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Verdana"/>
                </a:rPr>
                <a:t>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012000" y="4836960"/>
              <a:ext cx="936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3300"/>
                  </a:solidFill>
                  <a:latin typeface="Verdana"/>
                </a:rPr>
                <a:t>＝</a:t>
              </a:r>
              <a:r>
                <a:rPr b="1" lang="zh-CN" sz="1800" spc="-1" strike="noStrike">
                  <a:solidFill>
                    <a:srgbClr val="ff3300"/>
                  </a:solidFill>
                  <a:latin typeface="Verdana"/>
                </a:rPr>
                <a:t> —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5" name=""/>
          <p:cNvSpPr/>
          <p:nvPr/>
        </p:nvSpPr>
        <p:spPr>
          <a:xfrm>
            <a:off x="2411280" y="5510160"/>
            <a:ext cx="192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012000" y="55166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＝－</a:t>
            </a:r>
            <a:r>
              <a:rPr b="1" lang="zh-CN" sz="2000" spc="-1" strike="noStrike">
                <a:solidFill>
                  <a:srgbClr val="ff3300"/>
                </a:solidFill>
                <a:latin typeface="Arial"/>
              </a:rPr>
              <a:t>10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2627280" y="765000"/>
            <a:ext cx="11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Verdana"/>
              </a:rPr>
              <a:t>小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042920" y="153180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乘方的概念：求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个相同因数的积的运算叫做乘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1692360" y="4437000"/>
            <a:ext cx="51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、乘方负号的确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187280" y="2637000"/>
            <a:ext cx="9352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i="1" lang="en-US" sz="2400" spc="-1" strike="noStrike" baseline="30000">
                <a:solidFill>
                  <a:srgbClr val="ff33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619280" y="335592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050920" y="3068640"/>
            <a:ext cx="360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1619280" y="2347560"/>
            <a:ext cx="0" cy="36036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258920" y="378792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底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482920" y="2924280"/>
            <a:ext cx="461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幂（乘方的结果叫做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258920" y="2060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916360" y="364500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zh-CN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读法：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次方或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的</a:t>
            </a:r>
            <a:r>
              <a:rPr b="1" i="1" lang="zh-CN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次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55640" y="5084640"/>
            <a:ext cx="748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负数的积次幂是负数，负数的偶次幂是正数，正数的任何次幂都是正数，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0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的任何正整数次幂都是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 txBox="1"/>
          <p:nvPr/>
        </p:nvSpPr>
        <p:spPr>
          <a:xfrm>
            <a:off x="468360" y="476280"/>
            <a:ext cx="8636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活动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4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 txBox="1"/>
          <p:nvPr/>
        </p:nvSpPr>
        <p:spPr>
          <a:xfrm>
            <a:off x="2268360" y="1989000"/>
            <a:ext cx="475308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ff00ff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539640" y="1989000"/>
            <a:ext cx="1225800" cy="122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971640" y="3141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556000" y="2060640"/>
            <a:ext cx="63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边长为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正方形的面积是  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简记作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读作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平方（或二次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84360" y="4653000"/>
            <a:ext cx="61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棱长为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正方体的体积是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·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简记作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400" spc="-1" strike="noStrike" baseline="30000">
                <a:solidFill>
                  <a:srgbClr val="ff33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读作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立方（或三次方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4363920"/>
            <a:ext cx="1150920" cy="1154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5445000"/>
            <a:ext cx="7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395280" y="189000"/>
            <a:ext cx="86364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活动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1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755640" y="907920"/>
            <a:ext cx="2160360" cy="820800"/>
            <a:chOff x="755640" y="907920"/>
            <a:chExt cx="2160360" cy="820800"/>
          </a:xfrm>
        </p:grpSpPr>
        <p:sp>
          <p:nvSpPr>
            <p:cNvPr id="305" name=""/>
            <p:cNvSpPr/>
            <p:nvPr/>
          </p:nvSpPr>
          <p:spPr>
            <a:xfrm>
              <a:off x="755640" y="1152360"/>
              <a:ext cx="725400" cy="317520"/>
            </a:xfrm>
            <a:custGeom>
              <a:avLst/>
              <a:gdLst/>
              <a:ahLst/>
              <a:rect l="l" t="t" r="r" b="b"/>
              <a:pathLst>
                <a:path w="974" h="390">
                  <a:moveTo>
                    <a:pt x="153" y="253"/>
                  </a:moveTo>
                  <a:cubicBezTo>
                    <a:pt x="195" y="267"/>
                    <a:pt x="185" y="284"/>
                    <a:pt x="217" y="308"/>
                  </a:cubicBezTo>
                  <a:cubicBezTo>
                    <a:pt x="266" y="344"/>
                    <a:pt x="303" y="378"/>
                    <a:pt x="363" y="390"/>
                  </a:cubicBezTo>
                  <a:cubicBezTo>
                    <a:pt x="472" y="384"/>
                    <a:pt x="542" y="379"/>
                    <a:pt x="637" y="344"/>
                  </a:cubicBezTo>
                  <a:cubicBezTo>
                    <a:pt x="659" y="311"/>
                    <a:pt x="691" y="283"/>
                    <a:pt x="729" y="271"/>
                  </a:cubicBezTo>
                  <a:cubicBezTo>
                    <a:pt x="783" y="235"/>
                    <a:pt x="795" y="218"/>
                    <a:pt x="857" y="198"/>
                  </a:cubicBezTo>
                  <a:cubicBezTo>
                    <a:pt x="875" y="192"/>
                    <a:pt x="893" y="186"/>
                    <a:pt x="911" y="180"/>
                  </a:cubicBezTo>
                  <a:cubicBezTo>
                    <a:pt x="920" y="177"/>
                    <a:pt x="939" y="171"/>
                    <a:pt x="939" y="171"/>
                  </a:cubicBezTo>
                  <a:cubicBezTo>
                    <a:pt x="974" y="134"/>
                    <a:pt x="954" y="167"/>
                    <a:pt x="930" y="143"/>
                  </a:cubicBezTo>
                  <a:cubicBezTo>
                    <a:pt x="923" y="136"/>
                    <a:pt x="929" y="121"/>
                    <a:pt x="921" y="116"/>
                  </a:cubicBezTo>
                  <a:cubicBezTo>
                    <a:pt x="897" y="99"/>
                    <a:pt x="866" y="98"/>
                    <a:pt x="838" y="88"/>
                  </a:cubicBezTo>
                  <a:cubicBezTo>
                    <a:pt x="820" y="82"/>
                    <a:pt x="783" y="70"/>
                    <a:pt x="783" y="70"/>
                  </a:cubicBezTo>
                  <a:cubicBezTo>
                    <a:pt x="719" y="27"/>
                    <a:pt x="630" y="27"/>
                    <a:pt x="555" y="15"/>
                  </a:cubicBezTo>
                  <a:cubicBezTo>
                    <a:pt x="308" y="23"/>
                    <a:pt x="340" y="0"/>
                    <a:pt x="207" y="43"/>
                  </a:cubicBezTo>
                  <a:cubicBezTo>
                    <a:pt x="171" y="98"/>
                    <a:pt x="211" y="49"/>
                    <a:pt x="162" y="79"/>
                  </a:cubicBezTo>
                  <a:cubicBezTo>
                    <a:pt x="129" y="99"/>
                    <a:pt x="141" y="120"/>
                    <a:pt x="98" y="134"/>
                  </a:cubicBezTo>
                  <a:cubicBezTo>
                    <a:pt x="92" y="140"/>
                    <a:pt x="76" y="144"/>
                    <a:pt x="79" y="152"/>
                  </a:cubicBezTo>
                  <a:cubicBezTo>
                    <a:pt x="82" y="161"/>
                    <a:pt x="98" y="158"/>
                    <a:pt x="107" y="162"/>
                  </a:cubicBezTo>
                  <a:cubicBezTo>
                    <a:pt x="117" y="167"/>
                    <a:pt x="125" y="174"/>
                    <a:pt x="134" y="180"/>
                  </a:cubicBezTo>
                  <a:cubicBezTo>
                    <a:pt x="0" y="197"/>
                    <a:pt x="86" y="197"/>
                    <a:pt x="143" y="207"/>
                  </a:cubicBezTo>
                  <a:cubicBezTo>
                    <a:pt x="137" y="208"/>
                    <a:pt x="87" y="220"/>
                    <a:pt x="79" y="226"/>
                  </a:cubicBezTo>
                  <a:cubicBezTo>
                    <a:pt x="71" y="233"/>
                    <a:pt x="50" y="250"/>
                    <a:pt x="61" y="253"/>
                  </a:cubicBezTo>
                  <a:cubicBezTo>
                    <a:pt x="156" y="276"/>
                    <a:pt x="153" y="210"/>
                    <a:pt x="153" y="253"/>
                  </a:cubicBez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971280" y="1152360"/>
              <a:ext cx="289080" cy="28728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044360" y="1224000"/>
              <a:ext cx="144720" cy="144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1115280" y="1224000"/>
              <a:ext cx="73080" cy="14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28720" y="936360"/>
              <a:ext cx="7128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101600" y="907920"/>
              <a:ext cx="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1331280" y="936360"/>
              <a:ext cx="73080" cy="14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28720" y="1511280"/>
              <a:ext cx="7128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331640" y="1511280"/>
              <a:ext cx="71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116000" y="1584360"/>
              <a:ext cx="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 txBox="1"/>
            <p:nvPr/>
          </p:nvSpPr>
          <p:spPr>
            <a:xfrm>
              <a:off x="1476360" y="1079280"/>
              <a:ext cx="143964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宋体"/>
                </a:rPr>
                <a:t>观察</a:t>
              </a:r>
              <a:endPara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  <a:ea typeface="宋体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6" name=""/>
          <p:cNvGrpSpPr/>
          <p:nvPr/>
        </p:nvGrpSpPr>
        <p:grpSpPr>
          <a:xfrm>
            <a:off x="228600" y="380880"/>
            <a:ext cx="4800600" cy="581400"/>
            <a:chOff x="228600" y="380880"/>
            <a:chExt cx="4800600" cy="581400"/>
          </a:xfrm>
        </p:grpSpPr>
        <p:sp>
          <p:nvSpPr>
            <p:cNvPr id="317" name=""/>
            <p:cNvSpPr/>
            <p:nvPr/>
          </p:nvSpPr>
          <p:spPr>
            <a:xfrm>
              <a:off x="228600" y="380880"/>
              <a:ext cx="4800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2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个  相加可记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18" name=""/>
                <p:cNvSpPr txBox="1"/>
                <p:nvPr/>
              </p:nvSpPr>
              <p:spPr>
                <a:xfrm>
                  <a:off x="914400" y="463680"/>
                  <a:ext cx="4111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173160" y="1981080"/>
                <a:ext cx="31654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0" name=""/>
              <p:cNvSpPr txBox="1"/>
              <p:nvPr/>
            </p:nvSpPr>
            <p:spPr>
              <a:xfrm>
                <a:off x="318960" y="838080"/>
                <a:ext cx="250668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21" name=""/>
              <p:cNvSpPr txBox="1"/>
              <p:nvPr/>
            </p:nvSpPr>
            <p:spPr>
              <a:xfrm>
                <a:off x="214200" y="2971800"/>
                <a:ext cx="3595680" cy="4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t xml:space="preserve">×</m:t>
                    </m:r>
                    <m:r>
                      <m:t xml:space="preserve">4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22" name=""/>
          <p:cNvGrpSpPr/>
          <p:nvPr/>
        </p:nvGrpSpPr>
        <p:grpSpPr>
          <a:xfrm>
            <a:off x="228600" y="1447920"/>
            <a:ext cx="3505320" cy="581400"/>
            <a:chOff x="228600" y="1447920"/>
            <a:chExt cx="3505320" cy="581400"/>
          </a:xfrm>
        </p:grpSpPr>
        <p:sp>
          <p:nvSpPr>
            <p:cNvPr id="323" name=""/>
            <p:cNvSpPr/>
            <p:nvPr/>
          </p:nvSpPr>
          <p:spPr>
            <a:xfrm>
              <a:off x="228600" y="1447920"/>
              <a:ext cx="350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个  相加可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4" name=""/>
                <p:cNvSpPr txBox="1"/>
                <p:nvPr/>
              </p:nvSpPr>
              <p:spPr>
                <a:xfrm>
                  <a:off x="955800" y="1609560"/>
                  <a:ext cx="328320" cy="369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5" name=""/>
          <p:cNvGrpSpPr/>
          <p:nvPr/>
        </p:nvGrpSpPr>
        <p:grpSpPr>
          <a:xfrm>
            <a:off x="304920" y="2544840"/>
            <a:ext cx="3429000" cy="581400"/>
            <a:chOff x="304920" y="2544840"/>
            <a:chExt cx="3429000" cy="581400"/>
          </a:xfrm>
        </p:grpSpPr>
        <p:sp>
          <p:nvSpPr>
            <p:cNvPr id="326" name=""/>
            <p:cNvSpPr/>
            <p:nvPr/>
          </p:nvSpPr>
          <p:spPr>
            <a:xfrm>
              <a:off x="304920" y="2544840"/>
              <a:ext cx="342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个  相加可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990720" y="2673000"/>
                  <a:ext cx="4111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28" name=""/>
          <p:cNvGrpSpPr/>
          <p:nvPr/>
        </p:nvGrpSpPr>
        <p:grpSpPr>
          <a:xfrm>
            <a:off x="0" y="3809880"/>
            <a:ext cx="3924000" cy="581400"/>
            <a:chOff x="0" y="3809880"/>
            <a:chExt cx="3924000" cy="581400"/>
          </a:xfrm>
        </p:grpSpPr>
        <p:sp>
          <p:nvSpPr>
            <p:cNvPr id="329" name=""/>
            <p:cNvSpPr/>
            <p:nvPr/>
          </p:nvSpPr>
          <p:spPr>
            <a:xfrm>
              <a:off x="0" y="3809880"/>
              <a:ext cx="3924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个  相加可记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981000" y="3932280"/>
                  <a:ext cx="4410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131040" y="3932280"/>
                  <a:ext cx="44100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32" name=""/>
          <p:cNvGrpSpPr/>
          <p:nvPr/>
        </p:nvGrpSpPr>
        <p:grpSpPr>
          <a:xfrm>
            <a:off x="3886200" y="380880"/>
            <a:ext cx="5181480" cy="527040"/>
            <a:chOff x="3886200" y="380880"/>
            <a:chExt cx="5181480" cy="527040"/>
          </a:xfrm>
        </p:grpSpPr>
        <p:sp>
          <p:nvSpPr>
            <p:cNvPr id="333" name=""/>
            <p:cNvSpPr/>
            <p:nvPr/>
          </p:nvSpPr>
          <p:spPr>
            <a:xfrm>
              <a:off x="3886200" y="380880"/>
              <a:ext cx="5181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边长为  的正方形的面积可记为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4" name=""/>
                <p:cNvSpPr txBox="1"/>
                <p:nvPr/>
              </p:nvSpPr>
              <p:spPr>
                <a:xfrm>
                  <a:off x="5074920" y="457200"/>
                  <a:ext cx="41076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35" name=""/>
              <p:cNvSpPr txBox="1"/>
              <p:nvPr/>
            </p:nvSpPr>
            <p:spPr>
              <a:xfrm>
                <a:off x="4843440" y="762120"/>
                <a:ext cx="17859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4667400" y="1865160"/>
                <a:ext cx="2342880" cy="573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337" name=""/>
          <p:cNvGrpSpPr/>
          <p:nvPr/>
        </p:nvGrpSpPr>
        <p:grpSpPr>
          <a:xfrm>
            <a:off x="4038480" y="2590920"/>
            <a:ext cx="4343400" cy="527040"/>
            <a:chOff x="4038480" y="2590920"/>
            <a:chExt cx="4343400" cy="527040"/>
          </a:xfrm>
        </p:grpSpPr>
        <p:sp>
          <p:nvSpPr>
            <p:cNvPr id="338" name=""/>
            <p:cNvSpPr/>
            <p:nvPr/>
          </p:nvSpPr>
          <p:spPr>
            <a:xfrm>
              <a:off x="4038480" y="2590920"/>
              <a:ext cx="4343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那么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  相乘可记为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39" name=""/>
                <p:cNvSpPr txBox="1"/>
                <p:nvPr/>
              </p:nvSpPr>
              <p:spPr>
                <a:xfrm>
                  <a:off x="5334120" y="2666880"/>
                  <a:ext cx="4111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0" name=""/>
          <p:cNvGrpSpPr/>
          <p:nvPr/>
        </p:nvGrpSpPr>
        <p:grpSpPr>
          <a:xfrm>
            <a:off x="3886200" y="1484280"/>
            <a:ext cx="5257800" cy="533520"/>
            <a:chOff x="3886200" y="1484280"/>
            <a:chExt cx="5257800" cy="533520"/>
          </a:xfrm>
        </p:grpSpPr>
        <p:sp>
          <p:nvSpPr>
            <p:cNvPr id="341" name=""/>
            <p:cNvSpPr/>
            <p:nvPr/>
          </p:nvSpPr>
          <p:spPr>
            <a:xfrm>
              <a:off x="3886200" y="1484280"/>
              <a:ext cx="5257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棱长为  的正方体的体积可记为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2" name=""/>
                <p:cNvSpPr txBox="1"/>
                <p:nvPr/>
              </p:nvSpPr>
              <p:spPr>
                <a:xfrm>
                  <a:off x="4998960" y="1566720"/>
                  <a:ext cx="4111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43" name=""/>
          <p:cNvGrpSpPr/>
          <p:nvPr/>
        </p:nvGrpSpPr>
        <p:grpSpPr>
          <a:xfrm>
            <a:off x="4267080" y="3693960"/>
            <a:ext cx="4648320" cy="609840"/>
            <a:chOff x="4267080" y="3693960"/>
            <a:chExt cx="4648320" cy="609840"/>
          </a:xfrm>
        </p:grpSpPr>
        <p:sp>
          <p:nvSpPr>
            <p:cNvPr id="344" name=""/>
            <p:cNvSpPr/>
            <p:nvPr/>
          </p:nvSpPr>
          <p:spPr>
            <a:xfrm>
              <a:off x="4572000" y="3693960"/>
              <a:ext cx="434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个  相乘又可记为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5" name=""/>
                <p:cNvSpPr txBox="1"/>
                <p:nvPr/>
              </p:nvSpPr>
              <p:spPr>
                <a:xfrm>
                  <a:off x="4267080" y="3852720"/>
                  <a:ext cx="41112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n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46" name=""/>
                <p:cNvSpPr txBox="1"/>
                <p:nvPr/>
              </p:nvSpPr>
              <p:spPr>
                <a:xfrm>
                  <a:off x="5029200" y="3846600"/>
                  <a:ext cx="411120" cy="450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347" name=""/>
              <p:cNvSpPr txBox="1"/>
              <p:nvPr/>
            </p:nvSpPr>
            <p:spPr>
              <a:xfrm>
                <a:off x="4853160" y="2971800"/>
                <a:ext cx="2631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48" name="">
            <a:hlinkClick r:id="rId2" action="ppaction://hlinksldjump"/>
          </p:cNvPr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>
            <a:hlinkClick r:id="" action="ppaction://hlinkshowjump?jump=lastslide"/>
          </p:cNvPr>
          <p:cNvSpPr/>
          <p:nvPr/>
        </p:nvSpPr>
        <p:spPr>
          <a:xfrm>
            <a:off x="6553080" y="64771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2" name=""/>
              <p:cNvSpPr txBox="1"/>
              <p:nvPr/>
            </p:nvSpPr>
            <p:spPr>
              <a:xfrm>
                <a:off x="184320" y="4465800"/>
                <a:ext cx="370188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+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4424400" y="4343400"/>
                <a:ext cx="353700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⋅</m:t>
                    </m:r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?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354" name="" descr=""/>
          <p:cNvPicPr/>
          <p:nvPr/>
        </p:nvPicPr>
        <p:blipFill>
          <a:blip r:embed="rId3"/>
          <a:stretch/>
        </p:blipFill>
        <p:spPr>
          <a:xfrm>
            <a:off x="7315200" y="5105520"/>
            <a:ext cx="1371600" cy="1371600"/>
          </a:xfrm>
          <a:prstGeom prst="rect">
            <a:avLst/>
          </a:prstGeom>
          <a:ln w="0">
            <a:noFill/>
          </a:ln>
        </p:spPr>
      </p:pic>
      <p:grpSp>
        <p:nvGrpSpPr>
          <p:cNvPr id="355" name=""/>
          <p:cNvGrpSpPr/>
          <p:nvPr/>
        </p:nvGrpSpPr>
        <p:grpSpPr>
          <a:xfrm>
            <a:off x="5105520" y="4723920"/>
            <a:ext cx="1557000" cy="844200"/>
            <a:chOff x="5105520" y="4723920"/>
            <a:chExt cx="1557000" cy="844200"/>
          </a:xfrm>
        </p:grpSpPr>
        <p:sp>
          <p:nvSpPr>
            <p:cNvPr id="356" name=""/>
            <p:cNvSpPr/>
            <p:nvPr/>
          </p:nvSpPr>
          <p:spPr>
            <a:xfrm rot="16200000">
              <a:off x="5541120" y="4288320"/>
              <a:ext cx="6858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{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867280" y="5108400"/>
              <a:ext cx="58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个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187280" y="1628640"/>
            <a:ext cx="6193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求</a:t>
            </a:r>
            <a:r>
              <a:rPr b="1" i="1" lang="zh-CN" sz="2400" spc="-1" strike="noStrike">
                <a:solidFill>
                  <a:srgbClr val="ff3300"/>
                </a:solidFill>
                <a:latin typeface="Times New Roman"/>
              </a:rPr>
              <a:t>n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个相同因数的积的运算，叫做乘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9" name=""/>
          <p:cNvGrpSpPr/>
          <p:nvPr/>
        </p:nvGrpSpPr>
        <p:grpSpPr>
          <a:xfrm>
            <a:off x="2197080" y="2827080"/>
            <a:ext cx="1224000" cy="1297080"/>
            <a:chOff x="2197080" y="2827080"/>
            <a:chExt cx="1224000" cy="1297080"/>
          </a:xfrm>
        </p:grpSpPr>
        <p:sp>
          <p:nvSpPr>
            <p:cNvPr id="360" name=""/>
            <p:cNvSpPr/>
            <p:nvPr/>
          </p:nvSpPr>
          <p:spPr>
            <a:xfrm>
              <a:off x="2197080" y="3044880"/>
              <a:ext cx="934920" cy="792000"/>
            </a:xfrm>
            <a:prstGeom prst="rect">
              <a:avLst/>
            </a:prstGeom>
            <a:solidFill>
              <a:srgbClr val="66ff33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6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r>
                <a:rPr b="1" i="1" lang="en-US" sz="3600" spc="-1" strike="noStrike" baseline="30000">
                  <a:solidFill>
                    <a:srgbClr val="ff3300"/>
                  </a:solidFill>
                  <a:latin typeface="Times New Roman"/>
                </a:rPr>
                <a:t>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84440" y="3763800"/>
              <a:ext cx="0" cy="360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060720" y="3403440"/>
              <a:ext cx="360360" cy="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2584440" y="2827080"/>
              <a:ext cx="0" cy="360360"/>
            </a:xfrm>
            <a:prstGeom prst="line">
              <a:avLst/>
            </a:prstGeom>
            <a:ln w="93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2195640" y="41241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底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3419640" y="314640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233856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7" name=""/>
          <p:cNvGrpSpPr/>
          <p:nvPr/>
        </p:nvGrpSpPr>
        <p:grpSpPr>
          <a:xfrm>
            <a:off x="1187280" y="0"/>
            <a:ext cx="6301080" cy="1600200"/>
            <a:chOff x="1187280" y="0"/>
            <a:chExt cx="6301080" cy="1600200"/>
          </a:xfrm>
        </p:grpSpPr>
        <p:sp>
          <p:nvSpPr>
            <p:cNvPr id="368" name=""/>
            <p:cNvSpPr/>
            <p:nvPr/>
          </p:nvSpPr>
          <p:spPr>
            <a:xfrm>
              <a:off x="1187280" y="0"/>
              <a:ext cx="6301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一般地，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相同的因数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相乘，即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·a·a·…·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记做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i="1" lang="zh-CN" sz="2800" spc="-1" strike="noStrike" baseline="30000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，读做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的</a:t>
              </a: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次方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rot="16200000">
              <a:off x="1906560" y="287280"/>
              <a:ext cx="287280" cy="1440000"/>
            </a:xfrm>
            <a:custGeom>
              <a:avLst/>
              <a:gdLst>
                <a:gd name="textAreaLeft" fmla="*/ 183600 w 287280"/>
                <a:gd name="textAreaRight" fmla="*/ 287640 w 28728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226"/>
                  </a:lnTo>
                  <a:cubicBezTo>
                    <a:pt x="10800" y="10126"/>
                    <a:pt x="5400" y="11026"/>
                    <a:pt x="0" y="11026"/>
                  </a:cubicBezTo>
                  <a:cubicBezTo>
                    <a:pt x="5400" y="11026"/>
                    <a:pt x="10800" y="11926"/>
                    <a:pt x="10800" y="12826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1536480" y="1079640"/>
              <a:ext cx="96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28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个</a:t>
              </a: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"/>
          <p:cNvSpPr/>
          <p:nvPr/>
        </p:nvSpPr>
        <p:spPr>
          <a:xfrm>
            <a:off x="3635280" y="314172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</a:rPr>
              <a:t>（乘方的结果叫做幂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26920" y="472428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例如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底数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指数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读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方，或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次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26920" y="5734080"/>
            <a:ext cx="770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一个数可以看作这个数本身的一次方，例如：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就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，指数是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通常省略不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1295280" y="895320"/>
              <a:ext cx="7010640" cy="50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口答练习一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在      中，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2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，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0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，读作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      的底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指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读作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77" name=""/>
                <p:cNvSpPr txBox="1"/>
                <p:nvPr/>
              </p:nvSpPr>
              <p:spPr>
                <a:xfrm>
                  <a:off x="2057400" y="3581280"/>
                  <a:ext cx="1523880" cy="1067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  <m:sup>
                          <m:r>
                            <m:t xml:space="preserve">7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78" name=""/>
                <p:cNvSpPr txBox="1"/>
                <p:nvPr/>
              </p:nvSpPr>
              <p:spPr>
                <a:xfrm>
                  <a:off x="2743200" y="1752480"/>
                  <a:ext cx="838080" cy="676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79" name="">
            <a:hlinkClick r:id="rId2" action="ppaction://hlinksldjump"/>
          </p:cNvPr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>
            <a:hlinkClick r:id="" action="ppaction://hlinkshowjump?jump=lastslide"/>
          </p:cNvPr>
          <p:cNvSpPr/>
          <p:nvPr/>
        </p:nvSpPr>
        <p:spPr>
          <a:xfrm>
            <a:off x="6553080" y="64771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5070600" y="3460680"/>
                <a:ext cx="3394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7238880" y="38098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581280" y="4267080"/>
            <a:ext cx="2209680" cy="882360"/>
            <a:chOff x="3581280" y="4267080"/>
            <a:chExt cx="2209680" cy="882360"/>
          </a:xfrm>
        </p:grpSpPr>
        <p:sp>
          <p:nvSpPr>
            <p:cNvPr id="386" name=""/>
            <p:cNvSpPr/>
            <p:nvPr/>
          </p:nvSpPr>
          <p:spPr>
            <a:xfrm>
              <a:off x="3962160" y="441936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的</a:t>
              </a:r>
              <a:r>
                <a:rPr b="0" lang="en-US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7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次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7" name=""/>
                <p:cNvSpPr txBox="1"/>
                <p:nvPr/>
              </p:nvSpPr>
              <p:spPr>
                <a:xfrm>
                  <a:off x="3581280" y="4267080"/>
                  <a:ext cx="339480" cy="88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2</m:t>
                          </m:r>
                        </m:num>
                        <m:den>
                          <m:r>
                            <m:t xml:space="preserve">3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388" name=""/>
          <p:cNvSpPr/>
          <p:nvPr/>
        </p:nvSpPr>
        <p:spPr>
          <a:xfrm>
            <a:off x="5257800" y="178272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47920" y="277344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809880" y="277344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527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39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5" name=""/>
            <p:cNvSpPr/>
            <p:nvPr/>
          </p:nvSpPr>
          <p:spPr>
            <a:xfrm>
              <a:off x="914400" y="1095480"/>
              <a:ext cx="75438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在      中，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-3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，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6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数，读作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br>
                <a:rPr sz="3200"/>
              </a:b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)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在      中，底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指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读作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2057400" y="1219320"/>
                <a:ext cx="12193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6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1866960" y="2724120"/>
                <a:ext cx="125712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e>
                        </m:d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98" name=""/>
          <p:cNvSpPr/>
          <p:nvPr/>
        </p:nvSpPr>
        <p:spPr>
          <a:xfrm>
            <a:off x="4876920" y="12891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086600" y="12891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843280" y="198900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-3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的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6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次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21441600">
            <a:off x="1331640" y="34999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>
            <a:hlinkClick r:id="rId2" action="ppaction://hlinksldjump"/>
          </p:cNvPr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>
            <a:hlinkClick r:id="" action="ppaction://hlinkshowjump?jump=lastslide"/>
          </p:cNvPr>
          <p:cNvSpPr/>
          <p:nvPr/>
        </p:nvSpPr>
        <p:spPr>
          <a:xfrm>
            <a:off x="6553080" y="64771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5143680" y="2895480"/>
                <a:ext cx="7236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407" name=""/>
          <p:cNvGrpSpPr/>
          <p:nvPr/>
        </p:nvGrpSpPr>
        <p:grpSpPr>
          <a:xfrm>
            <a:off x="3419640" y="3500280"/>
            <a:ext cx="5400000" cy="581400"/>
            <a:chOff x="3419640" y="3500280"/>
            <a:chExt cx="5400000" cy="581400"/>
          </a:xfrm>
        </p:grpSpPr>
        <p:sp>
          <p:nvSpPr>
            <p:cNvPr id="408" name=""/>
            <p:cNvSpPr/>
            <p:nvPr/>
          </p:nvSpPr>
          <p:spPr>
            <a:xfrm>
              <a:off x="3515760" y="3500280"/>
              <a:ext cx="5303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的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17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次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09" name=""/>
                <p:cNvSpPr txBox="1"/>
                <p:nvPr/>
              </p:nvSpPr>
              <p:spPr>
                <a:xfrm>
                  <a:off x="3419640" y="3612960"/>
                  <a:ext cx="916200" cy="420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−</m:t>
                      </m:r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10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527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12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" name=""/>
            <p:cNvSpPr/>
            <p:nvPr/>
          </p:nvSpPr>
          <p:spPr>
            <a:xfrm>
              <a:off x="1066680" y="990720"/>
              <a:ext cx="6934320" cy="3124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5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看成幂的话，底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指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可读作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br>
                <a:rPr sz="3200"/>
              </a:b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6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  看成幂的话，底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指数是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，可读作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14" name=""/>
                <p:cNvSpPr txBox="1"/>
                <p:nvPr/>
              </p:nvSpPr>
              <p:spPr>
                <a:xfrm>
                  <a:off x="1828800" y="2857680"/>
                  <a:ext cx="380880" cy="419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15" name=""/>
          <p:cNvSpPr/>
          <p:nvPr/>
        </p:nvSpPr>
        <p:spPr>
          <a:xfrm>
            <a:off x="3962520" y="4419720"/>
            <a:ext cx="11430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5029200"/>
            <a:ext cx="762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666880" y="48006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flipH="1">
            <a:off x="4723920" y="4876920"/>
            <a:ext cx="8384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86400" y="464832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指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4648320" y="5181480"/>
            <a:ext cx="91440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486400" y="49528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>
            <a:hlinkClick r:id="rId2" action="ppaction://hlinksldjump"/>
          </p:cNvPr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>
            <a:hlinkClick r:id="" action="ppaction://hlinkshowjump?jump=lastslide"/>
          </p:cNvPr>
          <p:cNvSpPr/>
          <p:nvPr/>
        </p:nvSpPr>
        <p:spPr>
          <a:xfrm>
            <a:off x="6553080" y="64771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791320" y="1295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28800" y="20113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648320" y="2011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一次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5992920" y="2819520"/>
                <a:ext cx="4842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30" name=""/>
          <p:cNvSpPr/>
          <p:nvPr/>
        </p:nvSpPr>
        <p:spPr>
          <a:xfrm>
            <a:off x="1752480" y="345924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4038480" y="3459240"/>
            <a:ext cx="2210040" cy="581400"/>
            <a:chOff x="4038480" y="3459240"/>
            <a:chExt cx="2210040" cy="581400"/>
          </a:xfrm>
        </p:grpSpPr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4038480" y="3505320"/>
                  <a:ext cx="484200" cy="533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433" name=""/>
            <p:cNvSpPr/>
            <p:nvPr/>
          </p:nvSpPr>
          <p:spPr>
            <a:xfrm>
              <a:off x="4419720" y="3459240"/>
              <a:ext cx="1828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的一次方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2666880" y="4419720"/>
            <a:ext cx="3657600" cy="1143000"/>
            <a:chOff x="2666880" y="4419720"/>
            <a:chExt cx="3657600" cy="1143000"/>
          </a:xfrm>
        </p:grpSpPr>
        <p:sp>
          <p:nvSpPr>
            <p:cNvPr id="435" name=""/>
            <p:cNvSpPr/>
            <p:nvPr/>
          </p:nvSpPr>
          <p:spPr>
            <a:xfrm>
              <a:off x="3962520" y="4419720"/>
              <a:ext cx="114300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6" name=""/>
            <p:cNvGrpSpPr/>
            <p:nvPr/>
          </p:nvGrpSpPr>
          <p:grpSpPr>
            <a:xfrm>
              <a:off x="2666880" y="4648320"/>
              <a:ext cx="3657600" cy="764280"/>
              <a:chOff x="2666880" y="4648320"/>
              <a:chExt cx="3657600" cy="764280"/>
            </a:xfrm>
          </p:grpSpPr>
          <p:sp>
            <p:nvSpPr>
              <p:cNvPr id="437" name=""/>
              <p:cNvSpPr/>
              <p:nvPr/>
            </p:nvSpPr>
            <p:spPr>
              <a:xfrm>
                <a:off x="4676400" y="4687920"/>
                <a:ext cx="159120" cy="38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500" spc="-1" strike="noStrike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4354200" y="4732200"/>
                <a:ext cx="273600" cy="65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43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4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3124080" y="5029200"/>
                <a:ext cx="76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2666880" y="4800600"/>
                <a:ext cx="457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 flipH="1">
                <a:off x="4723920" y="4876920"/>
                <a:ext cx="83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5486400" y="464832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指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 flipH="1">
                <a:off x="4648320" y="518148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5486400" y="4952880"/>
                <a:ext cx="838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楷体_GB2312"/>
                    <a:ea typeface="楷体_GB2312"/>
                  </a:rPr>
                  <a:t>底数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45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527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2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6" name=""/>
          <p:cNvGrpSpPr/>
          <p:nvPr/>
        </p:nvGrpSpPr>
        <p:grpSpPr>
          <a:xfrm>
            <a:off x="0" y="0"/>
            <a:ext cx="9144000" cy="6875640"/>
            <a:chOff x="0" y="0"/>
            <a:chExt cx="9144000" cy="6875640"/>
          </a:xfrm>
        </p:grpSpPr>
        <p:pic>
          <p:nvPicPr>
            <p:cNvPr id="447" name="" descr=""/>
            <p:cNvPicPr/>
            <p:nvPr/>
          </p:nvPicPr>
          <p:blipFill>
            <a:blip r:embed="rId1"/>
            <a:stretch/>
          </p:blipFill>
          <p:spPr>
            <a:xfrm>
              <a:off x="0" y="1764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8" name=""/>
            <p:cNvSpPr/>
            <p:nvPr/>
          </p:nvSpPr>
          <p:spPr>
            <a:xfrm>
              <a:off x="1066680" y="0"/>
              <a:ext cx="8001000" cy="612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    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练习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一、把下列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乘法式子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成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乘方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×1×1×1×1×1×1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×3×3×3×3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－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－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－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（－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）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0" lang="zh-CN" sz="28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4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1835280" y="5084640"/>
                <a:ext cx="198108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4800600" y="3124080"/>
                <a:ext cx="5270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>
                        <m:r>
                          <m:t xml:space="preserve">5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1403280" y="4441680"/>
                <a:ext cx="7621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2" name=""/>
              <p:cNvSpPr txBox="1"/>
              <p:nvPr/>
            </p:nvSpPr>
            <p:spPr>
              <a:xfrm>
                <a:off x="4495680" y="4869000"/>
                <a:ext cx="83196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6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453" name="">
            <a:hlinkClick r:id="rId2" action="ppaction://hlinksldjump"/>
          </p:cNvPr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>
            <a:hlinkClick r:id="" action="ppaction://hlinkshowjump?jump=lastslide"/>
          </p:cNvPr>
          <p:cNvSpPr/>
          <p:nvPr/>
        </p:nvSpPr>
        <p:spPr>
          <a:xfrm>
            <a:off x="6553080" y="64771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6205680" y="2343240"/>
                <a:ext cx="442800" cy="55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1</m:t>
                        </m:r>
                      </m:e>
                      <m:sup>
                        <m:r>
                          <m:t xml:space="preserve">7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pic>
        <p:nvPicPr>
          <p:cNvPr id="458" name="" descr=""/>
          <p:cNvPicPr/>
          <p:nvPr/>
        </p:nvPicPr>
        <p:blipFill>
          <a:blip r:embed="rId3"/>
          <a:stretch/>
        </p:blipFill>
        <p:spPr>
          <a:xfrm>
            <a:off x="7391520" y="5105520"/>
            <a:ext cx="1527120" cy="140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9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46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"/>
            <p:cNvSpPr/>
            <p:nvPr/>
          </p:nvSpPr>
          <p:spPr>
            <a:xfrm>
              <a:off x="1219320" y="809640"/>
              <a:ext cx="6781680" cy="461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二、把下列</a:t>
              </a:r>
              <a:r>
                <a:rPr b="0" lang="zh-CN" sz="3200" spc="-1" strike="noStrike">
                  <a:solidFill>
                    <a:srgbClr val="0000ff"/>
                  </a:solidFill>
                  <a:latin typeface="楷体_GB2312"/>
                  <a:ea typeface="楷体_GB2312"/>
                </a:rPr>
                <a:t>乘方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写成</a:t>
              </a:r>
              <a:r>
                <a:rPr b="0" lang="zh-CN" sz="3200" spc="-1" strike="noStrike">
                  <a:solidFill>
                    <a:srgbClr val="ff0000"/>
                  </a:solidFill>
                  <a:latin typeface="楷体_GB2312"/>
                  <a:ea typeface="楷体_GB2312"/>
                </a:rPr>
                <a:t>乘法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的形式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1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3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、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=</a:t>
              </a:r>
              <a:r>
                <a:rPr b="0" lang="zh-CN" sz="3200" spc="-1" strike="noStrike" u="sng">
                  <a:solidFill>
                    <a:srgbClr val="000000"/>
                  </a:solidFill>
                  <a:uFillTx/>
                  <a:latin typeface="楷体_GB2312"/>
                  <a:ea typeface="楷体_GB2312"/>
                </a:rPr>
                <a:t>               </a:t>
              </a: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；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1935000" y="1701720"/>
                <a:ext cx="131796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9</m:t>
                            </m:r>
                          </m:e>
                        </m:d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905120" y="2379600"/>
                <a:ext cx="819000" cy="9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9</m:t>
                                </m:r>
                              </m:num>
                              <m:den>
                                <m:r>
                                  <m:t xml:space="preserve">7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4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1846440" y="3352680"/>
                <a:ext cx="1315800" cy="66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  <m:r>
                              <m:t xml:space="preserve">−</m:t>
                            </m:r>
                            <m:r>
                              <m:t xml:space="preserve">b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3408480" y="1784520"/>
                <a:ext cx="35258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9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2922480" y="2286000"/>
                <a:ext cx="1725840" cy="83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3614760" y="3352680"/>
                <a:ext cx="21002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a</m:t>
                        </m:r>
                        <m:r>
                          <m:t xml:space="preserve">−</m:t>
                        </m:r>
                        <m:r>
                          <m:t xml:space="preserve">b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731520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返回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>
            <a:hlinkClick r:id="" action="ppaction://hlinkshowjump?jump=nextslide"/>
          </p:cNvPr>
          <p:cNvSpPr/>
          <p:nvPr/>
        </p:nvSpPr>
        <p:spPr>
          <a:xfrm>
            <a:off x="8534520" y="6477120"/>
            <a:ext cx="609480" cy="304560"/>
          </a:xfrm>
          <a:custGeom>
            <a:avLst/>
            <a:gdLst>
              <a:gd name="textAreaLeft" fmla="*/ 19440 w 609480"/>
              <a:gd name="textAreaRight" fmla="*/ 590040 w 609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下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>
            <a:hlinkClick r:id="" action="ppaction://hlinkshowjump?jump=previousslide"/>
          </p:cNvPr>
          <p:cNvSpPr/>
          <p:nvPr/>
        </p:nvSpPr>
        <p:spPr>
          <a:xfrm>
            <a:off x="7924680" y="6477120"/>
            <a:ext cx="609840" cy="304560"/>
          </a:xfrm>
          <a:custGeom>
            <a:avLst/>
            <a:gdLst>
              <a:gd name="textAreaLeft" fmla="*/ 19440 w 609840"/>
              <a:gd name="textAreaRight" fmla="*/ 590400 w 60984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3226" h="21600">
                <a:moveTo>
                  <a:pt x="0" y="0"/>
                </a:moveTo>
                <a:lnTo>
                  <a:pt x="43226" y="0"/>
                </a:lnTo>
                <a:lnTo>
                  <a:pt x="43226" y="21600"/>
                </a:lnTo>
                <a:lnTo>
                  <a:pt x="0" y="21600"/>
                </a:lnTo>
                <a:close/>
              </a:path>
              <a:path fill="lightenLess" w="43226" h="21600">
                <a:moveTo>
                  <a:pt x="0" y="0"/>
                </a:moveTo>
                <a:lnTo>
                  <a:pt x="43226" y="0"/>
                </a:lnTo>
                <a:lnTo>
                  <a:pt x="41826" y="1400"/>
                </a:lnTo>
                <a:lnTo>
                  <a:pt x="1400" y="1400"/>
                </a:lnTo>
                <a:close/>
              </a:path>
              <a:path fill="darken" w="43226" h="21600">
                <a:moveTo>
                  <a:pt x="43226" y="0"/>
                </a:moveTo>
                <a:lnTo>
                  <a:pt x="43226" y="21600"/>
                </a:lnTo>
                <a:lnTo>
                  <a:pt x="41826" y="20200"/>
                </a:lnTo>
                <a:lnTo>
                  <a:pt x="41826" y="1400"/>
                </a:lnTo>
                <a:close/>
              </a:path>
              <a:path fill="darkenLess" w="43226" h="21600">
                <a:moveTo>
                  <a:pt x="432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26" y="20200"/>
                </a:lnTo>
                <a:close/>
              </a:path>
              <a:path fill="lighten" w="432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上一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>
            <a:hlinkClick r:id="" action="ppaction://hlinkshowjump?jump=lastslide"/>
          </p:cNvPr>
          <p:cNvSpPr/>
          <p:nvPr/>
        </p:nvSpPr>
        <p:spPr>
          <a:xfrm>
            <a:off x="6553080" y="6477120"/>
            <a:ext cx="762120" cy="304560"/>
          </a:xfrm>
          <a:custGeom>
            <a:avLst/>
            <a:gdLst>
              <a:gd name="textAreaLeft" fmla="*/ 19440 w 762120"/>
              <a:gd name="textAreaRight" fmla="*/ 742680 w 7621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013" h="21600">
                <a:moveTo>
                  <a:pt x="0" y="0"/>
                </a:moveTo>
                <a:lnTo>
                  <a:pt x="54013" y="0"/>
                </a:lnTo>
                <a:lnTo>
                  <a:pt x="54013" y="21600"/>
                </a:lnTo>
                <a:lnTo>
                  <a:pt x="0" y="21600"/>
                </a:lnTo>
                <a:close/>
              </a:path>
              <a:path fill="lightenLess" w="54013" h="21600">
                <a:moveTo>
                  <a:pt x="0" y="0"/>
                </a:moveTo>
                <a:lnTo>
                  <a:pt x="54013" y="0"/>
                </a:lnTo>
                <a:lnTo>
                  <a:pt x="52613" y="1400"/>
                </a:lnTo>
                <a:lnTo>
                  <a:pt x="1400" y="1400"/>
                </a:lnTo>
                <a:close/>
              </a:path>
              <a:path fill="darken" w="54013" h="21600">
                <a:moveTo>
                  <a:pt x="54013" y="0"/>
                </a:moveTo>
                <a:lnTo>
                  <a:pt x="54013" y="21600"/>
                </a:lnTo>
                <a:lnTo>
                  <a:pt x="52613" y="20200"/>
                </a:lnTo>
                <a:lnTo>
                  <a:pt x="52613" y="1400"/>
                </a:lnTo>
                <a:close/>
              </a:path>
              <a:path fill="darkenLess" w="54013" h="21600">
                <a:moveTo>
                  <a:pt x="540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613" y="20200"/>
                </a:lnTo>
                <a:close/>
              </a:path>
              <a:path fill="lighten" w="540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gradFill rotWithShape="0">
            <a:gsLst>
              <a:gs pos="0">
                <a:srgbClr val="005e00"/>
              </a:gs>
              <a:gs pos="100000">
                <a:srgbClr val="00cc00"/>
              </a:gs>
            </a:gsLst>
            <a:lin ang="5400000"/>
          </a:gradFill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Times New Roman"/>
              </a:rPr>
              <a:t>退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"/>
          <p:cNvGrpSpPr/>
          <p:nvPr/>
        </p:nvGrpSpPr>
        <p:grpSpPr>
          <a:xfrm>
            <a:off x="914400" y="4267080"/>
            <a:ext cx="7924680" cy="657720"/>
            <a:chOff x="914400" y="4267080"/>
            <a:chExt cx="7924680" cy="657720"/>
          </a:xfrm>
        </p:grpSpPr>
        <p:sp>
          <p:nvSpPr>
            <p:cNvPr id="473" name=""/>
            <p:cNvSpPr/>
            <p:nvPr/>
          </p:nvSpPr>
          <p:spPr>
            <a:xfrm>
              <a:off x="914400" y="4343400"/>
              <a:ext cx="79246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思考：用乘方式子怎么表示   的相反数？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74" name=""/>
                <p:cNvSpPr txBox="1"/>
                <p:nvPr/>
              </p:nvSpPr>
              <p:spPr>
                <a:xfrm>
                  <a:off x="6019920" y="4267080"/>
                  <a:ext cx="515880" cy="635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3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7238880" y="5334120"/>
            <a:ext cx="109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76" name=""/>
          <p:cNvGrpSpPr/>
          <p:nvPr/>
        </p:nvGrpSpPr>
        <p:grpSpPr>
          <a:xfrm>
            <a:off x="3733920" y="5257800"/>
            <a:ext cx="1963440" cy="635040"/>
            <a:chOff x="3733920" y="5257800"/>
            <a:chExt cx="1963440" cy="635040"/>
          </a:xfrm>
        </p:grpSpPr>
        <p:grpSp>
          <p:nvGrpSpPr>
            <p:cNvPr id="477" name=""/>
            <p:cNvGrpSpPr/>
            <p:nvPr/>
          </p:nvGrpSpPr>
          <p:grpSpPr>
            <a:xfrm>
              <a:off x="4952880" y="5257800"/>
              <a:ext cx="744480" cy="635040"/>
              <a:chOff x="4952880" y="5257800"/>
              <a:chExt cx="744480" cy="635040"/>
            </a:xfrm>
          </p:grpSpPr>
          <mc:AlternateContent>
            <mc:Choice xmlns:a14="http://schemas.microsoft.com/office/drawing/2010/main" Requires="a14">
              <p:sp>
                <p:nvSpPr>
                  <p:cNvPr id="478" name=""/>
                  <p:cNvSpPr txBox="1"/>
                  <p:nvPr/>
                </p:nvSpPr>
                <p:spPr>
                  <a:xfrm>
                    <a:off x="5181480" y="5257800"/>
                    <a:ext cx="515880" cy="63504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sSup>
                          <m:e>
                            <m:r>
                              <m:t xml:space="preserve">3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  <p:sp>
            <p:nvSpPr>
              <p:cNvPr id="479" name=""/>
              <p:cNvSpPr/>
              <p:nvPr/>
            </p:nvSpPr>
            <p:spPr>
              <a:xfrm>
                <a:off x="4952880" y="5334120"/>
                <a:ext cx="5335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0" name=""/>
            <p:cNvSpPr/>
            <p:nvPr/>
          </p:nvSpPr>
          <p:spPr>
            <a:xfrm>
              <a:off x="3733920" y="5410080"/>
              <a:ext cx="1295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</a:rPr>
                <a:t>答案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1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1T05:34:24Z</dcterms:created>
  <dc:creator/>
  <dc:description/>
  <dc:language>en-US</dc:language>
  <cp:lastModifiedBy>User</cp:lastModifiedBy>
  <dcterms:modified xsi:type="dcterms:W3CDTF">2014-11-05T07:47:31Z</dcterms:modified>
  <cp:revision>1</cp:revision>
  <dc:subject/>
  <dc:title>幻灯片 1</dc:title>
</cp:coreProperties>
</file>