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6.png" ContentType="image/png"/>
  <Override PartName="/ppt/media/image3.gif" ContentType="image/gif"/>
  <Override PartName="/ppt/media/image12.wmf" ContentType="image/x-wmf"/>
  <Override PartName="/ppt/media/image27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C45-36D2-48DF-8C32-84EE864E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E97-DFE3-4689-8D96-D9831C5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63B-16A4-42D3-BB49-0BA01BA5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181-4C76-4172-9ADD-6B2443C1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1812-07E9-4742-AB3D-14D993FD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A65-80A6-48DA-9808-F62ABEA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C40-4698-4B6E-A7D8-E7A1E0C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A7FE-45D0-437F-BAE3-3707B78B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3EE5-29CB-4D00-80B8-600CC41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19B-F45D-42CA-A2E7-39494A9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1BA-C232-47DE-BE97-4AE9EC49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671-1B6A-4335-B804-D9D841C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A512-731A-4B2A-8F41-736D893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FA6-B7B0-4676-B57C-4207A88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F713-4621-4322-A02A-7F69AAA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E8FE-6ED5-4037-997E-AC272669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E9BD-2045-4FAD-B78F-2503D5CA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3D8-36C1-4806-A8DA-71BBF98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BD6-2844-4DE2-AB6B-A138459C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FB3-CD7D-4BFA-81D3-A0A55BE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8DB-7F13-44F9-9C21-82E0D6E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BF7-5E5A-49B2-88C3-07BC1D1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4A7-FC50-4132-A6D4-CE1B0D34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44B-1CA6-4620-9D58-6CE8F0A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2E2-D85F-4F22-BDBD-FADD018093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31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508-C844-4CC5-BFB0-04F09CFD1D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171440" y="1916280"/>
            <a:ext cx="67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  整式的加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58920" y="2998800"/>
            <a:ext cx="853092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006633"/>
                </a:solidFill>
                <a:latin typeface="华文新魏"/>
                <a:ea typeface="华文新魏"/>
              </a:rPr>
              <a:t>复习与小结</a:t>
            </a:r>
            <a:endParaRPr b="0" lang="en-US" sz="6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43240" y="295200"/>
            <a:ext cx="39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新人教版数学七年级上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2B6-D791-418A-BDDF-C8DAB9EA9D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826920" y="1413000"/>
            <a:ext cx="7812360" cy="3384360"/>
            <a:chOff x="826920" y="1413000"/>
            <a:chExt cx="7812360" cy="3384360"/>
          </a:xfrm>
        </p:grpSpPr>
        <p:sp>
          <p:nvSpPr>
            <p:cNvPr id="203" name="圆角矩形 12"/>
            <p:cNvSpPr/>
            <p:nvPr/>
          </p:nvSpPr>
          <p:spPr>
            <a:xfrm>
              <a:off x="826920" y="141300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826920" y="197496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运用本章所学习的内容，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可以解决哪些问题？</a:t>
              </a:r>
              <a:r>
                <a:rPr b="1" lang="zh-CN" sz="36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029-89F3-42A2-8075-A7B81E427B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07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17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3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18" name="Object 14"/>
          <p:cNvGraphicFramePr/>
          <p:nvPr/>
        </p:nvGraphicFramePr>
        <p:xfrm>
          <a:off x="611280" y="1700280"/>
          <a:ext cx="7705800" cy="28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705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F9CB-4DB8-4668-8B46-3252F57E0C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22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1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32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4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33" name="Object 14"/>
          <p:cNvGraphicFramePr/>
          <p:nvPr/>
        </p:nvGraphicFramePr>
        <p:xfrm>
          <a:off x="246240" y="1706400"/>
          <a:ext cx="8351640" cy="40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706400"/>
                    <a:ext cx="835164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6" name="Object 16"/>
          <p:cNvGraphicFramePr/>
          <p:nvPr/>
        </p:nvGraphicFramePr>
        <p:xfrm>
          <a:off x="2124000" y="2924280"/>
          <a:ext cx="98280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924280"/>
                    <a:ext cx="9828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0"/>
          <p:cNvGraphicFramePr/>
          <p:nvPr/>
        </p:nvGraphicFramePr>
        <p:xfrm>
          <a:off x="1187280" y="5877000"/>
          <a:ext cx="129708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877000"/>
                    <a:ext cx="12970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9"/>
          <p:cNvGraphicFramePr/>
          <p:nvPr/>
        </p:nvGraphicFramePr>
        <p:xfrm>
          <a:off x="2843280" y="5877000"/>
          <a:ext cx="14414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877000"/>
                    <a:ext cx="14414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8"/>
          <p:cNvGraphicFramePr/>
          <p:nvPr/>
        </p:nvGraphicFramePr>
        <p:xfrm>
          <a:off x="4842000" y="5857920"/>
          <a:ext cx="1620720" cy="55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42000" y="5857920"/>
                    <a:ext cx="1620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1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539640" y="3573360"/>
            <a:ext cx="647640" cy="366840"/>
          </a:xfrm>
          <a:prstGeom prst="rect">
            <a:avLst/>
          </a:pr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7020000" y="4292640"/>
            <a:ext cx="647640" cy="3668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331-7520-4368-BFBC-205A3D8DFD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249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9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5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260" name="Object 14"/>
          <p:cNvGraphicFramePr/>
          <p:nvPr/>
        </p:nvGraphicFramePr>
        <p:xfrm>
          <a:off x="684360" y="1773360"/>
          <a:ext cx="784836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EBD-B794-4554-9A3D-70B547E8C4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Object 14"/>
          <p:cNvGraphicFramePr/>
          <p:nvPr/>
        </p:nvGraphicFramePr>
        <p:xfrm>
          <a:off x="755640" y="549360"/>
          <a:ext cx="6769080" cy="115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676908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5"/>
          <p:cNvGraphicFramePr/>
          <p:nvPr/>
        </p:nvGraphicFramePr>
        <p:xfrm>
          <a:off x="755640" y="1773360"/>
          <a:ext cx="6624720" cy="431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773360"/>
                    <a:ext cx="6624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F1F-524E-46B6-9790-8645B6F625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826920" y="1341360"/>
            <a:ext cx="7812360" cy="3384360"/>
            <a:chOff x="826920" y="1341360"/>
            <a:chExt cx="7812360" cy="3384360"/>
          </a:xfrm>
        </p:grpSpPr>
        <p:sp>
          <p:nvSpPr>
            <p:cNvPr id="269" name="圆角矩形 12"/>
            <p:cNvSpPr/>
            <p:nvPr/>
          </p:nvSpPr>
          <p:spPr>
            <a:xfrm>
              <a:off x="826920" y="134136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Text Box 6"/>
            <p:cNvSpPr/>
            <p:nvPr/>
          </p:nvSpPr>
          <p:spPr>
            <a:xfrm>
              <a:off x="826920" y="190332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通过对本章内容的复习，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你有哪些新的收获？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教科书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4~7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页复习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中的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题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其他选做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DAE-112C-4843-BD22-141921FF6A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WordArt 18"/>
          <p:cNvSpPr txBox="1"/>
          <p:nvPr/>
        </p:nvSpPr>
        <p:spPr>
          <a:xfrm>
            <a:off x="1835280" y="2060640"/>
            <a:ext cx="53546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66">
                    <a:alpha val="62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谢谢倾听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66">
                  <a:alpha val="62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C71-F6FB-4E67-88C1-12D8C12993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386280" y="286200"/>
            <a:ext cx="8218080" cy="4511160"/>
            <a:chOff x="386280" y="286200"/>
            <a:chExt cx="8218080" cy="4511160"/>
          </a:xfrm>
        </p:grpSpPr>
        <p:pic>
          <p:nvPicPr>
            <p:cNvPr id="91" name="Picture 4" descr="问号女孩"/>
            <p:cNvPicPr/>
            <p:nvPr/>
          </p:nvPicPr>
          <p:blipFill>
            <a:blip r:embed="rId1"/>
            <a:stretch/>
          </p:blipFill>
          <p:spPr>
            <a:xfrm rot="21354600">
              <a:off x="433080" y="333000"/>
              <a:ext cx="136692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9"/>
            <p:cNvGrpSpPr/>
            <p:nvPr/>
          </p:nvGrpSpPr>
          <p:grpSpPr>
            <a:xfrm>
              <a:off x="792000" y="1413000"/>
              <a:ext cx="7812360" cy="3384360"/>
              <a:chOff x="792000" y="1413000"/>
              <a:chExt cx="7812360" cy="3384360"/>
            </a:xfrm>
          </p:grpSpPr>
          <p:sp>
            <p:nvSpPr>
              <p:cNvPr id="93" name="圆角矩形 12"/>
              <p:cNvSpPr/>
              <p:nvPr/>
            </p:nvSpPr>
            <p:spPr>
              <a:xfrm>
                <a:off x="792000" y="1413000"/>
                <a:ext cx="7561440" cy="3384360"/>
              </a:xfrm>
              <a:prstGeom prst="roundRect">
                <a:avLst>
                  <a:gd name="adj" fmla="val 16667"/>
                </a:avLst>
              </a:prstGeom>
              <a:solidFill>
                <a:srgbClr val="c1d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4" name="Text Box 8"/>
              <p:cNvSpPr/>
              <p:nvPr/>
            </p:nvSpPr>
            <p:spPr>
              <a:xfrm>
                <a:off x="792000" y="1974960"/>
                <a:ext cx="7812360" cy="17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【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问题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】</a:t>
                </a: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本章学习了哪些知识？</a:t>
                </a:r>
                <a:endParaRPr b="0" lang="en-US" sz="3600" spc="-1" strike="noStrike">
                  <a:solidFill>
                    <a:srgbClr val="000000"/>
                  </a:solidFill>
                  <a:latin typeface="Garamond"/>
                </a:endParaRPr>
              </a:p>
              <a:p>
                <a:pPr>
                  <a:lnSpc>
                    <a:spcPct val="12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         </a:t>
                </a:r>
                <a:r>
                  <a:rPr b="1" lang="zh-CN" sz="3600" spc="-1" strike="noStrike">
                    <a:solidFill>
                      <a:srgbClr val="990099"/>
                    </a:solidFill>
                    <a:latin typeface="楷体_GB2312"/>
                    <a:ea typeface="楷体_GB2312"/>
                  </a:rPr>
                  <a:t>它们之间的联系是什么？</a:t>
                </a:r>
                <a:endParaRPr b="0" lang="en-US" sz="3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DC7-60F2-4628-81D3-A6AB2A56F0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535320" y="476280"/>
            <a:ext cx="2812320" cy="622080"/>
            <a:chOff x="535320" y="476280"/>
            <a:chExt cx="2812320" cy="622080"/>
          </a:xfrm>
        </p:grpSpPr>
        <p:sp>
          <p:nvSpPr>
            <p:cNvPr id="97" name="AutoShape 6"/>
            <p:cNvSpPr/>
            <p:nvPr/>
          </p:nvSpPr>
          <p:spPr>
            <a:xfrm>
              <a:off x="970200" y="921960"/>
              <a:ext cx="2377440" cy="1764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8" name="Group 7"/>
            <p:cNvGrpSpPr/>
            <p:nvPr/>
          </p:nvGrpSpPr>
          <p:grpSpPr>
            <a:xfrm>
              <a:off x="535320" y="476280"/>
              <a:ext cx="636480" cy="612000"/>
              <a:chOff x="535320" y="476280"/>
              <a:chExt cx="636480" cy="612000"/>
            </a:xfrm>
          </p:grpSpPr>
          <p:grpSp>
            <p:nvGrpSpPr>
              <p:cNvPr id="99" name="Group 8"/>
              <p:cNvGrpSpPr/>
              <p:nvPr/>
            </p:nvGrpSpPr>
            <p:grpSpPr>
              <a:xfrm>
                <a:off x="630720" y="751320"/>
                <a:ext cx="411120" cy="336960"/>
                <a:chOff x="630720" y="751320"/>
                <a:chExt cx="411120" cy="336960"/>
              </a:xfrm>
            </p:grpSpPr>
            <p:grpSp>
              <p:nvGrpSpPr>
                <p:cNvPr id="100" name="Group 9"/>
                <p:cNvGrpSpPr/>
                <p:nvPr/>
              </p:nvGrpSpPr>
              <p:grpSpPr>
                <a:xfrm>
                  <a:off x="630720" y="781920"/>
                  <a:ext cx="399600" cy="306360"/>
                  <a:chOff x="630720" y="781920"/>
                  <a:chExt cx="399600" cy="306360"/>
                </a:xfrm>
              </p:grpSpPr>
              <p:sp>
                <p:nvSpPr>
                  <p:cNvPr id="101" name="Oval 10"/>
                  <p:cNvSpPr/>
                  <p:nvPr/>
                </p:nvSpPr>
                <p:spPr>
                  <a:xfrm>
                    <a:off x="630720" y="812520"/>
                    <a:ext cx="399600" cy="1429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" name="Freeform 11"/>
                  <p:cNvSpPr/>
                  <p:nvPr/>
                </p:nvSpPr>
                <p:spPr>
                  <a:xfrm>
                    <a:off x="631440" y="873360"/>
                    <a:ext cx="398520" cy="214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99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" name="Rectangle 12"/>
                  <p:cNvSpPr/>
                  <p:nvPr/>
                </p:nvSpPr>
                <p:spPr>
                  <a:xfrm>
                    <a:off x="630720" y="781920"/>
                    <a:ext cx="399600" cy="10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104" name="Oval 13"/>
                <p:cNvSpPr/>
                <p:nvPr/>
              </p:nvSpPr>
              <p:spPr>
                <a:xfrm>
                  <a:off x="630720" y="802080"/>
                  <a:ext cx="399240" cy="1371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05" name="Rectangle 14"/>
                <p:cNvSpPr/>
                <p:nvPr/>
              </p:nvSpPr>
              <p:spPr>
                <a:xfrm>
                  <a:off x="630720" y="751320"/>
                  <a:ext cx="411120" cy="104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06" name="Group 15"/>
              <p:cNvGrpSpPr/>
              <p:nvPr/>
            </p:nvGrpSpPr>
            <p:grpSpPr>
              <a:xfrm>
                <a:off x="852480" y="494640"/>
                <a:ext cx="319320" cy="449640"/>
                <a:chOff x="852480" y="494640"/>
                <a:chExt cx="319320" cy="449640"/>
              </a:xfrm>
            </p:grpSpPr>
            <p:grpSp>
              <p:nvGrpSpPr>
                <p:cNvPr id="107" name="Group 16"/>
                <p:cNvGrpSpPr/>
                <p:nvPr/>
              </p:nvGrpSpPr>
              <p:grpSpPr>
                <a:xfrm>
                  <a:off x="852480" y="494640"/>
                  <a:ext cx="319320" cy="449640"/>
                  <a:chOff x="852480" y="494640"/>
                  <a:chExt cx="319320" cy="449640"/>
                </a:xfrm>
              </p:grpSpPr>
              <p:sp>
                <p:nvSpPr>
                  <p:cNvPr id="108" name="Freeform 17"/>
                  <p:cNvSpPr/>
                  <p:nvPr/>
                </p:nvSpPr>
                <p:spPr>
                  <a:xfrm>
                    <a:off x="852480" y="635040"/>
                    <a:ext cx="303840" cy="30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9900"/>
                      </a:gs>
                    </a:gsLst>
                    <a:lin ang="27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09" name="Group 18"/>
                  <p:cNvGrpSpPr/>
                  <p:nvPr/>
                </p:nvGrpSpPr>
                <p:grpSpPr>
                  <a:xfrm>
                    <a:off x="973800" y="494640"/>
                    <a:ext cx="198000" cy="187560"/>
                    <a:chOff x="973800" y="494640"/>
                    <a:chExt cx="198000" cy="187560"/>
                  </a:xfrm>
                </p:grpSpPr>
                <p:sp>
                  <p:nvSpPr>
                    <p:cNvPr id="110" name="Freeform 19"/>
                    <p:cNvSpPr/>
                    <p:nvPr/>
                  </p:nvSpPr>
                  <p:spPr>
                    <a:xfrm rot="193200">
                      <a:off x="978480" y="499680"/>
                      <a:ext cx="188280" cy="17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50000">
                          <a:srgbClr val="ffff66"/>
                        </a:gs>
                        <a:gs pos="100000">
                          <a:srgbClr val="ffcccc"/>
                        </a:gs>
                      </a:gsLst>
                      <a:lin ang="270000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11" name="Freeform 20"/>
                    <p:cNvSpPr/>
                    <p:nvPr/>
                  </p:nvSpPr>
                  <p:spPr>
                    <a:xfrm rot="14284800">
                      <a:off x="1066320" y="534240"/>
                      <a:ext cx="48960" cy="3132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12" name="Line 21"/>
                <p:cNvSpPr/>
                <p:nvPr/>
              </p:nvSpPr>
              <p:spPr>
                <a:xfrm flipH="1">
                  <a:off x="956520" y="678960"/>
                  <a:ext cx="129240" cy="24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13" name="Line 22"/>
                <p:cNvSpPr/>
                <p:nvPr/>
              </p:nvSpPr>
              <p:spPr>
                <a:xfrm flipH="1">
                  <a:off x="905040" y="656640"/>
                  <a:ext cx="110880" cy="27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14" name="Group 23"/>
              <p:cNvGrpSpPr/>
              <p:nvPr/>
            </p:nvGrpSpPr>
            <p:grpSpPr>
              <a:xfrm>
                <a:off x="741600" y="476280"/>
                <a:ext cx="173880" cy="458640"/>
                <a:chOff x="741600" y="476280"/>
                <a:chExt cx="173880" cy="458640"/>
              </a:xfrm>
            </p:grpSpPr>
            <p:sp>
              <p:nvSpPr>
                <p:cNvPr id="115" name="Freeform 24"/>
                <p:cNvSpPr/>
                <p:nvPr/>
              </p:nvSpPr>
              <p:spPr>
                <a:xfrm>
                  <a:off x="741600" y="646560"/>
                  <a:ext cx="173880" cy="2880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ff33"/>
                    </a:gs>
                    <a:gs pos="50000">
                      <a:srgbClr val="ffffcc"/>
                    </a:gs>
                    <a:gs pos="100000">
                      <a:srgbClr val="ccff33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pSp>
              <p:nvGrpSpPr>
                <p:cNvPr id="116" name="Group 25"/>
                <p:cNvGrpSpPr/>
                <p:nvPr/>
              </p:nvGrpSpPr>
              <p:grpSpPr>
                <a:xfrm>
                  <a:off x="741600" y="476280"/>
                  <a:ext cx="173880" cy="192240"/>
                  <a:chOff x="741600" y="476280"/>
                  <a:chExt cx="173880" cy="192240"/>
                </a:xfrm>
              </p:grpSpPr>
              <p:sp>
                <p:nvSpPr>
                  <p:cNvPr id="117" name="Freeform 26"/>
                  <p:cNvSpPr/>
                  <p:nvPr/>
                </p:nvSpPr>
                <p:spPr>
                  <a:xfrm>
                    <a:off x="741600" y="476280"/>
                    <a:ext cx="173880" cy="19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99"/>
                      </a:gs>
                      <a:gs pos="50000">
                        <a:srgbClr val="ffff99"/>
                      </a:gs>
                      <a:gs pos="100000">
                        <a:srgbClr val="ffcc99"/>
                      </a:gs>
                    </a:gsLst>
                    <a:lin ang="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18" name="Group 27"/>
                  <p:cNvGrpSpPr/>
                  <p:nvPr/>
                </p:nvGrpSpPr>
                <p:grpSpPr>
                  <a:xfrm>
                    <a:off x="741600" y="476280"/>
                    <a:ext cx="173880" cy="192240"/>
                    <a:chOff x="741600" y="476280"/>
                    <a:chExt cx="173880" cy="192240"/>
                  </a:xfrm>
                </p:grpSpPr>
                <p:sp>
                  <p:nvSpPr>
                    <p:cNvPr id="119" name="Freeform 28"/>
                    <p:cNvSpPr/>
                    <p:nvPr/>
                  </p:nvSpPr>
                  <p:spPr>
                    <a:xfrm>
                      <a:off x="741600" y="647280"/>
                      <a:ext cx="173880" cy="21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0" name="Freeform 29"/>
                    <p:cNvSpPr/>
                    <p:nvPr/>
                  </p:nvSpPr>
                  <p:spPr>
                    <a:xfrm>
                      <a:off x="741600" y="476280"/>
                      <a:ext cx="173880" cy="171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1" name="Freeform 30"/>
                    <p:cNvSpPr/>
                    <p:nvPr/>
                  </p:nvSpPr>
                  <p:spPr>
                    <a:xfrm>
                      <a:off x="788760" y="529560"/>
                      <a:ext cx="63360" cy="10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22" name="Line 31"/>
                <p:cNvSpPr/>
                <p:nvPr/>
              </p:nvSpPr>
              <p:spPr>
                <a:xfrm>
                  <a:off x="788760" y="668160"/>
                  <a:ext cx="24120" cy="26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23" name="Line 32"/>
                <p:cNvSpPr/>
                <p:nvPr/>
              </p:nvSpPr>
              <p:spPr>
                <a:xfrm flipH="1">
                  <a:off x="836280" y="668520"/>
                  <a:ext cx="15840" cy="26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24" name="Group 33"/>
              <p:cNvGrpSpPr/>
              <p:nvPr/>
            </p:nvGrpSpPr>
            <p:grpSpPr>
              <a:xfrm>
                <a:off x="535320" y="513720"/>
                <a:ext cx="237600" cy="420840"/>
                <a:chOff x="535320" y="513720"/>
                <a:chExt cx="237600" cy="420840"/>
              </a:xfrm>
            </p:grpSpPr>
            <p:grpSp>
              <p:nvGrpSpPr>
                <p:cNvPr id="125" name="Group 34"/>
                <p:cNvGrpSpPr/>
                <p:nvPr/>
              </p:nvGrpSpPr>
              <p:grpSpPr>
                <a:xfrm>
                  <a:off x="535320" y="513720"/>
                  <a:ext cx="237600" cy="420840"/>
                  <a:chOff x="535320" y="513720"/>
                  <a:chExt cx="237600" cy="420840"/>
                </a:xfrm>
              </p:grpSpPr>
              <p:sp>
                <p:nvSpPr>
                  <p:cNvPr id="126" name="Freeform 35"/>
                  <p:cNvSpPr/>
                  <p:nvPr/>
                </p:nvSpPr>
                <p:spPr>
                  <a:xfrm>
                    <a:off x="551520" y="625320"/>
                    <a:ext cx="221400" cy="30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50000">
                        <a:srgbClr val="ffcccc"/>
                      </a:gs>
                      <a:gs pos="100000">
                        <a:srgbClr val="009999"/>
                      </a:gs>
                    </a:gsLst>
                    <a:lin ang="18900000"/>
                  </a:gra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27" name="Group 36"/>
                  <p:cNvGrpSpPr/>
                  <p:nvPr/>
                </p:nvGrpSpPr>
                <p:grpSpPr>
                  <a:xfrm>
                    <a:off x="535320" y="513720"/>
                    <a:ext cx="193680" cy="155880"/>
                    <a:chOff x="535320" y="513720"/>
                    <a:chExt cx="193680" cy="155880"/>
                  </a:xfrm>
                </p:grpSpPr>
                <p:sp>
                  <p:nvSpPr>
                    <p:cNvPr id="128" name="Freeform 37"/>
                    <p:cNvSpPr/>
                    <p:nvPr/>
                  </p:nvSpPr>
                  <p:spPr>
                    <a:xfrm rot="21387600">
                      <a:off x="539280" y="519120"/>
                      <a:ext cx="185040" cy="14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50000">
                          <a:srgbClr val="ffff66"/>
                        </a:gs>
                        <a:gs pos="100000">
                          <a:srgbClr val="ffcccc"/>
                        </a:gs>
                      </a:gsLst>
                      <a:lin ang="2700000"/>
                    </a:gra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29" name="Freeform 38"/>
                    <p:cNvSpPr/>
                    <p:nvPr/>
                  </p:nvSpPr>
                  <p:spPr>
                    <a:xfrm rot="21387600">
                      <a:off x="600120" y="574560"/>
                      <a:ext cx="82080" cy="1080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p:txBody>
                </p:sp>
              </p:grpSp>
            </p:grpSp>
            <p:sp>
              <p:nvSpPr>
                <p:cNvPr id="130" name="Line 39"/>
                <p:cNvSpPr/>
                <p:nvPr/>
              </p:nvSpPr>
              <p:spPr>
                <a:xfrm>
                  <a:off x="613440" y="666000"/>
                  <a:ext cx="105120" cy="25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>
                  <a:off x="693720" y="643320"/>
                  <a:ext cx="55080" cy="28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32" name="WordArt 41"/>
            <p:cNvSpPr txBox="1"/>
            <p:nvPr/>
          </p:nvSpPr>
          <p:spPr>
            <a:xfrm>
              <a:off x="1314720" y="550440"/>
              <a:ext cx="186912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ffcc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华文行楷"/>
                </a:rPr>
                <a:t>知识结构</a:t>
              </a:r>
              <a:endParaRPr b="1" lang="en-US" sz="1800" spc="1" strike="noStrike">
                <a:ln w="1260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aphicFrame>
        <p:nvGraphicFramePr>
          <p:cNvPr id="133" name="Object 44"/>
          <p:cNvGraphicFramePr/>
          <p:nvPr/>
        </p:nvGraphicFramePr>
        <p:xfrm>
          <a:off x="466560" y="1628640"/>
          <a:ext cx="8282160" cy="358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628640"/>
                    <a:ext cx="828216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5AB-6285-4CE9-9DCA-3DBA2BB97A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26920" y="1484280"/>
            <a:ext cx="7812360" cy="3384360"/>
            <a:chOff x="826920" y="1484280"/>
            <a:chExt cx="7812360" cy="3384360"/>
          </a:xfrm>
        </p:grpSpPr>
        <p:sp>
          <p:nvSpPr>
            <p:cNvPr id="137" name="圆角矩形 12"/>
            <p:cNvSpPr/>
            <p:nvPr/>
          </p:nvSpPr>
          <p:spPr>
            <a:xfrm>
              <a:off x="826920" y="148428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826920" y="2046240"/>
              <a:ext cx="78123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楷体_GB2312"/>
                  <a:ea typeface="楷体_GB2312"/>
                </a:rPr>
                <a:t>在本章中，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与整式相关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的概念有哪些？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9" name="WordArt 7"/>
          <p:cNvSpPr txBox="1"/>
          <p:nvPr/>
        </p:nvSpPr>
        <p:spPr>
          <a:xfrm>
            <a:off x="7236000" y="476280"/>
            <a:ext cx="10746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C8E-6CF9-4203-9469-7C0E1C147C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1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142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52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1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53" name="Object 14"/>
          <p:cNvGraphicFramePr/>
          <p:nvPr/>
        </p:nvGraphicFramePr>
        <p:xfrm>
          <a:off x="539640" y="1700280"/>
          <a:ext cx="806472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064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0C8D-B1C2-456A-B709-2A396529CA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185760" y="1027080"/>
          <a:ext cx="845964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1027080"/>
                    <a:ext cx="8459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2"/>
          <p:cNvGraphicFramePr/>
          <p:nvPr/>
        </p:nvGraphicFramePr>
        <p:xfrm>
          <a:off x="1986120" y="981000"/>
          <a:ext cx="2376360" cy="439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6120" y="981000"/>
                    <a:ext cx="2376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5"/>
          <p:cNvGraphicFramePr/>
          <p:nvPr/>
        </p:nvGraphicFramePr>
        <p:xfrm>
          <a:off x="3570120" y="1052640"/>
          <a:ext cx="1872000" cy="446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1052640"/>
                    <a:ext cx="1872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1"/>
          <p:cNvGraphicFramePr/>
          <p:nvPr/>
        </p:nvGraphicFramePr>
        <p:xfrm>
          <a:off x="5730840" y="981000"/>
          <a:ext cx="1809720" cy="4345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3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0840" y="981000"/>
                    <a:ext cx="180972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2"/>
          <p:cNvGraphicFramePr/>
          <p:nvPr/>
        </p:nvGraphicFramePr>
        <p:xfrm>
          <a:off x="7099200" y="907920"/>
          <a:ext cx="1576440" cy="4464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5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9200" y="907920"/>
                    <a:ext cx="15764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4"/>
          <p:cNvGraphicFramePr/>
          <p:nvPr/>
        </p:nvGraphicFramePr>
        <p:xfrm>
          <a:off x="4794120" y="1052640"/>
          <a:ext cx="1587600" cy="42829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7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94120" y="1052640"/>
                    <a:ext cx="15876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25A-8243-4A10-826C-E18C1CE4CD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144360" y="1219320"/>
          <a:ext cx="8820360" cy="36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219320"/>
                    <a:ext cx="8820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1836720" y="1197000"/>
          <a:ext cx="1920960" cy="3598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1197000"/>
                    <a:ext cx="19209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7"/>
          <p:cNvGraphicFramePr/>
          <p:nvPr/>
        </p:nvGraphicFramePr>
        <p:xfrm>
          <a:off x="3755880" y="1244520"/>
          <a:ext cx="3600720" cy="3673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5880" y="1244520"/>
                    <a:ext cx="3600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7380360" y="1244520"/>
          <a:ext cx="1371600" cy="3313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1244520"/>
                    <a:ext cx="13716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2B9-5620-47F7-B7CA-FBFC474CD6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826920" y="1844640"/>
            <a:ext cx="7812360" cy="3384360"/>
            <a:chOff x="826920" y="1844640"/>
            <a:chExt cx="7812360" cy="3384360"/>
          </a:xfrm>
        </p:grpSpPr>
        <p:sp>
          <p:nvSpPr>
            <p:cNvPr id="179" name="圆角矩形 12"/>
            <p:cNvSpPr/>
            <p:nvPr/>
          </p:nvSpPr>
          <p:spPr>
            <a:xfrm>
              <a:off x="826920" y="1844640"/>
              <a:ext cx="7561440" cy="3384360"/>
            </a:xfrm>
            <a:prstGeom prst="roundRect">
              <a:avLst>
                <a:gd name="adj" fmla="val 16667"/>
              </a:avLst>
            </a:prstGeom>
            <a:solidFill>
              <a:srgbClr val="c1d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826920" y="240660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【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】</a:t>
              </a:r>
              <a:r>
                <a:rPr b="1" lang="zh-CN" sz="3600" spc="-1" strike="noStrike">
                  <a:solidFill>
                    <a:srgbClr val="990099"/>
                  </a:solidFill>
                  <a:latin typeface="宋体"/>
                </a:rPr>
                <a:t>你还记得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怎样进行整式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                  </a:t>
              </a:r>
              <a:r>
                <a:rPr b="1" lang="zh-CN" sz="3600" spc="-1" strike="noStrike">
                  <a:solidFill>
                    <a:srgbClr val="990099"/>
                  </a:solidFill>
                  <a:latin typeface="Garamond"/>
                </a:rPr>
                <a:t>的加减运算吗？ 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81" name="Picture 7" descr="F0DA9CD4C169835C278686686F4956B1"/>
          <p:cNvPicPr/>
          <p:nvPr/>
        </p:nvPicPr>
        <p:blipFill>
          <a:blip r:embed="rId1"/>
          <a:stretch/>
        </p:blipFill>
        <p:spPr>
          <a:xfrm>
            <a:off x="539640" y="692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447-5AF5-4F47-BBA6-9E86567062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324000" y="309960"/>
            <a:ext cx="1942560" cy="1413360"/>
            <a:chOff x="324000" y="309960"/>
            <a:chExt cx="1942560" cy="1413360"/>
          </a:xfrm>
        </p:grpSpPr>
        <p:sp>
          <p:nvSpPr>
            <p:cNvPr id="184" name="AutoShape 3"/>
            <p:cNvSpPr/>
            <p:nvPr/>
          </p:nvSpPr>
          <p:spPr>
            <a:xfrm>
              <a:off x="324000" y="533520"/>
              <a:ext cx="936360" cy="7736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Oval 4"/>
            <p:cNvSpPr/>
            <p:nvPr/>
          </p:nvSpPr>
          <p:spPr>
            <a:xfrm rot="20085000">
              <a:off x="828360" y="404280"/>
              <a:ext cx="718560" cy="12240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Oval 5"/>
            <p:cNvSpPr/>
            <p:nvPr/>
          </p:nvSpPr>
          <p:spPr>
            <a:xfrm rot="20085000">
              <a:off x="971280" y="439560"/>
              <a:ext cx="576000" cy="103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971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1403280" y="469800"/>
              <a:ext cx="863280" cy="83736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 rot="20627400">
              <a:off x="928440" y="544680"/>
              <a:ext cx="287280" cy="668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 rot="19005600">
              <a:off x="988920" y="524880"/>
              <a:ext cx="1360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 rot="2595600">
              <a:off x="939240" y="550440"/>
              <a:ext cx="727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 rot="19167600">
              <a:off x="1074600" y="1049040"/>
              <a:ext cx="1425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WordArt 12"/>
            <p:cNvSpPr txBox="1"/>
            <p:nvPr/>
          </p:nvSpPr>
          <p:spPr>
            <a:xfrm>
              <a:off x="612720" y="662760"/>
              <a:ext cx="431280" cy="40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例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94" name="WordArt 13"/>
            <p:cNvSpPr txBox="1"/>
            <p:nvPr/>
          </p:nvSpPr>
          <p:spPr>
            <a:xfrm>
              <a:off x="1403280" y="703800"/>
              <a:ext cx="209160" cy="41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2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95" name="Object 14"/>
          <p:cNvGraphicFramePr/>
          <p:nvPr/>
        </p:nvGraphicFramePr>
        <p:xfrm>
          <a:off x="900000" y="1484280"/>
          <a:ext cx="720108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2010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20"/>
          <p:cNvGrpSpPr/>
          <p:nvPr/>
        </p:nvGrpSpPr>
        <p:grpSpPr>
          <a:xfrm>
            <a:off x="650520" y="5157720"/>
            <a:ext cx="8385480" cy="935280"/>
            <a:chOff x="650520" y="5157720"/>
            <a:chExt cx="8385480" cy="935280"/>
          </a:xfrm>
        </p:grpSpPr>
        <p:graphicFrame>
          <p:nvGraphicFramePr>
            <p:cNvPr id="198" name="Object 16"/>
            <p:cNvGraphicFramePr/>
            <p:nvPr/>
          </p:nvGraphicFramePr>
          <p:xfrm>
            <a:off x="1619280" y="5157720"/>
            <a:ext cx="7416720" cy="93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9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9280" y="5157720"/>
                      <a:ext cx="741672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Text Box 19"/>
            <p:cNvSpPr/>
            <p:nvPr/>
          </p:nvSpPr>
          <p:spPr>
            <a:xfrm>
              <a:off x="650520" y="5445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答案：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7:42:07Z</dcterms:created>
  <dc:creator/>
  <dc:description/>
  <dc:language>en-US</dc:language>
  <cp:lastModifiedBy>Administrator</cp:lastModifiedBy>
  <dcterms:modified xsi:type="dcterms:W3CDTF">2014-09-19T11:21:49Z</dcterms:modified>
  <cp:revision>552</cp:revision>
  <dc:subject/>
  <dc:title>幻灯片 1</dc:title>
</cp:coreProperties>
</file>