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D2E-D281-4E4C-9C25-C90E503E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5EB-2289-4E1D-B085-BA35D29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6C4-CA58-4A69-A366-007F2B82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829-23E3-4636-B5BA-7D6B7752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21E9-3848-478F-AAB8-EACA4D11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7C8E-99BD-4F2A-BE3E-9EEAA37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B0BA-5975-4630-B3F4-11EF752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19A-7B19-4310-83C9-DA6EB5E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4694-464B-40C4-807E-A0D6780E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FEA-D25A-40C3-B0F4-DE9518FF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898-B8F7-49A9-89FA-694762B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9DC-2F52-406F-B372-64955B89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0E99-27D9-476F-87A1-34ED45B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F72B-92DD-4333-BF74-2456BE2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FB3-F295-4579-ACF0-C203D65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765-D804-43C9-831E-2215DABF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6E3-602A-48AD-AECC-55CFAFBD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ACD4-DB78-488C-B660-74524997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192F-01D4-4D32-AAE5-3320A0D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1069-B020-4FB5-A663-758DEB6E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E17B-C8F0-4C9B-AE8B-813996A8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4FF8-95C4-4B04-9B6D-EB22FF78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AC8-2EC6-4EC9-BE58-FB2FD2E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6210-EE39-4674-B378-6DF1E40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CCA1-C4F1-4E28-BDFB-AE177DC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6B3F-D5DF-49F7-A296-B8A60DB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791E-745D-468F-B526-0B380B0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23C3-CA02-4CF1-83B3-D8EE32F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2A56-EB70-47F8-A214-54A50C24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0B5C-4887-4CDE-92F7-B0422040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BA3E-C74D-4435-9D55-322F230A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7854-FEC5-4157-A6BA-0A73C58A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4160A-1FDE-48B9-B9BF-38AE531D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3E6-F630-43EC-9C72-0454C001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329C-058E-4E26-89D5-E882428C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CE76-D7B5-46A8-BCAD-277C2C59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04DA-AFE8-4A08-B812-BD2A71C3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23CF-8274-4E86-A153-DCCE43A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6B07-437F-4FF1-B13C-B89F3F0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5D47-A876-447D-8E8A-DC4DA08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1ACA-1505-4132-A7F4-9E1ECFC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ADC25-364B-402D-B1A3-759B9B3C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7368-93F3-4C95-A400-C1BDCFE1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E8C-FC00-46B7-848D-A8549DD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80D-47B5-4442-89C0-35499E18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BAA-C632-4E13-BDEE-93E07F1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963-8588-4B23-A0B2-EE61D32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C88-8B3D-4766-BDFD-6208FC0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712-A1E7-4B94-92AB-AB612A9400A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155-0469-4A81-BBF4-7574C583756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F0E5-91D4-44E0-93EF-0486A57E400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9584-A418-450A-9D51-32F3F7CD0229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71524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彩云"/>
              </a:rPr>
              <a:t>第三章</a:t>
            </a:r>
            <a:br>
              <a:rPr sz="5400"/>
            </a:b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彩云"/>
              </a:rPr>
              <a:t>一元一次方程的复习（一）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697200" cy="6381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76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1640" y="9079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点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27082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19890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元一次方程的有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2781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等式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3500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一元一次方程的一般步骤及每一步的具体做法、依据和注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prstGeom prst="rightArrow">
            <a:avLst>
              <a:gd name="adj1" fmla="val 50000"/>
              <a:gd name="adj2" fmla="val 32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71640" y="836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1844640"/>
            <a:ext cx="48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同步学习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98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prstGeom prst="rightArrow">
            <a:avLst>
              <a:gd name="adj1" fmla="val 50000"/>
              <a:gd name="adj2" fmla="val 5282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8160" y="44280"/>
            <a:ext cx="9072360" cy="4681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1080" y="48704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音乐能激发或抚慰情怀，绘画使人赏心悦目，诗歌能动人心弦，哲学使人获得智慧，科学可改善物质生活，但数学能给予以上的一切。</a:t>
            </a: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--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克莱因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9800" y="44280"/>
            <a:ext cx="684360" cy="505080"/>
          </a:xfrm>
          <a:custGeom>
            <a:avLst/>
            <a:gdLst>
              <a:gd name="textAreaLeft" fmla="*/ 32400 w 684360"/>
              <a:gd name="textAreaRight" fmla="*/ 651600 w 684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9262" h="21600">
                <a:moveTo>
                  <a:pt x="0" y="0"/>
                </a:moveTo>
                <a:lnTo>
                  <a:pt x="29262" y="0"/>
                </a:lnTo>
                <a:lnTo>
                  <a:pt x="29262" y="21600"/>
                </a:lnTo>
                <a:lnTo>
                  <a:pt x="0" y="21600"/>
                </a:lnTo>
                <a:close/>
              </a:path>
              <a:path fill="lightenLess" w="29262" h="21600">
                <a:moveTo>
                  <a:pt x="0" y="0"/>
                </a:moveTo>
                <a:lnTo>
                  <a:pt x="29262" y="0"/>
                </a:lnTo>
                <a:lnTo>
                  <a:pt x="27862" y="1400"/>
                </a:lnTo>
                <a:lnTo>
                  <a:pt x="1400" y="1400"/>
                </a:lnTo>
                <a:close/>
              </a:path>
              <a:path fill="darken" w="29262" h="21600">
                <a:moveTo>
                  <a:pt x="29262" y="0"/>
                </a:moveTo>
                <a:lnTo>
                  <a:pt x="29262" y="21600"/>
                </a:lnTo>
                <a:lnTo>
                  <a:pt x="27862" y="20200"/>
                </a:lnTo>
                <a:lnTo>
                  <a:pt x="27862" y="1400"/>
                </a:lnTo>
                <a:close/>
              </a:path>
              <a:path fill="darkenLess" w="29262" h="21600">
                <a:moveTo>
                  <a:pt x="29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62" y="20200"/>
                </a:lnTo>
                <a:close/>
              </a:path>
              <a:path fill="lighten" w="29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62" h="21600">
                <a:moveTo>
                  <a:pt x="7624" y="8406"/>
                </a:moveTo>
                <a:lnTo>
                  <a:pt x="12054" y="8406"/>
                </a:lnTo>
                <a:lnTo>
                  <a:pt x="16476" y="3794"/>
                </a:lnTo>
                <a:lnTo>
                  <a:pt x="16476" y="17806"/>
                </a:lnTo>
                <a:lnTo>
                  <a:pt x="12054" y="13194"/>
                </a:lnTo>
                <a:lnTo>
                  <a:pt x="7624" y="13194"/>
                </a:lnTo>
                <a:close/>
              </a:path>
              <a:path fill="darken" w="29262" h="21600">
                <a:moveTo>
                  <a:pt x="18130" y="10800"/>
                </a:moveTo>
                <a:lnTo>
                  <a:pt x="21637" y="10800"/>
                </a:lnTo>
              </a:path>
              <a:path fill="darken" w="29262" h="21600">
                <a:moveTo>
                  <a:pt x="18130" y="8406"/>
                </a:moveTo>
                <a:lnTo>
                  <a:pt x="21637" y="5639"/>
                </a:lnTo>
              </a:path>
              <a:path fill="darken" w="29262" h="21600">
                <a:moveTo>
                  <a:pt x="18130" y="13194"/>
                </a:moveTo>
                <a:lnTo>
                  <a:pt x="21637" y="15961"/>
                </a:lnTo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71640" y="7650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我检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信你能行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29960" y="1773360"/>
            <a:ext cx="3686760" cy="1286640"/>
            <a:chOff x="1029960" y="1773360"/>
            <a:chExt cx="3686760" cy="1286640"/>
          </a:xfrm>
        </p:grpSpPr>
        <p:sp>
          <p:nvSpPr>
            <p:cNvPr id="324" name=""/>
            <p:cNvSpPr/>
            <p:nvPr/>
          </p:nvSpPr>
          <p:spPr>
            <a:xfrm>
              <a:off x="1603440" y="2427840"/>
              <a:ext cx="9763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38400" y="2427840"/>
              <a:ext cx="1092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81280" y="21250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79760" y="24958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9880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864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90440" y="24958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284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19280" y="18270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93560" y="2125080"/>
              <a:ext cx="1576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77920" y="21250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29960" y="2125080"/>
              <a:ext cx="1576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69240" y="2071440"/>
              <a:ext cx="156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73360" y="1773360"/>
              <a:ext cx="275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36280" y="207144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70440" y="1773360"/>
              <a:ext cx="1562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11640" y="182700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49320" y="182700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095120" y="3141720"/>
            <a:ext cx="3553560" cy="1249200"/>
            <a:chOff x="1095120" y="3141720"/>
            <a:chExt cx="3553560" cy="1249200"/>
          </a:xfrm>
        </p:grpSpPr>
        <p:sp>
          <p:nvSpPr>
            <p:cNvPr id="343" name=""/>
            <p:cNvSpPr/>
            <p:nvPr/>
          </p:nvSpPr>
          <p:spPr>
            <a:xfrm>
              <a:off x="1609560" y="3778200"/>
              <a:ext cx="1117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62280" y="3778200"/>
              <a:ext cx="9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55760" y="384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360" y="3193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76320" y="3193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8760" y="3483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9360" y="384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29920" y="319392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23600" y="3193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23800" y="34830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6880" y="3483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5120" y="34830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9400" y="31417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31160" y="34304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5240" y="343044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3320" y="314172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03840" y="31939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46440" y="31939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8930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004</a:t>
            </a:r>
            <a:r>
              <a:rPr b="1" lang="en-US" sz="1000" spc="-1" strike="noStrike">
                <a:solidFill>
                  <a:srgbClr val="003399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眉山）小李在解方程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5a—x=13(x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为未知数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时，误将－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看作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+x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，得方程的解为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，则原方程的解为（   ）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3   B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0    C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2    D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x=1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42900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（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006·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临安市）中央电视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套“开心辞典”栏目中，有一期的题目如图所示，两个天平都平衡，则三个球体的重量等于（　 ）个正方体的重量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.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B.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C.4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D.5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039720" y="4724280"/>
            <a:ext cx="2692800" cy="1800360"/>
            <a:chOff x="6039720" y="4724280"/>
            <a:chExt cx="2692800" cy="1800360"/>
          </a:xfrm>
        </p:grpSpPr>
        <p:grpSp>
          <p:nvGrpSpPr>
            <p:cNvPr id="364" name=""/>
            <p:cNvGrpSpPr/>
            <p:nvPr/>
          </p:nvGrpSpPr>
          <p:grpSpPr>
            <a:xfrm>
              <a:off x="6039720" y="4724280"/>
              <a:ext cx="2669040" cy="817560"/>
              <a:chOff x="6039720" y="4724280"/>
              <a:chExt cx="2669040" cy="81756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039720" y="5064840"/>
                <a:ext cx="997200" cy="145440"/>
                <a:chOff x="6039720" y="5064840"/>
                <a:chExt cx="997200" cy="145440"/>
              </a:xfrm>
            </p:grpSpPr>
            <p:sp>
              <p:nvSpPr>
                <p:cNvPr id="366" name=""/>
                <p:cNvSpPr/>
                <p:nvPr/>
              </p:nvSpPr>
              <p:spPr>
                <a:xfrm flipV="1">
                  <a:off x="6928200" y="5112720"/>
                  <a:ext cx="108720" cy="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039720" y="5064840"/>
                  <a:ext cx="91080" cy="135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124680" y="521028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553440" y="5196240"/>
                <a:ext cx="1642320" cy="174600"/>
                <a:chOff x="6553440" y="5196240"/>
                <a:chExt cx="1642320" cy="174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56320" y="5364000"/>
                  <a:ext cx="16318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553440" y="5209920"/>
                  <a:ext cx="1080" cy="16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94680" y="5196240"/>
                  <a:ext cx="1080" cy="161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711560" y="5065560"/>
                <a:ext cx="997200" cy="144720"/>
                <a:chOff x="7711560" y="5065560"/>
                <a:chExt cx="997200" cy="144720"/>
              </a:xfrm>
            </p:grpSpPr>
            <p:sp>
              <p:nvSpPr>
                <p:cNvPr id="374" name=""/>
                <p:cNvSpPr/>
                <p:nvPr/>
              </p:nvSpPr>
              <p:spPr>
                <a:xfrm flipV="1">
                  <a:off x="8599680" y="5112720"/>
                  <a:ext cx="109080" cy="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11560" y="5065560"/>
                  <a:ext cx="91440" cy="135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796160" y="521028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6207120" y="4888080"/>
                <a:ext cx="325440" cy="326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32560" y="4888080"/>
                <a:ext cx="326880" cy="326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810560" y="47242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59600" y="4724280"/>
                <a:ext cx="16380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23400" y="47242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86840" y="47242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50280" y="4724280"/>
                <a:ext cx="16200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2280" y="5378400"/>
                <a:ext cx="325440" cy="163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063840" y="5707080"/>
              <a:ext cx="2668680" cy="817560"/>
              <a:chOff x="6063840" y="5707080"/>
              <a:chExt cx="2668680" cy="81756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063840" y="6047280"/>
                <a:ext cx="996840" cy="145440"/>
                <a:chOff x="6063840" y="6047280"/>
                <a:chExt cx="996840" cy="145440"/>
              </a:xfrm>
            </p:grpSpPr>
            <p:sp>
              <p:nvSpPr>
                <p:cNvPr id="387" name=""/>
                <p:cNvSpPr/>
                <p:nvPr/>
              </p:nvSpPr>
              <p:spPr>
                <a:xfrm flipV="1">
                  <a:off x="6951960" y="6095880"/>
                  <a:ext cx="108720" cy="9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063840" y="6047280"/>
                  <a:ext cx="91440" cy="135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148440" y="619272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577200" y="6177960"/>
                <a:ext cx="1642320" cy="175320"/>
                <a:chOff x="6577200" y="6177960"/>
                <a:chExt cx="1642320" cy="1753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80080" y="6346440"/>
                  <a:ext cx="16318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77200" y="6192360"/>
                  <a:ext cx="1080" cy="16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18440" y="6177960"/>
                  <a:ext cx="1080" cy="16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735320" y="6047280"/>
                <a:ext cx="997200" cy="145440"/>
                <a:chOff x="7735320" y="6047280"/>
                <a:chExt cx="997200" cy="145440"/>
              </a:xfrm>
            </p:grpSpPr>
            <p:sp>
              <p:nvSpPr>
                <p:cNvPr id="395" name=""/>
                <p:cNvSpPr/>
                <p:nvPr/>
              </p:nvSpPr>
              <p:spPr>
                <a:xfrm flipV="1">
                  <a:off x="8623800" y="6095880"/>
                  <a:ext cx="108720" cy="9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735320" y="6047280"/>
                  <a:ext cx="91440" cy="135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819920" y="6192720"/>
                  <a:ext cx="814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7983360" y="5707080"/>
                <a:ext cx="16380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147160" y="57070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10600" y="5707080"/>
                <a:ext cx="163440" cy="490680"/>
              </a:xfrm>
              <a:prstGeom prst="can">
                <a:avLst>
                  <a:gd name="adj" fmla="val 33203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96040" y="6361200"/>
                <a:ext cx="325440" cy="163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30880" y="5870520"/>
                <a:ext cx="325440" cy="3272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56320" y="5870520"/>
                <a:ext cx="327240" cy="3272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3851280" y="206064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429264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6000" y="134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是一元一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989000"/>
            <a:ext cx="86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方程的两边都是整式（分母中不含未知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只含有一个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未知数的指数是一次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-165240"/>
            <a:ext cx="3635280" cy="170820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隶书"/>
              </a:rPr>
              <a:t>挑战记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500280"/>
            <a:ext cx="9002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练习：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判断下列各式中哪些是一元一次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x=0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+3x           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y²=4+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x+y=5   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                              （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m+2=1–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4797360"/>
          <a:ext cx="20160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797360"/>
                    <a:ext cx="2016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50216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9440" y="4221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980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21440" y="5013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18160" y="49417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5661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同步学习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页  自我尝试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667640" y="6308640"/>
            <a:ext cx="1081080" cy="549360"/>
          </a:xfrm>
          <a:prstGeom prst="rightArrow">
            <a:avLst>
              <a:gd name="adj1" fmla="val 50000"/>
              <a:gd name="adj2" fmla="val 49197"/>
            </a:avLst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81080" y="278100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</a:rPr>
              <a:t>、若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x=2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</a:rPr>
              <a:t>是方程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ax+3=2x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</a:rPr>
              <a:t>解，则</a:t>
            </a:r>
            <a:r>
              <a:rPr b="1" lang="en-US" sz="3200" spc="-1" strike="noStrike">
                <a:solidFill>
                  <a:srgbClr val="080808"/>
                </a:solidFill>
                <a:latin typeface="黑体"/>
              </a:rPr>
              <a:t>a=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黑体"/>
              </a:rPr>
              <a:t>_____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76280"/>
            <a:ext cx="9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、已知方程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mx-4=2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的解为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x=-3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，则</a:t>
            </a:r>
            <a:r>
              <a:rPr b="0" lang="en-US" sz="3600" spc="-1" strike="noStrike">
                <a:solidFill>
                  <a:srgbClr val="080808"/>
                </a:solidFill>
                <a:latin typeface="黑体"/>
                <a:ea typeface="黑体"/>
              </a:rPr>
              <a:t>m=</a:t>
            </a:r>
            <a:r>
              <a:rPr b="0" lang="en-US" sz="3600" spc="-1" strike="noStrike" u="sng">
                <a:solidFill>
                  <a:srgbClr val="080808"/>
                </a:solidFill>
                <a:uFillTx/>
                <a:latin typeface="黑体"/>
                <a:ea typeface="黑体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16720" y="2349360"/>
            <a:ext cx="474480" cy="1136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956720" y="407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7360" y="620640"/>
            <a:ext cx="20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程的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1341360"/>
            <a:ext cx="568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方程左右两边相等的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20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16564200">
            <a:off x="2768040" y="3744000"/>
            <a:ext cx="45864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5229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方法点拨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解代入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101080" y="6381720"/>
            <a:ext cx="576360" cy="476280"/>
          </a:xfrm>
          <a:prstGeom prst="rightArrow">
            <a:avLst>
              <a:gd name="adj1" fmla="val 50000"/>
              <a:gd name="adj2" fmla="val 3025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5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等式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60320" y="1197000"/>
            <a:ext cx="198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等式性质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等式两边加（或减）同一个数（或式子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结果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27664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等式性质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等式的两边乘同一个数，或除以同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不为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0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的数，结果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5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练习：下列变形中，正确的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c=b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      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        ，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若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︱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那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0" y="0"/>
                <a:ext cx="1047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0" y="0"/>
                <a:ext cx="1047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25892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35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57880" y="3822840"/>
                <a:ext cx="7873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7020000" y="602136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907200"/>
            <a:ext cx="28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去分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黑体"/>
              </a:rPr>
              <a:t>不要漏乘不含分母的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47560" y="1368360"/>
          <a:ext cx="506412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368360"/>
                    <a:ext cx="50641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-252360" y="2637360"/>
            <a:ext cx="26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去括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5040" y="27072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去括号后的符号变化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且不要漏乘括号中的每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32119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：去括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- 5)= ___________                 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(2X- 5)=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+1)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(3X- 5)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" y="458064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移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4651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移动的项要变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7360" y="52124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方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+20=4X-25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5769720"/>
            <a:ext cx="5616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移项正确的是：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3X--4X=-5-25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3X-4X=-25+5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76908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解一元一次方程的一般步骤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2059920"/>
            <a:ext cx="324000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(3Y-1)-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2(5Y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42792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X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5080" y="3427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3080" y="4075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X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440" y="40755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6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8160" y="6093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5440" y="5589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1008000" cy="54936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4920" y="960480"/>
          <a:ext cx="9109080" cy="5379840"/>
        </p:xfrm>
        <a:graphic>
          <a:graphicData uri="http://schemas.openxmlformats.org/drawingml/2006/table">
            <a:tbl>
              <a:tblPr/>
              <a:tblGrid>
                <a:gridCol w="1297080"/>
                <a:gridCol w="2935080"/>
                <a:gridCol w="1101960"/>
                <a:gridCol w="37749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        </a:t>
                      </a: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具体做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 </a:t>
                      </a: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依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           </a:t>
                      </a:r>
                      <a:r>
                        <a:rPr b="1" i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仿宋_GB2312"/>
                        </a:rPr>
                        <a:t>注意事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Arial"/>
                          <a:ea typeface="华文新魏"/>
                        </a:rPr>
                        <a:t>去分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Arial"/>
                          <a:ea typeface="华文新魏"/>
                        </a:rPr>
                        <a:t>去括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移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合并同类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93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系数化为</a:t>
                      </a:r>
                      <a:r>
                        <a:rPr b="1" lang="en-US" sz="2400" spc="-1" strike="noStrike">
                          <a:solidFill>
                            <a:srgbClr val="3366ff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93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476360" y="1628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在方程两边都乘以各分母的最小公倍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3080" y="1628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性质</a:t>
            </a:r>
            <a:r>
              <a:rPr b="1" lang="en-US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6720" y="15573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华文新魏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华文新魏"/>
                <a:ea typeface="黑体"/>
              </a:rPr>
              <a:t>不要漏乘不含分母的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一般先去小括号，再去中括号，最后去大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11640" y="256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配律 去括号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256536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不要漏乘括号中的每一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3500280"/>
            <a:ext cx="29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含有未知数的项移到方程一边，其它项都移到方程另一边，注意移项要变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505320"/>
            <a:ext cx="9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移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3357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移动的项一定要变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不移的项不变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40360" y="400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注意移项较多时不要漏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450864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方程变为</a:t>
            </a:r>
            <a:r>
              <a:rPr b="1" i="1" lang="en-US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a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（</a:t>
            </a:r>
            <a:r>
              <a:rPr b="1" i="1" lang="en-US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a≠0 </a:t>
            </a:r>
            <a:r>
              <a:rPr b="1" lang="en-US" sz="1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的最简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合并同类项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9200" y="5013360"/>
            <a:ext cx="18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字母和字母的指数不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5589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将方程两边都除以未知数系数</a:t>
            </a: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，得解</a:t>
            </a:r>
            <a:r>
              <a:rPr b="1" i="1" lang="en-US" sz="18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x=b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5516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式性质</a:t>
            </a:r>
            <a:r>
              <a:rPr b="1" lang="en-US" sz="1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551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解的分子，分母位置不要颠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75920" y="45813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把系数相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75280" y="0"/>
            <a:ext cx="3168720" cy="932040"/>
          </a:xfrm>
          <a:custGeom>
            <a:avLst/>
            <a:gdLst>
              <a:gd name="textAreaLeft" fmla="*/ 0 w 3168720"/>
              <a:gd name="textAreaRight" fmla="*/ 3169080 w 3168720"/>
              <a:gd name="textAreaTop" fmla="*/ 120600 h 932040"/>
              <a:gd name="textAreaBottom" fmla="*/ 811440 h 932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相信你能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184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子作为一个整体要加上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89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归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2852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括号前是负号，各项要变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885080" y="6524640"/>
            <a:ext cx="790560" cy="333360"/>
          </a:xfrm>
          <a:prstGeom prst="rightArrow">
            <a:avLst>
              <a:gd name="adj1" fmla="val 50000"/>
              <a:gd name="adj2" fmla="val 5928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8000" y="20606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解方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92360" y="1701720"/>
          <a:ext cx="30970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1720"/>
                    <a:ext cx="30970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9574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2852640"/>
            <a:ext cx="4998960" cy="720720"/>
            <a:chOff x="0" y="2852640"/>
            <a:chExt cx="4998960" cy="720720"/>
          </a:xfrm>
        </p:grpSpPr>
        <p:graphicFrame>
          <p:nvGraphicFramePr>
            <p:cNvPr id="253" name=""/>
            <p:cNvGraphicFramePr/>
            <p:nvPr/>
          </p:nvGraphicFramePr>
          <p:xfrm>
            <a:off x="2570040" y="2955960"/>
            <a:ext cx="2428920" cy="61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70040" y="2955960"/>
                      <a:ext cx="2428920" cy="61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5" name=""/>
            <p:cNvSpPr/>
            <p:nvPr/>
          </p:nvSpPr>
          <p:spPr>
            <a:xfrm>
              <a:off x="0" y="2852640"/>
              <a:ext cx="31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解：去分母，得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0" y="3716280"/>
            <a:ext cx="4608360" cy="533520"/>
            <a:chOff x="0" y="3716280"/>
            <a:chExt cx="4608360" cy="533520"/>
          </a:xfrm>
        </p:grpSpPr>
        <p:sp>
          <p:nvSpPr>
            <p:cNvPr id="257" name=""/>
            <p:cNvSpPr/>
            <p:nvPr/>
          </p:nvSpPr>
          <p:spPr>
            <a:xfrm>
              <a:off x="0" y="3716280"/>
              <a:ext cx="369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去括号，得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2282760" y="3716280"/>
            <a:ext cx="2325600" cy="53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2760" y="3716280"/>
                      <a:ext cx="23256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0" name=""/>
          <p:cNvGrpSpPr/>
          <p:nvPr/>
        </p:nvGrpSpPr>
        <p:grpSpPr>
          <a:xfrm>
            <a:off x="179280" y="4508640"/>
            <a:ext cx="4249800" cy="538200"/>
            <a:chOff x="179280" y="4508640"/>
            <a:chExt cx="4249800" cy="538200"/>
          </a:xfrm>
        </p:grpSpPr>
        <p:sp>
          <p:nvSpPr>
            <p:cNvPr id="261" name=""/>
            <p:cNvSpPr/>
            <p:nvPr/>
          </p:nvSpPr>
          <p:spPr>
            <a:xfrm>
              <a:off x="179280" y="4508640"/>
              <a:ext cx="226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移项，得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2" name=""/>
            <p:cNvGraphicFramePr/>
            <p:nvPr/>
          </p:nvGraphicFramePr>
          <p:xfrm>
            <a:off x="2195640" y="4508640"/>
            <a:ext cx="2233440" cy="538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95640" y="4508640"/>
                      <a:ext cx="22334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"/>
          <p:cNvGrpSpPr/>
          <p:nvPr/>
        </p:nvGrpSpPr>
        <p:grpSpPr>
          <a:xfrm>
            <a:off x="611280" y="5373720"/>
            <a:ext cx="3352680" cy="1143000"/>
            <a:chOff x="611280" y="5373720"/>
            <a:chExt cx="3352680" cy="1143000"/>
          </a:xfrm>
        </p:grpSpPr>
        <p:sp>
          <p:nvSpPr>
            <p:cNvPr id="265" name=""/>
            <p:cNvSpPr/>
            <p:nvPr/>
          </p:nvSpPr>
          <p:spPr>
            <a:xfrm>
              <a:off x="611280" y="5641920"/>
              <a:ext cx="87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宋体"/>
                </a:rPr>
                <a:t>∴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1482840" y="5373720"/>
            <a:ext cx="248112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82840" y="5373720"/>
                      <a:ext cx="2481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8" name=""/>
          <p:cNvGrpSpPr/>
          <p:nvPr/>
        </p:nvGrpSpPr>
        <p:grpSpPr>
          <a:xfrm>
            <a:off x="5221440" y="2852640"/>
            <a:ext cx="3816360" cy="609840"/>
            <a:chOff x="5221440" y="2852640"/>
            <a:chExt cx="3816360" cy="609840"/>
          </a:xfrm>
        </p:grpSpPr>
        <p:sp>
          <p:nvSpPr>
            <p:cNvPr id="269" name=""/>
            <p:cNvSpPr/>
            <p:nvPr/>
          </p:nvSpPr>
          <p:spPr>
            <a:xfrm>
              <a:off x="5221440" y="2852640"/>
              <a:ext cx="3816360" cy="609840"/>
            </a:xfrm>
            <a:prstGeom prst="borderCallout1">
              <a:avLst>
                <a:gd name="adj1" fmla="val 18750"/>
                <a:gd name="adj2" fmla="val -8333"/>
                <a:gd name="adj3" fmla="val 70314"/>
                <a:gd name="adj4" fmla="val -12009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21440" y="298944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黑体"/>
                </a:rPr>
                <a:t>去分母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643800" y="3005280"/>
                  <a:ext cx="2394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4797360" y="3716280"/>
            <a:ext cx="4165560" cy="609480"/>
            <a:chOff x="4797360" y="3716280"/>
            <a:chExt cx="4165560" cy="609480"/>
          </a:xfrm>
        </p:grpSpPr>
        <p:sp>
          <p:nvSpPr>
            <p:cNvPr id="273" name=""/>
            <p:cNvSpPr/>
            <p:nvPr/>
          </p:nvSpPr>
          <p:spPr>
            <a:xfrm>
              <a:off x="4797360" y="3716280"/>
              <a:ext cx="4165560" cy="609480"/>
            </a:xfrm>
            <a:prstGeom prst="borderCallout1">
              <a:avLst>
                <a:gd name="adj1" fmla="val 18750"/>
                <a:gd name="adj2" fmla="val -8333"/>
                <a:gd name="adj3" fmla="val 17916"/>
                <a:gd name="adj4" fmla="val -1953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19120" y="3792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黑体"/>
                </a:rPr>
                <a:t>去括号，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421320" y="3855960"/>
                  <a:ext cx="23814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4608360" y="4581360"/>
            <a:ext cx="4535640" cy="609840"/>
            <a:chOff x="4608360" y="4581360"/>
            <a:chExt cx="4535640" cy="609840"/>
          </a:xfrm>
        </p:grpSpPr>
        <p:sp>
          <p:nvSpPr>
            <p:cNvPr id="277" name=""/>
            <p:cNvSpPr/>
            <p:nvPr/>
          </p:nvSpPr>
          <p:spPr>
            <a:xfrm>
              <a:off x="4608360" y="4581360"/>
              <a:ext cx="4535640" cy="609840"/>
            </a:xfrm>
            <a:prstGeom prst="borderCallout1">
              <a:avLst>
                <a:gd name="adj1" fmla="val 18750"/>
                <a:gd name="adj2" fmla="val -8333"/>
                <a:gd name="adj3" fmla="val 26041"/>
                <a:gd name="adj4" fmla="val -1875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6520" y="4613400"/>
              <a:ext cx="447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黑体"/>
                </a:rPr>
                <a:t>移项，合并同类项，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7888320" y="4734000"/>
                  <a:ext cx="10890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292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</a:rPr>
              <a:t>下面方程的解法对吗？若不对，请改正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1557360"/>
            <a:ext cx="3095640" cy="93672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635360" y="5661000"/>
            <a:ext cx="4075200" cy="762120"/>
            <a:chOff x="4635360" y="5661000"/>
            <a:chExt cx="4075200" cy="762120"/>
          </a:xfrm>
        </p:grpSpPr>
        <p:sp>
          <p:nvSpPr>
            <p:cNvPr id="283" name=""/>
            <p:cNvSpPr/>
            <p:nvPr/>
          </p:nvSpPr>
          <p:spPr>
            <a:xfrm>
              <a:off x="4635360" y="5661000"/>
              <a:ext cx="4075200" cy="762120"/>
            </a:xfrm>
            <a:prstGeom prst="borderCallout1">
              <a:avLst>
                <a:gd name="adj1" fmla="val 18750"/>
                <a:gd name="adj2" fmla="val -8333"/>
                <a:gd name="adj3" fmla="val 13250"/>
                <a:gd name="adj4" fmla="val -2120"/>
              </a:avLst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40560" y="58132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两边同时除以</a:t>
              </a: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0,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1"/>
            <a:stretch/>
          </p:blipFill>
          <p:spPr>
            <a:xfrm>
              <a:off x="7342200" y="5661000"/>
              <a:ext cx="12193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 flipV="1">
            <a:off x="3851280" y="3068640"/>
            <a:ext cx="336600" cy="393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4720" y="3068640"/>
            <a:ext cx="792000" cy="3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0" y="-92160"/>
            <a:ext cx="3346560" cy="129060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  <a:ea typeface="隶书"/>
              </a:rPr>
              <a:t>火眼金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580000" y="6524640"/>
            <a:ext cx="1224000" cy="333360"/>
          </a:xfrm>
          <a:prstGeom prst="rightArrow">
            <a:avLst>
              <a:gd name="adj1" fmla="val 50000"/>
              <a:gd name="adj2" fmla="val 9179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68360" y="1484280"/>
            <a:ext cx="47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解下列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1844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解：原方程可化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60199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404640"/>
            <a:ext cx="3276720" cy="21657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注意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分母不是整数的方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可以应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分数的基本性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转化成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整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这样有利于去分母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859280" cy="11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17560" y="2421000"/>
                <a:ext cx="45925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4360" y="34290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去分母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x 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5  -  x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4076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去括号，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x – 1.5  + x =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4724280"/>
            <a:ext cx="50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移项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5x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+ x  =  1 +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4360" y="5373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合并同类项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6x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4360" y="5950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两边同除以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6,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995640" y="5805360"/>
            <a:ext cx="503280" cy="83844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7308720" y="6308640"/>
            <a:ext cx="1079640" cy="549360"/>
          </a:xfrm>
          <a:prstGeom prst="rightArrow">
            <a:avLst>
              <a:gd name="adj1" fmla="val 50000"/>
              <a:gd name="adj2" fmla="val 4913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0000" y="981000"/>
            <a:ext cx="66963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能力提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同步学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页  开放性作业 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321300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256536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004●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眉山）小李在解方程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a—x=13(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为未知数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时，误将－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看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+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得方程的解为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则原方程的解为（   ）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3   B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0    C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2    D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80000" y="342900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7380360" y="6165720"/>
            <a:ext cx="1152360" cy="432000"/>
          </a:xfrm>
          <a:prstGeom prst="rightArrow">
            <a:avLst>
              <a:gd name="adj1" fmla="val 50000"/>
              <a:gd name="adj2" fmla="val 6668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8:42:16Z</dcterms:created>
  <dc:creator>张安明</dc:creator>
  <dc:description/>
  <cp:keywords/>
  <dc:language>en-US</dc:language>
  <cp:lastModifiedBy>User</cp:lastModifiedBy>
  <cp:lastPrinted>1899-12-30T00:00:00Z</cp:lastPrinted>
  <dcterms:modified xsi:type="dcterms:W3CDTF">2014-11-02T05:15:04Z</dcterms:modified>
  <cp:revision>25</cp:revision>
  <dc:subject/>
  <dc:title>一元一次方程的复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