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1.wmf" ContentType="image/x-wmf"/>
  <Override PartName="/ppt/media/image1.jpeg" ContentType="image/jpeg"/>
  <Override PartName="/ppt/media/image3.wmf" ContentType="image/x-wmf"/>
  <Override PartName="/ppt/media/type.wav" ContentType="audio/x-wav"/>
  <Override PartName="/ppt/media/chimes.wav" ContentType="audio/x-wav"/>
  <Override PartName="/ppt/media/image12.png" ContentType="image/png"/>
  <Override PartName="/ppt/media/image7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camera.wav" ContentType="audio/x-wav"/>
  <Override PartName="/ppt/media/image10.wmf" ContentType="image/x-wmf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E466-2576-4A06-9B5A-2028E86D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DDA-9FD7-46D3-96E9-382334FE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F5C1-5F87-49AA-9F38-C5E9A46A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5BA9-993B-426E-A362-416CC29CE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61F-E755-407A-A8E9-E34774C5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0A6-CC7E-486F-B85B-33FFD2E9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0BF-6ED8-4D63-92A9-F3803DA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7BF-E000-49DC-AC33-E58769CE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912-4926-4F96-97B0-852C79E0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C09-D213-477B-95D1-8CA12C87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DF3-DED9-49E3-B938-B2B17AB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DC8-9074-4402-9135-52C4069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0CA-99C9-48CA-9FBD-02FA8DF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F5E-CD1B-4356-BF71-E3F3B47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5DE-B9D2-47C2-8A27-35227DCD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6D7-FB5E-4BCF-9B9E-151CD74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AD9-1896-494A-930C-5DE06A1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7C5-C4E2-421D-B7A5-A4AAA7E651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ordArt 10" descr=""/>
          <p:cNvPicPr/>
          <p:nvPr/>
        </p:nvPicPr>
        <p:blipFill>
          <a:blip r:embed="rId1"/>
          <a:stretch/>
        </p:blipFill>
        <p:spPr>
          <a:xfrm>
            <a:off x="438120" y="1401840"/>
            <a:ext cx="781524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2"/>
          <p:cNvGrpSpPr/>
          <p:nvPr/>
        </p:nvGrpSpPr>
        <p:grpSpPr>
          <a:xfrm>
            <a:off x="2195640" y="3213000"/>
            <a:ext cx="4681440" cy="1582560"/>
            <a:chOff x="2195640" y="3213000"/>
            <a:chExt cx="4681440" cy="1582560"/>
          </a:xfrm>
        </p:grpSpPr>
        <p:sp>
          <p:nvSpPr>
            <p:cNvPr id="126" name="Oval 13"/>
            <p:cNvSpPr/>
            <p:nvPr/>
          </p:nvSpPr>
          <p:spPr>
            <a:xfrm>
              <a:off x="2195640" y="3213000"/>
              <a:ext cx="1728720" cy="64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4"/>
            <p:cNvSpPr/>
            <p:nvPr/>
          </p:nvSpPr>
          <p:spPr>
            <a:xfrm>
              <a:off x="5148360" y="3213000"/>
              <a:ext cx="1728720" cy="64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3060720" y="3860640"/>
              <a:ext cx="0" cy="28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6012000" y="3860640"/>
              <a:ext cx="0" cy="28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060720" y="4149720"/>
              <a:ext cx="295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8"/>
            <p:cNvSpPr/>
            <p:nvPr/>
          </p:nvSpPr>
          <p:spPr>
            <a:xfrm rot="10800000">
              <a:off x="3924000" y="4437000"/>
              <a:ext cx="1368360" cy="35856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4645080" y="414972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0"/>
            <p:cNvSpPr/>
            <p:nvPr/>
          </p:nvSpPr>
          <p:spPr>
            <a:xfrm>
              <a:off x="5580360" y="3284280"/>
              <a:ext cx="288720" cy="360360"/>
            </a:xfrm>
            <a:custGeom>
              <a:avLst/>
              <a:gdLst>
                <a:gd name="textAreaLeft" fmla="*/ 65880 w 288720"/>
                <a:gd name="textAreaRight" fmla="*/ 222840 w 288720"/>
                <a:gd name="textAreaTop" fmla="*/ 82080 h 360360"/>
                <a:gd name="textAreaBottom" fmla="*/ 27828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1"/>
            <p:cNvSpPr/>
            <p:nvPr/>
          </p:nvSpPr>
          <p:spPr>
            <a:xfrm>
              <a:off x="5869080" y="3357360"/>
              <a:ext cx="216000" cy="289080"/>
            </a:xfrm>
            <a:custGeom>
              <a:avLst/>
              <a:gdLst>
                <a:gd name="textAreaLeft" fmla="*/ 49320 w 216000"/>
                <a:gd name="textAreaRight" fmla="*/ 166680 w 216000"/>
                <a:gd name="textAreaTop" fmla="*/ 65880 h 289080"/>
                <a:gd name="textAreaBottom" fmla="*/ 223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2"/>
            <p:cNvSpPr/>
            <p:nvPr/>
          </p:nvSpPr>
          <p:spPr>
            <a:xfrm>
              <a:off x="6085080" y="3284280"/>
              <a:ext cx="360360" cy="432000"/>
            </a:xfrm>
            <a:custGeom>
              <a:avLst/>
              <a:gdLst>
                <a:gd name="textAreaLeft" fmla="*/ 82080 w 360360"/>
                <a:gd name="textAreaRight" fmla="*/ 278280 w 360360"/>
                <a:gd name="textAreaTop" fmla="*/ 98640 h 432000"/>
                <a:gd name="textAreaBottom" fmla="*/ 333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3"/>
            <p:cNvSpPr/>
            <p:nvPr/>
          </p:nvSpPr>
          <p:spPr>
            <a:xfrm>
              <a:off x="2845080" y="3284280"/>
              <a:ext cx="288720" cy="28764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4"/>
            <p:cNvSpPr/>
            <p:nvPr/>
          </p:nvSpPr>
          <p:spPr>
            <a:xfrm>
              <a:off x="3276720" y="3357360"/>
              <a:ext cx="289080" cy="28728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5"/>
            <p:cNvSpPr/>
            <p:nvPr/>
          </p:nvSpPr>
          <p:spPr>
            <a:xfrm>
              <a:off x="2484720" y="3357360"/>
              <a:ext cx="288720" cy="28728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0WK25"/>
          <p:cNvPicPr/>
          <p:nvPr/>
        </p:nvPicPr>
        <p:blipFill>
          <a:blip r:embed="rId1"/>
          <a:srcRect l="1605" t="5011" r="3660" b="8758"/>
          <a:stretch/>
        </p:blipFill>
        <p:spPr>
          <a:xfrm>
            <a:off x="0" y="765000"/>
            <a:ext cx="9180360" cy="583272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250920" y="1557360"/>
            <a:ext cx="647640" cy="8636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384200" y="698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50920" y="2103480"/>
            <a:ext cx="429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的性质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两边加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或减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同一个数（或式子子），结果仍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788000" y="1628640"/>
            <a:ext cx="647640" cy="8636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300280" y="1989000"/>
            <a:ext cx="333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的性质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两边乘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个数，或除以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个不为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数，结果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红点"/>
          <p:cNvPicPr/>
          <p:nvPr/>
        </p:nvPicPr>
        <p:blipFill>
          <a:blip r:embed="rId2"/>
          <a:stretch/>
        </p:blipFill>
        <p:spPr>
          <a:xfrm>
            <a:off x="971640" y="378936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红点"/>
          <p:cNvPicPr/>
          <p:nvPr/>
        </p:nvPicPr>
        <p:blipFill>
          <a:blip r:embed="rId3"/>
          <a:stretch/>
        </p:blipFill>
        <p:spPr>
          <a:xfrm>
            <a:off x="611280" y="378936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红点"/>
          <p:cNvPicPr/>
          <p:nvPr/>
        </p:nvPicPr>
        <p:blipFill>
          <a:blip r:embed="rId4"/>
          <a:stretch/>
        </p:blipFill>
        <p:spPr>
          <a:xfrm>
            <a:off x="7956720" y="357336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红点"/>
          <p:cNvPicPr/>
          <p:nvPr/>
        </p:nvPicPr>
        <p:blipFill>
          <a:blip r:embed="rId5"/>
          <a:stretch/>
        </p:blipFill>
        <p:spPr>
          <a:xfrm>
            <a:off x="7956720" y="314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34" name="WordArt 16"/>
          <p:cNvSpPr txBox="1"/>
          <p:nvPr/>
        </p:nvSpPr>
        <p:spPr>
          <a:xfrm>
            <a:off x="5435640" y="4149720"/>
            <a:ext cx="1728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2916360" y="69228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式的两个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5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5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5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5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8"/>
          <p:cNvSpPr/>
          <p:nvPr/>
        </p:nvSpPr>
        <p:spPr>
          <a:xfrm>
            <a:off x="179280" y="981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等式的性质变形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边必须同时进行计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除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数必须是同一个数；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数不能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75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324000" y="1852560"/>
            <a:ext cx="9756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       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5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</a:t>
            </a: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 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95280" y="786240"/>
            <a:ext cx="8353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你会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判断对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对的说明根据等式的哪一条性质；错的说出为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3924360" y="2276640"/>
            <a:ext cx="3240000" cy="3888720"/>
            <a:chOff x="3924360" y="2276640"/>
            <a:chExt cx="3240000" cy="3888720"/>
          </a:xfrm>
        </p:grpSpPr>
        <p:pic>
          <p:nvPicPr>
            <p:cNvPr id="340" name="Picture 6" descr=""/>
            <p:cNvPicPr/>
            <p:nvPr/>
          </p:nvPicPr>
          <p:blipFill>
            <a:blip r:embed="rId1"/>
            <a:stretch/>
          </p:blipFill>
          <p:spPr>
            <a:xfrm>
              <a:off x="3924360" y="3665160"/>
              <a:ext cx="32400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7" descr=""/>
            <p:cNvPicPr/>
            <p:nvPr/>
          </p:nvPicPr>
          <p:blipFill>
            <a:blip r:embed="rId2"/>
            <a:stretch/>
          </p:blipFill>
          <p:spPr>
            <a:xfrm>
              <a:off x="4068720" y="5157360"/>
              <a:ext cx="27370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8" descr=""/>
            <p:cNvPicPr/>
            <p:nvPr/>
          </p:nvPicPr>
          <p:blipFill>
            <a:blip r:embed="rId3"/>
            <a:stretch/>
          </p:blipFill>
          <p:spPr>
            <a:xfrm>
              <a:off x="3997440" y="3141360"/>
              <a:ext cx="287964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9" descr=""/>
            <p:cNvPicPr/>
            <p:nvPr/>
          </p:nvPicPr>
          <p:blipFill>
            <a:blip r:embed="rId4"/>
            <a:stretch/>
          </p:blipFill>
          <p:spPr>
            <a:xfrm>
              <a:off x="3924360" y="4581360"/>
              <a:ext cx="2806560" cy="57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0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3997440" y="2276640"/>
              <a:ext cx="2735280" cy="92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Text Box 11"/>
          <p:cNvSpPr/>
          <p:nvPr/>
        </p:nvSpPr>
        <p:spPr>
          <a:xfrm>
            <a:off x="7524720" y="23781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7524720" y="31701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7596360" y="396252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7596360" y="468324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7596360" y="54021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7" descr="BD00028_"/>
          <p:cNvPicPr/>
          <p:nvPr/>
        </p:nvPicPr>
        <p:blipFill>
          <a:blip r:embed="rId6"/>
          <a:stretch/>
        </p:blipFill>
        <p:spPr>
          <a:xfrm>
            <a:off x="539640" y="620640"/>
            <a:ext cx="70956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496440" y="62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  <a:ea typeface="方正魏碑简体"/>
              </a:rPr>
              <a:t>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68360" y="1476360"/>
            <a:ext cx="778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用适当的数或整式填空，使所得结果仍是等式，并说明是根据等式的哪一条性质以及怎样变形（改变式子的形状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 = 5 - 3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 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x = 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 那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8000" y="40179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①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x +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等式性质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等式两边都加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50920" y="5157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x =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等式性质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等式两边都除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乘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6"/>
          <p:cNvGrpSpPr/>
          <p:nvPr/>
        </p:nvGrpSpPr>
        <p:grpSpPr>
          <a:xfrm>
            <a:off x="568440" y="1011240"/>
            <a:ext cx="9188280" cy="3679560"/>
            <a:chOff x="568440" y="1011240"/>
            <a:chExt cx="9188280" cy="3679560"/>
          </a:xfrm>
        </p:grpSpPr>
        <p:sp>
          <p:nvSpPr>
            <p:cNvPr id="357" name="Text Box 7"/>
            <p:cNvSpPr/>
            <p:nvPr/>
          </p:nvSpPr>
          <p:spPr>
            <a:xfrm>
              <a:off x="2681280" y="254628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+2      +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8"/>
            <p:cNvGrpSpPr/>
            <p:nvPr/>
          </p:nvGrpSpPr>
          <p:grpSpPr>
            <a:xfrm>
              <a:off x="1693800" y="3484800"/>
              <a:ext cx="2282760" cy="1206000"/>
              <a:chOff x="1693800" y="3484800"/>
              <a:chExt cx="2282760" cy="1206000"/>
            </a:xfrm>
          </p:grpSpPr>
          <mc:AlternateContent>
            <mc:Choice xmlns:a14="http://schemas.microsoft.com/office/drawing/2010/main" Requires="a14">
              <p:sp>
                <p:nvSpPr>
                  <p:cNvPr id="359" name="Object 9"/>
                  <p:cNvSpPr txBox="1"/>
                  <p:nvPr/>
                </p:nvSpPr>
                <p:spPr>
                  <a:xfrm>
                    <a:off x="1693800" y="3503520"/>
                    <a:ext cx="1033560" cy="11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0" name="Object 10"/>
                  <p:cNvSpPr txBox="1"/>
                  <p:nvPr/>
                </p:nvSpPr>
                <p:spPr>
                  <a:xfrm>
                    <a:off x="3210120" y="3484800"/>
                    <a:ext cx="766440" cy="11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1" name="Text Box 11"/>
              <p:cNvSpPr/>
              <p:nvPr/>
            </p:nvSpPr>
            <p:spPr>
              <a:xfrm>
                <a:off x="2728800" y="3776760"/>
                <a:ext cx="43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2"/>
            <p:cNvGrpSpPr/>
            <p:nvPr/>
          </p:nvGrpSpPr>
          <p:grpSpPr>
            <a:xfrm>
              <a:off x="568440" y="1011240"/>
              <a:ext cx="9188280" cy="3525120"/>
              <a:chOff x="568440" y="1011240"/>
              <a:chExt cx="9188280" cy="3525120"/>
            </a:xfrm>
          </p:grpSpPr>
          <p:sp>
            <p:nvSpPr>
              <p:cNvPr id="363" name="Text Box 13"/>
              <p:cNvSpPr/>
              <p:nvPr/>
            </p:nvSpPr>
            <p:spPr>
              <a:xfrm>
                <a:off x="612720" y="1011240"/>
                <a:ext cx="9144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练习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: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填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4"/>
              <p:cNvSpPr/>
              <p:nvPr/>
            </p:nvSpPr>
            <p:spPr>
              <a:xfrm>
                <a:off x="568440" y="1871640"/>
                <a:ext cx="7924680" cy="22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①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若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 = 3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，根据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_________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得到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      = 3     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，即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x = 5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5"/>
              <p:cNvSpPr/>
              <p:nvPr/>
            </p:nvSpPr>
            <p:spPr>
              <a:xfrm>
                <a:off x="568440" y="3059280"/>
                <a:ext cx="800100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②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若 －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4 x = 3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，根据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宋体"/>
                  </a:rPr>
                  <a:t>___________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得到         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,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即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x =____</a:t>
                </a:r>
                <a:r>
                  <a:rPr b="0" lang="en-US" sz="3600" spc="-1" strike="noStrike">
                    <a:solidFill>
                      <a:srgbClr val="ffff00"/>
                    </a:solidFill>
                    <a:latin typeface="宋体"/>
                  </a:rPr>
                  <a:t> 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 Box 2"/>
          <p:cNvSpPr/>
          <p:nvPr/>
        </p:nvSpPr>
        <p:spPr>
          <a:xfrm>
            <a:off x="5199120" y="1986120"/>
            <a:ext cx="26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的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5645160" y="31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的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5580000" y="3645000"/>
                <a:ext cx="7444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16"/>
          <p:cNvSpPr/>
          <p:nvPr/>
        </p:nvSpPr>
        <p:spPr>
          <a:xfrm>
            <a:off x="2307240" y="4975200"/>
            <a:ext cx="45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解一元一次 方程就是利用等式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方程转化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a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数）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324000" y="6890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等式的性质解下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116000" y="1392120"/>
                <a:ext cx="61977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2" name="Text Box 5"/>
          <p:cNvSpPr/>
          <p:nvPr/>
        </p:nvSpPr>
        <p:spPr>
          <a:xfrm>
            <a:off x="468360" y="26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26920" y="263700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１）两边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26920" y="494172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３）两边加５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826920" y="371628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２）两边同除以－５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9"/>
              <p:cNvSpPr txBox="1"/>
              <p:nvPr/>
            </p:nvSpPr>
            <p:spPr>
              <a:xfrm>
                <a:off x="3995640" y="2708280"/>
                <a:ext cx="3124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7" name="Group 10"/>
          <p:cNvGrpSpPr/>
          <p:nvPr/>
        </p:nvGrpSpPr>
        <p:grpSpPr>
          <a:xfrm>
            <a:off x="1979640" y="3141720"/>
            <a:ext cx="3176640" cy="520560"/>
            <a:chOff x="1979640" y="3141720"/>
            <a:chExt cx="3176640" cy="520560"/>
          </a:xfrm>
        </p:grpSpPr>
        <p:sp>
          <p:nvSpPr>
            <p:cNvPr id="378" name="Text Box 11"/>
            <p:cNvSpPr/>
            <p:nvPr/>
          </p:nvSpPr>
          <p:spPr>
            <a:xfrm>
              <a:off x="1979640" y="31417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于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12"/>
                <p:cNvSpPr txBox="1"/>
                <p:nvPr/>
              </p:nvSpPr>
              <p:spPr>
                <a:xfrm>
                  <a:off x="3987720" y="3238560"/>
                  <a:ext cx="11685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0" name="Object 13"/>
              <p:cNvSpPr txBox="1"/>
              <p:nvPr/>
            </p:nvSpPr>
            <p:spPr>
              <a:xfrm>
                <a:off x="5508720" y="3645000"/>
                <a:ext cx="1727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1" name="Group 14"/>
          <p:cNvGrpSpPr/>
          <p:nvPr/>
        </p:nvGrpSpPr>
        <p:grpSpPr>
          <a:xfrm>
            <a:off x="1908000" y="4437000"/>
            <a:ext cx="3187800" cy="520560"/>
            <a:chOff x="1908000" y="4437000"/>
            <a:chExt cx="3187800" cy="520560"/>
          </a:xfrm>
        </p:grpSpPr>
        <p:sp>
          <p:nvSpPr>
            <p:cNvPr id="382" name="Text Box 15"/>
            <p:cNvSpPr/>
            <p:nvPr/>
          </p:nvSpPr>
          <p:spPr>
            <a:xfrm>
              <a:off x="1908000" y="4437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于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Object 16"/>
                <p:cNvSpPr txBox="1"/>
                <p:nvPr/>
              </p:nvSpPr>
              <p:spPr>
                <a:xfrm>
                  <a:off x="3851280" y="4437000"/>
                  <a:ext cx="12445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5003640" y="4941720"/>
                <a:ext cx="3378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5" name="Group 18"/>
          <p:cNvGrpSpPr/>
          <p:nvPr/>
        </p:nvGrpSpPr>
        <p:grpSpPr>
          <a:xfrm>
            <a:off x="1979640" y="5516640"/>
            <a:ext cx="4896000" cy="631800"/>
            <a:chOff x="1979640" y="5516640"/>
            <a:chExt cx="4896000" cy="631800"/>
          </a:xfrm>
        </p:grpSpPr>
        <p:sp>
          <p:nvSpPr>
            <p:cNvPr id="386" name="Text Box 19"/>
            <p:cNvSpPr/>
            <p:nvPr/>
          </p:nvSpPr>
          <p:spPr>
            <a:xfrm>
              <a:off x="1979640" y="5516640"/>
              <a:ext cx="46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化简，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20"/>
                <p:cNvSpPr txBox="1"/>
                <p:nvPr/>
              </p:nvSpPr>
              <p:spPr>
                <a:xfrm>
                  <a:off x="5364000" y="5589720"/>
                  <a:ext cx="1511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8" name="Group 21"/>
          <p:cNvGrpSpPr/>
          <p:nvPr/>
        </p:nvGrpSpPr>
        <p:grpSpPr>
          <a:xfrm>
            <a:off x="1979640" y="6093000"/>
            <a:ext cx="4857840" cy="520560"/>
            <a:chOff x="1979640" y="6093000"/>
            <a:chExt cx="4857840" cy="520560"/>
          </a:xfrm>
        </p:grpSpPr>
        <p:sp>
          <p:nvSpPr>
            <p:cNvPr id="389" name="Text Box 22"/>
            <p:cNvSpPr/>
            <p:nvPr/>
          </p:nvSpPr>
          <p:spPr>
            <a:xfrm>
              <a:off x="1979640" y="6093000"/>
              <a:ext cx="46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两边同乘－３，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Object 23"/>
                <p:cNvSpPr txBox="1"/>
                <p:nvPr/>
              </p:nvSpPr>
              <p:spPr>
                <a:xfrm>
                  <a:off x="5364000" y="6165720"/>
                  <a:ext cx="14734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如何检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075520" cy="6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将               代入方程                        的左边，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900000" y="1270080"/>
                <a:ext cx="1511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2"/>
              <p:cNvSpPr txBox="1"/>
              <p:nvPr/>
            </p:nvSpPr>
            <p:spPr>
              <a:xfrm>
                <a:off x="3635280" y="1158840"/>
                <a:ext cx="252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Text Box 15"/>
          <p:cNvSpPr/>
          <p:nvPr/>
        </p:nvSpPr>
        <p:spPr>
          <a:xfrm>
            <a:off x="395280" y="3789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程的左右两边相等，所以            是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3433680" y="1846440"/>
                <a:ext cx="31989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（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）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8"/>
              <p:cNvSpPr txBox="1"/>
              <p:nvPr/>
            </p:nvSpPr>
            <p:spPr>
              <a:xfrm>
                <a:off x="5292720" y="3789360"/>
                <a:ext cx="151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Text Box 20"/>
          <p:cNvSpPr/>
          <p:nvPr/>
        </p:nvSpPr>
        <p:spPr>
          <a:xfrm>
            <a:off x="611280" y="530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要带入原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39528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解法对不对？如果不对，错在哪里？应怎样改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755640" y="2205000"/>
            <a:ext cx="691344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方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12=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x+12=34=x+12 -12=34 -12=x=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方程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x+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-9x+3-3=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2124000" y="5084640"/>
            <a:ext cx="43200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"/>
          <p:cNvSpPr/>
          <p:nvPr/>
        </p:nvSpPr>
        <p:spPr>
          <a:xfrm>
            <a:off x="2552760" y="2922480"/>
            <a:ext cx="434880" cy="435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5435640" y="2924280"/>
            <a:ext cx="36036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4859640" y="1413000"/>
            <a:ext cx="363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   x+12=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12 -12=34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3722760" y="5300640"/>
                <a:ext cx="1627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341280" y="1125360"/>
            <a:ext cx="883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下列各式的变形正确的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         ，得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         ，得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a =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得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=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= 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得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835280" y="1773360"/>
                <a:ext cx="1104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1835280" y="2708280"/>
                <a:ext cx="10396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6516720" y="3500280"/>
                <a:ext cx="44604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Text Box 7"/>
          <p:cNvSpPr/>
          <p:nvPr/>
        </p:nvSpPr>
        <p:spPr>
          <a:xfrm>
            <a:off x="6804000" y="1125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6443640" y="1844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6443640" y="2727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0"/>
          <p:cNvGrpSpPr/>
          <p:nvPr/>
        </p:nvGrpSpPr>
        <p:grpSpPr>
          <a:xfrm>
            <a:off x="7236000" y="3429000"/>
            <a:ext cx="1523880" cy="1382760"/>
            <a:chOff x="7236000" y="3429000"/>
            <a:chExt cx="1523880" cy="1382760"/>
          </a:xfrm>
        </p:grpSpPr>
        <p:sp>
          <p:nvSpPr>
            <p:cNvPr id="414" name="Text Box 11"/>
            <p:cNvSpPr/>
            <p:nvPr/>
          </p:nvSpPr>
          <p:spPr>
            <a:xfrm>
              <a:off x="7236000" y="37987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2"/>
                <p:cNvSpPr txBox="1"/>
                <p:nvPr/>
              </p:nvSpPr>
              <p:spPr>
                <a:xfrm>
                  <a:off x="7962840" y="3429000"/>
                  <a:ext cx="512280" cy="13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76320" y="752400"/>
            <a:ext cx="9448560" cy="4908960"/>
            <a:chOff x="76320" y="752400"/>
            <a:chExt cx="9448560" cy="4908960"/>
          </a:xfrm>
        </p:grpSpPr>
        <p:sp>
          <p:nvSpPr>
            <p:cNvPr id="417" name="Rectangle 3"/>
            <p:cNvSpPr/>
            <p:nvPr/>
          </p:nvSpPr>
          <p:spPr>
            <a:xfrm>
              <a:off x="76320" y="752400"/>
              <a:ext cx="9448560" cy="49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习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：利用等式性质解下列方程并检验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1)x-5 = 6                    (2)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.3x = 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3)2 -      x = 3             (4)5x+4=0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5562360" y="2379600"/>
              <a:ext cx="533160" cy="1158840"/>
              <a:chOff x="5562360" y="2379600"/>
              <a:chExt cx="533160" cy="115884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5638320" y="2379600"/>
                <a:ext cx="1839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"/>
              <p:cNvSpPr/>
              <p:nvPr/>
            </p:nvSpPr>
            <p:spPr>
              <a:xfrm>
                <a:off x="5638320" y="2836800"/>
                <a:ext cx="1839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"/>
              <p:cNvSpPr/>
              <p:nvPr/>
            </p:nvSpPr>
            <p:spPr>
              <a:xfrm>
                <a:off x="5562360" y="3022560"/>
                <a:ext cx="533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"/>
            <p:cNvGrpSpPr/>
            <p:nvPr/>
          </p:nvGrpSpPr>
          <p:grpSpPr>
            <a:xfrm>
              <a:off x="1523880" y="3632040"/>
              <a:ext cx="533160" cy="1160640"/>
              <a:chOff x="1523880" y="3632040"/>
              <a:chExt cx="533160" cy="1160640"/>
            </a:xfrm>
          </p:grpSpPr>
          <p:sp>
            <p:nvSpPr>
              <p:cNvPr id="423" name="Rectangle 9"/>
              <p:cNvSpPr/>
              <p:nvPr/>
            </p:nvSpPr>
            <p:spPr>
              <a:xfrm>
                <a:off x="1600920" y="36320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0"/>
              <p:cNvSpPr/>
              <p:nvPr/>
            </p:nvSpPr>
            <p:spPr>
              <a:xfrm>
                <a:off x="1600920" y="4089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1"/>
              <p:cNvSpPr/>
              <p:nvPr/>
            </p:nvSpPr>
            <p:spPr>
              <a:xfrm>
                <a:off x="1523880" y="42415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258920" y="2060640"/>
            <a:ext cx="2736720" cy="1873080"/>
            <a:chOff x="1258920" y="2060640"/>
            <a:chExt cx="2736720" cy="1873080"/>
          </a:xfrm>
        </p:grpSpPr>
        <p:sp>
          <p:nvSpPr>
            <p:cNvPr id="140" name="Rectangle 3"/>
            <p:cNvSpPr/>
            <p:nvPr/>
          </p:nvSpPr>
          <p:spPr>
            <a:xfrm>
              <a:off x="1258920" y="2060640"/>
              <a:ext cx="2736720" cy="72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1258920" y="3500640"/>
              <a:ext cx="2736720" cy="43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762480" y="380880"/>
            <a:ext cx="2257920" cy="990000"/>
            <a:chOff x="762480" y="380880"/>
            <a:chExt cx="2257920" cy="990000"/>
          </a:xfrm>
        </p:grpSpPr>
        <p:sp>
          <p:nvSpPr>
            <p:cNvPr id="143" name="Text Box 6"/>
            <p:cNvSpPr/>
            <p:nvPr/>
          </p:nvSpPr>
          <p:spPr>
            <a:xfrm>
              <a:off x="762480" y="380880"/>
              <a:ext cx="22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知道吗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259280" y="911160"/>
              <a:ext cx="176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ff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什么是方程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4685040" y="86364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是含有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未知数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等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1352160" y="1523880"/>
            <a:ext cx="6167880" cy="2379960"/>
            <a:chOff x="1352160" y="1523880"/>
            <a:chExt cx="6167880" cy="2379960"/>
          </a:xfrm>
        </p:grpSpPr>
        <p:sp>
          <p:nvSpPr>
            <p:cNvPr id="147" name="Text Box 10"/>
            <p:cNvSpPr/>
            <p:nvPr/>
          </p:nvSpPr>
          <p:spPr>
            <a:xfrm>
              <a:off x="2247840" y="1523880"/>
              <a:ext cx="52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指出下列式子中哪些是方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哪些不是，并说明为什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1352160" y="1981080"/>
              <a:ext cx="3556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+ </a:t>
              </a:r>
              <a:r>
                <a:rPr b="0" lang="en-US" sz="24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x + 2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+ 3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+ 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 + a (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x + 7 = 3x -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2"/>
          <p:cNvSpPr/>
          <p:nvPr/>
        </p:nvSpPr>
        <p:spPr>
          <a:xfrm>
            <a:off x="1711080" y="41148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面的式子的共同特点是什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1999800" y="4673520"/>
            <a:ext cx="5262480" cy="520560"/>
            <a:chOff x="1999800" y="4673520"/>
            <a:chExt cx="5262480" cy="520560"/>
          </a:xfrm>
        </p:grpSpPr>
        <p:sp>
          <p:nvSpPr>
            <p:cNvPr id="151" name="Text Box 14"/>
            <p:cNvSpPr/>
            <p:nvPr/>
          </p:nvSpPr>
          <p:spPr>
            <a:xfrm>
              <a:off x="1999800" y="470376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都是等式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4506120" y="4673520"/>
              <a:ext cx="275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我们可以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  =    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表示一般的等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16" descr="BD00028_"/>
          <p:cNvPicPr/>
          <p:nvPr/>
        </p:nvPicPr>
        <p:blipFill>
          <a:blip r:embed="rId1"/>
          <a:stretch/>
        </p:blipFill>
        <p:spPr>
          <a:xfrm>
            <a:off x="304920" y="304920"/>
            <a:ext cx="709560" cy="691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1352520" y="5229360"/>
            <a:ext cx="283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什么叫方程的解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266920" y="5805360"/>
            <a:ext cx="17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什么叫一元一次方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468360" y="476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395280" y="112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等式的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等式两边加（或减）同一个数（或式子），结果仍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468360" y="2565360"/>
            <a:ext cx="76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等式的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等式两边乘同一个数，或除以同一个不为０的数，结果仍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1819440" y="2133720"/>
            <a:ext cx="51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= 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那么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± c = b ±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1332000" y="3500280"/>
            <a:ext cx="7848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那么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c = b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那么           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≠ 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2"/>
              <p:cNvSpPr txBox="1"/>
              <p:nvPr/>
            </p:nvSpPr>
            <p:spPr>
              <a:xfrm>
                <a:off x="4368960" y="3003480"/>
                <a:ext cx="406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Rectangle 14"/>
          <p:cNvSpPr/>
          <p:nvPr/>
        </p:nvSpPr>
        <p:spPr>
          <a:xfrm>
            <a:off x="539640" y="4941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解一元一次方程的实质就是利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等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出未知数的值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=a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常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铃铛"/>
          <p:cNvPicPr/>
          <p:nvPr/>
        </p:nvPicPr>
        <p:blipFill>
          <a:blip r:embed="rId1"/>
          <a:stretch/>
        </p:blipFill>
        <p:spPr>
          <a:xfrm>
            <a:off x="1116000" y="836640"/>
            <a:ext cx="3400560" cy="3505320"/>
          </a:xfrm>
          <a:prstGeom prst="rect">
            <a:avLst/>
          </a:prstGeom>
          <a:ln w="0">
            <a:noFill/>
          </a:ln>
        </p:spPr>
      </p:pic>
      <p:sp>
        <p:nvSpPr>
          <p:cNvPr id="434" name="WordArt 3"/>
          <p:cNvSpPr txBox="1"/>
          <p:nvPr/>
        </p:nvSpPr>
        <p:spPr>
          <a:xfrm rot="5400000">
            <a:off x="4038120" y="2133360"/>
            <a:ext cx="5486400" cy="3048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9685"/>
                <a:gd name="adj2" fmla="val 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下课了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24000" y="90792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估计下列方程的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2124000" y="1628640"/>
                <a:ext cx="2884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627280" y="2637000"/>
                <a:ext cx="20192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908000" y="3789360"/>
                <a:ext cx="30290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2771640" y="5084640"/>
                <a:ext cx="2019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438280" y="914400"/>
            <a:ext cx="4114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3×3+1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5×2  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n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x+2x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3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3x+1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5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69520" y="83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476360" y="378936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这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个式子的共同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476360" y="4941720"/>
            <a:ext cx="55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等号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表示相等关系的式子，叫做等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979640" y="4365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“＝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067280" y="4365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等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24000" y="484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述这组式子中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等式， 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是等式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955800" y="1428840"/>
            <a:ext cx="7924680" cy="3263760"/>
            <a:chOff x="955800" y="1428840"/>
            <a:chExt cx="7924680" cy="3263760"/>
          </a:xfrm>
        </p:grpSpPr>
        <p:sp>
          <p:nvSpPr>
            <p:cNvPr id="169" name="Text Box 4"/>
            <p:cNvSpPr/>
            <p:nvPr/>
          </p:nvSpPr>
          <p:spPr>
            <a:xfrm>
              <a:off x="1031760" y="1428840"/>
              <a:ext cx="7696440" cy="14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①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+x=7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， ②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x, ③ 3x+1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④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+b=b+a, ⑤ a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+b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4000" spc="-1" strike="noStrike" baseline="30000">
                  <a:solidFill>
                    <a:srgbClr val="000000"/>
                  </a:solidFill>
                  <a:latin typeface="Times New Roman"/>
                </a:rPr>
                <a:t>　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r>
                <a:rPr b="0" lang="zh-CN" sz="4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=2πr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955800" y="3105360"/>
              <a:ext cx="79246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⑦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+2=3, ⑧    ab, ⑨ S=    ah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⑩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x-3y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6"/>
            <p:cNvGrpSpPr/>
            <p:nvPr/>
          </p:nvGrpSpPr>
          <p:grpSpPr>
            <a:xfrm>
              <a:off x="3927600" y="2938680"/>
              <a:ext cx="3047400" cy="1049040"/>
              <a:chOff x="3927600" y="2938680"/>
              <a:chExt cx="3047400" cy="1049040"/>
            </a:xfrm>
          </p:grpSpPr>
          <p:sp>
            <p:nvSpPr>
              <p:cNvPr id="172" name="Text Box 7"/>
              <p:cNvSpPr/>
              <p:nvPr/>
            </p:nvSpPr>
            <p:spPr>
              <a:xfrm>
                <a:off x="3984480" y="29530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8"/>
              <p:cNvSpPr/>
              <p:nvPr/>
            </p:nvSpPr>
            <p:spPr>
              <a:xfrm>
                <a:off x="4003560" y="3467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9"/>
              <p:cNvSpPr/>
              <p:nvPr/>
            </p:nvSpPr>
            <p:spPr>
              <a:xfrm>
                <a:off x="6404040" y="293868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0"/>
              <p:cNvSpPr/>
              <p:nvPr/>
            </p:nvSpPr>
            <p:spPr>
              <a:xfrm>
                <a:off x="6404040" y="3472200"/>
                <a:ext cx="456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1"/>
              <p:cNvSpPr/>
              <p:nvPr/>
            </p:nvSpPr>
            <p:spPr>
              <a:xfrm>
                <a:off x="6441840" y="34531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927600" y="3453120"/>
                <a:ext cx="456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13"/>
          <p:cNvSpPr/>
          <p:nvPr/>
        </p:nvSpPr>
        <p:spPr>
          <a:xfrm>
            <a:off x="4210200" y="48434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①④⑥⑦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101600" y="5376960"/>
            <a:ext cx="23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②③⑤⑧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39640" y="765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方正魏碑简体"/>
              </a:rPr>
              <a:t>判   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-36360" y="70488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探索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"/>
          <p:cNvSpPr/>
          <p:nvPr/>
        </p:nvSpPr>
        <p:spPr>
          <a:xfrm>
            <a:off x="503280" y="16128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238560" y="1612800"/>
            <a:ext cx="288720" cy="362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904000" y="1685880"/>
            <a:ext cx="2950560" cy="358920"/>
            <a:chOff x="5904000" y="1685880"/>
            <a:chExt cx="2950560" cy="358920"/>
          </a:xfrm>
        </p:grpSpPr>
        <p:sp>
          <p:nvSpPr>
            <p:cNvPr id="185" name="AutoShape 6"/>
            <p:cNvSpPr/>
            <p:nvPr/>
          </p:nvSpPr>
          <p:spPr>
            <a:xfrm>
              <a:off x="5904000" y="1685880"/>
              <a:ext cx="286920" cy="35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7"/>
            <p:cNvSpPr/>
            <p:nvPr/>
          </p:nvSpPr>
          <p:spPr>
            <a:xfrm>
              <a:off x="8567640" y="1685880"/>
              <a:ext cx="286920" cy="35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8"/>
          <p:cNvSpPr/>
          <p:nvPr/>
        </p:nvSpPr>
        <p:spPr>
          <a:xfrm>
            <a:off x="3456000" y="2765520"/>
            <a:ext cx="22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3455640" y="2909880"/>
            <a:ext cx="2158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3743280" y="1973160"/>
            <a:ext cx="1079280" cy="1008360"/>
            <a:chOff x="3743280" y="1973160"/>
            <a:chExt cx="1079280" cy="1008360"/>
          </a:xfrm>
        </p:grpSpPr>
        <p:sp>
          <p:nvSpPr>
            <p:cNvPr id="190" name="Text Box 11"/>
            <p:cNvSpPr/>
            <p:nvPr/>
          </p:nvSpPr>
          <p:spPr>
            <a:xfrm>
              <a:off x="3743280" y="197316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2"/>
            <p:cNvSpPr/>
            <p:nvPr/>
          </p:nvSpPr>
          <p:spPr>
            <a:xfrm>
              <a:off x="4535280" y="2262240"/>
              <a:ext cx="287280" cy="35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3"/>
          <p:cNvGrpSpPr/>
          <p:nvPr/>
        </p:nvGrpSpPr>
        <p:grpSpPr>
          <a:xfrm>
            <a:off x="3814920" y="2620800"/>
            <a:ext cx="1008000" cy="1008360"/>
            <a:chOff x="3814920" y="2620800"/>
            <a:chExt cx="1008000" cy="1008360"/>
          </a:xfrm>
        </p:grpSpPr>
        <p:sp>
          <p:nvSpPr>
            <p:cNvPr id="193" name="Text Box 14"/>
            <p:cNvSpPr/>
            <p:nvPr/>
          </p:nvSpPr>
          <p:spPr>
            <a:xfrm>
              <a:off x="3814920" y="262080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4535640" y="2981160"/>
              <a:ext cx="287280" cy="3585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6"/>
          <p:cNvSpPr/>
          <p:nvPr/>
        </p:nvSpPr>
        <p:spPr>
          <a:xfrm>
            <a:off x="503280" y="50688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式两边加（或减）同一个数（或式子），结果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684360" y="3141720"/>
            <a:ext cx="7272360" cy="1942920"/>
            <a:chOff x="684360" y="3141720"/>
            <a:chExt cx="7272360" cy="1942920"/>
          </a:xfrm>
        </p:grpSpPr>
        <p:sp>
          <p:nvSpPr>
            <p:cNvPr id="197" name="Text Box 18"/>
            <p:cNvSpPr/>
            <p:nvPr/>
          </p:nvSpPr>
          <p:spPr>
            <a:xfrm>
              <a:off x="684360" y="4005000"/>
              <a:ext cx="475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等式的性质１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4356000" y="3141720"/>
              <a:ext cx="3600720" cy="1942920"/>
            </a:xfrm>
            <a:prstGeom prst="wedgeEllipseCallout">
              <a:avLst>
                <a:gd name="adj1" fmla="val -114328"/>
                <a:gd name="adj2" fmla="val 62500"/>
              </a:avLst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0" descr="RIT00051"/>
            <p:cNvPicPr/>
            <p:nvPr/>
          </p:nvPicPr>
          <p:blipFill>
            <a:blip r:embed="rId1"/>
            <a:stretch/>
          </p:blipFill>
          <p:spPr>
            <a:xfrm>
              <a:off x="5581800" y="3357360"/>
              <a:ext cx="187164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21"/>
          <p:cNvGrpSpPr/>
          <p:nvPr/>
        </p:nvGrpSpPr>
        <p:grpSpPr>
          <a:xfrm>
            <a:off x="1727280" y="6005520"/>
            <a:ext cx="8101080" cy="520560"/>
            <a:chOff x="1727280" y="6005520"/>
            <a:chExt cx="8101080" cy="520560"/>
          </a:xfrm>
        </p:grpSpPr>
        <p:grpSp>
          <p:nvGrpSpPr>
            <p:cNvPr id="201" name="Group 22"/>
            <p:cNvGrpSpPr/>
            <p:nvPr/>
          </p:nvGrpSpPr>
          <p:grpSpPr>
            <a:xfrm>
              <a:off x="1727280" y="6005520"/>
              <a:ext cx="8101080" cy="520560"/>
              <a:chOff x="1727280" y="6005520"/>
              <a:chExt cx="8101080" cy="520560"/>
            </a:xfrm>
          </p:grpSpPr>
          <p:sp>
            <p:nvSpPr>
              <p:cNvPr id="202" name="Text Box 23"/>
              <p:cNvSpPr/>
              <p:nvPr/>
            </p:nvSpPr>
            <p:spPr>
              <a:xfrm>
                <a:off x="1727280" y="6005520"/>
                <a:ext cx="810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即：如果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那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24"/>
                  <p:cNvSpPr txBox="1"/>
                  <p:nvPr/>
                </p:nvSpPr>
                <p:spPr>
                  <a:xfrm>
                    <a:off x="3384720" y="6076800"/>
                    <a:ext cx="85104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4" name="Object 25"/>
                <p:cNvSpPr txBox="1"/>
                <p:nvPr/>
              </p:nvSpPr>
              <p:spPr>
                <a:xfrm>
                  <a:off x="5543640" y="6076800"/>
                  <a:ext cx="11178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±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Object 26"/>
              <p:cNvSpPr txBox="1"/>
              <p:nvPr/>
            </p:nvSpPr>
            <p:spPr>
              <a:xfrm>
                <a:off x="6696000" y="6078600"/>
                <a:ext cx="7873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Group 27"/>
          <p:cNvGrpSpPr/>
          <p:nvPr/>
        </p:nvGrpSpPr>
        <p:grpSpPr>
          <a:xfrm>
            <a:off x="214200" y="1685880"/>
            <a:ext cx="3779280" cy="1368360"/>
            <a:chOff x="214200" y="1685880"/>
            <a:chExt cx="3779280" cy="1368360"/>
          </a:xfrm>
        </p:grpSpPr>
        <p:sp>
          <p:nvSpPr>
            <p:cNvPr id="207" name="Line 28"/>
            <p:cNvSpPr/>
            <p:nvPr/>
          </p:nvSpPr>
          <p:spPr>
            <a:xfrm>
              <a:off x="753840" y="2117880"/>
              <a:ext cx="2664000" cy="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>
              <a:off x="1617480" y="2117880"/>
              <a:ext cx="863640" cy="936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0"/>
            <p:cNvGrpSpPr/>
            <p:nvPr/>
          </p:nvGrpSpPr>
          <p:grpSpPr>
            <a:xfrm>
              <a:off x="2841480" y="1685880"/>
              <a:ext cx="1152000" cy="431640"/>
              <a:chOff x="2841480" y="1685880"/>
              <a:chExt cx="1152000" cy="431640"/>
            </a:xfrm>
          </p:grpSpPr>
          <p:sp>
            <p:nvSpPr>
              <p:cNvPr id="210" name="Line 31"/>
              <p:cNvSpPr/>
              <p:nvPr/>
            </p:nvSpPr>
            <p:spPr>
              <a:xfrm>
                <a:off x="2985840" y="197316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2"/>
              <p:cNvSpPr/>
              <p:nvPr/>
            </p:nvSpPr>
            <p:spPr>
              <a:xfrm>
                <a:off x="3417480" y="19731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3"/>
              <p:cNvSpPr/>
              <p:nvPr/>
            </p:nvSpPr>
            <p:spPr>
              <a:xfrm flipV="1">
                <a:off x="377784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4"/>
              <p:cNvSpPr/>
              <p:nvPr/>
            </p:nvSpPr>
            <p:spPr>
              <a:xfrm>
                <a:off x="284148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5"/>
            <p:cNvGrpSpPr/>
            <p:nvPr/>
          </p:nvGrpSpPr>
          <p:grpSpPr>
            <a:xfrm>
              <a:off x="214200" y="1685880"/>
              <a:ext cx="1152000" cy="431640"/>
              <a:chOff x="214200" y="1685880"/>
              <a:chExt cx="1152000" cy="431640"/>
            </a:xfrm>
          </p:grpSpPr>
          <p:sp>
            <p:nvSpPr>
              <p:cNvPr id="215" name="Line 36"/>
              <p:cNvSpPr/>
              <p:nvPr/>
            </p:nvSpPr>
            <p:spPr>
              <a:xfrm>
                <a:off x="358560" y="197316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7"/>
              <p:cNvSpPr/>
              <p:nvPr/>
            </p:nvSpPr>
            <p:spPr>
              <a:xfrm>
                <a:off x="790200" y="19731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8"/>
              <p:cNvSpPr/>
              <p:nvPr/>
            </p:nvSpPr>
            <p:spPr>
              <a:xfrm flipV="1">
                <a:off x="115056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39"/>
              <p:cNvSpPr/>
              <p:nvPr/>
            </p:nvSpPr>
            <p:spPr>
              <a:xfrm>
                <a:off x="21420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40"/>
            <p:cNvGrpSpPr/>
            <p:nvPr/>
          </p:nvGrpSpPr>
          <p:grpSpPr>
            <a:xfrm>
              <a:off x="1906200" y="1828800"/>
              <a:ext cx="287640" cy="289080"/>
              <a:chOff x="1906200" y="1828800"/>
              <a:chExt cx="287640" cy="289080"/>
            </a:xfrm>
          </p:grpSpPr>
          <p:sp>
            <p:nvSpPr>
              <p:cNvPr id="220" name="AutoShape 41"/>
              <p:cNvSpPr/>
              <p:nvPr/>
            </p:nvSpPr>
            <p:spPr>
              <a:xfrm>
                <a:off x="1906200" y="1828800"/>
                <a:ext cx="287640" cy="289080"/>
              </a:xfrm>
              <a:prstGeom prst="pi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2"/>
              <p:cNvSpPr/>
              <p:nvPr/>
            </p:nvSpPr>
            <p:spPr>
              <a:xfrm>
                <a:off x="2049120" y="19018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43"/>
          <p:cNvGrpSpPr/>
          <p:nvPr/>
        </p:nvGrpSpPr>
        <p:grpSpPr>
          <a:xfrm>
            <a:off x="5327640" y="1685880"/>
            <a:ext cx="3779640" cy="1440000"/>
            <a:chOff x="5327640" y="1685880"/>
            <a:chExt cx="3779640" cy="1440000"/>
          </a:xfrm>
        </p:grpSpPr>
        <p:sp>
          <p:nvSpPr>
            <p:cNvPr id="223" name="Oval 44"/>
            <p:cNvSpPr/>
            <p:nvPr/>
          </p:nvSpPr>
          <p:spPr>
            <a:xfrm>
              <a:off x="5543640" y="1685880"/>
              <a:ext cx="3603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5"/>
            <p:cNvSpPr/>
            <p:nvPr/>
          </p:nvSpPr>
          <p:spPr>
            <a:xfrm>
              <a:off x="8207640" y="1685880"/>
              <a:ext cx="288720" cy="362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46"/>
            <p:cNvGrpSpPr/>
            <p:nvPr/>
          </p:nvGrpSpPr>
          <p:grpSpPr>
            <a:xfrm>
              <a:off x="5327640" y="1757520"/>
              <a:ext cx="3779640" cy="1368360"/>
              <a:chOff x="5327640" y="1757520"/>
              <a:chExt cx="3779640" cy="1368360"/>
            </a:xfrm>
          </p:grpSpPr>
          <p:sp>
            <p:nvSpPr>
              <p:cNvPr id="226" name="Line 47"/>
              <p:cNvSpPr/>
              <p:nvPr/>
            </p:nvSpPr>
            <p:spPr>
              <a:xfrm>
                <a:off x="5867640" y="2189160"/>
                <a:ext cx="266364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48"/>
              <p:cNvSpPr/>
              <p:nvPr/>
            </p:nvSpPr>
            <p:spPr>
              <a:xfrm>
                <a:off x="6767640" y="2189160"/>
                <a:ext cx="863640" cy="9367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Group 49"/>
              <p:cNvGrpSpPr/>
              <p:nvPr/>
            </p:nvGrpSpPr>
            <p:grpSpPr>
              <a:xfrm>
                <a:off x="7955280" y="1757520"/>
                <a:ext cx="1152000" cy="431640"/>
                <a:chOff x="7955280" y="1757520"/>
                <a:chExt cx="1152000" cy="431640"/>
              </a:xfrm>
            </p:grpSpPr>
            <p:sp>
              <p:nvSpPr>
                <p:cNvPr id="229" name="Line 50"/>
                <p:cNvSpPr/>
                <p:nvPr/>
              </p:nvSpPr>
              <p:spPr>
                <a:xfrm>
                  <a:off x="8099640" y="2044800"/>
                  <a:ext cx="863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1"/>
                <p:cNvSpPr/>
                <p:nvPr/>
              </p:nvSpPr>
              <p:spPr>
                <a:xfrm>
                  <a:off x="8531280" y="204480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2"/>
                <p:cNvSpPr/>
                <p:nvPr/>
              </p:nvSpPr>
              <p:spPr>
                <a:xfrm flipV="1">
                  <a:off x="8891640" y="175752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3"/>
                <p:cNvSpPr/>
                <p:nvPr/>
              </p:nvSpPr>
              <p:spPr>
                <a:xfrm>
                  <a:off x="7955280" y="175752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54"/>
              <p:cNvGrpSpPr/>
              <p:nvPr/>
            </p:nvGrpSpPr>
            <p:grpSpPr>
              <a:xfrm>
                <a:off x="5327640" y="1757520"/>
                <a:ext cx="1152720" cy="431640"/>
                <a:chOff x="5327640" y="1757520"/>
                <a:chExt cx="1152720" cy="431640"/>
              </a:xfrm>
            </p:grpSpPr>
            <p:sp>
              <p:nvSpPr>
                <p:cNvPr id="234" name="Line 55"/>
                <p:cNvSpPr/>
                <p:nvPr/>
              </p:nvSpPr>
              <p:spPr>
                <a:xfrm>
                  <a:off x="5472360" y="2044800"/>
                  <a:ext cx="8636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6"/>
                <p:cNvSpPr/>
                <p:nvPr/>
              </p:nvSpPr>
              <p:spPr>
                <a:xfrm>
                  <a:off x="5904000" y="204480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7"/>
                <p:cNvSpPr/>
                <p:nvPr/>
              </p:nvSpPr>
              <p:spPr>
                <a:xfrm flipV="1">
                  <a:off x="6264360" y="1757520"/>
                  <a:ext cx="21600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8"/>
                <p:cNvSpPr/>
                <p:nvPr/>
              </p:nvSpPr>
              <p:spPr>
                <a:xfrm>
                  <a:off x="5327640" y="1757520"/>
                  <a:ext cx="21600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59"/>
              <p:cNvGrpSpPr/>
              <p:nvPr/>
            </p:nvGrpSpPr>
            <p:grpSpPr>
              <a:xfrm>
                <a:off x="7056720" y="1901880"/>
                <a:ext cx="287280" cy="289080"/>
                <a:chOff x="7056720" y="1901880"/>
                <a:chExt cx="287280" cy="289080"/>
              </a:xfrm>
            </p:grpSpPr>
            <p:sp>
              <p:nvSpPr>
                <p:cNvPr id="239" name="AutoShape 60"/>
                <p:cNvSpPr/>
                <p:nvPr/>
              </p:nvSpPr>
              <p:spPr>
                <a:xfrm>
                  <a:off x="7056720" y="1901880"/>
                  <a:ext cx="287280" cy="289080"/>
                </a:xfrm>
                <a:prstGeom prst="pi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1"/>
                <p:cNvSpPr/>
                <p:nvPr/>
              </p:nvSpPr>
              <p:spPr>
                <a:xfrm>
                  <a:off x="7199280" y="19749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826280" y="549360"/>
            <a:ext cx="48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适当的数或式子填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使结果仍是等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1413000"/>
            <a:ext cx="45720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若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7x –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则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+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000" spc="-1" strike="noStrike" u="sng">
                <a:solidFill>
                  <a:srgbClr val="1f497d"/>
                </a:solidFill>
                <a:uFillTx/>
                <a:latin typeface="Arial"/>
              </a:rPr>
              <a:t>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3573360"/>
            <a:ext cx="45720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若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a + 4 =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则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a  =  8 +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356000" y="1268280"/>
            <a:ext cx="43927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观察等式变形前后两边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什么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应怎么变化可使等式依然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11640" y="3573360"/>
            <a:ext cx="33847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关键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同侧对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注意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620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探索２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50920" y="464328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式两边乘同一个数，或除以同一个不为０的数，结果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250920" y="2681280"/>
            <a:ext cx="8028000" cy="1942920"/>
            <a:chOff x="250920" y="2681280"/>
            <a:chExt cx="8028000" cy="1942920"/>
          </a:xfrm>
        </p:grpSpPr>
        <p:sp>
          <p:nvSpPr>
            <p:cNvPr id="249" name="Text Box 5"/>
            <p:cNvSpPr/>
            <p:nvPr/>
          </p:nvSpPr>
          <p:spPr>
            <a:xfrm>
              <a:off x="250920" y="3618000"/>
              <a:ext cx="475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等式的性质２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6" descr="RIT00051"/>
            <p:cNvPicPr/>
            <p:nvPr/>
          </p:nvPicPr>
          <p:blipFill>
            <a:blip r:embed="rId1"/>
            <a:stretch/>
          </p:blipFill>
          <p:spPr>
            <a:xfrm>
              <a:off x="5183280" y="2970000"/>
              <a:ext cx="1871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AutoShape 7"/>
            <p:cNvSpPr/>
            <p:nvPr/>
          </p:nvSpPr>
          <p:spPr>
            <a:xfrm>
              <a:off x="4678560" y="2681280"/>
              <a:ext cx="3600360" cy="1942920"/>
            </a:xfrm>
            <a:prstGeom prst="wedgeEllipseCallout">
              <a:avLst>
                <a:gd name="adj1" fmla="val -114328"/>
                <a:gd name="adj2" fmla="val 62500"/>
              </a:avLst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611280" y="5573880"/>
            <a:ext cx="8101080" cy="520560"/>
            <a:chOff x="611280" y="5573880"/>
            <a:chExt cx="8101080" cy="520560"/>
          </a:xfrm>
        </p:grpSpPr>
        <p:sp>
          <p:nvSpPr>
            <p:cNvPr id="253" name="Text Box 9"/>
            <p:cNvSpPr/>
            <p:nvPr/>
          </p:nvSpPr>
          <p:spPr>
            <a:xfrm>
              <a:off x="611280" y="5573880"/>
              <a:ext cx="81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　即：如果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10"/>
                <p:cNvSpPr txBox="1"/>
                <p:nvPr/>
              </p:nvSpPr>
              <p:spPr>
                <a:xfrm>
                  <a:off x="3059280" y="5645160"/>
                  <a:ext cx="8506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Object 11"/>
                <p:cNvSpPr txBox="1"/>
                <p:nvPr/>
              </p:nvSpPr>
              <p:spPr>
                <a:xfrm>
                  <a:off x="5148360" y="5716800"/>
                  <a:ext cx="73656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6084720" y="5607000"/>
                <a:ext cx="419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3"/>
              <p:cNvSpPr txBox="1"/>
              <p:nvPr/>
            </p:nvSpPr>
            <p:spPr>
              <a:xfrm>
                <a:off x="6046920" y="5994360"/>
                <a:ext cx="21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58" name="Group 14"/>
          <p:cNvGrpSpPr/>
          <p:nvPr/>
        </p:nvGrpSpPr>
        <p:grpSpPr>
          <a:xfrm>
            <a:off x="1293840" y="6066000"/>
            <a:ext cx="8101080" cy="558720"/>
            <a:chOff x="1293840" y="6066000"/>
            <a:chExt cx="8101080" cy="558720"/>
          </a:xfrm>
        </p:grpSpPr>
        <p:sp>
          <p:nvSpPr>
            <p:cNvPr id="259" name="Text Box 15"/>
            <p:cNvSpPr/>
            <p:nvPr/>
          </p:nvSpPr>
          <p:spPr>
            <a:xfrm>
              <a:off x="1293840" y="6066000"/>
              <a:ext cx="81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如果           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≠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）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16"/>
                <p:cNvSpPr txBox="1"/>
                <p:nvPr/>
              </p:nvSpPr>
              <p:spPr>
                <a:xfrm>
                  <a:off x="2301840" y="6137640"/>
                  <a:ext cx="8510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17"/>
                <p:cNvSpPr txBox="1"/>
                <p:nvPr/>
              </p:nvSpPr>
              <p:spPr>
                <a:xfrm>
                  <a:off x="5759640" y="6066000"/>
                  <a:ext cx="520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2" name="Object 18"/>
              <p:cNvSpPr txBox="1"/>
              <p:nvPr/>
            </p:nvSpPr>
            <p:spPr>
              <a:xfrm>
                <a:off x="6478560" y="6066000"/>
                <a:ext cx="203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19"/>
          <p:cNvSpPr/>
          <p:nvPr/>
        </p:nvSpPr>
        <p:spPr>
          <a:xfrm>
            <a:off x="3348000" y="1386000"/>
            <a:ext cx="289080" cy="36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0"/>
          <p:cNvSpPr/>
          <p:nvPr/>
        </p:nvSpPr>
        <p:spPr>
          <a:xfrm>
            <a:off x="684360" y="1386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1"/>
          <p:cNvGrpSpPr/>
          <p:nvPr/>
        </p:nvGrpSpPr>
        <p:grpSpPr>
          <a:xfrm>
            <a:off x="5327640" y="1096920"/>
            <a:ext cx="3313080" cy="722160"/>
            <a:chOff x="5327640" y="1096920"/>
            <a:chExt cx="3313080" cy="722160"/>
          </a:xfrm>
        </p:grpSpPr>
        <p:sp>
          <p:nvSpPr>
            <p:cNvPr id="266" name="Oval 22"/>
            <p:cNvSpPr/>
            <p:nvPr/>
          </p:nvSpPr>
          <p:spPr>
            <a:xfrm>
              <a:off x="5470560" y="1168200"/>
              <a:ext cx="3603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3"/>
            <p:cNvGrpSpPr/>
            <p:nvPr/>
          </p:nvGrpSpPr>
          <p:grpSpPr>
            <a:xfrm>
              <a:off x="5327640" y="1096920"/>
              <a:ext cx="3313080" cy="722160"/>
              <a:chOff x="5327640" y="1096920"/>
              <a:chExt cx="3313080" cy="722160"/>
            </a:xfrm>
          </p:grpSpPr>
          <p:sp>
            <p:nvSpPr>
              <p:cNvPr id="268" name="Rectangle 24"/>
              <p:cNvSpPr/>
              <p:nvPr/>
            </p:nvSpPr>
            <p:spPr>
              <a:xfrm>
                <a:off x="8352000" y="1457280"/>
                <a:ext cx="288720" cy="36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5"/>
              <p:cNvSpPr/>
              <p:nvPr/>
            </p:nvSpPr>
            <p:spPr>
              <a:xfrm>
                <a:off x="8207640" y="1096920"/>
                <a:ext cx="288720" cy="36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6"/>
              <p:cNvSpPr/>
              <p:nvPr/>
            </p:nvSpPr>
            <p:spPr>
              <a:xfrm>
                <a:off x="7991640" y="1457280"/>
                <a:ext cx="288720" cy="36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27"/>
              <p:cNvGrpSpPr/>
              <p:nvPr/>
            </p:nvGrpSpPr>
            <p:grpSpPr>
              <a:xfrm>
                <a:off x="5327640" y="1457280"/>
                <a:ext cx="719280" cy="360360"/>
                <a:chOff x="5327640" y="1457280"/>
                <a:chExt cx="719280" cy="360360"/>
              </a:xfrm>
            </p:grpSpPr>
            <p:sp>
              <p:nvSpPr>
                <p:cNvPr id="272" name="Oval 28"/>
                <p:cNvSpPr/>
                <p:nvPr/>
              </p:nvSpPr>
              <p:spPr>
                <a:xfrm>
                  <a:off x="5686560" y="1457280"/>
                  <a:ext cx="360360" cy="36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9"/>
                <p:cNvSpPr/>
                <p:nvPr/>
              </p:nvSpPr>
              <p:spPr>
                <a:xfrm>
                  <a:off x="5327640" y="1457280"/>
                  <a:ext cx="360360" cy="36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4" name="Line 30"/>
          <p:cNvSpPr/>
          <p:nvPr/>
        </p:nvSpPr>
        <p:spPr>
          <a:xfrm>
            <a:off x="3132000" y="2394000"/>
            <a:ext cx="22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3132000" y="2754360"/>
            <a:ext cx="2159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2"/>
          <p:cNvSpPr/>
          <p:nvPr/>
        </p:nvSpPr>
        <p:spPr>
          <a:xfrm>
            <a:off x="3492360" y="1889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3492360" y="2610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4"/>
          <p:cNvGrpSpPr/>
          <p:nvPr/>
        </p:nvGrpSpPr>
        <p:grpSpPr>
          <a:xfrm>
            <a:off x="5110200" y="1528920"/>
            <a:ext cx="3779280" cy="1368360"/>
            <a:chOff x="5110200" y="1528920"/>
            <a:chExt cx="3779280" cy="1368360"/>
          </a:xfrm>
        </p:grpSpPr>
        <p:sp>
          <p:nvSpPr>
            <p:cNvPr id="279" name="Line 35"/>
            <p:cNvSpPr/>
            <p:nvPr/>
          </p:nvSpPr>
          <p:spPr>
            <a:xfrm>
              <a:off x="5649840" y="1960920"/>
              <a:ext cx="2663640" cy="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36"/>
            <p:cNvSpPr/>
            <p:nvPr/>
          </p:nvSpPr>
          <p:spPr>
            <a:xfrm>
              <a:off x="6513480" y="1960920"/>
              <a:ext cx="863640" cy="936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37"/>
            <p:cNvSpPr/>
            <p:nvPr/>
          </p:nvSpPr>
          <p:spPr>
            <a:xfrm>
              <a:off x="6802200" y="1671840"/>
              <a:ext cx="287280" cy="2890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8"/>
            <p:cNvGrpSpPr/>
            <p:nvPr/>
          </p:nvGrpSpPr>
          <p:grpSpPr>
            <a:xfrm>
              <a:off x="7737480" y="1528920"/>
              <a:ext cx="1152000" cy="431640"/>
              <a:chOff x="7737480" y="1528920"/>
              <a:chExt cx="1152000" cy="431640"/>
            </a:xfrm>
          </p:grpSpPr>
          <p:sp>
            <p:nvSpPr>
              <p:cNvPr id="283" name="Line 39"/>
              <p:cNvSpPr/>
              <p:nvPr/>
            </p:nvSpPr>
            <p:spPr>
              <a:xfrm>
                <a:off x="7881840" y="181620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40"/>
              <p:cNvSpPr/>
              <p:nvPr/>
            </p:nvSpPr>
            <p:spPr>
              <a:xfrm>
                <a:off x="8313480" y="181620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41"/>
              <p:cNvSpPr/>
              <p:nvPr/>
            </p:nvSpPr>
            <p:spPr>
              <a:xfrm flipV="1">
                <a:off x="867384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2"/>
              <p:cNvSpPr/>
              <p:nvPr/>
            </p:nvSpPr>
            <p:spPr>
              <a:xfrm>
                <a:off x="773748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43"/>
            <p:cNvGrpSpPr/>
            <p:nvPr/>
          </p:nvGrpSpPr>
          <p:grpSpPr>
            <a:xfrm>
              <a:off x="5110200" y="1528920"/>
              <a:ext cx="1152000" cy="431640"/>
              <a:chOff x="5110200" y="1528920"/>
              <a:chExt cx="1152000" cy="431640"/>
            </a:xfrm>
          </p:grpSpPr>
          <p:sp>
            <p:nvSpPr>
              <p:cNvPr id="288" name="Line 44"/>
              <p:cNvSpPr/>
              <p:nvPr/>
            </p:nvSpPr>
            <p:spPr>
              <a:xfrm>
                <a:off x="5254560" y="181620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45"/>
              <p:cNvSpPr/>
              <p:nvPr/>
            </p:nvSpPr>
            <p:spPr>
              <a:xfrm>
                <a:off x="5686200" y="181620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46"/>
              <p:cNvSpPr/>
              <p:nvPr/>
            </p:nvSpPr>
            <p:spPr>
              <a:xfrm flipV="1">
                <a:off x="604656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47"/>
              <p:cNvSpPr/>
              <p:nvPr/>
            </p:nvSpPr>
            <p:spPr>
              <a:xfrm>
                <a:off x="511020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Line 48"/>
            <p:cNvSpPr/>
            <p:nvPr/>
          </p:nvSpPr>
          <p:spPr>
            <a:xfrm>
              <a:off x="6943680" y="174492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49"/>
          <p:cNvGrpSpPr/>
          <p:nvPr/>
        </p:nvGrpSpPr>
        <p:grpSpPr>
          <a:xfrm>
            <a:off x="250920" y="1457280"/>
            <a:ext cx="3778920" cy="1368360"/>
            <a:chOff x="250920" y="1457280"/>
            <a:chExt cx="3778920" cy="1368360"/>
          </a:xfrm>
        </p:grpSpPr>
        <p:grpSp>
          <p:nvGrpSpPr>
            <p:cNvPr id="294" name="Group 50"/>
            <p:cNvGrpSpPr/>
            <p:nvPr/>
          </p:nvGrpSpPr>
          <p:grpSpPr>
            <a:xfrm>
              <a:off x="250920" y="1457280"/>
              <a:ext cx="3778920" cy="1368360"/>
              <a:chOff x="250920" y="1457280"/>
              <a:chExt cx="3778920" cy="1368360"/>
            </a:xfrm>
          </p:grpSpPr>
          <p:sp>
            <p:nvSpPr>
              <p:cNvPr id="295" name="Line 51"/>
              <p:cNvSpPr/>
              <p:nvPr/>
            </p:nvSpPr>
            <p:spPr>
              <a:xfrm>
                <a:off x="790200" y="1888920"/>
                <a:ext cx="266364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52"/>
              <p:cNvSpPr/>
              <p:nvPr/>
            </p:nvSpPr>
            <p:spPr>
              <a:xfrm>
                <a:off x="1653840" y="1888920"/>
                <a:ext cx="863280" cy="9367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53"/>
              <p:cNvSpPr/>
              <p:nvPr/>
            </p:nvSpPr>
            <p:spPr>
              <a:xfrm>
                <a:off x="1942920" y="1600200"/>
                <a:ext cx="286920" cy="288720"/>
              </a:xfrm>
              <a:prstGeom prst="pi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54"/>
              <p:cNvGrpSpPr/>
              <p:nvPr/>
            </p:nvGrpSpPr>
            <p:grpSpPr>
              <a:xfrm>
                <a:off x="2877840" y="1457280"/>
                <a:ext cx="1152000" cy="431640"/>
                <a:chOff x="2877840" y="1457280"/>
                <a:chExt cx="1152000" cy="431640"/>
              </a:xfrm>
            </p:grpSpPr>
            <p:sp>
              <p:nvSpPr>
                <p:cNvPr id="299" name="Line 55"/>
                <p:cNvSpPr/>
                <p:nvPr/>
              </p:nvSpPr>
              <p:spPr>
                <a:xfrm>
                  <a:off x="3022200" y="1744560"/>
                  <a:ext cx="863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56"/>
                <p:cNvSpPr/>
                <p:nvPr/>
              </p:nvSpPr>
              <p:spPr>
                <a:xfrm>
                  <a:off x="3453840" y="174456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7"/>
                <p:cNvSpPr/>
                <p:nvPr/>
              </p:nvSpPr>
              <p:spPr>
                <a:xfrm flipV="1">
                  <a:off x="381420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58"/>
                <p:cNvSpPr/>
                <p:nvPr/>
              </p:nvSpPr>
              <p:spPr>
                <a:xfrm>
                  <a:off x="287784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250920" y="1457280"/>
                <a:ext cx="1151640" cy="431640"/>
                <a:chOff x="250920" y="1457280"/>
                <a:chExt cx="1151640" cy="431640"/>
              </a:xfrm>
            </p:grpSpPr>
            <p:sp>
              <p:nvSpPr>
                <p:cNvPr id="304" name="Line 60"/>
                <p:cNvSpPr/>
                <p:nvPr/>
              </p:nvSpPr>
              <p:spPr>
                <a:xfrm>
                  <a:off x="395280" y="1744560"/>
                  <a:ext cx="862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61"/>
                <p:cNvSpPr/>
                <p:nvPr/>
              </p:nvSpPr>
              <p:spPr>
                <a:xfrm>
                  <a:off x="826920" y="174456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62"/>
                <p:cNvSpPr/>
                <p:nvPr/>
              </p:nvSpPr>
              <p:spPr>
                <a:xfrm flipV="1">
                  <a:off x="118692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63"/>
                <p:cNvSpPr/>
                <p:nvPr/>
              </p:nvSpPr>
              <p:spPr>
                <a:xfrm>
                  <a:off x="25092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Line 64"/>
            <p:cNvSpPr/>
            <p:nvPr/>
          </p:nvSpPr>
          <p:spPr>
            <a:xfrm>
              <a:off x="2085840" y="1746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97164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用适当的数或式子填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结果仍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151080" y="134136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侧对比    注意符号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247440" y="5300640"/>
            <a:ext cx="9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1205280" y="3789360"/>
            <a:ext cx="10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17600" y="2133720"/>
            <a:ext cx="29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3x  =  -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2939400" y="206064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  - 0.5x =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867280" y="198900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)     2x  + 1 =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696600" y="2852640"/>
            <a:ext cx="21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433320" y="2924280"/>
            <a:ext cx="21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2814480" y="400536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93760" y="400536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6013440" y="4365720"/>
            <a:ext cx="23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6227640" y="2781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5551920" y="350028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 =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5695920" y="501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5:32:23Z</dcterms:created>
  <dc:creator/>
  <dc:description/>
  <dc:language>en-US</dc:language>
  <cp:lastModifiedBy>Administrator</cp:lastModifiedBy>
  <dcterms:modified xsi:type="dcterms:W3CDTF">2014-11-06T13:15:10Z</dcterms:modified>
  <cp:revision>50</cp:revision>
  <dc:subject/>
  <dc:title>幻灯片 1</dc:title>
</cp:coreProperties>
</file>