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.png" ContentType="image/png"/>
  <Override PartName="/ppt/media/image10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8.wmf" ContentType="image/x-wmf"/>
  <Override PartName="/ppt/media/image13.wmf" ContentType="image/x-wmf"/>
  <Override PartName="/ppt/media/image30.png" ContentType="image/png"/>
  <Override PartName="/ppt/media/image9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5.wmf" ContentType="image/x-wmf"/>
  <Override PartName="/ppt/media/image3.png" ContentType="image/png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50F6-51D0-4C66-AE2D-CE2C118D33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C8EA-CE15-49B6-B9B2-5172BC52AD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33A9-6721-4A88-9B18-20C683A071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77F-41E5-4410-BE0E-3019D07E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6D0-D7ED-473C-ABB1-35EF0434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3DE-D213-4002-B891-7643F35B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A2E-B652-4C0A-BD42-C93D889F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887-FF79-4D9B-94B4-D3A4A1A0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8C9-CC03-49C5-BACF-521AD897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986-B8C3-44EA-9F5B-32905D73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5D8-0EDF-44A7-A083-4F3E09FE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32F-DFE1-424C-92A7-B0E01554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708-6AB7-44A3-9AEF-DD25B646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D92-5CFD-4D01-9297-008FF3A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01F-E033-4158-B27C-6109C536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F5EA-3131-4F6F-B642-8D60AE7642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16000" y="692280"/>
          <a:ext cx="165564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1655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87520" y="2881800"/>
            <a:ext cx="781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3.4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实际问题与一元一次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157176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三章 一元一次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123640" y="4025160"/>
            <a:ext cx="50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 产品配套问题和工程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"/>
          <p:cNvSpPr/>
          <p:nvPr/>
        </p:nvSpPr>
        <p:spPr>
          <a:xfrm>
            <a:off x="655560" y="915840"/>
            <a:ext cx="816444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足球上黑皮有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块，则白皮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2-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五边形的边数共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条，六边形边数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2-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条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依题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得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×5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则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白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块，黑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块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121"/>
          <p:cNvSpPr/>
          <p:nvPr/>
        </p:nvSpPr>
        <p:spPr>
          <a:xfrm>
            <a:off x="0" y="6858000"/>
            <a:ext cx="4859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1265"/>
          <p:cNvSpPr/>
          <p:nvPr/>
        </p:nvSpPr>
        <p:spPr>
          <a:xfrm>
            <a:off x="638280" y="1434960"/>
            <a:ext cx="786744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套仪器由一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部件和三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部件构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钢材可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部件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部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现要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钢材制作这种仪器，应用多少钢材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部件，多少钢材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部件，才能恰好配成这种仪器？共配成多少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由题意知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部件的数量是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部件数量的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倍，可根据这一等量关系式得到方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31"/>
          <p:cNvSpPr/>
          <p:nvPr/>
        </p:nvSpPr>
        <p:spPr>
          <a:xfrm>
            <a:off x="739800" y="703440"/>
            <a:ext cx="1181160" cy="5000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1"/>
          <p:cNvSpPr/>
          <p:nvPr/>
        </p:nvSpPr>
        <p:spPr>
          <a:xfrm>
            <a:off x="520560" y="639720"/>
            <a:ext cx="8180640" cy="53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应用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立方米钢材做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部件，则应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立方米做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部件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，列方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(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    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共配成仪器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0=160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2298"/>
          <p:cNvSpPr/>
          <p:nvPr/>
        </p:nvSpPr>
        <p:spPr>
          <a:xfrm>
            <a:off x="1244520" y="5167440"/>
            <a:ext cx="73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应用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立方米钢材做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部件，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立方米钢材做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部件，共配成仪器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60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8"/>
          <p:cNvSpPr/>
          <p:nvPr/>
        </p:nvSpPr>
        <p:spPr>
          <a:xfrm>
            <a:off x="420840" y="3757680"/>
            <a:ext cx="82245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把总工作量设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人均效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成的工作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5"/>
          <p:cNvSpPr/>
          <p:nvPr/>
        </p:nvSpPr>
        <p:spPr>
          <a:xfrm>
            <a:off x="422280" y="4398840"/>
            <a:ext cx="8569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先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的工作量为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增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后再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的工作量为   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6"/>
          <p:cNvSpPr/>
          <p:nvPr/>
        </p:nvSpPr>
        <p:spPr>
          <a:xfrm>
            <a:off x="425520" y="5035680"/>
            <a:ext cx="839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工作量之和等于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399960" y="3106800"/>
            <a:ext cx="8280360" cy="3240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147"/>
          <p:cNvGrpSpPr/>
          <p:nvPr/>
        </p:nvGrpSpPr>
        <p:grpSpPr>
          <a:xfrm>
            <a:off x="325440" y="174600"/>
            <a:ext cx="2233080" cy="855360"/>
            <a:chOff x="325440" y="174600"/>
            <a:chExt cx="2233080" cy="855360"/>
          </a:xfrm>
        </p:grpSpPr>
        <p:sp>
          <p:nvSpPr>
            <p:cNvPr id="136" name="矩形 7"/>
            <p:cNvSpPr/>
            <p:nvPr/>
          </p:nvSpPr>
          <p:spPr>
            <a:xfrm>
              <a:off x="885600" y="174600"/>
              <a:ext cx="1672920" cy="762480"/>
            </a:xfrm>
            <a:custGeom>
              <a:avLst/>
              <a:gdLst>
                <a:gd name="textAreaLeft" fmla="*/ 0 w 1672920"/>
                <a:gd name="textAreaRight" fmla="*/ 1673280 w 167292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6"/>
            <p:cNvSpPr/>
            <p:nvPr/>
          </p:nvSpPr>
          <p:spPr>
            <a:xfrm>
              <a:off x="325440" y="462960"/>
              <a:ext cx="524520" cy="48276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687240" y="41220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6151"/>
            <p:cNvSpPr/>
            <p:nvPr/>
          </p:nvSpPr>
          <p:spPr>
            <a:xfrm>
              <a:off x="1208520" y="4485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工程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6152"/>
            <p:cNvSpPr/>
            <p:nvPr/>
          </p:nvSpPr>
          <p:spPr>
            <a:xfrm>
              <a:off x="325440" y="462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f81bd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14"/>
          <p:cNvSpPr/>
          <p:nvPr/>
        </p:nvSpPr>
        <p:spPr>
          <a:xfrm>
            <a:off x="425520" y="1316160"/>
            <a:ext cx="80960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整理一批图书，由一个人做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0 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现计划由一部分人先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 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然后增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与他们一起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 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完成这项工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假设这些人的工作效率相同，具体应先安排多少人工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441360" y="3057480"/>
            <a:ext cx="838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分析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工程问题中：工作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均效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间；工作总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各部分工作量之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对象 19459"/>
          <p:cNvGraphicFramePr/>
          <p:nvPr/>
        </p:nvGraphicFramePr>
        <p:xfrm>
          <a:off x="2846520" y="4346640"/>
          <a:ext cx="52056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对象 194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6520" y="4346640"/>
                    <a:ext cx="5205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对象 10"/>
          <p:cNvGraphicFramePr/>
          <p:nvPr/>
        </p:nvGraphicFramePr>
        <p:xfrm>
          <a:off x="7974000" y="4352760"/>
          <a:ext cx="520560" cy="9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对象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4352760"/>
                    <a:ext cx="52056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对象 12"/>
          <p:cNvGraphicFramePr/>
          <p:nvPr/>
        </p:nvGraphicFramePr>
        <p:xfrm>
          <a:off x="6110280" y="5003640"/>
          <a:ext cx="1214280" cy="91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对象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0280" y="5003640"/>
                    <a:ext cx="121428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文本框 14"/>
          <p:cNvSpPr/>
          <p:nvPr/>
        </p:nvSpPr>
        <p:spPr>
          <a:xfrm>
            <a:off x="3327480" y="585324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总工作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7"/>
          <p:cNvSpPr/>
          <p:nvPr/>
        </p:nvSpPr>
        <p:spPr>
          <a:xfrm>
            <a:off x="324000" y="2981160"/>
            <a:ext cx="8424720" cy="34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8"/>
          <p:cNvSpPr/>
          <p:nvPr/>
        </p:nvSpPr>
        <p:spPr>
          <a:xfrm>
            <a:off x="992160" y="3838680"/>
            <a:ext cx="70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如果设先安排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人做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 h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你能列出方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71480" y="919080"/>
          <a:ext cx="7467480" cy="241452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1143000"/>
                <a:gridCol w="1066680"/>
                <a:gridCol w="2209680"/>
              </a:tblGrid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人均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工作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前一部分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后一部分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3" name="Object 30"/>
              <p:cNvSpPr txBox="1"/>
              <p:nvPr/>
            </p:nvSpPr>
            <p:spPr>
              <a:xfrm>
                <a:off x="2697120" y="1492200"/>
                <a:ext cx="461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4" name="组合 12"/>
          <p:cNvGrpSpPr/>
          <p:nvPr/>
        </p:nvGrpSpPr>
        <p:grpSpPr>
          <a:xfrm>
            <a:off x="3298680" y="1522440"/>
            <a:ext cx="4032000" cy="797040"/>
            <a:chOff x="3298680" y="1522440"/>
            <a:chExt cx="4032000" cy="797040"/>
          </a:xfrm>
        </p:grpSpPr>
        <mc:AlternateContent>
          <mc:Choice xmlns:a14="http://schemas.microsoft.com/office/drawing/2010/main" Requires="a14">
            <p:sp>
              <p:nvSpPr>
                <p:cNvPr id="155" name="Object 5"/>
                <p:cNvSpPr txBox="1"/>
                <p:nvPr/>
              </p:nvSpPr>
              <p:spPr>
                <a:xfrm>
                  <a:off x="6867360" y="1522440"/>
                  <a:ext cx="46332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Text Box 38"/>
            <p:cNvSpPr/>
            <p:nvPr/>
          </p:nvSpPr>
          <p:spPr>
            <a:xfrm>
              <a:off x="3298680" y="1658880"/>
              <a:ext cx="533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9"/>
            <p:cNvSpPr/>
            <p:nvPr/>
          </p:nvSpPr>
          <p:spPr>
            <a:xfrm>
              <a:off x="4749120" y="1672920"/>
              <a:ext cx="533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1"/>
            <p:cNvSpPr/>
            <p:nvPr/>
          </p:nvSpPr>
          <p:spPr>
            <a:xfrm>
              <a:off x="5735520" y="1645560"/>
              <a:ext cx="609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16"/>
          <p:cNvGrpSpPr/>
          <p:nvPr/>
        </p:nvGrpSpPr>
        <p:grpSpPr>
          <a:xfrm>
            <a:off x="5803920" y="4457880"/>
            <a:ext cx="2590920" cy="863280"/>
            <a:chOff x="5803920" y="4457880"/>
            <a:chExt cx="2590920" cy="863280"/>
          </a:xfrm>
        </p:grpSpPr>
        <p:grpSp>
          <p:nvGrpSpPr>
            <p:cNvPr id="160" name="AutoShape 43"/>
            <p:cNvGrpSpPr/>
            <p:nvPr/>
          </p:nvGrpSpPr>
          <p:grpSpPr>
            <a:xfrm>
              <a:off x="5803920" y="4457880"/>
              <a:ext cx="2590920" cy="836280"/>
              <a:chOff x="5803920" y="4457880"/>
              <a:chExt cx="2590920" cy="836280"/>
            </a:xfrm>
          </p:grpSpPr>
          <p:pic>
            <p:nvPicPr>
              <p:cNvPr id="161" name="AutoShape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5803920" y="4457880"/>
                <a:ext cx="2590920" cy="83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5868360" y="4520880"/>
                <a:ext cx="246888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44"/>
            <p:cNvSpPr/>
            <p:nvPr/>
          </p:nvSpPr>
          <p:spPr>
            <a:xfrm>
              <a:off x="5981040" y="4495680"/>
              <a:ext cx="23241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工作量之和等于总工作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2695680" y="2479680"/>
                <a:ext cx="461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组合 15"/>
          <p:cNvGrpSpPr/>
          <p:nvPr/>
        </p:nvGrpSpPr>
        <p:grpSpPr>
          <a:xfrm>
            <a:off x="3297240" y="2457360"/>
            <a:ext cx="4360680" cy="824040"/>
            <a:chOff x="3297240" y="2457360"/>
            <a:chExt cx="4360680" cy="824040"/>
          </a:xfrm>
        </p:grpSpPr>
        <p:sp>
          <p:nvSpPr>
            <p:cNvPr id="166" name="Text Box 33"/>
            <p:cNvSpPr/>
            <p:nvPr/>
          </p:nvSpPr>
          <p:spPr>
            <a:xfrm>
              <a:off x="3297240" y="2661480"/>
              <a:ext cx="533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4"/>
            <p:cNvSpPr/>
            <p:nvPr/>
          </p:nvSpPr>
          <p:spPr>
            <a:xfrm>
              <a:off x="5745600" y="2668320"/>
              <a:ext cx="609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5"/>
            <p:cNvSpPr/>
            <p:nvPr/>
          </p:nvSpPr>
          <p:spPr>
            <a:xfrm>
              <a:off x="4744800" y="2685600"/>
              <a:ext cx="533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36"/>
                <p:cNvSpPr txBox="1"/>
                <p:nvPr/>
              </p:nvSpPr>
              <p:spPr>
                <a:xfrm>
                  <a:off x="6524640" y="2457360"/>
                  <a:ext cx="113328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0" name="矩形 10"/>
          <p:cNvSpPr/>
          <p:nvPr/>
        </p:nvSpPr>
        <p:spPr>
          <a:xfrm>
            <a:off x="4211640" y="177336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5343480" y="175572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3979800" y="2689200"/>
            <a:ext cx="8208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5327640" y="2673360"/>
            <a:ext cx="3589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上箭头 17"/>
          <p:cNvSpPr/>
          <p:nvPr/>
        </p:nvSpPr>
        <p:spPr>
          <a:xfrm>
            <a:off x="7093080" y="3429000"/>
            <a:ext cx="74520" cy="1008000"/>
          </a:xfrm>
          <a:prstGeom prst="upArrow">
            <a:avLst>
              <a:gd name="adj1" fmla="val 50000"/>
              <a:gd name="adj2" fmla="val 5016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4"/>
          <p:cNvSpPr/>
          <p:nvPr/>
        </p:nvSpPr>
        <p:spPr>
          <a:xfrm>
            <a:off x="345960" y="908640"/>
            <a:ext cx="853452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先安排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人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 h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根据题意得等量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可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方程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        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应先安排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人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2"/>
          <p:cNvGrpSpPr/>
          <p:nvPr/>
        </p:nvGrpSpPr>
        <p:grpSpPr>
          <a:xfrm>
            <a:off x="233280" y="1463760"/>
            <a:ext cx="8431200" cy="733680"/>
            <a:chOff x="233280" y="1463760"/>
            <a:chExt cx="8431200" cy="733680"/>
          </a:xfrm>
        </p:grpSpPr>
        <p:sp>
          <p:nvSpPr>
            <p:cNvPr id="177" name="AutoShape 34"/>
            <p:cNvSpPr/>
            <p:nvPr/>
          </p:nvSpPr>
          <p:spPr>
            <a:xfrm>
              <a:off x="831960" y="1641600"/>
              <a:ext cx="7269480" cy="49968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5"/>
            <p:cNvSpPr/>
            <p:nvPr/>
          </p:nvSpPr>
          <p:spPr>
            <a:xfrm>
              <a:off x="233280" y="1463760"/>
              <a:ext cx="843120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前部分工作总量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后部分工作总量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=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总工作量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9" name="对象 19459"/>
          <p:cNvGraphicFramePr/>
          <p:nvPr/>
        </p:nvGraphicFramePr>
        <p:xfrm>
          <a:off x="3002040" y="2252520"/>
          <a:ext cx="2485800" cy="9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对象 194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2040" y="2252520"/>
                    <a:ext cx="248580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2"/>
          <p:cNvSpPr/>
          <p:nvPr/>
        </p:nvSpPr>
        <p:spPr>
          <a:xfrm>
            <a:off x="740880" y="504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变式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455760" y="1025640"/>
            <a:ext cx="76579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加工某种工件，甲单独作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完成，乙只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就能完成任务，现在要求二人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内完成任务．问乙需工作几天后甲再继续加工才可正好按期完成任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44640" y="3651120"/>
          <a:ext cx="7047000" cy="2694240"/>
        </p:xfrm>
        <a:graphic>
          <a:graphicData uri="http://schemas.openxmlformats.org/drawingml/2006/table">
            <a:tbl>
              <a:tblPr/>
              <a:tblGrid>
                <a:gridCol w="1528560"/>
                <a:gridCol w="1866960"/>
                <a:gridCol w="1189080"/>
                <a:gridCol w="2462400"/>
              </a:tblGrid>
              <a:tr h="62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工作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对象 19459"/>
          <p:cNvGraphicFramePr/>
          <p:nvPr/>
        </p:nvGraphicFramePr>
        <p:xfrm>
          <a:off x="3098880" y="4375080"/>
          <a:ext cx="44136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对象 194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8880" y="4375080"/>
                    <a:ext cx="441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对象 3"/>
          <p:cNvGraphicFramePr/>
          <p:nvPr/>
        </p:nvGraphicFramePr>
        <p:xfrm>
          <a:off x="3124080" y="5443560"/>
          <a:ext cx="39240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对象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5443560"/>
                    <a:ext cx="392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文本框 5"/>
          <p:cNvSpPr/>
          <p:nvPr/>
        </p:nvSpPr>
        <p:spPr>
          <a:xfrm>
            <a:off x="4762800" y="5572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"/>
          <p:cNvSpPr/>
          <p:nvPr/>
        </p:nvSpPr>
        <p:spPr>
          <a:xfrm>
            <a:off x="4609080" y="45036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对象 7"/>
          <p:cNvGraphicFramePr/>
          <p:nvPr/>
        </p:nvGraphicFramePr>
        <p:xfrm>
          <a:off x="5983200" y="4375080"/>
          <a:ext cx="134964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对象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83200" y="4375080"/>
                    <a:ext cx="13496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对象 9"/>
          <p:cNvGraphicFramePr/>
          <p:nvPr/>
        </p:nvGraphicFramePr>
        <p:xfrm>
          <a:off x="6470640" y="5443560"/>
          <a:ext cx="588960" cy="7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对象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0640" y="5443560"/>
                    <a:ext cx="5889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3"/>
          <p:cNvSpPr/>
          <p:nvPr/>
        </p:nvSpPr>
        <p:spPr>
          <a:xfrm>
            <a:off x="698400" y="766800"/>
            <a:ext cx="677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乙需工作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后甲再继续加工才可正好按期完成任务，则甲做了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-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天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"/>
          <p:cNvSpPr/>
          <p:nvPr/>
        </p:nvSpPr>
        <p:spPr>
          <a:xfrm>
            <a:off x="1369080" y="2104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依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对象 7"/>
          <p:cNvGraphicFramePr/>
          <p:nvPr/>
        </p:nvGraphicFramePr>
        <p:xfrm>
          <a:off x="2508120" y="2771640"/>
          <a:ext cx="282276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对象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2771640"/>
                    <a:ext cx="282276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文本框 2"/>
          <p:cNvSpPr/>
          <p:nvPr/>
        </p:nvSpPr>
        <p:spPr>
          <a:xfrm>
            <a:off x="1089000" y="3768840"/>
            <a:ext cx="24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"/>
          <p:cNvSpPr/>
          <p:nvPr/>
        </p:nvSpPr>
        <p:spPr>
          <a:xfrm>
            <a:off x="719280" y="4460760"/>
            <a:ext cx="677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乙需工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后甲再继续加工才可正好按期完成任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6"/>
          <p:cNvSpPr/>
          <p:nvPr/>
        </p:nvSpPr>
        <p:spPr>
          <a:xfrm>
            <a:off x="363600" y="1104840"/>
            <a:ext cx="83995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想一想：若要求二人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内完成任务，乙先加工几天后，甲加入合作加工，恰好能如期完成任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44640" y="2575080"/>
          <a:ext cx="7047000" cy="2693880"/>
        </p:xfrm>
        <a:graphic>
          <a:graphicData uri="http://schemas.openxmlformats.org/drawingml/2006/table">
            <a:tbl>
              <a:tblPr/>
              <a:tblGrid>
                <a:gridCol w="1528560"/>
                <a:gridCol w="1866960"/>
                <a:gridCol w="1189080"/>
                <a:gridCol w="2462400"/>
              </a:tblGrid>
              <a:tr h="62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工作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对象 19459"/>
          <p:cNvGraphicFramePr/>
          <p:nvPr/>
        </p:nvGraphicFramePr>
        <p:xfrm>
          <a:off x="3098880" y="3370320"/>
          <a:ext cx="44136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对象 194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8880" y="3370320"/>
                    <a:ext cx="441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对象 3"/>
          <p:cNvGraphicFramePr/>
          <p:nvPr/>
        </p:nvGraphicFramePr>
        <p:xfrm>
          <a:off x="3124080" y="4438800"/>
          <a:ext cx="39240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对象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438800"/>
                    <a:ext cx="392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对象 1"/>
          <p:cNvGraphicFramePr/>
          <p:nvPr/>
        </p:nvGraphicFramePr>
        <p:xfrm>
          <a:off x="6297480" y="3402000"/>
          <a:ext cx="61128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对象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97480" y="3402000"/>
                    <a:ext cx="6112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对象 5"/>
          <p:cNvGraphicFramePr/>
          <p:nvPr/>
        </p:nvGraphicFramePr>
        <p:xfrm>
          <a:off x="6480000" y="4438800"/>
          <a:ext cx="392400" cy="7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对象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80000" y="4438800"/>
                    <a:ext cx="392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文本框 8"/>
          <p:cNvSpPr/>
          <p:nvPr/>
        </p:nvSpPr>
        <p:spPr>
          <a:xfrm>
            <a:off x="4691880" y="443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9"/>
          <p:cNvSpPr/>
          <p:nvPr/>
        </p:nvSpPr>
        <p:spPr>
          <a:xfrm>
            <a:off x="4712040" y="35305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3"/>
          <p:cNvSpPr/>
          <p:nvPr/>
        </p:nvSpPr>
        <p:spPr>
          <a:xfrm>
            <a:off x="698400" y="766800"/>
            <a:ext cx="677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甲加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，两人如期完成任务，则在甲加入之前，乙先工作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8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"/>
          <p:cNvSpPr/>
          <p:nvPr/>
        </p:nvSpPr>
        <p:spPr>
          <a:xfrm>
            <a:off x="1369080" y="2104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依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对象 7"/>
          <p:cNvGraphicFramePr/>
          <p:nvPr/>
        </p:nvGraphicFramePr>
        <p:xfrm>
          <a:off x="3005280" y="2771640"/>
          <a:ext cx="182700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对象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5280" y="2771640"/>
                    <a:ext cx="18270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文本框 2"/>
          <p:cNvSpPr/>
          <p:nvPr/>
        </p:nvSpPr>
        <p:spPr>
          <a:xfrm>
            <a:off x="1089000" y="3768840"/>
            <a:ext cx="62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"/>
          <p:cNvSpPr/>
          <p:nvPr/>
        </p:nvSpPr>
        <p:spPr>
          <a:xfrm>
            <a:off x="719280" y="4460760"/>
            <a:ext cx="677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乙需加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甲加入合作加工才可正好按期完成任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56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57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>
                  <a:gd name="textAreaLeft" fmla="*/ 0 w 88920"/>
                  <a:gd name="textAreaRight" fmla="*/ 8892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1"/>
          <p:cNvSpPr/>
          <p:nvPr/>
        </p:nvSpPr>
        <p:spPr>
          <a:xfrm>
            <a:off x="787320" y="1917720"/>
            <a:ext cx="7672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配套问题、工程问题的背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清有关数量关系，能正确找出作为列方程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据的主要等量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难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掌握用一元一次方程解决实际问题的基本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重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60360" y="1303200"/>
            <a:ext cx="865188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工程问题的基本思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个基本量：工作量、工作效率、工作时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它们之间的关系是：工作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工作效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工作时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等关系：工作总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各部分工作量之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工作时间，工作总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各时间段的工作量之和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工作者，工作总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各工作者的工作量之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通常在没有具体数值的情况下，把工作总量看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31"/>
          <p:cNvSpPr/>
          <p:nvPr/>
        </p:nvSpPr>
        <p:spPr>
          <a:xfrm>
            <a:off x="360360" y="839880"/>
            <a:ext cx="1604880" cy="4633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点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15361"/>
          <p:cNvSpPr/>
          <p:nvPr/>
        </p:nvSpPr>
        <p:spPr>
          <a:xfrm>
            <a:off x="573120" y="1390680"/>
            <a:ext cx="8155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条地下管线由甲工程队单独铺设需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，由乙工程队单独铺设需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由这两个工程队从两端同时施工，要多少天可以铺好这条管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31"/>
          <p:cNvSpPr/>
          <p:nvPr/>
        </p:nvSpPr>
        <p:spPr>
          <a:xfrm>
            <a:off x="480960" y="797040"/>
            <a:ext cx="1297080" cy="4730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8"/>
          <p:cNvGrpSpPr/>
          <p:nvPr/>
        </p:nvGrpSpPr>
        <p:grpSpPr>
          <a:xfrm>
            <a:off x="638280" y="3533760"/>
            <a:ext cx="7694640" cy="2013120"/>
            <a:chOff x="638280" y="3533760"/>
            <a:chExt cx="7694640" cy="2013120"/>
          </a:xfrm>
        </p:grpSpPr>
        <p:grpSp>
          <p:nvGrpSpPr>
            <p:cNvPr id="223" name="组合 7"/>
            <p:cNvGrpSpPr/>
            <p:nvPr/>
          </p:nvGrpSpPr>
          <p:grpSpPr>
            <a:xfrm>
              <a:off x="638280" y="3533760"/>
              <a:ext cx="7694640" cy="2013120"/>
              <a:chOff x="638280" y="3533760"/>
              <a:chExt cx="7694640" cy="2013120"/>
            </a:xfrm>
          </p:grpSpPr>
          <p:sp>
            <p:nvSpPr>
              <p:cNvPr id="224" name="文本框 3"/>
              <p:cNvSpPr/>
              <p:nvPr/>
            </p:nvSpPr>
            <p:spPr>
              <a:xfrm>
                <a:off x="638280" y="3533760"/>
                <a:ext cx="7694640" cy="20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分析：把工作量看作单位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“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1”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，则甲的工作效率为      ，乙的工作效率为      ，根据工作效率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×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作时间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=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工作量，列方程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.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矩形 6"/>
              <p:cNvSpPr/>
              <p:nvPr/>
            </p:nvSpPr>
            <p:spPr>
              <a:xfrm>
                <a:off x="676080" y="3735360"/>
                <a:ext cx="7560720" cy="1728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26" name="对象 19459"/>
            <p:cNvGraphicFramePr/>
            <p:nvPr/>
          </p:nvGraphicFramePr>
          <p:xfrm>
            <a:off x="1132200" y="4116960"/>
            <a:ext cx="462600" cy="91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对象 1945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2200" y="4116960"/>
                      <a:ext cx="46260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对象 4"/>
            <p:cNvGraphicFramePr/>
            <p:nvPr/>
          </p:nvGraphicFramePr>
          <p:xfrm>
            <a:off x="4474080" y="4138560"/>
            <a:ext cx="520920" cy="9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9" name="对象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74080" y="4138560"/>
                      <a:ext cx="52092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5379"/>
          <p:cNvSpPr/>
          <p:nvPr/>
        </p:nvSpPr>
        <p:spPr>
          <a:xfrm>
            <a:off x="1322280" y="345600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方程，得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5381"/>
          <p:cNvSpPr/>
          <p:nvPr/>
        </p:nvSpPr>
        <p:spPr>
          <a:xfrm>
            <a:off x="2285280" y="429264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可以铺好这条管线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"/>
          <p:cNvSpPr/>
          <p:nvPr/>
        </p:nvSpPr>
        <p:spPr>
          <a:xfrm>
            <a:off x="2059560" y="16398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要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可以铺好这条管线，由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对象 4"/>
          <p:cNvGraphicFramePr/>
          <p:nvPr/>
        </p:nvGraphicFramePr>
        <p:xfrm>
          <a:off x="2836800" y="2289240"/>
          <a:ext cx="217188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6800" y="2289240"/>
                    <a:ext cx="217188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4"/>
          <p:cNvSpPr/>
          <p:nvPr/>
        </p:nvSpPr>
        <p:spPr>
          <a:xfrm>
            <a:off x="542880" y="825480"/>
            <a:ext cx="82296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一天能加工甲种零件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或加工乙种零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甲种零件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乙种零件配成一套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制 作最多的成套产品，若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制作甲种零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可列方程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"/>
          <p:cNvSpPr/>
          <p:nvPr/>
        </p:nvSpPr>
        <p:spPr>
          <a:xfrm>
            <a:off x="3068640" y="260352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20(3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"/>
          <p:cNvSpPr/>
          <p:nvPr/>
        </p:nvSpPr>
        <p:spPr>
          <a:xfrm>
            <a:off x="595440" y="3367080"/>
            <a:ext cx="812952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项工作，甲独做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，乙独做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，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人合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后，余下的工作再由甲独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完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所列方程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对象 19459"/>
          <p:cNvGraphicFramePr/>
          <p:nvPr/>
        </p:nvGraphicFramePr>
        <p:xfrm>
          <a:off x="3668760" y="4862520"/>
          <a:ext cx="22557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对象 194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760" y="4862520"/>
                    <a:ext cx="22557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"/>
          <p:cNvSpPr/>
          <p:nvPr/>
        </p:nvSpPr>
        <p:spPr>
          <a:xfrm>
            <a:off x="550800" y="382680"/>
            <a:ext cx="823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家具厂生产一种方桌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的木材可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桌面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条桌腿，现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的木材，怎样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配生产桌面和桌腿使用的木材，才能使桌面、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腿刚好配套，共可生产多少张方桌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张方桌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桌面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条桌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"/>
          <p:cNvSpPr/>
          <p:nvPr/>
        </p:nvSpPr>
        <p:spPr>
          <a:xfrm>
            <a:off x="538200" y="2604960"/>
            <a:ext cx="81756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用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立方米的木材做桌面，则用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方米的木材做桌腿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，得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×5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300(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可做方桌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0×6=300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立方米的木材做桌面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立方米的木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做桌腿，可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张方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311040" y="963720"/>
            <a:ext cx="8371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件工作，甲单独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完成，乙单独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，现在先由甲单独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，剩下的部分由甲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合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剩下的部分需要几小时完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"/>
          <p:cNvSpPr/>
          <p:nvPr/>
        </p:nvSpPr>
        <p:spPr>
          <a:xfrm>
            <a:off x="581040" y="2955960"/>
            <a:ext cx="8372520" cy="29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剩下的部分需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完成，根据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剩下的部分需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完成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对象 19459"/>
          <p:cNvGraphicFramePr/>
          <p:nvPr/>
        </p:nvGraphicFramePr>
        <p:xfrm>
          <a:off x="3135240" y="3598920"/>
          <a:ext cx="248616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对象 194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3598920"/>
                    <a:ext cx="24861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99"/>
          <p:cNvSpPr/>
          <p:nvPr/>
        </p:nvSpPr>
        <p:spPr>
          <a:xfrm>
            <a:off x="442800" y="716040"/>
            <a:ext cx="823464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道路工程，甲队单独施工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完成，乙队单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做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完成．现在甲乙两队共同施工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，因甲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任务，剩下的工程由乙队完成，问乙队还需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天才能完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"/>
          <p:cNvSpPr/>
          <p:nvPr/>
        </p:nvSpPr>
        <p:spPr>
          <a:xfrm>
            <a:off x="557280" y="3108240"/>
            <a:ext cx="7224480" cy="33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乙队还需</a:t>
            </a:r>
            <a:r>
              <a:rPr b="0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才能完成，由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</a:t>
            </a:r>
            <a:r>
              <a:rPr b="0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乙队还需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3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才能完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对象 19459"/>
          <p:cNvGraphicFramePr/>
          <p:nvPr/>
        </p:nvGraphicFramePr>
        <p:xfrm>
          <a:off x="2859120" y="3780000"/>
          <a:ext cx="274968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对象 194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9120" y="3780000"/>
                    <a:ext cx="274968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6385"/>
          <p:cNvSpPr/>
          <p:nvPr/>
        </p:nvSpPr>
        <p:spPr>
          <a:xfrm>
            <a:off x="3779640" y="9730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一元一次方程解决实际问题的基本过程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文本框 16386"/>
          <p:cNvGrpSpPr/>
          <p:nvPr/>
        </p:nvGrpSpPr>
        <p:grpSpPr>
          <a:xfrm>
            <a:off x="804960" y="2077920"/>
            <a:ext cx="1646280" cy="568440"/>
            <a:chOff x="804960" y="2077920"/>
            <a:chExt cx="1646280" cy="568440"/>
          </a:xfrm>
        </p:grpSpPr>
        <p:pic>
          <p:nvPicPr>
            <p:cNvPr id="254" name="文本框 16386" descr=""/>
            <p:cNvPicPr/>
            <p:nvPr/>
          </p:nvPicPr>
          <p:blipFill>
            <a:blip r:embed="rId1"/>
            <a:stretch/>
          </p:blipFill>
          <p:spPr>
            <a:xfrm>
              <a:off x="804960" y="2077920"/>
              <a:ext cx="164628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112400" y="21049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文本框 16387"/>
          <p:cNvSpPr/>
          <p:nvPr/>
        </p:nvSpPr>
        <p:spPr>
          <a:xfrm>
            <a:off x="3068640" y="18604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未知数，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文本框 16388"/>
          <p:cNvGrpSpPr/>
          <p:nvPr/>
        </p:nvGrpSpPr>
        <p:grpSpPr>
          <a:xfrm>
            <a:off x="5589720" y="2066760"/>
            <a:ext cx="2365200" cy="567000"/>
            <a:chOff x="5589720" y="2066760"/>
            <a:chExt cx="2365200" cy="567000"/>
          </a:xfrm>
        </p:grpSpPr>
        <p:pic>
          <p:nvPicPr>
            <p:cNvPr id="258" name="文本框 16388" descr=""/>
            <p:cNvPicPr/>
            <p:nvPr/>
          </p:nvPicPr>
          <p:blipFill>
            <a:blip r:embed="rId2"/>
            <a:stretch/>
          </p:blipFill>
          <p:spPr>
            <a:xfrm>
              <a:off x="5589720" y="2066760"/>
              <a:ext cx="23652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329880" y="209232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元一次方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16389"/>
          <p:cNvSpPr/>
          <p:nvPr/>
        </p:nvSpPr>
        <p:spPr>
          <a:xfrm>
            <a:off x="1571760" y="29275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6390"/>
          <p:cNvSpPr/>
          <p:nvPr/>
        </p:nvSpPr>
        <p:spPr>
          <a:xfrm>
            <a:off x="1647720" y="30034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文本框 16392"/>
          <p:cNvGrpSpPr/>
          <p:nvPr/>
        </p:nvGrpSpPr>
        <p:grpSpPr>
          <a:xfrm>
            <a:off x="285840" y="4286160"/>
            <a:ext cx="2712960" cy="567000"/>
            <a:chOff x="285840" y="4286160"/>
            <a:chExt cx="2712960" cy="567000"/>
          </a:xfrm>
        </p:grpSpPr>
        <p:pic>
          <p:nvPicPr>
            <p:cNvPr id="263" name="文本框 16392" descr=""/>
            <p:cNvPicPr/>
            <p:nvPr/>
          </p:nvPicPr>
          <p:blipFill>
            <a:blip r:embed="rId3"/>
            <a:stretch/>
          </p:blipFill>
          <p:spPr>
            <a:xfrm>
              <a:off x="285840" y="4286160"/>
              <a:ext cx="27129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808200" y="43117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实际问题的答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16394"/>
          <p:cNvSpPr/>
          <p:nvPr/>
        </p:nvSpPr>
        <p:spPr>
          <a:xfrm>
            <a:off x="5798880" y="2833560"/>
            <a:ext cx="10335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文本框 16395"/>
          <p:cNvGrpSpPr/>
          <p:nvPr/>
        </p:nvGrpSpPr>
        <p:grpSpPr>
          <a:xfrm>
            <a:off x="5364000" y="4102200"/>
            <a:ext cx="3073680" cy="993600"/>
            <a:chOff x="5364000" y="4102200"/>
            <a:chExt cx="3073680" cy="993600"/>
          </a:xfrm>
        </p:grpSpPr>
        <p:pic>
          <p:nvPicPr>
            <p:cNvPr id="267" name="文本框 16395" descr=""/>
            <p:cNvPicPr/>
            <p:nvPr/>
          </p:nvPicPr>
          <p:blipFill>
            <a:blip r:embed="rId4"/>
            <a:stretch/>
          </p:blipFill>
          <p:spPr>
            <a:xfrm>
              <a:off x="5364000" y="4102200"/>
              <a:ext cx="307368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875560" y="4127400"/>
              <a:ext cx="20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元一次方程的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</a:t>
              </a: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</a:t>
              </a:r>
              <a:r>
                <a:rPr b="0" i="1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=a</a:t>
              </a:r>
              <a:r>
                <a:rPr b="0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文本框 16397"/>
          <p:cNvSpPr/>
          <p:nvPr/>
        </p:nvSpPr>
        <p:spPr>
          <a:xfrm>
            <a:off x="3809520" y="454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右箭头 2"/>
          <p:cNvSpPr/>
          <p:nvPr/>
        </p:nvSpPr>
        <p:spPr>
          <a:xfrm>
            <a:off x="2484360" y="2298600"/>
            <a:ext cx="3095640" cy="76320"/>
          </a:xfrm>
          <a:prstGeom prst="rightArrow">
            <a:avLst>
              <a:gd name="adj1" fmla="val 50000"/>
              <a:gd name="adj2" fmla="val 4807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下箭头 3"/>
          <p:cNvSpPr/>
          <p:nvPr/>
        </p:nvSpPr>
        <p:spPr>
          <a:xfrm>
            <a:off x="6732720" y="2654280"/>
            <a:ext cx="75960" cy="1440000"/>
          </a:xfrm>
          <a:prstGeom prst="downArrow">
            <a:avLst>
              <a:gd name="adj1" fmla="val 50000"/>
              <a:gd name="adj2" fmla="val 4906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左箭头 4"/>
          <p:cNvSpPr/>
          <p:nvPr/>
        </p:nvSpPr>
        <p:spPr>
          <a:xfrm>
            <a:off x="3035160" y="4540320"/>
            <a:ext cx="2305080" cy="74520"/>
          </a:xfrm>
          <a:prstGeom prst="leftArrow">
            <a:avLst>
              <a:gd name="adj1" fmla="val 50000"/>
              <a:gd name="adj2" fmla="val 496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直接箭头连接符 10"/>
          <p:cNvCxnSpPr/>
          <p:nvPr/>
        </p:nvCxnSpPr>
        <p:spPr>
          <a:xfrm flipH="1">
            <a:off x="1626480" y="2652840"/>
            <a:ext cx="3960" cy="16437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"/>
          <p:cNvSpPr/>
          <p:nvPr/>
        </p:nvSpPr>
        <p:spPr>
          <a:xfrm>
            <a:off x="552600" y="1427040"/>
            <a:ext cx="801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面我们学习了一元一次方程的解法，本节课，我们将讨论一元一次方程的应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中，有很多需要进行配套的问题，如课桌和凳子、螺钉和螺母、电扇叶片和电机等，大家能举出生活中配套问题的例子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930240" y="4282920"/>
            <a:ext cx="2046240" cy="2114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"/>
          <p:cNvPicPr/>
          <p:nvPr/>
        </p:nvPicPr>
        <p:blipFill>
          <a:blip r:embed="rId2"/>
          <a:stretch/>
        </p:blipFill>
        <p:spPr>
          <a:xfrm>
            <a:off x="2962440" y="4260960"/>
            <a:ext cx="278748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"/>
          <p:cNvPicPr/>
          <p:nvPr/>
        </p:nvPicPr>
        <p:blipFill>
          <a:blip r:embed="rId3"/>
          <a:stretch/>
        </p:blipFill>
        <p:spPr>
          <a:xfrm>
            <a:off x="5692680" y="4152960"/>
            <a:ext cx="3019680" cy="2171520"/>
          </a:xfrm>
          <a:prstGeom prst="rect">
            <a:avLst/>
          </a:prstGeom>
          <a:ln w="0">
            <a:noFill/>
          </a:ln>
        </p:spPr>
      </p:pic>
      <p:sp>
        <p:nvSpPr>
          <p:cNvPr id="66" name="圆角矩形 31"/>
          <p:cNvSpPr/>
          <p:nvPr/>
        </p:nvSpPr>
        <p:spPr>
          <a:xfrm>
            <a:off x="552600" y="819000"/>
            <a:ext cx="1501560" cy="501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8028000" y="602136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6147"/>
          <p:cNvGrpSpPr/>
          <p:nvPr/>
        </p:nvGrpSpPr>
        <p:grpSpPr>
          <a:xfrm>
            <a:off x="325440" y="246240"/>
            <a:ext cx="2688840" cy="869040"/>
            <a:chOff x="325440" y="246240"/>
            <a:chExt cx="2688840" cy="869040"/>
          </a:xfrm>
        </p:grpSpPr>
        <p:sp>
          <p:nvSpPr>
            <p:cNvPr id="70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>
                <a:gd name="textAreaLeft" fmla="*/ 0 w 1672560"/>
                <a:gd name="textAreaRight" fmla="*/ 1672920 w 167256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6151"/>
            <p:cNvSpPr/>
            <p:nvPr/>
          </p:nvSpPr>
          <p:spPr>
            <a:xfrm>
              <a:off x="1370520" y="5202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产品配套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6152"/>
            <p:cNvSpPr/>
            <p:nvPr/>
          </p:nvSpPr>
          <p:spPr>
            <a:xfrm>
              <a:off x="325440" y="533880"/>
              <a:ext cx="55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f81bd"/>
                  </a:solidFill>
                  <a:latin typeface="Arial"/>
                  <a:ea typeface="微软雅黑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4"/>
          <p:cNvSpPr/>
          <p:nvPr/>
        </p:nvSpPr>
        <p:spPr>
          <a:xfrm>
            <a:off x="612720" y="2155320"/>
            <a:ext cx="78487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车间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名工人，每人每天可以生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螺钉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螺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螺钉需要配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螺母，为使每天生产的螺钉和螺母刚好配套，应安排生产螺钉和螺母的工人各多少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492120" y="4029120"/>
            <a:ext cx="70531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想一想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本题需要我们解决的问题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目中哪些信息能解决人员安排的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螺母和螺钉的数量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6"/>
          <p:cNvGrpSpPr/>
          <p:nvPr/>
        </p:nvGrpSpPr>
        <p:grpSpPr>
          <a:xfrm>
            <a:off x="6099840" y="4572360"/>
            <a:ext cx="3051000" cy="2259360"/>
            <a:chOff x="6099840" y="4572360"/>
            <a:chExt cx="3051000" cy="2259360"/>
          </a:xfrm>
        </p:grpSpPr>
        <p:sp>
          <p:nvSpPr>
            <p:cNvPr id="78" name="云形标注 2"/>
            <p:cNvSpPr/>
            <p:nvPr/>
          </p:nvSpPr>
          <p:spPr>
            <a:xfrm flipV="1" rot="20580000">
              <a:off x="6263640" y="4936680"/>
              <a:ext cx="2722680" cy="153036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5"/>
            <p:cNvSpPr/>
            <p:nvPr/>
          </p:nvSpPr>
          <p:spPr>
            <a:xfrm>
              <a:off x="6264720" y="5167080"/>
              <a:ext cx="2545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如果设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名工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人生产螺母，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样列方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圆角矩形 31"/>
          <p:cNvSpPr/>
          <p:nvPr/>
        </p:nvSpPr>
        <p:spPr>
          <a:xfrm>
            <a:off x="492120" y="1320840"/>
            <a:ext cx="1566720" cy="4874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4"/>
          <p:cNvSpPr/>
          <p:nvPr/>
        </p:nvSpPr>
        <p:spPr>
          <a:xfrm>
            <a:off x="762120" y="86292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列表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11080" y="1898640"/>
          <a:ext cx="7269120" cy="1562040"/>
        </p:xfrm>
        <a:graphic>
          <a:graphicData uri="http://schemas.openxmlformats.org/drawingml/2006/table">
            <a:tbl>
              <a:tblPr/>
              <a:tblGrid>
                <a:gridCol w="1673280"/>
                <a:gridCol w="1660680"/>
                <a:gridCol w="1682640"/>
                <a:gridCol w="22525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产品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生产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单人产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产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螺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螺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3" name="组合 2"/>
          <p:cNvGrpSpPr/>
          <p:nvPr/>
        </p:nvGrpSpPr>
        <p:grpSpPr>
          <a:xfrm>
            <a:off x="3789360" y="2421000"/>
            <a:ext cx="3995640" cy="568440"/>
            <a:chOff x="3789360" y="2421000"/>
            <a:chExt cx="3995640" cy="568440"/>
          </a:xfrm>
        </p:grpSpPr>
        <p:grpSp>
          <p:nvGrpSpPr>
            <p:cNvPr id="84" name="组合 5"/>
            <p:cNvGrpSpPr/>
            <p:nvPr/>
          </p:nvGrpSpPr>
          <p:grpSpPr>
            <a:xfrm>
              <a:off x="3789360" y="2430360"/>
              <a:ext cx="2269440" cy="559080"/>
              <a:chOff x="3789360" y="2430360"/>
              <a:chExt cx="2269440" cy="559080"/>
            </a:xfrm>
          </p:grpSpPr>
          <p:sp>
            <p:nvSpPr>
              <p:cNvPr id="85" name="Text Box 28"/>
              <p:cNvSpPr/>
              <p:nvPr/>
            </p:nvSpPr>
            <p:spPr>
              <a:xfrm>
                <a:off x="3789360" y="24688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29"/>
              <p:cNvSpPr/>
              <p:nvPr/>
            </p:nvSpPr>
            <p:spPr>
              <a:xfrm>
                <a:off x="5449320" y="24303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30"/>
            <p:cNvSpPr/>
            <p:nvPr/>
          </p:nvSpPr>
          <p:spPr>
            <a:xfrm>
              <a:off x="6261120" y="2421000"/>
              <a:ext cx="15238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00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27"/>
          <p:cNvSpPr/>
          <p:nvPr/>
        </p:nvSpPr>
        <p:spPr>
          <a:xfrm>
            <a:off x="2143080" y="4530600"/>
            <a:ext cx="2320920" cy="430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数和为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0"/>
          <p:cNvSpPr/>
          <p:nvPr/>
        </p:nvSpPr>
        <p:spPr>
          <a:xfrm>
            <a:off x="2714760" y="2935440"/>
            <a:ext cx="107604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1"/>
          <p:cNvSpPr/>
          <p:nvPr/>
        </p:nvSpPr>
        <p:spPr>
          <a:xfrm>
            <a:off x="5030640" y="4533840"/>
            <a:ext cx="3953160" cy="4240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螺母总产量是螺钉的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3"/>
          <p:cNvGrpSpPr/>
          <p:nvPr/>
        </p:nvGrpSpPr>
        <p:grpSpPr>
          <a:xfrm>
            <a:off x="3790800" y="2935440"/>
            <a:ext cx="4089600" cy="947160"/>
            <a:chOff x="3790800" y="2935440"/>
            <a:chExt cx="4089600" cy="947160"/>
          </a:xfrm>
        </p:grpSpPr>
        <p:grpSp>
          <p:nvGrpSpPr>
            <p:cNvPr id="92" name="组合 6"/>
            <p:cNvGrpSpPr/>
            <p:nvPr/>
          </p:nvGrpSpPr>
          <p:grpSpPr>
            <a:xfrm>
              <a:off x="3790800" y="2953080"/>
              <a:ext cx="2266920" cy="531360"/>
              <a:chOff x="3790800" y="2953080"/>
              <a:chExt cx="2266920" cy="531360"/>
            </a:xfrm>
          </p:grpSpPr>
          <p:sp>
            <p:nvSpPr>
              <p:cNvPr id="93" name="Text Box 33"/>
              <p:cNvSpPr/>
              <p:nvPr/>
            </p:nvSpPr>
            <p:spPr>
              <a:xfrm>
                <a:off x="3790800" y="296388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34"/>
              <p:cNvSpPr/>
              <p:nvPr/>
            </p:nvSpPr>
            <p:spPr>
              <a:xfrm>
                <a:off x="5448600" y="295308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35"/>
            <p:cNvSpPr/>
            <p:nvPr/>
          </p:nvSpPr>
          <p:spPr>
            <a:xfrm>
              <a:off x="5898960" y="2935440"/>
              <a:ext cx="198144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00(2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上箭头 1"/>
          <p:cNvSpPr/>
          <p:nvPr/>
        </p:nvSpPr>
        <p:spPr>
          <a:xfrm>
            <a:off x="3274920" y="3502080"/>
            <a:ext cx="76320" cy="1006560"/>
          </a:xfrm>
          <a:prstGeom prst="upArrow">
            <a:avLst>
              <a:gd name="adj1" fmla="val 50000"/>
              <a:gd name="adj2" fmla="val 489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上箭头 4"/>
          <p:cNvSpPr/>
          <p:nvPr/>
        </p:nvSpPr>
        <p:spPr>
          <a:xfrm rot="10800000">
            <a:off x="6879960" y="3492360"/>
            <a:ext cx="75960" cy="1022400"/>
          </a:xfrm>
          <a:prstGeom prst="upArrow">
            <a:avLst>
              <a:gd name="adj1" fmla="val 50000"/>
              <a:gd name="adj2" fmla="val 4966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1374840" y="5499000"/>
            <a:ext cx="7081920" cy="533520"/>
          </a:xfrm>
          <a:prstGeom prst="roundRect">
            <a:avLst>
              <a:gd name="adj" fmla="val 16667"/>
            </a:avLst>
          </a:prstGeom>
          <a:solidFill>
            <a:srgbClr val="3ba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等量关系：螺母总量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螺钉总量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4"/>
          <p:cNvSpPr/>
          <p:nvPr/>
        </p:nvSpPr>
        <p:spPr>
          <a:xfrm>
            <a:off x="326880" y="711000"/>
            <a:ext cx="84297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应安排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工人生产螺钉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工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产螺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依题意，得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00(2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×120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方程，得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应安排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工人生产螺钉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工人生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螺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3"/>
          <p:cNvGrpSpPr/>
          <p:nvPr/>
        </p:nvGrpSpPr>
        <p:grpSpPr>
          <a:xfrm>
            <a:off x="6540480" y="1585440"/>
            <a:ext cx="2531160" cy="1178280"/>
            <a:chOff x="6540480" y="1585440"/>
            <a:chExt cx="2531160" cy="1178280"/>
          </a:xfrm>
        </p:grpSpPr>
        <p:sp>
          <p:nvSpPr>
            <p:cNvPr id="101" name="云形 1"/>
            <p:cNvSpPr/>
            <p:nvPr/>
          </p:nvSpPr>
          <p:spPr>
            <a:xfrm rot="21240000">
              <a:off x="6582240" y="1710720"/>
              <a:ext cx="2447640" cy="927360"/>
            </a:xfrm>
            <a:custGeom>
              <a:avLst/>
              <a:gdLst>
                <a:gd name="textAreaLeft" fmla="*/ 0 w 2447640"/>
                <a:gd name="textAreaRight" fmla="*/ 2448000 w 2447640"/>
                <a:gd name="textAreaTop" fmla="*/ 0 h 927360"/>
                <a:gd name="textAreaBottom" fmla="*/ 927720 h 92736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6f5f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2"/>
            <p:cNvSpPr/>
            <p:nvPr/>
          </p:nvSpPr>
          <p:spPr>
            <a:xfrm rot="21240000">
              <a:off x="7068960" y="19238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还有别的方法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4"/>
          <p:cNvSpPr/>
          <p:nvPr/>
        </p:nvSpPr>
        <p:spPr>
          <a:xfrm>
            <a:off x="237960" y="5266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列表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37960" y="1252440"/>
          <a:ext cx="8651880" cy="2459160"/>
        </p:xfrm>
        <a:graphic>
          <a:graphicData uri="http://schemas.openxmlformats.org/drawingml/2006/table">
            <a:tbl>
              <a:tblPr/>
              <a:tblGrid>
                <a:gridCol w="1675080"/>
                <a:gridCol w="1650960"/>
                <a:gridCol w="1646280"/>
                <a:gridCol w="2058840"/>
                <a:gridCol w="1620720"/>
              </a:tblGrid>
              <a:tr h="986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产品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生产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单人产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产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产品套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螺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螺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30"/>
          <p:cNvSpPr/>
          <p:nvPr/>
        </p:nvSpPr>
        <p:spPr>
          <a:xfrm>
            <a:off x="5502240" y="2289240"/>
            <a:ext cx="15238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200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2152800" y="2935440"/>
            <a:ext cx="107604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5195880" y="2973240"/>
            <a:ext cx="19810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000(2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7326360" y="2235240"/>
            <a:ext cx="15238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00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对象 6"/>
          <p:cNvGraphicFramePr/>
          <p:nvPr/>
        </p:nvGraphicFramePr>
        <p:xfrm>
          <a:off x="7242120" y="2892600"/>
          <a:ext cx="169236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2120" y="2892600"/>
                    <a:ext cx="169236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文本框 7"/>
          <p:cNvSpPr/>
          <p:nvPr/>
        </p:nvSpPr>
        <p:spPr>
          <a:xfrm>
            <a:off x="314280" y="3873600"/>
            <a:ext cx="8618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应安排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工人生产螺钉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工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产螺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依题意，得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对象 8"/>
          <p:cNvGraphicFramePr/>
          <p:nvPr/>
        </p:nvGraphicFramePr>
        <p:xfrm>
          <a:off x="4630680" y="4638600"/>
          <a:ext cx="285444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对象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0680" y="4638600"/>
                    <a:ext cx="28544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文本框 9"/>
          <p:cNvSpPr/>
          <p:nvPr/>
        </p:nvSpPr>
        <p:spPr>
          <a:xfrm>
            <a:off x="1320840" y="5257800"/>
            <a:ext cx="558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方程，得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4"/>
          <p:cNvSpPr/>
          <p:nvPr/>
        </p:nvSpPr>
        <p:spPr>
          <a:xfrm>
            <a:off x="573120" y="699840"/>
            <a:ext cx="40258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方法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573120" y="1384200"/>
            <a:ext cx="7562880" cy="2994120"/>
          </a:xfrm>
          <a:prstGeom prst="rect">
            <a:avLst/>
          </a:prstGeom>
          <a:noFill/>
          <a:ln w="25560">
            <a:solidFill>
              <a:srgbClr val="cc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产调配问题通常从调配后各量之间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系寻找相等关系，建立方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配套问题的思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配套问题中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物品之间具有的数量关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列方程的依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配套问题中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套数不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列方程的依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"/>
          <p:cNvSpPr/>
          <p:nvPr/>
        </p:nvSpPr>
        <p:spPr>
          <a:xfrm>
            <a:off x="455760" y="1025640"/>
            <a:ext cx="7993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足球是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块黑白相间的牛皮缝制而成的，黑皮可看作正五边形，白皮可看作正六边形，求白皮，黑皮各多少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"/>
          <p:cNvSpPr/>
          <p:nvPr/>
        </p:nvSpPr>
        <p:spPr>
          <a:xfrm>
            <a:off x="740880" y="504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变式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SX$QBWTO1YUR{9AG_HT6~6I"/>
          <p:cNvPicPr/>
          <p:nvPr/>
        </p:nvPicPr>
        <p:blipFill>
          <a:blip r:embed="rId1"/>
          <a:stretch/>
        </p:blipFill>
        <p:spPr>
          <a:xfrm>
            <a:off x="6573960" y="2546280"/>
            <a:ext cx="1639800" cy="154944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4"/>
          <p:cNvSpPr/>
          <p:nvPr/>
        </p:nvSpPr>
        <p:spPr>
          <a:xfrm>
            <a:off x="525600" y="2666880"/>
            <a:ext cx="6048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由图可得，一块白皮（六边形）中，有三边与黑皮（五边形）相连，因此白皮边数是黑皮边数的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倍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9800" y="4697280"/>
          <a:ext cx="5016600" cy="1562400"/>
        </p:xfrm>
        <a:graphic>
          <a:graphicData uri="http://schemas.openxmlformats.org/drawingml/2006/table">
            <a:tbl>
              <a:tblPr/>
              <a:tblGrid>
                <a:gridCol w="1673280"/>
                <a:gridCol w="1660320"/>
                <a:gridCol w="1683000"/>
              </a:tblGrid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数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边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黑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白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文本框 5"/>
          <p:cNvSpPr/>
          <p:nvPr/>
        </p:nvSpPr>
        <p:spPr>
          <a:xfrm>
            <a:off x="2852280" y="57373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2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>
            <a:off x="4362480" y="5737320"/>
            <a:ext cx="12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(32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6053040" y="4332240"/>
            <a:ext cx="2395800" cy="2035080"/>
          </a:xfrm>
          <a:prstGeom prst="roundRect">
            <a:avLst>
              <a:gd name="adj" fmla="val 16667"/>
            </a:avLst>
          </a:prstGeom>
          <a:solidFill>
            <a:srgbClr val="3ba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等量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白皮边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黑皮边数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8-08-16T12:34:51Z</dcterms:modified>
  <cp:revision>5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89</vt:lpwstr>
  </property>
</Properties>
</file>