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83BB-D386-423C-AD12-DD67BE285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432C-A476-403D-AB35-728AAB38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120E-5D1B-463F-BC70-E58FB9833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AD96-A51F-4D36-A179-7EF266245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94BD-257A-4444-BA1C-BE2A6F13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AB30-AB79-4B2B-80FE-8C81FE7F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4878-80DD-4861-877B-8B8800CD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8A3F-1ED1-462F-A510-50308403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B4A1-377B-47EC-987C-D5F79CE9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9EE2-8C2D-41DD-8E06-7AE1E207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1D17-93FB-4DA7-A28B-2D5A2A91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63C2-C8A8-457A-BA58-674C6482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8476-195E-418B-8596-8AEC657B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C370-1274-4186-A46B-2D287A1A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F8F0-BF96-4FAE-A063-1619B559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B019-2ED1-4708-AAC5-59B7A9C1C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8CFB-2F03-4150-9C02-D865B093C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AFE78-A35B-45A3-8787-502D0EDB7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75E27-39BA-4DBC-B93A-48F97561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74AFB-1BA3-4F2A-B7BE-141C9777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FA7E6-7A4E-4582-8126-4A2EBBC8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14164-2850-45AA-B847-677136EE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C8CA-3E8E-481F-8855-87E8D723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55C67-BE52-4C84-9CDD-DBFA5300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BB239-4B07-4B50-8624-35F74744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B9AB1-711F-43C3-831C-B693DF6D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B21F1-1A31-4D6B-9021-324FA707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C2C06-20E7-454C-84FD-5A7FA6BA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A1516-A88F-4349-B931-3A19CFB2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2073F-44F2-498E-A7B9-D617BF3E3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94DA-1AEC-40BE-BD8F-20FCA45B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B54D-3D3F-42AB-8CD0-962BCFA7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95B3-81D5-4869-8C3F-8ABF570C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05F9-077B-403C-9A03-15668423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D753-BCED-4497-9113-E4429DBE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0D4B-E782-4566-A4D3-BCBEA17F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www.czsx.com.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F21F-DD0C-49F6-A64A-44FDA64D00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D6BD-49F3-4DA1-896C-6DB7FFE3FD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5407560" y="63000"/>
              <a:ext cx="3623040" cy="6129720"/>
              <a:chOff x="5407560" y="63000"/>
              <a:chExt cx="3623040" cy="6129720"/>
            </a:xfrm>
          </p:grpSpPr>
          <p:sp>
            <p:nvSpPr>
              <p:cNvPr id="84" name="未知"/>
              <p:cNvSpPr/>
              <p:nvPr/>
            </p:nvSpPr>
            <p:spPr>
              <a:xfrm flipV="1" rot="11970000">
                <a:off x="6581160" y="348120"/>
                <a:ext cx="2116800" cy="2356560"/>
              </a:xfrm>
              <a:custGeom>
                <a:avLst/>
                <a:gdLst>
                  <a:gd name="textAreaLeft" fmla="*/ 0 w 2116800"/>
                  <a:gd name="textAreaRight" fmla="*/ 2117160 w 2116800"/>
                  <a:gd name="textAreaTop" fmla="*/ 360 h 2356560"/>
                  <a:gd name="textAreaBottom" fmla="*/ 2357280 h 235656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未知"/>
              <p:cNvSpPr/>
              <p:nvPr/>
            </p:nvSpPr>
            <p:spPr>
              <a:xfrm flipV="1" rot="11970000">
                <a:off x="7421400" y="1959480"/>
                <a:ext cx="906480" cy="84276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未知"/>
              <p:cNvSpPr/>
              <p:nvPr/>
            </p:nvSpPr>
            <p:spPr>
              <a:xfrm flipV="1" rot="11970000">
                <a:off x="6825960" y="2592000"/>
                <a:ext cx="439920" cy="39492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未知"/>
              <p:cNvSpPr/>
              <p:nvPr/>
            </p:nvSpPr>
            <p:spPr>
              <a:xfrm flipV="1" rot="11970000">
                <a:off x="7251480" y="673920"/>
                <a:ext cx="388800" cy="5508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未知"/>
              <p:cNvSpPr/>
              <p:nvPr/>
            </p:nvSpPr>
            <p:spPr>
              <a:xfrm flipV="1" rot="11970000">
                <a:off x="7154640" y="2644920"/>
                <a:ext cx="163440" cy="3315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未知"/>
              <p:cNvSpPr/>
              <p:nvPr/>
            </p:nvSpPr>
            <p:spPr>
              <a:xfrm flipV="1" rot="11970000">
                <a:off x="7140240" y="1242720"/>
                <a:ext cx="190440" cy="14256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未知"/>
              <p:cNvSpPr/>
              <p:nvPr/>
            </p:nvSpPr>
            <p:spPr>
              <a:xfrm flipV="1" rot="11970000">
                <a:off x="5937840" y="2931120"/>
                <a:ext cx="523800" cy="326736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360 h 3267360"/>
                  <a:gd name="textAreaBottom" fmla="*/ 3268080 h 326736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未知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未知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未知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未知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137840" y="1035360"/>
              <a:ext cx="1015920" cy="1260360"/>
              <a:chOff x="4137840" y="1035360"/>
              <a:chExt cx="1015920" cy="1260360"/>
            </a:xfrm>
          </p:grpSpPr>
          <p:sp>
            <p:nvSpPr>
              <p:cNvPr id="98" name="未知"/>
              <p:cNvSpPr/>
              <p:nvPr/>
            </p:nvSpPr>
            <p:spPr>
              <a:xfrm rot="3220200">
                <a:off x="4552200" y="1073520"/>
                <a:ext cx="286920" cy="378720"/>
              </a:xfrm>
              <a:custGeom>
                <a:avLst/>
                <a:gdLst>
                  <a:gd name="textAreaLeft" fmla="*/ 0 w 286920"/>
                  <a:gd name="textAreaRight" fmla="*/ 287280 w 28692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 rot="3220200">
                <a:off x="4636440" y="1605600"/>
                <a:ext cx="489600" cy="316080"/>
              </a:xfrm>
              <a:custGeom>
                <a:avLst/>
                <a:gdLst>
                  <a:gd name="textAreaLeft" fmla="*/ 0 w 489600"/>
                  <a:gd name="textAreaRight" fmla="*/ 489960 w 489600"/>
                  <a:gd name="textAreaTop" fmla="*/ 0 h 316080"/>
                  <a:gd name="textAreaBottom" fmla="*/ 316440 h 3160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未知"/>
              <p:cNvSpPr/>
              <p:nvPr/>
            </p:nvSpPr>
            <p:spPr>
              <a:xfrm rot="3220200">
                <a:off x="4098240" y="1962720"/>
                <a:ext cx="510120" cy="160200"/>
              </a:xfrm>
              <a:custGeom>
                <a:avLst/>
                <a:gdLst>
                  <a:gd name="textAreaLeft" fmla="*/ 0 w 510120"/>
                  <a:gd name="textAreaRight" fmla="*/ 510480 w 51012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642640" y="299520"/>
              <a:ext cx="891360" cy="829440"/>
              <a:chOff x="5642640" y="299520"/>
              <a:chExt cx="891360" cy="829440"/>
            </a:xfrm>
          </p:grpSpPr>
          <p:sp>
            <p:nvSpPr>
              <p:cNvPr id="102" name="未知"/>
              <p:cNvSpPr/>
              <p:nvPr/>
            </p:nvSpPr>
            <p:spPr>
              <a:xfrm rot="14908200">
                <a:off x="5754240" y="79812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未知"/>
              <p:cNvSpPr/>
              <p:nvPr/>
            </p:nvSpPr>
            <p:spPr>
              <a:xfrm rot="14908200">
                <a:off x="5704200" y="477000"/>
                <a:ext cx="305280" cy="302040"/>
              </a:xfrm>
              <a:custGeom>
                <a:avLst/>
                <a:gdLst>
                  <a:gd name="textAreaLeft" fmla="*/ 0 w 305280"/>
                  <a:gd name="textAreaRight" fmla="*/ 305640 w 305280"/>
                  <a:gd name="textAreaTop" fmla="*/ 0 h 302040"/>
                  <a:gd name="textAreaBottom" fmla="*/ 302400 h 3020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未知"/>
              <p:cNvSpPr/>
              <p:nvPr/>
            </p:nvSpPr>
            <p:spPr>
              <a:xfrm rot="14908200">
                <a:off x="6244560" y="39924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954000" y="5280120"/>
              <a:ext cx="1061640" cy="833400"/>
              <a:chOff x="954000" y="5280120"/>
              <a:chExt cx="1061640" cy="833400"/>
            </a:xfrm>
          </p:grpSpPr>
          <p:sp>
            <p:nvSpPr>
              <p:cNvPr id="106" name="未知"/>
              <p:cNvSpPr/>
              <p:nvPr/>
            </p:nvSpPr>
            <p:spPr>
              <a:xfrm rot="8524800">
                <a:off x="1697040" y="5546520"/>
                <a:ext cx="252000" cy="303120"/>
              </a:xfrm>
              <a:custGeom>
                <a:avLst/>
                <a:gdLst>
                  <a:gd name="textAreaLeft" fmla="*/ 0 w 252000"/>
                  <a:gd name="textAreaRight" fmla="*/ 252360 w 25200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未知"/>
              <p:cNvSpPr/>
              <p:nvPr/>
            </p:nvSpPr>
            <p:spPr>
              <a:xfrm rot="8524800">
                <a:off x="1179720" y="5757120"/>
                <a:ext cx="430200" cy="250560"/>
              </a:xfrm>
              <a:custGeom>
                <a:avLst/>
                <a:gdLst>
                  <a:gd name="textAreaLeft" fmla="*/ 0 w 430200"/>
                  <a:gd name="textAreaRight" fmla="*/ 430560 w 430200"/>
                  <a:gd name="textAreaTop" fmla="*/ 0 h 250560"/>
                  <a:gd name="textAreaBottom" fmla="*/ 250920 h 2505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未知"/>
              <p:cNvSpPr/>
              <p:nvPr/>
            </p:nvSpPr>
            <p:spPr>
              <a:xfrm rot="8524800">
                <a:off x="945720" y="5403960"/>
                <a:ext cx="448200" cy="127440"/>
              </a:xfrm>
              <a:custGeom>
                <a:avLst/>
                <a:gdLst>
                  <a:gd name="textAreaLeft" fmla="*/ 0 w 448200"/>
                  <a:gd name="textAreaRight" fmla="*/ 448560 w 44820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57480" y="432360"/>
              <a:ext cx="1689480" cy="1145880"/>
              <a:chOff x="357480" y="432360"/>
              <a:chExt cx="1689480" cy="1145880"/>
            </a:xfrm>
          </p:grpSpPr>
          <p:sp>
            <p:nvSpPr>
              <p:cNvPr id="110" name="未知"/>
              <p:cNvSpPr/>
              <p:nvPr/>
            </p:nvSpPr>
            <p:spPr>
              <a:xfrm flipH="1" rot="4107000">
                <a:off x="1555560" y="1049400"/>
                <a:ext cx="356760" cy="530640"/>
              </a:xfrm>
              <a:custGeom>
                <a:avLst/>
                <a:gdLst>
                  <a:gd name="textAreaLeft" fmla="*/ -360 w 356760"/>
                  <a:gd name="textAreaRight" fmla="*/ 356760 w 35676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未知"/>
              <p:cNvSpPr/>
              <p:nvPr/>
            </p:nvSpPr>
            <p:spPr>
              <a:xfrm flipH="1" rot="4107000">
                <a:off x="1002960" y="575280"/>
                <a:ext cx="609120" cy="44316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3160"/>
                  <a:gd name="textAreaBottom" fmla="*/ 443520 h 4431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未知"/>
              <p:cNvSpPr/>
              <p:nvPr/>
            </p:nvSpPr>
            <p:spPr>
              <a:xfrm flipH="1" rot="4107000">
                <a:off x="260280" y="1090440"/>
                <a:ext cx="635040" cy="224280"/>
              </a:xfrm>
              <a:custGeom>
                <a:avLst/>
                <a:gdLst>
                  <a:gd name="textAreaLeft" fmla="*/ 360 w 635040"/>
                  <a:gd name="textAreaRight" fmla="*/ 635760 w 63504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395120" y="3699720"/>
              <a:ext cx="1155960" cy="1607760"/>
              <a:chOff x="7395120" y="3699720"/>
              <a:chExt cx="1155960" cy="1607760"/>
            </a:xfrm>
          </p:grpSpPr>
          <p:sp>
            <p:nvSpPr>
              <p:cNvPr id="114" name="未知"/>
              <p:cNvSpPr/>
              <p:nvPr/>
            </p:nvSpPr>
            <p:spPr>
              <a:xfrm flipH="1" rot="10015800">
                <a:off x="7449840" y="4743360"/>
                <a:ext cx="356760" cy="530640"/>
              </a:xfrm>
              <a:custGeom>
                <a:avLst/>
                <a:gdLst>
                  <a:gd name="textAreaLeft" fmla="*/ -360 w 356760"/>
                  <a:gd name="textAreaRight" fmla="*/ 356760 w 35676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未知"/>
              <p:cNvSpPr/>
              <p:nvPr/>
            </p:nvSpPr>
            <p:spPr>
              <a:xfrm flipH="1" rot="10015800">
                <a:off x="7899840" y="4440960"/>
                <a:ext cx="609120" cy="44280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2800"/>
                  <a:gd name="textAreaBottom" fmla="*/ 443160 h 4428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未知"/>
              <p:cNvSpPr/>
              <p:nvPr/>
            </p:nvSpPr>
            <p:spPr>
              <a:xfrm flipH="1" rot="10015800">
                <a:off x="7592760" y="3768480"/>
                <a:ext cx="634680" cy="224280"/>
              </a:xfrm>
              <a:custGeom>
                <a:avLst/>
                <a:gdLst>
                  <a:gd name="textAreaLeft" fmla="*/ -360 w 634680"/>
                  <a:gd name="textAreaRight" fmla="*/ 634680 w 63468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未知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未知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未知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D178-EB10-45B0-B7F1-701BD44A50AF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4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WordArt 3"/>
          <p:cNvSpPr txBox="1"/>
          <p:nvPr/>
        </p:nvSpPr>
        <p:spPr>
          <a:xfrm>
            <a:off x="1062000" y="638280"/>
            <a:ext cx="5865840" cy="24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一元一次方程复习（一）</a:t>
            </a:r>
            <a:endParaRPr b="0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-600120" y="458640"/>
            <a:ext cx="9306000" cy="5789520"/>
            <a:chOff x="-600120" y="458640"/>
            <a:chExt cx="9306000" cy="5789520"/>
          </a:xfrm>
        </p:grpSpPr>
        <p:grpSp>
          <p:nvGrpSpPr>
            <p:cNvPr id="269" name=""/>
            <p:cNvGrpSpPr/>
            <p:nvPr/>
          </p:nvGrpSpPr>
          <p:grpSpPr>
            <a:xfrm>
              <a:off x="-600120" y="458640"/>
              <a:ext cx="9306000" cy="5789520"/>
              <a:chOff x="-600120" y="458640"/>
              <a:chExt cx="9306000" cy="5789520"/>
            </a:xfrm>
          </p:grpSpPr>
          <p:sp>
            <p:nvSpPr>
              <p:cNvPr id="270" name="Text Box 3"/>
              <p:cNvSpPr/>
              <p:nvPr/>
            </p:nvSpPr>
            <p:spPr>
              <a:xfrm>
                <a:off x="218520" y="1250640"/>
                <a:ext cx="84873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1" lang="zh-CN" sz="3600" spc="-1" strike="noStrike">
                    <a:solidFill>
                      <a:srgbClr val="a50021"/>
                    </a:solidFill>
                    <a:latin typeface="Arial"/>
                  </a:rPr>
                  <a:t>大家判断一下，下列方程的变形是否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a50021"/>
                    </a:solidFill>
                    <a:latin typeface="Arial"/>
                  </a:rPr>
                  <a:t>正确？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1" name=""/>
              <p:cNvGrpSpPr/>
              <p:nvPr/>
            </p:nvGrpSpPr>
            <p:grpSpPr>
              <a:xfrm>
                <a:off x="60480" y="2438280"/>
                <a:ext cx="6264720" cy="3809880"/>
                <a:chOff x="60480" y="2438280"/>
                <a:chExt cx="6264720" cy="3809880"/>
              </a:xfrm>
            </p:grpSpPr>
            <p:graphicFrame>
              <p:nvGraphicFramePr>
                <p:cNvPr id="272" name=""/>
                <p:cNvGraphicFramePr/>
                <p:nvPr/>
              </p:nvGraphicFramePr>
              <p:xfrm>
                <a:off x="1145520" y="4078080"/>
                <a:ext cx="4265640" cy="140832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73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145520" y="4078080"/>
                          <a:ext cx="4265640" cy="1408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mc:AlternateContent>
              <mc:Choice xmlns:a14="http://schemas.microsoft.com/office/drawing/2010/main" Requires="a14">
                <p:sp>
                  <p:nvSpPr>
                    <p:cNvPr id="274" name=""/>
                    <p:cNvSpPr txBox="1"/>
                    <p:nvPr/>
                  </p:nvSpPr>
                  <p:spPr>
                    <a:xfrm>
                      <a:off x="1386360" y="5499000"/>
                      <a:ext cx="4848480" cy="7491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4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75" name=""/>
                    <p:cNvSpPr txBox="1"/>
                    <p:nvPr/>
                  </p:nvSpPr>
                  <p:spPr>
                    <a:xfrm>
                      <a:off x="1145520" y="3124080"/>
                      <a:ext cx="4799160" cy="14050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2</m:t>
                          </m:r>
                          <m:r>
                            <m:t xml:space="preserve">（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(</m:t>
                          </m:r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）</m:t>
                          </m:r>
                          <m:r>
                            <m:t xml:space="preserve">=</m:t>
                          </m:r>
                          <m:r>
                            <m:t xml:space="preserve">9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76" name=""/>
                    <p:cNvSpPr txBox="1"/>
                    <p:nvPr/>
                  </p:nvSpPr>
                  <p:spPr>
                    <a:xfrm>
                      <a:off x="1145520" y="2438280"/>
                      <a:ext cx="5179680" cy="773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x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277" name="Text Box 9"/>
                <p:cNvSpPr/>
                <p:nvPr/>
              </p:nvSpPr>
              <p:spPr>
                <a:xfrm>
                  <a:off x="61200" y="2590560"/>
                  <a:ext cx="976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1e1d"/>
                      </a:solidFill>
                      <a:latin typeface="Arial"/>
                    </a:rPr>
                    <a:t>（</a:t>
                  </a:r>
                  <a:r>
                    <a:rPr b="1" lang="en-US" sz="2800" spc="-1" strike="noStrike">
                      <a:solidFill>
                        <a:srgbClr val="001e1d"/>
                      </a:solidFill>
                      <a:latin typeface="Arial"/>
                    </a:rPr>
                    <a:t>1</a:t>
                  </a:r>
                  <a:r>
                    <a:rPr b="1" lang="zh-CN" sz="2800" spc="-1" strike="noStrike">
                      <a:solidFill>
                        <a:srgbClr val="001e1d"/>
                      </a:solidFill>
                      <a:latin typeface="Arial"/>
                    </a:rPr>
                    <a:t>）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Rectangle 10"/>
                <p:cNvSpPr/>
                <p:nvPr/>
              </p:nvSpPr>
              <p:spPr>
                <a:xfrm>
                  <a:off x="60480" y="3581280"/>
                  <a:ext cx="976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1e1d"/>
                      </a:solidFill>
                      <a:latin typeface="Arial"/>
                    </a:rPr>
                    <a:t>（</a:t>
                  </a:r>
                  <a:r>
                    <a:rPr b="1" lang="en-US" sz="2800" spc="-1" strike="noStrike">
                      <a:solidFill>
                        <a:srgbClr val="001e1d"/>
                      </a:solidFill>
                      <a:latin typeface="Arial"/>
                    </a:rPr>
                    <a:t>2</a:t>
                  </a:r>
                  <a:r>
                    <a:rPr b="1" lang="zh-CN" sz="2800" spc="-1" strike="noStrike">
                      <a:solidFill>
                        <a:srgbClr val="001e1d"/>
                      </a:solidFill>
                      <a:latin typeface="Arial"/>
                    </a:rPr>
                    <a:t>）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Rectangle 11"/>
                <p:cNvSpPr/>
                <p:nvPr/>
              </p:nvSpPr>
              <p:spPr>
                <a:xfrm>
                  <a:off x="60480" y="4572000"/>
                  <a:ext cx="976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1e1d"/>
                      </a:solidFill>
                      <a:latin typeface="Arial"/>
                    </a:rPr>
                    <a:t>（</a:t>
                  </a:r>
                  <a:r>
                    <a:rPr b="1" lang="en-US" sz="2800" spc="-1" strike="noStrike">
                      <a:solidFill>
                        <a:srgbClr val="001e1d"/>
                      </a:solidFill>
                      <a:latin typeface="Arial"/>
                    </a:rPr>
                    <a:t>3</a:t>
                  </a:r>
                  <a:r>
                    <a:rPr b="1" lang="zh-CN" sz="2800" spc="-1" strike="noStrike">
                      <a:solidFill>
                        <a:srgbClr val="001e1d"/>
                      </a:solidFill>
                      <a:latin typeface="Arial"/>
                    </a:rPr>
                    <a:t>）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Rectangle 12"/>
                <p:cNvSpPr/>
                <p:nvPr/>
              </p:nvSpPr>
              <p:spPr>
                <a:xfrm>
                  <a:off x="60480" y="5562360"/>
                  <a:ext cx="976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1e1d"/>
                      </a:solidFill>
                      <a:latin typeface="Arial"/>
                    </a:rPr>
                    <a:t>（</a:t>
                  </a:r>
                  <a:r>
                    <a:rPr b="1" lang="en-US" sz="2800" spc="-1" strike="noStrike">
                      <a:solidFill>
                        <a:srgbClr val="001e1d"/>
                      </a:solidFill>
                      <a:latin typeface="Arial"/>
                    </a:rPr>
                    <a:t>4</a:t>
                  </a:r>
                  <a:r>
                    <a:rPr b="1" lang="zh-CN" sz="2800" spc="-1" strike="noStrike">
                      <a:solidFill>
                        <a:srgbClr val="001e1d"/>
                      </a:solidFill>
                      <a:latin typeface="Arial"/>
                    </a:rPr>
                    <a:t>）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1" name="Rectangle 17"/>
              <p:cNvSpPr/>
              <p:nvPr/>
            </p:nvSpPr>
            <p:spPr>
              <a:xfrm>
                <a:off x="-600120" y="458640"/>
                <a:ext cx="4094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cc"/>
                    </a:solidFill>
                    <a:latin typeface="Times New Roman"/>
                  </a:rPr>
                  <a:t>知识点练习三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TextBox 17"/>
            <p:cNvSpPr/>
            <p:nvPr/>
          </p:nvSpPr>
          <p:spPr>
            <a:xfrm>
              <a:off x="6484320" y="2361960"/>
              <a:ext cx="146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(     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Box 18"/>
            <p:cNvSpPr/>
            <p:nvPr/>
          </p:nvSpPr>
          <p:spPr>
            <a:xfrm>
              <a:off x="6439680" y="3384360"/>
              <a:ext cx="146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(     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Box 19"/>
            <p:cNvSpPr/>
            <p:nvPr/>
          </p:nvSpPr>
          <p:spPr>
            <a:xfrm>
              <a:off x="6439680" y="4451400"/>
              <a:ext cx="146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(     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Box 20"/>
            <p:cNvSpPr/>
            <p:nvPr/>
          </p:nvSpPr>
          <p:spPr>
            <a:xfrm>
              <a:off x="6439680" y="5429520"/>
              <a:ext cx="146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(     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7020360" y="2451240"/>
            <a:ext cx="642600" cy="3773160"/>
            <a:chOff x="7020360" y="2451240"/>
            <a:chExt cx="642600" cy="3773160"/>
          </a:xfrm>
        </p:grpSpPr>
        <p:sp>
          <p:nvSpPr>
            <p:cNvPr id="287" name="Text Box 13"/>
            <p:cNvSpPr/>
            <p:nvPr/>
          </p:nvSpPr>
          <p:spPr>
            <a:xfrm>
              <a:off x="7172280" y="2451240"/>
              <a:ext cx="47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00"/>
                  </a:solidFill>
                  <a:latin typeface="Arial"/>
                </a:rPr>
                <a:t>×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Text Box 14"/>
            <p:cNvSpPr/>
            <p:nvPr/>
          </p:nvSpPr>
          <p:spPr>
            <a:xfrm>
              <a:off x="7127640" y="3429000"/>
              <a:ext cx="47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00"/>
                  </a:solidFill>
                  <a:latin typeface="Arial"/>
                </a:rPr>
                <a:t>×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5"/>
            <p:cNvSpPr/>
            <p:nvPr/>
          </p:nvSpPr>
          <p:spPr>
            <a:xfrm>
              <a:off x="7039080" y="4451400"/>
              <a:ext cx="47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00"/>
                  </a:solidFill>
                  <a:latin typeface="Arial"/>
                </a:rPr>
                <a:t>×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16"/>
            <p:cNvSpPr/>
            <p:nvPr/>
          </p:nvSpPr>
          <p:spPr>
            <a:xfrm>
              <a:off x="7020360" y="5460120"/>
              <a:ext cx="642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cc0000"/>
                  </a:solidFill>
                  <a:latin typeface="Arial"/>
                </a:rPr>
                <a:t>√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206280" y="1044720"/>
            <a:ext cx="8937720" cy="4889520"/>
            <a:chOff x="206280" y="1044720"/>
            <a:chExt cx="8937720" cy="4889520"/>
          </a:xfrm>
        </p:grpSpPr>
        <p:grpSp>
          <p:nvGrpSpPr>
            <p:cNvPr id="292" name=""/>
            <p:cNvGrpSpPr/>
            <p:nvPr/>
          </p:nvGrpSpPr>
          <p:grpSpPr>
            <a:xfrm>
              <a:off x="206280" y="1044720"/>
              <a:ext cx="8937720" cy="4172400"/>
              <a:chOff x="206280" y="1044720"/>
              <a:chExt cx="8937720" cy="4172400"/>
            </a:xfrm>
          </p:grpSpPr>
          <p:sp>
            <p:nvSpPr>
              <p:cNvPr id="293" name="Rectangle 9"/>
              <p:cNvSpPr/>
              <p:nvPr/>
            </p:nvSpPr>
            <p:spPr>
              <a:xfrm>
                <a:off x="296640" y="2843280"/>
                <a:ext cx="8847360" cy="23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、已知 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x =  y</a:t>
                </a: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，下列变形中不一定正确的是（    ）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A.x-5=y-5             B.-3x=-3y  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C.mx=my             D.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Rectangle 10"/>
              <p:cNvSpPr/>
              <p:nvPr/>
            </p:nvSpPr>
            <p:spPr>
              <a:xfrm>
                <a:off x="206280" y="1044720"/>
                <a:ext cx="846000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zh-CN" sz="4400" spc="-1" strike="noStrike">
                    <a:solidFill>
                      <a:srgbClr val="000000"/>
                    </a:solidFill>
                    <a:latin typeface="Times New Roman"/>
                  </a:rPr>
                  <a:t>、若</a:t>
                </a:r>
                <a:r>
                  <a:rPr b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a+2b = x + 10</a:t>
                </a:r>
                <a:r>
                  <a:rPr b="1" lang="zh-CN" sz="4400" spc="-1" strike="noStrike">
                    <a:solidFill>
                      <a:srgbClr val="000000"/>
                    </a:solidFill>
                    <a:latin typeface="Times New Roman"/>
                  </a:rPr>
                  <a:t>，则</a:t>
                </a:r>
                <a:r>
                  <a:rPr b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2a + 2b = x + 10+</a:t>
                </a:r>
                <a:r>
                  <a:rPr b="1" lang="en-US" sz="4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         </a:t>
                </a:r>
                <a:r>
                  <a:rPr b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95" name=""/>
                <p:cNvSpPr txBox="1"/>
                <p:nvPr/>
              </p:nvSpPr>
              <p:spPr>
                <a:xfrm>
                  <a:off x="5832360" y="4915080"/>
                  <a:ext cx="2057400" cy="101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96" name="Rectangle 4"/>
          <p:cNvSpPr/>
          <p:nvPr/>
        </p:nvSpPr>
        <p:spPr>
          <a:xfrm>
            <a:off x="0" y="0"/>
            <a:ext cx="4572000" cy="19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458800" y="1628640"/>
            <a:ext cx="565560" cy="2337480"/>
            <a:chOff x="2458800" y="1628640"/>
            <a:chExt cx="565560" cy="2337480"/>
          </a:xfrm>
        </p:grpSpPr>
        <p:sp>
          <p:nvSpPr>
            <p:cNvPr id="298" name="Text Box 11"/>
            <p:cNvSpPr/>
            <p:nvPr/>
          </p:nvSpPr>
          <p:spPr>
            <a:xfrm>
              <a:off x="2458800" y="162864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12"/>
            <p:cNvSpPr/>
            <p:nvPr/>
          </p:nvSpPr>
          <p:spPr>
            <a:xfrm>
              <a:off x="2546280" y="338472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0" y="1268280"/>
          <a:ext cx="8891640" cy="4770360"/>
        </p:xfrm>
        <a:graphic>
          <a:graphicData uri="http://schemas.openxmlformats.org/drawingml/2006/table">
            <a:tbl>
              <a:tblPr/>
              <a:tblGrid>
                <a:gridCol w="2801880"/>
                <a:gridCol w="6089760"/>
              </a:tblGrid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Text Box 30"/>
          <p:cNvSpPr/>
          <p:nvPr/>
        </p:nvSpPr>
        <p:spPr>
          <a:xfrm>
            <a:off x="826920" y="14590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形名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1"/>
          <p:cNvSpPr/>
          <p:nvPr/>
        </p:nvSpPr>
        <p:spPr>
          <a:xfrm>
            <a:off x="385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注意事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2"/>
          <p:cNvSpPr/>
          <p:nvPr/>
        </p:nvSpPr>
        <p:spPr>
          <a:xfrm>
            <a:off x="826920" y="21798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去分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33"/>
          <p:cNvSpPr/>
          <p:nvPr/>
        </p:nvSpPr>
        <p:spPr>
          <a:xfrm>
            <a:off x="826920" y="2852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去括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4"/>
          <p:cNvSpPr/>
          <p:nvPr/>
        </p:nvSpPr>
        <p:spPr>
          <a:xfrm>
            <a:off x="826920" y="3645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移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5"/>
          <p:cNvSpPr/>
          <p:nvPr/>
        </p:nvSpPr>
        <p:spPr>
          <a:xfrm>
            <a:off x="826920" y="41432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合并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ax=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36"/>
          <p:cNvSpPr/>
          <p:nvPr/>
        </p:nvSpPr>
        <p:spPr>
          <a:xfrm>
            <a:off x="0" y="5003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系数化成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7"/>
          <p:cNvSpPr/>
          <p:nvPr/>
        </p:nvSpPr>
        <p:spPr>
          <a:xfrm>
            <a:off x="3203640" y="213372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防止漏乘（尤其整数项），注意添括号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8"/>
          <p:cNvSpPr/>
          <p:nvPr/>
        </p:nvSpPr>
        <p:spPr>
          <a:xfrm>
            <a:off x="3203640" y="28526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注意变号，防止漏乘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9"/>
          <p:cNvSpPr/>
          <p:nvPr/>
        </p:nvSpPr>
        <p:spPr>
          <a:xfrm>
            <a:off x="3203640" y="357336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移项要变号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0"/>
          <p:cNvSpPr/>
          <p:nvPr/>
        </p:nvSpPr>
        <p:spPr>
          <a:xfrm>
            <a:off x="3203640" y="436572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计算要仔细，不要出差错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1"/>
          <p:cNvSpPr/>
          <p:nvPr/>
        </p:nvSpPr>
        <p:spPr>
          <a:xfrm>
            <a:off x="3203640" y="50594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计算要仔细，分子分母不要颠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42"/>
          <p:cNvSpPr/>
          <p:nvPr/>
        </p:nvSpPr>
        <p:spPr>
          <a:xfrm>
            <a:off x="0" y="27936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知识点复习四：解一元一次方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9"/>
          <p:cNvSpPr/>
          <p:nvPr/>
        </p:nvSpPr>
        <p:spPr>
          <a:xfrm>
            <a:off x="0" y="284328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22"/>
          <p:cNvSpPr/>
          <p:nvPr/>
        </p:nvSpPr>
        <p:spPr>
          <a:xfrm>
            <a:off x="-285840" y="368280"/>
            <a:ext cx="33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知识点练习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0" y="458640"/>
            <a:ext cx="8867520" cy="5911920"/>
            <a:chOff x="0" y="458640"/>
            <a:chExt cx="8867520" cy="5911920"/>
          </a:xfrm>
        </p:grpSpPr>
        <p:sp>
          <p:nvSpPr>
            <p:cNvPr id="317" name="Rectangle 2"/>
            <p:cNvSpPr/>
            <p:nvPr/>
          </p:nvSpPr>
          <p:spPr>
            <a:xfrm>
              <a:off x="296640" y="458640"/>
              <a:ext cx="4572000" cy="17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解方程：                                            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8" name=""/>
                <p:cNvSpPr txBox="1"/>
                <p:nvPr/>
              </p:nvSpPr>
              <p:spPr>
                <a:xfrm>
                  <a:off x="1106280" y="1763640"/>
                  <a:ext cx="397980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4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解：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19" name=""/>
            <p:cNvGrpSpPr/>
            <p:nvPr/>
          </p:nvGrpSpPr>
          <p:grpSpPr>
            <a:xfrm>
              <a:off x="296640" y="2619360"/>
              <a:ext cx="8570880" cy="931320"/>
              <a:chOff x="296640" y="2619360"/>
              <a:chExt cx="8570880" cy="931320"/>
            </a:xfrm>
          </p:grpSpPr>
          <mc:AlternateContent>
            <mc:Choice xmlns:a14="http://schemas.microsoft.com/office/drawing/2010/main" Requires="a14">
              <p:sp>
                <p:nvSpPr>
                  <p:cNvPr id="320" name=""/>
                  <p:cNvSpPr txBox="1"/>
                  <p:nvPr/>
                </p:nvSpPr>
                <p:spPr>
                  <a:xfrm>
                    <a:off x="944280" y="2709360"/>
                    <a:ext cx="7923240" cy="841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解：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  <m:r>
                              <m:t xml:space="preserve">x</m:t>
                            </m:r>
                          </m:e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9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e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21" name="Text Box 14"/>
              <p:cNvSpPr/>
              <p:nvPr/>
            </p:nvSpPr>
            <p:spPr>
              <a:xfrm>
                <a:off x="296640" y="2619360"/>
                <a:ext cx="1150920" cy="91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1106280" y="3519360"/>
                  <a:ext cx="5310360" cy="151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(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x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解：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t xml:space="preserve">(</m:t>
                          </m:r>
                          <m:r>
                            <m:t xml:space="preserve">3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=</m:t>
                          </m:r>
                          <m:r>
                            <m:t xml:space="preserve">9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x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9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23" name="Text Box 18"/>
            <p:cNvSpPr/>
            <p:nvPr/>
          </p:nvSpPr>
          <p:spPr>
            <a:xfrm>
              <a:off x="0" y="1942920"/>
              <a:ext cx="135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Text Box 20"/>
            <p:cNvSpPr/>
            <p:nvPr/>
          </p:nvSpPr>
          <p:spPr>
            <a:xfrm>
              <a:off x="0" y="3789360"/>
              <a:ext cx="135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5" name=""/>
                <p:cNvSpPr txBox="1"/>
                <p:nvPr/>
              </p:nvSpPr>
              <p:spPr>
                <a:xfrm>
                  <a:off x="393480" y="4984920"/>
                  <a:ext cx="5956560" cy="13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(</m:t>
                          </m:r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  <m:f>
                            <m:num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</m:num>
                            <m:den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x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解：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r>
                            <m:t xml:space="preserve">x</m:t>
                          </m:r>
                        </m:e>
                        <m:e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5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</m:e>
                        <m:e>
                          <m:r>
                            <m:t xml:space="preserve">9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7</m:t>
                              </m:r>
                            </m:num>
                            <m:den>
                              <m:r>
                                <m:t xml:space="preserve">9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104840" y="1162080"/>
                <a:ext cx="6797880" cy="444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0" y="450720"/>
                <a:ext cx="9144000" cy="562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3000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6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0" y="0"/>
                <a:ext cx="8928000" cy="659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93600" y="272880"/>
                <a:ext cx="8740800" cy="631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0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80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323640"/>
            <a:ext cx="77724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知识点复习五：列方程解应用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347760" y="2521080"/>
            <a:ext cx="65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252360" y="1854360"/>
            <a:ext cx="8433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审题，找出等量关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162000" y="3189240"/>
            <a:ext cx="8982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方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方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1111320" y="1044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般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438120" y="1206360"/>
            <a:ext cx="8489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.B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两地间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相距</a:t>
            </a: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360km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甲车从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地出发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地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每小时行</a:t>
            </a: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72km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甲车出发</a:t>
            </a: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15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分钟后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乙车从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地出发开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地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每小时行</a:t>
            </a: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48km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甲车出发后行驶多少小时后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两车相遇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22"/>
          <p:cNvSpPr/>
          <p:nvPr/>
        </p:nvSpPr>
        <p:spPr>
          <a:xfrm>
            <a:off x="0" y="184320"/>
            <a:ext cx="337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知识点练习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Box 3"/>
          <p:cNvSpPr/>
          <p:nvPr/>
        </p:nvSpPr>
        <p:spPr>
          <a:xfrm>
            <a:off x="393840" y="4495680"/>
            <a:ext cx="81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改为问：乙车出发后行驶多少小时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两车相遇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矩形 4"/>
          <p:cNvSpPr/>
          <p:nvPr/>
        </p:nvSpPr>
        <p:spPr>
          <a:xfrm>
            <a:off x="660240" y="4984920"/>
            <a:ext cx="773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（如果问：甲车出发后行驶多少小时后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两车相距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132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km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?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l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4971960" y="361800"/>
            <a:ext cx="3890520" cy="1231560"/>
            <a:chOff x="4971960" y="361800"/>
            <a:chExt cx="3890520" cy="1231560"/>
          </a:xfrm>
        </p:grpSpPr>
        <p:grpSp>
          <p:nvGrpSpPr>
            <p:cNvPr id="168" name=""/>
            <p:cNvGrpSpPr/>
            <p:nvPr/>
          </p:nvGrpSpPr>
          <p:grpSpPr>
            <a:xfrm>
              <a:off x="4971960" y="361800"/>
              <a:ext cx="2017440" cy="1231560"/>
              <a:chOff x="4971960" y="361800"/>
              <a:chExt cx="2017440" cy="1231560"/>
            </a:xfrm>
          </p:grpSpPr>
          <p:sp>
            <p:nvSpPr>
              <p:cNvPr id="169" name="AutoShape 4"/>
              <p:cNvSpPr/>
              <p:nvPr/>
            </p:nvSpPr>
            <p:spPr>
              <a:xfrm>
                <a:off x="4971960" y="361800"/>
                <a:ext cx="1971360" cy="123156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Text Box 5"/>
              <p:cNvSpPr/>
              <p:nvPr/>
            </p:nvSpPr>
            <p:spPr>
              <a:xfrm>
                <a:off x="4995360" y="459360"/>
                <a:ext cx="199404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Text Box 6"/>
            <p:cNvSpPr/>
            <p:nvPr/>
          </p:nvSpPr>
          <p:spPr>
            <a:xfrm>
              <a:off x="5035680" y="657000"/>
              <a:ext cx="203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ff"/>
                  </a:solidFill>
                  <a:latin typeface="Arial"/>
                  <a:ea typeface="隶书"/>
                </a:rPr>
                <a:t>回顾与思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2" name="Picture 7" descr="qz_1rejo[1]"/>
            <p:cNvPicPr/>
            <p:nvPr/>
          </p:nvPicPr>
          <p:blipFill>
            <a:blip r:embed="rId2"/>
            <a:stretch/>
          </p:blipFill>
          <p:spPr>
            <a:xfrm>
              <a:off x="6989760" y="396720"/>
              <a:ext cx="1872720" cy="109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WordArt 8"/>
          <p:cNvSpPr txBox="1"/>
          <p:nvPr/>
        </p:nvSpPr>
        <p:spPr>
          <a:xfrm>
            <a:off x="1187280" y="260280"/>
            <a:ext cx="22608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知识结构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53160" y="1787400"/>
            <a:ext cx="8352360" cy="4621320"/>
            <a:chOff x="353160" y="1787400"/>
            <a:chExt cx="8352360" cy="4621320"/>
          </a:xfrm>
        </p:grpSpPr>
        <p:grpSp>
          <p:nvGrpSpPr>
            <p:cNvPr id="175" name=""/>
            <p:cNvGrpSpPr/>
            <p:nvPr/>
          </p:nvGrpSpPr>
          <p:grpSpPr>
            <a:xfrm>
              <a:off x="353160" y="1787400"/>
              <a:ext cx="8352360" cy="4621320"/>
              <a:chOff x="353160" y="1787400"/>
              <a:chExt cx="8352360" cy="4621320"/>
            </a:xfrm>
          </p:grpSpPr>
          <p:sp>
            <p:nvSpPr>
              <p:cNvPr id="176" name="Text Box 9"/>
              <p:cNvSpPr/>
              <p:nvPr/>
            </p:nvSpPr>
            <p:spPr>
              <a:xfrm>
                <a:off x="353160" y="2454120"/>
                <a:ext cx="606960" cy="21510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华文细黑"/>
                    <a:ea typeface="华文细黑"/>
                  </a:rPr>
                  <a:t>方      程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3905280" y="2587320"/>
                <a:ext cx="1736640" cy="2602800"/>
                <a:chOff x="3905280" y="2587320"/>
                <a:chExt cx="1736640" cy="260280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3905280" y="2587320"/>
                  <a:ext cx="1727280" cy="1224000"/>
                  <a:chOff x="3905280" y="2587320"/>
                  <a:chExt cx="1727280" cy="1224000"/>
                </a:xfrm>
              </p:grpSpPr>
              <p:sp>
                <p:nvSpPr>
                  <p:cNvPr id="179" name="Text Box 33"/>
                  <p:cNvSpPr/>
                  <p:nvPr/>
                </p:nvSpPr>
                <p:spPr>
                  <a:xfrm>
                    <a:off x="4697280" y="2587320"/>
                    <a:ext cx="935280" cy="52056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</a:rPr>
                      <a:t>概念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Line 34"/>
                  <p:cNvSpPr/>
                  <p:nvPr/>
                </p:nvSpPr>
                <p:spPr>
                  <a:xfrm>
                    <a:off x="4265640" y="2874600"/>
                    <a:ext cx="3603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Line 35"/>
                  <p:cNvSpPr/>
                  <p:nvPr/>
                </p:nvSpPr>
                <p:spPr>
                  <a:xfrm>
                    <a:off x="3905280" y="3811320"/>
                    <a:ext cx="3589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Line 36"/>
                  <p:cNvSpPr/>
                  <p:nvPr/>
                </p:nvSpPr>
                <p:spPr>
                  <a:xfrm>
                    <a:off x="4265640" y="2874600"/>
                    <a:ext cx="0" cy="936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275000" y="3811320"/>
                  <a:ext cx="1366920" cy="1378800"/>
                  <a:chOff x="4275000" y="3811320"/>
                  <a:chExt cx="1366920" cy="1378800"/>
                </a:xfrm>
              </p:grpSpPr>
              <p:sp>
                <p:nvSpPr>
                  <p:cNvPr id="184" name="Text Box 38"/>
                  <p:cNvSpPr/>
                  <p:nvPr/>
                </p:nvSpPr>
                <p:spPr>
                  <a:xfrm>
                    <a:off x="4706640" y="4242960"/>
                    <a:ext cx="935280" cy="94716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</a:rPr>
                      <a:t>解法步骤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Line 39"/>
                  <p:cNvSpPr/>
                  <p:nvPr/>
                </p:nvSpPr>
                <p:spPr>
                  <a:xfrm>
                    <a:off x="4275000" y="4530600"/>
                    <a:ext cx="3603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Line 40"/>
                  <p:cNvSpPr/>
                  <p:nvPr/>
                </p:nvSpPr>
                <p:spPr>
                  <a:xfrm>
                    <a:off x="4275000" y="3811320"/>
                    <a:ext cx="0" cy="719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87" name="Line 44"/>
              <p:cNvSpPr/>
              <p:nvPr/>
            </p:nvSpPr>
            <p:spPr>
              <a:xfrm>
                <a:off x="5638680" y="4676760"/>
                <a:ext cx="358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5994360" y="2943000"/>
                <a:ext cx="2711160" cy="3465720"/>
                <a:chOff x="5994360" y="2943000"/>
                <a:chExt cx="2711160" cy="3465720"/>
              </a:xfrm>
            </p:grpSpPr>
            <p:sp>
              <p:nvSpPr>
                <p:cNvPr id="189" name="Text Box 10"/>
                <p:cNvSpPr/>
                <p:nvPr/>
              </p:nvSpPr>
              <p:spPr>
                <a:xfrm>
                  <a:off x="6572160" y="3698640"/>
                  <a:ext cx="2089440" cy="52056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去括号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Line 45"/>
                <p:cNvSpPr/>
                <p:nvPr/>
              </p:nvSpPr>
              <p:spPr>
                <a:xfrm>
                  <a:off x="5994360" y="3254040"/>
                  <a:ext cx="48240" cy="2889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1" name=""/>
                <p:cNvGrpSpPr/>
                <p:nvPr/>
              </p:nvGrpSpPr>
              <p:grpSpPr>
                <a:xfrm>
                  <a:off x="6010200" y="2943000"/>
                  <a:ext cx="2695320" cy="3465720"/>
                  <a:chOff x="6010200" y="2943000"/>
                  <a:chExt cx="2695320" cy="3465720"/>
                </a:xfrm>
              </p:grpSpPr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6041520" y="4376520"/>
                    <a:ext cx="2664000" cy="520560"/>
                    <a:chOff x="6041520" y="4376520"/>
                    <a:chExt cx="2664000" cy="520560"/>
                  </a:xfrm>
                </p:grpSpPr>
                <p:sp>
                  <p:nvSpPr>
                    <p:cNvPr id="193" name="Text Box 16"/>
                    <p:cNvSpPr/>
                    <p:nvPr/>
                  </p:nvSpPr>
                  <p:spPr>
                    <a:xfrm>
                      <a:off x="6616080" y="4376520"/>
                      <a:ext cx="2089440" cy="520560"/>
                    </a:xfrm>
                    <a:prstGeom prst="rect">
                      <a:avLst/>
                    </a:prstGeom>
                    <a:solidFill>
                      <a:srgbClr val="00cc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移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Line 17"/>
                    <p:cNvSpPr/>
                    <p:nvPr/>
                  </p:nvSpPr>
                  <p:spPr>
                    <a:xfrm>
                      <a:off x="6041520" y="4663800"/>
                      <a:ext cx="3603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6041520" y="5132520"/>
                    <a:ext cx="2664000" cy="520560"/>
                    <a:chOff x="6041520" y="5132520"/>
                    <a:chExt cx="2664000" cy="520560"/>
                  </a:xfrm>
                </p:grpSpPr>
                <p:sp>
                  <p:nvSpPr>
                    <p:cNvPr id="196" name="Text Box 19"/>
                    <p:cNvSpPr/>
                    <p:nvPr/>
                  </p:nvSpPr>
                  <p:spPr>
                    <a:xfrm>
                      <a:off x="6616080" y="5132520"/>
                      <a:ext cx="2089440" cy="520560"/>
                    </a:xfrm>
                    <a:prstGeom prst="rect">
                      <a:avLst/>
                    </a:prstGeom>
                    <a:solidFill>
                      <a:srgbClr val="00cc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Line 20"/>
                    <p:cNvSpPr/>
                    <p:nvPr/>
                  </p:nvSpPr>
                  <p:spPr>
                    <a:xfrm>
                      <a:off x="6041520" y="5421600"/>
                      <a:ext cx="3603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8" name="Line 21"/>
                  <p:cNvSpPr/>
                  <p:nvPr/>
                </p:nvSpPr>
                <p:spPr>
                  <a:xfrm>
                    <a:off x="6041520" y="3914640"/>
                    <a:ext cx="3603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Text Box 42"/>
                  <p:cNvSpPr/>
                  <p:nvPr/>
                </p:nvSpPr>
                <p:spPr>
                  <a:xfrm>
                    <a:off x="6589440" y="2943000"/>
                    <a:ext cx="2089440" cy="52056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</a:rPr>
                      <a:t>去分母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Line 43"/>
                  <p:cNvSpPr/>
                  <p:nvPr/>
                </p:nvSpPr>
                <p:spPr>
                  <a:xfrm>
                    <a:off x="6014520" y="3230280"/>
                    <a:ext cx="3603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6010200" y="5888160"/>
                    <a:ext cx="2664000" cy="520560"/>
                    <a:chOff x="6010200" y="5888160"/>
                    <a:chExt cx="2664000" cy="520560"/>
                  </a:xfrm>
                </p:grpSpPr>
                <p:sp>
                  <p:nvSpPr>
                    <p:cNvPr id="202" name="Text Box 47"/>
                    <p:cNvSpPr/>
                    <p:nvPr/>
                  </p:nvSpPr>
                  <p:spPr>
                    <a:xfrm>
                      <a:off x="6584760" y="5888160"/>
                      <a:ext cx="2089440" cy="520560"/>
                    </a:xfrm>
                    <a:prstGeom prst="rect">
                      <a:avLst/>
                    </a:prstGeom>
                    <a:solidFill>
                      <a:srgbClr val="00cc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系数化为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Line 48"/>
                    <p:cNvSpPr/>
                    <p:nvPr/>
                  </p:nvSpPr>
                  <p:spPr>
                    <a:xfrm>
                      <a:off x="6010200" y="6175440"/>
                      <a:ext cx="3603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Line 49"/>
                    <p:cNvSpPr/>
                    <p:nvPr/>
                  </p:nvSpPr>
                  <p:spPr>
                    <a:xfrm>
                      <a:off x="6010200" y="5959440"/>
                      <a:ext cx="0" cy="2160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05" name=""/>
              <p:cNvGrpSpPr/>
              <p:nvPr/>
            </p:nvGrpSpPr>
            <p:grpSpPr>
              <a:xfrm>
                <a:off x="1530360" y="1787400"/>
                <a:ext cx="2463840" cy="3276720"/>
                <a:chOff x="1530360" y="1787400"/>
                <a:chExt cx="2463840" cy="3276720"/>
              </a:xfrm>
            </p:grpSpPr>
            <p:sp>
              <p:nvSpPr>
                <p:cNvPr id="206" name="Text Box 13"/>
                <p:cNvSpPr/>
                <p:nvPr/>
              </p:nvSpPr>
              <p:spPr>
                <a:xfrm>
                  <a:off x="1574640" y="2631960"/>
                  <a:ext cx="2375280" cy="52056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等式的性质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Text Box 23"/>
                <p:cNvSpPr/>
                <p:nvPr/>
              </p:nvSpPr>
              <p:spPr>
                <a:xfrm>
                  <a:off x="1530360" y="1787400"/>
                  <a:ext cx="2375280" cy="52056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方程的概念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Text Box 29"/>
                <p:cNvSpPr/>
                <p:nvPr/>
              </p:nvSpPr>
              <p:spPr>
                <a:xfrm>
                  <a:off x="1574640" y="3565440"/>
                  <a:ext cx="2375280" cy="52056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一元一次方程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Text Box 29"/>
                <p:cNvSpPr/>
                <p:nvPr/>
              </p:nvSpPr>
              <p:spPr>
                <a:xfrm>
                  <a:off x="1618920" y="4543560"/>
                  <a:ext cx="2375280" cy="52056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一元一次方程与实际问题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Line 30"/>
              <p:cNvSpPr/>
              <p:nvPr/>
            </p:nvSpPr>
            <p:spPr>
              <a:xfrm>
                <a:off x="1233360" y="4988160"/>
                <a:ext cx="36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30"/>
              <p:cNvSpPr/>
              <p:nvPr/>
            </p:nvSpPr>
            <p:spPr>
              <a:xfrm>
                <a:off x="882360" y="3476520"/>
                <a:ext cx="36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Line 14"/>
            <p:cNvSpPr/>
            <p:nvPr/>
          </p:nvSpPr>
          <p:spPr>
            <a:xfrm>
              <a:off x="1188720" y="200952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30"/>
            <p:cNvSpPr/>
            <p:nvPr/>
          </p:nvSpPr>
          <p:spPr>
            <a:xfrm>
              <a:off x="1188720" y="289872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30"/>
            <p:cNvSpPr/>
            <p:nvPr/>
          </p:nvSpPr>
          <p:spPr>
            <a:xfrm>
              <a:off x="1233360" y="38322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直接连接符 60"/>
          <p:cNvSpPr/>
          <p:nvPr/>
        </p:nvSpPr>
        <p:spPr>
          <a:xfrm>
            <a:off x="1188360" y="2009880"/>
            <a:ext cx="44280" cy="297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393840" y="673200"/>
            <a:ext cx="8450280" cy="4581360"/>
            <a:chOff x="393840" y="673200"/>
            <a:chExt cx="8450280" cy="4581360"/>
          </a:xfrm>
        </p:grpSpPr>
        <p:sp>
          <p:nvSpPr>
            <p:cNvPr id="340" name="TextBox 2"/>
            <p:cNvSpPr/>
            <p:nvPr/>
          </p:nvSpPr>
          <p:spPr>
            <a:xfrm>
              <a:off x="393840" y="673200"/>
              <a:ext cx="831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解：设甲车出发后行驶</a:t>
              </a:r>
              <a:r>
                <a:rPr b="1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X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小时后两车相遇，由题意得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1" name="" descr=""/>
            <p:cNvPicPr/>
            <p:nvPr/>
          </p:nvPicPr>
          <p:blipFill>
            <a:blip r:embed="rId1"/>
            <a:stretch/>
          </p:blipFill>
          <p:spPr>
            <a:xfrm>
              <a:off x="571320" y="1828800"/>
              <a:ext cx="8272800" cy="102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TextBox 5"/>
            <p:cNvSpPr/>
            <p:nvPr/>
          </p:nvSpPr>
          <p:spPr>
            <a:xfrm>
              <a:off x="1149120" y="3028680"/>
              <a:ext cx="711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解之得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Box 6"/>
            <p:cNvSpPr/>
            <p:nvPr/>
          </p:nvSpPr>
          <p:spPr>
            <a:xfrm>
              <a:off x="971640" y="3739680"/>
              <a:ext cx="711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X=3.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Box 7"/>
            <p:cNvSpPr/>
            <p:nvPr/>
          </p:nvSpPr>
          <p:spPr>
            <a:xfrm>
              <a:off x="882720" y="4673160"/>
              <a:ext cx="751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答：甲车出发后行驶</a:t>
              </a:r>
              <a:r>
                <a:rPr b="1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.1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小时后两车相遇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468360" y="981000"/>
            <a:ext cx="8001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  应用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元旦某公园的成人的门票每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元，儿童门票半价（即每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元），全天共售出门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张，收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6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元。问这天售出儿童门票多少张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4000" y="342900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解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设售出儿童门票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187280" y="429264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根据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题意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得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Rectangle 3" descr=""/>
          <p:cNvPicPr/>
          <p:nvPr/>
        </p:nvPicPr>
        <p:blipFill>
          <a:blip r:embed="rId1"/>
          <a:stretch/>
        </p:blipFill>
        <p:spPr>
          <a:xfrm>
            <a:off x="3670200" y="4149720"/>
            <a:ext cx="5473800" cy="8190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332000" y="515772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方程，得：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 = 2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16000" y="573408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答：共售出儿童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1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24000" y="155736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某部队开展支农活动，甲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，乙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，现另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去支援，使甲队是乙队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，问应调往甲队、乙队各多少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39640" y="306864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调往甲队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，则调往乙队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6-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116000" y="378936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根据题意，得方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Rectangle 3" descr=""/>
          <p:cNvPicPr/>
          <p:nvPr/>
        </p:nvPicPr>
        <p:blipFill>
          <a:blip r:embed="rId1"/>
          <a:stretch/>
        </p:blipFill>
        <p:spPr>
          <a:xfrm>
            <a:off x="4284720" y="3789360"/>
            <a:ext cx="4464000" cy="6904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258920" y="4282920"/>
            <a:ext cx="381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解方程得：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x = 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258920" y="5229360"/>
            <a:ext cx="58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答：调往甲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。调往乙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124000" y="476280"/>
            <a:ext cx="460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综合训练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0"/>
          <p:cNvSpPr/>
          <p:nvPr/>
        </p:nvSpPr>
        <p:spPr>
          <a:xfrm>
            <a:off x="0" y="10288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思考题：某商场共出售甲、乙两种商品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共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50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件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该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件商品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总进价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10800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元，其中商品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甲每件进价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1800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出售后获利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0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元；商品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乙每件进价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2400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出售后获利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0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元。问该商场出售这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件商品共获利是多少元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"/>
          <p:cNvGrpSpPr/>
          <p:nvPr/>
        </p:nvGrpSpPr>
        <p:grpSpPr>
          <a:xfrm>
            <a:off x="393840" y="673200"/>
            <a:ext cx="8350200" cy="5515560"/>
            <a:chOff x="393840" y="673200"/>
            <a:chExt cx="8350200" cy="5515560"/>
          </a:xfrm>
        </p:grpSpPr>
        <p:sp>
          <p:nvSpPr>
            <p:cNvPr id="360" name="TextBox 2"/>
            <p:cNvSpPr/>
            <p:nvPr/>
          </p:nvSpPr>
          <p:spPr>
            <a:xfrm>
              <a:off x="393840" y="673200"/>
              <a:ext cx="831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解：设出售甲种商品</a:t>
              </a:r>
              <a:r>
                <a:rPr b="1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X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件，则乙种商品（</a:t>
              </a:r>
              <a:r>
                <a:rPr b="1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50-X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）件，由题意得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"/>
            <a:stretch/>
          </p:blipFill>
          <p:spPr>
            <a:xfrm>
              <a:off x="793800" y="1917720"/>
              <a:ext cx="7950240" cy="52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Box 5"/>
            <p:cNvSpPr/>
            <p:nvPr/>
          </p:nvSpPr>
          <p:spPr>
            <a:xfrm>
              <a:off x="1238400" y="2584440"/>
              <a:ext cx="711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解之得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TextBox 6"/>
            <p:cNvSpPr/>
            <p:nvPr/>
          </p:nvSpPr>
          <p:spPr>
            <a:xfrm>
              <a:off x="1593720" y="3251160"/>
              <a:ext cx="711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X=2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Box 7"/>
            <p:cNvSpPr/>
            <p:nvPr/>
          </p:nvSpPr>
          <p:spPr>
            <a:xfrm>
              <a:off x="527040" y="5607360"/>
              <a:ext cx="751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答：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商场出售这</a:t>
              </a:r>
              <a:r>
                <a:rPr b="1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50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件商品共获利</a:t>
              </a:r>
              <a:r>
                <a:rPr b="1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3000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元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Box 8"/>
            <p:cNvSpPr/>
            <p:nvPr/>
          </p:nvSpPr>
          <p:spPr>
            <a:xfrm>
              <a:off x="882720" y="4051080"/>
              <a:ext cx="711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∴ </a:t>
              </a:r>
              <a:r>
                <a:rPr b="1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50-X=3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TextBox 9"/>
            <p:cNvSpPr/>
            <p:nvPr/>
          </p:nvSpPr>
          <p:spPr>
            <a:xfrm>
              <a:off x="393840" y="4762800"/>
              <a:ext cx="826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∴ </a:t>
              </a:r>
              <a:r>
                <a:rPr b="1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50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件共获利</a:t>
              </a:r>
              <a:r>
                <a:rPr b="1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=20 × 200+30 × 300=130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WordArt 2"/>
          <p:cNvSpPr txBox="1"/>
          <p:nvPr/>
        </p:nvSpPr>
        <p:spPr>
          <a:xfrm>
            <a:off x="304920" y="0"/>
            <a:ext cx="35049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课堂小结</a:t>
            </a:r>
            <a:endParaRPr b="0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441360" y="1743120"/>
            <a:ext cx="473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元一次方程及其有关概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2472480" y="2743200"/>
            <a:ext cx="7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式的两个性质及其应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566640" y="3610080"/>
            <a:ext cx="607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一元一次方程及其应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0" y="2529000"/>
            <a:ext cx="574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什么叫方程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991880" y="3608280"/>
            <a:ext cx="449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1e1d"/>
                </a:solidFill>
                <a:latin typeface="Times New Roman"/>
                <a:ea typeface="华文仿宋"/>
              </a:rPr>
              <a:t>含有未知数的等式叫做</a:t>
            </a: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方程</a:t>
            </a:r>
            <a:r>
              <a:rPr b="1" lang="en-US" sz="4400" spc="-1" strike="noStrike">
                <a:solidFill>
                  <a:srgbClr val="3333cc"/>
                </a:solidFill>
                <a:latin typeface="黑体"/>
                <a:ea typeface="黑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0" y="4284720"/>
            <a:ext cx="982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注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判断一个式子是不是方程，要看两点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黑体"/>
              </a:rPr>
              <a:t>一是等式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；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黑体"/>
              </a:rPr>
              <a:t>二是含有未知数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。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二者缺一不可</a:t>
            </a:r>
            <a:r>
              <a:rPr b="1" lang="en-US" sz="3600" spc="-1" strike="noStrike">
                <a:solidFill>
                  <a:srgbClr val="3333cc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0" y="233280"/>
            <a:ext cx="85345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知识点复习一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、方程的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、一元一次方程的定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方程的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-195120" y="0"/>
            <a:ext cx="5146560" cy="2364480"/>
            <a:chOff x="-195120" y="0"/>
            <a:chExt cx="5146560" cy="2364480"/>
          </a:xfrm>
        </p:grpSpPr>
        <p:sp>
          <p:nvSpPr>
            <p:cNvPr id="221" name="Text Box 2"/>
            <p:cNvSpPr/>
            <p:nvPr/>
          </p:nvSpPr>
          <p:spPr>
            <a:xfrm>
              <a:off x="3038040" y="1600200"/>
              <a:ext cx="1913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2.</a:t>
              </a:r>
              <a:r>
                <a:rPr b="1" lang="zh-CN" sz="4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什么是一元一次方程？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2" name="Picture 4" descr="PE02604_"/>
            <p:cNvPicPr/>
            <p:nvPr/>
          </p:nvPicPr>
          <p:blipFill>
            <a:blip r:embed="rId1"/>
            <a:stretch/>
          </p:blipFill>
          <p:spPr>
            <a:xfrm>
              <a:off x="-195120" y="188640"/>
              <a:ext cx="1951560" cy="14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5"/>
            <p:cNvSpPr/>
            <p:nvPr/>
          </p:nvSpPr>
          <p:spPr>
            <a:xfrm>
              <a:off x="956880" y="0"/>
              <a:ext cx="239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想一想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0" y="2754360"/>
            <a:ext cx="9144000" cy="2449440"/>
            <a:chOff x="0" y="2754360"/>
            <a:chExt cx="9144000" cy="2449440"/>
          </a:xfrm>
        </p:grpSpPr>
        <p:sp>
          <p:nvSpPr>
            <p:cNvPr id="225" name="Text Box 9"/>
            <p:cNvSpPr/>
            <p:nvPr/>
          </p:nvSpPr>
          <p:spPr>
            <a:xfrm>
              <a:off x="0" y="2770200"/>
              <a:ext cx="9144000" cy="23115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只有一个未知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Arial"/>
                </a:rPr>
                <a:t>一元一次方程</a:t>
              </a:r>
              <a:r>
                <a:rPr b="1" lang="zh-CN" sz="36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     未知数的次数为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               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分母不含有字母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3203640" y="2754360"/>
                  <a:ext cx="398160" cy="244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 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4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7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5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7" name="Text Box 10"/>
          <p:cNvSpPr/>
          <p:nvPr/>
        </p:nvSpPr>
        <p:spPr>
          <a:xfrm>
            <a:off x="1513440" y="5138640"/>
            <a:ext cx="998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、方程的解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05880" y="584532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使方程中等号左右两边相等的未知数的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252360" y="1186200"/>
            <a:ext cx="72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各式中，是方程的是（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3              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2 &gt; 0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7 = 3      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+ 3 =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252360" y="2979720"/>
            <a:ext cx="746748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下列方程中哪些是一元一次方程（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x+5=1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+   =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；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x+y=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+5y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=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；   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= 2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932360" y="3743280"/>
                <a:ext cx="7351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则n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6192720" y="3699000"/>
                <a:ext cx="327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3" name="Rectangle 3"/>
          <p:cNvGraphicFramePr/>
          <p:nvPr/>
        </p:nvGraphicFramePr>
        <p:xfrm>
          <a:off x="5148360" y="4726080"/>
          <a:ext cx="788760" cy="7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Rectangle 3" descr="21世纪教育网 -- 中国最大型、最专业的中小学教育资源门户网站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4726080"/>
                    <a:ext cx="78876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Rectangle 12"/>
          <p:cNvSpPr/>
          <p:nvPr/>
        </p:nvSpPr>
        <p:spPr>
          <a:xfrm>
            <a:off x="206280" y="458640"/>
            <a:ext cx="274500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练习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638680" y="1162080"/>
            <a:ext cx="3245040" cy="2437200"/>
            <a:chOff x="5638680" y="1162080"/>
            <a:chExt cx="3245040" cy="2437200"/>
          </a:xfrm>
        </p:grpSpPr>
        <p:sp>
          <p:nvSpPr>
            <p:cNvPr id="237" name="TextBox 11"/>
            <p:cNvSpPr/>
            <p:nvPr/>
          </p:nvSpPr>
          <p:spPr>
            <a:xfrm>
              <a:off x="5638680" y="1162080"/>
              <a:ext cx="622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Box 12"/>
            <p:cNvSpPr/>
            <p:nvPr/>
          </p:nvSpPr>
          <p:spPr>
            <a:xfrm>
              <a:off x="5994000" y="2895840"/>
              <a:ext cx="2889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Times New Roman"/>
                </a:rPr>
                <a:t>（</a:t>
              </a: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zh-CN" sz="4000" spc="-1" strike="noStrike">
                  <a:solidFill>
                    <a:srgbClr val="ff0000"/>
                  </a:solidFill>
                  <a:latin typeface="Times New Roman"/>
                </a:rPr>
                <a:t>）、（</a:t>
              </a: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zh-CN" sz="4000" spc="-1" strike="noStrike">
                  <a:solidFill>
                    <a:srgbClr val="ff0000"/>
                  </a:solidFill>
                  <a:latin typeface="Times New Roman"/>
                </a:rPr>
                <a:t>）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27000" y="2844720"/>
            <a:ext cx="9144000" cy="1446120"/>
            <a:chOff x="27000" y="2844720"/>
            <a:chExt cx="9144000" cy="1446120"/>
          </a:xfrm>
        </p:grpSpPr>
        <p:sp>
          <p:nvSpPr>
            <p:cNvPr id="240" name="Text Box 16"/>
            <p:cNvSpPr/>
            <p:nvPr/>
          </p:nvSpPr>
          <p:spPr>
            <a:xfrm>
              <a:off x="27000" y="2977920"/>
              <a:ext cx="9144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、 若                            是一元一次方程，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1" name=""/>
                <p:cNvSpPr txBox="1"/>
                <p:nvPr/>
              </p:nvSpPr>
              <p:spPr>
                <a:xfrm>
                  <a:off x="1798560" y="2844720"/>
                  <a:ext cx="3286080" cy="83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由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得y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 </m:t>
                      </m:r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776160" y="3778200"/>
                  <a:ext cx="990360" cy="47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由</m:t>
                      </m:r>
                      <m:r>
                        <m:t xml:space="preserve"> </m:t>
                      </m:r>
                      <m:r>
                        <m:t xml:space="preserve">3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t xml:space="preserve">得x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3" name="Line 19"/>
            <p:cNvSpPr/>
            <p:nvPr/>
          </p:nvSpPr>
          <p:spPr>
            <a:xfrm>
              <a:off x="1931760" y="4222800"/>
              <a:ext cx="1708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28680" y="1028880"/>
            <a:ext cx="8026200" cy="1312920"/>
            <a:chOff x="328680" y="1028880"/>
            <a:chExt cx="8026200" cy="1312920"/>
          </a:xfrm>
        </p:grpSpPr>
        <p:sp>
          <p:nvSpPr>
            <p:cNvPr id="245" name="Rectangle 33"/>
            <p:cNvSpPr/>
            <p:nvPr/>
          </p:nvSpPr>
          <p:spPr>
            <a:xfrm>
              <a:off x="328680" y="1028880"/>
              <a:ext cx="8026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写一个解为              的一元一次方程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是  </a:t>
              </a:r>
              <a:r>
                <a:rPr b="1" lang="zh-CN" sz="4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                                          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3403800" y="1073160"/>
                  <a:ext cx="1583640" cy="64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由</m:t>
                      </m:r>
                      <m:r>
                        <m:t xml:space="preserve"> </m:t>
                      </m:r>
                      <m:r>
                        <m:t xml:space="preserve">7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,</m:t>
                      </m:r>
                      <m:r>
                        <m:t xml:space="preserve">得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7" name=""/>
          <p:cNvGrpSpPr/>
          <p:nvPr/>
        </p:nvGrpSpPr>
        <p:grpSpPr>
          <a:xfrm>
            <a:off x="1827360" y="1538280"/>
            <a:ext cx="3555720" cy="2703960"/>
            <a:chOff x="1827360" y="1538280"/>
            <a:chExt cx="3555720" cy="2703960"/>
          </a:xfrm>
        </p:grpSpPr>
        <p:sp>
          <p:nvSpPr>
            <p:cNvPr id="248" name="TextBox 15"/>
            <p:cNvSpPr/>
            <p:nvPr/>
          </p:nvSpPr>
          <p:spPr>
            <a:xfrm>
              <a:off x="2849400" y="1538280"/>
              <a:ext cx="2533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X+2=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Box 16"/>
            <p:cNvSpPr/>
            <p:nvPr/>
          </p:nvSpPr>
          <p:spPr>
            <a:xfrm>
              <a:off x="1827360" y="3538800"/>
              <a:ext cx="75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5"/>
          <p:cNvSpPr/>
          <p:nvPr/>
        </p:nvSpPr>
        <p:spPr>
          <a:xfrm>
            <a:off x="1932120" y="2349360"/>
            <a:ext cx="447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求方程的解的过程叫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解方程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-15840" y="638280"/>
            <a:ext cx="8531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知识点复习二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解方程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260280" y="272880"/>
            <a:ext cx="8209080" cy="2804040"/>
            <a:chOff x="260280" y="272880"/>
            <a:chExt cx="8209080" cy="2804040"/>
          </a:xfrm>
        </p:grpSpPr>
        <p:grpSp>
          <p:nvGrpSpPr>
            <p:cNvPr id="253" name=""/>
            <p:cNvGrpSpPr/>
            <p:nvPr/>
          </p:nvGrpSpPr>
          <p:grpSpPr>
            <a:xfrm>
              <a:off x="348840" y="1117440"/>
              <a:ext cx="8120520" cy="1959480"/>
              <a:chOff x="348840" y="1117440"/>
              <a:chExt cx="8120520" cy="1959480"/>
            </a:xfrm>
          </p:grpSpPr>
          <p:sp>
            <p:nvSpPr>
              <p:cNvPr id="254" name="Rectangle 6"/>
              <p:cNvSpPr/>
              <p:nvPr/>
            </p:nvSpPr>
            <p:spPr>
              <a:xfrm>
                <a:off x="348840" y="2495520"/>
                <a:ext cx="8076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、若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＝－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是方程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＋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＝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的解，则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的值是</a:t>
                </a:r>
                <a:r>
                  <a:rPr b="1" lang="zh-CN" sz="3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       </a:t>
                </a:r>
                <a:r>
                  <a:rPr b="1" lang="en-US" sz="3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Rectangle 6"/>
              <p:cNvSpPr/>
              <p:nvPr/>
            </p:nvSpPr>
            <p:spPr>
              <a:xfrm>
                <a:off x="393120" y="1117440"/>
                <a:ext cx="8076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、方程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＋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＝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的解是</a:t>
                </a:r>
                <a:r>
                  <a:rPr b="1" lang="zh-CN" sz="3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               </a:t>
                </a:r>
                <a:r>
                  <a:rPr b="1" lang="en-US" sz="3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Rectangle 12"/>
            <p:cNvSpPr/>
            <p:nvPr/>
          </p:nvSpPr>
          <p:spPr>
            <a:xfrm>
              <a:off x="260280" y="272880"/>
              <a:ext cx="41148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</a:rPr>
                <a:t>练习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72720" y="1028880"/>
            <a:ext cx="5255640" cy="2537280"/>
            <a:chOff x="972720" y="1028880"/>
            <a:chExt cx="5255640" cy="2537280"/>
          </a:xfrm>
        </p:grpSpPr>
        <p:sp>
          <p:nvSpPr>
            <p:cNvPr id="258" name="Text Box 5"/>
            <p:cNvSpPr/>
            <p:nvPr/>
          </p:nvSpPr>
          <p:spPr>
            <a:xfrm>
              <a:off x="972720" y="29847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5"/>
            <p:cNvSpPr/>
            <p:nvPr/>
          </p:nvSpPr>
          <p:spPr>
            <a:xfrm>
              <a:off x="4977720" y="1028880"/>
              <a:ext cx="125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X= - 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4"/>
          <p:cNvSpPr/>
          <p:nvPr/>
        </p:nvSpPr>
        <p:spPr>
          <a:xfrm>
            <a:off x="1599120" y="117936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式性质有哪些？并以字母的形式表示出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611280" y="1989000"/>
            <a:ext cx="742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式性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如果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=b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那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=b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5157720" y="2259000"/>
            <a:ext cx="4191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需注意的是“同一个数，或同一个式子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0" y="32400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知识点复习三：等式的性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701640" y="3473280"/>
            <a:ext cx="46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式性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如果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=b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 那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c=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657360" y="4689360"/>
            <a:ext cx="526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如果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=b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 那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/c=b/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Rectangle 3"/>
              <p:cNvSpPr txBox="1"/>
              <p:nvPr/>
            </p:nvSpPr>
            <p:spPr>
              <a:xfrm>
                <a:off x="3460680" y="5251320"/>
                <a:ext cx="162108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由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t xml:space="preserve">得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Text Box 14"/>
          <p:cNvSpPr/>
          <p:nvPr/>
        </p:nvSpPr>
        <p:spPr>
          <a:xfrm>
            <a:off x="4976640" y="4014720"/>
            <a:ext cx="43596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需注意的是“两边都乘，不要漏乘”；“同除一个非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数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03:32:45Z</dcterms:created>
  <dc:creator>Administrator</dc:creator>
  <dc:description/>
  <cp:keywords/>
  <dc:language>en-US</dc:language>
  <cp:lastModifiedBy>User</cp:lastModifiedBy>
  <cp:lastPrinted>1900-01-04T05:48:54Z</cp:lastPrinted>
  <dcterms:modified xsi:type="dcterms:W3CDTF">2014-11-05T07:18:18Z</dcterms:modified>
  <cp:revision>6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