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5.png" ContentType="image/png"/>
  <Override PartName="/ppt/media/voltage.wav" ContentType="audio/x-wav"/>
  <Override PartName="/ppt/media/type.wav" ContentType="audio/x-wav"/>
  <Override PartName="/ppt/media/image21.wmf" ContentType="image/x-wmf"/>
  <Override PartName="/ppt/media/image17.wmf" ContentType="image/x-wmf"/>
  <Override PartName="/ppt/media/image16.gif" ContentType="image/gif"/>
  <Override PartName="/ppt/media/image12.wmf" ContentType="image/x-wmf"/>
  <Override PartName="/ppt/media/image14.jpeg" ContentType="image/jpeg"/>
  <Override PartName="/ppt/media/image15.wmf" ContentType="image/x-wmf"/>
  <Override PartName="/ppt/media/image10.gif" ContentType="image/gif"/>
  <Override PartName="/ppt/media/image3.png" ContentType="image/png"/>
  <Override PartName="/ppt/media/image4.png" ContentType="image/png"/>
  <Override PartName="/ppt/media/image24.jpeg" ContentType="image/jpeg"/>
  <Override PartName="/ppt/media/image9.gif" ContentType="image/gif"/>
  <Override PartName="/ppt/media/image11.wmf" ContentType="image/x-wmf"/>
  <Override PartName="/ppt/media/explode.wav" ContentType="audio/x-wav"/>
  <Override PartName="/ppt/media/image26.gif" ContentType="image/gif"/>
  <Override PartName="/ppt/media/image29.png" ContentType="image/png"/>
  <Override PartName="/ppt/media/image6.png" ContentType="image/png"/>
  <Override PartName="/ppt/media/image1.jpeg" ContentType="image/jpeg"/>
  <Override PartName="/ppt/media/image27.gif" ContentType="image/gif"/>
  <Override PartName="/ppt/media/image28.jpeg" ContentType="image/jpeg"/>
  <Override PartName="/ppt/media/image31.gif" ContentType="image/gif"/>
  <Override PartName="/ppt/media/image32.gif" ContentType="image/gif"/>
  <Override PartName="/ppt/media/image33.wmf" ContentType="image/x-wmf"/>
  <Override PartName="/ppt/media/image7.gif" ContentType="image/gif"/>
  <Override PartName="/ppt/media/hammer.wav" ContentType="audio/x-wav"/>
  <Override PartName="/ppt/media/image18.wmf" ContentType="image/x-wmf"/>
  <Override PartName="/ppt/media/image20.wmf" ContentType="image/x-wmf"/>
  <Override PartName="/ppt/media/image8.gif" ContentType="image/gif"/>
  <Override PartName="/ppt/media/image19.wmf" ContentType="image/x-wmf"/>
  <Override PartName="/ppt/media/image13.jpeg" ContentType="image/jpeg"/>
  <Override PartName="/ppt/media/image23.png" ContentType="image/png"/>
  <Override PartName="/ppt/media/image30.gif" ContentType="image/gif"/>
  <Override PartName="/ppt/media/image25.jpeg" ContentType="image/jpeg"/>
  <Override PartName="/ppt/media/image2.png" ContentType="image/png"/>
  <Override PartName="/ppt/media/suction.wav" ContentType="audio/x-wav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E0D-6BB2-4F6A-A94C-D115B76F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405-1292-4373-ABD7-18377B8A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39B-26D5-41DE-B9BB-FD3D03ED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265-4C51-433F-80E4-E064D9E6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10AA-9815-4CDC-A104-7272273C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52A3-F68D-4584-BE42-652DE562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263-0514-4B8F-9482-E689784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5E1C-1C1B-427B-9683-23FBCBE2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37D-029F-4E55-A6EC-5FF1DD9D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F68-A7B4-4448-9CA8-564AB61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9979-B173-4384-BD68-C93D52D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C59-734A-4D8D-A7EF-92A3418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96BE-2B4E-479B-8165-6548BBE5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50F6-3A8A-4E99-80A2-5E53EF1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AD89-7F08-42DE-B526-3C3E4D1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E2E2-CE5C-4470-B4D4-D5432B14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E573-BFEE-47D1-A371-6546A839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D8D-C056-42E6-8DBC-663BDCF6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751-64E1-43F3-B1EC-FF9DA568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A46-704B-4A36-8AEB-89FF762F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9BA-5029-4393-AC55-458091B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80C-1F4A-48B9-9B2E-1FC4A6A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A67-2F22-4491-B007-EEBA54A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2E7-800F-4B0B-B8AA-0EFF952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81A-2979-4DE5-A64C-D57366FC2512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DF4-D772-4E4E-A7B2-EC4579E31A8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audio" Target="../media/suction.wav"/><Relationship Id="rId10" Type="http://schemas.openxmlformats.org/officeDocument/2006/relationships/audio" Target="../media/type.wav"/><Relationship Id="rId11" Type="http://schemas.openxmlformats.org/officeDocument/2006/relationships/audio" Target="../media/suction.wav"/><Relationship Id="rId12" Type="http://schemas.openxmlformats.org/officeDocument/2006/relationships/audio" Target="../media/voltage.wav"/><Relationship Id="rId13" Type="http://schemas.openxmlformats.org/officeDocument/2006/relationships/audio" Target="../media/voltage.wav"/><Relationship Id="rId14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85080" y="40464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1152720" cy="1371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826920" y="6235560"/>
            <a:ext cx="6769440" cy="622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258920" y="476280"/>
            <a:ext cx="6769080" cy="622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39640" y="5445000"/>
            <a:ext cx="6769080" cy="62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7093080" y="1989000"/>
            <a:ext cx="11523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549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例１．解方程：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148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Arial"/>
              </a:rPr>
              <a:t>7x-2.5x+3x-1.5x= -15×4-6×3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2276640"/>
            <a:ext cx="80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解：合并同类项，得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6x=-78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987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系数化为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，得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       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x=-13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24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练习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解下列方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114800" y="332892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328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1752480" cy="1644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0606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你一定会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003640" y="620640"/>
          <a:ext cx="316872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620640"/>
                    <a:ext cx="31687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11280" y="620640"/>
          <a:ext cx="208944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620640"/>
                    <a:ext cx="2089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08000" y="1413000"/>
            <a:ext cx="4465800" cy="1008000"/>
            <a:chOff x="1908000" y="1413000"/>
            <a:chExt cx="4465800" cy="1008000"/>
          </a:xfrm>
        </p:grpSpPr>
        <p:sp>
          <p:nvSpPr>
            <p:cNvPr id="236" name=""/>
            <p:cNvSpPr/>
            <p:nvPr/>
          </p:nvSpPr>
          <p:spPr>
            <a:xfrm>
              <a:off x="1908000" y="14130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解：（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）合并同类项，得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4427640" y="1916280"/>
                  <a:ext cx="12952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2843280" y="2421000"/>
            <a:ext cx="3240000" cy="1008000"/>
            <a:chOff x="2843280" y="2421000"/>
            <a:chExt cx="3240000" cy="1008000"/>
          </a:xfrm>
        </p:grpSpPr>
        <p:sp>
          <p:nvSpPr>
            <p:cNvPr id="239" name=""/>
            <p:cNvSpPr/>
            <p:nvPr/>
          </p:nvSpPr>
          <p:spPr>
            <a:xfrm>
              <a:off x="2843280" y="2421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系数化为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，得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4716360" y="2924280"/>
                  <a:ext cx="9352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1" name=""/>
          <p:cNvGrpSpPr/>
          <p:nvPr/>
        </p:nvGrpSpPr>
        <p:grpSpPr>
          <a:xfrm>
            <a:off x="2627280" y="3429000"/>
            <a:ext cx="3600360" cy="1008000"/>
            <a:chOff x="2627280" y="3429000"/>
            <a:chExt cx="3600360" cy="1008000"/>
          </a:xfrm>
        </p:grpSpPr>
        <p:sp>
          <p:nvSpPr>
            <p:cNvPr id="242" name=""/>
            <p:cNvSpPr/>
            <p:nvPr/>
          </p:nvSpPr>
          <p:spPr>
            <a:xfrm>
              <a:off x="2627280" y="34290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（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545472"/>
                  </a:solidFill>
                  <a:latin typeface="Times New Roman"/>
                </a:rPr>
                <a:t>）合并同类项，得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211640" y="4005360"/>
                  <a:ext cx="18003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4" name=""/>
          <p:cNvSpPr/>
          <p:nvPr/>
        </p:nvSpPr>
        <p:spPr>
          <a:xfrm>
            <a:off x="3762360" y="450864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imes New Roman"/>
              </a:rPr>
              <a:t>系数化为</a:t>
            </a:r>
            <a:r>
              <a:rPr b="0" lang="zh-CN" sz="28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45472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643280" y="5084640"/>
                <a:ext cx="1366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-43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应用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821880"/>
            <a:ext cx="8964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有一列数，按一定规律排列：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－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－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7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81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－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43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…，其中某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个相邻的数的和为－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701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，求这三个数是多少？</a:t>
            </a:r>
            <a:r>
              <a:rPr b="1" lang="zh-CN" sz="2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23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解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设所求三个数中第一个数为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x,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则第二个数为</a:t>
            </a:r>
            <a:r>
              <a:rPr b="1" lang="zh-CN" sz="2800" spc="-1" strike="noStrike" u="sng">
                <a:solidFill>
                  <a:srgbClr val="8888ae"/>
                </a:solidFill>
                <a:uFillTx/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第三个数为</a:t>
            </a:r>
            <a:r>
              <a:rPr b="1" lang="zh-CN" sz="2800" spc="-1" strike="noStrike" u="sng">
                <a:solidFill>
                  <a:srgbClr val="8888ae"/>
                </a:solidFill>
                <a:uFillTx/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依题意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8888ae"/>
                </a:solidFill>
                <a:latin typeface="Comic Sans MS"/>
              </a:rPr>
              <a:t>得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2276640"/>
            <a:ext cx="7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9080" y="270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3213000"/>
            <a:ext cx="67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+(-3x)+9x=-170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615320" y="3716280"/>
            <a:ext cx="2086920" cy="1007640"/>
            <a:chOff x="1615320" y="3716280"/>
            <a:chExt cx="2086920" cy="1007640"/>
          </a:xfrm>
        </p:grpSpPr>
        <p:sp>
          <p:nvSpPr>
            <p:cNvPr id="253" name=""/>
            <p:cNvSpPr/>
            <p:nvPr/>
          </p:nvSpPr>
          <p:spPr>
            <a:xfrm>
              <a:off x="1615320" y="37162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合并同类项，得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1913040" y="4292280"/>
                  <a:ext cx="17892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0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"/>
          <p:cNvGrpSpPr/>
          <p:nvPr/>
        </p:nvGrpSpPr>
        <p:grpSpPr>
          <a:xfrm>
            <a:off x="1458720" y="4581360"/>
            <a:ext cx="2536560" cy="1008000"/>
            <a:chOff x="1458720" y="4581360"/>
            <a:chExt cx="2536560" cy="1008000"/>
          </a:xfrm>
        </p:grpSpPr>
        <p:sp>
          <p:nvSpPr>
            <p:cNvPr id="256" name=""/>
            <p:cNvSpPr/>
            <p:nvPr/>
          </p:nvSpPr>
          <p:spPr>
            <a:xfrm>
              <a:off x="1458720" y="458136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系数化为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，得</a:t>
              </a:r>
              <a:endParaRPr b="0" lang="en-US" sz="2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2577960" y="5084640"/>
                  <a:ext cx="14173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8" name=""/>
          <p:cNvSpPr/>
          <p:nvPr/>
        </p:nvSpPr>
        <p:spPr>
          <a:xfrm>
            <a:off x="1763640" y="5516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</a:rPr>
              <a:t>∴  </a:t>
            </a:r>
            <a:r>
              <a:rPr b="1" lang="zh-CN" sz="3200" spc="-1" strike="noStrike">
                <a:solidFill>
                  <a:srgbClr val="020202"/>
                </a:solidFill>
                <a:latin typeface="Times New Roman"/>
              </a:rPr>
              <a:t>-3x=729,      9x=-2187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4360" y="6093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三个数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-243,   729,   -2187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P91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、 洗衣厂今年计划生产洗衣机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25500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台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其中Ⅰ型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,Ⅱ  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型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,Ⅲ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型三种洗衣机的数量之比为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1:2:14,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计划生产这三种洗衣机各多少台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059280" y="3141720"/>
          <a:ext cx="362088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3141720"/>
                    <a:ext cx="362088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250920" y="2349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黑体"/>
                <a:ea typeface="黑体"/>
              </a:rPr>
              <a:t>解</a:t>
            </a:r>
            <a:r>
              <a:rPr b="1" lang="zh-CN" sz="2400" spc="-1" strike="noStrike">
                <a:solidFill>
                  <a:srgbClr val="0d0d11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设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Ⅰ型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20202"/>
                </a:solidFill>
                <a:latin typeface="宋体"/>
              </a:rPr>
              <a:t>台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，则Ⅱ型   台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,Ⅲ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型     台，依题意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2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2276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ook Antiqua"/>
              </a:rPr>
              <a:t>14 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x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4784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700360" y="4003560"/>
                <a:ext cx="3983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合并同类项</m:t>
                    </m:r>
                    <m:r>
                      <m:t xml:space="preserve">，</m:t>
                    </m:r>
                    <m:r>
                      <m:t xml:space="preserve">得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649600" y="4797360"/>
                <a:ext cx="3822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系数化为</m:t>
                    </m:r>
                    <m:r>
                      <m:t xml:space="preserve">1</m:t>
                    </m:r>
                    <m:r>
                      <m:t xml:space="preserve">，</m:t>
                    </m:r>
                    <m:r>
                      <m:t xml:space="preserve">得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826920" y="54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练习：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5445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2"/>
                </a:solidFill>
                <a:latin typeface="Times New Roman"/>
              </a:rPr>
              <a:t>    ∴  </a:t>
            </a:r>
            <a:r>
              <a:rPr b="1" lang="zh-CN" sz="3200" spc="-1" strike="noStrike">
                <a:solidFill>
                  <a:srgbClr val="020202"/>
                </a:solidFill>
                <a:latin typeface="Times New Roman"/>
              </a:rPr>
              <a:t>2x=3000,       14x=2100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6093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产Ⅰ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10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台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P88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、某工厂的产值连续增长，去年是前年的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1.5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倍，今年是去年的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倍，这三年的总产值为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550</a:t>
            </a:r>
            <a:r>
              <a:rPr b="1" lang="zh-CN" sz="2800" spc="-1" strike="noStrike">
                <a:solidFill>
                  <a:srgbClr val="020202"/>
                </a:solidFill>
                <a:latin typeface="黑体"/>
                <a:ea typeface="黑体"/>
              </a:rPr>
              <a:t>万元，前年的产值是多少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411280" y="4076640"/>
                <a:ext cx="5040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合并同类项</m:t>
                    </m:r>
                    <m:r>
                      <m:t xml:space="preserve">，</m:t>
                    </m:r>
                    <m:r>
                      <m:t xml:space="preserve">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24000" y="242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黑体"/>
                <a:ea typeface="黑体"/>
              </a:rPr>
              <a:t>解</a:t>
            </a:r>
            <a:r>
              <a:rPr b="1" lang="zh-CN" sz="2400" spc="-1" strike="noStrike">
                <a:solidFill>
                  <a:srgbClr val="0d0d11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设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前年产值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0" lang="zh-CN" sz="2400" spc="-1" strike="noStrike">
                <a:solidFill>
                  <a:srgbClr val="020202"/>
                </a:solidFill>
                <a:latin typeface="宋体"/>
              </a:rPr>
              <a:t>万元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，则去年是      万元，今年是      万元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依题意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20202"/>
                </a:solidFill>
                <a:latin typeface="宋体"/>
              </a:rPr>
              <a:t>得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1.5x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2421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ook Antiqua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Book Antiqua"/>
              </a:rPr>
              <a:t>x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7840" y="458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54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练习：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328464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+1.5x+3x=55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484360" y="4869000"/>
                <a:ext cx="4105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系数化为</m:t>
                    </m:r>
                    <m:r>
                      <m:t xml:space="preserve">1</m:t>
                    </m:r>
                    <m:r>
                      <m:t xml:space="preserve">，</m:t>
                    </m:r>
                    <m:r>
                      <m:t xml:space="preserve">得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934920" y="5805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前年的产值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万元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284328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30120" y="-23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6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26920" cy="533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 flipH="1" rot="10800000">
            <a:off x="6804000" y="0"/>
            <a:ext cx="2340000" cy="1287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987640" y="33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我们主要学习了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268280"/>
            <a:ext cx="7705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细黑"/>
              </a:rPr>
              <a:t>1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细黑"/>
              </a:rPr>
              <a:t>解一元一次方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细黑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______</a:t>
            </a:r>
            <a:r>
              <a:rPr b="1" lang="zh-CN" sz="3200" spc="-1" strike="noStrike">
                <a:solidFill>
                  <a:srgbClr val="0000b0"/>
                </a:solidFill>
                <a:latin typeface="Arial"/>
                <a:ea typeface="华文细黑"/>
              </a:rPr>
              <a:t>合并同类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45813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3139920"/>
            <a:ext cx="5472000" cy="1373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解方程，就是把方程变形，变为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6600cc"/>
                </a:solidFill>
                <a:latin typeface="方正舒体"/>
                <a:ea typeface="方正舒体"/>
              </a:rPr>
              <a:t>x = a</a:t>
            </a:r>
            <a:r>
              <a:rPr b="1" lang="zh-CN" sz="2800" spc="-1" strike="noStrike">
                <a:solidFill>
                  <a:srgbClr val="cc0066"/>
                </a:solidFill>
                <a:latin typeface="方正舒体"/>
                <a:ea typeface="方正舒体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方正舒体"/>
                <a:ea typeface="方正舒体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为常数）的形式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9640" y="5013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根据实际问题，列出方程，并求出解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213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6320" y="76320"/>
            <a:ext cx="9144000" cy="6858000"/>
            <a:chOff x="76320" y="76320"/>
            <a:chExt cx="9144000" cy="6858000"/>
          </a:xfrm>
        </p:grpSpPr>
        <p:grpSp>
          <p:nvGrpSpPr>
            <p:cNvPr id="295" name=""/>
            <p:cNvGrpSpPr/>
            <p:nvPr/>
          </p:nvGrpSpPr>
          <p:grpSpPr>
            <a:xfrm>
              <a:off x="76320" y="76320"/>
              <a:ext cx="9144000" cy="6858000"/>
              <a:chOff x="76320" y="76320"/>
              <a:chExt cx="9144000" cy="6858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7632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861240" y="1828800"/>
                <a:ext cx="1521000" cy="441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8800" spc="-1" strike="noStrike">
                    <a:solidFill>
                      <a:srgbClr val="ff0000"/>
                    </a:solidFill>
                    <a:latin typeface="Times New Roman"/>
                    <a:ea typeface="华文行楷"/>
                  </a:rPr>
                  <a:t> </a:t>
                </a:r>
                <a:r>
                  <a:rPr b="1" i="1" lang="zh-CN" sz="8800" spc="-1" strike="noStrike">
                    <a:solidFill>
                      <a:srgbClr val="ff0000"/>
                    </a:solidFill>
                    <a:latin typeface="Times New Roman"/>
                    <a:ea typeface="华文行楷"/>
                  </a:rPr>
                  <a:t>作 业</a:t>
                </a:r>
                <a:endParaRPr b="0" lang="en-US" sz="8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pic>
            <p:nvPicPr>
              <p:cNvPr id="2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1752840"/>
                <a:ext cx="4876920" cy="4566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"/>
            <p:cNvSpPr/>
            <p:nvPr/>
          </p:nvSpPr>
          <p:spPr>
            <a:xfrm>
              <a:off x="6248520" y="3429000"/>
              <a:ext cx="838080" cy="381240"/>
            </a:xfrm>
            <a:prstGeom prst="leftArrow">
              <a:avLst>
                <a:gd name="adj1" fmla="val 50000"/>
                <a:gd name="adj2" fmla="val 549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752480" y="2438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905120"/>
            <a:ext cx="11430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a7ccd9"/>
                  </a:solidFill>
                  <a:miter/>
                </a:ln>
                <a:solidFill>
                  <a:srgbClr val="a7ccd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</a:t>
            </a:r>
            <a:endParaRPr b="0" lang="en-US" sz="2400" spc="1" strike="noStrike">
              <a:ln w="12600">
                <a:solidFill>
                  <a:srgbClr val="a7ccd9"/>
                </a:solidFill>
                <a:miter/>
              </a:ln>
              <a:solidFill>
                <a:srgbClr val="a7ccd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7391520" y="52578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514600" cy="207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666880" y="4572000"/>
            <a:ext cx="3429000" cy="208080"/>
          </a:xfrm>
          <a:prstGeom prst="pie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3141720"/>
            <a:ext cx="424944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课本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zh-CN" sz="5400" spc="-1" strike="noStrike" baseline="-25000">
                <a:solidFill>
                  <a:srgbClr val="ff0000"/>
                </a:solidFill>
                <a:latin typeface="Times New Roman"/>
              </a:rPr>
              <a:t>93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题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03120" y="-231840"/>
            <a:ext cx="9752040" cy="7323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4032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920" y="836640"/>
            <a:ext cx="74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祝同学们学习愉快！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419640" y="3357720"/>
            <a:ext cx="33429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593494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700" spc="-1" strike="noStrike">
                <a:solidFill>
                  <a:srgbClr val="660066"/>
                </a:solidFill>
                <a:latin typeface="Tahoma"/>
                <a:ea typeface="隶书"/>
              </a:rPr>
              <a:t>谢谢各位！</a:t>
            </a:r>
            <a:endParaRPr b="0" lang="en-US" sz="11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39480" y="561960"/>
            <a:ext cx="3533400" cy="2775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谢谢各位，</a:t>
            </a: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再见！</a:t>
            </a:r>
            <a:endParaRPr b="0" lang="en-US" sz="8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1476360" cy="2827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6629400" y="3733920"/>
            <a:ext cx="14256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2362320" y="4419720"/>
          <a:ext cx="4343400" cy="152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4419720"/>
                    <a:ext cx="43434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1981080"/>
            <a:ext cx="5943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18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 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1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、方程的定义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1700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、一元一次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方程的定义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429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3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、等式的性质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90792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含有未知数的等式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2349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含有一个未知数，并且未知数的次数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的整式方程，称为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元一次方程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50920" y="422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等式的两边加或减同一个数或式，结果仍相等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341360"/>
            <a:ext cx="11872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概念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性 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6560" y="5300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②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等式的两边乘同一个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或除以同一个不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的数，结果仍相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655640" cy="764280"/>
          </a:xfrm>
          <a:prstGeom prst="rect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隶书"/>
              </a:rPr>
              <a:t>复习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一、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判断下列式子是不是一元一次方程。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11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⑴ </a:t>
            </a: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32</a:t>
            </a:r>
            <a:r>
              <a:rPr b="0" i="1" lang="zh-CN" sz="3200" spc="-1" strike="noStrike">
                <a:solidFill>
                  <a:srgbClr val="0d0d11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+22-12</a:t>
            </a:r>
            <a:r>
              <a:rPr b="0" i="1" lang="zh-CN" sz="3200" spc="-1" strike="noStrike">
                <a:solidFill>
                  <a:srgbClr val="0d0d11"/>
                </a:solidFill>
                <a:latin typeface="Tahoma"/>
              </a:rPr>
              <a:t>x </a:t>
            </a: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 (      )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 ⑵ </a:t>
            </a:r>
            <a:r>
              <a:rPr b="0" i="1" lang="zh-CN" sz="3200" spc="-1" strike="noStrike">
                <a:solidFill>
                  <a:srgbClr val="0d0d11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0d0d11"/>
                </a:solidFill>
                <a:latin typeface="Tahoma"/>
              </a:rPr>
              <a:t>=0</a:t>
            </a:r>
            <a:r>
              <a:rPr b="1" lang="zh-CN" sz="3200" spc="-1" strike="noStrike">
                <a:solidFill>
                  <a:srgbClr val="0d0d11"/>
                </a:solidFill>
                <a:latin typeface="Tahoma"/>
              </a:rPr>
              <a:t>   (        )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⑶        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(       )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24160" y="4292640"/>
                <a:ext cx="14922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229640" y="2060640"/>
            <a:ext cx="5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×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1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8000" y="115920"/>
            <a:ext cx="2447280" cy="587160"/>
            <a:chOff x="108000" y="115920"/>
            <a:chExt cx="2447280" cy="58716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08000" y="115920"/>
              <a:ext cx="873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 txBox="1"/>
            <p:nvPr/>
          </p:nvSpPr>
          <p:spPr>
            <a:xfrm>
              <a:off x="1110600" y="331560"/>
              <a:ext cx="1444680" cy="36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练习</a:t>
              </a: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: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中宋"/>
                <a:ea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ahoma"/>
              </a:rPr>
              <a:t>一、选择：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 2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是下列方程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(       )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的解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A. 2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 6          B. (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-3)(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+2)=0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C.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 -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2=3          D. 3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- 6 = 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9280" y="333360"/>
            <a:ext cx="2447280" cy="587160"/>
            <a:chOff x="179280" y="333360"/>
            <a:chExt cx="2447280" cy="5871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333360"/>
              <a:ext cx="873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181880" y="549000"/>
              <a:ext cx="1444680" cy="36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练习</a:t>
              </a: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: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213800" y="24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D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1628280"/>
            <a:ext cx="8062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⒉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下列等式变形错误的是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(       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A.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由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b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得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+5 =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+5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；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B.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由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b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得；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C.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由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+2 =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+2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得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；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D.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由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-3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-3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y 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得 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=-</a:t>
            </a:r>
            <a:r>
              <a:rPr b="0" i="1" lang="zh-CN" sz="3200" spc="-1" strike="noStrike">
                <a:solidFill>
                  <a:srgbClr val="545472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132000" y="2637000"/>
          <a:ext cx="144000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2637000"/>
                    <a:ext cx="1440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653080" y="1727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4000" y="476280"/>
            <a:ext cx="2447280" cy="587160"/>
            <a:chOff x="324000" y="476280"/>
            <a:chExt cx="2447280" cy="587160"/>
          </a:xfrm>
        </p:grpSpPr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324000" y="476280"/>
              <a:ext cx="873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 txBox="1"/>
            <p:nvPr/>
          </p:nvSpPr>
          <p:spPr>
            <a:xfrm>
              <a:off x="1326600" y="691920"/>
              <a:ext cx="1444680" cy="360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练习</a:t>
              </a: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: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中宋"/>
                <a:ea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运用等式性质进行的变形，正确的是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(     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A.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如果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那么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+c=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-c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；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B.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如果             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那么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；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C.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如果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=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那么             ；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D.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如果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 baseline="30000">
                <a:solidFill>
                  <a:srgbClr val="020202"/>
                </a:solidFill>
                <a:latin typeface="Tahoma"/>
              </a:rPr>
              <a:t>2 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= 3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那么</a:t>
            </a:r>
            <a:r>
              <a:rPr b="0" i="1" lang="zh-CN" sz="3200" spc="-1" strike="noStrike">
                <a:solidFill>
                  <a:srgbClr val="020202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20202"/>
                </a:solidFill>
                <a:latin typeface="Tahoma"/>
              </a:rPr>
              <a:t>=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627280" y="2997360"/>
          <a:ext cx="115272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997360"/>
                    <a:ext cx="11527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211640" y="3645000"/>
          <a:ext cx="1295280" cy="86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3645000"/>
                    <a:ext cx="1295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"/>
          <p:cNvGrpSpPr/>
          <p:nvPr/>
        </p:nvGrpSpPr>
        <p:grpSpPr>
          <a:xfrm>
            <a:off x="539640" y="333360"/>
            <a:ext cx="2663280" cy="945720"/>
            <a:chOff x="539640" y="333360"/>
            <a:chExt cx="2663280" cy="945720"/>
          </a:xfrm>
        </p:grpSpPr>
        <p:pic>
          <p:nvPicPr>
            <p:cNvPr id="184" name="" descr=""/>
            <p:cNvPicPr/>
            <p:nvPr/>
          </p:nvPicPr>
          <p:blipFill>
            <a:blip r:embed="rId6"/>
            <a:stretch/>
          </p:blipFill>
          <p:spPr>
            <a:xfrm>
              <a:off x="539640" y="333360"/>
              <a:ext cx="95004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 txBox="1"/>
            <p:nvPr/>
          </p:nvSpPr>
          <p:spPr>
            <a:xfrm>
              <a:off x="1630800" y="680400"/>
              <a:ext cx="1572120" cy="580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练习</a:t>
              </a:r>
              <a:r>
                <a:rPr b="0" lang="en-US" sz="24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华文中宋"/>
                </a:rPr>
                <a:t>:</a:t>
              </a:r>
              <a:endPara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中宋"/>
                <a:ea typeface="华文中宋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02980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B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1981080"/>
            <a:ext cx="5943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18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Lucida Console"/>
              </a:rPr>
              <a:t> 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（</a:t>
            </a:r>
            <a:r>
              <a:rPr b="1" lang="en-US" sz="4400" spc="-1" strike="noStrike">
                <a:solidFill>
                  <a:srgbClr val="660066"/>
                </a:solidFill>
                <a:latin typeface="Lucida Console"/>
              </a:rPr>
              <a:t>1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） </a:t>
            </a:r>
            <a:r>
              <a:rPr b="1" lang="en-US" sz="4400" spc="-1" strike="noStrike">
                <a:solidFill>
                  <a:srgbClr val="660066"/>
                </a:solidFill>
                <a:latin typeface="Lucida Console"/>
              </a:rPr>
              <a:t>x+2x+4x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133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（</a:t>
            </a:r>
            <a:r>
              <a:rPr b="1" lang="en-US" sz="4400" spc="-1" strike="noStrike">
                <a:solidFill>
                  <a:srgbClr val="660066"/>
                </a:solidFill>
                <a:latin typeface="Lucida Console"/>
              </a:rPr>
              <a:t>2</a:t>
            </a:r>
            <a:r>
              <a:rPr b="1" lang="zh-CN" sz="4400" spc="-1" strike="noStrike">
                <a:solidFill>
                  <a:srgbClr val="660066"/>
                </a:solidFill>
                <a:latin typeface="Lucida Console"/>
              </a:rPr>
              <a:t>）</a:t>
            </a:r>
            <a:r>
              <a:rPr b="1" lang="en-US" sz="4400" spc="-1" strike="noStrike">
                <a:solidFill>
                  <a:srgbClr val="660066"/>
                </a:solidFill>
                <a:latin typeface="Lucida Console"/>
              </a:rPr>
              <a:t>5y-3y-4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765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=(1+2+4)x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6360" y="1413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=7x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285264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=(5-3-4)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357336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宋体"/>
              </a:rPr>
              <a:t>=-2y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413000"/>
            <a:ext cx="118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合并同类项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333360"/>
            <a:ext cx="1656000" cy="764280"/>
          </a:xfrm>
          <a:prstGeom prst="rect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隶书"/>
              </a:rPr>
              <a:t>复习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27640" y="260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=14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75640" y="404640"/>
            <a:ext cx="2268360" cy="1366920"/>
          </a:xfrm>
          <a:prstGeom prst="wedgeEllipseCallout">
            <a:avLst>
              <a:gd name="adj1" fmla="val -127398"/>
              <a:gd name="adj2" fmla="val -16666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思考：怎样解这个方程呢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396720" y="-747720"/>
            <a:ext cx="9953640" cy="8391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9280" y="981000"/>
            <a:ext cx="871380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§3.2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解一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元一次方程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3213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b0"/>
                </a:solidFill>
                <a:latin typeface="Times New Roman"/>
              </a:rPr>
              <a:t>合并同类项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9640" y="333360"/>
            <a:ext cx="3528720" cy="720720"/>
            <a:chOff x="539640" y="333360"/>
            <a:chExt cx="3528720" cy="720720"/>
          </a:xfrm>
        </p:grpSpPr>
        <p:sp>
          <p:nvSpPr>
            <p:cNvPr id="203" name=""/>
            <p:cNvSpPr/>
            <p:nvPr/>
          </p:nvSpPr>
          <p:spPr>
            <a:xfrm>
              <a:off x="539640" y="333360"/>
              <a:ext cx="3528720" cy="720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98040" y="417600"/>
            <a:ext cx="3167280" cy="52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8040" y="417600"/>
                      <a:ext cx="316728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6" name=""/>
          <p:cNvGrpSpPr/>
          <p:nvPr/>
        </p:nvGrpSpPr>
        <p:grpSpPr>
          <a:xfrm>
            <a:off x="1403280" y="2133720"/>
            <a:ext cx="1944720" cy="647640"/>
            <a:chOff x="1403280" y="2133720"/>
            <a:chExt cx="1944720" cy="647640"/>
          </a:xfrm>
        </p:grpSpPr>
        <p:sp>
          <p:nvSpPr>
            <p:cNvPr id="207" name=""/>
            <p:cNvSpPr/>
            <p:nvPr/>
          </p:nvSpPr>
          <p:spPr>
            <a:xfrm>
              <a:off x="1403280" y="2133720"/>
              <a:ext cx="1944720" cy="647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515960" y="2219400"/>
                  <a:ext cx="167616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9" name=""/>
          <p:cNvGrpSpPr/>
          <p:nvPr/>
        </p:nvGrpSpPr>
        <p:grpSpPr>
          <a:xfrm>
            <a:off x="1547640" y="3787920"/>
            <a:ext cx="1584360" cy="649080"/>
            <a:chOff x="1547640" y="3787920"/>
            <a:chExt cx="1584360" cy="649080"/>
          </a:xfrm>
        </p:grpSpPr>
        <p:sp>
          <p:nvSpPr>
            <p:cNvPr id="210" name=""/>
            <p:cNvSpPr/>
            <p:nvPr/>
          </p:nvSpPr>
          <p:spPr>
            <a:xfrm>
              <a:off x="1547640" y="3787920"/>
              <a:ext cx="1584360" cy="649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720800" y="3873600"/>
                  <a:ext cx="12668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"/>
          <p:cNvSpPr/>
          <p:nvPr/>
        </p:nvSpPr>
        <p:spPr>
          <a:xfrm>
            <a:off x="4716360" y="0"/>
            <a:ext cx="0" cy="4581360"/>
          </a:xfrm>
          <a:prstGeom prst="line">
            <a:avLst/>
          </a:prstGeom>
          <a:ln cap="rnd" w="1260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604360" cy="0"/>
          </a:xfrm>
          <a:prstGeom prst="line">
            <a:avLst/>
          </a:prstGeom>
          <a:ln cap="rnd" w="1260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1125360"/>
            <a:ext cx="0" cy="93528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2781360"/>
            <a:ext cx="0" cy="934920"/>
          </a:xfrm>
          <a:prstGeom prst="line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38480" y="112536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合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306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系数化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6443640" y="4724280"/>
            <a:ext cx="2514600" cy="1514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859280" y="1413000"/>
            <a:ext cx="3781440" cy="1373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归纳：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解方程，就是把方程变形，变为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i="1" lang="zh-CN" sz="2800" spc="-1" strike="noStrike">
                <a:solidFill>
                  <a:srgbClr val="6600cc"/>
                </a:solidFill>
                <a:latin typeface="方正舒体"/>
                <a:ea typeface="方正舒体"/>
              </a:rPr>
              <a:t>x = a</a:t>
            </a:r>
            <a:r>
              <a:rPr b="1" lang="zh-CN" sz="2800" spc="-1" strike="noStrike">
                <a:solidFill>
                  <a:srgbClr val="cc0066"/>
                </a:solidFill>
                <a:latin typeface="方正舒体"/>
                <a:ea typeface="方正舒体"/>
              </a:rPr>
              <a:t>（</a:t>
            </a:r>
            <a:r>
              <a:rPr b="1" lang="zh-CN" sz="2800" spc="-1" strike="noStrike">
                <a:solidFill>
                  <a:srgbClr val="cc0066"/>
                </a:solidFill>
                <a:latin typeface="方正舒体"/>
                <a:ea typeface="方正舒体"/>
              </a:rPr>
              <a:t>a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为常数）的形式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4:03:13Z</dcterms:created>
  <dc:creator>黎家能</dc:creator>
  <dc:description/>
  <dc:language>en-US</dc:language>
  <cp:lastModifiedBy>999宝藏网</cp:lastModifiedBy>
  <dcterms:modified xsi:type="dcterms:W3CDTF">2012-11-12T00:43:49Z</dcterms:modified>
  <cp:revision>54</cp:revision>
  <dc:subject/>
  <dc:title>合并同类项</dc:title>
</cp:coreProperties>
</file>