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5.wmf" ContentType="image/x-wmf"/>
  <Override PartName="/ppt/media/image15.jpeg" ContentType="image/jpeg"/>
  <Override PartName="/ppt/media/image24.wmf" ContentType="image/x-wmf"/>
  <Override PartName="/ppt/media/image30.wmf" ContentType="image/x-wmf"/>
  <Override PartName="/ppt/media/image5.wmf" ContentType="image/x-wmf"/>
  <Override PartName="/ppt/media/image16.jpeg" ContentType="image/jpeg"/>
  <Override PartName="/ppt/media/image13.gif" ContentType="image/gif"/>
  <Override PartName="/ppt/media/image29.wmf" ContentType="image/x-wmf"/>
  <Override PartName="/ppt/media/image6.wmf" ContentType="image/x-wmf"/>
  <Override PartName="/ppt/media/image3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gif" ContentType="image/gif"/>
  <Override PartName="/ppt/media/image28.wmf" ContentType="image/x-wmf"/>
  <Override PartName="/ppt/media/image3.jpeg" ContentType="image/jpeg"/>
  <Override PartName="/ppt/media/image2.gif" ContentType="image/gif"/>
  <Override PartName="/ppt/media/image4.wmf" ContentType="image/x-wmf"/>
  <Override PartName="/ppt/media/image27.wmf" ContentType="image/x-wmf"/>
  <Override PartName="/ppt/media/image10.png" ContentType="image/png"/>
  <Override PartName="/ppt/media/image1.jpeg" ContentType="image/jpeg"/>
  <Override PartName="/ppt/media/image14.wmf" ContentType="image/x-wmf"/>
  <Override PartName="/ppt/media/image26.wmf" ContentType="image/x-wmf"/>
  <Override PartName="/ppt/media/image17.jpeg" ContentType="image/jpeg"/>
  <Override PartName="/ppt/media/image18.jpeg" ContentType="image/jpeg"/>
  <Override PartName="/ppt/media/image21.wmf" ContentType="image/x-wmf"/>
  <Override PartName="/ppt/media/image20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9E3B-3D4C-49E3-A2A3-DD2499119A4D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8EFF-3062-4DCB-9A64-C81216316A2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2147484240" y="749076120"/>
            <a:ext cx="433724040" cy="32529456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3E2-5171-4EC3-9B6A-5B944B8F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BAE-6B5B-4139-ACFA-CF309332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98608-9867-4733-96C4-2AAB3CE0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8F275-E5C8-4118-87EF-54809730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C3874-CD39-4481-B5E8-01F00E1E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86AB7-B337-4B18-90F4-BEBF56E0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D8F20-889E-4DA5-B288-1B68D766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73A2D-7534-4F64-9977-E3E3B795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5E563-C520-40CA-994F-A2845119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DA68E-9C36-43E6-8137-1856DAF4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27217-E623-4085-9A9C-BF436009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2D214-1818-4F1A-9B52-220A2215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013-BF61-4AE3-967E-389919DD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C50FD-8CAF-4DCD-B4F4-980F5448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89716-7CB2-4462-A1E9-E7DADA84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E514C-4CE9-4DC5-91D0-E9977117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D7A37-FA7B-4557-AD84-6871E6C5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67395-28EE-482D-AF0C-21AA87DD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8EF6F-5EA4-41AF-9600-70C3251C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96A26-9E4F-4D87-9E33-D2852923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134DA-8F52-45A1-967F-8F0F5A9F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6B9E2-5FB5-4EF5-ABB3-B3C47927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4B9D0-74F3-4EAB-B994-17B6BBB9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25B-3CA7-4965-84B8-EA3D615B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55DAA-DA17-44EF-8E3C-DE987C65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00D11-623B-472A-9B16-6964768F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56273-09E7-4EBD-B5F5-E0966022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41287-7646-42D6-B978-B9E614ED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F8FE5-70CA-445F-AFC6-FD93779B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BE5DD-1318-46EF-8894-37C2BC40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7C505-72DF-44D5-B169-82B71F09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66669-BA65-4252-8267-60C76B2E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2D803-D707-497F-9E5B-1102D70E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D46DA-FDF7-471B-BF3E-C76D4A17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0F25-1F3A-46C3-8A62-4801D413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10598-1684-47D9-8554-B677203A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1FF0C-D2A9-4B0A-A274-809B2899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3F688-F9D1-4E6C-8C45-566A9F16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21833-7F78-4439-A466-8B756A01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DF957-4D68-4EE9-B3B3-863BD449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8C48A-DEC6-4C67-A8DC-706BF7B9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7A81D-CC9F-4C6E-BA33-9F1E45CB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0FA2F-9E1B-4793-B5A6-49CEF42B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B8331-5384-4BC7-9E07-365C26AE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6EE61-1BFA-42CE-8A5E-406D41EC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01C0-CF8D-4873-BA9D-BDC343CC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4D1B2-534C-41A3-AC36-2E232622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FB76B-FCF2-4C85-9BF2-03774175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5EDD8-487E-4E7D-8E39-6AB842BC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E6220-71AD-440B-BE7D-8C577CEE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E2AC3-890F-4564-BDAE-E64305CB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C81C6-DC15-46E5-8A63-BD1597DC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58592-5804-4562-BCE2-89980A32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F37E3-F587-48B9-A7F1-742807C1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7361C-A618-4BB5-B0DD-4E7074A6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D741E-BCAA-4432-90D1-FBB6EB7B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273F-C821-4795-A612-C26D9B9A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A37C5-5EE8-4A0F-B2A2-B405304E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CBCB3-6AA1-4FA3-A785-93664957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4FC86-026F-4B61-A1A0-6D9CCD35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F1AC9-09A4-4BCA-8DC8-449F09EA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65201-7AC9-4503-996C-80E40DB6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4EA99-B424-4A24-84AF-C6DEBF74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C0B3C-E1CF-4AF9-ADBD-5353524A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A007-601B-43FB-BA03-8137CAC2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EFBC-6E60-4F36-A0F7-7718543C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C618-EF8C-4407-BB4A-69C52FA1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052B-DFA9-4581-BBD8-EFEC8710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FED-4551-4628-B973-2CF3AA9E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B961-77DF-4052-8990-1DE85C54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9C5E-2449-463E-BC7F-34326E9F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94C6-1F97-4ADC-873E-2816643D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4726-CD68-4B1D-A30C-8E8A5F5D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0B31-E1FD-47DE-840C-FD44C00F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7472F-11DA-4CE2-8BFC-57A36BCC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3033-FE53-4027-AB08-BE2F82FE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8F04-677F-44AA-AFA4-77B2A6C3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CCFF1-7AC2-4E0A-8CF2-3407E34B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1AAEB-A65C-4FF2-8667-5DEE9457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579-BEEA-4C95-AF18-B80EF005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6DD7-9D1C-4011-B57F-2428F3B9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DCBE6-76BD-4FF7-B997-E151232E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EB3E6-217F-42FE-A100-E91967E5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ADE59-BB25-4029-91BF-25F8D9F9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7D4E1-249A-469D-8D81-284D916E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AF3BD-C4C1-4D26-9C95-EF8D80E7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61A2A-C4BE-4DE1-BD60-BE6B6CBC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BA49-C204-4A88-9315-AE36FE2A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C03B-43A0-4A03-BB05-8D80E962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E7E4C-6D05-48FE-85BC-11BD2F73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BA2-4331-4B68-A8ED-9636AA1C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DB47C-F326-4651-B366-779F0E51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AA9B5-F92B-42C3-B419-86DB7A24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92A49-F428-4915-891B-2C232457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52204-FBF9-4F38-862C-7BC015D7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94B6C-438C-46D3-B9F0-BDD2616E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6B9D3-BD4C-4650-963D-8B799EB6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ADC6D-6F21-4BF0-8DC9-2DBFFB9D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8C7BE-BF4D-419A-B00E-FA38BABF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FF1A0-9F20-4546-8A7F-0CF6CE70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FCD43-EF9B-44E8-9B24-FE18386A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5BD-C54D-4B2D-9BFF-04B8C6C1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71DA8-5DC9-4B4E-8B3E-B01D7954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362D8-9223-4E54-AD01-AD6E79ED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43C4C-87EE-4B51-91CB-9AB6BB55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D4934-0125-4A54-9CFD-D8393986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506CC-5CFA-4D1F-88A9-3AEDE84E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7DF85-87F4-4999-857D-1A8D13E2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9110C-08D6-4073-95A5-4492C26B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B82DE-4952-40C6-9D91-C5B1AFF6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C0917-9FC9-4823-BF66-DE365519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8D931-831E-4B2A-9008-A995DAD0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7A2-610B-415F-84E6-9A1930C5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85EFB-3F2B-49E1-B540-15ECD2B3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FBC30-258F-4DF3-A5C7-C5B14FCF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06F42-11F6-49BB-A519-DD7935BD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CFCD8-F48D-4351-B2CD-75926A0F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5CE2C-0E67-4A80-B633-6187C39E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EEBBB-0C43-4F75-B166-CCC30EB5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0409D-FB36-47B5-9007-2D310108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7ED62-C59D-4DB4-80F6-8F45131E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6BD69-8C2C-4B9B-AE29-17D5C473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99892-EB37-4ED5-83DB-E15977CC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F90-B9C1-404D-A782-C537D441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9ED85-0262-4BC1-BFB2-1C4308E0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6B490-6AAB-4213-A283-BCAE6B8F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63EC4-6572-47A0-8942-99274445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A3BEE-1C8B-49BC-B80A-FB7E82C5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465CF-BC3D-47F1-9394-FA24FCC4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E132E-E466-41BB-B124-7586A4C8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DCC31-3612-42C8-9BD7-40AA10AC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11ED9-B60A-4ABF-AD25-69CDB943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796DB-61C6-43EA-9964-57676367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79105-862D-4651-AEE1-D04D4C6A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EFA-93A9-454D-B556-02247C69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6CBB2-E9C3-42D4-BC61-22EF6630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4B8CD-CD92-480F-B827-E8961910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41FA8-B55C-422B-BE46-CC30138E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E959A-735B-4FD3-BCC7-2B0CFC9F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45306-3A94-44F2-8343-CD8C039A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B7023-995F-45FF-ACFE-6F2F66BF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18619-5894-40DC-B48B-C836E9D5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5B864-2981-48B6-86DB-06BA3312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C7990-2E9E-4139-A47B-EB287216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0ADC5-B686-4577-94B6-CD33F492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FD1-C27B-4C32-A42F-92C5B554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52513-BABD-4653-A1F7-0F44B2CF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67807-8AAB-42E3-928F-9215A3BB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31FC3-025D-4D62-B5DB-3C6062D9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E19F9-8EC1-48A2-BC70-C9727E62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D471F-CE09-4B62-9B29-707FF230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B6817-44B9-42CB-A87D-C32F35A2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3914B-5CE5-4B6E-9E0E-25CD6A05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D582F-3B9F-4E3A-9272-43D76FE5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817F5-C80B-43DF-A336-2074E354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2C2F8-1DDF-4573-82A0-380459A1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010B-D465-4F07-A975-1C6E0FF7C7D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E70C-7D1C-4F21-84AB-92A5167247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EB9C-AC90-42CC-B243-5386F92B709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4DE8-B77D-49D4-A545-95BDDF3AA3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A722-5BEC-4A77-8A85-8E9CDB87C92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9E43-82A5-4D0B-9672-74C1B7132F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8229-D060-4D1C-B2A9-BFB6F8BF19F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7B4D-AEF7-4BA3-BAB6-2A72895073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E73C-8DE1-4740-AD88-3BD35F9852F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D331-BEDF-44F1-B13C-92C663C45C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082F-047A-4BAF-BD1B-EA941C725D7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AFB9-B246-4F73-91F8-18740A244FC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5444-B100-4A6D-8F0D-0869C813524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5B92-BAD4-4F36-98ED-870B9201C3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9B11-4858-4505-A69D-331EE7E83BB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3408-5E46-4277-9484-5B86C69155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ADF0-178B-45E2-938C-B697E35AFD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4985-2ECF-41E1-91C9-64A51D34136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AF7B-EC8E-4301-BCA8-8316BBF743D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638C-B7D2-4BF3-9365-93544C8AF9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E3BD-54D5-4215-A4D1-7AE22E498F6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F03B-5BED-4C7D-96EC-6F21E40B83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2DB1-F42C-4080-95DD-120BC6AEADB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7001-C317-4795-BB14-C25F02ED146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EF25-AE52-403F-A38D-BF04B4063B9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C3D6-69F6-41E4-829C-7B6C620E61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8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5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前小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7" descr="GIF-378"/>
          <p:cNvPicPr/>
          <p:nvPr/>
        </p:nvPicPr>
        <p:blipFill>
          <a:blip r:embed="rId2"/>
          <a:stretch/>
        </p:blipFill>
        <p:spPr>
          <a:xfrm>
            <a:off x="264960" y="1940040"/>
            <a:ext cx="390600" cy="3524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9" descr="回目录副本"/>
          <p:cNvPicPr/>
          <p:nvPr/>
        </p:nvPicPr>
        <p:blipFill>
          <a:blip r:embed="rId3"/>
          <a:stretch/>
        </p:blipFill>
        <p:spPr>
          <a:xfrm>
            <a:off x="8459640" y="6524640"/>
            <a:ext cx="660600" cy="249120"/>
          </a:xfrm>
          <a:prstGeom prst="rect">
            <a:avLst/>
          </a:prstGeom>
          <a:ln w="0">
            <a:noFill/>
          </a:ln>
        </p:spPr>
      </p:pic>
      <p:pic>
        <p:nvPicPr>
          <p:cNvPr id="545" name="Object 246" descr=""/>
          <p:cNvPicPr/>
          <p:nvPr/>
        </p:nvPicPr>
        <p:blipFill>
          <a:blip r:embed="rId4"/>
          <a:stretch/>
        </p:blipFill>
        <p:spPr>
          <a:xfrm>
            <a:off x="744480" y="1776240"/>
            <a:ext cx="7667640" cy="361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6" name="Text Box 308"/>
          <p:cNvSpPr/>
          <p:nvPr/>
        </p:nvSpPr>
        <p:spPr>
          <a:xfrm>
            <a:off x="5407200" y="1685880"/>
            <a:ext cx="12236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17"/>
          <p:cNvSpPr/>
          <p:nvPr/>
        </p:nvSpPr>
        <p:spPr>
          <a:xfrm>
            <a:off x="3274920" y="4062240"/>
            <a:ext cx="22766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底面周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18"/>
          <p:cNvSpPr/>
          <p:nvPr/>
        </p:nvSpPr>
        <p:spPr>
          <a:xfrm>
            <a:off x="5162400" y="4653000"/>
            <a:ext cx="22766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圆柱的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图片 6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2"/>
          <p:cNvSpPr/>
          <p:nvPr/>
        </p:nvSpPr>
        <p:spPr>
          <a:xfrm>
            <a:off x="900000" y="2565360"/>
            <a:ext cx="77058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c0504d"/>
                </a:solidFill>
                <a:latin typeface="Times New Roman"/>
                <a:ea typeface="幼圆"/>
              </a:rPr>
              <a:t>制作立体图形步骤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．先转化为平面图形（平面展开图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2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．再转化为立体图形（折叠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3"/>
          <p:cNvGrpSpPr/>
          <p:nvPr/>
        </p:nvGrpSpPr>
        <p:grpSpPr>
          <a:xfrm>
            <a:off x="2916000" y="333360"/>
            <a:ext cx="2849400" cy="1709640"/>
            <a:chOff x="2916000" y="333360"/>
            <a:chExt cx="2849400" cy="1709640"/>
          </a:xfrm>
        </p:grpSpPr>
        <p:sp>
          <p:nvSpPr>
            <p:cNvPr id="638" name="filecab3"/>
            <p:cNvSpPr/>
            <p:nvPr/>
          </p:nvSpPr>
          <p:spPr>
            <a:xfrm rot="10800000">
              <a:off x="2916000" y="120456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9" name="Picture 5" descr="F2008220203955"/>
            <p:cNvPicPr/>
            <p:nvPr/>
          </p:nvPicPr>
          <p:blipFill>
            <a:blip r:embed="rId2"/>
            <a:stretch/>
          </p:blipFill>
          <p:spPr>
            <a:xfrm>
              <a:off x="3533760" y="33336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0" name="Picture 6" descr="fgd"/>
          <p:cNvPicPr/>
          <p:nvPr/>
        </p:nvPicPr>
        <p:blipFill>
          <a:blip r:embed="rId3"/>
          <a:stretch/>
        </p:blipFill>
        <p:spPr>
          <a:xfrm>
            <a:off x="7236000" y="1197000"/>
            <a:ext cx="1612800" cy="1368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8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3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2"/>
          <p:cNvSpPr/>
          <p:nvPr/>
        </p:nvSpPr>
        <p:spPr>
          <a:xfrm>
            <a:off x="4000680" y="2995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3" descr="g29"/>
          <p:cNvPicPr/>
          <p:nvPr/>
        </p:nvPicPr>
        <p:blipFill>
          <a:blip r:embed="rId2"/>
          <a:stretch/>
        </p:blipFill>
        <p:spPr>
          <a:xfrm>
            <a:off x="179280" y="3716280"/>
            <a:ext cx="2362320" cy="179064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4"/>
          <p:cNvSpPr/>
          <p:nvPr/>
        </p:nvSpPr>
        <p:spPr>
          <a:xfrm>
            <a:off x="4114800" y="30052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5" descr="g30"/>
          <p:cNvPicPr/>
          <p:nvPr/>
        </p:nvPicPr>
        <p:blipFill>
          <a:blip r:embed="rId3"/>
          <a:stretch/>
        </p:blipFill>
        <p:spPr>
          <a:xfrm>
            <a:off x="2700360" y="3789360"/>
            <a:ext cx="1981080" cy="183672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6"/>
          <p:cNvSpPr/>
          <p:nvPr/>
        </p:nvSpPr>
        <p:spPr>
          <a:xfrm>
            <a:off x="4114800" y="2976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7" descr="g31"/>
          <p:cNvPicPr/>
          <p:nvPr/>
        </p:nvPicPr>
        <p:blipFill>
          <a:blip r:embed="rId4"/>
          <a:stretch/>
        </p:blipFill>
        <p:spPr>
          <a:xfrm>
            <a:off x="4788000" y="3809880"/>
            <a:ext cx="1871640" cy="185256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8"/>
          <p:cNvSpPr/>
          <p:nvPr/>
        </p:nvSpPr>
        <p:spPr>
          <a:xfrm>
            <a:off x="4114800" y="30052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9" descr="g32"/>
          <p:cNvPicPr/>
          <p:nvPr/>
        </p:nvPicPr>
        <p:blipFill>
          <a:blip r:embed="rId5"/>
          <a:stretch/>
        </p:blipFill>
        <p:spPr>
          <a:xfrm>
            <a:off x="6877080" y="3860640"/>
            <a:ext cx="1981080" cy="18367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10"/>
          <p:cNvSpPr/>
          <p:nvPr/>
        </p:nvSpPr>
        <p:spPr>
          <a:xfrm>
            <a:off x="971640" y="21337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将下面四个图形折叠，你能说出这些多面体的名称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11"/>
          <p:cNvGrpSpPr/>
          <p:nvPr/>
        </p:nvGrpSpPr>
        <p:grpSpPr>
          <a:xfrm>
            <a:off x="2987280" y="0"/>
            <a:ext cx="2849400" cy="1709640"/>
            <a:chOff x="2987280" y="0"/>
            <a:chExt cx="2849400" cy="1709640"/>
          </a:xfrm>
        </p:grpSpPr>
        <p:sp>
          <p:nvSpPr>
            <p:cNvPr id="652" name="filecab3"/>
            <p:cNvSpPr/>
            <p:nvPr/>
          </p:nvSpPr>
          <p:spPr>
            <a:xfrm rot="10800000">
              <a:off x="298728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Picture 13" descr="F2008220203955"/>
            <p:cNvPicPr/>
            <p:nvPr/>
          </p:nvPicPr>
          <p:blipFill>
            <a:blip r:embed="rId6"/>
            <a:stretch/>
          </p:blipFill>
          <p:spPr>
            <a:xfrm>
              <a:off x="360504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3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2"/>
          <p:cNvSpPr/>
          <p:nvPr/>
        </p:nvSpPr>
        <p:spPr>
          <a:xfrm>
            <a:off x="755640" y="765000"/>
            <a:ext cx="80643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图所示，长方体顶点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处有只小蚂蚁，沿长方体表面爬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处，小蚂蚁非常聪明，它总是能按照最短的路线爬行，你能找到这条最短的路线吗？最短路线有几条？为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3" descr="import53802_4"/>
          <p:cNvPicPr/>
          <p:nvPr/>
        </p:nvPicPr>
        <p:blipFill>
          <a:blip r:embed="rId2"/>
          <a:stretch/>
        </p:blipFill>
        <p:spPr>
          <a:xfrm>
            <a:off x="2556000" y="3213000"/>
            <a:ext cx="4176720" cy="2870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图片 9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8" name="Object 153" descr=""/>
          <p:cNvPicPr/>
          <p:nvPr/>
        </p:nvPicPr>
        <p:blipFill>
          <a:blip r:embed="rId2"/>
          <a:stretch/>
        </p:blipFill>
        <p:spPr>
          <a:xfrm>
            <a:off x="250920" y="1776240"/>
            <a:ext cx="8751960" cy="287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9" name="Picture 78" descr="回目录副本"/>
          <p:cNvPicPr/>
          <p:nvPr/>
        </p:nvPicPr>
        <p:blipFill>
          <a:blip r:embed="rId3"/>
          <a:stretch/>
        </p:blipFill>
        <p:spPr>
          <a:xfrm>
            <a:off x="8459640" y="6524640"/>
            <a:ext cx="660600" cy="24912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91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技能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07"/>
          <p:cNvSpPr/>
          <p:nvPr/>
        </p:nvSpPr>
        <p:spPr>
          <a:xfrm>
            <a:off x="2498760" y="1773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210"/>
          <p:cNvSpPr/>
          <p:nvPr/>
        </p:nvSpPr>
        <p:spPr>
          <a:xfrm>
            <a:off x="4946760" y="1773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220"/>
          <p:cNvSpPr/>
          <p:nvPr/>
        </p:nvSpPr>
        <p:spPr>
          <a:xfrm>
            <a:off x="1403280" y="2349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221"/>
          <p:cNvSpPr/>
          <p:nvPr/>
        </p:nvSpPr>
        <p:spPr>
          <a:xfrm>
            <a:off x="5738760" y="2335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22"/>
          <p:cNvSpPr/>
          <p:nvPr/>
        </p:nvSpPr>
        <p:spPr>
          <a:xfrm>
            <a:off x="7439040" y="2938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图片 4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2" descr="回目录副本"/>
          <p:cNvPicPr/>
          <p:nvPr/>
        </p:nvPicPr>
        <p:blipFill>
          <a:blip r:embed="rId2"/>
          <a:stretch/>
        </p:blipFill>
        <p:spPr>
          <a:xfrm>
            <a:off x="8459640" y="6524640"/>
            <a:ext cx="660600" cy="249120"/>
          </a:xfrm>
          <a:prstGeom prst="rect">
            <a:avLst/>
          </a:prstGeom>
          <a:ln w="0">
            <a:noFill/>
          </a:ln>
        </p:spPr>
      </p:pic>
      <p:pic>
        <p:nvPicPr>
          <p:cNvPr id="668" name="Object 18" descr=""/>
          <p:cNvPicPr/>
          <p:nvPr/>
        </p:nvPicPr>
        <p:blipFill>
          <a:blip r:embed="rId3"/>
          <a:stretch/>
        </p:blipFill>
        <p:spPr>
          <a:xfrm>
            <a:off x="498600" y="765000"/>
            <a:ext cx="8177040" cy="508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9" name="Text Box 23"/>
          <p:cNvSpPr/>
          <p:nvPr/>
        </p:nvSpPr>
        <p:spPr>
          <a:xfrm>
            <a:off x="1054800" y="13413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图片 4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回目录副本"/>
          <p:cNvPicPr/>
          <p:nvPr/>
        </p:nvPicPr>
        <p:blipFill>
          <a:blip r:embed="rId2"/>
          <a:stretch/>
        </p:blipFill>
        <p:spPr>
          <a:xfrm>
            <a:off x="8459640" y="6524640"/>
            <a:ext cx="660600" cy="249120"/>
          </a:xfrm>
          <a:prstGeom prst="rect">
            <a:avLst/>
          </a:prstGeom>
          <a:ln w="0">
            <a:noFill/>
          </a:ln>
        </p:spPr>
      </p:pic>
      <p:pic>
        <p:nvPicPr>
          <p:cNvPr id="672" name="Object 3" descr=""/>
          <p:cNvPicPr/>
          <p:nvPr/>
        </p:nvPicPr>
        <p:blipFill>
          <a:blip r:embed="rId3"/>
          <a:stretch/>
        </p:blipFill>
        <p:spPr>
          <a:xfrm>
            <a:off x="433440" y="627120"/>
            <a:ext cx="8242200" cy="512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3" name="Text Box 4"/>
          <p:cNvSpPr/>
          <p:nvPr/>
        </p:nvSpPr>
        <p:spPr>
          <a:xfrm>
            <a:off x="971640" y="2295360"/>
            <a:ext cx="417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正方体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长方体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圆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圆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五棱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三棱柱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图片 5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5" name="Object 24" descr=""/>
          <p:cNvPicPr/>
          <p:nvPr/>
        </p:nvPicPr>
        <p:blipFill>
          <a:blip r:embed="rId2"/>
          <a:stretch/>
        </p:blipFill>
        <p:spPr>
          <a:xfrm>
            <a:off x="468360" y="1841400"/>
            <a:ext cx="8361360" cy="423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6" name="Picture 2" descr="回目录副本"/>
          <p:cNvPicPr/>
          <p:nvPr/>
        </p:nvPicPr>
        <p:blipFill>
          <a:blip r:embed="rId3"/>
          <a:stretch/>
        </p:blipFill>
        <p:spPr>
          <a:xfrm>
            <a:off x="8459640" y="6524640"/>
            <a:ext cx="660600" cy="24912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20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5"/>
          <p:cNvSpPr/>
          <p:nvPr/>
        </p:nvSpPr>
        <p:spPr>
          <a:xfrm>
            <a:off x="7423200" y="1878120"/>
            <a:ext cx="108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图片 5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2" descr="回目录副本"/>
          <p:cNvPicPr/>
          <p:nvPr/>
        </p:nvPicPr>
        <p:blipFill>
          <a:blip r:embed="rId2"/>
          <a:stretch/>
        </p:blipFill>
        <p:spPr>
          <a:xfrm>
            <a:off x="8459640" y="6524640"/>
            <a:ext cx="660600" cy="249120"/>
          </a:xfrm>
          <a:prstGeom prst="rect">
            <a:avLst/>
          </a:prstGeom>
          <a:ln w="0">
            <a:noFill/>
          </a:ln>
        </p:spPr>
      </p:pic>
      <p:pic>
        <p:nvPicPr>
          <p:cNvPr id="681" name="Object 3" descr=""/>
          <p:cNvPicPr/>
          <p:nvPr/>
        </p:nvPicPr>
        <p:blipFill>
          <a:blip r:embed="rId3"/>
          <a:stretch/>
        </p:blipFill>
        <p:spPr>
          <a:xfrm>
            <a:off x="401760" y="549360"/>
            <a:ext cx="7915320" cy="36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2" name="Text Box 7"/>
          <p:cNvSpPr/>
          <p:nvPr/>
        </p:nvSpPr>
        <p:spPr>
          <a:xfrm>
            <a:off x="1403280" y="4581360"/>
            <a:ext cx="66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所在的平面相对的平面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所在在平面相对的平面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图片 4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2" descr="回目录副本"/>
          <p:cNvPicPr/>
          <p:nvPr/>
        </p:nvPicPr>
        <p:blipFill>
          <a:blip r:embed="rId2"/>
          <a:stretch/>
        </p:blipFill>
        <p:spPr>
          <a:xfrm>
            <a:off x="8459640" y="6524640"/>
            <a:ext cx="660600" cy="249120"/>
          </a:xfrm>
          <a:prstGeom prst="rect">
            <a:avLst/>
          </a:prstGeom>
          <a:ln w="0">
            <a:noFill/>
          </a:ln>
        </p:spPr>
      </p:pic>
      <p:pic>
        <p:nvPicPr>
          <p:cNvPr id="685" name="Object 3" descr=""/>
          <p:cNvPicPr/>
          <p:nvPr/>
        </p:nvPicPr>
        <p:blipFill>
          <a:blip r:embed="rId3"/>
          <a:stretch/>
        </p:blipFill>
        <p:spPr>
          <a:xfrm>
            <a:off x="468360" y="914400"/>
            <a:ext cx="8151840" cy="420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6" name="Object 6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6323040" cy="19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4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6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梳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4" descr="回目录副本"/>
          <p:cNvPicPr/>
          <p:nvPr/>
        </p:nvPicPr>
        <p:blipFill>
          <a:blip r:embed="rId2"/>
          <a:stretch/>
        </p:blipFill>
        <p:spPr>
          <a:xfrm>
            <a:off x="8459640" y="6524640"/>
            <a:ext cx="660600" cy="249120"/>
          </a:xfrm>
          <a:prstGeom prst="rect">
            <a:avLst/>
          </a:prstGeom>
          <a:ln w="0">
            <a:noFill/>
          </a:ln>
        </p:spPr>
      </p:pic>
      <p:pic>
        <p:nvPicPr>
          <p:cNvPr id="690" name="Object 53" descr=""/>
          <p:cNvPicPr/>
          <p:nvPr/>
        </p:nvPicPr>
        <p:blipFill>
          <a:blip r:embed="rId3"/>
          <a:stretch/>
        </p:blipFill>
        <p:spPr>
          <a:xfrm>
            <a:off x="431640" y="1816200"/>
            <a:ext cx="8110800" cy="363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片 4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回目录副本"/>
          <p:cNvPicPr/>
          <p:nvPr/>
        </p:nvPicPr>
        <p:blipFill>
          <a:blip r:embed="rId2"/>
          <a:stretch/>
        </p:blipFill>
        <p:spPr>
          <a:xfrm>
            <a:off x="8459640" y="6524640"/>
            <a:ext cx="660600" cy="249120"/>
          </a:xfrm>
          <a:prstGeom prst="rect">
            <a:avLst/>
          </a:prstGeom>
          <a:ln w="0">
            <a:noFill/>
          </a:ln>
        </p:spPr>
      </p:pic>
      <p:pic>
        <p:nvPicPr>
          <p:cNvPr id="551" name="Object 3" descr=""/>
          <p:cNvPicPr/>
          <p:nvPr/>
        </p:nvPicPr>
        <p:blipFill>
          <a:blip r:embed="rId3"/>
          <a:stretch/>
        </p:blipFill>
        <p:spPr>
          <a:xfrm>
            <a:off x="357120" y="857160"/>
            <a:ext cx="8361360" cy="424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2" name="Text Box 4"/>
          <p:cNvSpPr/>
          <p:nvPr/>
        </p:nvSpPr>
        <p:spPr>
          <a:xfrm>
            <a:off x="3708360" y="2857680"/>
            <a:ext cx="247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长方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图片 4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3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本课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4" descr="回目录副本"/>
          <p:cNvPicPr/>
          <p:nvPr/>
        </p:nvPicPr>
        <p:blipFill>
          <a:blip r:embed="rId2"/>
          <a:stretch/>
        </p:blipFill>
        <p:spPr>
          <a:xfrm>
            <a:off x="8459640" y="6524640"/>
            <a:ext cx="660600" cy="249120"/>
          </a:xfrm>
          <a:prstGeom prst="rect">
            <a:avLst/>
          </a:prstGeom>
          <a:ln w="0">
            <a:noFill/>
          </a:ln>
        </p:spPr>
      </p:pic>
      <p:pic>
        <p:nvPicPr>
          <p:cNvPr id="694" name="Object 8" descr=""/>
          <p:cNvPicPr/>
          <p:nvPr/>
        </p:nvPicPr>
        <p:blipFill>
          <a:blip r:embed="rId3"/>
          <a:stretch/>
        </p:blipFill>
        <p:spPr>
          <a:xfrm>
            <a:off x="482760" y="1776240"/>
            <a:ext cx="8086680" cy="429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5" name="Text Box 6"/>
          <p:cNvSpPr/>
          <p:nvPr/>
        </p:nvSpPr>
        <p:spPr>
          <a:xfrm>
            <a:off x="4686480" y="3044880"/>
            <a:ext cx="544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图片 3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2" descr="回目录副本"/>
          <p:cNvPicPr/>
          <p:nvPr/>
        </p:nvPicPr>
        <p:blipFill>
          <a:blip r:embed="rId2"/>
          <a:stretch/>
        </p:blipFill>
        <p:spPr>
          <a:xfrm>
            <a:off x="8459640" y="6524640"/>
            <a:ext cx="660600" cy="249120"/>
          </a:xfrm>
          <a:prstGeom prst="rect">
            <a:avLst/>
          </a:prstGeom>
          <a:ln w="0">
            <a:noFill/>
          </a:ln>
        </p:spPr>
      </p:pic>
      <p:pic>
        <p:nvPicPr>
          <p:cNvPr id="698" name="Object 3" descr=""/>
          <p:cNvPicPr/>
          <p:nvPr/>
        </p:nvPicPr>
        <p:blipFill>
          <a:blip r:embed="rId3"/>
          <a:stretch/>
        </p:blipFill>
        <p:spPr>
          <a:xfrm>
            <a:off x="395280" y="1628640"/>
            <a:ext cx="830736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图片 4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0" name="Object 3" descr=""/>
          <p:cNvPicPr/>
          <p:nvPr/>
        </p:nvPicPr>
        <p:blipFill>
          <a:blip r:embed="rId2"/>
          <a:stretch/>
        </p:blipFill>
        <p:spPr>
          <a:xfrm>
            <a:off x="324000" y="1214280"/>
            <a:ext cx="839916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1" name="Rectangle 4"/>
          <p:cNvSpPr/>
          <p:nvPr/>
        </p:nvSpPr>
        <p:spPr>
          <a:xfrm>
            <a:off x="4471920" y="2199240"/>
            <a:ext cx="8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图片 4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2" descr="回目录副本"/>
          <p:cNvPicPr/>
          <p:nvPr/>
        </p:nvPicPr>
        <p:blipFill>
          <a:blip r:embed="rId2"/>
          <a:stretch/>
        </p:blipFill>
        <p:spPr>
          <a:xfrm>
            <a:off x="8459640" y="6524640"/>
            <a:ext cx="660600" cy="249120"/>
          </a:xfrm>
          <a:prstGeom prst="rect">
            <a:avLst/>
          </a:prstGeom>
          <a:ln w="0">
            <a:noFill/>
          </a:ln>
        </p:spPr>
      </p:pic>
      <p:pic>
        <p:nvPicPr>
          <p:cNvPr id="704" name="Object 3" descr=""/>
          <p:cNvPicPr/>
          <p:nvPr/>
        </p:nvPicPr>
        <p:blipFill>
          <a:blip r:embed="rId3"/>
          <a:stretch/>
        </p:blipFill>
        <p:spPr>
          <a:xfrm>
            <a:off x="473040" y="1643040"/>
            <a:ext cx="8202600" cy="36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5" name="Object 10" descr=""/>
          <p:cNvPicPr/>
          <p:nvPr/>
        </p:nvPicPr>
        <p:blipFill>
          <a:blip r:embed="rId4"/>
          <a:stretch/>
        </p:blipFill>
        <p:spPr>
          <a:xfrm>
            <a:off x="3348000" y="2954160"/>
            <a:ext cx="1711440" cy="112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图片 6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4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典型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5" descr="回目录副本"/>
          <p:cNvPicPr/>
          <p:nvPr/>
        </p:nvPicPr>
        <p:blipFill>
          <a:blip r:embed="rId2"/>
          <a:stretch/>
        </p:blipFill>
        <p:spPr>
          <a:xfrm>
            <a:off x="8459640" y="6524640"/>
            <a:ext cx="660600" cy="2491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8" descr="GIF-378"/>
          <p:cNvPicPr/>
          <p:nvPr/>
        </p:nvPicPr>
        <p:blipFill>
          <a:blip r:embed="rId3"/>
          <a:stretch/>
        </p:blipFill>
        <p:spPr>
          <a:xfrm>
            <a:off x="352440" y="1940040"/>
            <a:ext cx="390600" cy="352440"/>
          </a:xfrm>
          <a:prstGeom prst="rect">
            <a:avLst/>
          </a:prstGeom>
          <a:ln w="0">
            <a:noFill/>
          </a:ln>
        </p:spPr>
      </p:pic>
      <p:pic>
        <p:nvPicPr>
          <p:cNvPr id="557" name="Object 89" descr=""/>
          <p:cNvPicPr/>
          <p:nvPr/>
        </p:nvPicPr>
        <p:blipFill>
          <a:blip r:embed="rId4"/>
          <a:stretch/>
        </p:blipFill>
        <p:spPr>
          <a:xfrm>
            <a:off x="679320" y="1790640"/>
            <a:ext cx="7850160" cy="317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8" name="Text Box 97"/>
          <p:cNvSpPr/>
          <p:nvPr/>
        </p:nvSpPr>
        <p:spPr>
          <a:xfrm>
            <a:off x="1619280" y="24494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6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0" name="Object 61" descr=""/>
          <p:cNvPicPr/>
          <p:nvPr/>
        </p:nvPicPr>
        <p:blipFill>
          <a:blip r:embed="rId2"/>
          <a:stretch/>
        </p:blipFill>
        <p:spPr>
          <a:xfrm>
            <a:off x="509760" y="638280"/>
            <a:ext cx="8412120" cy="250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1" name="Picture 4" descr="回目录副本"/>
          <p:cNvPicPr/>
          <p:nvPr/>
        </p:nvPicPr>
        <p:blipFill>
          <a:blip r:embed="rId3"/>
          <a:stretch/>
        </p:blipFill>
        <p:spPr>
          <a:xfrm>
            <a:off x="8459640" y="6524640"/>
            <a:ext cx="660600" cy="2491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GIF-378"/>
          <p:cNvPicPr/>
          <p:nvPr/>
        </p:nvPicPr>
        <p:blipFill>
          <a:blip r:embed="rId4"/>
          <a:stretch/>
        </p:blipFill>
        <p:spPr>
          <a:xfrm>
            <a:off x="222120" y="819000"/>
            <a:ext cx="390600" cy="35244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66"/>
          <p:cNvSpPr/>
          <p:nvPr/>
        </p:nvSpPr>
        <p:spPr>
          <a:xfrm>
            <a:off x="2050920" y="37162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Object 70" descr=""/>
          <p:cNvPicPr/>
          <p:nvPr/>
        </p:nvPicPr>
        <p:blipFill>
          <a:blip r:embed="rId5"/>
          <a:stretch/>
        </p:blipFill>
        <p:spPr>
          <a:xfrm>
            <a:off x="5003640" y="3141720"/>
            <a:ext cx="3381480" cy="25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图片 9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AutoShape 2"/>
          <p:cNvSpPr/>
          <p:nvPr/>
        </p:nvSpPr>
        <p:spPr>
          <a:xfrm>
            <a:off x="826920" y="2492280"/>
            <a:ext cx="1295640" cy="2376720"/>
          </a:xfrm>
          <a:prstGeom prst="can">
            <a:avLst>
              <a:gd name="adj" fmla="val 16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3"/>
          <p:cNvGrpSpPr/>
          <p:nvPr/>
        </p:nvGrpSpPr>
        <p:grpSpPr>
          <a:xfrm>
            <a:off x="4572000" y="2276640"/>
            <a:ext cx="4032000" cy="3426480"/>
            <a:chOff x="4572000" y="2276640"/>
            <a:chExt cx="4032000" cy="3426480"/>
          </a:xfrm>
        </p:grpSpPr>
        <p:sp>
          <p:nvSpPr>
            <p:cNvPr id="568" name="Rectangle 4"/>
            <p:cNvSpPr/>
            <p:nvPr/>
          </p:nvSpPr>
          <p:spPr>
            <a:xfrm rot="16200000">
              <a:off x="5806440" y="1977120"/>
              <a:ext cx="1562760" cy="40320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5"/>
            <p:cNvSpPr/>
            <p:nvPr/>
          </p:nvSpPr>
          <p:spPr>
            <a:xfrm rot="16200000">
              <a:off x="5921280" y="4742640"/>
              <a:ext cx="907560" cy="1013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6"/>
            <p:cNvSpPr/>
            <p:nvPr/>
          </p:nvSpPr>
          <p:spPr>
            <a:xfrm rot="16200000">
              <a:off x="5920560" y="2224440"/>
              <a:ext cx="907200" cy="10112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AutoShape 7"/>
          <p:cNvSpPr/>
          <p:nvPr/>
        </p:nvSpPr>
        <p:spPr>
          <a:xfrm rot="10800000">
            <a:off x="2339640" y="3284280"/>
            <a:ext cx="1942920" cy="1150920"/>
          </a:xfrm>
          <a:prstGeom prst="rightArrow">
            <a:avLst>
              <a:gd name="adj1" fmla="val 55324"/>
              <a:gd name="adj2" fmla="val 421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971640" y="51577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圆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1763640" y="90792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欣赏下列图形的折叠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584A-84E6-4F16-BB65-E00961E801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图片 1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AutoShape 2"/>
          <p:cNvSpPr/>
          <p:nvPr/>
        </p:nvSpPr>
        <p:spPr>
          <a:xfrm>
            <a:off x="395280" y="2708280"/>
            <a:ext cx="2827440" cy="117792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3"/>
          <p:cNvGrpSpPr/>
          <p:nvPr/>
        </p:nvGrpSpPr>
        <p:grpSpPr>
          <a:xfrm>
            <a:off x="5724360" y="1916280"/>
            <a:ext cx="2971080" cy="2666520"/>
            <a:chOff x="5724360" y="1916280"/>
            <a:chExt cx="2971080" cy="2666520"/>
          </a:xfrm>
        </p:grpSpPr>
        <p:sp>
          <p:nvSpPr>
            <p:cNvPr id="578" name="Rectangle 4"/>
            <p:cNvSpPr/>
            <p:nvPr/>
          </p:nvSpPr>
          <p:spPr>
            <a:xfrm>
              <a:off x="5724360" y="2265840"/>
              <a:ext cx="987480" cy="1994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5"/>
            <p:cNvSpPr/>
            <p:nvPr/>
          </p:nvSpPr>
          <p:spPr>
            <a:xfrm>
              <a:off x="5724360" y="1916280"/>
              <a:ext cx="987480" cy="3495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6"/>
            <p:cNvSpPr/>
            <p:nvPr/>
          </p:nvSpPr>
          <p:spPr>
            <a:xfrm>
              <a:off x="7210440" y="4235400"/>
              <a:ext cx="987480" cy="347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7"/>
            <p:cNvSpPr/>
            <p:nvPr/>
          </p:nvSpPr>
          <p:spPr>
            <a:xfrm>
              <a:off x="7210440" y="2265840"/>
              <a:ext cx="987480" cy="1994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8"/>
            <p:cNvSpPr/>
            <p:nvPr/>
          </p:nvSpPr>
          <p:spPr>
            <a:xfrm>
              <a:off x="6711840" y="2265840"/>
              <a:ext cx="498240" cy="1994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9"/>
            <p:cNvSpPr/>
            <p:nvPr/>
          </p:nvSpPr>
          <p:spPr>
            <a:xfrm>
              <a:off x="8197920" y="2265840"/>
              <a:ext cx="497520" cy="1994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AutoShape 10"/>
          <p:cNvSpPr/>
          <p:nvPr/>
        </p:nvSpPr>
        <p:spPr>
          <a:xfrm rot="10800000">
            <a:off x="3492360" y="2781000"/>
            <a:ext cx="1943280" cy="1150920"/>
          </a:xfrm>
          <a:prstGeom prst="rightArrow">
            <a:avLst>
              <a:gd name="adj1" fmla="val 55324"/>
              <a:gd name="adj2" fmla="val 422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1116000" y="4437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长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图片 29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1463400" cy="2438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grpSp>
        <p:nvGrpSpPr>
          <p:cNvPr id="588" name="Group 3"/>
          <p:cNvGrpSpPr/>
          <p:nvPr/>
        </p:nvGrpSpPr>
        <p:grpSpPr>
          <a:xfrm>
            <a:off x="5292360" y="2276640"/>
            <a:ext cx="2799000" cy="2679120"/>
            <a:chOff x="5292360" y="2276640"/>
            <a:chExt cx="2799000" cy="2679120"/>
          </a:xfrm>
        </p:grpSpPr>
        <p:sp>
          <p:nvSpPr>
            <p:cNvPr id="589" name="Line 4"/>
            <p:cNvSpPr/>
            <p:nvPr/>
          </p:nvSpPr>
          <p:spPr>
            <a:xfrm>
              <a:off x="5545080" y="4203360"/>
              <a:ext cx="338040" cy="144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5"/>
            <p:cNvSpPr/>
            <p:nvPr/>
          </p:nvSpPr>
          <p:spPr>
            <a:xfrm>
              <a:off x="5883120" y="4203360"/>
              <a:ext cx="588960" cy="144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6"/>
            <p:cNvSpPr/>
            <p:nvPr/>
          </p:nvSpPr>
          <p:spPr>
            <a:xfrm>
              <a:off x="6472080" y="4203360"/>
              <a:ext cx="640080" cy="144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"/>
            <p:cNvSpPr/>
            <p:nvPr/>
          </p:nvSpPr>
          <p:spPr>
            <a:xfrm>
              <a:off x="7112160" y="4203360"/>
              <a:ext cx="606240" cy="144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8"/>
            <p:cNvSpPr/>
            <p:nvPr/>
          </p:nvSpPr>
          <p:spPr>
            <a:xfrm>
              <a:off x="7718400" y="4203360"/>
              <a:ext cx="371520" cy="144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9"/>
            <p:cNvSpPr/>
            <p:nvPr/>
          </p:nvSpPr>
          <p:spPr>
            <a:xfrm>
              <a:off x="5545080" y="3028680"/>
              <a:ext cx="338040" cy="144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0"/>
            <p:cNvSpPr/>
            <p:nvPr/>
          </p:nvSpPr>
          <p:spPr>
            <a:xfrm>
              <a:off x="5883120" y="3028680"/>
              <a:ext cx="588960" cy="144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1"/>
            <p:cNvSpPr/>
            <p:nvPr/>
          </p:nvSpPr>
          <p:spPr>
            <a:xfrm>
              <a:off x="6472080" y="3028680"/>
              <a:ext cx="640080" cy="144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2"/>
            <p:cNvSpPr/>
            <p:nvPr/>
          </p:nvSpPr>
          <p:spPr>
            <a:xfrm>
              <a:off x="7112160" y="3028680"/>
              <a:ext cx="606240" cy="144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3"/>
            <p:cNvSpPr/>
            <p:nvPr/>
          </p:nvSpPr>
          <p:spPr>
            <a:xfrm flipH="1">
              <a:off x="5292720" y="2276640"/>
              <a:ext cx="270000" cy="50112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4"/>
            <p:cNvSpPr/>
            <p:nvPr/>
          </p:nvSpPr>
          <p:spPr>
            <a:xfrm>
              <a:off x="5292720" y="2777760"/>
              <a:ext cx="252360" cy="25056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15"/>
            <p:cNvSpPr/>
            <p:nvPr/>
          </p:nvSpPr>
          <p:spPr>
            <a:xfrm>
              <a:off x="7718400" y="3028680"/>
              <a:ext cx="371520" cy="144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16"/>
            <p:cNvSpPr/>
            <p:nvPr/>
          </p:nvSpPr>
          <p:spPr>
            <a:xfrm>
              <a:off x="5562720" y="2276640"/>
              <a:ext cx="573120" cy="26460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7"/>
            <p:cNvSpPr/>
            <p:nvPr/>
          </p:nvSpPr>
          <p:spPr>
            <a:xfrm flipH="1">
              <a:off x="5883120" y="2541240"/>
              <a:ext cx="252720" cy="48708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8"/>
            <p:cNvSpPr/>
            <p:nvPr/>
          </p:nvSpPr>
          <p:spPr>
            <a:xfrm>
              <a:off x="5292720" y="4470120"/>
              <a:ext cx="270000" cy="48564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9"/>
            <p:cNvSpPr/>
            <p:nvPr/>
          </p:nvSpPr>
          <p:spPr>
            <a:xfrm flipH="1">
              <a:off x="5292360" y="4203360"/>
              <a:ext cx="252360" cy="26640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20"/>
            <p:cNvSpPr/>
            <p:nvPr/>
          </p:nvSpPr>
          <p:spPr>
            <a:xfrm flipH="1">
              <a:off x="5562720" y="4690800"/>
              <a:ext cx="573120" cy="26496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21"/>
            <p:cNvSpPr/>
            <p:nvPr/>
          </p:nvSpPr>
          <p:spPr>
            <a:xfrm>
              <a:off x="5883120" y="4203360"/>
              <a:ext cx="252720" cy="48708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22"/>
            <p:cNvSpPr/>
            <p:nvPr/>
          </p:nvSpPr>
          <p:spPr>
            <a:xfrm>
              <a:off x="5545080" y="3028680"/>
              <a:ext cx="1800" cy="117432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23"/>
            <p:cNvSpPr/>
            <p:nvPr/>
          </p:nvSpPr>
          <p:spPr>
            <a:xfrm>
              <a:off x="5883120" y="3028680"/>
              <a:ext cx="1800" cy="117432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24"/>
            <p:cNvSpPr/>
            <p:nvPr/>
          </p:nvSpPr>
          <p:spPr>
            <a:xfrm>
              <a:off x="6472080" y="3028680"/>
              <a:ext cx="1800" cy="117432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5"/>
            <p:cNvSpPr/>
            <p:nvPr/>
          </p:nvSpPr>
          <p:spPr>
            <a:xfrm>
              <a:off x="7099200" y="3035160"/>
              <a:ext cx="1800" cy="117432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6"/>
            <p:cNvSpPr/>
            <p:nvPr/>
          </p:nvSpPr>
          <p:spPr>
            <a:xfrm>
              <a:off x="7718400" y="3028680"/>
              <a:ext cx="1440" cy="117432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7"/>
            <p:cNvSpPr/>
            <p:nvPr/>
          </p:nvSpPr>
          <p:spPr>
            <a:xfrm>
              <a:off x="8089920" y="3028680"/>
              <a:ext cx="1440" cy="1174320"/>
            </a:xfrm>
            <a:prstGeom prst="line">
              <a:avLst/>
            </a:prstGeom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AutoShape 28"/>
          <p:cNvSpPr/>
          <p:nvPr/>
        </p:nvSpPr>
        <p:spPr>
          <a:xfrm rot="10800000">
            <a:off x="2916000" y="2997000"/>
            <a:ext cx="1942920" cy="1150920"/>
          </a:xfrm>
          <a:prstGeom prst="rightArrow">
            <a:avLst>
              <a:gd name="adj1" fmla="val 55324"/>
              <a:gd name="adj2" fmla="val 4221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9"/>
          <p:cNvSpPr/>
          <p:nvPr/>
        </p:nvSpPr>
        <p:spPr>
          <a:xfrm>
            <a:off x="111708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棱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77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13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2"/>
          <p:cNvGrpSpPr/>
          <p:nvPr/>
        </p:nvGrpSpPr>
        <p:grpSpPr>
          <a:xfrm>
            <a:off x="6084720" y="2205000"/>
            <a:ext cx="2514240" cy="2361600"/>
            <a:chOff x="6084720" y="2205000"/>
            <a:chExt cx="2514240" cy="2361600"/>
          </a:xfrm>
        </p:grpSpPr>
        <p:grpSp>
          <p:nvGrpSpPr>
            <p:cNvPr id="617" name="Group 3"/>
            <p:cNvGrpSpPr/>
            <p:nvPr/>
          </p:nvGrpSpPr>
          <p:grpSpPr>
            <a:xfrm>
              <a:off x="6084720" y="2411640"/>
              <a:ext cx="2200320" cy="2154960"/>
              <a:chOff x="6084720" y="2411640"/>
              <a:chExt cx="2200320" cy="2154960"/>
            </a:xfrm>
          </p:grpSpPr>
          <p:sp>
            <p:nvSpPr>
              <p:cNvPr id="618" name="AutoShape 4"/>
              <p:cNvSpPr/>
              <p:nvPr/>
            </p:nvSpPr>
            <p:spPr>
              <a:xfrm>
                <a:off x="6084720" y="2411640"/>
                <a:ext cx="2200320" cy="2152080"/>
              </a:xfrm>
              <a:prstGeom prst="rtTriangle">
                <a:avLst/>
              </a:prstGeom>
              <a:solidFill>
                <a:srgbClr val="ff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Arc 5"/>
              <p:cNvSpPr/>
              <p:nvPr/>
            </p:nvSpPr>
            <p:spPr>
              <a:xfrm>
                <a:off x="6084720" y="2412720"/>
                <a:ext cx="2200320" cy="215064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6"/>
              <p:cNvSpPr/>
              <p:nvPr/>
            </p:nvSpPr>
            <p:spPr>
              <a:xfrm>
                <a:off x="6084720" y="2411640"/>
                <a:ext cx="1440" cy="2153880"/>
              </a:xfrm>
              <a:prstGeom prst="line">
                <a:avLst/>
              </a:prstGeom>
              <a:ln w="936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7"/>
              <p:cNvSpPr/>
              <p:nvPr/>
            </p:nvSpPr>
            <p:spPr>
              <a:xfrm>
                <a:off x="6084720" y="4565520"/>
                <a:ext cx="220032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Oval 8"/>
            <p:cNvSpPr/>
            <p:nvPr/>
          </p:nvSpPr>
          <p:spPr>
            <a:xfrm>
              <a:off x="7548840" y="2205000"/>
              <a:ext cx="1050120" cy="1027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9"/>
          <p:cNvGrpSpPr/>
          <p:nvPr/>
        </p:nvGrpSpPr>
        <p:grpSpPr>
          <a:xfrm>
            <a:off x="1187280" y="2133720"/>
            <a:ext cx="1440000" cy="2304360"/>
            <a:chOff x="1187280" y="2133720"/>
            <a:chExt cx="1440000" cy="2304360"/>
          </a:xfrm>
        </p:grpSpPr>
        <p:sp>
          <p:nvSpPr>
            <p:cNvPr id="624" name="AutoShape 10"/>
            <p:cNvSpPr/>
            <p:nvPr/>
          </p:nvSpPr>
          <p:spPr>
            <a:xfrm>
              <a:off x="1187280" y="2133720"/>
              <a:ext cx="1440000" cy="19688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11"/>
            <p:cNvSpPr/>
            <p:nvPr/>
          </p:nvSpPr>
          <p:spPr>
            <a:xfrm>
              <a:off x="1187280" y="3782880"/>
              <a:ext cx="1440000" cy="655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AutoShape 12"/>
          <p:cNvSpPr/>
          <p:nvPr/>
        </p:nvSpPr>
        <p:spPr>
          <a:xfrm rot="10800000">
            <a:off x="3276360" y="3284280"/>
            <a:ext cx="1942920" cy="1150920"/>
          </a:xfrm>
          <a:prstGeom prst="rightArrow">
            <a:avLst>
              <a:gd name="adj1" fmla="val 55324"/>
              <a:gd name="adj2" fmla="val 421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1477440" y="479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圆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图片 7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2"/>
          <p:cNvSpPr/>
          <p:nvPr/>
        </p:nvSpPr>
        <p:spPr>
          <a:xfrm>
            <a:off x="755640" y="2708280"/>
            <a:ext cx="785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自己设计制作一个圆锥形状的包装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自己设计制作一个正体方形状的包装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3"/>
          <p:cNvGrpSpPr/>
          <p:nvPr/>
        </p:nvGrpSpPr>
        <p:grpSpPr>
          <a:xfrm>
            <a:off x="1042920" y="1052640"/>
            <a:ext cx="2620800" cy="852480"/>
            <a:chOff x="1042920" y="1052640"/>
            <a:chExt cx="2620800" cy="852480"/>
          </a:xfrm>
        </p:grpSpPr>
        <p:sp>
          <p:nvSpPr>
            <p:cNvPr id="631" name="AutoShape 4"/>
            <p:cNvSpPr/>
            <p:nvPr/>
          </p:nvSpPr>
          <p:spPr>
            <a:xfrm>
              <a:off x="1511280" y="11113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2" name="Picture 5" descr="ni_png_0444"/>
            <p:cNvPicPr/>
            <p:nvPr/>
          </p:nvPicPr>
          <p:blipFill>
            <a:blip r:embed="rId2"/>
            <a:stretch/>
          </p:blipFill>
          <p:spPr>
            <a:xfrm>
              <a:off x="1042920" y="10526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3" name="Picture 6" descr="81"/>
          <p:cNvPicPr/>
          <p:nvPr/>
        </p:nvPicPr>
        <p:blipFill>
          <a:blip r:embed="rId3"/>
          <a:stretch/>
        </p:blipFill>
        <p:spPr>
          <a:xfrm>
            <a:off x="684360" y="4676760"/>
            <a:ext cx="6827760" cy="14162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7" descr="66"/>
          <p:cNvPicPr/>
          <p:nvPr/>
        </p:nvPicPr>
        <p:blipFill>
          <a:blip r:embed="rId4"/>
          <a:stretch/>
        </p:blipFill>
        <p:spPr>
          <a:xfrm>
            <a:off x="6948360" y="69228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08:59:11Z</dcterms:created>
  <dc:creator>Administrator</dc:creator>
  <dc:description/>
  <cp:keywords/>
  <dc:language>en-US</dc:language>
  <cp:lastModifiedBy>Administrator</cp:lastModifiedBy>
  <dcterms:modified xsi:type="dcterms:W3CDTF">2014-11-06T12:30:32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