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35A-E92D-40E6-926E-E340AD73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088-47CB-436A-97B7-52BA11D8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2CD-13FB-4093-8405-E6AC5896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367-3962-4CD2-9ABA-26B8F626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C0E-FCB5-4C0D-80AA-8E98922C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FBA-3E02-4EB0-AED3-57AEE23C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7B4-0776-4F4B-AC68-F81D022F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786-6CDF-4D9C-B881-0A38E34C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FDB-FA73-48BF-AD90-67CF80DF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45C-429E-43E5-998A-631B569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833-8AF4-4EA1-A6BA-A07D7783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61B-0112-4FA2-B1BB-B6B587F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4AF8-62D0-49F5-890D-753C2FBDA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nit 3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s is my sist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189000"/>
            <a:ext cx="5545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my br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are her s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he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bo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are gir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my 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are your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era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are ID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red 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620640"/>
            <a:ext cx="8498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ave: This is my mother. Mom, this is Lin H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n Hai: Nice to meet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om: Nice to meet you, Lin H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ave: And these are my grand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andparents: Hi, Lin H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n Hai: H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ave:  And this is my sister, Mary, and this is my brother, J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79200" y="0"/>
            <a:ext cx="9547200" cy="7161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951280" y="189000"/>
            <a:ext cx="6300720" cy="4987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7280" y="115920"/>
            <a:ext cx="284472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5229360"/>
            <a:ext cx="64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my/her/h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is my /her/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0492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20720" y="189000"/>
            <a:ext cx="66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 is Jiang Qinqin’s family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042920" y="836640"/>
            <a:ext cx="6696000" cy="4395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92360" y="522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her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oth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57340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8000" y="934920"/>
            <a:ext cx="5328000" cy="4222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11280" y="507060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his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 is Xie Tingfeng’s family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7340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187280" y="85680"/>
            <a:ext cx="7050240" cy="5288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43280" y="5300640"/>
            <a:ext cx="46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5661000"/>
            <a:ext cx="57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6560" y="5484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5430960"/>
            <a:ext cx="56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your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9450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304920" y="-3571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35280" y="-31608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 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19280" y="115920"/>
            <a:ext cx="5977080" cy="5133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68360" y="5229360"/>
            <a:ext cx="568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your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58024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905440" cy="4365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484360" y="4724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her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08760" y="5297400"/>
            <a:ext cx="38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20720" y="-100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 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4797360"/>
            <a:ext cx="77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   is      my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oth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589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my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rothe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480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7632720" cy="3817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11592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ROUP ACTIVIT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活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roduce Jenny’s fami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介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enny’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家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enn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名义介绍．２．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enn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朋友的身份介绍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413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. g Is this/that your…? Yes, it is./ 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11280" y="115920"/>
            <a:ext cx="36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单数变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620640"/>
            <a:ext cx="705636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th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/she/i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成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后边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:   boy—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rl___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我的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的都不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主代词不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/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620640"/>
            <a:ext cx="87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  1.This is my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95480" y="1365120"/>
            <a:ext cx="46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se are my br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206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Is that your si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78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those your sis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3573360"/>
            <a:ext cx="53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She i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429264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y are m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87280" y="620640"/>
            <a:ext cx="61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is /tha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./ No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997360"/>
            <a:ext cx="7058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e /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,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is ./ No,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 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isn’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000"/>
            <a:ext cx="9504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Is this your dictionary? Yes,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6922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s that his watch? No. it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125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How do you spell penc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28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Is this his sister? Yes,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6226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se are my au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133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s that your uncle? No. it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3141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ose are her cou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645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Is he your fath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2051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Is she his grandm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815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 isn’t my grandfather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214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Is he Mr. Green’s 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5805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s she Mr. Hand’s daugh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969840"/>
            <a:ext cx="28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168120"/>
            <a:ext cx="7920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he your brother? No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she your mother? No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he her father? Yes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your grandfather? Yes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at his brother? No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she our teacher? No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n’t her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i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’s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his un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4360" y="44280"/>
            <a:ext cx="6553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下列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这是你的姐姐吗？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那是他的哥哥吗？不，不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她是你的奶奶吗？不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他是她的爸爸吗？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484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this your sister? Yes ,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2924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that his brother? No ,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4292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 she your grandmother? No, she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516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he her father? Yes, 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549360"/>
            <a:ext cx="82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404640"/>
            <a:ext cx="770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是我的叔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是她的爸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不是他的妹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是他的表姐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1268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 is my un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63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 is her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933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 isn’t her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5445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she his cousin? Yes, she i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33336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6280"/>
            <a:ext cx="813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Lucy is a girl. She is her father’s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Jim is his father’s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My father’s sister is my 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Kate’s father’s brother is her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Tim’s father is my uncle, so Tim is my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His parents are his ______ and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My grandparents are my ______             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333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1125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80560" y="16225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2421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57336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360" y="357336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0920" y="429264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8657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00:42Z</dcterms:created>
  <dc:creator>nk_lnk</dc:creator>
  <dc:description/>
  <dc:language>en-US</dc:language>
  <cp:lastModifiedBy>FOUNDER</cp:lastModifiedBy>
  <dcterms:modified xsi:type="dcterms:W3CDTF">2004-10-25T00:34:54Z</dcterms:modified>
  <cp:revision>36</cp:revision>
  <dc:subject/>
  <dc:title>幻灯片 1</dc:title>
</cp:coreProperties>
</file>