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9000-6E06-479C-A0AD-74723942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7C2-38D1-43E4-80AD-5F7B6DAC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E31-48EF-4A46-94C6-2479BD5C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E64C-656B-4D16-8C8A-489AC08A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3CD0-3115-4957-843E-54B2FA39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6BC-A1BC-469A-9472-319BD48C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A25-65F6-4C2D-97A7-753E7EB7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A92-4876-4AD2-848A-C5B9422F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957-75D8-4523-970A-9C9A1FEC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6EA-1599-4A77-8ED5-82C406B1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88F0-AD25-4B74-9635-146740E2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00C-E808-4274-B859-ED15E2E0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4973-CBBE-43F7-B740-DA88E75B7A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936720" cy="1440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276720" y="152280"/>
            <a:ext cx="936360" cy="144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6705720" y="2438280"/>
            <a:ext cx="82224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5410080" y="2514600"/>
            <a:ext cx="777960" cy="1295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2743200" y="2438280"/>
            <a:ext cx="863640" cy="136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6"/>
          <a:stretch/>
        </p:blipFill>
        <p:spPr>
          <a:xfrm>
            <a:off x="1600200" y="2438280"/>
            <a:ext cx="865080" cy="136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7"/>
          <a:stretch/>
        </p:blipFill>
        <p:spPr>
          <a:xfrm>
            <a:off x="1511280" y="4654440"/>
            <a:ext cx="792360" cy="151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8"/>
          <a:stretch/>
        </p:blipFill>
        <p:spPr>
          <a:xfrm>
            <a:off x="2592360" y="4654440"/>
            <a:ext cx="79236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9"/>
          <a:stretch/>
        </p:blipFill>
        <p:spPr>
          <a:xfrm>
            <a:off x="5327640" y="4726080"/>
            <a:ext cx="792000" cy="136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10"/>
          <a:stretch/>
        </p:blipFill>
        <p:spPr>
          <a:xfrm>
            <a:off x="6408720" y="4726080"/>
            <a:ext cx="863640" cy="1368360"/>
          </a:xfrm>
          <a:prstGeom prst="rect">
            <a:avLst/>
          </a:prstGeom>
          <a:ln w="0">
            <a:noFill/>
          </a:ln>
        </p:spPr>
      </p:pic>
      <p:sp>
        <p:nvSpPr>
          <p:cNvPr id="51" name="Line 12"/>
          <p:cNvSpPr/>
          <p:nvPr/>
        </p:nvSpPr>
        <p:spPr>
          <a:xfrm flipV="1">
            <a:off x="4464000" y="1125000"/>
            <a:ext cx="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4176720" y="1125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519280" y="2205000"/>
            <a:ext cx="374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2087640" y="2349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5716440" y="242100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2592360" y="364644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8"/>
          <p:cNvSpPr/>
          <p:nvPr/>
        </p:nvSpPr>
        <p:spPr>
          <a:xfrm>
            <a:off x="1944720" y="429408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9"/>
          <p:cNvSpPr/>
          <p:nvPr/>
        </p:nvSpPr>
        <p:spPr>
          <a:xfrm>
            <a:off x="6408720" y="3502080"/>
            <a:ext cx="0" cy="71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0"/>
          <p:cNvSpPr/>
          <p:nvPr/>
        </p:nvSpPr>
        <p:spPr>
          <a:xfrm>
            <a:off x="5832360" y="422100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53352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father/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da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2743200" y="36576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mother/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1"/>
          <p:cNvSpPr/>
          <p:nvPr/>
        </p:nvSpPr>
        <p:spPr>
          <a:xfrm>
            <a:off x="1944720" y="42940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2"/>
          <p:cNvSpPr/>
          <p:nvPr/>
        </p:nvSpPr>
        <p:spPr>
          <a:xfrm>
            <a:off x="3168720" y="429408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3"/>
          <p:cNvSpPr/>
          <p:nvPr/>
        </p:nvSpPr>
        <p:spPr>
          <a:xfrm>
            <a:off x="5832360" y="42210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4"/>
          <p:cNvSpPr/>
          <p:nvPr/>
        </p:nvSpPr>
        <p:spPr>
          <a:xfrm>
            <a:off x="6192720" y="3502080"/>
            <a:ext cx="436680" cy="3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5"/>
          <p:cNvSpPr/>
          <p:nvPr/>
        </p:nvSpPr>
        <p:spPr>
          <a:xfrm>
            <a:off x="2448000" y="3646440"/>
            <a:ext cx="295200" cy="11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6"/>
          <p:cNvSpPr/>
          <p:nvPr/>
        </p:nvSpPr>
        <p:spPr>
          <a:xfrm>
            <a:off x="3456000" y="5446800"/>
            <a:ext cx="18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>
            <a:off x="2498760" y="22050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6264360" y="220500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9"/>
          <p:cNvSpPr/>
          <p:nvPr/>
        </p:nvSpPr>
        <p:spPr>
          <a:xfrm>
            <a:off x="2058840" y="23353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0"/>
          <p:cNvSpPr/>
          <p:nvPr/>
        </p:nvSpPr>
        <p:spPr>
          <a:xfrm>
            <a:off x="3095640" y="234936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1"/>
          <p:cNvSpPr/>
          <p:nvPr/>
        </p:nvSpPr>
        <p:spPr>
          <a:xfrm>
            <a:off x="5732640" y="24210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2"/>
          <p:cNvSpPr/>
          <p:nvPr/>
        </p:nvSpPr>
        <p:spPr>
          <a:xfrm>
            <a:off x="6948360" y="240660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3"/>
          <p:cNvSpPr/>
          <p:nvPr/>
        </p:nvSpPr>
        <p:spPr>
          <a:xfrm>
            <a:off x="6962760" y="423540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609480" y="16002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randfather/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ran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4648320" y="15238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grandmoth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gran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5029200" y="373392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uncle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6553080" y="373392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4572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</a:rPr>
              <a:t>brother</a:t>
            </a:r>
            <a:r>
              <a:rPr b="0" lang="zh-CN" sz="3200" spc="-1" strike="noStrike">
                <a:solidFill>
                  <a:srgbClr val="cc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514600" y="6095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3657600" y="5486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cousins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304920" y="990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Family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609480" y="5105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so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"/>
          <p:cNvSpPr/>
          <p:nvPr/>
        </p:nvSpPr>
        <p:spPr>
          <a:xfrm>
            <a:off x="7238880" y="5029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daugh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6400800" y="6095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Times New Roman"/>
              </a:rPr>
              <a:t>sister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6"/>
          <p:cNvSpPr/>
          <p:nvPr/>
        </p:nvSpPr>
        <p:spPr>
          <a:xfrm>
            <a:off x="5715000" y="609588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 flipH="1">
            <a:off x="2057400" y="6324480"/>
            <a:ext cx="457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257760" y="304920"/>
            <a:ext cx="1873800" cy="58140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304920" y="1523880"/>
            <a:ext cx="822960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Hi. I’m _____. Here is a photo of my family. These are ____________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90920" y="685800"/>
            <a:ext cx="4419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ere’s an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截屏023"/>
          <p:cNvPicPr/>
          <p:nvPr/>
        </p:nvPicPr>
        <p:blipFill>
          <a:blip r:embed="rId1">
            <a:grayscl/>
          </a:blip>
          <a:stretch/>
        </p:blipFill>
        <p:spPr>
          <a:xfrm>
            <a:off x="5638680" y="3014640"/>
            <a:ext cx="2895840" cy="24717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514600" y="1676520"/>
            <a:ext cx="1447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Jac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90720" y="2133720"/>
            <a:ext cx="6476760" cy="38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                              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grandpar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ose are my parent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ose are my aunt 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uncle. This is my broth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Bob. That is my cous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Dal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838080" y="142236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按要求写出下列单词或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914400" y="2041560"/>
            <a:ext cx="70866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grandfather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口语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2. father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口语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3. grandmother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口语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4. mother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口语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5. friend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复数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6. aunt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对应词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657600" y="507960"/>
            <a:ext cx="220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Revisio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029200" y="2133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ran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181480" y="3505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ran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962520" y="4906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114800" y="4191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962520" y="2819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962520" y="5592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80880" y="838080"/>
            <a:ext cx="85345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7. picture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同义词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8. son 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对应词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 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这就是……。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我的两张家庭照片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在第一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下张照片中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狗的名字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038480" y="930240"/>
            <a:ext cx="12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pho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276720" y="1616040"/>
            <a:ext cx="1981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daugh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429000" y="2362320"/>
            <a:ext cx="2743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Here is/are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143000" y="3673440"/>
            <a:ext cx="5105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wo photos of my fami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724280" y="4282920"/>
            <a:ext cx="4419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in the first /next pho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895480" y="5045040"/>
            <a:ext cx="5181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he name of the do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533520" y="914400"/>
            <a:ext cx="79246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a. Complete the passage with the words in the bo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09480" y="1981080"/>
            <a:ext cx="8229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【指导】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首先，读懂短文的大意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你好，我的名字叫保尔。这是我的一张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照片。这是我的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这是我的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约翰和鲍勃。这是我的妹妹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3657600" y="228600"/>
            <a:ext cx="1905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MS UI Gothic"/>
              </a:rPr>
              <a:t>writ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MS UI Gothic"/>
              <a:ea typeface="MS UI Gothic"/>
            </a:endParaRPr>
          </a:p>
        </p:txBody>
      </p:sp>
    </p:spTree>
  </p:cSld>
  <p:transition>
    <p:wipe dir="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1905120"/>
            <a:ext cx="76201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其次，分析选项中单词的意思、性别、单复数 形式等信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析每句话意思，将选项对号入座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400" y="209052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Hi. My name is Paul. This is a photo of my ______. These are my ______ and these are my _______, John and Bob. This is my sister _____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2057400" y="2773440"/>
            <a:ext cx="1676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famil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095880" y="2773440"/>
            <a:ext cx="167652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114800" y="3462480"/>
            <a:ext cx="2286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broth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952880" y="4071960"/>
            <a:ext cx="1371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Cin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934920" y="1219320"/>
            <a:ext cx="56930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Let’s check the answers.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990720" y="971640"/>
            <a:ext cx="7086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hen draw a picture of Paul’s fami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200771225136979_2"/>
          <p:cNvPicPr/>
          <p:nvPr/>
        </p:nvPicPr>
        <p:blipFill>
          <a:blip r:embed="rId1"/>
          <a:stretch/>
        </p:blipFill>
        <p:spPr>
          <a:xfrm>
            <a:off x="1905120" y="1828800"/>
            <a:ext cx="4724280" cy="325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A0290"/>
          <p:cNvPicPr/>
          <p:nvPr/>
        </p:nvPicPr>
        <p:blipFill>
          <a:blip r:embed="rId2"/>
          <a:stretch/>
        </p:blipFill>
        <p:spPr>
          <a:xfrm>
            <a:off x="3048120" y="2263680"/>
            <a:ext cx="1015920" cy="129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A0278"/>
          <p:cNvPicPr/>
          <p:nvPr/>
        </p:nvPicPr>
        <p:blipFill>
          <a:blip r:embed="rId3"/>
          <a:stretch/>
        </p:blipFill>
        <p:spPr>
          <a:xfrm>
            <a:off x="4038480" y="2263680"/>
            <a:ext cx="1193760" cy="1276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3188"/>
          <p:cNvPicPr/>
          <p:nvPr/>
        </p:nvPicPr>
        <p:blipFill>
          <a:blip r:embed="rId4"/>
          <a:stretch/>
        </p:blipFill>
        <p:spPr>
          <a:xfrm>
            <a:off x="3505320" y="3559320"/>
            <a:ext cx="79056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3070"/>
          <p:cNvPicPr/>
          <p:nvPr/>
        </p:nvPicPr>
        <p:blipFill>
          <a:blip r:embed="rId5"/>
          <a:stretch/>
        </p:blipFill>
        <p:spPr>
          <a:xfrm>
            <a:off x="5105520" y="3559320"/>
            <a:ext cx="95724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3185"/>
          <p:cNvPicPr/>
          <p:nvPr/>
        </p:nvPicPr>
        <p:blipFill>
          <a:blip r:embed="rId6"/>
          <a:stretch/>
        </p:blipFill>
        <p:spPr>
          <a:xfrm>
            <a:off x="4191120" y="3635280"/>
            <a:ext cx="920520" cy="93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3114"/>
          <p:cNvPicPr/>
          <p:nvPr/>
        </p:nvPicPr>
        <p:blipFill>
          <a:blip r:embed="rId7"/>
          <a:stretch/>
        </p:blipFill>
        <p:spPr>
          <a:xfrm>
            <a:off x="2514600" y="3559320"/>
            <a:ext cx="857160" cy="104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85800" y="2486160"/>
            <a:ext cx="792468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Hi. I’m _________. Here is a photo of m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family. These are 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___________________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380880"/>
            <a:ext cx="800100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3b. Bring a family photo to class and write about it. Then tell a classmate about your famil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截屏023"/>
          <p:cNvPicPr/>
          <p:nvPr/>
        </p:nvPicPr>
        <p:blipFill>
          <a:blip r:embed="rId1">
            <a:grayscl/>
          </a:blip>
          <a:stretch/>
        </p:blipFill>
        <p:spPr>
          <a:xfrm>
            <a:off x="5638680" y="3886200"/>
            <a:ext cx="2819520" cy="2406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457200" y="390600"/>
            <a:ext cx="8001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【指导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文的前两句话已给出，第一空格处应填好自己的名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后，将照片上的家人的姓名或与自己的关系向大家作介绍。同学们可以按辈份或年龄的大小有顺序地依次进行介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运用正确的句型，在介绍父母或祖父母等多个人时，可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se/Those are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；在介绍单个的人时，应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s/That is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08:37:52Z</dcterms:created>
  <dc:creator>xp</dc:creator>
  <dc:description/>
  <dc:language>en-US</dc:language>
  <cp:lastModifiedBy>xp</cp:lastModifiedBy>
  <dcterms:modified xsi:type="dcterms:W3CDTF">2017-09-27T08:38:12Z</dcterms:modified>
  <cp:revision>2</cp:revision>
  <dc:subject/>
  <dc:title>幻灯片 1</dc:title>
</cp:coreProperties>
</file>