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509-77EC-455D-90A4-6504EAF0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B7C-02AD-4E39-944D-5F979537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211-FF1D-48A9-A060-4A46E860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28B-86A6-46CE-B5DA-55862BA4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585-A206-4040-802F-35CC4247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886-4F91-4831-9EB9-CBF4A0EE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43B-046B-452F-A7F9-DF6B378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940-996F-4D53-A059-C6277985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53F-6189-4B2A-9B32-7B553EF6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FF4-7493-4A34-BB55-9161E7C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D054-B8E7-4C18-A927-1BA5B886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D1D-E119-40B1-8F5B-6610008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4D87-2DD7-4CDF-8BEC-653ACC19D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324000" y="981000"/>
            <a:ext cx="845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Lesson 19  Christmas Is Coming!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466560" y="476280"/>
            <a:ext cx="5905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义务教育教科书冀教版小学英语六年级上册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755640" y="4076640"/>
            <a:ext cx="7777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e invite our family and friends to our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ACE398B8"/>
          <p:cNvPicPr/>
          <p:nvPr/>
        </p:nvPicPr>
        <p:blipFill>
          <a:blip r:embed="rId1"/>
          <a:srcRect l="44587" t="33033" r="23039" b="54955"/>
          <a:stretch/>
        </p:blipFill>
        <p:spPr>
          <a:xfrm>
            <a:off x="684360" y="1014480"/>
            <a:ext cx="741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403280" y="4005360"/>
            <a:ext cx="4967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ring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if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ACE398B8"/>
          <p:cNvPicPr/>
          <p:nvPr/>
        </p:nvPicPr>
        <p:blipFill>
          <a:blip r:embed="rId1"/>
          <a:srcRect l="43685" t="44177" r="23039" b="45420"/>
          <a:stretch/>
        </p:blipFill>
        <p:spPr>
          <a:xfrm>
            <a:off x="1042920" y="1003320"/>
            <a:ext cx="69138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187280" y="3946680"/>
            <a:ext cx="6985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our family and friends gifts,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ACE398B8"/>
          <p:cNvPicPr/>
          <p:nvPr/>
        </p:nvPicPr>
        <p:blipFill>
          <a:blip r:embed="rId1"/>
          <a:srcRect l="43685" t="54840" r="23926" b="33797"/>
          <a:stretch/>
        </p:blipFill>
        <p:spPr>
          <a:xfrm>
            <a:off x="1042920" y="1052640"/>
            <a:ext cx="6842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116000" y="3933720"/>
            <a:ext cx="719928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e sing Christm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ngs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e have fun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CE398B8"/>
          <p:cNvPicPr/>
          <p:nvPr/>
        </p:nvPicPr>
        <p:blipFill>
          <a:blip r:embed="rId1"/>
          <a:srcRect l="43683" t="65740" r="23930" b="23157"/>
          <a:stretch/>
        </p:blipFill>
        <p:spPr>
          <a:xfrm>
            <a:off x="1042920" y="1125360"/>
            <a:ext cx="662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ACE398B8"/>
          <p:cNvPicPr/>
          <p:nvPr/>
        </p:nvPicPr>
        <p:blipFill>
          <a:blip r:embed="rId1"/>
          <a:srcRect l="43683" t="65740" r="23930" b="23157"/>
          <a:stretch/>
        </p:blipFill>
        <p:spPr>
          <a:xfrm>
            <a:off x="684360" y="5229360"/>
            <a:ext cx="3095640" cy="973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4429080" y="4869000"/>
            <a:ext cx="3888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e sing Christmas songs. We have fun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ACE398B8"/>
          <p:cNvPicPr/>
          <p:nvPr/>
        </p:nvPicPr>
        <p:blipFill>
          <a:blip r:embed="rId2"/>
          <a:srcRect l="43685" t="54840" r="23926" b="33797"/>
          <a:stretch/>
        </p:blipFill>
        <p:spPr>
          <a:xfrm>
            <a:off x="684360" y="3716280"/>
            <a:ext cx="3095640" cy="961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4427640" y="3716280"/>
            <a:ext cx="3527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e give our family and friends gifts,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ACE398B8"/>
          <p:cNvPicPr/>
          <p:nvPr/>
        </p:nvPicPr>
        <p:blipFill>
          <a:blip r:embed="rId3"/>
          <a:srcRect l="43685" t="44177" r="23039" b="45420"/>
          <a:stretch/>
        </p:blipFill>
        <p:spPr>
          <a:xfrm>
            <a:off x="684360" y="2247840"/>
            <a:ext cx="3097080" cy="893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3492360" y="2349360"/>
            <a:ext cx="496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y bring gifts for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ACE398B8"/>
          <p:cNvPicPr/>
          <p:nvPr/>
        </p:nvPicPr>
        <p:blipFill>
          <a:blip r:embed="rId4"/>
          <a:srcRect l="44587" t="33033" r="23039" b="54955"/>
          <a:stretch/>
        </p:blipFill>
        <p:spPr>
          <a:xfrm>
            <a:off x="684360" y="765000"/>
            <a:ext cx="3024000" cy="997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4356000" y="836640"/>
            <a:ext cx="4176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e invite our family and friends to our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ord study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119664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eacher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ring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picture of the Great Wall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her stud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is mothe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ring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big cake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his son on his birth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ve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me a book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= H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give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book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me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lease give us a hand (=Pleas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gi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han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us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n my birthday party, we s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ong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 and dance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What is the special food on Christ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u=3382357494,3678609853&amp;fm=21&amp;gp=0"/>
          <p:cNvPicPr/>
          <p:nvPr/>
        </p:nvPicPr>
        <p:blipFill>
          <a:blip r:embed="rId1"/>
          <a:stretch/>
        </p:blipFill>
        <p:spPr>
          <a:xfrm>
            <a:off x="684360" y="1844640"/>
            <a:ext cx="4174920" cy="384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619280" y="6021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hristmas Tu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u=2101805278,3354630698&amp;fm=21&amp;gp=0"/>
          <p:cNvPicPr/>
          <p:nvPr/>
        </p:nvPicPr>
        <p:blipFill>
          <a:blip r:embed="rId2"/>
          <a:stretch/>
        </p:blipFill>
        <p:spPr>
          <a:xfrm>
            <a:off x="5076720" y="1916280"/>
            <a:ext cx="3384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32400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lk about Christmas with your part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9" descr="SC20091124113759203"/>
          <p:cNvPicPr/>
          <p:nvPr/>
        </p:nvPicPr>
        <p:blipFill>
          <a:blip r:embed="rId1"/>
          <a:stretch/>
        </p:blipFill>
        <p:spPr>
          <a:xfrm>
            <a:off x="5214960" y="3214800"/>
            <a:ext cx="2924280" cy="222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0" y="1785960"/>
            <a:ext cx="4929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5640" y="2133720"/>
            <a:ext cx="7848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erry Christmas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ay Christmas and the coming year bring happiness to you 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u=3256211052,1865137426&amp;gp=3"/>
          <p:cNvPicPr/>
          <p:nvPr/>
        </p:nvPicPr>
        <p:blipFill>
          <a:blip r:embed="rId1"/>
          <a:stretch/>
        </p:blipFill>
        <p:spPr>
          <a:xfrm>
            <a:off x="5508720" y="47628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u=46391088,1187170438&amp;gp=0"/>
          <p:cNvPicPr/>
          <p:nvPr/>
        </p:nvPicPr>
        <p:blipFill>
          <a:blip r:embed="rId2"/>
          <a:stretch/>
        </p:blipFill>
        <p:spPr>
          <a:xfrm>
            <a:off x="611280" y="450864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24000" y="1522440"/>
            <a:ext cx="8424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Try to get the tales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来历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hristmas on Internet and tell it to your classmates or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Write a short passage about Christmas according to 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34bbf8cd38c112630fb345df"/>
          <p:cNvPicPr/>
          <p:nvPr/>
        </p:nvPicPr>
        <p:blipFill>
          <a:blip r:embed="rId1"/>
          <a:stretch/>
        </p:blipFill>
        <p:spPr>
          <a:xfrm>
            <a:off x="5003640" y="477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10240483710_758.jpg"/>
          <p:cNvPicPr/>
          <p:nvPr/>
        </p:nvPicPr>
        <p:blipFill>
          <a:blip r:embed="rId2"/>
          <a:stretch/>
        </p:blipFill>
        <p:spPr>
          <a:xfrm>
            <a:off x="1428840" y="3143160"/>
            <a:ext cx="2663640" cy="3133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2482920" y="60181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ing Festi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1428840" y="571680"/>
            <a:ext cx="2733480" cy="259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4"/>
          <a:stretch/>
        </p:blipFill>
        <p:spPr>
          <a:xfrm>
            <a:off x="5286240" y="3357720"/>
            <a:ext cx="2500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635280" y="5661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hrist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6816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547640" y="476280"/>
            <a:ext cx="75963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quickly and 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en is Christm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Do people go to work on a holi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children go to school on a holi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050920" y="2276640"/>
            <a:ext cx="39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t’s December 25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050920" y="2708280"/>
            <a:ext cx="60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2268360" y="4572000"/>
            <a:ext cx="6553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n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liday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people don’t work, children don’t go to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7">
            <a:hlinkClick r:id="rId2" action="ppaction://hlinksldjump"/>
          </p:cNvPr>
          <p:cNvSpPr/>
          <p:nvPr/>
        </p:nvSpPr>
        <p:spPr>
          <a:xfrm>
            <a:off x="1692360" y="476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text carefully again and answer th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9">
            <a:hlinkClick r:id="rId3" action="ppaction://hlinksldjump"/>
          </p:cNvPr>
          <p:cNvSpPr/>
          <p:nvPr/>
        </p:nvSpPr>
        <p:spPr>
          <a:xfrm>
            <a:off x="2266920" y="22622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What is Christm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0">
            <a:hlinkClick r:id="rId4" action="ppaction://hlinksldjump"/>
          </p:cNvPr>
          <p:cNvSpPr/>
          <p:nvPr/>
        </p:nvSpPr>
        <p:spPr>
          <a:xfrm>
            <a:off x="2266920" y="35575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What do we have at Christm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1">
            <a:hlinkClick r:id="rId5" action="ppaction://hlinksldjump"/>
          </p:cNvPr>
          <p:cNvSpPr/>
          <p:nvPr/>
        </p:nvSpPr>
        <p:spPr>
          <a:xfrm>
            <a:off x="2268360" y="47973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Who is San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1187280" y="4149720"/>
            <a:ext cx="7129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Christm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hristmas is a Wester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lida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图片 4" descr="psds16344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260280"/>
            <a:ext cx="68407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611280" y="4581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What do we have at Christma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e have Christmas trees, lights and S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43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116000" y="386064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o is San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e is a merry man in red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116000" y="5445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ring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y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children on Christ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357280" y="500040"/>
            <a:ext cx="37339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ACE398B8">
            <a:hlinkClick r:id="rId1" action="ppaction://hlinksldjump"/>
          </p:cNvPr>
          <p:cNvPicPr/>
          <p:nvPr/>
        </p:nvPicPr>
        <p:blipFill>
          <a:blip r:embed="rId2"/>
          <a:srcRect l="44587" t="33033" r="23039" b="54955"/>
          <a:stretch/>
        </p:blipFill>
        <p:spPr>
          <a:xfrm>
            <a:off x="611280" y="981000"/>
            <a:ext cx="3456000" cy="20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ACE398B8">
            <a:hlinkClick r:id="rId3" action="ppaction://hlinksldjump"/>
          </p:cNvPr>
          <p:cNvPicPr/>
          <p:nvPr/>
        </p:nvPicPr>
        <p:blipFill>
          <a:blip r:embed="rId4"/>
          <a:srcRect l="43685" t="44177" r="23039" b="45420"/>
          <a:stretch/>
        </p:blipFill>
        <p:spPr>
          <a:xfrm>
            <a:off x="4643280" y="981000"/>
            <a:ext cx="3672000" cy="1994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CE398B8"/>
          <p:cNvPicPr/>
          <p:nvPr/>
        </p:nvPicPr>
        <p:blipFill>
          <a:blip r:embed="rId5"/>
          <a:srcRect l="43685" t="54840" r="23926" b="33797"/>
          <a:stretch/>
        </p:blipFill>
        <p:spPr>
          <a:xfrm>
            <a:off x="611280" y="3789360"/>
            <a:ext cx="345420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ACE398B8"/>
          <p:cNvPicPr/>
          <p:nvPr/>
        </p:nvPicPr>
        <p:blipFill>
          <a:blip r:embed="rId6"/>
          <a:srcRect l="43683" t="65740" r="23930" b="23157"/>
          <a:stretch/>
        </p:blipFill>
        <p:spPr>
          <a:xfrm>
            <a:off x="4716360" y="3789360"/>
            <a:ext cx="352908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1"/>
          <p:cNvSpPr/>
          <p:nvPr/>
        </p:nvSpPr>
        <p:spPr>
          <a:xfrm>
            <a:off x="108000" y="26028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do people do at Christ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1:06:25Z</dcterms:created>
  <dc:creator/>
  <dc:description/>
  <dc:language>en-US</dc:language>
  <cp:lastModifiedBy>admin</cp:lastModifiedBy>
  <dcterms:modified xsi:type="dcterms:W3CDTF">2015-12-21T08:34:57Z</dcterms:modified>
  <cp:revision>186</cp:revision>
  <dc:subject/>
  <dc:title>幻灯片 1</dc:title>
</cp:coreProperties>
</file>