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BF1-8150-4BFA-BD1C-15D6FA5B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E0E-E4C9-4BAF-8EE5-8B2BC165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F07-E40E-46F6-963F-88A8E9B1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8E0-1A0F-449B-8F33-8D59DF5C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F07-E851-45D2-ABE4-A4E5E8B2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C2F-6510-43D3-9439-99015151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F59-1066-405D-A480-D209D0D2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0D7-C7FE-412A-A01E-0B34DA5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D2B-862E-4711-B110-A101CB4A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A3A-D905-4AAC-94DE-D0685FF1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D9A-3908-4315-AA21-B4F3D3C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24B-A54C-4663-BFEE-346EB04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A903-3BB2-47AB-8671-254910C6D3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7  On the school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’s the weather? It’s 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ny       windy     cloudy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rai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snow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52424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0" r="0" b="5719"/>
          <a:stretch/>
        </p:blipFill>
        <p:spPr>
          <a:xfrm>
            <a:off x="838080" y="3505320"/>
            <a:ext cx="160020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160020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438280" y="3505320"/>
            <a:ext cx="137160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34320" y="3505320"/>
            <a:ext cx="160020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my umbrell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ain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6440" cy="3733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52680" y="2666880"/>
            <a:ext cx="2362320" cy="609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hool bus                 bike(bicyc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810240" cy="373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19358" r="0" b="26646"/>
          <a:stretch/>
        </p:blipFill>
        <p:spPr>
          <a:xfrm>
            <a:off x="4648320" y="236232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 Ming and I go to school by b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 stop         Here comes the school b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297180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1289" t="4304" r="-1609" b="9675"/>
          <a:stretch/>
        </p:blipFill>
        <p:spPr>
          <a:xfrm>
            <a:off x="3809880" y="3200400"/>
            <a:ext cx="472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our bus dri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392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57400" y="2971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s. Sc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go to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 bus                  by bike                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  fo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2666880" cy="259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438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to school by b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43964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440000" cy="920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1439640" cy="113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81520" y="2897280"/>
            <a:ext cx="1539720" cy="1376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638680" y="3429000"/>
            <a:ext cx="1440000" cy="1103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26668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onday             Tuesday      Wednesday      Thursday        Fri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8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es to school by b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me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rides her b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l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练习短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reakfast      read books          plant flowers       help my 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3964" t="4517" r="0" b="5130"/>
          <a:stretch/>
        </p:blipFill>
        <p:spPr>
          <a:xfrm>
            <a:off x="838080" y="3200400"/>
            <a:ext cx="1981440" cy="2819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198108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20143" t="0" r="4334" b="9628"/>
          <a:stretch/>
        </p:blipFill>
        <p:spPr>
          <a:xfrm>
            <a:off x="4800600" y="3200400"/>
            <a:ext cx="1905120" cy="284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629400" y="327672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7T02:12:19Z</dcterms:created>
  <dc:creator/>
  <dc:description/>
  <dc:language>en-US</dc:language>
  <cp:lastModifiedBy/>
  <dcterms:modified xsi:type="dcterms:W3CDTF">2018-08-17T02:26:27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