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23.gif" ContentType="image/gif"/>
  <Override PartName="/ppt/media/image22.gif" ContentType="image/gif"/>
  <Override PartName="/ppt/media/image21.gif" ContentType="image/gif"/>
  <Override PartName="/ppt/media/image19.jpeg" ContentType="image/jpeg"/>
  <Override PartName="/ppt/media/image17.png" ContentType="image/png"/>
  <Override PartName="/ppt/media/chimes.wav" ContentType="audio/x-wav"/>
  <Override PartName="/ppt/media/image16.png" ContentType="image/png"/>
  <Override PartName="/ppt/media/image14.jpeg" ContentType="image/jpeg"/>
  <Override PartName="/ppt/media/image2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1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38E-E0B4-4BB0-A949-FE5891682E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166-4C89-46AD-9146-12EEF2E47373}" type="slidenum">
              <a:rPr b="0" lang="zh-CN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明确学习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F285-5C1F-4D8C-8678-19DACF1FA18F}" type="slidenum">
              <a:rPr b="0" lang="zh-CN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5A2-CBCF-4E13-A360-C400AC3D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993-6C12-4D47-999A-0C6FA4F6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6A33D-3731-44C7-8915-2C63F76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C3FB1-40D9-4134-AE21-5D10694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18521-0C2F-4FE4-BF35-5A332A3F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0FCEB-C2D4-4DAC-AC40-BE741E0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D7C7-7C31-4F90-84D3-BA88D90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E4972-CC24-4501-8918-EA41EF4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63812-5509-4023-B0B3-DC62D35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517B4-82BE-446C-8DDC-6581131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643D-0D7D-4B4D-AB85-97DEF6CF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C49-1FDB-43F4-9DB2-4536F8F6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D67-8FAC-42CF-BAF6-684A2C10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5CD-B8A9-47B1-8491-A4FDEAA8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F40-F9F2-4B57-A1CA-9BA0C1ED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494-6407-4E60-9665-E536B98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A5D-29D1-438A-B741-61BE954C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F7EC-3609-483C-96DC-2F985C6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7B9D-C89B-49A6-8FCE-FEBFDA2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4BC-2016-4DA0-9457-D0BF4BD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AFB-DBC4-4426-B6DB-E7AA59D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DD38-89B1-41B3-B49B-B45E896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EB8A-E7EE-40CB-A2D0-44BCDFF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CAE-5548-43F2-82AE-EC63603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241-BDDC-459C-9677-A0C41FCA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53B-358F-46CB-9F48-CF753467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59C5-6163-46B6-92BC-90AE4896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CA82-F856-4305-B895-9AB9A7F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8711-A7F3-4A2B-9599-6F70BA90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53E0-7DE5-41D1-A28A-58C0486C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9D2C-A796-4E43-A82A-E359CB60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1D2-0E78-4865-973F-8976B0F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094C-D58B-4615-A11C-3C3B1654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1216-93A4-4F09-8F51-18A7897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62AA-FD5A-4BBF-A163-A325A86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8E31-7A3B-4DED-94A8-AAD7121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3E84-3DE8-44DA-866C-9740267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4DF0-62E5-4CA3-AC12-A844BD89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0571-561C-4697-8694-E020D3ED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6060-B64D-4440-B840-5B940671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C767-4D88-4862-A381-23FEE0DF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CED9-323D-4C09-A7B9-A7B3ABE8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650-A923-4016-A21E-E98B094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01E6-F77A-4435-BF8C-4FA1FE25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3B1C-10F0-429C-B3AB-BFED5A1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4CF7-F0C4-4120-98F9-1E1FD3B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DE740-2236-4194-9732-BD36DF91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C52D-3777-4C0B-BBCE-54F471F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9CF9-7C2E-4EB0-8D10-6A65C37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A3FF-0CBD-4FF6-96EE-0287328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A15F-95BC-4B8A-922C-BF892470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13DD-B65B-4328-ABCE-F1E46FA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7F6EE-F942-4673-8836-D2186710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72F-1219-4C12-AA10-48DC54D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CBF2-6D1C-42F2-ACD5-613CCB6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7ECB-882D-44DD-9353-B2B1BC85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D61E-B88D-4FAA-84E5-519C2288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2FEA-B078-491F-91C1-9EE7A57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4C0C-5B0E-4D55-B529-A6F1576E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3178-21AC-45D6-A545-E8A30CD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5D99-9E0E-4D01-9585-1338844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445D-9E4E-4F75-B3E9-B336E0C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F5B2-3B26-48B4-9367-54F75FCC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D07B-6BE4-428E-86EC-BE89592D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D15-5624-46CA-8ABB-3339C64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6946-F99C-4F62-82CD-AF4B6B38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D4CE-6586-4746-8659-3A0E70D1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DBF2-C11F-4EF2-A4B3-827BFA3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341E-C16F-4693-A590-4CE891FF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FF3A-E7BF-49FB-92A4-8FD70A4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6E3A-0FE3-4980-9294-12CA40CA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02E4-12D9-4750-AB36-F5222F6A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92C4-5EB6-416C-9965-49532FB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640A9-8CFD-41F1-8AF3-3F45D5B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7B543-9036-4F3B-A58A-3175AAB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676-833F-4708-8528-2ACEE55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BD22-6109-4CAC-AC5A-F8F8E6D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96E7-18CA-4727-BD05-AA6CC3BF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34884-6E94-45CE-A81C-6A7E5715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EAC0-924E-4FF6-BADB-28BB6FD4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C901-DC39-495E-A5EC-1DFF2C6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4643-8351-4111-BA65-71D17BC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BC38-C939-4CF7-B625-E193781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AA052-D2A4-4A83-927F-F930B45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8593-9A84-43B7-8821-4AC21BD7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D89A-FEFE-4E57-8890-84A20305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F30-BB42-446B-BF35-43D1062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D5328-E09A-48F5-8B0E-973C771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5063-8C96-43F2-8A14-B0B49BA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A8520-22BB-4414-AC6A-36A4F6F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FF03-345E-4EA7-B402-1124E0DB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FA86-0AB0-4645-8896-0781107B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FC85-D08E-4E49-9A06-1E4F139C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DC47E-FB75-4C95-8F0E-BBB12FC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BF4F-4ECE-4AFD-9AD9-F7AAFBA8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D066-37B3-4E53-B5DC-FD65DBD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D410-636B-4BE2-9FBD-D692EF3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DB2-6E43-40E4-8CC8-8D9FF46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AD9A-D844-414D-A52A-F46D6DA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B401-8CF4-4AAA-9D8C-436BA15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9D6C-A3BE-49F6-BE18-03F6C03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6783-0F74-407F-9D63-7676A8C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4E3E-FF64-4521-80A0-19E8549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CBA2-21EB-4D6F-9940-EAEE0201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7A88-D514-44F8-AFBF-785AD449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17856-E856-4EEB-ACEF-6100521D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E1BB-CAC5-4CDB-9961-38A26A5D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71036-24E7-4552-BE40-741D2157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" name="任意多边形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28B-CEE2-471D-AC9B-3564F9918DCD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7362000" y="64533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唐山市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中学  钟万书</a:t>
            </a:r>
            <a:endParaRPr b="0" lang="en-US" sz="10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任意多边形 12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5" name="任意多边形 13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F34B-0539-40B5-A988-80771B095080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12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88" name="任意多边形 13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2A4-0FF4-4AAA-8A13-2269B249640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DAC3-D3D9-48EF-8352-010DE28A48F3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任意多边形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72" name="任意多边形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362000" y="64533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唐山市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中学  钟万书</a:t>
            </a:r>
            <a:endParaRPr b="0" lang="en-US" sz="1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439-D7D5-48AB-AB40-70BC1869DFAC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E70-2BE7-4089-822D-037EE0EA70E0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任意多边形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57" name="任意多边形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7362000" y="64533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唐山市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中学  钟万书</a:t>
            </a:r>
            <a:endParaRPr b="0" lang="en-US" sz="1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C63-8D38-4E48-BB21-229063DD9E05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任意多边形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01" name="任意多边形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7362000" y="64533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唐山市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中学  钟万书</a:t>
            </a:r>
            <a:endParaRPr b="0" lang="en-US" sz="1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777-2119-4916-A6AA-E396550B99AA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任意多边形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45" name="任意多边形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7362000" y="64533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唐山市第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中学  钟万书</a:t>
            </a:r>
            <a:endParaRPr b="0" lang="en-US" sz="1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F34-4801-41AC-BB67-98CF6C9CD4C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2"/>
          <p:cNvSpPr txBox="1"/>
          <p:nvPr/>
        </p:nvSpPr>
        <p:spPr>
          <a:xfrm>
            <a:off x="611280" y="620640"/>
            <a:ext cx="3267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本节课学习目标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042920" y="1773360"/>
            <a:ext cx="7524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说明地球表面海陆处在不断变化之中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道板块构造学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世界著名山系及火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震分布与板块运动的关系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述魏格纳提出大陆漂移说的故事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397" name="Picture 4" descr="20078309102490511"/>
          <p:cNvPicPr/>
          <p:nvPr/>
        </p:nvPicPr>
        <p:blipFill>
          <a:blip r:embed="rId1"/>
          <a:stretch/>
        </p:blipFill>
        <p:spPr>
          <a:xfrm>
            <a:off x="2108160" y="5843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20078309102490511"/>
          <p:cNvPicPr/>
          <p:nvPr/>
        </p:nvPicPr>
        <p:blipFill>
          <a:blip r:embed="rId2"/>
          <a:stretch/>
        </p:blipFill>
        <p:spPr>
          <a:xfrm>
            <a:off x="6931080" y="5843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200791410243523576"/>
          <p:cNvPicPr/>
          <p:nvPr/>
        </p:nvPicPr>
        <p:blipFill>
          <a:blip r:embed="rId3"/>
          <a:stretch/>
        </p:blipFill>
        <p:spPr>
          <a:xfrm>
            <a:off x="7380360" y="580536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200791410243523576"/>
          <p:cNvPicPr/>
          <p:nvPr/>
        </p:nvPicPr>
        <p:blipFill>
          <a:blip r:embed="rId4"/>
          <a:stretch/>
        </p:blipFill>
        <p:spPr>
          <a:xfrm>
            <a:off x="161928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200791410243526387"/>
          <p:cNvPicPr/>
          <p:nvPr/>
        </p:nvPicPr>
        <p:blipFill>
          <a:blip r:embed="rId5"/>
          <a:stretch/>
        </p:blipFill>
        <p:spPr>
          <a:xfrm>
            <a:off x="2556000" y="5734080"/>
            <a:ext cx="4286160" cy="431640"/>
          </a:xfrm>
          <a:prstGeom prst="rect">
            <a:avLst/>
          </a:prstGeom>
          <a:ln w="0">
            <a:noFill/>
          </a:ln>
        </p:spPr>
      </p:pic>
      <p:sp>
        <p:nvSpPr>
          <p:cNvPr id="402" name="WordArt 10"/>
          <p:cNvSpPr txBox="1"/>
          <p:nvPr/>
        </p:nvSpPr>
        <p:spPr>
          <a:xfrm>
            <a:off x="4356000" y="907920"/>
            <a:ext cx="32878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海陆变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5292720" y="646200"/>
            <a:ext cx="3492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牛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栖息在热带浅海环境中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生活在陆地上，而且不会远飞。按理来说，他们都没有远涉大洋的能力，它们同时生活在大西洋两岸的同纬度地带，你能解释这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巧合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吗？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428" name="Picture 4" descr="2"/>
          <p:cNvPicPr/>
          <p:nvPr/>
        </p:nvPicPr>
        <p:blipFill>
          <a:blip r:embed="rId1"/>
          <a:stretch/>
        </p:blipFill>
        <p:spPr>
          <a:xfrm>
            <a:off x="250920" y="620640"/>
            <a:ext cx="5076720" cy="4594320"/>
          </a:xfrm>
          <a:prstGeom prst="rect">
            <a:avLst/>
          </a:prstGeom>
          <a:ln w="0">
            <a:noFill/>
          </a:ln>
        </p:spPr>
      </p:pic>
      <p:sp>
        <p:nvSpPr>
          <p:cNvPr id="429" name="WordArt 5"/>
          <p:cNvSpPr txBox="1"/>
          <p:nvPr/>
        </p:nvSpPr>
        <p:spPr>
          <a:xfrm>
            <a:off x="2195640" y="5229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古生物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343440" y="1701720"/>
            <a:ext cx="115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古老地层的对应</a:t>
            </a:r>
            <a:endParaRPr b="0" lang="en-US" sz="32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431" name="Picture 6" descr="2"/>
          <p:cNvPicPr/>
          <p:nvPr/>
        </p:nvPicPr>
        <p:blipFill>
          <a:blip r:embed="rId1"/>
          <a:stretch/>
        </p:blipFill>
        <p:spPr>
          <a:xfrm>
            <a:off x="2050920" y="420840"/>
            <a:ext cx="561672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2"/>
          <p:cNvSpPr txBox="1"/>
          <p:nvPr/>
        </p:nvSpPr>
        <p:spPr>
          <a:xfrm>
            <a:off x="826920" y="333360"/>
            <a:ext cx="2087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阅读与感悟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2060640"/>
            <a:ext cx="756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想一想，从魏格纳与大陆漂移说的故事中，我们得到了什么启示？</a:t>
            </a:r>
            <a:endParaRPr b="0" lang="en-US" sz="48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539640" y="76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大陆为什么会漂移？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35" name="WordArt 3"/>
          <p:cNvSpPr txBox="1"/>
          <p:nvPr/>
        </p:nvSpPr>
        <p:spPr>
          <a:xfrm>
            <a:off x="2050920" y="177336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板块的运动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68360" y="321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行楷"/>
                <a:ea typeface="华文行楷"/>
              </a:rPr>
              <a:t>读图分析： </a:t>
            </a: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468360" y="422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表层可以分成几大板块？除什么板块几乎全部是海洋外，其他板块包括大陆，也包括海洋？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7" descr="2"/>
          <p:cNvPicPr/>
          <p:nvPr/>
        </p:nvPicPr>
        <p:blipFill>
          <a:blip r:embed="rId1"/>
          <a:stretch/>
        </p:blipFill>
        <p:spPr>
          <a:xfrm>
            <a:off x="539640" y="363600"/>
            <a:ext cx="77328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5219640" y="476280"/>
            <a:ext cx="38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图中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→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示什么？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←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示什么？ 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5400720" y="3716280"/>
            <a:ext cx="37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板块内部与板块外部从运动速度上看比较有什么区别？ 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441" name="Picture 4" descr="图片1"/>
          <p:cNvPicPr/>
          <p:nvPr/>
        </p:nvPicPr>
        <p:blipFill>
          <a:blip r:embed="rId1"/>
          <a:stretch/>
        </p:blipFill>
        <p:spPr>
          <a:xfrm>
            <a:off x="250920" y="189000"/>
            <a:ext cx="4984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gif010"/>
          <p:cNvPicPr/>
          <p:nvPr/>
        </p:nvPicPr>
        <p:blipFill>
          <a:blip r:embed="rId1"/>
          <a:stretch/>
        </p:blipFill>
        <p:spPr>
          <a:xfrm>
            <a:off x="250920" y="476280"/>
            <a:ext cx="1106280" cy="11062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"/>
          <p:cNvSpPr/>
          <p:nvPr/>
        </p:nvSpPr>
        <p:spPr>
          <a:xfrm>
            <a:off x="395280" y="177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、利用板块学说解释为什么板块交界地带多火山和地震？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95280" y="37018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利用学过的知识解释为什么红海在不断扩张？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2"/>
          <p:cNvSpPr txBox="1"/>
          <p:nvPr/>
        </p:nvSpPr>
        <p:spPr>
          <a:xfrm>
            <a:off x="2484360" y="83664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一、请用板块构造学说来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解释下列地形的形成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6" name="WordArt 3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2871720" cy="736560"/>
          </a:xfrm>
          <a:prstGeom prst="rect">
            <a:avLst/>
          </a:prstGeom>
          <a:ln w="0">
            <a:noFill/>
          </a:ln>
        </p:spPr>
      </p:pic>
      <p:pic>
        <p:nvPicPr>
          <p:cNvPr id="447" name="WordArt 4" descr=""/>
          <p:cNvPicPr/>
          <p:nvPr/>
        </p:nvPicPr>
        <p:blipFill>
          <a:blip r:embed="rId2"/>
          <a:stretch/>
        </p:blipFill>
        <p:spPr>
          <a:xfrm>
            <a:off x="469800" y="3614760"/>
            <a:ext cx="2413080" cy="573120"/>
          </a:xfrm>
          <a:prstGeom prst="rect">
            <a:avLst/>
          </a:prstGeom>
          <a:ln w="0">
            <a:noFill/>
          </a:ln>
        </p:spPr>
      </p:pic>
      <p:pic>
        <p:nvPicPr>
          <p:cNvPr id="448" name="WordArt 5" descr=""/>
          <p:cNvPicPr/>
          <p:nvPr/>
        </p:nvPicPr>
        <p:blipFill>
          <a:blip r:embed="rId3"/>
          <a:stretch/>
        </p:blipFill>
        <p:spPr>
          <a:xfrm>
            <a:off x="469800" y="4748040"/>
            <a:ext cx="317520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WordArt 6"/>
          <p:cNvSpPr txBox="1"/>
          <p:nvPr/>
        </p:nvSpPr>
        <p:spPr>
          <a:xfrm>
            <a:off x="4859280" y="24922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（板块的相互张裂）</a:t>
            </a:r>
            <a:endParaRPr b="0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0" name="WordArt 7"/>
          <p:cNvSpPr txBox="1"/>
          <p:nvPr/>
        </p:nvSpPr>
        <p:spPr>
          <a:xfrm>
            <a:off x="4946760" y="361944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（板块的相互张裂）</a:t>
            </a:r>
            <a:endParaRPr b="0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1" name="WordArt 8"/>
          <p:cNvSpPr txBox="1"/>
          <p:nvPr/>
        </p:nvSpPr>
        <p:spPr>
          <a:xfrm>
            <a:off x="3987720" y="483552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（两个大陆板块碰撞）</a:t>
            </a:r>
            <a:endParaRPr b="0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50920" y="333360"/>
            <a:ext cx="194292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一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dt0013板边界"/>
          <p:cNvPicPr/>
          <p:nvPr/>
        </p:nvPicPr>
        <p:blipFill>
          <a:blip r:embed="rId1"/>
          <a:stretch/>
        </p:blipFill>
        <p:spPr>
          <a:xfrm>
            <a:off x="179280" y="1081080"/>
            <a:ext cx="8699760" cy="5443560"/>
          </a:xfrm>
          <a:prstGeom prst="rect">
            <a:avLst/>
          </a:prstGeom>
          <a:ln w="19080">
            <a:solidFill>
              <a:srgbClr val="ccaf0a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</p:pic>
      <p:sp>
        <p:nvSpPr>
          <p:cNvPr id="454" name="WordArt 3"/>
          <p:cNvSpPr txBox="1"/>
          <p:nvPr/>
        </p:nvSpPr>
        <p:spPr>
          <a:xfrm>
            <a:off x="250920" y="2221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af0a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二、说出下列板块的名称</a:t>
            </a:r>
            <a:endParaRPr b="0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ccaf0a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1857240" y="1603440"/>
            <a:ext cx="221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ccaf0a"/>
                  </a:solidFill>
                  <a:miter/>
                </a:ln>
                <a:solidFill>
                  <a:srgbClr val="ccaf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亚欧板块</a:t>
            </a:r>
            <a:endParaRPr b="0" lang="en-US" sz="4400" spc="1" strike="noStrike">
              <a:ln w="19080">
                <a:solidFill>
                  <a:srgbClr val="ccaf0a"/>
                </a:solidFill>
                <a:miter/>
              </a:ln>
              <a:solidFill>
                <a:srgbClr val="ccaf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6" name="WordArt 5"/>
          <p:cNvSpPr txBox="1"/>
          <p:nvPr/>
        </p:nvSpPr>
        <p:spPr>
          <a:xfrm>
            <a:off x="4284720" y="312408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太平洋板块</a:t>
            </a:r>
            <a:endParaRPr b="0" lang="en-US" sz="44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950760" y="35053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ccaf0a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非洲板块</a:t>
            </a:r>
            <a:endParaRPr b="0" lang="en-US" sz="4400" spc="1" strike="noStrike">
              <a:ln w="19080">
                <a:solidFill>
                  <a:srgbClr val="ccaf0a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8" name="WordArt 7"/>
          <p:cNvSpPr txBox="1"/>
          <p:nvPr/>
        </p:nvSpPr>
        <p:spPr>
          <a:xfrm>
            <a:off x="2874960" y="41911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印度洋板块</a:t>
            </a:r>
            <a:endParaRPr b="0" lang="en-US" sz="4400" spc="1" strike="noStrike">
              <a:ln w="1908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9" name="WordArt 8"/>
          <p:cNvSpPr txBox="1"/>
          <p:nvPr/>
        </p:nvSpPr>
        <p:spPr>
          <a:xfrm rot="5400000">
            <a:off x="6422760" y="2781000"/>
            <a:ext cx="26672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13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黑体"/>
              </a:rPr>
              <a:t>美洲板块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0" name="WordArt 9"/>
          <p:cNvSpPr txBox="1"/>
          <p:nvPr/>
        </p:nvSpPr>
        <p:spPr>
          <a:xfrm>
            <a:off x="2133720" y="5783400"/>
            <a:ext cx="487656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南 极 洲       板 块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-360" y="188640"/>
            <a:ext cx="9396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喜马拉雅山中有海洋生物的化石，说明                          （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喜马拉雅山原来是海洋岛屿上的山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喜马拉雅山所在地区原来是一片汪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海洋生物原来生活在山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有人将海洋生物带到了山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几乎全部位于海洋中的板块是                           （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印度洋板块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太平洋板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南极洲板块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美洲板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.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喜马拉雅山脉是由亚欧板块与（          ）板块挤压而成的     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印度洋板块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太平洋板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非洲板块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亚欧板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沧海桑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4920" y="1412640"/>
            <a:ext cx="8280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传说东汉仙人王方平在门徒蔡经家见到了仙女麻姑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现原来是自己的妹妹。她早年在姑余山修行得道，千百年的过去了，长得仍如十八九岁的姑娘，头顶盘着发鬓，秀发垂至腰际，身上的衣服光彩夺目，大家举杯欢宴、麻姑说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自从得到天命以来，已经三次见到东海变为桑田。这次去仙山蓬莱，见海水比以前浅了许多，大概又快要变成陆地丘陵了吧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WordArt 4" descr=""/>
          <p:cNvPicPr/>
          <p:nvPr/>
        </p:nvPicPr>
        <p:blipFill>
          <a:blip r:embed="rId1"/>
          <a:stretch/>
        </p:blipFill>
        <p:spPr>
          <a:xfrm>
            <a:off x="536400" y="195120"/>
            <a:ext cx="31449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板块张裂的地方常形成                                        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裂谷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岛弧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海沟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海岸山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5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冰雪覆盖的南极洲分布有巨大的煤田，这说明                    （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南极地区好久以前，气候非常暖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南极大陆原来处在暖湿的低纬，并形成了煤，大陆漂移带到今天的位置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该地的煤不是由森林演变而成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南极大陆总体上向低纬漂移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地球科学研究表明，大陆漂移是由（        ）引起的           （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A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地球公转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地球自转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板块运动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D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海水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海陆的变迁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1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板块构造学，六块来拼合；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块内较稳定，交界地震多 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小夜曲.mp3" descr=""/>
          <p:cNvPicPr/>
          <p:nvPr/>
        </p:nvPicPr>
        <p:blipFill>
          <a:blip r:embed="rId1"/>
          <a:stretch/>
        </p:blipFill>
        <p:spPr>
          <a:xfrm>
            <a:off x="75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6" name="WordArt 4"/>
          <p:cNvSpPr txBox="1"/>
          <p:nvPr/>
        </p:nvSpPr>
        <p:spPr>
          <a:xfrm>
            <a:off x="539640" y="476280"/>
            <a:ext cx="2800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歌谣学地理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67" name="Picture 6" descr="20078181232528338"/>
          <p:cNvPicPr/>
          <p:nvPr/>
        </p:nvPicPr>
        <p:blipFill>
          <a:blip r:embed="rId2"/>
          <a:stretch/>
        </p:blipFill>
        <p:spPr>
          <a:xfrm>
            <a:off x="539640" y="5734080"/>
            <a:ext cx="8028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159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835200" y="838080"/>
            <a:ext cx="2800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问我自己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484360" y="1846440"/>
            <a:ext cx="6416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节课的课题是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从知识上我记住了哪些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我学会了什么技能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26"/>
          <p:cNvPicPr/>
          <p:nvPr/>
        </p:nvPicPr>
        <p:blipFill>
          <a:blip r:embed="rId1"/>
          <a:stretch/>
        </p:blipFill>
        <p:spPr>
          <a:xfrm>
            <a:off x="1177920" y="306864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636AEFC9A4982E89D3BFB0A12788EFDF"/>
          <p:cNvPicPr/>
          <p:nvPr/>
        </p:nvPicPr>
        <p:blipFill>
          <a:blip r:embed="rId2"/>
          <a:stretch/>
        </p:blipFill>
        <p:spPr>
          <a:xfrm>
            <a:off x="6524640" y="4221000"/>
            <a:ext cx="1870200" cy="24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看下列图片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,</a:t>
            </a:r>
            <a:r>
              <a:rPr b="0" lang="zh-CN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说明了什么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7" name="Picture 8" descr="2"/>
          <p:cNvPicPr/>
          <p:nvPr/>
        </p:nvPicPr>
        <p:blipFill>
          <a:blip r:embed="rId1"/>
          <a:stretch/>
        </p:blipFill>
        <p:spPr>
          <a:xfrm>
            <a:off x="0" y="2133720"/>
            <a:ext cx="4859280" cy="3504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2"/>
          <p:cNvPicPr/>
          <p:nvPr/>
        </p:nvPicPr>
        <p:blipFill>
          <a:blip r:embed="rId2"/>
          <a:stretch/>
        </p:blipFill>
        <p:spPr>
          <a:xfrm>
            <a:off x="5003640" y="1197000"/>
            <a:ext cx="3672000" cy="2835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2"/>
          <p:cNvPicPr/>
          <p:nvPr/>
        </p:nvPicPr>
        <p:blipFill>
          <a:blip r:embed="rId3"/>
          <a:stretch/>
        </p:blipFill>
        <p:spPr>
          <a:xfrm>
            <a:off x="5256360" y="4114800"/>
            <a:ext cx="259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95280" y="46148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荷兰的国土面积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过去的百年中由于填海造陆不断在扩大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68360" y="13748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喜马拉雅山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岩石中发现海洋生物的化石说明了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喜马拉雅山曾经是海洋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95280" y="28861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我国东部海底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现古河道水井等人类活动遗迹反映了该海域过去是曾经是陆地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3" name="WordArt 6"/>
          <p:cNvSpPr txBox="1"/>
          <p:nvPr/>
        </p:nvSpPr>
        <p:spPr>
          <a:xfrm>
            <a:off x="755640" y="404640"/>
            <a:ext cx="151272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688040" y="549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种种变化是怎样形成的呢？</a:t>
            </a:r>
            <a:endParaRPr b="0" lang="en-US" sz="36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468360" y="170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科学研究表明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华文行楷"/>
                <a:ea typeface="华文行楷"/>
              </a:rPr>
              <a:t>地壳的变动和海平面的升降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是造成海陆变迁的主要原因。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39640" y="4149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  <a:ea typeface="华文行楷"/>
              </a:rPr>
              <a:t>人类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例如“填海造陆”等，也会引起海陆的变化。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836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为什么说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地壳的变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海平面的升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是造成海陆变迁的主要原因呢？</a:t>
            </a: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324000" y="1052640"/>
            <a:ext cx="69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观察世界地图，你发现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非洲的东岸和南美洲的西岸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有什么奇妙的现象？     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250920" y="35956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根据这个现象，德国科学家魏格纳提出了什么假说？这个假说的内容是什么？</a:t>
            </a:r>
            <a:endParaRPr b="0" lang="en-US" sz="40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420" name="Picture 4" descr="064"/>
          <p:cNvPicPr/>
          <p:nvPr/>
        </p:nvPicPr>
        <p:blipFill>
          <a:blip r:embed="rId1"/>
          <a:stretch/>
        </p:blipFill>
        <p:spPr>
          <a:xfrm>
            <a:off x="7524720" y="333360"/>
            <a:ext cx="1224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50920" y="1125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、你认为大陆漂移说，是空想的呢，还是有科学依据的？</a:t>
            </a:r>
            <a:endParaRPr b="0" lang="en-US" sz="4400" spc="-1" strike="noStrike">
              <a:solidFill>
                <a:srgbClr val="d4d2d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50920" y="345924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请你寻找证据来证明</a:t>
            </a:r>
            <a:endParaRPr b="0" lang="en-US" sz="4800" spc="-1" strike="noStrike">
              <a:solidFill>
                <a:srgbClr val="d4d2d0"/>
              </a:solidFill>
              <a:latin typeface="Times New Roman"/>
            </a:endParaRPr>
          </a:p>
        </p:txBody>
      </p:sp>
      <p:pic>
        <p:nvPicPr>
          <p:cNvPr id="423" name="Picture 4" descr="AG00192_"/>
          <p:cNvPicPr/>
          <p:nvPr/>
        </p:nvPicPr>
        <p:blipFill>
          <a:blip r:embed="rId1"/>
          <a:stretch/>
        </p:blipFill>
        <p:spPr>
          <a:xfrm>
            <a:off x="6815160" y="3429000"/>
            <a:ext cx="21366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5"/>
          <p:cNvSpPr txBox="1"/>
          <p:nvPr/>
        </p:nvSpPr>
        <p:spPr>
          <a:xfrm>
            <a:off x="2195640" y="616572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陆拼合及其证据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425" name="ShockwaveFlash1"/>
          <p:cNvGraphicFramePr/>
          <p:nvPr/>
        </p:nvGraphicFramePr>
        <p:xfrm>
          <a:off x="250920" y="115920"/>
          <a:ext cx="82803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280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曾韩淮</dc:creator>
  <dc:description/>
  <dc:language>en-US</dc:language>
  <cp:lastModifiedBy>ACER.COM.CN</cp:lastModifiedBy>
  <dcterms:modified xsi:type="dcterms:W3CDTF">2011-12-06T07:43:34Z</dcterms:modified>
  <cp:revision>96</cp:revision>
  <dc:subject>大洲与大洋</dc:subject>
  <dc:title>PowerPoint Presentation</dc:title>
</cp:coreProperties>
</file>