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5.wmf" ContentType="image/x-wm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6B8-EE72-4AE1-9863-B8358655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454-1C3E-42C6-AEFC-0345F625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BF0-8C1F-4099-B418-5DEB870D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45A-5AD0-46E2-AE0C-2DC13652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37D-9BA6-4EA5-B1D9-B9F4CBDB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E10-EE6D-4B6C-9FCE-AE6BA3A9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309-34D9-40B2-A4DB-54F458AB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50FD-FDCA-40B7-8D3E-F148500D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CCE-853C-410A-8D93-D1D4A9C9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5CD-A208-4536-B5E5-F894959C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E764-0E5A-4F0F-AB09-4021525E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BE8-BB91-4A3D-BC0E-2A04E59B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BE17-D7FB-4578-BAE9-68E529D1FA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7920000" cy="526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01360" y="260280"/>
            <a:ext cx="421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一节     人口与人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破坏森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4017960" cy="457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748720" y="6453360"/>
            <a:ext cx="395280" cy="404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就业困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592440" y="1905120"/>
            <a:ext cx="5322960" cy="4133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09600" y="1905120"/>
            <a:ext cx="330048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748720" y="6453360"/>
            <a:ext cx="395280" cy="404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饥饿贫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8040" y="1484280"/>
            <a:ext cx="3583080" cy="5373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284720" y="1484280"/>
            <a:ext cx="4470480" cy="5373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748720" y="6453360"/>
            <a:ext cx="395280" cy="404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2080" y="2190600"/>
            <a:ext cx="325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口增长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过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带来的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495360"/>
            <a:ext cx="380880" cy="4800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05280" y="1895400"/>
            <a:ext cx="44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劳动力短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76560" y="311040"/>
            <a:ext cx="44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人口老龄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05280" y="3406680"/>
            <a:ext cx="46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国防兵源不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4803840"/>
            <a:ext cx="46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社会负担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58770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到底什么是人口问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8000" y="235584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口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27320" y="984240"/>
            <a:ext cx="380880" cy="4114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31880" y="907920"/>
            <a:ext cx="296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口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过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增长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过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08200" y="3651120"/>
            <a:ext cx="303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口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过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出现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负增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1676520"/>
            <a:ext cx="106704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12952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控制生育政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80000" y="234936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中国、印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4267080"/>
            <a:ext cx="10666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8862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鼓励生育政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4800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法国、德国等欧洲国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304920"/>
            <a:ext cx="393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采取什么对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6172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320" y="1522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结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89856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人口发展要与社会、经济的发展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相适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与环境、资源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相协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37180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控制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人口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数量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提高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人口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素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走可持续发展的道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39621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人口增长的规律是：人口不断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速度越来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人口分布的规律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口分布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口发展要与社会、经济的发展相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与环境、资源相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20797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增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206064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33433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不均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77504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适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18320" y="477504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协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1522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随着经济的发展，城市的人口为什么会越来越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2743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村人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267080" y="2849400"/>
            <a:ext cx="1523880" cy="581400"/>
            <a:chOff x="4267080" y="2849400"/>
            <a:chExt cx="1523880" cy="581400"/>
          </a:xfrm>
        </p:grpSpPr>
        <p:sp>
          <p:nvSpPr>
            <p:cNvPr id="129" name=""/>
            <p:cNvSpPr/>
            <p:nvPr/>
          </p:nvSpPr>
          <p:spPr>
            <a:xfrm>
              <a:off x="4267080" y="3428640"/>
              <a:ext cx="152388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5680" y="28494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迁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791320" y="3016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城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666880"/>
            <a:ext cx="5562720" cy="129564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492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进城打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9042200">
            <a:off x="2138040" y="2228760"/>
            <a:ext cx="360360" cy="681120"/>
          </a:xfrm>
          <a:prstGeom prst="downArrow">
            <a:avLst>
              <a:gd name="adj1" fmla="val 50000"/>
              <a:gd name="adj2" fmla="val 47253"/>
            </a:avLst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1484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进城求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47242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改善生活条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316600">
            <a:off x="3017880" y="4051080"/>
            <a:ext cx="371520" cy="758520"/>
          </a:xfrm>
          <a:prstGeom prst="upArrow">
            <a:avLst>
              <a:gd name="adj1" fmla="val 50000"/>
              <a:gd name="adj2" fmla="val 51042"/>
            </a:avLst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2978600">
            <a:off x="6803640" y="2060640"/>
            <a:ext cx="339840" cy="758880"/>
          </a:xfrm>
          <a:prstGeom prst="upArrow">
            <a:avLst>
              <a:gd name="adj1" fmla="val 50000"/>
              <a:gd name="adj2" fmla="val 55826"/>
            </a:avLst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5877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是不是人越少，增长慢甚至不增长才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2743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9107600">
            <a:off x="5867280" y="4076280"/>
            <a:ext cx="371520" cy="758880"/>
          </a:xfrm>
          <a:prstGeom prst="upArrow">
            <a:avLst>
              <a:gd name="adj1" fmla="val 50000"/>
              <a:gd name="adj2" fmla="val 51066"/>
            </a:avLst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47242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寻求发展机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人口发展的预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6705360" cy="556416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7467480" y="1828800"/>
            <a:ext cx="1447920" cy="2471400"/>
            <a:chOff x="7467480" y="1828800"/>
            <a:chExt cx="1447920" cy="2471400"/>
          </a:xfrm>
        </p:grpSpPr>
        <p:sp>
          <p:nvSpPr>
            <p:cNvPr id="146" name=""/>
            <p:cNvSpPr/>
            <p:nvPr/>
          </p:nvSpPr>
          <p:spPr>
            <a:xfrm>
              <a:off x="7467480" y="182880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印度人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2400" y="2819520"/>
              <a:ext cx="762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&gt;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3800" y="36576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中国人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772400" y="5029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152280"/>
            <a:ext cx="49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四、不同的人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820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世界人口的增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87280" y="1378080"/>
            <a:ext cx="67694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3029040" cy="5345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276720" y="692280"/>
            <a:ext cx="2881080" cy="498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227640" y="476280"/>
            <a:ext cx="256068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flipH="1">
            <a:off x="-331920" y="533520"/>
            <a:ext cx="1642680" cy="5638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世  界 的  人  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762120"/>
            <a:ext cx="761760" cy="5029200"/>
          </a:xfrm>
          <a:custGeom>
            <a:avLst/>
            <a:gdLst>
              <a:gd name="textAreaLeft" fmla="*/ 486720 w 761760"/>
              <a:gd name="textAreaRight" fmla="*/ 762120 w 76176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27664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  分类：黄色人种、白色人种、黑色人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追  根  溯  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47920" y="2050920"/>
            <a:ext cx="5410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种在外部特征方面的不同是什么原因造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627280" y="4292640"/>
            <a:ext cx="4189320" cy="2054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1600200" y="6248520"/>
            <a:ext cx="53352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878040"/>
            <a:ext cx="7772400" cy="60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      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5623200" cy="217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69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阳辐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形等因素影响着人种的特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的肤色大致从赤道到极地逐渐变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太阳辐射有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毛发和鼻子的特点也与气候有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18148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843280" y="62164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世界人种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9280" y="0"/>
            <a:ext cx="22320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活动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557360"/>
          <a:ext cx="8785080" cy="4135320"/>
        </p:xfrm>
        <a:graphic>
          <a:graphicData uri="http://schemas.openxmlformats.org/drawingml/2006/table">
            <a:tbl>
              <a:tblPr/>
              <a:tblGrid>
                <a:gridCol w="2084760"/>
                <a:gridCol w="6700320"/>
              </a:tblGrid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684360" y="1773360"/>
            <a:ext cx="17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2997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种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4005360"/>
            <a:ext cx="12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黄种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4863960"/>
            <a:ext cx="12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黑种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19640" y="177336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要分布地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32000" y="270828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欧洲、北非、西亚、北美洲中部、南美洲东南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澳大利亚东南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27280" y="3933720"/>
            <a:ext cx="57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亚洲东部、北美洲北部、南美洲西北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5013360"/>
            <a:ext cx="44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非洲南部、澳大利亚西北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85327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05320" y="19810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23464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173664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2193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39160" y="347976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066680" y="2209680"/>
            <a:ext cx="3505320" cy="2364480"/>
            <a:chOff x="1066680" y="2209680"/>
            <a:chExt cx="3505320" cy="2364480"/>
          </a:xfrm>
        </p:grpSpPr>
        <p:sp>
          <p:nvSpPr>
            <p:cNvPr id="53" name=""/>
            <p:cNvSpPr/>
            <p:nvPr/>
          </p:nvSpPr>
          <p:spPr>
            <a:xfrm>
              <a:off x="1066680" y="22096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86200" y="38098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505320" y="457200"/>
            <a:ext cx="3962160" cy="5564880"/>
            <a:chOff x="3505320" y="457200"/>
            <a:chExt cx="3962160" cy="5564880"/>
          </a:xfrm>
        </p:grpSpPr>
        <p:sp>
          <p:nvSpPr>
            <p:cNvPr id="56" name=""/>
            <p:cNvSpPr/>
            <p:nvPr/>
          </p:nvSpPr>
          <p:spPr>
            <a:xfrm>
              <a:off x="3962520" y="52578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81680" y="4572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5320" y="9144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895480" y="19051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57080" y="26938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口增长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过快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带来的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59200" y="1371600"/>
            <a:ext cx="380880" cy="4267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4284720" y="139392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住房拥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4316400" y="217008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交通堵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4" action="ppaction://hlinksldjump"/>
          </p:cNvPr>
          <p:cNvSpPr/>
          <p:nvPr/>
        </p:nvSpPr>
        <p:spPr>
          <a:xfrm>
            <a:off x="4316400" y="293220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城市垃圾增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0" y="364500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破坏森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16400" y="433080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就业困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16400" y="509256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饥饿贫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522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三、人口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404640"/>
            <a:ext cx="4176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住房拥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040360" y="1828800"/>
            <a:ext cx="3568680" cy="4267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09480" y="1828800"/>
            <a:ext cx="4419720" cy="3405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2120" y="53341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极度密集的贫民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狭窄的笼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96800" y="1600200"/>
            <a:ext cx="81504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748720" y="6453360"/>
            <a:ext cx="395280" cy="404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交通堵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778200" cy="4647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90720" y="1676520"/>
            <a:ext cx="3657600" cy="4647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748720" y="6453360"/>
            <a:ext cx="395280" cy="404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城市垃圾增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7010280" cy="4452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748720" y="6453360"/>
            <a:ext cx="395280" cy="404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5:46:40Z</dcterms:created>
  <dc:creator>徐海龙</dc:creator>
  <dc:description/>
  <dc:language>en-US</dc:language>
  <cp:lastModifiedBy>微软用户</cp:lastModifiedBy>
  <dcterms:modified xsi:type="dcterms:W3CDTF">2009-11-11T03:35:13Z</dcterms:modified>
  <cp:revision>32</cp:revision>
  <dc:subject/>
  <dc:title>幻灯片 1</dc:title>
</cp:coreProperties>
</file>