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C03-07DF-4E7B-812D-2453D37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70D-7801-46E2-8CC2-0F0D371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F7D-C5E0-46CD-A1F3-612D30D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A9C-9735-4ED7-A713-F31BEF80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ED9-68B1-47CD-A60F-6F2AA21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764-1E78-406F-9266-3937639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9F5-F6C2-42DC-A808-BE27ED6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C58-6292-4472-BD14-6E8FED9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A6E-6805-4585-B0BB-CC461AD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31A-354E-42E0-B318-9FC55F9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0BD-71A1-4062-AE0E-748E8EE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612-C3F5-4A9F-BBA9-28D679A0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8948-049F-4820-9E35-2C3AC2F47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6520" y="18288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发展与合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80880"/>
            <a:ext cx="78487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发达国家与发展中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2997360"/>
            <a:ext cx="770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达国家：一般包括西方主要资本主义国家，这里主要是指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6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成立的经济合作与发展组织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成员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展中国家：又称不发达国家或欠发达国家，是指政治上已独立，经济上比较贫穷，工业基础薄弱，人均国民生产总值较低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5072040" cy="351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08360" y="4665600"/>
            <a:ext cx="87480" cy="301680"/>
          </a:xfrm>
          <a:prstGeom prst="rect">
            <a:avLst/>
          </a:prstGeom>
          <a:solidFill>
            <a:srgbClr val="eb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4844880"/>
            <a:ext cx="471600" cy="181080"/>
          </a:xfrm>
          <a:prstGeom prst="rect">
            <a:avLst/>
          </a:prstGeom>
          <a:solidFill>
            <a:srgbClr val="eb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836640"/>
            <a:ext cx="1440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464832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机械化农业生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半机械化或手工生产的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876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达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4861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展中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419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2471760"/>
            <a:ext cx="5943600" cy="438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展中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发达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5638680" cy="487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72200" y="0"/>
            <a:ext cx="297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展中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发达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发达国家和发展中国家的分布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1049400"/>
            <a:ext cx="8083440" cy="5502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3870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792600"/>
            <a:ext cx="82296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达国家集中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半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216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中国家集中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北半球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305800">
            <a:off x="896400" y="3182400"/>
            <a:ext cx="1408320" cy="21304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387200">
            <a:off x="6262200" y="2897280"/>
            <a:ext cx="2117880" cy="29732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496960"/>
            <a:ext cx="1218960" cy="23623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95480" y="1325520"/>
            <a:ext cx="1523880" cy="1143000"/>
            <a:chOff x="1095480" y="1325520"/>
            <a:chExt cx="1523880" cy="1143000"/>
          </a:xfrm>
        </p:grpSpPr>
        <p:sp>
          <p:nvSpPr>
            <p:cNvPr id="148" name=""/>
            <p:cNvSpPr/>
            <p:nvPr/>
          </p:nvSpPr>
          <p:spPr>
            <a:xfrm>
              <a:off x="1752480" y="1676520"/>
              <a:ext cx="3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480" y="1325520"/>
              <a:ext cx="1523880" cy="1143000"/>
            </a:xfrm>
            <a:prstGeom prst="rect">
              <a:avLst/>
            </a:prstGeom>
            <a:noFill/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81480" y="1278000"/>
            <a:ext cx="2362320" cy="1541520"/>
            <a:chOff x="5181480" y="1278000"/>
            <a:chExt cx="2362320" cy="1541520"/>
          </a:xfrm>
        </p:grpSpPr>
        <p:sp>
          <p:nvSpPr>
            <p:cNvPr id="151" name=""/>
            <p:cNvSpPr/>
            <p:nvPr/>
          </p:nvSpPr>
          <p:spPr>
            <a:xfrm>
              <a:off x="6324480" y="18547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1278000"/>
              <a:ext cx="2362320" cy="1541520"/>
            </a:xfrm>
            <a:prstGeom prst="rect">
              <a:avLst/>
            </a:prstGeom>
            <a:noFill/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38480" y="2271600"/>
            <a:ext cx="482760" cy="738360"/>
            <a:chOff x="4038480" y="2271600"/>
            <a:chExt cx="482760" cy="738360"/>
          </a:xfrm>
        </p:grpSpPr>
        <p:sp>
          <p:nvSpPr>
            <p:cNvPr id="154" name=""/>
            <p:cNvSpPr/>
            <p:nvPr/>
          </p:nvSpPr>
          <p:spPr>
            <a:xfrm>
              <a:off x="4064040" y="23065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2271600"/>
              <a:ext cx="457200" cy="685800"/>
            </a:xfrm>
            <a:prstGeom prst="rect">
              <a:avLst/>
            </a:prstGeom>
            <a:noFill/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870280" y="2438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7339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拉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57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6216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南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9880" y="4173480"/>
            <a:ext cx="1383120" cy="1017000"/>
            <a:chOff x="3809880" y="4173480"/>
            <a:chExt cx="1383120" cy="1017000"/>
          </a:xfrm>
        </p:grpSpPr>
        <p:sp>
          <p:nvSpPr>
            <p:cNvPr id="161" name=""/>
            <p:cNvSpPr/>
            <p:nvPr/>
          </p:nvSpPr>
          <p:spPr>
            <a:xfrm>
              <a:off x="3962520" y="4173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9880" y="4249800"/>
              <a:ext cx="762120" cy="609480"/>
            </a:xfrm>
            <a:prstGeom prst="rect">
              <a:avLst/>
            </a:prstGeom>
            <a:noFill/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201600">
              <a:off x="4851000" y="4740120"/>
              <a:ext cx="193680" cy="466560"/>
            </a:xfrm>
            <a:prstGeom prst="rect">
              <a:avLst/>
            </a:prstGeom>
            <a:noFill/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020000" y="621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3314880"/>
            <a:ext cx="5335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496360" y="573408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13200" y="1844640"/>
            <a:ext cx="2770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立时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员国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用的正式语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拉伯语、中文、英文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文、俄文、西班牙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构：安全理事会、大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济及社会理事会、秘书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托管理事会、国际法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宗旨：促进国家发展、维护世界和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240" y="266760"/>
            <a:ext cx="383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联合国（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U</a:t>
            </a: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14680" y="1657440"/>
            <a:ext cx="5715000" cy="4057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3200400" y="1371600"/>
            <a:ext cx="457200" cy="1447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685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英国制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05520" y="1447560"/>
            <a:ext cx="457200" cy="20574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法国制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5840" y="4952880"/>
            <a:ext cx="304920" cy="10670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601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西班牙制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2895480"/>
            <a:ext cx="1371600" cy="7621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733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德国制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447560" y="3505320"/>
            <a:ext cx="1600200" cy="7617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895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荷兰制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106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国的“空中客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228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明了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8244000" y="60213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66880" y="22860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发达国家与发展中国家              </a:t>
            </a:r>
            <a:r>
              <a:rPr b="0" lang="zh-CN" sz="10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5445000"/>
            <a:ext cx="831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为什么把发展中国家和发达国家成为“南”，“北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能否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世界政区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上找出答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371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南北之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13716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达国家与发展中国家之间的经济差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6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南北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343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南南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637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达国家与发展中国家之间有关经济政治等方面共同问题的商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343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展中国家之间的互助合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797360"/>
            <a:ext cx="1295280" cy="457200"/>
          </a:xfrm>
          <a:prstGeom prst="cloudCallout">
            <a:avLst>
              <a:gd name="adj1" fmla="val 89828"/>
              <a:gd name="adj2" fmla="val 15104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方正姚体"/>
              </a:rPr>
              <a:t>练习                    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方正姚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239840"/>
            <a:ext cx="73152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领土是指一个国家国界线以内的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陆地、领海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陆地、领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陆地、领空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陆地、领海、内水和领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发展中国家主要分布在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亚洲、非洲和北美洲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欧洲、非洲和亚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亚洲、非洲和拉丁美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大洋洲、北美洲、南美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12621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5480" y="3201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章  发展与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2438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13320" y="2205000"/>
            <a:ext cx="36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展中国家与发达国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数据或实例说明差异、分布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2880" y="3933720"/>
            <a:ext cx="200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国际合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实例说明国际合作的重要性、联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国等国际组织在国际合作中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8280" y="5911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方正姚体"/>
              </a:rPr>
              <a:t>练习                    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方正姚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1295280"/>
            <a:ext cx="73152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列国家中均属于发达国家的是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美国、加拿大、中国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澳大利亚、日本、马来西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美国、澳大利亚、日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英国、法国、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4.“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和平共处”的五项原则是下列哪个国家或机构倡导的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联合国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美国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中国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北京市政府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1325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244000" y="60213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发展与合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2484360" y="220500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和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2556000" y="321300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17"/>
              </a:gs>
              <a:gs pos="50000">
                <a:srgbClr val="99ff33"/>
              </a:gs>
              <a:gs pos="100000">
                <a:srgbClr val="46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发达国家和发展中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2556000" y="422100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国际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2556000" y="530064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和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87160" y="274320"/>
            <a:ext cx="314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家和地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国家：具有保持内部稳定、不受外来控制和侵略（干涉）能力的政府领导下，占据一定领土，有组织的实际政治地区。国家一般具有清晰的边界并得到国际公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地区：还没有取得独立的、被他国侵占或附属的殖民地或属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052640"/>
            <a:ext cx="1295640" cy="457200"/>
          </a:xfrm>
          <a:prstGeom prst="cloudCallout">
            <a:avLst>
              <a:gd name="adj1" fmla="val 86518"/>
              <a:gd name="adj2" fmla="val 7013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67652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区别国家和地区吗？世界上哪些地方仍属于地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4328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国家与地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68360" y="2492280"/>
          <a:ext cx="659772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492280"/>
                    <a:ext cx="65977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708360" y="785880"/>
            <a:ext cx="45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世界上有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200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多个国家和地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有面积大国有人口大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4360" y="836640"/>
            <a:ext cx="1512720" cy="752400"/>
            <a:chOff x="684360" y="836640"/>
            <a:chExt cx="1512720" cy="752400"/>
          </a:xfrm>
        </p:grpSpPr>
        <p:sp>
          <p:nvSpPr>
            <p:cNvPr id="61" name=""/>
            <p:cNvSpPr/>
            <p:nvPr/>
          </p:nvSpPr>
          <p:spPr>
            <a:xfrm>
              <a:off x="684360" y="836640"/>
              <a:ext cx="1512720" cy="752400"/>
            </a:xfrm>
            <a:prstGeom prst="cloudCallout">
              <a:avLst>
                <a:gd name="adj1" fmla="val 88986"/>
                <a:gd name="adj2" fmla="val 86328"/>
              </a:avLst>
            </a:prstGeom>
            <a:solidFill>
              <a:srgbClr val="ffff99"/>
            </a:solidFill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680" y="96768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面积大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14600" y="1654200"/>
          <a:ext cx="662940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654200"/>
                    <a:ext cx="66294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84360" y="836640"/>
            <a:ext cx="1512720" cy="752400"/>
            <a:chOff x="684360" y="836640"/>
            <a:chExt cx="1512720" cy="752400"/>
          </a:xfrm>
        </p:grpSpPr>
        <p:sp>
          <p:nvSpPr>
            <p:cNvPr id="66" name=""/>
            <p:cNvSpPr/>
            <p:nvPr/>
          </p:nvSpPr>
          <p:spPr>
            <a:xfrm>
              <a:off x="684360" y="836640"/>
              <a:ext cx="1512720" cy="752400"/>
            </a:xfrm>
            <a:prstGeom prst="cloudCallout">
              <a:avLst>
                <a:gd name="adj1" fmla="val 88986"/>
                <a:gd name="adj2" fmla="val 86328"/>
              </a:avLst>
            </a:prstGeom>
            <a:solidFill>
              <a:srgbClr val="ffff99"/>
            </a:solidFill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80" y="967680"/>
              <a:ext cx="12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人口大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28800" y="1905120"/>
            <a:ext cx="579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世界上跨部分两洲的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3114720"/>
          <a:ext cx="8424720" cy="3338640"/>
        </p:xfrm>
        <a:graphic>
          <a:graphicData uri="http://schemas.openxmlformats.org/drawingml/2006/table">
            <a:tbl>
              <a:tblPr/>
              <a:tblGrid>
                <a:gridCol w="1726920"/>
                <a:gridCol w="1944720"/>
                <a:gridCol w="2881440"/>
                <a:gridCol w="1871640"/>
              </a:tblGrid>
              <a:tr h="91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国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所跨的大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洲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埃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土耳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俄罗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050920" y="414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非洲、亚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414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开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486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亚洲、欧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869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伊斯坦布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558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欧洲、亚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58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莫斯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8360" y="41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苏伊士运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66320" y="49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土耳其海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56214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乌拉尔山、乌拉尔河、大高加索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80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"/>
            <a:ext cx="3809880" cy="83808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方正姚体"/>
                <a:ea typeface="隶书"/>
              </a:rPr>
              <a:t>五项基本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52480"/>
            <a:ext cx="7415280" cy="3980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互相尊重主权和领土完整（基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互不侵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互不干涉内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和平共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平等互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438280" y="3052800"/>
            <a:ext cx="4572000" cy="2433600"/>
            <a:chOff x="2438280" y="3052800"/>
            <a:chExt cx="4572000" cy="2433600"/>
          </a:xfrm>
        </p:grpSpPr>
        <p:sp>
          <p:nvSpPr>
            <p:cNvPr id="83" name=""/>
            <p:cNvSpPr/>
            <p:nvPr/>
          </p:nvSpPr>
          <p:spPr>
            <a:xfrm>
              <a:off x="2438280" y="3052800"/>
              <a:ext cx="4572000" cy="2433600"/>
            </a:xfrm>
            <a:prstGeom prst="ellipse">
              <a:avLst/>
            </a:prstGeom>
            <a:solidFill>
              <a:srgbClr val="00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19400" y="3220920"/>
              <a:ext cx="3210120" cy="1724040"/>
            </a:xfrm>
            <a:prstGeom prst="ellipse">
              <a:avLst/>
            </a:prstGeom>
            <a:solidFill>
              <a:srgbClr val="00ff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8200" y="3424320"/>
              <a:ext cx="2529000" cy="1014480"/>
            </a:xfrm>
            <a:prstGeom prst="ellipse">
              <a:avLst/>
            </a:prstGeom>
            <a:solidFill>
              <a:srgbClr val="cc6600"/>
            </a:solidFill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9880" y="3276720"/>
              <a:ext cx="478080" cy="372960"/>
            </a:xfrm>
            <a:custGeom>
              <a:avLst/>
              <a:gdLst/>
              <a:ahLst/>
              <a:rect l="l" t="t" r="r" b="b"/>
              <a:pathLst>
                <a:path w="301" h="235">
                  <a:moveTo>
                    <a:pt x="0" y="226"/>
                  </a:moveTo>
                  <a:cubicBezTo>
                    <a:pt x="11" y="177"/>
                    <a:pt x="59" y="149"/>
                    <a:pt x="105" y="132"/>
                  </a:cubicBezTo>
                  <a:cubicBezTo>
                    <a:pt x="138" y="78"/>
                    <a:pt x="101" y="127"/>
                    <a:pt x="146" y="98"/>
                  </a:cubicBezTo>
                  <a:cubicBezTo>
                    <a:pt x="170" y="82"/>
                    <a:pt x="173" y="65"/>
                    <a:pt x="203" y="55"/>
                  </a:cubicBezTo>
                  <a:cubicBezTo>
                    <a:pt x="255" y="0"/>
                    <a:pt x="260" y="115"/>
                    <a:pt x="268" y="149"/>
                  </a:cubicBezTo>
                  <a:cubicBezTo>
                    <a:pt x="272" y="167"/>
                    <a:pt x="278" y="184"/>
                    <a:pt x="284" y="201"/>
                  </a:cubicBezTo>
                  <a:cubicBezTo>
                    <a:pt x="287" y="209"/>
                    <a:pt x="301" y="225"/>
                    <a:pt x="292" y="226"/>
                  </a:cubicBezTo>
                  <a:cubicBezTo>
                    <a:pt x="214" y="235"/>
                    <a:pt x="78" y="226"/>
                    <a:pt x="0" y="22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3200400"/>
              <a:ext cx="477720" cy="372960"/>
            </a:xfrm>
            <a:custGeom>
              <a:avLst/>
              <a:gdLst/>
              <a:ahLst/>
              <a:rect l="l" t="t" r="r" b="b"/>
              <a:pathLst>
                <a:path w="301" h="235">
                  <a:moveTo>
                    <a:pt x="0" y="226"/>
                  </a:moveTo>
                  <a:cubicBezTo>
                    <a:pt x="11" y="177"/>
                    <a:pt x="59" y="149"/>
                    <a:pt x="105" y="132"/>
                  </a:cubicBezTo>
                  <a:cubicBezTo>
                    <a:pt x="138" y="78"/>
                    <a:pt x="101" y="127"/>
                    <a:pt x="146" y="98"/>
                  </a:cubicBezTo>
                  <a:cubicBezTo>
                    <a:pt x="170" y="82"/>
                    <a:pt x="173" y="65"/>
                    <a:pt x="203" y="55"/>
                  </a:cubicBezTo>
                  <a:cubicBezTo>
                    <a:pt x="255" y="0"/>
                    <a:pt x="260" y="115"/>
                    <a:pt x="268" y="149"/>
                  </a:cubicBezTo>
                  <a:cubicBezTo>
                    <a:pt x="272" y="167"/>
                    <a:pt x="278" y="184"/>
                    <a:pt x="284" y="201"/>
                  </a:cubicBezTo>
                  <a:cubicBezTo>
                    <a:pt x="287" y="209"/>
                    <a:pt x="301" y="225"/>
                    <a:pt x="292" y="226"/>
                  </a:cubicBezTo>
                  <a:cubicBezTo>
                    <a:pt x="214" y="235"/>
                    <a:pt x="78" y="226"/>
                    <a:pt x="0" y="22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33920" y="3505320"/>
              <a:ext cx="477720" cy="372960"/>
            </a:xfrm>
            <a:custGeom>
              <a:avLst/>
              <a:gdLst/>
              <a:ahLst/>
              <a:rect l="l" t="t" r="r" b="b"/>
              <a:pathLst>
                <a:path w="301" h="235">
                  <a:moveTo>
                    <a:pt x="0" y="226"/>
                  </a:moveTo>
                  <a:cubicBezTo>
                    <a:pt x="11" y="177"/>
                    <a:pt x="59" y="149"/>
                    <a:pt x="105" y="132"/>
                  </a:cubicBezTo>
                  <a:cubicBezTo>
                    <a:pt x="138" y="78"/>
                    <a:pt x="101" y="127"/>
                    <a:pt x="146" y="98"/>
                  </a:cubicBezTo>
                  <a:cubicBezTo>
                    <a:pt x="170" y="82"/>
                    <a:pt x="173" y="65"/>
                    <a:pt x="203" y="55"/>
                  </a:cubicBezTo>
                  <a:cubicBezTo>
                    <a:pt x="255" y="0"/>
                    <a:pt x="260" y="115"/>
                    <a:pt x="268" y="149"/>
                  </a:cubicBezTo>
                  <a:cubicBezTo>
                    <a:pt x="272" y="167"/>
                    <a:pt x="278" y="184"/>
                    <a:pt x="284" y="201"/>
                  </a:cubicBezTo>
                  <a:cubicBezTo>
                    <a:pt x="287" y="209"/>
                    <a:pt x="301" y="225"/>
                    <a:pt x="292" y="226"/>
                  </a:cubicBezTo>
                  <a:cubicBezTo>
                    <a:pt x="214" y="235"/>
                    <a:pt x="78" y="226"/>
                    <a:pt x="0" y="22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2520" y="3581280"/>
              <a:ext cx="477720" cy="373320"/>
            </a:xfrm>
            <a:custGeom>
              <a:avLst/>
              <a:gdLst/>
              <a:ahLst/>
              <a:rect l="l" t="t" r="r" b="b"/>
              <a:pathLst>
                <a:path w="301" h="235">
                  <a:moveTo>
                    <a:pt x="0" y="226"/>
                  </a:moveTo>
                  <a:cubicBezTo>
                    <a:pt x="11" y="177"/>
                    <a:pt x="59" y="149"/>
                    <a:pt x="105" y="132"/>
                  </a:cubicBezTo>
                  <a:cubicBezTo>
                    <a:pt x="138" y="78"/>
                    <a:pt x="101" y="127"/>
                    <a:pt x="146" y="98"/>
                  </a:cubicBezTo>
                  <a:cubicBezTo>
                    <a:pt x="170" y="82"/>
                    <a:pt x="173" y="65"/>
                    <a:pt x="203" y="55"/>
                  </a:cubicBezTo>
                  <a:cubicBezTo>
                    <a:pt x="255" y="0"/>
                    <a:pt x="260" y="115"/>
                    <a:pt x="268" y="149"/>
                  </a:cubicBezTo>
                  <a:cubicBezTo>
                    <a:pt x="272" y="167"/>
                    <a:pt x="278" y="184"/>
                    <a:pt x="284" y="201"/>
                  </a:cubicBezTo>
                  <a:cubicBezTo>
                    <a:pt x="287" y="209"/>
                    <a:pt x="301" y="225"/>
                    <a:pt x="292" y="226"/>
                  </a:cubicBezTo>
                  <a:cubicBezTo>
                    <a:pt x="214" y="235"/>
                    <a:pt x="78" y="226"/>
                    <a:pt x="0" y="22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6760" y="3162240"/>
              <a:ext cx="478080" cy="372960"/>
            </a:xfrm>
            <a:custGeom>
              <a:avLst/>
              <a:gdLst/>
              <a:ahLst/>
              <a:rect l="l" t="t" r="r" b="b"/>
              <a:pathLst>
                <a:path w="301" h="235">
                  <a:moveTo>
                    <a:pt x="0" y="226"/>
                  </a:moveTo>
                  <a:cubicBezTo>
                    <a:pt x="11" y="177"/>
                    <a:pt x="59" y="149"/>
                    <a:pt x="105" y="132"/>
                  </a:cubicBezTo>
                  <a:cubicBezTo>
                    <a:pt x="138" y="78"/>
                    <a:pt x="101" y="127"/>
                    <a:pt x="146" y="98"/>
                  </a:cubicBezTo>
                  <a:cubicBezTo>
                    <a:pt x="170" y="82"/>
                    <a:pt x="173" y="65"/>
                    <a:pt x="203" y="55"/>
                  </a:cubicBezTo>
                  <a:cubicBezTo>
                    <a:pt x="255" y="0"/>
                    <a:pt x="260" y="115"/>
                    <a:pt x="268" y="149"/>
                  </a:cubicBezTo>
                  <a:cubicBezTo>
                    <a:pt x="272" y="167"/>
                    <a:pt x="278" y="184"/>
                    <a:pt x="284" y="201"/>
                  </a:cubicBezTo>
                  <a:cubicBezTo>
                    <a:pt x="287" y="209"/>
                    <a:pt x="301" y="225"/>
                    <a:pt x="292" y="226"/>
                  </a:cubicBezTo>
                  <a:cubicBezTo>
                    <a:pt x="214" y="235"/>
                    <a:pt x="78" y="226"/>
                    <a:pt x="0" y="22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0600" y="37339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9" y="32"/>
                  </a:moveTo>
                  <a:cubicBezTo>
                    <a:pt x="55" y="15"/>
                    <a:pt x="102" y="0"/>
                    <a:pt x="120" y="58"/>
                  </a:cubicBezTo>
                  <a:cubicBezTo>
                    <a:pt x="65" y="76"/>
                    <a:pt x="55" y="75"/>
                    <a:pt x="0" y="58"/>
                  </a:cubicBezTo>
                  <a:cubicBezTo>
                    <a:pt x="3" y="49"/>
                    <a:pt x="9" y="32"/>
                    <a:pt x="9" y="32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0800" y="3556080"/>
              <a:ext cx="546120" cy="253800"/>
            </a:xfrm>
            <a:custGeom>
              <a:avLst/>
              <a:gdLst/>
              <a:ahLst/>
              <a:rect l="l" t="t" r="r" b="b"/>
              <a:pathLst>
                <a:path w="344" h="160">
                  <a:moveTo>
                    <a:pt x="0" y="0"/>
                  </a:moveTo>
                  <a:cubicBezTo>
                    <a:pt x="41" y="11"/>
                    <a:pt x="189" y="48"/>
                    <a:pt x="246" y="75"/>
                  </a:cubicBezTo>
                  <a:cubicBezTo>
                    <a:pt x="303" y="102"/>
                    <a:pt x="323" y="142"/>
                    <a:pt x="344" y="16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112920" y="1395360"/>
            <a:ext cx="0" cy="2637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9520" y="1395360"/>
            <a:ext cx="0" cy="2637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9400" y="685800"/>
            <a:ext cx="3210120" cy="1319040"/>
          </a:xfrm>
          <a:prstGeom prst="ellipse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914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领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24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领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2819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公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809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领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943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领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5166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专属经济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647960" y="2895480"/>
            <a:ext cx="609480" cy="76212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76920" y="2895480"/>
            <a:ext cx="380880" cy="91440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895480"/>
            <a:ext cx="152280" cy="53352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4191120"/>
            <a:ext cx="304920" cy="3045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419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84400" y="4305240"/>
            <a:ext cx="546120" cy="1371600"/>
            <a:chOff x="2984400" y="4305240"/>
            <a:chExt cx="546120" cy="1371600"/>
          </a:xfrm>
        </p:grpSpPr>
        <p:sp>
          <p:nvSpPr>
            <p:cNvPr id="108" name=""/>
            <p:cNvSpPr/>
            <p:nvPr/>
          </p:nvSpPr>
          <p:spPr>
            <a:xfrm>
              <a:off x="3149640" y="430524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84400" y="4305240"/>
              <a:ext cx="15264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V="1">
            <a:off x="7010280" y="3352680"/>
            <a:ext cx="45720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191120"/>
            <a:ext cx="99072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318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501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852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领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813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242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领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284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领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4292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领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496360" y="62103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23:50:02Z</dcterms:created>
  <dc:creator>任春明</dc:creator>
  <dc:description/>
  <dc:language>en-US</dc:language>
  <cp:lastModifiedBy>微软用户</cp:lastModifiedBy>
  <dcterms:modified xsi:type="dcterms:W3CDTF">2011-11-27T00:38:08Z</dcterms:modified>
  <cp:revision>2</cp:revision>
  <dc:subject/>
  <dc:title>幻灯片 1</dc:title>
</cp:coreProperties>
</file>