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wmf" ContentType="image/x-wmf"/>
  <Override PartName="/ppt/media/chimes.wav" ContentType="audio/x-wav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12.wmf" ContentType="image/x-wmf"/>
  <Override PartName="/ppt/media/image3.png" ContentType="image/png"/>
  <Override PartName="/ppt/media/image25.jpeg" ContentType="image/jpeg"/>
  <Override PartName="/ppt/media/image2.jpeg" ContentType="image/jpeg"/>
  <Override PartName="/ppt/media/image24.jpeg" ContentType="image/jpeg"/>
  <Override PartName="/ppt/media/image23.wmf" ContentType="image/x-wmf"/>
  <Override PartName="/ppt/media/image22.wmf" ContentType="image/x-wmf"/>
  <Override PartName="/ppt/media/camera.wav" ContentType="audio/x-wav"/>
  <Override PartName="/ppt/media/image21.wmf" ContentType="image/x-wmf"/>
  <Override PartName="/ppt/media/image19.wmf" ContentType="image/x-wmf"/>
  <Override PartName="/ppt/media/image17.wmf" ContentType="image/x-wmf"/>
  <Override PartName="/ppt/media/CHIMES.WAV" ContentType="audio/x-wav"/>
  <Override PartName="/ppt/media/image20.wmf" ContentType="image/x-wmf"/>
  <Override PartName="/ppt/media/image18.wmf" ContentType="image/x-wmf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6CF-60D0-41C0-B6BE-F3A92776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1A8-D6D6-49CF-B366-1BD8C477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3BD-D94B-490F-ADB5-E39D7D32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CF6-D209-450D-A0C9-82943434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F4B9-173F-4866-89CE-D62413BB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FC9B-B06D-492B-922D-A00A909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0B76-68F8-4384-8FB4-A5D7D04D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C131-89C2-4DA0-8EBB-48D728E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601-E6FC-4027-9D00-68E6B13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AE87-35BD-4EAA-BDE8-0E26E7B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600F-405B-41B7-A25D-2AE9B353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86A-016E-4095-8C9A-7890CBF5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14B2-9868-471F-A138-27C8E1C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83CC-37A0-4B7D-A9A1-55AF5C9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1A0F-E1A9-42CE-9E1A-0D42240B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3775-05EA-4418-B4D8-C26CFB2F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3456-D9A2-41AE-B8FB-62AEB6A5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216B-8045-44DD-B77D-029D3C80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2E5E-AB61-4EAC-86CC-7403062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941C-575F-4C41-81E8-C0B25980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F7E3-4DC0-4193-BE11-9637D5F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0791-856E-48A1-90B0-79C9C7E1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519-3430-4750-A6D8-3E5EC8C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DCE2-120F-4FC8-A1F7-4E3046EB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13AD-169C-442D-B322-A898533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9D9A-E348-4CE1-9659-64AA096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2350-43F5-44C7-BCA5-0BD2540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327E-B737-484F-9286-52F28A5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A3C9-767D-466C-B774-EED4462E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CC88-F556-4732-967E-EA1C86C8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724-2343-483D-ACA0-CF666BD3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D39-902E-4F5B-BB33-3A7347FB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C1D-14E9-4197-B358-74846B57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F84-B715-4FD1-8801-36B23A6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4A8-9B61-4FF1-A686-8E77AED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1AD-20F6-4954-880B-FCA77C18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E09-2070-41EC-94DF-7026583008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729-6156-422E-9F7F-26196B888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0D1-6BF1-487D-9332-EEEB3768B0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come100.com/tupian.htm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218.5.5.245/new/ztbaodao/2003g1zy/web/one/class6/test52/games/1.htm" TargetMode="Externa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116000" y="2565360"/>
            <a:ext cx="67723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合并同类项</a:t>
            </a:r>
            <a:endParaRPr b="1" lang="en-US" sz="8000" spc="1" strike="noStrike">
              <a:ln w="9360">
                <a:solidFill>
                  <a:srgbClr val="808080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0958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合并同类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306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14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47640" y="1341360"/>
          <a:ext cx="3600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341360"/>
                    <a:ext cx="36007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908000" y="2276640"/>
          <a:ext cx="449424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2276640"/>
                    <a:ext cx="44942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55640" y="234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771640" y="2924280"/>
          <a:ext cx="3354480" cy="77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1640" y="2924280"/>
                    <a:ext cx="33544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276720" y="3645000"/>
            <a:ext cx="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3068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48000" y="3644640"/>
            <a:ext cx="2016000" cy="360720"/>
            <a:chOff x="3348000" y="3644640"/>
            <a:chExt cx="2016000" cy="360720"/>
          </a:xfrm>
        </p:grpSpPr>
        <p:sp>
          <p:nvSpPr>
            <p:cNvPr id="262" name=""/>
            <p:cNvSpPr/>
            <p:nvPr/>
          </p:nvSpPr>
          <p:spPr>
            <a:xfrm>
              <a:off x="3348000" y="364500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48000" y="4005360"/>
              <a:ext cx="201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64000" y="364464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195640" y="4292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11640" y="4221000"/>
          <a:ext cx="1800360" cy="63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4221000"/>
                    <a:ext cx="1800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95640" y="5084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27280" y="5013360"/>
          <a:ext cx="2016000" cy="70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7280" y="5013360"/>
                    <a:ext cx="2016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6156360" y="29973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找出同类项，用“—”和“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~~~”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标记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07664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应用合并同类项法则，将同类项合并在一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32000" y="1052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411280" y="907920"/>
          <a:ext cx="3816360" cy="8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907920"/>
                    <a:ext cx="38163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68360" y="1052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1052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47640" y="1413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1268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556000" y="1628280"/>
            <a:ext cx="2447640" cy="360720"/>
            <a:chOff x="2556000" y="1628280"/>
            <a:chExt cx="2447640" cy="360720"/>
          </a:xfrm>
        </p:grpSpPr>
        <p:sp>
          <p:nvSpPr>
            <p:cNvPr id="281" name=""/>
            <p:cNvSpPr/>
            <p:nvPr/>
          </p:nvSpPr>
          <p:spPr>
            <a:xfrm>
              <a:off x="2556000" y="1628640"/>
              <a:ext cx="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56000" y="1989000"/>
              <a:ext cx="24476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003640" y="1628280"/>
              <a:ext cx="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419640" y="1628280"/>
            <a:ext cx="2520720" cy="576720"/>
            <a:chOff x="3419640" y="1628280"/>
            <a:chExt cx="2520720" cy="576720"/>
          </a:xfrm>
        </p:grpSpPr>
        <p:sp>
          <p:nvSpPr>
            <p:cNvPr id="285" name=""/>
            <p:cNvSpPr/>
            <p:nvPr/>
          </p:nvSpPr>
          <p:spPr>
            <a:xfrm>
              <a:off x="3419640" y="1700280"/>
              <a:ext cx="0" cy="504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19640" y="2205000"/>
              <a:ext cx="2520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940360" y="1628280"/>
              <a:ext cx="0" cy="576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71640" y="4076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当同类项的系数互为相反数时，合并后的结果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692360" y="2421000"/>
          <a:ext cx="2230200" cy="70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2421000"/>
                    <a:ext cx="22302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692360" y="3284640"/>
          <a:ext cx="2590560" cy="765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284640"/>
                    <a:ext cx="2590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780000" y="2349360"/>
          <a:ext cx="2847960" cy="779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2349360"/>
                    <a:ext cx="284796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372360" y="2492280"/>
          <a:ext cx="863640" cy="61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72360" y="2492280"/>
                    <a:ext cx="863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55640" y="1125360"/>
            <a:ext cx="766764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并同类项的步骤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找出同类项，并标记出来。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应用合并同类项的法则将同类项合并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26920" y="1052640"/>
            <a:ext cx="741708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诱发思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，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）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x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6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zx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372360" y="371628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92360" y="2708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80000" y="27082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429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63640" y="105264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课堂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63640" y="213372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同类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2997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合并同类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3789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合并同类项法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24000" y="472428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合并同类项步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492360" y="1413000"/>
            <a:ext cx="5329440" cy="42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16000" y="692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末，小蕙一家要外出游玩，爸爸、妈妈和小蕙各自选了他们要吃的东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08720" y="3933720"/>
            <a:ext cx="752400" cy="75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451640" y="3789360"/>
            <a:ext cx="752400" cy="98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451640" y="1557360"/>
            <a:ext cx="752400" cy="98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1547640" y="2708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276720" y="17002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4284720" y="170028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276720" y="27082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3276720" y="378936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1619280" y="1700280"/>
            <a:ext cx="822240" cy="99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1476360" y="3716280"/>
            <a:ext cx="880920" cy="88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76360" y="472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买的时候，小蕙怎么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5373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个汉堡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个苹果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瓶饮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9880" y="4437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53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37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37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6516720" y="3933720"/>
            <a:ext cx="752400" cy="752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6443640" y="2708280"/>
            <a:ext cx="752400" cy="75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195640" y="2133720"/>
            <a:ext cx="2666880" cy="1828800"/>
            <a:chOff x="2195640" y="2133720"/>
            <a:chExt cx="2666880" cy="1828800"/>
          </a:xfrm>
        </p:grpSpPr>
        <p:sp>
          <p:nvSpPr>
            <p:cNvPr id="147" name=""/>
            <p:cNvSpPr/>
            <p:nvPr/>
          </p:nvSpPr>
          <p:spPr>
            <a:xfrm>
              <a:off x="4024440" y="320040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5640" y="320040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95640" y="266688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4440" y="266688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5640" y="2133720"/>
              <a:ext cx="26668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619280" y="1052640"/>
            <a:ext cx="838080" cy="7617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20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836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125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1052640"/>
            <a:ext cx="2667240" cy="7617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148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1052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773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981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4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2492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4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458136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4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+2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30481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4292640"/>
            <a:ext cx="5105160" cy="1294920"/>
            <a:chOff x="900000" y="4292640"/>
            <a:chExt cx="5105160" cy="1294920"/>
          </a:xfrm>
        </p:grpSpPr>
        <p:sp>
          <p:nvSpPr>
            <p:cNvPr id="165" name=""/>
            <p:cNvSpPr/>
            <p:nvPr/>
          </p:nvSpPr>
          <p:spPr>
            <a:xfrm>
              <a:off x="5167080" y="482580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7400" y="482580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0000" y="482580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900000" y="4292640"/>
              <a:ext cx="5104800" cy="761760"/>
              <a:chOff x="900000" y="4292640"/>
              <a:chExt cx="5104800" cy="76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900000" y="4292640"/>
                <a:ext cx="266688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38280" y="4292640"/>
                <a:ext cx="266652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6804000" y="105264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95640" y="4653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两个小桥的体积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03280" y="4581360"/>
            <a:ext cx="731880" cy="844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76360" y="53737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=7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936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716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4360" y="1557360"/>
            <a:ext cx="2666880" cy="1828800"/>
            <a:chOff x="684360" y="1557360"/>
            <a:chExt cx="2666880" cy="1828800"/>
          </a:xfrm>
        </p:grpSpPr>
        <p:sp>
          <p:nvSpPr>
            <p:cNvPr id="178" name=""/>
            <p:cNvSpPr/>
            <p:nvPr/>
          </p:nvSpPr>
          <p:spPr>
            <a:xfrm>
              <a:off x="2513160" y="262404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62404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4360" y="209052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3160" y="209052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1557360"/>
              <a:ext cx="26668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64000" y="1557360"/>
            <a:ext cx="5105160" cy="1294920"/>
            <a:chOff x="3564000" y="1557360"/>
            <a:chExt cx="5105160" cy="1294920"/>
          </a:xfrm>
        </p:grpSpPr>
        <p:sp>
          <p:nvSpPr>
            <p:cNvPr id="184" name=""/>
            <p:cNvSpPr/>
            <p:nvPr/>
          </p:nvSpPr>
          <p:spPr>
            <a:xfrm>
              <a:off x="7831080" y="209052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21400" y="209052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4000" y="209052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564000" y="1557360"/>
              <a:ext cx="5104800" cy="761760"/>
              <a:chOff x="3564000" y="1557360"/>
              <a:chExt cx="5104800" cy="76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3564000" y="1557360"/>
                <a:ext cx="266688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02280" y="1557360"/>
                <a:ext cx="266652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8920" y="765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1484280"/>
            <a:ext cx="2590920" cy="1143000"/>
          </a:xfrm>
          <a:prstGeom prst="cloudCallout">
            <a:avLst>
              <a:gd name="adj1" fmla="val -72976"/>
              <a:gd name="adj2" fmla="val -25000"/>
            </a:avLst>
          </a:prstGeom>
          <a:solidFill>
            <a:srgbClr val="bbe0e3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b061"/>
                </a:solidFill>
                <a:latin typeface="Times New Roman"/>
                <a:ea typeface="华文中宋"/>
              </a:rPr>
              <a:t>观  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3068640"/>
            <a:ext cx="114300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6040" y="3284640"/>
            <a:ext cx="1277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49228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组中的字母和指数的关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86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同类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437000"/>
            <a:ext cx="380880" cy="15242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42926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含字母相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22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字母的指数也相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87280" y="4005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规定：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几个常数项也是同类项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4508640"/>
            <a:ext cx="8305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同类项跟字母的前后排列顺序无关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836640"/>
            <a:ext cx="5616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 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26920" y="333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快速抢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1040" y="5334120"/>
            <a:ext cx="54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5760" y="5029200"/>
            <a:ext cx="54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8560" y="5867280"/>
            <a:ext cx="54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23493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17002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9242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350028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( ×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400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724280"/>
            <a:ext cx="21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√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284640"/>
            <a:ext cx="1676520" cy="2666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112536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含字母相同，指数也相同的项叫同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760" y="2421000"/>
            <a:ext cx="33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92428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3573360"/>
            <a:ext cx="49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149720"/>
            <a:ext cx="45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m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4797360"/>
            <a:ext cx="48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i="1" lang="zh-CN" sz="32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00000" y="4797360"/>
          <a:ext cx="107820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4797360"/>
                    <a:ext cx="1078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484360" y="4581360"/>
          <a:ext cx="1044720" cy="11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4360" y="4581360"/>
                    <a:ext cx="10447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9640" y="5589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54450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√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2349360"/>
            <a:ext cx="7993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并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把多项式中几个同类项合并成一项的过程，叫做合并同类项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765000"/>
            <a:ext cx="6019920" cy="679320"/>
            <a:chOff x="1476360" y="765000"/>
            <a:chExt cx="6019920" cy="679320"/>
          </a:xfrm>
        </p:grpSpPr>
        <p:sp>
          <p:nvSpPr>
            <p:cNvPr id="228" name=""/>
            <p:cNvSpPr/>
            <p:nvPr/>
          </p:nvSpPr>
          <p:spPr>
            <a:xfrm>
              <a:off x="1476360" y="765000"/>
              <a:ext cx="6019920" cy="679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57240" y="76500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(4 + 3)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821720" y="2260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6040" y="2260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22096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3789360"/>
            <a:ext cx="72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多项式中，某两项具有什么特点时可以合并成一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4724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把具有以上特点的两项合并成一项时，我们实际上用了什么运算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61080" y="5734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逆用乘法对加法的分配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61840" cy="84456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042920" y="1557360"/>
            <a:ext cx="6768720" cy="642600"/>
            <a:chOff x="1042920" y="1557360"/>
            <a:chExt cx="6768720" cy="642600"/>
          </a:xfrm>
        </p:grpSpPr>
        <p:sp>
          <p:nvSpPr>
            <p:cNvPr id="238" name=""/>
            <p:cNvSpPr/>
            <p:nvPr/>
          </p:nvSpPr>
          <p:spPr>
            <a:xfrm>
              <a:off x="1042920" y="1557360"/>
              <a:ext cx="6768720" cy="609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63160" y="1557360"/>
              <a:ext cx="6620040" cy="642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+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(1 + 2)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2666880"/>
            <a:ext cx="86043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观察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并前后系数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母和它的的指数有无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3789360"/>
            <a:ext cx="791820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合并同类项的法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同类项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系数相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得的结果作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系数，字母和字母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指数保持不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11200" y="907920"/>
            <a:ext cx="6019920" cy="679320"/>
            <a:chOff x="1411200" y="907920"/>
            <a:chExt cx="6019920" cy="679320"/>
          </a:xfrm>
        </p:grpSpPr>
        <p:sp>
          <p:nvSpPr>
            <p:cNvPr id="243" name=""/>
            <p:cNvSpPr/>
            <p:nvPr/>
          </p:nvSpPr>
          <p:spPr>
            <a:xfrm>
              <a:off x="1411200" y="907920"/>
              <a:ext cx="6019920" cy="679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2080" y="90792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(4 + 3)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7280" y="1844640"/>
            <a:ext cx="7057800" cy="642600"/>
            <a:chOff x="1187280" y="1844640"/>
            <a:chExt cx="7057800" cy="642600"/>
          </a:xfrm>
        </p:grpSpPr>
        <p:sp>
          <p:nvSpPr>
            <p:cNvPr id="246" name=""/>
            <p:cNvSpPr/>
            <p:nvPr/>
          </p:nvSpPr>
          <p:spPr>
            <a:xfrm>
              <a:off x="1187280" y="1844640"/>
              <a:ext cx="7057800" cy="609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12920" y="1844640"/>
              <a:ext cx="6903000" cy="642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+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(1 + 2)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3-12-03T01:51:53Z</dcterms:modified>
  <cp:revision>16</cp:revision>
  <dc:subject/>
  <dc:title>幻灯片 1</dc:title>
</cp:coreProperties>
</file>