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EXPLODE.WAV" ContentType="audio/x-wav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AF7-CC11-4F40-AE9F-5A60B8F3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5D1-6FF3-498D-8A4F-5D7FA81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D70-0BB3-46E8-A2D5-FACA9251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E96-F8C2-4224-951D-55A1D8A2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06D-D04F-4A72-8679-9899D507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6EC-F770-4899-A84A-876ED8B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7F06-F9BE-40B6-A21E-40224DB8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39C-81C9-4EA1-BFA0-18E40565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7833-AAF9-47BF-B8AA-24ADCBC1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AD0-5B64-4D47-9F5B-D35466F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49D4-97F2-43E3-B000-5701940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089-A955-4741-9F13-478A52B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C91-04F4-4CC1-B386-64589205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ABC8-6620-48EF-A54D-EA5DD01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93F-5978-4FEC-840A-F6DC91F7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AB4A-54BD-431F-881B-C42488CC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904E-A3EE-4948-8049-0B4404B6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C47-3842-436B-A5D0-9EB9982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426-546F-4F7A-8C6E-5665095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861-2181-45E0-894E-1B9E4B54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CFF-26A0-4E32-BB4E-73580A16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9DC-8937-4A7E-B1FD-CAD7CF05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8CD-144B-40FD-AABE-FD9ABC1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85C-EEE1-48EB-9078-7FF31A8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6245-EDB7-41C2-A7E7-2422B1BD1FD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70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A482-35E0-421E-9C74-D07E1DD0594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70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76360" y="2637000"/>
            <a:ext cx="640080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2.12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计算器的使用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066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与解：用计算器恐怕都麻烦，怎么办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　　　　　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殊情况入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×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各位数字之和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9×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8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各位数字之和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并验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99 ×9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98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　　　　　各位数字之和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递推、总结规律：结果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×19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132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2971800" cy="1523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678168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886200" y="4419720"/>
            <a:ext cx="3809880" cy="1322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228600" y="2666880"/>
            <a:ext cx="434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验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递推、总结规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与解：用计算器恐怕都麻烦，怎么办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　　　　　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殊情况入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920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做一做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步骤：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任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中的一 个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将这个数字乘以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将上面的结果乘以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2 345 67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多选几个数试一试，你发现了什么规律？与同伴交流你的理由 。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2 345 679*9=111 111 1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（二）用计算器计算下列各式，将结果填在横线上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9 99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11= _________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9 99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12=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9 99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13=__________-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9 99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14=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9 999×11=1 099 989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9 999×12=1 199 988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9 999×13=1 299 987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9 999×14=1 399 986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你发现了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用计算器，你能直接写出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9 999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1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结果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 999×11=1 099 989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 999×12=1 199 988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 999×13=1 299 987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 999×14=1 399 986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…      …                                  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9 999×19=1 8999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组成最大的四位数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86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最小的四位数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56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9865-5689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用“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”中所得的四位数各个数位上的数字组成一个最 大数减去最小数，得到一个新的四位数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对于新得到的四位数，重复上面的过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你发现了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 任选一个四位数（各个数位上的数字都不相等），重复上面的过程，你又有什么发现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865-5689=41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641-1467=61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641-1467=61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三 试一试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一支考古队在某地挖掘出一枚正方体的古代金属印章，其棱长为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4.5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厘米，质量为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1069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克，求这枚印章每立方厘米约重多少克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95640" y="981000"/>
            <a:ext cx="4203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计算器的使用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"/>
          <p:cNvSpPr/>
          <p:nvPr/>
        </p:nvSpPr>
        <p:spPr>
          <a:xfrm>
            <a:off x="290520" y="2349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器的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38640" y="2349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快，操作简便，体积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0520" y="3263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器的种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4600" y="3284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简单计算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397044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科学计算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732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图形计算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7848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人说“如果把一张纸对折一次，再对折一次，如此重复下去，第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次后所有纸的高度相当于地球到月球的距离。”已知一张纸的厚度是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0.006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厘米，地球到月球的距离大约是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385 000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你相信这个人的说法吗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^43 × 0.006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约为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527 765.5812k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533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计算器的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功能键：　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743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0384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第二功能键：先按组合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942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85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例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89548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70866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771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做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8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47920"/>
            <a:ext cx="55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观察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×9×123456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20968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×9×123456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812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一猜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×9×123456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11480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验证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×9×123456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181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观察、你发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533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与解：用计算器恐怕都麻烦，怎么办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057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×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 ×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1 ×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验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11 ×11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419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递推、总结规律：结果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3456789876543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943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指导：以退为进，由特殊到一般思路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3808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4 ×3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积中有多少数字是偶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388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与解：用计算器恐怕都麻烦，怎么办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8600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×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　　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4 ×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4 ×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验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334 ×33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递推、总结规律：结果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偶数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86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：把一般的问题缩小为特殊问题，以小见大，以少见多，以简取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68680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与解：用计算器恐怕都麻烦，怎么办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殊情况入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352680"/>
            <a:ext cx="8534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×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（末尾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9×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0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末尾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并验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99 ×9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递推、总结规律：结果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199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零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7:46:39Z</dcterms:created>
  <dc:creator>勒流</dc:creator>
  <dc:description/>
  <dc:language>en-US</dc:language>
  <cp:lastModifiedBy>USER</cp:lastModifiedBy>
  <dcterms:modified xsi:type="dcterms:W3CDTF">2012-07-12T14:07:19Z</dcterms:modified>
  <cp:revision>23</cp:revision>
  <dc:subject/>
  <dc:title>PowerPoint 演示文稿</dc:title>
</cp:coreProperties>
</file>