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4.gif" ContentType="image/gif"/>
  <Override PartName="/ppt/media/image18.gif" ContentType="image/gif"/>
  <Override PartName="/ppt/media/image17.jpeg" ContentType="image/jpeg"/>
  <Override PartName="/ppt/media/image13.wmf" ContentType="image/x-wmf"/>
  <Override PartName="/ppt/media/image16.gif" ContentType="image/gif"/>
  <Override PartName="/ppt/media/image15.gif" ContentType="image/gif"/>
  <Override PartName="/ppt/media/image1.png" ContentType="image/png"/>
  <Override PartName="/ppt/media/image3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A03-B0B1-42BA-B0EC-867E1E99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5DA-978C-478C-B8EF-9EACBD9E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4A1-B406-4516-954B-7760B663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D27-D69F-4484-99FE-E68F7AE6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88A3-BC5C-4074-8078-7584B8DB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0E50-ACD9-4F45-84C4-2587069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D69-38FA-4E4B-AC6C-42B5095D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F884-A8A9-4825-A57E-4F84E12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56A-DCA5-4366-A839-4B98D3A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7A9-7823-4875-8620-9D43E8C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000-8CFC-4FD0-B0AB-34D3530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51-CFC4-4048-A9F4-1D2BE0E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892-F9F4-4FCF-AFC7-C471CB4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5DF-3958-4093-9762-6E2AB73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D0DE-F66A-4B07-A5F8-9155C0D3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E4A-4568-4CE9-B5D1-48CFE7E3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DD8D-B498-4D6A-8DDB-91E3F8EF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7661-42BE-40E2-ADDC-8BF33CF3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631A-E676-48A3-905F-27002E5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E01E-5261-4123-807D-AAB9E2DF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E0CB-B14D-4880-9797-9A0F237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7A08-6B9E-438B-840B-C68C4A1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83E-6B10-4DD8-88C1-7EBD232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7794-C234-4430-9027-E2674882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3E9F-D86B-449A-881F-8BBF60C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1035-7631-4EF8-9794-1A87CA4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4D6C-C648-4440-A395-E16C5C0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29D6-F058-4732-8801-9AE9E371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6F5D-BF1A-4C25-8ED5-85EC41FB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34D7-6FED-4AED-8D88-397253CE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095A2-3F81-4B99-BFF9-12D01EF4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BC85-4D0A-424D-A41A-CD54CC9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6C49-0051-4D3F-BD29-447A4DF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838-6C10-4A1A-B70B-2C1C9D89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2326-7A09-4F85-9EFD-F115E90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E396-AB87-4E7D-B0E1-271A238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2C23-6A35-48F7-9D09-12E6A58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8528-1AB6-4D94-BEA0-86187BE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88D3-D15A-47B0-A43E-598DAE1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DDE5-FF3D-47EB-9144-035BA1A7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241C-F03B-4EAA-8A84-8C8FC0D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8B03-CB9E-4E2E-943F-2DFE940D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1882-D88A-479C-A686-A8892BCD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FA1-A7FD-45C7-AE4C-4008261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0E3-5A2E-4D89-9613-C63C4D4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0D3-0BF7-4AF8-B9DA-5AA7E59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D99-F606-400D-B8C4-28A8DD6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46B-68D8-48C6-8E55-60A373F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5F3D-F5E6-4FFA-B013-16F9E200646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EE1-D720-4A6D-A676-DFFDDE20772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574C-E35C-4024-AFA8-52093D86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A0B-2725-421F-B3ED-D44BEEA5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3657600" y="1295280"/>
            <a:ext cx="475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行楷"/>
              </a:rPr>
              <a:t>正数与负数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0" r="40" b="93"/>
          <a:stretch/>
        </p:blipFill>
        <p:spPr>
          <a:xfrm>
            <a:off x="228600" y="274320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838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300.0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和–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800.0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别表达什么意义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322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952880" y="1143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点分别表达什么意义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98440"/>
            <a:ext cx="9144000" cy="685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3640" y="4572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温度的表示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77120" y="533520"/>
            <a:ext cx="2666880" cy="6324480"/>
            <a:chOff x="6477120" y="533520"/>
            <a:chExt cx="2666880" cy="63244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477120" y="533520"/>
              <a:ext cx="266688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947280" y="2729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63120" y="1967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3120" y="1281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7280" y="3429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7280" y="4191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7280" y="4876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6440" y="3733920"/>
              <a:ext cx="228600" cy="19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61880" y="3181320"/>
            <a:ext cx="13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0 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52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286000"/>
            <a:ext cx="228600" cy="160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809520" y="22096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6280" y="1733400"/>
            <a:ext cx="218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零上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2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809520" y="51055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6280" y="4724280"/>
            <a:ext cx="218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零下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2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2286000"/>
            <a:ext cx="228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00200"/>
            <a:ext cx="25146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+2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572000"/>
            <a:ext cx="25146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Verdana"/>
              </a:rPr>
              <a:t>- 2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1676520"/>
            <a:ext cx="5334120" cy="2514600"/>
          </a:xfrm>
          <a:prstGeom prst="wedgeEllipseCallout">
            <a:avLst>
              <a:gd name="adj1" fmla="val -56398"/>
              <a:gd name="adj2" fmla="val 1405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752480"/>
            <a:ext cx="3705120" cy="838440"/>
          </a:xfrm>
          <a:prstGeom prst="borderCallout1">
            <a:avLst>
              <a:gd name="adj1" fmla="val 18750"/>
              <a:gd name="adj2" fmla="val -8333"/>
              <a:gd name="adj3" fmla="val -51513"/>
              <a:gd name="adj4" fmla="val 191643"/>
            </a:avLst>
          </a:prstGeom>
          <a:solidFill>
            <a:srgbClr val="ffff99"/>
          </a:soli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+5℃ 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表示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724280"/>
            <a:ext cx="3705480" cy="838440"/>
          </a:xfrm>
          <a:prstGeom prst="borderCallout1">
            <a:avLst>
              <a:gd name="adj1" fmla="val 18750"/>
              <a:gd name="adj2" fmla="val -8333"/>
              <a:gd name="adj3" fmla="val 86365"/>
              <a:gd name="adj4" fmla="val 198157"/>
            </a:avLst>
          </a:prstGeom>
          <a:solidFill>
            <a:srgbClr val="ffff99"/>
          </a:solidFill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-3℃ 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表示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152388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各数中哪些是正数？哪些是负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    0.04    0    25.8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6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   9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96960" y="3392640"/>
            <a:ext cx="730440" cy="1135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45720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、正数有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4    25.8      96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43000" y="4800600"/>
            <a:ext cx="7315200" cy="1179720"/>
            <a:chOff x="1143000" y="4800600"/>
            <a:chExt cx="7315200" cy="1179720"/>
          </a:xfrm>
        </p:grpSpPr>
        <p:sp>
          <p:nvSpPr>
            <p:cNvPr id="239" name=""/>
            <p:cNvSpPr/>
            <p:nvPr/>
          </p:nvSpPr>
          <p:spPr>
            <a:xfrm>
              <a:off x="1143000" y="5398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负数有： 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6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7512120" y="4800600"/>
              <a:ext cx="73188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304920" y="6094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范例分析    加深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228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华文行楷"/>
                <a:ea typeface="华文行楷"/>
              </a:rPr>
              <a:t>对于两个具有相反意义的量，把哪一种意义规定为正，带有任意性，不过习惯上把向东、上升、盈利、运进、增加、收入等规定为正，把它们的相反量规定为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82880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:(1)200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我国花生产量比上年增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作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豆产量比上年减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记作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油菜籽产量比上年增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.7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表什么意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情况下增长率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10840" y="209520"/>
            <a:ext cx="590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例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3: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一个月内，小明体重增加了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2kg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，小华的体重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少了</a:t>
            </a:r>
            <a:r>
              <a:rPr b="1" lang="en-US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1kg</a:t>
            </a: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，小强的体重无变化，写出他们这个月的体重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09e"/>
                </a:solidFill>
                <a:latin typeface="华文行楷"/>
                <a:ea typeface="华文行楷"/>
              </a:rPr>
              <a:t>长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343400"/>
            <a:ext cx="556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3434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小结：引入负数以后，“增长”就有了普遍的含义：如果增长量为正数，那么就是我们以前所说的真正的增长，如果增长为负数，这就是我们以前所说的减少，但可以理解为负增长。所以，以后遇到增长时，其增长量可正也可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286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月小明体重增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kg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895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华体重增长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kg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3581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强体重增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下列国家的商品进出口总额 比上年的变化情况是： 美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4%;  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德国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法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国减少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%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意大利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%;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增长  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5%,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这些国家</a:t>
            </a:r>
            <a:r>
              <a:rPr b="1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商品进出口总额的增长率。 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666880"/>
            <a:ext cx="784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答：六个国家</a:t>
            </a:r>
            <a:r>
              <a:rPr b="1" lang="en-US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2001</a:t>
            </a:r>
            <a:r>
              <a:rPr b="1" lang="zh-CN" sz="2200" spc="-1" strike="noStrike">
                <a:solidFill>
                  <a:srgbClr val="9933ff"/>
                </a:solidFill>
                <a:latin typeface="华文新魏"/>
                <a:ea typeface="华文新魏"/>
              </a:rPr>
              <a:t>年商品进出口总额的增长率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6160" y="3448080"/>
            <a:ext cx="48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美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6.4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德国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3%</a:t>
            </a:r>
            <a:br>
              <a:rPr sz="2800"/>
            </a:b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法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.4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英国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3.5%</a:t>
            </a:r>
            <a:br>
              <a:rPr sz="2800"/>
            </a:b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意大利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2%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     中国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105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入负数后，增长率也可以为负数，减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增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3.5%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之，增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.4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为减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04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１．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知识竞赛中，如果用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1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表示加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，那么扣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怎样表示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人转动转盘，如果用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表示沿逆时针方向转了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那么沿顺时针方向转了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怎样表示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3)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某次乒乓球质量检测中，一只乒乓球超出标准质量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0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记作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0.0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那么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0.03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表示什么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777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零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5 ℃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零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东、西为两个相反方向，如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表示一个物体向西运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表示什么？物体原地不动记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某仓库运进面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7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运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应记作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3932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零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4508640"/>
            <a:ext cx="777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表示一个物体向东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体原地不动记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05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运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吨应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4880" y="475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92360" y="1052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读下列各数，并指出哪些是正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是负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42920" y="2319480"/>
            <a:ext cx="7107480" cy="2944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45924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76360" y="54936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果前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k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5k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k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6k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下列各数分别表示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+8km  (2)-4.5km  (3)0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3600" y="47592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298440" y="-4507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99072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阜阳某中已经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的历史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校园占地面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7648.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现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教学班，目前在校师生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拥有优质的教学条件和教学资源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满勃勃的生机与活力，正朝着更加高远的目标大步前进，使每个学子心情愉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加珍惜这样的学习机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们一起努力吧，如诗的未来等待我们去开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02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问题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1: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在上面这段文字中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出现了你所熟悉的哪几类数字</a:t>
            </a:r>
            <a:r>
              <a:rPr b="1" lang="en-US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?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它们是怎样产生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1880" y="-374760"/>
            <a:ext cx="987480" cy="121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22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行楷"/>
                <a:ea typeface="华文行楷"/>
              </a:rPr>
              <a:t>创设情景  导入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052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正常水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0.2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下列说法错误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1.5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于正常水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0.5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  -1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比正常水位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m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  +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水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924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765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电梯上升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”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下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       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m           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梯没有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133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温度计液面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上第五个刻度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表示的温度是零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℃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5℃;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温度计液面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下第五个刻度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表示的温度是零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℃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43657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向南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3k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6k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义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北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k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83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仓库运进面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2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6.2t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运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6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27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球比赛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胜两局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3573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次机器零件检查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超出标准质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g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1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59240" y="31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9640" y="112536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横线上填写适当的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下列各题中的两个量表示的意义相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15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盈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______3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煤与运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3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谁掌握的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1371600"/>
            <a:ext cx="81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数：以前学过的数中，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的数叫做正数；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0.23, 8818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负数：在正数前面加上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的数叫做负数；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.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3657600"/>
            <a:ext cx="73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不是正数，也不是负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3320" y="472428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以用正数与负数表示具有相反意义的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0800" y="5791320"/>
            <a:ext cx="39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数前面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叫做它的符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16520" y="-24120"/>
            <a:ext cx="2403000" cy="1343160"/>
            <a:chOff x="416520" y="-24120"/>
            <a:chExt cx="2403000" cy="1343160"/>
          </a:xfrm>
        </p:grpSpPr>
        <p:sp>
          <p:nvSpPr>
            <p:cNvPr id="290" name="未知"/>
            <p:cNvSpPr/>
            <p:nvPr/>
          </p:nvSpPr>
          <p:spPr>
            <a:xfrm>
              <a:off x="457200" y="649800"/>
              <a:ext cx="2362320" cy="47268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6520" y="-24120"/>
              <a:ext cx="2299680" cy="1343160"/>
              <a:chOff x="416520" y="-24120"/>
              <a:chExt cx="2299680" cy="1343160"/>
            </a:xfrm>
          </p:grpSpPr>
          <p:sp>
            <p:nvSpPr>
              <p:cNvPr id="292" name="未知"/>
              <p:cNvSpPr/>
              <p:nvPr/>
            </p:nvSpPr>
            <p:spPr>
              <a:xfrm rot="158400">
                <a:off x="559800" y="119160"/>
                <a:ext cx="615960" cy="88632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765000" y="178200"/>
                <a:ext cx="615960" cy="827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961200">
                <a:off x="559440" y="0"/>
                <a:ext cx="307800" cy="94572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867600" y="1080"/>
                <a:ext cx="513360" cy="23616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508320" y="710280"/>
                <a:ext cx="410400" cy="531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135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1629000">
                <a:off x="456840" y="1078560"/>
                <a:ext cx="156960" cy="2163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73160" y="60120"/>
                <a:ext cx="153720" cy="59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29840" y="56520"/>
                <a:ext cx="138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课堂小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781360"/>
            <a:ext cx="2195640" cy="9471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相反意义的两个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1989000"/>
            <a:ext cx="540036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其中一个为正    用正数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205000"/>
            <a:ext cx="43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3141720"/>
            <a:ext cx="216072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界点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4508640"/>
            <a:ext cx="251928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另一个为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88000" y="4508640"/>
            <a:ext cx="2016360" cy="520560"/>
          </a:xfrm>
          <a:prstGeom prst="rect">
            <a:avLst/>
          </a:prstGeom>
          <a:noFill/>
          <a:ln w="38160">
            <a:solidFill>
              <a:srgbClr val="0a8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负数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0000" y="4724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565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36000" y="3645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3284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27280" y="234936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23493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479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正数的数一定是负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负数的数一定是正数”的说法对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1225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858000" y="304920"/>
            <a:ext cx="1828800" cy="1471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423880" y="33415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cc3300"/>
                </a:solidFill>
                <a:latin typeface="Verdana"/>
                <a:ea typeface="华文行楷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10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50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53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10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68673" b="1897"/>
          <a:stretch/>
        </p:blipFill>
        <p:spPr>
          <a:xfrm>
            <a:off x="0" y="533520"/>
            <a:ext cx="2895480" cy="25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32767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计数、排序，产生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31327" t="0" r="38551" b="-70"/>
          <a:stretch/>
        </p:blipFill>
        <p:spPr>
          <a:xfrm>
            <a:off x="2819520" y="457200"/>
            <a:ext cx="3276360" cy="2752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61449" t="4763" r="0" b="-70"/>
          <a:stretch/>
        </p:blipFill>
        <p:spPr>
          <a:xfrm>
            <a:off x="5867280" y="457200"/>
            <a:ext cx="3276720" cy="276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3505320"/>
            <a:ext cx="260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表示“没有”“空位”，产生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3352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由分物、测量，产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24480" y="4267080"/>
            <a:ext cx="1295640" cy="1005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86400"/>
            <a:ext cx="8353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: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那么在实际生活中仅有整数和分数够能满足实际的需要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09880" cy="3164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609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天气预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某天北京的温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~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的确切含义是什么？这一天北京的温差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02920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天的最高温度是零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低温度是零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温差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°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2 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 有三个队参加的足球比赛中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红队胜黄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4 :1)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黄队胜蓝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1 :0)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，蓝队胜红队</a:t>
            </a:r>
            <a:r>
              <a:rPr b="1" lang="en-US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(1 :0),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如何确定三个队的净胜球数与排名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1600200"/>
            <a:ext cx="3352680" cy="1219320"/>
          </a:xfrm>
          <a:prstGeom prst="cloudCallout">
            <a:avLst>
              <a:gd name="adj1" fmla="val 29120"/>
              <a:gd name="adj2" fmla="val 95703"/>
            </a:avLst>
          </a:prstGeom>
          <a:solidFill>
            <a:srgbClr val="66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净胜球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029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行楷"/>
                <a:ea typeface="华文行楷"/>
              </a:rPr>
              <a:t>红队第一，蓝队第二，黄队第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362320"/>
          <a:ext cx="7924680" cy="2057400"/>
        </p:xfrm>
        <a:graphic>
          <a:graphicData uri="http://schemas.openxmlformats.org/drawingml/2006/table">
            <a:tbl>
              <a:tblPr/>
              <a:tblGrid>
                <a:gridCol w="838080"/>
                <a:gridCol w="990720"/>
                <a:gridCol w="990720"/>
                <a:gridCol w="838080"/>
                <a:gridCol w="838080"/>
                <a:gridCol w="1067040"/>
                <a:gridCol w="106668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红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黄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蓝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积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进球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失球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净胜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红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黄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蓝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733920" y="457200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298440"/>
            <a:ext cx="9296280" cy="730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280" y="2743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数学采用符号来区分，只要在小学里学过的数前面加上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，就把两个相反意义的量简明地表示出来了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9144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上面的实例中出现了一种新数：－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－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分别表示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零下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摄氏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净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输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球，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别表示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零上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摄氏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净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胜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球，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样区别相反意义的量才好呢？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343400"/>
            <a:ext cx="96012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像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这样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大于</a:t>
            </a:r>
            <a:r>
              <a:rPr b="1" lang="en-US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0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的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叫做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正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像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样</a:t>
            </a:r>
            <a:r>
              <a:rPr b="1" lang="zh-CN" sz="3000" spc="-1" strike="noStrike">
                <a:solidFill>
                  <a:srgbClr val="3399ff"/>
                </a:solidFill>
                <a:latin typeface="华文行楷"/>
                <a:ea typeface="华文行楷"/>
              </a:rPr>
              <a:t>在正数前面加上负号“－” 的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叫做</a:t>
            </a:r>
            <a:r>
              <a:rPr b="1" lang="zh-CN" sz="3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负数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486400"/>
            <a:ext cx="91346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需要有时在正数前面也加上“＋” 例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+3,+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,2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探究新知   明晰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40" y="271440"/>
            <a:ext cx="865656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上面的几个例子可以看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们常用正数和负数表示日常生活中具有相反意义量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零上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零下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胜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输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于为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小于就为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200" y="2278080"/>
            <a:ext cx="87012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果将收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计为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则支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应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将高出海平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计为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海平面计为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减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计为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，则增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应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向东计为正，则向西就计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50292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0" y="1523880"/>
            <a:ext cx="4114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3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生活中，我们将海平面高度计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米，根据右图的标识，你能说出我国的最高峰珠穆朗玛峰和吐鲁番盆地的海拔高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1593720" y="228600"/>
            <a:ext cx="822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只表示没有吗</a:t>
            </a:r>
            <a:r>
              <a:rPr b="1" lang="en-US" sz="4000" spc="-1" strike="noStrike">
                <a:solidFill>
                  <a:srgbClr val="cc66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96252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引入正负数后，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再简简单单的只表示没有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具有丰富的意义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是正负数的基准。 </a:t>
            </a:r>
            <a:r>
              <a:rPr b="0" lang="en-US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既不正数，也不是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240" y="5867280"/>
            <a:ext cx="9113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549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9144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罐中的金币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度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平面的高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准水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4:33:34Z</dcterms:created>
  <dc:creator/>
  <dc:description/>
  <cp:keywords/>
  <dc:language>en-US</dc:language>
  <cp:lastModifiedBy>微软用户</cp:lastModifiedBy>
  <dcterms:modified xsi:type="dcterms:W3CDTF">2013-09-05T01:39:05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NXTAG2">
    <vt:lpwstr>000800840e000000000001024120</vt:lpwstr>
  </property>
  <property fmtid="{D5CDD505-2E9C-101B-9397-08002B2CF9AE}" pid="4" name="Version">
    <vt:r8>1</vt:r8>
  </property>
</Properties>
</file>