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733-3ECB-467F-A85A-ADA7B088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1E5-A921-4CAD-AB42-5174A8FC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38B-2E95-4C73-B420-2555F02A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2259-5983-42A5-8D35-0BE561DA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4D23-8694-4B4F-8B41-510CCAD6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A4E6-D9AD-4628-9A23-755C6325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F8BA-672B-4E1B-9D16-0E6DBA0A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EAC1-3EBB-4998-A5FA-AAA89337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470A-3D99-44B6-8B14-EF9E06A5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98C6-F186-427E-812D-01CE8B51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049A-DDC5-4567-85B8-896AC806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5E2-4E31-4C4B-A797-48CB9202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8A17-39D3-4C2B-8E52-D5200404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B863-632D-4717-95CD-4D0B10C8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1360-525E-4B86-B410-60E368AA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10BE-7676-47EB-95BE-799279DE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D2CB-8081-4C26-B6D8-71C64DBE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5D9-1211-45D1-8788-64536B92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943-E9FC-4D50-8F81-5CD7FF69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376-2121-4D37-8216-8BAAEA82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063-5F91-458E-B66F-57F08A70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E7F-E60C-4961-A5E7-0BBB1074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EAA-4EFB-4D2A-A30C-82C248DD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6E7E-5D61-4D72-9E7D-446B0B68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C6B3-CCE6-47A9-8404-5C8341546764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6871-C9F7-4174-BC75-7357D8EBFB61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99"/>
            </a:gs>
            <a:gs pos="50000">
              <a:srgbClr val="ffffff"/>
            </a:gs>
            <a:gs pos="100000">
              <a:srgbClr val="99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32000" y="4365720"/>
            <a:ext cx="229572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1.2.2</a:t>
            </a: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数轴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460440" y="2358000"/>
            <a:ext cx="546120" cy="17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</a:rPr>
              <a:t>第一章 有理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6120" y="112536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</a:rPr>
              <a:t>人教新课标 七年级上册 数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36880" y="2276640"/>
            <a:ext cx="281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66"/>
                </a:solidFill>
                <a:latin typeface="Verdana"/>
              </a:rPr>
              <a:t>1.2</a:t>
            </a:r>
            <a:r>
              <a:rPr b="0" lang="zh-CN" sz="6000" spc="-1" strike="noStrike">
                <a:solidFill>
                  <a:srgbClr val="006666"/>
                </a:solidFill>
                <a:latin typeface="Verdana"/>
              </a:rPr>
              <a:t>有理数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4145040"/>
            <a:ext cx="7010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7695720" y="3992400"/>
            <a:ext cx="22860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695720" y="4145040"/>
            <a:ext cx="22860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399240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422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22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422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4221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-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40687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40687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406872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0687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4221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-2.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2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2.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267080" y="2544480"/>
            <a:ext cx="0" cy="15238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523880" y="2773440"/>
            <a:ext cx="0" cy="1295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010280" y="2773440"/>
            <a:ext cx="0" cy="1295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2697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2697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3154320"/>
            <a:ext cx="2743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3154320"/>
            <a:ext cx="2743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14600" y="3382560"/>
            <a:ext cx="0" cy="7621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019920" y="3382560"/>
            <a:ext cx="0" cy="7621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4600" y="3611520"/>
            <a:ext cx="17524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3611520"/>
            <a:ext cx="175284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3154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2.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8320" y="3154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2.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20526600">
            <a:off x="866880" y="375840"/>
            <a:ext cx="32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zh-CN" sz="6600" spc="-1" strike="noStrike">
                <a:solidFill>
                  <a:srgbClr val="cc99ff"/>
                </a:solidFill>
                <a:latin typeface="Verdana"/>
              </a:rPr>
              <a:t>观  察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120" y="1828800"/>
            <a:ext cx="77724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如果两个数只有符号不同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那么我们称其中一个数为另一个数的相反数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也称这两个数互为相反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比如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, 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的相反数是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-4 , -1/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的相反数是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1/4 , 4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和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-4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互为相反数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,-1/4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和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1/4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互为相反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562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ff"/>
                </a:solidFill>
                <a:latin typeface="Verdana"/>
              </a:rPr>
              <a:t>注意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:0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的相反数是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0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H="1" flipV="1">
            <a:off x="7695720" y="3124080"/>
            <a:ext cx="22860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695720" y="3276720"/>
            <a:ext cx="22860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124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3124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124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8168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3200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3200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32004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3200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2286000"/>
            <a:ext cx="2743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2743200"/>
            <a:ext cx="17524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20526600">
            <a:off x="866880" y="375840"/>
            <a:ext cx="32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zh-CN" sz="6600" spc="-1" strike="noStrike">
                <a:solidFill>
                  <a:srgbClr val="cc99ff"/>
                </a:solidFill>
                <a:latin typeface="Verdana"/>
              </a:rPr>
              <a:t>观  察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14400" y="1676160"/>
            <a:ext cx="7010280" cy="2257920"/>
            <a:chOff x="914400" y="1676160"/>
            <a:chExt cx="7010280" cy="2257920"/>
          </a:xfrm>
        </p:grpSpPr>
        <p:sp>
          <p:nvSpPr>
            <p:cNvPr id="242" name=""/>
            <p:cNvSpPr/>
            <p:nvPr/>
          </p:nvSpPr>
          <p:spPr>
            <a:xfrm>
              <a:off x="4952880" y="3124080"/>
              <a:ext cx="0" cy="152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38680" y="3124080"/>
              <a:ext cx="0" cy="152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24480" y="3124080"/>
              <a:ext cx="0" cy="152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81280" y="3124080"/>
              <a:ext cx="0" cy="152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95480" y="3124080"/>
              <a:ext cx="0" cy="152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9680" y="3124080"/>
              <a:ext cx="0" cy="152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914400" y="1676160"/>
              <a:ext cx="7010280" cy="2257920"/>
              <a:chOff x="914400" y="1676160"/>
              <a:chExt cx="7010280" cy="2257920"/>
            </a:xfrm>
          </p:grpSpPr>
          <p:sp>
            <p:nvSpPr>
              <p:cNvPr id="249" name=""/>
              <p:cNvSpPr/>
              <p:nvPr/>
            </p:nvSpPr>
            <p:spPr>
              <a:xfrm>
                <a:off x="914400" y="3276720"/>
                <a:ext cx="701028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038480" y="3352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Verdana"/>
                  </a:rPr>
                  <a:t>0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724280" y="3352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Verdana"/>
                  </a:rPr>
                  <a:t>1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19320" y="3352680"/>
                <a:ext cx="914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Verdana"/>
                  </a:rPr>
                  <a:t>-4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81080" y="335268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Verdana"/>
                  </a:rPr>
                  <a:t>-2.5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562720" y="3352680"/>
                <a:ext cx="106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Verdana"/>
                  </a:rPr>
                  <a:t>2.5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267080" y="1676160"/>
                <a:ext cx="0" cy="152388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1523880" y="1905120"/>
                <a:ext cx="0" cy="129528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7010280" y="1905120"/>
                <a:ext cx="0" cy="129528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514600" y="18288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66"/>
                    </a:solidFill>
                    <a:latin typeface="Verdana"/>
                  </a:rPr>
                  <a:t>4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34120" y="18288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66"/>
                    </a:solidFill>
                    <a:latin typeface="Verdana"/>
                  </a:rPr>
                  <a:t>4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523880" y="2286000"/>
                <a:ext cx="274320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514600" y="2514240"/>
                <a:ext cx="0" cy="76212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6019920" y="2514240"/>
                <a:ext cx="0" cy="76212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267080" y="2743200"/>
                <a:ext cx="1752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971800" y="22860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66"/>
                    </a:solidFill>
                    <a:latin typeface="Verdana"/>
                  </a:rPr>
                  <a:t>2.5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48320" y="22860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66"/>
                    </a:solidFill>
                    <a:latin typeface="Verdana"/>
                  </a:rPr>
                  <a:t>2.5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685800" y="41148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在数轴上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表示互为相反数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零除外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的两个数位于原点的两侧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并且到原点的距离相等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14400" y="3429000"/>
            <a:ext cx="7010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695720" y="3276360"/>
            <a:ext cx="22860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3429000"/>
            <a:ext cx="22860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670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102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32767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3505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3505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3505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19320" y="3505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-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33526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4360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-2.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62720" y="3505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2.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267080" y="1828440"/>
            <a:ext cx="0" cy="15238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523880" y="2057400"/>
            <a:ext cx="0" cy="1295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010280" y="2057400"/>
            <a:ext cx="0" cy="1295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2438280"/>
            <a:ext cx="2743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2438280"/>
            <a:ext cx="2743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514600" y="2666520"/>
            <a:ext cx="0" cy="7621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019920" y="2666520"/>
            <a:ext cx="0" cy="7621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4600" y="2895480"/>
            <a:ext cx="17524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2895480"/>
            <a:ext cx="175284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24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2.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24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2.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41911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</a:rPr>
              <a:t>       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例如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表示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-4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和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的点分别位于原点的左侧和右侧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到原点的距离都是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个单位长度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;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表示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-2.5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和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2.5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的点分别位于原点的左侧和右侧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609480"/>
            <a:ext cx="5105520" cy="10670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ff"/>
                </a:solidFill>
                <a:latin typeface="Verdana"/>
              </a:rPr>
              <a:t>练       习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51080" y="4851360"/>
            <a:ext cx="329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Verdana"/>
              </a:rPr>
              <a:t>（</a:t>
            </a:r>
            <a:r>
              <a:rPr b="0" lang="zh-CN" sz="32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Verdana"/>
              </a:rPr>
              <a:t>）写出三对非零相反数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349640" y="2249640"/>
            <a:ext cx="7300440" cy="2206800"/>
            <a:chOff x="1349640" y="2249640"/>
            <a:chExt cx="7300440" cy="2206800"/>
          </a:xfrm>
        </p:grpSpPr>
        <p:grpSp>
          <p:nvGrpSpPr>
            <p:cNvPr id="306" name=""/>
            <p:cNvGrpSpPr/>
            <p:nvPr/>
          </p:nvGrpSpPr>
          <p:grpSpPr>
            <a:xfrm>
              <a:off x="1349640" y="2249640"/>
              <a:ext cx="7300440" cy="2043720"/>
              <a:chOff x="1349640" y="2249640"/>
              <a:chExt cx="7300440" cy="2043720"/>
            </a:xfrm>
          </p:grpSpPr>
          <p:sp>
            <p:nvSpPr>
              <p:cNvPr id="307" name=""/>
              <p:cNvSpPr/>
              <p:nvPr/>
            </p:nvSpPr>
            <p:spPr>
              <a:xfrm>
                <a:off x="1349640" y="2249640"/>
                <a:ext cx="730044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（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1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）下面两个数是互为相反数的是（　　）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A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、－    与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0.2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　　   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B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、    与－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0.333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　　　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C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、－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2.25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与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2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　　　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D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、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π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与</a:t>
                </a:r>
                <a:r>
                  <a:rPr b="0" lang="zh-CN" sz="3200" spc="-1" strike="noStrike">
                    <a:solidFill>
                      <a:srgbClr val="003366"/>
                    </a:solidFill>
                    <a:latin typeface="Verdana"/>
                  </a:rPr>
                  <a:t>3.14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1908000" y="2492280"/>
                <a:ext cx="504720" cy="1027440"/>
                <a:chOff x="1908000" y="2492280"/>
                <a:chExt cx="504720" cy="10274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974960" y="24922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3366"/>
                      </a:solidFill>
                      <a:latin typeface="Verdana"/>
                    </a:rPr>
                    <a:t>1</a:t>
                  </a:r>
                  <a:endParaRPr b="0" lang="en-US" sz="32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954080" y="29383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3366"/>
                      </a:solidFill>
                      <a:latin typeface="Verdana"/>
                    </a:rPr>
                    <a:t>2</a:t>
                  </a:r>
                  <a:endParaRPr b="0" lang="en-US" sz="32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908000" y="3012840"/>
                  <a:ext cx="504720" cy="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435640" y="2637000"/>
                <a:ext cx="504720" cy="1027080"/>
                <a:chOff x="5435640" y="2637000"/>
                <a:chExt cx="504720" cy="10270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502600" y="26370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3366"/>
                      </a:solidFill>
                      <a:latin typeface="Verdana"/>
                    </a:rPr>
                    <a:t>1</a:t>
                  </a:r>
                  <a:endParaRPr b="0" lang="en-US" sz="32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481720" y="30826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3366"/>
                      </a:solidFill>
                      <a:latin typeface="Verdana"/>
                    </a:rPr>
                    <a:t>3</a:t>
                  </a:r>
                  <a:endParaRPr b="0" lang="en-US" sz="32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435640" y="3157200"/>
                  <a:ext cx="504720" cy="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6" name=""/>
            <p:cNvGrpSpPr/>
            <p:nvPr/>
          </p:nvGrpSpPr>
          <p:grpSpPr>
            <a:xfrm>
              <a:off x="3492360" y="3429000"/>
              <a:ext cx="504720" cy="1027440"/>
              <a:chOff x="3492360" y="3429000"/>
              <a:chExt cx="504720" cy="1027440"/>
            </a:xfrm>
          </p:grpSpPr>
          <p:sp>
            <p:nvSpPr>
              <p:cNvPr id="317" name=""/>
              <p:cNvSpPr/>
              <p:nvPr/>
            </p:nvSpPr>
            <p:spPr>
              <a:xfrm>
                <a:off x="3559320" y="3429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Verdana"/>
                  </a:rPr>
                  <a:t>1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38440" y="3875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66"/>
                    </a:solidFill>
                    <a:latin typeface="Verdana"/>
                  </a:rPr>
                  <a:t>4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2360" y="3949560"/>
                <a:ext cx="50472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>
            <a:off x="7587720" y="208584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c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609480"/>
            <a:ext cx="5105520" cy="10670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ff"/>
                </a:solidFill>
                <a:latin typeface="Verdana"/>
              </a:rPr>
              <a:t>练       习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2133720"/>
            <a:ext cx="8839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下面数轴上的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各点各代表什么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8686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62120" y="19810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1981080"/>
            <a:ext cx="7086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33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如果数轴上的点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A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表示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-9/8,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点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B 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表示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1,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那么离原点较近的点是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33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5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离原点有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___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个单位长度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,-6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离原点有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___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个单位长度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3366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离原点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6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个单位的点是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_____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886200">
            <a:off x="5333760" y="533520"/>
            <a:ext cx="3429000" cy="1066680"/>
          </a:xfrm>
          <a:prstGeom prst="plus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ff"/>
                </a:solidFill>
                <a:latin typeface="Verdana"/>
              </a:rPr>
              <a:t>想  一  想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267080" y="3200400"/>
            <a:ext cx="1143000" cy="1066680"/>
          </a:xfrm>
          <a:prstGeom prst="rect">
            <a:avLst/>
          </a:prstGeom>
          <a:solidFill>
            <a:srgbClr val="33ccc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-1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10080" y="3200400"/>
            <a:ext cx="1143000" cy="1066680"/>
          </a:xfrm>
          <a:prstGeom prst="rect">
            <a:avLst/>
          </a:prstGeom>
          <a:solidFill>
            <a:srgbClr val="33ccc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0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3080" y="3200400"/>
            <a:ext cx="1143000" cy="1066680"/>
          </a:xfrm>
          <a:prstGeom prst="rect">
            <a:avLst/>
          </a:prstGeom>
          <a:solidFill>
            <a:srgbClr val="33ccc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B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6080" y="3200400"/>
            <a:ext cx="1143000" cy="1066680"/>
          </a:xfrm>
          <a:prstGeom prst="rect">
            <a:avLst/>
          </a:prstGeom>
          <a:solidFill>
            <a:srgbClr val="33ccc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10080" y="2133720"/>
            <a:ext cx="1143000" cy="1066680"/>
          </a:xfrm>
          <a:prstGeom prst="rect">
            <a:avLst/>
          </a:prstGeom>
          <a:solidFill>
            <a:srgbClr val="33ccc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96080" y="4267080"/>
            <a:ext cx="1143000" cy="1067040"/>
          </a:xfrm>
          <a:prstGeom prst="rect">
            <a:avLst/>
          </a:prstGeom>
          <a:solidFill>
            <a:srgbClr val="33cccc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1828800"/>
            <a:ext cx="396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这是一个正方形纸盒的展开图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若在其中的三个面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A,B,C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内分别填入适当的数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使它们折成正方体后相对的面上的两个数互为相反数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则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A=____,B=____,C=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886200">
            <a:off x="5333760" y="533520"/>
            <a:ext cx="3429000" cy="1066680"/>
          </a:xfrm>
          <a:prstGeom prst="plus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ff"/>
                </a:solidFill>
                <a:latin typeface="Verdana"/>
              </a:rPr>
              <a:t>想  一  想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14400" y="685800"/>
            <a:ext cx="3200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ff"/>
                </a:solidFill>
                <a:latin typeface="Verdana"/>
              </a:rPr>
              <a:t>作   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213372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(1)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预习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1.2.4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绝对值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(2)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书上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P14 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第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1—6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题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210960"/>
            <a:ext cx="7467480" cy="6647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638680" y="1828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3581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44956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1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880" y="1219320"/>
            <a:ext cx="7696440" cy="4800600"/>
            <a:chOff x="380880" y="1219320"/>
            <a:chExt cx="7696440" cy="4800600"/>
          </a:xfrm>
        </p:grpSpPr>
        <p:sp>
          <p:nvSpPr>
            <p:cNvPr id="103" name=""/>
            <p:cNvSpPr/>
            <p:nvPr/>
          </p:nvSpPr>
          <p:spPr>
            <a:xfrm flipV="1">
              <a:off x="5791320" y="3580920"/>
              <a:ext cx="990360" cy="838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648320" y="1752480"/>
              <a:ext cx="990360" cy="1905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72200" y="4495680"/>
              <a:ext cx="990720" cy="457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0880" y="3809880"/>
              <a:ext cx="838440" cy="2210040"/>
            </a:xfrm>
            <a:prstGeom prst="ellipse">
              <a:avLst/>
            </a:prstGeom>
            <a:solidFill>
              <a:srgbClr val="f9f2d5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想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一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想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3880" y="4191120"/>
              <a:ext cx="29718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点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A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表示多少摄氏度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? 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点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B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呢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? 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点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C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呢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?  A,B,C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三点所表示的温度哪个高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? 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哪个低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</a:rPr>
                <a:t>?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62720" y="121932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Verdana"/>
                </a:rPr>
                <a:t>A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81680" y="31240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Verdana"/>
                </a:rPr>
                <a:t>B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8880" y="40384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Verdana"/>
                </a:rPr>
                <a:t>C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3992400"/>
            <a:ext cx="670536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343400" y="383976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9924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2971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Verdana"/>
              </a:rPr>
              <a:t>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7467120" y="3839760"/>
            <a:ext cx="22860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467120" y="3992400"/>
            <a:ext cx="22860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133720"/>
            <a:ext cx="6858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2057400"/>
            <a:ext cx="0" cy="7632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2057400"/>
            <a:ext cx="0" cy="7632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17524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单位长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840120"/>
            <a:ext cx="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8098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962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-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8098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3962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71800" y="38098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3962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-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90512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规定了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003366"/>
                </a:solidFill>
                <a:uFillTx/>
                <a:latin typeface="Times New Roman"/>
              </a:rPr>
              <a:t>正方向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1" i="1" lang="zh-CN" sz="3600" spc="-1" strike="noStrike" u="sng">
                <a:solidFill>
                  <a:srgbClr val="003366"/>
                </a:solidFill>
                <a:uFillTx/>
                <a:latin typeface="Times New Roman"/>
              </a:rPr>
              <a:t>原点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和</a:t>
            </a:r>
            <a:r>
              <a:rPr b="1" i="1" lang="zh-CN" sz="3600" spc="-1" strike="noStrike" u="sng">
                <a:solidFill>
                  <a:srgbClr val="003366"/>
                </a:solidFill>
                <a:uFillTx/>
                <a:latin typeface="Times New Roman"/>
              </a:rPr>
              <a:t>单位长度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的直线叫做</a:t>
            </a:r>
            <a:r>
              <a:rPr b="1" i="1" lang="zh-CN" sz="3600" spc="-1" strike="noStrike" u="sng">
                <a:solidFill>
                  <a:srgbClr val="003366"/>
                </a:solidFill>
                <a:uFillTx/>
                <a:latin typeface="Times New Roman"/>
              </a:rPr>
              <a:t>数轴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通常称</a:t>
            </a:r>
            <a:r>
              <a:rPr b="1" lang="zh-CN" sz="3600" spc="-1" strike="noStrike" u="sng">
                <a:solidFill>
                  <a:srgbClr val="003366"/>
                </a:solidFill>
                <a:uFillTx/>
                <a:latin typeface="Times New Roman"/>
              </a:rPr>
              <a:t>正方向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1" lang="zh-CN" sz="3600" spc="-1" strike="noStrike" u="sng">
                <a:solidFill>
                  <a:srgbClr val="003366"/>
                </a:solidFill>
                <a:uFillTx/>
                <a:latin typeface="Times New Roman"/>
              </a:rPr>
              <a:t>原点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和</a:t>
            </a:r>
            <a:r>
              <a:rPr b="1" lang="zh-CN" sz="3600" spc="-1" strike="noStrike" u="sng">
                <a:solidFill>
                  <a:srgbClr val="003366"/>
                </a:solidFill>
                <a:uFillTx/>
                <a:latin typeface="Times New Roman"/>
              </a:rPr>
              <a:t>单位长度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为数轴的三要素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任意一个有理数都可以用数轴上的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点表示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838080" y="2057400"/>
            <a:ext cx="762012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754380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7619760" cy="838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880" y="380880"/>
            <a:ext cx="876312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是数轴的打“√”，不是数轴的打“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×”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。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　 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526600">
            <a:off x="0" y="0"/>
            <a:ext cx="34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cc99ff"/>
                </a:solidFill>
                <a:latin typeface="Verdana"/>
              </a:rPr>
              <a:t>练习</a:t>
            </a:r>
            <a:r>
              <a:rPr b="1" lang="zh-CN" sz="4000" spc="-1" strike="noStrike">
                <a:solidFill>
                  <a:srgbClr val="cc99ff"/>
                </a:solidFill>
                <a:latin typeface="Verdana"/>
              </a:rPr>
              <a:t>1</a:t>
            </a:r>
            <a:r>
              <a:rPr b="1" lang="zh-CN" sz="4000" spc="-1" strike="noStrike">
                <a:solidFill>
                  <a:srgbClr val="cc99ff"/>
                </a:solidFill>
                <a:latin typeface="Verdana"/>
              </a:rPr>
              <a:t>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600200"/>
            <a:ext cx="88390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对的打“√”，错的打“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×”.</a:t>
            </a:r>
            <a:br>
              <a:rPr sz="3600"/>
            </a:br>
            <a:br>
              <a:rPr sz="3600"/>
            </a:b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规定正方向、单位长度的直线叫做数轴。　　</a:t>
            </a:r>
            <a:br>
              <a:rPr sz="3600"/>
            </a:b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规定单位长度的直线叫做数轴。　　　　</a:t>
            </a:r>
            <a:br>
              <a:rPr sz="3600"/>
            </a:b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(3)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规定正方向、原点、单位长度的直线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叫做数轴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526600">
            <a:off x="0" y="0"/>
            <a:ext cx="34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cc99ff"/>
                </a:solidFill>
                <a:latin typeface="Verdana"/>
              </a:rPr>
              <a:t>练习</a:t>
            </a:r>
            <a:r>
              <a:rPr b="1" lang="zh-CN" sz="4000" spc="-1" strike="noStrike">
                <a:solidFill>
                  <a:srgbClr val="cc99ff"/>
                </a:solidFill>
                <a:latin typeface="Verdana"/>
              </a:rPr>
              <a:t>2</a:t>
            </a:r>
            <a:r>
              <a:rPr b="1" lang="zh-CN" sz="4000" spc="-1" strike="noStrike">
                <a:solidFill>
                  <a:srgbClr val="cc99ff"/>
                </a:solidFill>
                <a:latin typeface="Verdana"/>
              </a:rPr>
              <a:t>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09480"/>
            <a:ext cx="1828800" cy="838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0574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如图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数轴上点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A,B,C,D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分别表示什么数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419720"/>
            <a:ext cx="73152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695720" y="4267080"/>
            <a:ext cx="22860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695720" y="4419720"/>
            <a:ext cx="228600" cy="1522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4495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4495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3800" y="4267080"/>
            <a:ext cx="0" cy="152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36576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-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-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28954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895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3.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09480"/>
            <a:ext cx="1828800" cy="838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76080" y="4213080"/>
            <a:ext cx="637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200 , -150 , -50 , 100 , -100 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38080" y="1905120"/>
            <a:ext cx="7848720" cy="2064600"/>
            <a:chOff x="838080" y="1905120"/>
            <a:chExt cx="7848720" cy="2064600"/>
          </a:xfrm>
        </p:grpSpPr>
        <p:sp>
          <p:nvSpPr>
            <p:cNvPr id="169" name=""/>
            <p:cNvSpPr/>
            <p:nvPr/>
          </p:nvSpPr>
          <p:spPr>
            <a:xfrm>
              <a:off x="838080" y="1905120"/>
              <a:ext cx="784872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66"/>
                  </a:solidFill>
                  <a:latin typeface="Verdana"/>
                </a:rPr>
                <a:t>在数轴上表示下列各数：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66"/>
                  </a:solidFill>
                  <a:latin typeface="Verdana"/>
                </a:rPr>
                <a:t>（</a:t>
              </a:r>
              <a:r>
                <a:rPr b="1" lang="zh-CN" sz="3200" spc="-1" strike="noStrike">
                  <a:solidFill>
                    <a:srgbClr val="003366"/>
                  </a:solidFill>
                  <a:latin typeface="Verdana"/>
                </a:rPr>
                <a:t>1</a:t>
              </a:r>
              <a:r>
                <a:rPr b="1" lang="zh-CN" sz="3200" spc="-1" strike="noStrike">
                  <a:solidFill>
                    <a:srgbClr val="003366"/>
                  </a:solidFill>
                  <a:latin typeface="Verdana"/>
                </a:rPr>
                <a:t>）</a:t>
              </a:r>
              <a:r>
                <a:rPr b="1" lang="zh-CN" sz="3200" spc="-1" strike="noStrike">
                  <a:solidFill>
                    <a:srgbClr val="003366"/>
                  </a:solidFill>
                  <a:latin typeface="Verdana"/>
                </a:rPr>
                <a:t>0.5 ,        , 0 , -4 ,      , 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66"/>
                  </a:solidFill>
                  <a:latin typeface="Verdana"/>
                </a:rPr>
                <a:t>        </a:t>
              </a:r>
              <a:r>
                <a:rPr b="1" lang="zh-CN" sz="3200" spc="-1" strike="noStrike">
                  <a:solidFill>
                    <a:srgbClr val="003366"/>
                  </a:solidFill>
                  <a:latin typeface="Verdana"/>
                </a:rPr>
                <a:t>-0.5 , 1 , 4 ;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3132000" y="2349360"/>
              <a:ext cx="938160" cy="1027440"/>
              <a:chOff x="3132000" y="2349360"/>
              <a:chExt cx="938160" cy="102744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3565440" y="2349360"/>
                <a:ext cx="504720" cy="1027440"/>
                <a:chOff x="3565440" y="2349360"/>
                <a:chExt cx="504720" cy="10274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647520" y="23493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3366"/>
                      </a:solidFill>
                      <a:latin typeface="Verdana"/>
                    </a:rPr>
                    <a:t>5</a:t>
                  </a:r>
                  <a:endParaRPr b="0" lang="en-US" sz="32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626640" y="27954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3366"/>
                      </a:solidFill>
                      <a:latin typeface="Verdana"/>
                    </a:rPr>
                    <a:t>2</a:t>
                  </a:r>
                  <a:endParaRPr b="0" lang="en-US" sz="32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565440" y="2869920"/>
                  <a:ext cx="504720" cy="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3132000" y="2869920"/>
                <a:ext cx="28908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012000" y="2349360"/>
              <a:ext cx="504360" cy="1027440"/>
              <a:chOff x="6012000" y="2349360"/>
              <a:chExt cx="504360" cy="1027440"/>
            </a:xfrm>
          </p:grpSpPr>
          <p:sp>
            <p:nvSpPr>
              <p:cNvPr id="177" name=""/>
              <p:cNvSpPr/>
              <p:nvPr/>
            </p:nvSpPr>
            <p:spPr>
              <a:xfrm>
                <a:off x="6093360" y="2349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Verdana"/>
                  </a:rPr>
                  <a:t>5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72480" y="2795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Verdana"/>
                  </a:rPr>
                  <a:t>2</a:t>
                </a:r>
                <a:endParaRPr b="0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12000" y="2869920"/>
                <a:ext cx="50436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rot="20638200">
            <a:off x="685800" y="685800"/>
            <a:ext cx="2209680" cy="801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想一想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981080"/>
            <a:ext cx="7620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</a:rPr>
              <a:t>       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观察数轴，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-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与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有什么相同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与不同之处？它们在数轴上的位置有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什么关系？那么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-    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与     呢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-0.5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与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0.5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呢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724360" y="3429000"/>
            <a:ext cx="504720" cy="1027440"/>
            <a:chOff x="5724360" y="3429000"/>
            <a:chExt cx="504720" cy="1027440"/>
          </a:xfrm>
        </p:grpSpPr>
        <p:sp>
          <p:nvSpPr>
            <p:cNvPr id="183" name=""/>
            <p:cNvSpPr/>
            <p:nvPr/>
          </p:nvSpPr>
          <p:spPr>
            <a:xfrm>
              <a:off x="5806440" y="34290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85560" y="3875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Verdana"/>
                </a:rPr>
                <a:t>2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24360" y="3949560"/>
              <a:ext cx="50472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572000" y="3429000"/>
            <a:ext cx="504720" cy="1027440"/>
            <a:chOff x="4572000" y="3429000"/>
            <a:chExt cx="504720" cy="1027440"/>
          </a:xfrm>
        </p:grpSpPr>
        <p:sp>
          <p:nvSpPr>
            <p:cNvPr id="187" name=""/>
            <p:cNvSpPr/>
            <p:nvPr/>
          </p:nvSpPr>
          <p:spPr>
            <a:xfrm>
              <a:off x="4654080" y="34290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33200" y="3875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Verdana"/>
                </a:rPr>
                <a:t>2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72000" y="3949560"/>
              <a:ext cx="504720" cy="0"/>
            </a:xfrm>
            <a:prstGeom prst="line">
              <a:avLst/>
            </a:prstGeom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8:59:01Z</dcterms:created>
  <dc:creator/>
  <dc:description/>
  <dc:language>en-US</dc:language>
  <cp:lastModifiedBy>gyf</cp:lastModifiedBy>
  <dcterms:modified xsi:type="dcterms:W3CDTF">2013-12-12T09:54:27Z</dcterms:modified>
  <cp:revision>26</cp:revision>
  <dc:subject/>
  <dc:title>幻灯片 1</dc:title>
</cp:coreProperties>
</file>