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gif" ContentType="image/gif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C1E-97DF-4EB6-8987-3048FC8F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58D3-C3DC-4E2A-A7E2-3B76512B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B0EE-4E08-43A1-8C2A-51A0768A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CF8F-FF2D-4333-BE8C-74AC729D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5DAF-3905-4B6F-9C85-4F36FF9E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ECF6-B536-4C9A-8EB1-EC8E93C6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07F7-D7B9-49F7-99E5-AFE12A45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E4AC-AE44-4610-9862-0F588036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FEDA-BB11-443C-823C-47324312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1191-8B99-4BAF-8168-5209EDFD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6F0A-6DBC-4818-ACF5-FC2CBADB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643-C930-44EF-B930-B68FA3E0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9F12-0EA7-4703-A9B5-7E4E2B28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0C6F-8C01-4637-B748-3D360664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3379-B5F7-4A53-AEE4-2080310F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8A41-4B90-4023-A6F9-11A6AC2B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3982-FE31-4D34-9B8D-09E117FB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76E-4C5F-4A83-8D6C-9D98E851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CCA-B4C3-4BA1-A452-83746BA6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810-0624-4FCF-9817-009B66AD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344-DF40-4256-864E-09148F33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86F-BB02-495E-868A-E724EB10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258-421B-446C-B6B2-62D9D069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1BA-F4C8-4496-B931-50BB722B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5549-0371-4569-985A-E2C93E444A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DC7F-21AB-4406-B816-4D835579E5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71520" y="1642680"/>
            <a:ext cx="6072120" cy="13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七年级上数学：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1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几何图形课件 （冀教版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71520" y="3142800"/>
            <a:ext cx="607212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57819" r="40015" b="8367"/>
          <a:stretch/>
        </p:blipFill>
        <p:spPr>
          <a:xfrm>
            <a:off x="1219320" y="1219320"/>
            <a:ext cx="4038480" cy="2361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943600" y="1066680"/>
            <a:ext cx="2895480" cy="2853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28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平静的湖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3809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黑板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3808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你从这两幅图中看到哪些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-529200" y="152280"/>
            <a:ext cx="13993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cc"/>
                </a:solidFill>
                <a:latin typeface="Times New Roman"/>
                <a:ea typeface="楷体_GB2312"/>
              </a:rPr>
              <a:t>合作学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8150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学中的平面是可以无限伸展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952880" y="2757600"/>
          <a:ext cx="287676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757600"/>
                    <a:ext cx="28767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219320" y="2604960"/>
          <a:ext cx="2000160" cy="189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604960"/>
                    <a:ext cx="20001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447920" y="4510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正方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44337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长方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8380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面与面相交处形成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17524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线与线相交成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531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943600" y="609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7f66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1905120" y="2590920"/>
            <a:ext cx="1371600" cy="1295280"/>
            <a:chOff x="1905120" y="2590920"/>
            <a:chExt cx="1371600" cy="1295280"/>
          </a:xfrm>
        </p:grpSpPr>
        <p:sp>
          <p:nvSpPr>
            <p:cNvPr id="133" name=""/>
            <p:cNvSpPr/>
            <p:nvPr/>
          </p:nvSpPr>
          <p:spPr>
            <a:xfrm>
              <a:off x="1905120" y="2590920"/>
              <a:ext cx="1371600" cy="1295280"/>
            </a:xfrm>
            <a:prstGeom prst="cube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10040" y="2590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905120" y="35809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10040" y="35812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523880" y="5181480"/>
            <a:ext cx="1828800" cy="457200"/>
          </a:xfrm>
          <a:prstGeom prst="parallelogram">
            <a:avLst>
              <a:gd name="adj" fmla="val 10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2681280" y="2743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立体图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2757600" y="5181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面图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4018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点、线、面、体都称为几何图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738680" y="2971800"/>
            <a:ext cx="1509480" cy="2743200"/>
            <a:chOff x="4738680" y="2971800"/>
            <a:chExt cx="1509480" cy="2743200"/>
          </a:xfrm>
        </p:grpSpPr>
        <p:sp>
          <p:nvSpPr>
            <p:cNvPr id="142" name=""/>
            <p:cNvSpPr/>
            <p:nvPr/>
          </p:nvSpPr>
          <p:spPr>
            <a:xfrm>
              <a:off x="4738680" y="2971800"/>
              <a:ext cx="457200" cy="24382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80360" y="3352680"/>
              <a:ext cx="66780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几何图形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914400" y="304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、线、面、体这些基本图形可以帮助人们有效地刻画现实世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7f66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981080" y="1828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立体图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1752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面图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 rot="5400000">
            <a:off x="-164520" y="621000"/>
            <a:ext cx="1981080" cy="73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5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楷体_GB2312"/>
              </a:rPr>
              <a:t>小试牛刀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楷体_GB2312"/>
              <a:ea typeface="楷体_GB2312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685800"/>
            <a:ext cx="4876560" cy="70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请给下列图形分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90720" y="4495680"/>
          <a:ext cx="128736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495680"/>
                    <a:ext cx="128736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886200" y="3048120"/>
          <a:ext cx="2209680" cy="101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048120"/>
                    <a:ext cx="220968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867280" y="4876920"/>
          <a:ext cx="1905120" cy="9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876920"/>
                    <a:ext cx="19051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990720" y="2590920"/>
          <a:ext cx="1342800" cy="15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590920"/>
                    <a:ext cx="13428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505320" y="4495680"/>
          <a:ext cx="144144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5320" y="4495680"/>
                    <a:ext cx="14414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781680" y="3505320"/>
          <a:ext cx="1390680" cy="333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81680" y="3505320"/>
                    <a:ext cx="13906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 flipH="1">
            <a:off x="2285640" y="2438280"/>
            <a:ext cx="22860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2438280"/>
            <a:ext cx="914400" cy="236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057040" y="2209680"/>
            <a:ext cx="5181840" cy="3048120"/>
            <a:chOff x="2057040" y="2209680"/>
            <a:chExt cx="5181840" cy="3048120"/>
          </a:xfrm>
        </p:grpSpPr>
        <p:sp>
          <p:nvSpPr>
            <p:cNvPr id="164" name=""/>
            <p:cNvSpPr/>
            <p:nvPr/>
          </p:nvSpPr>
          <p:spPr>
            <a:xfrm flipH="1">
              <a:off x="2057040" y="2209680"/>
              <a:ext cx="3352680" cy="2438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105160" y="2286000"/>
              <a:ext cx="53316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72200" y="2362320"/>
              <a:ext cx="609480" cy="289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05720" y="2362320"/>
              <a:ext cx="533160" cy="9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8120" y="7621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及时小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2209680"/>
            <a:ext cx="632448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前面我们列举了哪几种图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128040" y="3429000"/>
            <a:ext cx="3272760" cy="2438280"/>
            <a:chOff x="3128040" y="3429000"/>
            <a:chExt cx="3272760" cy="2438280"/>
          </a:xfrm>
        </p:grpSpPr>
        <p:sp>
          <p:nvSpPr>
            <p:cNvPr id="172" name=""/>
            <p:cNvSpPr/>
            <p:nvPr/>
          </p:nvSpPr>
          <p:spPr>
            <a:xfrm>
              <a:off x="4267080" y="46483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平面图形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91120" y="3429000"/>
              <a:ext cx="21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立体图形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14800" y="3657600"/>
              <a:ext cx="152280" cy="12193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28040" y="3505320"/>
              <a:ext cx="66780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几何图形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00200" y="996840"/>
            <a:ext cx="563868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5e"/>
            </a:gs>
            <a:gs pos="100000">
              <a:srgbClr val="ffcc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371600" y="213372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夜间的礼花、“舞动的北京” 都给我们以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点运动形成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感觉；想一想，你能举出有关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线运动形成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例子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-332640" y="152280"/>
            <a:ext cx="13993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合作学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600200" y="9144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196524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点动成线、线动成面、面动成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362320" y="1371600"/>
            <a:ext cx="388620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001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7.1 </a:t>
            </a: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几何图形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5334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钱库一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8593" t="11652" r="5469" b="0"/>
          <a:stretch/>
        </p:blipFill>
        <p:spPr>
          <a:xfrm>
            <a:off x="609480" y="1447920"/>
            <a:ext cx="8001000" cy="5207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438280" y="54756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请指出图中你所知道的几何图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380880"/>
            <a:ext cx="18478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2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练一练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685800"/>
            <a:ext cx="4724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、 长方体如图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）它有几个面，几条棱，几个顶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）从它的表面上，你观察到那些平面图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038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38606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、如图所示的字母是怎样形成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6315" t="9827" r="20001" b="0"/>
          <a:stretch/>
        </p:blipFill>
        <p:spPr>
          <a:xfrm>
            <a:off x="6172200" y="3886200"/>
            <a:ext cx="211788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5486400" y="914400"/>
          <a:ext cx="327672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914400"/>
                    <a:ext cx="32767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rcRect l="7439" t="21745" r="7439" b="3468"/>
          <a:stretch/>
        </p:blipFill>
        <p:spPr>
          <a:xfrm>
            <a:off x="457200" y="1523880"/>
            <a:ext cx="8305920" cy="5102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433600" y="473040"/>
            <a:ext cx="671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如图，第二行的图形绕虚线旋转一周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便能形成第一行的某个几何体。请用线连一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600" y="438120"/>
            <a:ext cx="18669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3048120"/>
            <a:ext cx="1295640" cy="2133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00240" y="2895480"/>
            <a:ext cx="152280" cy="228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3124080"/>
            <a:ext cx="137160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828440" y="3048120"/>
            <a:ext cx="6172200" cy="2133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3025800" cy="4267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66680" y="3808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七巧板是我国民间流传最广、也是最常见的一种古典智力玩具。他虽然只由七块板组成，但用它们可以拼出人、动物、交通工具等各种图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80880" y="2438280"/>
            <a:ext cx="4343400" cy="3576600"/>
            <a:chOff x="380880" y="2438280"/>
            <a:chExt cx="4343400" cy="3576600"/>
          </a:xfrm>
        </p:grpSpPr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685800" y="2971800"/>
              <a:ext cx="3047760" cy="30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80880" y="243828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</a:rPr>
                <a:t>如图，指出你所熟悉的图形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"/>
          <p:cNvSpPr txBox="1"/>
          <p:nvPr/>
        </p:nvSpPr>
        <p:spPr>
          <a:xfrm>
            <a:off x="0" y="0"/>
            <a:ext cx="1523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6e6e"/>
                    </a:gs>
                    <a:gs pos="100000">
                      <a:srgbClr val="ff0000"/>
                    </a:gs>
                  </a:gsLst>
                  <a:lin ang="13500000"/>
                </a:gradFill>
                <a:latin typeface="楷体_GB2312"/>
              </a:rPr>
              <a:t>做一做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6e6e"/>
                  </a:gs>
                  <a:gs pos="100000">
                    <a:srgbClr val="ff0000"/>
                  </a:gs>
                </a:gsLst>
                <a:lin ang="135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2438280" y="1752480"/>
            <a:ext cx="381024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小结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3581280"/>
            <a:ext cx="556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本节课，你有哪些收获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57200" y="19288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4547" t="0" r="0" b="0"/>
          <a:stretch/>
        </p:blipFill>
        <p:spPr>
          <a:xfrm>
            <a:off x="0" y="0"/>
            <a:ext cx="96012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581280" y="3733920"/>
          <a:ext cx="194652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733920"/>
                    <a:ext cx="19465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952880" y="914400"/>
          <a:ext cx="287676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914400"/>
                    <a:ext cx="28767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19320" y="762120"/>
          <a:ext cx="2000160" cy="189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762120"/>
                    <a:ext cx="2000160" cy="18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990720" y="3809880"/>
          <a:ext cx="1697040" cy="212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3809880"/>
                    <a:ext cx="169704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553080" y="3733920"/>
          <a:ext cx="1920960" cy="213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3733920"/>
                    <a:ext cx="192096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447920" y="2666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立方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590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长方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5943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圆柱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6019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圆锥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6019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球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752480" y="1371600"/>
          <a:ext cx="194652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371600"/>
                    <a:ext cx="19465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105520" y="1371600"/>
          <a:ext cx="1697040" cy="212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371600"/>
                    <a:ext cx="1697040" cy="21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181480" y="37195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圆柱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7195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圆锥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86200" y="4648320"/>
            <a:ext cx="5029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cc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体是由面围成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cc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049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观察下列几何体，分别由哪些面围成？哪些面是平的，哪些面是曲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1-23T10:05:09Z</dcterms:modified>
  <cp:revision>7</cp:revision>
  <dc:subject/>
  <dc:title>幻灯片 1</dc:title>
</cp:coreProperties>
</file>