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wmf" ContentType="image/x-wmf"/>
  <Override PartName="/ppt/media/image16.jpeg" ContentType="image/jpeg"/>
  <Override PartName="/ppt/media/image2.jpeg" ContentType="image/jpeg"/>
  <Override PartName="/ppt/media/image11.gif" ContentType="image/gi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9F90-DFEC-44BE-BAD9-83786D20D1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2356-7E71-4F0F-90C5-E23D71C20A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62120" y="1295280"/>
            <a:ext cx="800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微软雅黑"/>
              </a:rPr>
              <a:t>请同学们准备好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微软雅黑"/>
              </a:rPr>
              <a:t>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饱满的精神状态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课本、提纲、双色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直尺、圆规、量角器、铅笔、橡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214200" y="1143000"/>
            <a:ext cx="89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对议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-8-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逐条解释旋转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求：两人一组，大号解说，小号纠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2666880"/>
            <a:ext cx="93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组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讨论基础感知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(2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作图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总结旋转作图的方法步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收集并讨论本组有价值的疑惑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28"/>
          <p:cNvSpPr txBox="1"/>
          <p:nvPr/>
        </p:nvSpPr>
        <p:spPr>
          <a:xfrm>
            <a:off x="0" y="0"/>
            <a:ext cx="1143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议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956240" y="4648320"/>
            <a:ext cx="573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求：组长组织，全员参与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层边演示边讲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其他成员认真聆听并补充纠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40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960" y="1142640"/>
            <a:ext cx="92962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黑体"/>
              </a:rPr>
              <a:t>提出一个好问题好比捡到一颗大珍珠</a:t>
            </a:r>
            <a:endParaRPr b="0" lang="en-US" sz="4400" spc="-1" strike="noStrike">
              <a:solidFill>
                <a:srgbClr val="008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8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黑体"/>
              </a:rPr>
              <a:t>我展示</a:t>
            </a:r>
            <a:endParaRPr b="0" lang="en-US" sz="4800" spc="-1" strike="noStrike">
              <a:solidFill>
                <a:srgbClr val="008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黑体"/>
              </a:rPr>
              <a:t>我质疑</a:t>
            </a:r>
            <a:endParaRPr b="0" lang="en-US" sz="4800" spc="-1" strike="noStrike">
              <a:solidFill>
                <a:srgbClr val="008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黑体"/>
              </a:rPr>
              <a:t>我补充</a:t>
            </a:r>
            <a:endParaRPr b="0" lang="en-US" sz="4800" spc="-1" strike="noStrike">
              <a:solidFill>
                <a:srgbClr val="008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黑体"/>
              </a:rPr>
              <a:t>我纠错</a:t>
            </a:r>
            <a:endParaRPr b="0" lang="en-US" sz="4800" spc="-1" strike="noStrike">
              <a:solidFill>
                <a:srgbClr val="008000"/>
              </a:solidFill>
              <a:latin typeface="Calibri"/>
            </a:endParaRPr>
          </a:p>
        </p:txBody>
      </p:sp>
      <p:pic>
        <p:nvPicPr>
          <p:cNvPr id="112" name="WordArt 4" descr=""/>
          <p:cNvPicPr/>
          <p:nvPr/>
        </p:nvPicPr>
        <p:blipFill>
          <a:blip r:embed="rId1"/>
          <a:stretch/>
        </p:blipFill>
        <p:spPr>
          <a:xfrm>
            <a:off x="3425760" y="2335320"/>
            <a:ext cx="4791240" cy="2535120"/>
          </a:xfrm>
          <a:prstGeom prst="rect">
            <a:avLst/>
          </a:prstGeom>
          <a:ln w="0">
            <a:noFill/>
          </a:ln>
        </p:spPr>
      </p:pic>
      <p:sp>
        <p:nvSpPr>
          <p:cNvPr id="113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展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4" name="动作按钮: 前进或下一项 6"/>
          <p:cNvSpPr/>
          <p:nvPr/>
        </p:nvSpPr>
        <p:spPr>
          <a:xfrm>
            <a:off x="2143080" y="250020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动作按钮: 前进或下一项 7"/>
          <p:cNvSpPr/>
          <p:nvPr/>
        </p:nvSpPr>
        <p:spPr>
          <a:xfrm>
            <a:off x="2143080" y="321480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动作按钮: 前进或下一项 8"/>
          <p:cNvSpPr/>
          <p:nvPr/>
        </p:nvSpPr>
        <p:spPr>
          <a:xfrm>
            <a:off x="2143080" y="407196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动作按钮: 前进或下一项 9"/>
          <p:cNvSpPr/>
          <p:nvPr/>
        </p:nvSpPr>
        <p:spPr>
          <a:xfrm>
            <a:off x="2143080" y="478620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动作按钮: 前进或下一项 10"/>
          <p:cNvSpPr/>
          <p:nvPr/>
        </p:nvSpPr>
        <p:spPr>
          <a:xfrm>
            <a:off x="7620120" y="5486400"/>
            <a:ext cx="1000080" cy="785880"/>
          </a:xfrm>
          <a:custGeom>
            <a:avLst/>
            <a:gdLst>
              <a:gd name="textAreaLeft" fmla="*/ 50760 w 1000080"/>
              <a:gd name="textAreaRight" fmla="*/ 949320 w 10000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7485" h="21600">
                <a:moveTo>
                  <a:pt x="0" y="0"/>
                </a:moveTo>
                <a:lnTo>
                  <a:pt x="27485" y="0"/>
                </a:lnTo>
                <a:lnTo>
                  <a:pt x="27485" y="21600"/>
                </a:lnTo>
                <a:lnTo>
                  <a:pt x="0" y="21600"/>
                </a:lnTo>
                <a:close/>
              </a:path>
              <a:path fill="lightenLess" w="27485" h="21600">
                <a:moveTo>
                  <a:pt x="0" y="0"/>
                </a:moveTo>
                <a:lnTo>
                  <a:pt x="27485" y="0"/>
                </a:lnTo>
                <a:lnTo>
                  <a:pt x="26085" y="1400"/>
                </a:lnTo>
                <a:lnTo>
                  <a:pt x="1400" y="1400"/>
                </a:lnTo>
                <a:close/>
              </a:path>
              <a:path fill="darken" w="27485" h="21600">
                <a:moveTo>
                  <a:pt x="27485" y="0"/>
                </a:moveTo>
                <a:lnTo>
                  <a:pt x="27485" y="21600"/>
                </a:lnTo>
                <a:lnTo>
                  <a:pt x="26085" y="20200"/>
                </a:lnTo>
                <a:lnTo>
                  <a:pt x="26085" y="1400"/>
                </a:lnTo>
                <a:close/>
              </a:path>
              <a:path fill="darkenLess" w="27485" h="21600">
                <a:moveTo>
                  <a:pt x="2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5" y="20200"/>
                </a:lnTo>
                <a:close/>
              </a:path>
              <a:path fill="lighten" w="2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5" h="21600">
                <a:moveTo>
                  <a:pt x="6736" y="3794"/>
                </a:moveTo>
                <a:lnTo>
                  <a:pt x="20749" y="10800"/>
                </a:lnTo>
                <a:lnTo>
                  <a:pt x="673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38840" cy="39592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展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1" name="动作按钮: 后退或前一项 6"/>
          <p:cNvSpPr/>
          <p:nvPr/>
        </p:nvSpPr>
        <p:spPr>
          <a:xfrm>
            <a:off x="7572240" y="5715000"/>
            <a:ext cx="1071720" cy="785880"/>
          </a:xfrm>
          <a:custGeom>
            <a:avLst/>
            <a:gdLst>
              <a:gd name="textAreaLeft" fmla="*/ 50760 w 1071720"/>
              <a:gd name="textAreaRight" fmla="*/ 1020960 w 10717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9453" h="21600">
                <a:moveTo>
                  <a:pt x="0" y="0"/>
                </a:moveTo>
                <a:lnTo>
                  <a:pt x="29453" y="0"/>
                </a:lnTo>
                <a:lnTo>
                  <a:pt x="29453" y="21600"/>
                </a:lnTo>
                <a:lnTo>
                  <a:pt x="0" y="21600"/>
                </a:lnTo>
                <a:close/>
              </a:path>
              <a:path fill="lightenLess" w="29453" h="21600">
                <a:moveTo>
                  <a:pt x="0" y="0"/>
                </a:moveTo>
                <a:lnTo>
                  <a:pt x="29453" y="0"/>
                </a:lnTo>
                <a:lnTo>
                  <a:pt x="28053" y="1400"/>
                </a:lnTo>
                <a:lnTo>
                  <a:pt x="1400" y="1400"/>
                </a:lnTo>
                <a:close/>
              </a:path>
              <a:path fill="darken" w="29453" h="21600">
                <a:moveTo>
                  <a:pt x="29453" y="0"/>
                </a:moveTo>
                <a:lnTo>
                  <a:pt x="29453" y="21600"/>
                </a:lnTo>
                <a:lnTo>
                  <a:pt x="28053" y="20200"/>
                </a:lnTo>
                <a:lnTo>
                  <a:pt x="28053" y="1400"/>
                </a:lnTo>
                <a:close/>
              </a:path>
              <a:path fill="darkenLess" w="29453" h="21600">
                <a:moveTo>
                  <a:pt x="29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3" y="20200"/>
                </a:lnTo>
                <a:close/>
              </a:path>
              <a:path fill="lighten" w="29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3" h="21600">
                <a:moveTo>
                  <a:pt x="7720" y="10800"/>
                </a:moveTo>
                <a:lnTo>
                  <a:pt x="21733" y="3794"/>
                </a:lnTo>
                <a:lnTo>
                  <a:pt x="2173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89a4a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565776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bevel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展</a:t>
            </a:r>
            <a:endParaRPr b="0" lang="en-US" sz="1800" spc="1" strike="noStrike">
              <a:ln w="12600">
                <a:solidFill>
                  <a:srgbClr val="ff0000"/>
                </a:solidFill>
                <a:bevel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4" name="动作按钮: 后退或前一项 6"/>
          <p:cNvSpPr/>
          <p:nvPr/>
        </p:nvSpPr>
        <p:spPr>
          <a:xfrm>
            <a:off x="7572240" y="5715000"/>
            <a:ext cx="1071720" cy="785880"/>
          </a:xfrm>
          <a:custGeom>
            <a:avLst/>
            <a:gdLst>
              <a:gd name="textAreaLeft" fmla="*/ 50760 w 1071720"/>
              <a:gd name="textAreaRight" fmla="*/ 1020960 w 10717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9453" h="21600">
                <a:moveTo>
                  <a:pt x="0" y="0"/>
                </a:moveTo>
                <a:lnTo>
                  <a:pt x="29453" y="0"/>
                </a:lnTo>
                <a:lnTo>
                  <a:pt x="29453" y="21600"/>
                </a:lnTo>
                <a:lnTo>
                  <a:pt x="0" y="21600"/>
                </a:lnTo>
                <a:close/>
              </a:path>
              <a:path fill="lightenLess" w="29453" h="21600">
                <a:moveTo>
                  <a:pt x="0" y="0"/>
                </a:moveTo>
                <a:lnTo>
                  <a:pt x="29453" y="0"/>
                </a:lnTo>
                <a:lnTo>
                  <a:pt x="28053" y="1400"/>
                </a:lnTo>
                <a:lnTo>
                  <a:pt x="1400" y="1400"/>
                </a:lnTo>
                <a:close/>
              </a:path>
              <a:path fill="darken" w="29453" h="21600">
                <a:moveTo>
                  <a:pt x="29453" y="0"/>
                </a:moveTo>
                <a:lnTo>
                  <a:pt x="29453" y="21600"/>
                </a:lnTo>
                <a:lnTo>
                  <a:pt x="28053" y="20200"/>
                </a:lnTo>
                <a:lnTo>
                  <a:pt x="28053" y="1400"/>
                </a:lnTo>
                <a:close/>
              </a:path>
              <a:path fill="darkenLess" w="29453" h="21600">
                <a:moveTo>
                  <a:pt x="29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3" y="20200"/>
                </a:lnTo>
                <a:close/>
              </a:path>
              <a:path fill="lighten" w="29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3" h="21600">
                <a:moveTo>
                  <a:pt x="7720" y="10800"/>
                </a:moveTo>
                <a:lnTo>
                  <a:pt x="21733" y="3794"/>
                </a:lnTo>
                <a:lnTo>
                  <a:pt x="2173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28600"/>
            <a:ext cx="818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网格图中每一格的边长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单位长度，请分别画出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三角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按顺时针方向旋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的图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6" descr="}A}EMTKYVX_HUWGWTOIQJT0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4699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638680" y="40384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724280" y="57913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V="1">
            <a:off x="2362320" y="304740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2362320" y="48769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2362320" y="3124080"/>
            <a:ext cx="0" cy="1828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724280" y="4038480"/>
            <a:ext cx="0" cy="17528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4724280" y="4114440"/>
            <a:ext cx="914400" cy="1676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展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5" name="动作按钮: 后退或前一项 6"/>
          <p:cNvSpPr/>
          <p:nvPr/>
        </p:nvSpPr>
        <p:spPr>
          <a:xfrm>
            <a:off x="7572240" y="5715000"/>
            <a:ext cx="1071720" cy="785880"/>
          </a:xfrm>
          <a:custGeom>
            <a:avLst/>
            <a:gdLst>
              <a:gd name="textAreaLeft" fmla="*/ 50760 w 1071720"/>
              <a:gd name="textAreaRight" fmla="*/ 1020960 w 10717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9453" h="21600">
                <a:moveTo>
                  <a:pt x="0" y="0"/>
                </a:moveTo>
                <a:lnTo>
                  <a:pt x="29453" y="0"/>
                </a:lnTo>
                <a:lnTo>
                  <a:pt x="29453" y="21600"/>
                </a:lnTo>
                <a:lnTo>
                  <a:pt x="0" y="21600"/>
                </a:lnTo>
                <a:close/>
              </a:path>
              <a:path fill="lightenLess" w="29453" h="21600">
                <a:moveTo>
                  <a:pt x="0" y="0"/>
                </a:moveTo>
                <a:lnTo>
                  <a:pt x="29453" y="0"/>
                </a:lnTo>
                <a:lnTo>
                  <a:pt x="28053" y="1400"/>
                </a:lnTo>
                <a:lnTo>
                  <a:pt x="1400" y="1400"/>
                </a:lnTo>
                <a:close/>
              </a:path>
              <a:path fill="darken" w="29453" h="21600">
                <a:moveTo>
                  <a:pt x="29453" y="0"/>
                </a:moveTo>
                <a:lnTo>
                  <a:pt x="29453" y="21600"/>
                </a:lnTo>
                <a:lnTo>
                  <a:pt x="28053" y="20200"/>
                </a:lnTo>
                <a:lnTo>
                  <a:pt x="28053" y="1400"/>
                </a:lnTo>
                <a:close/>
              </a:path>
              <a:path fill="darkenLess" w="29453" h="21600">
                <a:moveTo>
                  <a:pt x="29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3" y="20200"/>
                </a:lnTo>
                <a:close/>
              </a:path>
              <a:path fill="lighten" w="29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3" h="21600">
                <a:moveTo>
                  <a:pt x="7720" y="10800"/>
                </a:moveTo>
                <a:lnTo>
                  <a:pt x="21733" y="3794"/>
                </a:lnTo>
                <a:lnTo>
                  <a:pt x="2173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尺规作出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顺时针旋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的图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展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4114800" cy="3024360"/>
          </a:xfrm>
          <a:prstGeom prst="rect">
            <a:avLst/>
          </a:prstGeom>
          <a:ln w="0">
            <a:noFill/>
          </a:ln>
        </p:spPr>
      </p:pic>
      <p:sp>
        <p:nvSpPr>
          <p:cNvPr id="139" name="动作按钮: 后退或前一项 6"/>
          <p:cNvSpPr/>
          <p:nvPr/>
        </p:nvSpPr>
        <p:spPr>
          <a:xfrm>
            <a:off x="7572240" y="5715000"/>
            <a:ext cx="1071720" cy="785880"/>
          </a:xfrm>
          <a:custGeom>
            <a:avLst/>
            <a:gdLst>
              <a:gd name="textAreaLeft" fmla="*/ 50760 w 1071720"/>
              <a:gd name="textAreaRight" fmla="*/ 1020960 w 10717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9453" h="21600">
                <a:moveTo>
                  <a:pt x="0" y="0"/>
                </a:moveTo>
                <a:lnTo>
                  <a:pt x="29453" y="0"/>
                </a:lnTo>
                <a:lnTo>
                  <a:pt x="29453" y="21600"/>
                </a:lnTo>
                <a:lnTo>
                  <a:pt x="0" y="21600"/>
                </a:lnTo>
                <a:close/>
              </a:path>
              <a:path fill="lightenLess" w="29453" h="21600">
                <a:moveTo>
                  <a:pt x="0" y="0"/>
                </a:moveTo>
                <a:lnTo>
                  <a:pt x="29453" y="0"/>
                </a:lnTo>
                <a:lnTo>
                  <a:pt x="28053" y="1400"/>
                </a:lnTo>
                <a:lnTo>
                  <a:pt x="1400" y="1400"/>
                </a:lnTo>
                <a:close/>
              </a:path>
              <a:path fill="darken" w="29453" h="21600">
                <a:moveTo>
                  <a:pt x="29453" y="0"/>
                </a:moveTo>
                <a:lnTo>
                  <a:pt x="29453" y="21600"/>
                </a:lnTo>
                <a:lnTo>
                  <a:pt x="28053" y="20200"/>
                </a:lnTo>
                <a:lnTo>
                  <a:pt x="28053" y="1400"/>
                </a:lnTo>
                <a:close/>
              </a:path>
              <a:path fill="darkenLess" w="29453" h="21600">
                <a:moveTo>
                  <a:pt x="29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3" y="20200"/>
                </a:lnTo>
                <a:close/>
              </a:path>
              <a:path fill="lighten" w="29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3" h="21600">
                <a:moveTo>
                  <a:pt x="7720" y="10800"/>
                </a:moveTo>
                <a:lnTo>
                  <a:pt x="21733" y="3794"/>
                </a:lnTo>
                <a:lnTo>
                  <a:pt x="2173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39640" y="2057400"/>
            <a:ext cx="86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这个定点称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琥珀"/>
                <a:ea typeface="华文琥珀"/>
              </a:rPr>
              <a:t>旋转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这个方向称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琥珀"/>
                <a:ea typeface="华文琥珀"/>
              </a:rPr>
              <a:t>旋转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转过的这个角称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琥珀"/>
                <a:ea typeface="华文琥珀"/>
              </a:rPr>
              <a:t>旋转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H="1">
            <a:off x="6949800" y="3283560"/>
            <a:ext cx="1415880" cy="257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410080" y="3352680"/>
            <a:ext cx="152424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5868720" y="3087000"/>
            <a:ext cx="1064160" cy="27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6343200" y="2939400"/>
            <a:ext cx="572400" cy="28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6902640" y="2911680"/>
            <a:ext cx="62640" cy="29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H="1">
            <a:off x="6937920" y="2928600"/>
            <a:ext cx="449280" cy="290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 flipH="1">
            <a:off x="6955920" y="3027600"/>
            <a:ext cx="946800" cy="27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6248520" y="4343400"/>
            <a:ext cx="3292200" cy="1066680"/>
            <a:chOff x="6248520" y="4343400"/>
            <a:chExt cx="3292200" cy="1066680"/>
          </a:xfrm>
        </p:grpSpPr>
        <p:sp>
          <p:nvSpPr>
            <p:cNvPr id="149" name="Rectangle 11"/>
            <p:cNvSpPr/>
            <p:nvPr/>
          </p:nvSpPr>
          <p:spPr>
            <a:xfrm>
              <a:off x="6248520" y="4343400"/>
              <a:ext cx="329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2"/>
            <p:cNvSpPr/>
            <p:nvPr/>
          </p:nvSpPr>
          <p:spPr>
            <a:xfrm>
              <a:off x="6553080" y="5029200"/>
              <a:ext cx="761400" cy="3808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3"/>
          <p:cNvGrpSpPr/>
          <p:nvPr/>
        </p:nvGrpSpPr>
        <p:grpSpPr>
          <a:xfrm>
            <a:off x="5943600" y="5791320"/>
            <a:ext cx="1143000" cy="860400"/>
            <a:chOff x="5943600" y="5791320"/>
            <a:chExt cx="1143000" cy="860400"/>
          </a:xfrm>
        </p:grpSpPr>
        <p:sp>
          <p:nvSpPr>
            <p:cNvPr id="152" name="Rectangle 14"/>
            <p:cNvSpPr/>
            <p:nvPr/>
          </p:nvSpPr>
          <p:spPr>
            <a:xfrm>
              <a:off x="5943600" y="5943600"/>
              <a:ext cx="1843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5"/>
            <p:cNvSpPr/>
            <p:nvPr/>
          </p:nvSpPr>
          <p:spPr>
            <a:xfrm>
              <a:off x="6781680" y="5791320"/>
              <a:ext cx="30492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6"/>
          <p:cNvSpPr/>
          <p:nvPr/>
        </p:nvSpPr>
        <p:spPr>
          <a:xfrm>
            <a:off x="533520" y="914400"/>
            <a:ext cx="815328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平面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图形绕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个定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沿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某个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过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个角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这样的图形运动叫做旋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4952880" y="3276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400800" y="5486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8458200" y="3276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4"/>
          <p:cNvSpPr txBox="1"/>
          <p:nvPr/>
        </p:nvSpPr>
        <p:spPr>
          <a:xfrm>
            <a:off x="0" y="44280"/>
            <a:ext cx="13572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评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2411640" y="1476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一、旋转的概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24"/>
          <p:cNvGrpSpPr/>
          <p:nvPr/>
        </p:nvGrpSpPr>
        <p:grpSpPr>
          <a:xfrm>
            <a:off x="6004080" y="2061720"/>
            <a:ext cx="2179440" cy="1829880"/>
            <a:chOff x="6004080" y="2061720"/>
            <a:chExt cx="2179440" cy="1829880"/>
          </a:xfrm>
        </p:grpSpPr>
        <p:sp>
          <p:nvSpPr>
            <p:cNvPr id="161" name="上弧形箭头 21"/>
            <p:cNvSpPr/>
            <p:nvPr/>
          </p:nvSpPr>
          <p:spPr>
            <a:xfrm rot="1660800">
              <a:off x="6103080" y="2569320"/>
              <a:ext cx="1981440" cy="914400"/>
            </a:xfrm>
            <a:custGeom>
              <a:avLst/>
              <a:gdLst>
                <a:gd name="textAreaLeft" fmla="*/ 409680 w 1981440"/>
                <a:gd name="textAreaRight" fmla="*/ 1457640 w 198144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31" hR="21600" stAng="10800000" swAng="5400000"/>
                  <a:lnTo>
                    <a:pt x="11424" y="0"/>
                  </a:lnTo>
                  <a:arcTo wR="8931" hR="21600" stAng="-5400000" swAng="3480914"/>
                  <a:lnTo>
                    <a:pt x="21316" y="16200"/>
                  </a:lnTo>
                  <a:lnTo>
                    <a:pt x="19108" y="21600"/>
                  </a:lnTo>
                  <a:lnTo>
                    <a:pt x="16331" y="16200"/>
                  </a:lnTo>
                  <a:lnTo>
                    <a:pt x="17577" y="16200"/>
                  </a:lnTo>
                  <a:arcTo wR="8931" hR="21600" stAng="-1919086" swAng="-3280792"/>
                  <a:lnTo>
                    <a:pt x="10177" y="211"/>
                  </a:lnTo>
                  <a:arcTo wR="8931" hR="21600" stAng="-5600121" swAng="-5199879"/>
                  <a:close/>
                </a:path>
                <a:path fill="darkenLess" w="21600" h="21600">
                  <a:moveTo>
                    <a:pt x="0" y="21600"/>
                  </a:moveTo>
                  <a:arcTo wR="8931" hR="21600" stAng="10800000" swAng="5400000"/>
                  <a:lnTo>
                    <a:pt x="8931" y="0"/>
                  </a:lnTo>
                  <a:arcTo wR="8931" hR="21600" stAng="-5400000" swAng="200121"/>
                  <a:lnTo>
                    <a:pt x="10177" y="211"/>
                  </a:lnTo>
                  <a:arcTo wR="8931" hR="21600" stAng="-5600121" swAng="-519987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3"/>
            <p:cNvSpPr/>
            <p:nvPr/>
          </p:nvSpPr>
          <p:spPr>
            <a:xfrm rot="1660800">
              <a:off x="6420600" y="2071080"/>
              <a:ext cx="18468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7662960" y="33703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257800" y="16002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534520" y="40384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7924680" y="2514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6172200" y="121932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角三角形 21"/>
          <p:cNvSpPr/>
          <p:nvPr/>
        </p:nvSpPr>
        <p:spPr>
          <a:xfrm rot="5092800">
            <a:off x="5562000" y="2209680"/>
            <a:ext cx="2362320" cy="1523880"/>
          </a:xfrm>
          <a:prstGeom prst="rtTriangle">
            <a:avLst/>
          </a:prstGeom>
          <a:solidFill>
            <a:srgbClr val="e1fb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角三角形 18"/>
          <p:cNvSpPr/>
          <p:nvPr/>
        </p:nvSpPr>
        <p:spPr>
          <a:xfrm rot="8755200">
            <a:off x="6319800" y="3425760"/>
            <a:ext cx="2362320" cy="1524240"/>
          </a:xfrm>
          <a:prstGeom prst="rtTriangle">
            <a:avLst/>
          </a:prstGeom>
          <a:solidFill>
            <a:srgbClr val="e1fb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715000" y="41148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162920" y="15238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5791320" y="18288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7924680" y="281952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6019920" y="41148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27"/>
          <p:cNvSpPr/>
          <p:nvPr/>
        </p:nvSpPr>
        <p:spPr>
          <a:xfrm>
            <a:off x="5866560" y="1905120"/>
            <a:ext cx="228600" cy="2286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43"/>
          <p:cNvSpPr/>
          <p:nvPr/>
        </p:nvSpPr>
        <p:spPr>
          <a:xfrm flipH="1">
            <a:off x="6095880" y="2894760"/>
            <a:ext cx="1990800" cy="1349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弧形 54"/>
          <p:cNvSpPr/>
          <p:nvPr/>
        </p:nvSpPr>
        <p:spPr>
          <a:xfrm>
            <a:off x="3581280" y="1905120"/>
            <a:ext cx="4496040" cy="2666880"/>
          </a:xfrm>
          <a:prstGeom prst="pie">
            <a:avLst/>
          </a:prstGeom>
          <a:noFill/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55"/>
          <p:cNvSpPr/>
          <p:nvPr/>
        </p:nvSpPr>
        <p:spPr>
          <a:xfrm flipH="1">
            <a:off x="6149880" y="1905120"/>
            <a:ext cx="98640" cy="23400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6"/>
          <p:cNvSpPr/>
          <p:nvPr/>
        </p:nvSpPr>
        <p:spPr>
          <a:xfrm flipH="1">
            <a:off x="6095880" y="1981080"/>
            <a:ext cx="479520" cy="22640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7"/>
          <p:cNvSpPr/>
          <p:nvPr/>
        </p:nvSpPr>
        <p:spPr>
          <a:xfrm flipH="1">
            <a:off x="6095520" y="2057400"/>
            <a:ext cx="838440" cy="22096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58"/>
          <p:cNvSpPr/>
          <p:nvPr/>
        </p:nvSpPr>
        <p:spPr>
          <a:xfrm flipH="1">
            <a:off x="6095520" y="2209680"/>
            <a:ext cx="1089000" cy="20574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66"/>
          <p:cNvSpPr/>
          <p:nvPr/>
        </p:nvSpPr>
        <p:spPr>
          <a:xfrm flipH="1">
            <a:off x="6095880" y="2362320"/>
            <a:ext cx="1393920" cy="19047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69"/>
          <p:cNvSpPr/>
          <p:nvPr/>
        </p:nvSpPr>
        <p:spPr>
          <a:xfrm flipH="1">
            <a:off x="6095520" y="2514600"/>
            <a:ext cx="1676520" cy="17524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7315200" y="1676520"/>
            <a:ext cx="152280" cy="15228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8839080" y="4038480"/>
            <a:ext cx="152640" cy="15264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477120" y="1676520"/>
            <a:ext cx="152280" cy="152280"/>
          </a:xfrm>
          <a:prstGeom prst="flowChartConnector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8381880" y="3352680"/>
            <a:ext cx="152640" cy="152640"/>
          </a:xfrm>
          <a:prstGeom prst="flowChartConnector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空心弧 122"/>
          <p:cNvSpPr/>
          <p:nvPr/>
        </p:nvSpPr>
        <p:spPr>
          <a:xfrm rot="800400">
            <a:off x="6040080" y="3714840"/>
            <a:ext cx="519120" cy="23976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24"/>
          <p:cNvSpPr/>
          <p:nvPr/>
        </p:nvSpPr>
        <p:spPr>
          <a:xfrm flipH="1">
            <a:off x="6095880" y="1752480"/>
            <a:ext cx="457200" cy="2438640"/>
          </a:xfrm>
          <a:prstGeom prst="line">
            <a:avLst/>
          </a:prstGeom>
          <a:ln w="507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39"/>
          <p:cNvSpPr/>
          <p:nvPr/>
        </p:nvSpPr>
        <p:spPr>
          <a:xfrm flipV="1">
            <a:off x="6095880" y="3428640"/>
            <a:ext cx="2362320" cy="762120"/>
          </a:xfrm>
          <a:prstGeom prst="line">
            <a:avLst/>
          </a:prstGeom>
          <a:ln w="507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47"/>
          <p:cNvSpPr/>
          <p:nvPr/>
        </p:nvSpPr>
        <p:spPr>
          <a:xfrm flipH="1">
            <a:off x="6041520" y="1806480"/>
            <a:ext cx="1295640" cy="2438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59"/>
          <p:cNvSpPr/>
          <p:nvPr/>
        </p:nvSpPr>
        <p:spPr>
          <a:xfrm flipV="1">
            <a:off x="6019200" y="4168800"/>
            <a:ext cx="2949480" cy="22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空心弧 170"/>
          <p:cNvSpPr/>
          <p:nvPr/>
        </p:nvSpPr>
        <p:spPr>
          <a:xfrm rot="3022200">
            <a:off x="6254280" y="3795840"/>
            <a:ext cx="714240" cy="244440"/>
          </a:xfrm>
          <a:prstGeom prst="pie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空心弧 171"/>
          <p:cNvSpPr/>
          <p:nvPr/>
        </p:nvSpPr>
        <p:spPr>
          <a:xfrm rot="2010000">
            <a:off x="6225840" y="3475080"/>
            <a:ext cx="849240" cy="293760"/>
          </a:xfrm>
          <a:prstGeom prst="pie">
            <a:avLst/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17524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黑体"/>
              </a:rPr>
              <a:t>对应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黑体"/>
              </a:rPr>
              <a:t>旋转中心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的距离相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259092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黑体"/>
              </a:rPr>
              <a:t>每对对应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黑体"/>
              </a:rPr>
              <a:t>旋转中心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的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线所成的角度都是相等的角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它们都等于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黑体"/>
              </a:rPr>
              <a:t>旋转角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0"/>
          <p:cNvSpPr/>
          <p:nvPr/>
        </p:nvSpPr>
        <p:spPr>
          <a:xfrm>
            <a:off x="3552120" y="14760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二、旋转的性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34"/>
          <p:cNvSpPr txBox="1"/>
          <p:nvPr/>
        </p:nvSpPr>
        <p:spPr>
          <a:xfrm>
            <a:off x="0" y="44280"/>
            <a:ext cx="13572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评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99" name="组合 48"/>
          <p:cNvGrpSpPr/>
          <p:nvPr/>
        </p:nvGrpSpPr>
        <p:grpSpPr>
          <a:xfrm>
            <a:off x="5867280" y="2743200"/>
            <a:ext cx="228600" cy="77760"/>
            <a:chOff x="5867280" y="2743200"/>
            <a:chExt cx="228600" cy="77760"/>
          </a:xfrm>
        </p:grpSpPr>
        <p:sp>
          <p:nvSpPr>
            <p:cNvPr id="200" name="直接连接符 49"/>
            <p:cNvSpPr/>
            <p:nvPr/>
          </p:nvSpPr>
          <p:spPr>
            <a:xfrm>
              <a:off x="5867280" y="2743200"/>
              <a:ext cx="2286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50"/>
            <p:cNvSpPr/>
            <p:nvPr/>
          </p:nvSpPr>
          <p:spPr>
            <a:xfrm>
              <a:off x="5867280" y="2819520"/>
              <a:ext cx="2286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65"/>
          <p:cNvGrpSpPr/>
          <p:nvPr/>
        </p:nvGrpSpPr>
        <p:grpSpPr>
          <a:xfrm>
            <a:off x="7390800" y="3124080"/>
            <a:ext cx="228240" cy="304920"/>
            <a:chOff x="7390800" y="3124080"/>
            <a:chExt cx="228240" cy="304920"/>
          </a:xfrm>
        </p:grpSpPr>
        <p:sp>
          <p:nvSpPr>
            <p:cNvPr id="203" name="直接连接符 52"/>
            <p:cNvSpPr/>
            <p:nvPr/>
          </p:nvSpPr>
          <p:spPr>
            <a:xfrm>
              <a:off x="7466760" y="3124080"/>
              <a:ext cx="152280" cy="2289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64"/>
            <p:cNvSpPr/>
            <p:nvPr/>
          </p:nvSpPr>
          <p:spPr>
            <a:xfrm>
              <a:off x="7390800" y="3200400"/>
              <a:ext cx="152280" cy="2286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352000" y="30481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219320" y="44197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关键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181480" y="4419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整个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右箭头 6"/>
          <p:cNvSpPr/>
          <p:nvPr/>
        </p:nvSpPr>
        <p:spPr>
          <a:xfrm>
            <a:off x="3276720" y="5638680"/>
            <a:ext cx="18288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3ebff"/>
          </a:solidFill>
          <a:ln w="25560">
            <a:solidFill>
              <a:srgbClr val="385d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752480" y="53341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257800" y="54100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右箭头 9"/>
          <p:cNvSpPr/>
          <p:nvPr/>
        </p:nvSpPr>
        <p:spPr>
          <a:xfrm>
            <a:off x="3276720" y="4724280"/>
            <a:ext cx="18288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3ebff"/>
          </a:solidFill>
          <a:ln w="25560">
            <a:solidFill>
              <a:srgbClr val="385d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143000" y="60958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隶书"/>
                <a:ea typeface="隶书"/>
              </a:rPr>
              <a:t>（特殊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648320" y="60958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隶书"/>
                <a:ea typeface="隶书"/>
              </a:rPr>
              <a:t>（一般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34"/>
          <p:cNvSpPr txBox="1"/>
          <p:nvPr/>
        </p:nvSpPr>
        <p:spPr>
          <a:xfrm>
            <a:off x="0" y="44280"/>
            <a:ext cx="13572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评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3242520" y="14760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三、旋转作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380880" y="1371600"/>
            <a:ext cx="821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旋转作图的一般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确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寻找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画对应点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依原图形，连接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057400" y="1981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旋转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316560" y="1981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旋转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039840" y="2590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关键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716360" y="388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对应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255560" y="1981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旋转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276720" y="3276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648320" y="3276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找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67280" y="3276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取相等的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2562120" y="9907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结合下列步骤整理提纲的尺规作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34"/>
          <p:cNvSpPr txBox="1"/>
          <p:nvPr/>
        </p:nvSpPr>
        <p:spPr>
          <a:xfrm>
            <a:off x="0" y="44280"/>
            <a:ext cx="13572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检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0880" y="1981080"/>
            <a:ext cx="821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旋转作图的一般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确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寻找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画对应点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依原图形，连接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057400" y="2590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旋转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316560" y="2590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旋转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039840" y="3200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关键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4716360" y="4495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对应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255560" y="2590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旋转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276720" y="38862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48320" y="3886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找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867280" y="3886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取相等的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导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5" name="Picture 2" descr="E:\学习资料\2015\第二章\旋转图片\t01e0aef2ea7d391b8b.gif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601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80880" y="1295280"/>
            <a:ext cx="477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是正方形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内一点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△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ABE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绕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点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顺时针方向旋转到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△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CBF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其中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EB=3cm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则  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BF=_______cm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∠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EBF=_____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3033720" cy="4391280"/>
          </a:xfrm>
          <a:prstGeom prst="rect">
            <a:avLst/>
          </a:prstGeom>
          <a:ln w="0">
            <a:noFill/>
          </a:ln>
        </p:spPr>
      </p:pic>
      <p:sp>
        <p:nvSpPr>
          <p:cNvPr id="238" name="Line 5"/>
          <p:cNvSpPr/>
          <p:nvPr/>
        </p:nvSpPr>
        <p:spPr>
          <a:xfrm>
            <a:off x="6732720" y="2492280"/>
            <a:ext cx="1008000" cy="2521080"/>
          </a:xfrm>
          <a:prstGeom prst="line">
            <a:avLst/>
          </a:prstGeom>
          <a:ln w="57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6659640" y="2492280"/>
            <a:ext cx="1081080" cy="2449440"/>
          </a:xfrm>
          <a:prstGeom prst="line">
            <a:avLst/>
          </a:prstGeom>
          <a:ln w="763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6012000" y="4292640"/>
            <a:ext cx="2305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34"/>
          <p:cNvSpPr txBox="1"/>
          <p:nvPr/>
        </p:nvSpPr>
        <p:spPr>
          <a:xfrm>
            <a:off x="0" y="44280"/>
            <a:ext cx="13572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检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2" name="Text Box 40"/>
          <p:cNvSpPr/>
          <p:nvPr/>
        </p:nvSpPr>
        <p:spPr>
          <a:xfrm>
            <a:off x="3174480" y="228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走进中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0"/>
          <p:cNvSpPr/>
          <p:nvPr/>
        </p:nvSpPr>
        <p:spPr>
          <a:xfrm>
            <a:off x="1831680" y="36576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2213640" y="4267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导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7" name="Picture 3" descr="E:\学习资料\2015\第二章\旋转图片\t01c3b261b9982eeb04.gif"/>
          <p:cNvPicPr/>
          <p:nvPr/>
        </p:nvPicPr>
        <p:blipFill>
          <a:blip r:embed="rId1"/>
          <a:stretch/>
        </p:blipFill>
        <p:spPr>
          <a:xfrm>
            <a:off x="1371600" y="609480"/>
            <a:ext cx="5715000" cy="511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秋千"/>
          <p:cNvPicPr/>
          <p:nvPr/>
        </p:nvPicPr>
        <p:blipFill>
          <a:blip r:embed="rId1"/>
          <a:stretch/>
        </p:blipFill>
        <p:spPr>
          <a:xfrm>
            <a:off x="1600200" y="533520"/>
            <a:ext cx="7705800" cy="5589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984320" y="32446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导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1" name="Picture 6" descr="E:\学习资料\2015\第二章\旋转图片\t01a07cb801b444cea3.gif"/>
          <p:cNvPicPr/>
          <p:nvPr/>
        </p:nvPicPr>
        <p:blipFill>
          <a:blip r:embed="rId2"/>
          <a:stretch/>
        </p:blipFill>
        <p:spPr>
          <a:xfrm>
            <a:off x="228600" y="1600200"/>
            <a:ext cx="3124080" cy="299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导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3" name="Picture 2" descr="E:\学习资料\2015\第二章\旋转图片\t01e0aef2ea7d391b8b.gif"/>
          <p:cNvPicPr/>
          <p:nvPr/>
        </p:nvPicPr>
        <p:blipFill>
          <a:blip r:embed="rId1"/>
          <a:stretch/>
        </p:blipFill>
        <p:spPr>
          <a:xfrm>
            <a:off x="4495680" y="0"/>
            <a:ext cx="3981600" cy="3276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秋千"/>
          <p:cNvPicPr/>
          <p:nvPr/>
        </p:nvPicPr>
        <p:blipFill>
          <a:blip r:embed="rId2"/>
          <a:stretch/>
        </p:blipFill>
        <p:spPr>
          <a:xfrm>
            <a:off x="3200400" y="3265560"/>
            <a:ext cx="4952880" cy="35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E:\学习资料\2015\第二章\旋转图片\t01a07cb801b444cea3.gif"/>
          <p:cNvPicPr/>
          <p:nvPr/>
        </p:nvPicPr>
        <p:blipFill>
          <a:blip r:embed="rId3"/>
          <a:stretch/>
        </p:blipFill>
        <p:spPr>
          <a:xfrm>
            <a:off x="1066680" y="3809880"/>
            <a:ext cx="2849760" cy="259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学习资料\2015\第二章\旋转图片\t01c3b261b9982eeb04.gif"/>
          <p:cNvPicPr/>
          <p:nvPr/>
        </p:nvPicPr>
        <p:blipFill>
          <a:blip r:embed="rId4"/>
          <a:stretch/>
        </p:blipFill>
        <p:spPr>
          <a:xfrm>
            <a:off x="685800" y="380880"/>
            <a:ext cx="331776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jd3"/>
          <p:cNvPicPr/>
          <p:nvPr/>
        </p:nvPicPr>
        <p:blipFill>
          <a:blip r:embed="rId1"/>
          <a:stretch/>
        </p:blipFill>
        <p:spPr>
          <a:xfrm>
            <a:off x="5257800" y="533520"/>
            <a:ext cx="2666880" cy="25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LOCK__4"/>
          <p:cNvPicPr/>
          <p:nvPr/>
        </p:nvPicPr>
        <p:blipFill>
          <a:blip r:embed="rId2"/>
          <a:stretch/>
        </p:blipFill>
        <p:spPr>
          <a:xfrm>
            <a:off x="1295280" y="6858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导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0" name="Picture 4" descr="EARTH"/>
          <p:cNvPicPr/>
          <p:nvPr/>
        </p:nvPicPr>
        <p:blipFill>
          <a:blip r:embed="rId3"/>
          <a:stretch/>
        </p:blipFill>
        <p:spPr>
          <a:xfrm>
            <a:off x="4419720" y="3657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:\学习资料\2015\第二章\旋转图片\t0104744548cc9c70a6.gif"/>
          <p:cNvPicPr/>
          <p:nvPr/>
        </p:nvPicPr>
        <p:blipFill>
          <a:blip r:embed="rId4"/>
          <a:stretch/>
        </p:blipFill>
        <p:spPr>
          <a:xfrm>
            <a:off x="533520" y="3429000"/>
            <a:ext cx="3809880" cy="26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1523880" y="297180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平面图形的旋转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3" name="Picture 3" descr="c3"/>
          <p:cNvPicPr/>
          <p:nvPr/>
        </p:nvPicPr>
        <p:blipFill>
          <a:blip r:embed="rId1"/>
          <a:stretch/>
        </p:blipFill>
        <p:spPr>
          <a:xfrm>
            <a:off x="304920" y="304920"/>
            <a:ext cx="2894040" cy="173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n2"/>
          <p:cNvPicPr/>
          <p:nvPr/>
        </p:nvPicPr>
        <p:blipFill>
          <a:blip r:embed="rId2"/>
          <a:stretch/>
        </p:blipFill>
        <p:spPr>
          <a:xfrm>
            <a:off x="6649920" y="4572000"/>
            <a:ext cx="2059200" cy="20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8"/>
          <p:cNvSpPr txBox="1"/>
          <p:nvPr/>
        </p:nvSpPr>
        <p:spPr>
          <a:xfrm>
            <a:off x="0" y="0"/>
            <a:ext cx="1285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导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778320"/>
            <a:ext cx="102106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的概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并能指出旋转中心、旋转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归纳总结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的性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并熟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按要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单平面图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后的图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02:10:20Z</dcterms:created>
  <dc:creator>lx</dc:creator>
  <dc:description/>
  <cp:keywords/>
  <dc:language>en-US</dc:language>
  <cp:lastModifiedBy>yhy</cp:lastModifiedBy>
  <dcterms:modified xsi:type="dcterms:W3CDTF">2015-10-16T02:45:49Z</dcterms:modified>
  <cp:revision>1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