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27.jpeg" ContentType="image/jpeg"/>
  <Override PartName="/ppt/media/image29.wmf" ContentType="image/x-wmf"/>
  <Override PartName="/ppt/media/image31.wmf" ContentType="image/x-wmf"/>
  <Override PartName="/ppt/media/image30.wmf" ContentType="image/x-wmf"/>
  <Override PartName="/ppt/media/image12.png" ContentType="image/png"/>
  <Override PartName="/ppt/media/image7.wmf" ContentType="image/x-wmf"/>
  <Override PartName="/ppt/media/image34.jpeg" ContentType="image/jpeg"/>
  <Override PartName="/ppt/media/image37.png" ContentType="image/png"/>
  <Override PartName="/ppt/media/image38.png" ContentType="image/png"/>
  <Override PartName="/ppt/media/image9.wmf" ContentType="image/x-wmf"/>
  <Override PartName="/ppt/media/image26.wmf" ContentType="image/x-wmf"/>
  <Override PartName="/ppt/media/image39.png" ContentType="image/png"/>
  <Override PartName="/ppt/media/image33.wmf" ContentType="image/x-wmf"/>
  <Override PartName="/ppt/media/image40.jpeg" ContentType="image/jpeg"/>
  <Override PartName="/ppt/media/image32.wmf" ContentType="image/x-wmf"/>
  <Override PartName="/ppt/media/chimes.wav" ContentType="audio/x-wav"/>
  <Override PartName="/ppt/media/image36.png" ContentType="image/png"/>
  <Override PartName="/ppt/media/image6.png" ContentType="image/png"/>
  <Override PartName="/ppt/media/image14.wmf" ContentType="image/x-wmf"/>
  <Override PartName="/ppt/media/breeze.wav" ContentType="audio/x-wav"/>
  <Override PartName="/ppt/media/camera.wav" ContentType="audio/x-wav"/>
  <Override PartName="/ppt/media/laser.wav" ContentType="audio/x-wav"/>
  <Override PartName="/ppt/media/image8.wmf" ContentType="image/x-wmf"/>
  <Override PartName="/ppt/media/image4.jpeg" ContentType="image/jpeg"/>
  <Override PartName="/ppt/media/image10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35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507E-8174-4ED2-BA99-15A9128E2C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B7D-8EAE-41A6-A120-5F607442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632-DE35-4802-8996-12057EE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0B7-C06B-42C5-AAAF-FFAB1FF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944-2763-45E1-8A30-020C1338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EB2-B709-4602-BAC2-975D7B11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D26E-974B-45E1-B732-CA23AEB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3624-B12B-4454-973B-01E07743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09A1-BA6C-4F3F-AE80-B8C127AE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C688-EF4D-439A-955C-79F9C34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5C3-F420-42FB-9552-251B33EF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9418-75A7-41BE-9D36-BD5D41B6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E028-9CFA-4F9B-B3BA-B6301FF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EF7-830D-4802-BEF4-3DB99CD5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B060-F697-4DA6-9CA4-34E3309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5B6B-300E-42D6-BF86-CE72E813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AF1F-DF5A-4A74-97F1-4BAB4D3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15BA-8EA0-4534-BDAB-7C78C0B3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9552-5B1A-4696-969F-14CBAF77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FD1F-FAE4-4C38-B4E3-1FA93A5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0A72-0370-4EE4-861E-27A8164A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D0535-2589-454B-9A77-1DC3F6D2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B118-3EFB-493F-9758-5AE699ED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19EE-C6D2-4364-8661-92C5E7C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5B8-DAA1-40BC-9A1A-13D1945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E52B-3AB0-4E94-A437-ECF83836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E0E4-6F89-422A-8EA2-8F1F585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15F3-BEE0-473E-A9C0-E5315149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4C79-FE76-4163-A59B-9A91514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37949-0E58-4E79-A932-D48B99F0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06A9-BF91-40C8-B50C-A9321B6E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9BAD-18D5-488A-A518-16C7E9C1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550E-6CC8-47C6-9DBC-8478A1DD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BFAA-EFC8-4BD3-A561-2593D04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73AD-5C83-4EC0-BC01-FB43E8E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941-7758-41E5-87C5-C4E8AD4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67613-D516-4C2A-9EB8-DC9E4B89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7CAF-4121-48F9-B62B-6867B0E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B20D-94D1-4594-8CCE-C96AA16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E49C-0542-4322-A825-391D15F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2613-4154-499C-BBE4-2A54BC45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6AA6-B010-4905-A892-15D53812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7DBF-9331-4CF5-B02E-216CCE53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75FF-0999-44DF-9042-00745A0A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FEC7-78F7-47C2-9869-3E4D361B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1027E-DB9B-4490-AF75-660F303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1E8-992A-43BC-833A-5B0EB6E9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56F4A-AE16-4534-A33A-227691A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DDF4-B01B-4904-9DB6-91C8B565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D048-4B7D-4F8B-B2E4-BF37E94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2030-116C-4A08-AF2B-62F3DF4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3C5B-E795-4DA7-8780-EF380379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FDB63-2923-4FCC-96FF-EEBC31B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898D7-FDED-41EE-8215-67184DE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06B17-4E8D-4C15-B520-B8C3438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B782-98C2-4A07-9D41-F0E64C7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4BA7-EBD4-4092-8279-F602876A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F9C-4826-4685-9E01-C2DCA97A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5225-2C69-4A23-A987-C1A62D93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9BCB5-4902-4679-9B26-DE7660C4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E681-002E-4AEE-8E18-47F58652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F4ED3-7ABF-4C2C-97FA-FB3CD740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D452D-0642-4F9E-80B9-DE23CCC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6D7A-C096-4294-8E17-21BDC6C4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628E-5677-42FC-BB48-BA2C95BB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AA2FD-250C-47D3-AA89-0E33BBD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49C05-3D39-4CCE-850D-7AB51CA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5B0E-33A3-42CF-AD49-8565ADF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8B4-0E46-40CF-850D-EA3C4CC4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5B7A-B147-4E8B-B80D-81C758F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7D4A-D590-4642-8296-A67FD87E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0E19-6711-4163-B39B-95D3BBE1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D0394-7599-421C-9805-6639CE4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B978-01A7-4F0C-BE57-61D9D38F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E0895-4146-46E8-AC16-750711E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AF8E-A28F-41C8-9FDC-6C88F3C4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4BD3D-61AD-40B5-BDCA-32249BE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76C8-261A-4779-86C7-37F2C3A1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09588-AA6A-4B19-AD47-913E240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202-7CFB-44D8-8E57-9E1FCDD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4E59-9024-4AA0-837A-9BC45C9F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3478-C546-4521-8CF8-73D976F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3583-ECA6-4322-A159-82D8C2F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ED3B-3E79-4BB6-B2D1-BBBBD328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2BA1-558A-4B82-AB14-0554186A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EE6-E7EF-425C-95E8-C8B7CBF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11F-809E-4BD7-B20E-9D3B05548E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6BE-3DED-4955-9AC3-9A05678E08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8FF3-8E9A-413D-9328-772B3589CD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54F-84F2-496F-A21F-CC295FA171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8F3D-0348-4901-B5C3-B409CFBD7C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E977-6A90-4839-9EED-8638FE4C3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D80C-6FCA-4666-B08B-FB5F146783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5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9047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</a:rPr>
              <a:t>3.2.2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</a:rPr>
              <a:t>解一元一次方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114800" y="297144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移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6477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河南信阳浉河中学   汪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2282760" y="1981080"/>
            <a:ext cx="68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未知数：设这个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57200" y="42670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找相等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批书的总数是一个定值，表示它的两个等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457200" y="5257800"/>
            <a:ext cx="795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 = 4x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10"/>
          <p:cNvSpPr txBox="1"/>
          <p:nvPr/>
        </p:nvSpPr>
        <p:spPr>
          <a:xfrm>
            <a:off x="0" y="20574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析问题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6094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一些图书分给某班学生阅读，如果每人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，则剩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；如果每人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，则还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班有多少学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1752480" y="25146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共分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加上剩余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这批书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1752480" y="33526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人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减去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批书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3331440" y="289548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4724280" y="3352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255120" y="37339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2057400" y="11430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+20=4x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057400" y="2438280"/>
            <a:ext cx="2819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-4x=-25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743200" y="3733920"/>
            <a:ext cx="14479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x=-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2819520" y="5029200"/>
            <a:ext cx="1295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342900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34290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342900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58128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3048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358128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数化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457200" y="4572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的框图表示了解这个方程的具体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380880" y="103536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个班的同学去划船，他们算了一下，如果增加一条船，正好每条船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如果减少一条船 ，正每条船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，问：这个班共多少同学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5"/>
          <p:cNvSpPr txBox="1"/>
          <p:nvPr/>
        </p:nvSpPr>
        <p:spPr>
          <a:xfrm>
            <a:off x="152280" y="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综合应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838080" y="2133720"/>
            <a:ext cx="7772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解法一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船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条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(x+1)=9(x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+6=9X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X-9X=-9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3X=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得出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× (5+1)=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这个班共有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0880" y="12636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班的同学去划船，他们算了一下，如果增加一条船，正好每条船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如果减少一条船 ，正每条船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，问：这个班共多少同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7"/>
          <p:cNvGrpSpPr/>
          <p:nvPr/>
        </p:nvGrpSpPr>
        <p:grpSpPr>
          <a:xfrm>
            <a:off x="990720" y="2971800"/>
            <a:ext cx="7772400" cy="2466720"/>
            <a:chOff x="990720" y="2971800"/>
            <a:chExt cx="7772400" cy="2466720"/>
          </a:xfrm>
        </p:grpSpPr>
        <p:sp>
          <p:nvSpPr>
            <p:cNvPr id="455" name="Text Box 4"/>
            <p:cNvSpPr/>
            <p:nvPr/>
          </p:nvSpPr>
          <p:spPr>
            <a:xfrm>
              <a:off x="990720" y="2971800"/>
              <a:ext cx="77724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解法二：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设这个班共有同学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得出 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x=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答：这个班共有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36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6" name="Object 6"/>
            <p:cNvGraphicFramePr/>
            <p:nvPr/>
          </p:nvGraphicFramePr>
          <p:xfrm>
            <a:off x="1066680" y="3429000"/>
            <a:ext cx="1905120" cy="96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6680" y="3429000"/>
                      <a:ext cx="190512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85800" y="914400"/>
            <a:ext cx="79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淮安中考）小明根据方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x+2=6x-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编写了一道应用题．请你把空缺的部分补充完整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某手工小组计划教师节前做一批手工品赠给老师，如果每人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，那么就比计划少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；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请问手工小组有几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手工小组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每人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，那么就比计划多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每人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，那么就比计划多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762120" y="12193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7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移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简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80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慧眼找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49240" y="1981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2057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确答案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544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38098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正确答案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y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5105520"/>
            <a:ext cx="701064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化简多项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换两项位置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不改变项的符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解方程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移项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时必须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改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的符号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18288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9000" y="32767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457200"/>
            <a:ext cx="1143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611280" y="5638680"/>
          <a:ext cx="2590560" cy="5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5638680"/>
                    <a:ext cx="259056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304920" y="380880"/>
            <a:ext cx="419076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5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1295280"/>
            <a:ext cx="291492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25520" y="19810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59092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30440" y="312408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30800" y="43434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49528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4267080" y="5715000"/>
          <a:ext cx="274320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67080" y="5715000"/>
                    <a:ext cx="2743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4114800" y="1295280"/>
            <a:ext cx="144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43400" y="1371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边都加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3800" y="1981080"/>
            <a:ext cx="14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9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251460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6960" y="30481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3505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21360" y="39625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移项实际上是利用等式的性质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但是解题步骤更为简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447920" y="1447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479760" y="1484280"/>
                <a:ext cx="28735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1447920" y="3200400"/>
            <a:ext cx="5410080" cy="1466640"/>
            <a:chOff x="1447920" y="3200400"/>
            <a:chExt cx="5410080" cy="1466640"/>
          </a:xfrm>
        </p:grpSpPr>
        <p:sp>
          <p:nvSpPr>
            <p:cNvPr id="492" name=""/>
            <p:cNvSpPr/>
            <p:nvPr/>
          </p:nvSpPr>
          <p:spPr>
            <a:xfrm>
              <a:off x="1457280" y="3200400"/>
              <a:ext cx="2514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与思考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47920" y="414648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移项时需要移哪些项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未知"/>
          <p:cNvSpPr/>
          <p:nvPr/>
        </p:nvSpPr>
        <p:spPr>
          <a:xfrm rot="21394800">
            <a:off x="4191120" y="2088720"/>
            <a:ext cx="1981080" cy="53352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480" y="48"/>
                </a:moveTo>
                <a:cubicBezTo>
                  <a:pt x="472" y="84"/>
                  <a:pt x="464" y="120"/>
                  <a:pt x="432" y="144"/>
                </a:cubicBezTo>
                <a:cubicBezTo>
                  <a:pt x="400" y="168"/>
                  <a:pt x="344" y="192"/>
                  <a:pt x="288" y="192"/>
                </a:cubicBezTo>
                <a:cubicBezTo>
                  <a:pt x="232" y="192"/>
                  <a:pt x="144" y="176"/>
                  <a:pt x="96" y="144"/>
                </a:cubicBezTo>
                <a:cubicBezTo>
                  <a:pt x="48" y="112"/>
                  <a:pt x="24" y="5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4343400" y="838080"/>
            <a:ext cx="1981080" cy="457200"/>
          </a:xfrm>
          <a:custGeom>
            <a:avLst/>
            <a:gdLst/>
            <a:ahLst/>
            <a:rect l="l" t="t" r="r" b="b"/>
            <a:pathLst>
              <a:path w="816" h="152">
                <a:moveTo>
                  <a:pt x="0" y="152"/>
                </a:moveTo>
                <a:cubicBezTo>
                  <a:pt x="24" y="116"/>
                  <a:pt x="48" y="80"/>
                  <a:pt x="96" y="56"/>
                </a:cubicBezTo>
                <a:cubicBezTo>
                  <a:pt x="144" y="32"/>
                  <a:pt x="232" y="16"/>
                  <a:pt x="288" y="8"/>
                </a:cubicBezTo>
                <a:cubicBezTo>
                  <a:pt x="344" y="0"/>
                  <a:pt x="376" y="0"/>
                  <a:pt x="432" y="8"/>
                </a:cubicBezTo>
                <a:cubicBezTo>
                  <a:pt x="488" y="16"/>
                  <a:pt x="560" y="32"/>
                  <a:pt x="624" y="56"/>
                </a:cubicBezTo>
                <a:cubicBezTo>
                  <a:pt x="688" y="80"/>
                  <a:pt x="752" y="116"/>
                  <a:pt x="816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1327320"/>
            <a:ext cx="9907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2520" y="1371600"/>
            <a:ext cx="60948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14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移项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合并同类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981080" y="1676520"/>
                <a:ext cx="3129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01" name=""/>
          <p:cNvGraphicFramePr/>
          <p:nvPr/>
        </p:nvGraphicFramePr>
        <p:xfrm>
          <a:off x="3048120" y="2743200"/>
          <a:ext cx="16239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743200"/>
                    <a:ext cx="1623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3124080" y="3809880"/>
          <a:ext cx="132552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3809880"/>
                    <a:ext cx="13255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57200" y="533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81480" y="2590920"/>
            <a:ext cx="365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一元一次方程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般把含未知数的项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到方程的左边，常数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移到方程的右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819520" y="533520"/>
          <a:ext cx="2970000" cy="51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19520" y="533520"/>
                    <a:ext cx="2970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1600200" y="3276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系数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80880" y="5334120"/>
          <a:ext cx="3276720" cy="5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5334120"/>
                    <a:ext cx="32767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572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4419720" y="5334120"/>
          <a:ext cx="3200400" cy="52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9720" y="5334120"/>
                    <a:ext cx="32004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380880" y="5943600"/>
          <a:ext cx="3353040" cy="577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0880" y="5943600"/>
                    <a:ext cx="33530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4495680" y="6019920"/>
          <a:ext cx="3279960" cy="534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95680" y="6019920"/>
                    <a:ext cx="32799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676520" y="76320"/>
          <a:ext cx="4039920" cy="99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6320"/>
                    <a:ext cx="40399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509040" y="22860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例题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209680" y="1371600"/>
          <a:ext cx="264816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371600"/>
                    <a:ext cx="26481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971800" y="2743200"/>
          <a:ext cx="1192320" cy="490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743200"/>
                    <a:ext cx="11923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3276720" y="3809880"/>
                <a:ext cx="1030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914400" y="914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Verdana"/>
                <a:ea typeface="黑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033640" y="914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移项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23880" y="2209680"/>
            <a:ext cx="28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合并同类项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20240" y="327672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系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228600" y="5257800"/>
          <a:ext cx="4038480" cy="1066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5257800"/>
                    <a:ext cx="4038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5105520" y="5334120"/>
          <a:ext cx="3514680" cy="99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05520" y="5334120"/>
                    <a:ext cx="35146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76320" y="464832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下列一元一次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114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用等式的性质解下列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6320" y="76320"/>
            <a:ext cx="5106600" cy="990360"/>
            <a:chOff x="76320" y="76320"/>
            <a:chExt cx="5106600" cy="990360"/>
          </a:xfrm>
        </p:grpSpPr>
        <p:sp>
          <p:nvSpPr>
            <p:cNvPr id="298" name="AutoShape 5">
              <a:hlinkClick r:id="rId2" action="ppaction://hlinksldjump"/>
            </p:cNvPr>
            <p:cNvSpPr/>
            <p:nvPr/>
          </p:nvSpPr>
          <p:spPr>
            <a:xfrm>
              <a:off x="640440" y="261360"/>
              <a:ext cx="4542480" cy="592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>
              <a:off x="76320" y="76320"/>
              <a:ext cx="952920" cy="990360"/>
            </a:xfrm>
            <a:prstGeom prst="diamond">
              <a:avLst/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7"/>
            <p:cNvSpPr/>
            <p:nvPr/>
          </p:nvSpPr>
          <p:spPr>
            <a:xfrm>
              <a:off x="892800" y="217800"/>
              <a:ext cx="324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习回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89520" y="288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85800" y="2057400"/>
            <a:ext cx="3505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(1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+ 2 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3505320"/>
            <a:ext cx="3505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+ 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2 =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4648320"/>
            <a:ext cx="1955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289548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边都减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29200" y="2209680"/>
            <a:ext cx="3276720" cy="703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等式的性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114800"/>
            <a:ext cx="378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并同类项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21337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673800"/>
            <a:ext cx="3810240" cy="165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即：等式两边都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加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或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减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同一个数或同一个整式，所得结果仍是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609480" y="12952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一般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方程中的某些项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改变符号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方程的一边移到另一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种变形叫做移项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4724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项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改变符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106668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解一元一次方程需要移项时我们把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含未知数的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（通常移到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左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数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另一边（通常移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右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609480"/>
            <a:ext cx="43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节课我们学习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143000" y="14479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移项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  <p:sp>
        <p:nvSpPr>
          <p:cNvPr id="541" name=""/>
          <p:cNvSpPr/>
          <p:nvPr/>
        </p:nvSpPr>
        <p:spPr>
          <a:xfrm>
            <a:off x="2955960" y="46594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14920" y="47354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04920" y="990720"/>
                <a:ext cx="3581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4343400" y="3733920"/>
                <a:ext cx="3657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合并，得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系数化为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，得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915840" y="4343400"/>
            <a:ext cx="1648080" cy="2438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52280" y="3505320"/>
            <a:ext cx="2743200" cy="9396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419720" y="990720"/>
            <a:ext cx="3124080" cy="5666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6320" y="228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练一练：解下列一元一次方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5105520" y="4724280"/>
            <a:ext cx="1447560" cy="20383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990720" y="1447920"/>
            <a:ext cx="1904760" cy="22032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5105520" y="1523880"/>
            <a:ext cx="1981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2860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今天你又学会了解方程的哪些方法？有哪些步聚？每一步的依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514600" y="5867280"/>
            <a:ext cx="7010280" cy="12193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七嘴八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1371600" y="15238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移项（等式的性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合并（分配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数化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等式的性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5410080" y="457200"/>
            <a:ext cx="2590920" cy="1143000"/>
          </a:xfrm>
          <a:prstGeom prst="wedgeRoundRectCallout">
            <a:avLst>
              <a:gd name="adj1" fmla="val -64152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变号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30481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列方程解应用题的步骤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6576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设未知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1520" y="41148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题意找出等量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4572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等量关系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564" name="WordArt 3"/>
          <p:cNvSpPr txBox="1"/>
          <p:nvPr/>
        </p:nvSpPr>
        <p:spPr>
          <a:xfrm>
            <a:off x="1219320" y="1600200"/>
            <a:ext cx="4724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8305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0" y="4618080"/>
            <a:ext cx="2895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53" dur="2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0" fill="hold"/>
                                        <p:tgtEl>
                                          <p:spTgt spid="5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27794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295280" y="2514600"/>
                <a:ext cx="1905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762120" y="1066680"/>
            <a:ext cx="3047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)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  =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4038480"/>
            <a:ext cx="2743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 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Gulim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1905120"/>
            <a:ext cx="4191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边都除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1295280"/>
            <a:ext cx="32763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等式的性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12193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2732400"/>
            <a:ext cx="3886200" cy="17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即：等式两边都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乘或除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一个不等于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数，所得结果仍是等式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4191120" y="990720"/>
            <a:ext cx="3886200" cy="1405080"/>
            <a:chOff x="4191120" y="990720"/>
            <a:chExt cx="3886200" cy="1405080"/>
          </a:xfrm>
        </p:grpSpPr>
        <p:grpSp>
          <p:nvGrpSpPr>
            <p:cNvPr id="318" name=""/>
            <p:cNvGrpSpPr/>
            <p:nvPr/>
          </p:nvGrpSpPr>
          <p:grpSpPr>
            <a:xfrm>
              <a:off x="4191120" y="990720"/>
              <a:ext cx="3403440" cy="459720"/>
              <a:chOff x="4191120" y="990720"/>
              <a:chExt cx="340344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4191120" y="99072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–15  =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47080" y="99072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72200" y="124164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191120" y="1924920"/>
              <a:ext cx="3886200" cy="470880"/>
              <a:chOff x="4191120" y="1924920"/>
              <a:chExt cx="3886200" cy="470880"/>
            </a:xfrm>
          </p:grpSpPr>
          <p:sp>
            <p:nvSpPr>
              <p:cNvPr id="323" name=""/>
              <p:cNvSpPr/>
              <p:nvPr/>
            </p:nvSpPr>
            <p:spPr>
              <a:xfrm>
                <a:off x="4191120" y="19360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4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 = 9 +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7120" y="2189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86600" y="19249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648320" y="1066680"/>
            <a:ext cx="1675800" cy="1295280"/>
            <a:chOff x="4648320" y="1066680"/>
            <a:chExt cx="1675800" cy="1295280"/>
          </a:xfrm>
        </p:grpSpPr>
        <p:grpSp>
          <p:nvGrpSpPr>
            <p:cNvPr id="327" name=""/>
            <p:cNvGrpSpPr/>
            <p:nvPr/>
          </p:nvGrpSpPr>
          <p:grpSpPr>
            <a:xfrm>
              <a:off x="4922640" y="1431720"/>
              <a:ext cx="1226880" cy="465120"/>
              <a:chOff x="4922640" y="1431720"/>
              <a:chExt cx="1226880" cy="465120"/>
            </a:xfrm>
          </p:grpSpPr>
          <p:sp>
            <p:nvSpPr>
              <p:cNvPr id="328" name=""/>
              <p:cNvSpPr/>
              <p:nvPr/>
            </p:nvSpPr>
            <p:spPr>
              <a:xfrm>
                <a:off x="4930200" y="1431720"/>
                <a:ext cx="0" cy="200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22640" y="1633320"/>
                <a:ext cx="12189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49520" y="1631880"/>
                <a:ext cx="0" cy="264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4648320" y="1066680"/>
              <a:ext cx="6091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14640" y="1904760"/>
              <a:ext cx="60948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447920" y="2616120"/>
            <a:ext cx="6172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变形相当于把 ①中的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5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2743200"/>
            <a:ext cx="1828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方程  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2743200"/>
            <a:ext cx="2057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到方程 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3886200"/>
            <a:ext cx="586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项移动后，发生了什么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变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257800"/>
            <a:ext cx="2743200" cy="6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改变了符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38200" y="3098880"/>
            <a:ext cx="6172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从方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左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了方程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右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-66600" y="0"/>
            <a:ext cx="4486320" cy="839880"/>
            <a:chOff x="-66600" y="0"/>
            <a:chExt cx="4486320" cy="839880"/>
          </a:xfrm>
        </p:grpSpPr>
        <p:sp>
          <p:nvSpPr>
            <p:cNvPr id="340" name="AutoShape 5">
              <a:hlinkClick r:id="rId2" action="ppaction://hlinksldjump"/>
            </p:cNvPr>
            <p:cNvSpPr/>
            <p:nvPr/>
          </p:nvSpPr>
          <p:spPr>
            <a:xfrm>
              <a:off x="429120" y="156960"/>
              <a:ext cx="3990600" cy="502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>
              <a:off x="-66600" y="0"/>
              <a:ext cx="837000" cy="839880"/>
            </a:xfrm>
            <a:prstGeom prst="diamond">
              <a:avLst/>
            </a:prstGeom>
            <a:solidFill>
              <a:srgbClr val="99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650520" y="119880"/>
              <a:ext cx="28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讲授新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184680" y="17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648320" y="106668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143000" y="1143000"/>
            <a:ext cx="2971800" cy="1119960"/>
            <a:chOff x="1143000" y="1143000"/>
            <a:chExt cx="2971800" cy="1119960"/>
          </a:xfrm>
        </p:grpSpPr>
        <p:sp>
          <p:nvSpPr>
            <p:cNvPr id="346" name=""/>
            <p:cNvSpPr/>
            <p:nvPr/>
          </p:nvSpPr>
          <p:spPr>
            <a:xfrm>
              <a:off x="1143000" y="114300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15 =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3200" y="1742400"/>
              <a:ext cx="24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  = 9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Motion origin="layout" path="M 0.001679 -0.006578 L 0.00321 0.004041 L 0.00321 0.014661 L 0.00321 0.025279 L 0.00321 0.035986 L 0.00321 0.046605 L 0.00321 0.057223 L 0.010683 0.057223 L 0.018157 0.057223 L 0.02563 0.057223 L 0.034635 0.057223 L 0.042108 0.057223 L 0.049582 0.057223 L 0.058587 0.057223 L 0.06753 0.057223 L 0.075064 0.057223 L 0.082538 0.057223 L 0.090012 0.057223 L 0.097485 0.057223 L 0.104958 0.057223 L 0.112432 0.057223 L 0.115433 0.057223 L 0.116964 0.067843 L 0.116964 0.078462 L 0.116964 0.089081 L 0.116964 0.099787 L 0.116964 0.110406 L 0.116964 0.121026 E">
                                      <p:cBhvr>
                                        <p:cTn id="9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4267080" y="1066680"/>
            <a:ext cx="3886200" cy="1374120"/>
            <a:chOff x="4267080" y="1066680"/>
            <a:chExt cx="3886200" cy="1374120"/>
          </a:xfrm>
        </p:grpSpPr>
        <p:grpSp>
          <p:nvGrpSpPr>
            <p:cNvPr id="349" name=""/>
            <p:cNvGrpSpPr/>
            <p:nvPr/>
          </p:nvGrpSpPr>
          <p:grpSpPr>
            <a:xfrm>
              <a:off x="4343400" y="1066680"/>
              <a:ext cx="3283560" cy="459720"/>
              <a:chOff x="4343400" y="1066680"/>
              <a:chExt cx="3283560" cy="459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3400" y="106668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 21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80920" y="1066680"/>
                <a:ext cx="44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18320" y="1320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267080" y="1969920"/>
              <a:ext cx="3886200" cy="470880"/>
              <a:chOff x="4267080" y="1969920"/>
              <a:chExt cx="3886200" cy="470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267080" y="19810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   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6781680" y="1969920"/>
                <a:ext cx="1371600" cy="459720"/>
                <a:chOff x="6781680" y="1969920"/>
                <a:chExt cx="1371600" cy="45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781680" y="2235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62560" y="1969920"/>
                  <a:ext cx="99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Gulim"/>
                    </a:rPr>
                    <a:t>④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8" name=""/>
          <p:cNvGrpSpPr/>
          <p:nvPr/>
        </p:nvGrpSpPr>
        <p:grpSpPr>
          <a:xfrm>
            <a:off x="4876920" y="990720"/>
            <a:ext cx="1523520" cy="1447560"/>
            <a:chOff x="4876920" y="990720"/>
            <a:chExt cx="1523520" cy="1447560"/>
          </a:xfrm>
        </p:grpSpPr>
        <p:sp>
          <p:nvSpPr>
            <p:cNvPr id="359" name=""/>
            <p:cNvSpPr/>
            <p:nvPr/>
          </p:nvSpPr>
          <p:spPr>
            <a:xfrm>
              <a:off x="5715000" y="990720"/>
              <a:ext cx="685440" cy="533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6920" y="1981080"/>
              <a:ext cx="64764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200560" y="1523880"/>
              <a:ext cx="727920" cy="380880"/>
              <a:chOff x="5200560" y="1523880"/>
              <a:chExt cx="727920" cy="380880"/>
            </a:xfrm>
          </p:grpSpPr>
          <p:sp>
            <p:nvSpPr>
              <p:cNvPr id="362" name=""/>
              <p:cNvSpPr/>
              <p:nvPr/>
            </p:nvSpPr>
            <p:spPr>
              <a:xfrm>
                <a:off x="5928480" y="1523880"/>
                <a:ext cx="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5200560" y="1676160"/>
                <a:ext cx="727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00560" y="167616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1752480" y="2819520"/>
            <a:ext cx="6172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变形相当于把 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的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一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73400" y="2959200"/>
            <a:ext cx="1828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方程 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20960" y="2959200"/>
            <a:ext cx="2057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到方程 ④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39880" y="4254480"/>
            <a:ext cx="5943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项移动后发生了什么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变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4952880"/>
            <a:ext cx="2819520" cy="6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改变了符号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39880" y="3279600"/>
            <a:ext cx="61722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从方程的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右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移到了方程的左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91320" y="1066680"/>
            <a:ext cx="533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38080" y="1092240"/>
            <a:ext cx="3276720" cy="1312200"/>
            <a:chOff x="838080" y="1092240"/>
            <a:chExt cx="3276720" cy="1312200"/>
          </a:xfrm>
        </p:grpSpPr>
        <p:sp>
          <p:nvSpPr>
            <p:cNvPr id="373" name=""/>
            <p:cNvSpPr/>
            <p:nvPr/>
          </p:nvSpPr>
          <p:spPr>
            <a:xfrm>
              <a:off x="838080" y="1092240"/>
              <a:ext cx="32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Gulim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= 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4400" y="1457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14400" y="990720"/>
            <a:ext cx="304812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Motion origin="layout" path="M -0.004648 -0.006662 L -0.004648 0.005452 L -0.004648 0.017567 L -0.004648 0.02968 L -0.004648 0.041894 L -0.004648 0.054008 L -0.004648 0.061256 L -0.012493 0.058873 L -0.020337 0.056391 L -0.028183 0.056391 L -0.036029 0.056391 L -0.043873 0.056391 L -0.051783 0.056391 L -0.05963 0.056391 L -0.067474 0.056391 L -0.075319 0.056391 L -0.083166 0.056391 L -0.09101 0.056391 L -0.095768 0.056391 L -0.094162 0.068506 L -0.094162 0.080717 L -0.094162 0.092832 L -0.094162 0.104946 L -0.094162 0.11706 L -0.095768 0.129175 L -0.095768 0.141288 L -0.092618 0.136521 E">
                                      <p:cBhvr>
                                        <p:cTn id="128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371600" y="7621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把方程中的某些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改变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后，从方程的一边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移到另一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移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20000">
            <a:off x="76320" y="75960"/>
            <a:ext cx="1752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724280" y="2743200"/>
            <a:ext cx="2895480" cy="1374120"/>
            <a:chOff x="4724280" y="2743200"/>
            <a:chExt cx="2895480" cy="1374120"/>
          </a:xfrm>
        </p:grpSpPr>
        <p:grpSp>
          <p:nvGrpSpPr>
            <p:cNvPr id="379" name=""/>
            <p:cNvGrpSpPr/>
            <p:nvPr/>
          </p:nvGrpSpPr>
          <p:grpSpPr>
            <a:xfrm>
              <a:off x="5333760" y="2743200"/>
              <a:ext cx="1219320" cy="1371600"/>
              <a:chOff x="5333760" y="2743200"/>
              <a:chExt cx="1219320" cy="1371600"/>
            </a:xfrm>
          </p:grpSpPr>
          <p:sp>
            <p:nvSpPr>
              <p:cNvPr id="380" name=""/>
              <p:cNvSpPr/>
              <p:nvPr/>
            </p:nvSpPr>
            <p:spPr>
              <a:xfrm>
                <a:off x="6171840" y="2743200"/>
                <a:ext cx="38124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3760" y="365760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5638320" y="3200400"/>
                <a:ext cx="686160" cy="380880"/>
                <a:chOff x="5638320" y="3200400"/>
                <a:chExt cx="686160" cy="380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324480" y="3200400"/>
                  <a:ext cx="0" cy="152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5638320" y="3352680"/>
                  <a:ext cx="6858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638680" y="335268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4724280" y="2743200"/>
              <a:ext cx="2895480" cy="1374120"/>
              <a:chOff x="4724280" y="2743200"/>
              <a:chExt cx="2895480" cy="1374120"/>
            </a:xfrm>
          </p:grpSpPr>
          <p:sp>
            <p:nvSpPr>
              <p:cNvPr id="387" name=""/>
              <p:cNvSpPr/>
              <p:nvPr/>
            </p:nvSpPr>
            <p:spPr>
              <a:xfrm>
                <a:off x="4800600" y="274320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24280" y="365760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2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–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Gulim"/>
                  </a:rPr>
                  <a:t>=     –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1219320" y="2666880"/>
            <a:ext cx="2895480" cy="1404360"/>
            <a:chOff x="1219320" y="2666880"/>
            <a:chExt cx="2895480" cy="1404360"/>
          </a:xfrm>
        </p:grpSpPr>
        <p:sp>
          <p:nvSpPr>
            <p:cNvPr id="390" name=""/>
            <p:cNvSpPr/>
            <p:nvPr/>
          </p:nvSpPr>
          <p:spPr>
            <a:xfrm>
              <a:off x="1219320" y="26668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–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19320" y="3611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4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= 9 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676520" y="2743200"/>
              <a:ext cx="1676520" cy="1295280"/>
              <a:chOff x="1676520" y="2743200"/>
              <a:chExt cx="1676520" cy="129528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951200" y="3108240"/>
                <a:ext cx="1227240" cy="465120"/>
                <a:chOff x="1951200" y="3108240"/>
                <a:chExt cx="1227240" cy="465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959120" y="3108240"/>
                  <a:ext cx="0" cy="200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951200" y="3309840"/>
                  <a:ext cx="12193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178440" y="3308400"/>
                  <a:ext cx="0" cy="2649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1676520" y="2743200"/>
                <a:ext cx="609480" cy="380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43200" y="3581280"/>
                <a:ext cx="60984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1066680" y="2819520"/>
            <a:ext cx="152640" cy="1218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48320" y="28954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19720"/>
            <a:ext cx="22860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移项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所有含有未知数的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，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所有常数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到方程的一边。一般地，把含有未知数的项移到方程的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左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常数项移到方程的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右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1905120"/>
            <a:ext cx="2970360" cy="1066680"/>
          </a:xfrm>
          <a:prstGeom prst="cloudCallout">
            <a:avLst>
              <a:gd name="adj1" fmla="val -44361"/>
              <a:gd name="adj2" fmla="val 97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注：移项要变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154080" y="304920"/>
          <a:ext cx="48751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304920"/>
                    <a:ext cx="48751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343400" y="990720"/>
                <a:ext cx="16765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343400" y="1600200"/>
                <a:ext cx="26668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066680" y="990720"/>
            <a:ext cx="60984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990720"/>
            <a:ext cx="60984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42280" y="1523880"/>
            <a:ext cx="609480" cy="60984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00080" y="1523880"/>
            <a:ext cx="609480" cy="60984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1523880"/>
            <a:ext cx="838080" cy="685800"/>
          </a:xfrm>
          <a:prstGeom prst="diamond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1447920"/>
            <a:ext cx="609840" cy="761760"/>
          </a:xfrm>
          <a:prstGeom prst="diamond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86000" y="838080"/>
            <a:ext cx="2057400" cy="459720"/>
            <a:chOff x="2286000" y="838080"/>
            <a:chExt cx="2057400" cy="459720"/>
          </a:xfrm>
        </p:grpSpPr>
        <p:sp>
          <p:nvSpPr>
            <p:cNvPr id="415" name=""/>
            <p:cNvSpPr/>
            <p:nvPr/>
          </p:nvSpPr>
          <p:spPr>
            <a:xfrm>
              <a:off x="2286000" y="1218960"/>
              <a:ext cx="2057400" cy="36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95480" y="838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200400" y="1371600"/>
            <a:ext cx="1219320" cy="459720"/>
            <a:chOff x="3200400" y="1371600"/>
            <a:chExt cx="1219320" cy="459720"/>
          </a:xfrm>
        </p:grpSpPr>
        <p:sp>
          <p:nvSpPr>
            <p:cNvPr id="418" name=""/>
            <p:cNvSpPr/>
            <p:nvPr/>
          </p:nvSpPr>
          <p:spPr>
            <a:xfrm>
              <a:off x="3200400" y="1828440"/>
              <a:ext cx="1219320" cy="36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52680" y="1371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移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28600" y="2590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把下列方程进行移项变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04920" y="3124080"/>
          <a:ext cx="6254640" cy="318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625464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57200" y="685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判断下列移项是否正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57200" y="1447920"/>
          <a:ext cx="721368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47920"/>
                    <a:ext cx="7213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85720" y="19782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宿迁中考）已知５是关于ｘ的方程　　　　　　　　的解，则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根的定义知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×5-2a=7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得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945480" y="2238480"/>
          <a:ext cx="116496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5480" y="2238480"/>
                    <a:ext cx="116496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SDWM</cp:lastModifiedBy>
  <dcterms:modified xsi:type="dcterms:W3CDTF">2014-10-29T12:22:45Z</dcterms:modified>
  <cp:revision>2</cp:revision>
  <dc:subject/>
  <dc:title>  3.2.2解一元一次方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