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4C59-9C8B-4240-8B09-CEEE976B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扬花落尽了子规鸟儿哀啼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把这颗愁新寄托给明月，跟随好友你一直到夜郎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B8A-747A-4D90-A1CD-F347177F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D71-69C3-4551-8F31-CE1AC5B0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B09-E342-441E-9FBC-7B6D851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9E3-09F0-45DF-970C-DA77A769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043-A2B6-4879-A0B0-59E2ACFB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C8B-DBB1-4E6C-9A37-AFE921E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0F5-A3D7-4E20-AE04-C5ECF50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EB4-92A2-42DA-8613-A489A8A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F12-B7A6-4966-A6D6-CF922659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37F-2D9F-4953-B1E3-9BF4D47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C04-DBCE-4AA7-99A7-63DE327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D5A-4C3F-4B70-85DA-BA7060F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781-C599-4983-8F26-6C20CC9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B496-1DC8-44C5-B249-FA8F640D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"/>
          <p:cNvPicPr/>
          <p:nvPr/>
        </p:nvPicPr>
        <p:blipFill>
          <a:blip r:embed="rId4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7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6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"/>
          <p:cNvPicPr/>
          <p:nvPr/>
        </p:nvPicPr>
        <p:blipFill>
          <a:blip r:embed="rId8"/>
          <a:stretch/>
        </p:blipFill>
        <p:spPr>
          <a:xfrm>
            <a:off x="3276720" y="3286080"/>
            <a:ext cx="25527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"/>
          <p:cNvPicPr/>
          <p:nvPr/>
        </p:nvPicPr>
        <p:blipFill>
          <a:blip r:embed="rId9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"/>
          <p:cNvPicPr/>
          <p:nvPr/>
        </p:nvPicPr>
        <p:blipFill>
          <a:blip r:embed="rId10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6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3151800" y="41338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9194d"/>
                </a:solidFill>
                <a:latin typeface="Arial"/>
              </a:rPr>
              <a:t>闻王昌龄左迁龙标遥有此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府诗原来是可以歌唱的，诗的最后两句是合乐时加上的，是诗的附文，跟诗的内容没有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幸甚至哉，歌以咏志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55640" y="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哪些语句最能体现作者博大的胸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26920" y="1484280"/>
            <a:ext cx="8066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诗前一部分写大海景象，视野广阔，也能见出诗人胸怀之博大，但跟后一部分比，气象则略逊一筹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之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句写大海，全用虚写，却表现了大海有包容天地的气概，更显示了诗人的博大胸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5640" y="7650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日月之行，若出其中； 星汉灿烂，若出其里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220480" y="9079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首诗表达了诗人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00000" y="2205000"/>
            <a:ext cx="7417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观沧海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一首写景抒情诗，诗人勾画了大海吞吐日月，包蕴万千的壮丽景象，表现了作者开阔的胸襟，抒发了统一中国建功立业抱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900000" y="1773360"/>
            <a:ext cx="7524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闻王昌龄左迁龙标遥有此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tu4"/>
          <p:cNvPicPr/>
          <p:nvPr/>
        </p:nvPicPr>
        <p:blipFill>
          <a:blip r:embed="rId1"/>
          <a:stretch/>
        </p:blipFill>
        <p:spPr>
          <a:xfrm>
            <a:off x="611280" y="981000"/>
            <a:ext cx="3120840" cy="4969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284720" y="476280"/>
            <a:ext cx="446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代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白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莲居士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陇西成纪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甘肃天水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我国文学史上伟大的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浪漫主义诗人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杜甫齐名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诗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称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太白全集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昌龄是李白 的好朋友。开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贬放岭南，天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再贬为龙标（今湖南洪江西）尉。李白在杨花落尽、杜鹃声声的时节，惊悉好友被贬湖南龙标，龙标在当时还很荒凉，诗人十分担忧，并深感不平和悲伤，于是写下了这首诗赠给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050920" y="692280"/>
            <a:ext cx="709308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昌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迁龙标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有此寄                      李白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落尽子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闻道龙标过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寄愁心与明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直到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211640" y="458136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4140360" y="558972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140360" y="53737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476360" y="1916280"/>
            <a:ext cx="7667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杨花落尽了子规鸟儿哀啼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听说去龙标还要逾过五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我把这颗愁心寄托给明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一直伴随你奔赴夜郎之西</a:t>
            </a:r>
            <a:r>
              <a:rPr b="1" lang="zh-CN" sz="4800" spc="-1" strike="noStrike">
                <a:solidFill>
                  <a:srgbClr val="ff6699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71640" y="76500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说王昌龄被贬到龙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遥远的地方写下这首诗寄给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全 诗 解 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句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写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营造暮春悲伤氛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句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叙被贬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—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抒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借助想象，将月人格化，抒发对友人被贬的关切与同情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现今常用来表达对远方挚友的慰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题：表达了对朋友的关切和同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540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cc00"/>
                </a:solidFill>
                <a:latin typeface="Arial"/>
              </a:rPr>
              <a:t>同学们，你们还知道月亮的其他称呼吗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900000" y="1700280"/>
            <a:ext cx="766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初步学习领会古诗词意境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体会诗人借景抒情、融情于景所表达的不同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理解不同的时代背景、作者的不同经历同作品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初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钩，月亮又称：银钩、玉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弦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弓，月亮又称：玉弓、弓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满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轮如盘如镜，月亮又称：金轮、玉轮、银盘、玉盘、金镜、玉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说月中有兔和蟾蜍，月亮又称：玉兔、金蟾、银蟾、蟾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说月中有桂树，月亮又称：桂月、桂轮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桂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桂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说月中有广寒、清虚两座宫殿，月亮故称：广寒宫、清虚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传说为月亮驾车之神名叫望舒，故称月亮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望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764640"/>
            <a:ext cx="8540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此外，月亮还有弯镰、银镰、素魄、凝霜、冰镜、明镜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冰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、夜光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素娥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等等许多别称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3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3429000" y="2209680"/>
            <a:ext cx="5486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闻王昌龄左迁龙标遥有此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5" name="WordArt 4" descr=""/>
          <p:cNvPicPr/>
          <p:nvPr/>
        </p:nvPicPr>
        <p:blipFill>
          <a:blip r:embed="rId2"/>
          <a:stretch/>
        </p:blipFill>
        <p:spPr>
          <a:xfrm>
            <a:off x="981000" y="3651120"/>
            <a:ext cx="897120" cy="27496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/>
          <p:cNvSpPr/>
          <p:nvPr/>
        </p:nvSpPr>
        <p:spPr>
          <a:xfrm>
            <a:off x="685800" y="37339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6553080" y="3581280"/>
            <a:ext cx="457200" cy="2895840"/>
          </a:xfrm>
          <a:custGeom>
            <a:avLst/>
            <a:gdLst>
              <a:gd name="textAreaLeft" fmla="*/ 0 w 457200"/>
              <a:gd name="textAreaRight" fmla="*/ 164880 w 4572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7010280" y="449568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友情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7620120" y="838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李白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490840" y="352908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杨花落尽子规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651040" y="46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414880" y="429084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闻道龙标过五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338560" y="494820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我寄愁心与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338560" y="555768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随君直到夜郎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5003280" y="3581280"/>
            <a:ext cx="14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方正姚体"/>
                <a:ea typeface="方正姚体"/>
              </a:rPr>
              <a:t>(</a:t>
            </a:r>
            <a:r>
              <a:rPr b="1" lang="zh-CN" sz="2800" spc="-1" strike="noStrike">
                <a:solidFill>
                  <a:srgbClr val="66ff33"/>
                </a:solidFill>
                <a:latin typeface="方正姚体"/>
                <a:ea typeface="方正姚体"/>
              </a:rPr>
              <a:t>暮春初夏</a:t>
            </a:r>
            <a:r>
              <a:rPr b="1" lang="en-US" sz="2800" spc="-1" strike="noStrike">
                <a:solidFill>
                  <a:srgbClr val="66ff33"/>
                </a:solidFill>
                <a:latin typeface="方正姚体"/>
                <a:ea typeface="方正姚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4572000" y="525780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181480" y="5334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方正姚体"/>
              </a:rPr>
              <a:t>想  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59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点名诗人闻讯时节的一句诗是（     ）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本诗中最脍炙人口的名句是（     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本诗中将明月人格化，托月送情，表达对友人的关切之情的句子是（     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调歌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（     ） 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借助月亮表达对亲人的深深思念和美好祝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与张若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江花月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“此时相望不相闻，愿逐月华流照君”意思相近的诗句是：（      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5"/>
          <p:cNvGrpSpPr/>
          <p:nvPr/>
        </p:nvGrpSpPr>
        <p:grpSpPr>
          <a:xfrm>
            <a:off x="179280" y="2325240"/>
            <a:ext cx="8640360" cy="2531160"/>
            <a:chOff x="179280" y="2325240"/>
            <a:chExt cx="8640360" cy="2531160"/>
          </a:xfrm>
        </p:grpSpPr>
        <p:pic>
          <p:nvPicPr>
            <p:cNvPr id="151" name="Picture 6" descr="wangwan"/>
            <p:cNvPicPr/>
            <p:nvPr/>
          </p:nvPicPr>
          <p:blipFill>
            <a:blip r:embed="rId1"/>
            <a:stretch/>
          </p:blipFill>
          <p:spPr>
            <a:xfrm>
              <a:off x="179280" y="2650680"/>
              <a:ext cx="281772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7"/>
            <p:cNvSpPr/>
            <p:nvPr/>
          </p:nvSpPr>
          <p:spPr>
            <a:xfrm>
              <a:off x="3112200" y="2325240"/>
              <a:ext cx="570744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王湾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唐代诗人。生卒年、字号均不详。洛阳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今属河南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人。玄宗先天年间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(712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713)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进士及第，授荥阳县主簿。开元五年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(717)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唐朝政府编次官府所藏图书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9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年书成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共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200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卷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名为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群书四部录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。王湾由荥阳主簿受荐编书，参与集部的编撰辑集工作，书成之后，因功授任洛阳尉。约在开元十七年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他曾作诗赠当时宰相萧嵩和裴光庭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其后行迹不详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10" descr="卷轴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755640" y="765000"/>
            <a:ext cx="7920000" cy="3959280"/>
            <a:chOff x="755640" y="765000"/>
            <a:chExt cx="7920000" cy="3959280"/>
          </a:xfrm>
        </p:grpSpPr>
        <p:sp>
          <p:nvSpPr>
            <p:cNvPr id="155" name="Rectangle 3"/>
            <p:cNvSpPr/>
            <p:nvPr/>
          </p:nvSpPr>
          <p:spPr>
            <a:xfrm>
              <a:off x="2914560" y="836640"/>
              <a:ext cx="57610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次北固山下，意思是泊舟停宿于北固山下。北固山三面临江，形势险要，号称</a:t>
              </a:r>
              <a:r>
                <a:rPr b="1" lang="zh-CN" sz="2400" spc="-1" strike="noStrike">
                  <a:solidFill>
                    <a:srgbClr val="000099"/>
                  </a:solidFill>
                  <a:latin typeface="宋体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天下第一江山</a:t>
              </a:r>
              <a:r>
                <a:rPr b="1" lang="zh-CN" sz="2400" spc="-1" strike="noStrike">
                  <a:solidFill>
                    <a:srgbClr val="000099"/>
                  </a:solidFill>
                  <a:latin typeface="宋体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作者家住洛阳，旅于江南，在这座山下停泊，被这里开阔秀丽的景色所吸引，写下了这首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古时交通不发达，流落外乡或在外任职的人久不得归，自然会产生故园之思，因此乡愁成了诗歌中的一个重要主题。这首诗是写乡愁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qiugaochi01"/>
            <p:cNvPicPr/>
            <p:nvPr/>
          </p:nvPicPr>
          <p:blipFill>
            <a:blip r:embed="rId1"/>
            <a:stretch/>
          </p:blipFill>
          <p:spPr>
            <a:xfrm>
              <a:off x="755640" y="765000"/>
              <a:ext cx="1998360" cy="395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5"/>
          <p:cNvGrpSpPr/>
          <p:nvPr/>
        </p:nvGrpSpPr>
        <p:grpSpPr>
          <a:xfrm>
            <a:off x="684360" y="4797360"/>
            <a:ext cx="7920000" cy="1656000"/>
            <a:chOff x="684360" y="4797360"/>
            <a:chExt cx="7920000" cy="1656000"/>
          </a:xfrm>
        </p:grpSpPr>
        <p:pic>
          <p:nvPicPr>
            <p:cNvPr id="158" name="Picture 6" descr="1161756484991"/>
            <p:cNvPicPr/>
            <p:nvPr/>
          </p:nvPicPr>
          <p:blipFill>
            <a:blip r:embed="rId2"/>
            <a:stretch/>
          </p:blipFill>
          <p:spPr>
            <a:xfrm>
              <a:off x="684360" y="4797360"/>
              <a:ext cx="2592360" cy="16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7" descr="10_13201519"/>
            <p:cNvPicPr/>
            <p:nvPr/>
          </p:nvPicPr>
          <p:blipFill>
            <a:blip r:embed="rId3"/>
            <a:stretch/>
          </p:blipFill>
          <p:spPr>
            <a:xfrm>
              <a:off x="3492360" y="4797360"/>
              <a:ext cx="5112000" cy="16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8" descr="卷轴"/>
          <p:cNvPicPr/>
          <p:nvPr/>
        </p:nvPicPr>
        <p:blipFill>
          <a:blip r:embed="rId4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4500720" y="1890000"/>
            <a:ext cx="4319280" cy="33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北固山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客路青山外，行舟绿水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潮平两岸阔，风正一帆悬。海日生残夜，江春入旧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书何处达？归雁洛阳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835280" y="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42920" y="134136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播放录音，听名家范读，感受语言之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美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并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给发音不准的生字词注上拼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042920" y="414972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展示朗读。要求：读准字音，声音洪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98400" y="2452680"/>
            <a:ext cx="85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首诗哪些句子属于写景？哪一句直接抒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2240" y="1268280"/>
            <a:ext cx="832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自己的话描述诗中描绘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42920" y="5157720"/>
            <a:ext cx="56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为什么作者会起思乡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1280" y="189000"/>
            <a:ext cx="6192720" cy="8251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合作探究，你说我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00000" y="3573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诗中有一句诗揭示时序交替的生活哲理你能找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4360" y="691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名句赏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11280" y="2122560"/>
            <a:ext cx="7993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日生残夜，江春入旧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章法上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导出结尾一联的作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是说它跟诗人的乡愁有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生残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入旧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表示时序的交替，而且是那样匆匆不可待，这怎不叫身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诗人顿生思乡之情呢？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日生于残夜，将驱尽黑暗；江春，那江上景物所表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闯入旧年，将赶走严冬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写景逼真，叙事确切，而且表现出具有普遍意义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活真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给人以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乐观、积极、向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艺术鼓舞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Bgs1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卷轴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观海海六"/>
          <p:cNvPicPr/>
          <p:nvPr/>
        </p:nvPicPr>
        <p:blipFill>
          <a:blip r:embed="rId1">
            <a:lum bright="24000"/>
          </a:blip>
          <a:srcRect l="0" t="0" r="447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AutoShape 6"/>
          <p:cNvSpPr/>
          <p:nvPr/>
        </p:nvSpPr>
        <p:spPr>
          <a:xfrm>
            <a:off x="3733920" y="2924280"/>
            <a:ext cx="5410080" cy="990360"/>
          </a:xfrm>
          <a:prstGeom prst="wedgeRectCallout">
            <a:avLst>
              <a:gd name="adj1" fmla="val -37824"/>
              <a:gd name="adj2" fmla="val -104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大海，如“沧海横流，方显英雄本色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3492360" y="1916280"/>
            <a:ext cx="2232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1476360" y="1125360"/>
            <a:ext cx="4105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沧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595240" y="4405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卷轴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Arial"/>
                <a:ea typeface="华文新魏"/>
              </a:rPr>
              <a:t>天净沙</a:t>
            </a: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·</a:t>
            </a:r>
            <a:r>
              <a:rPr b="1" lang="zh-CN" sz="6600" spc="-1" strike="noStrike">
                <a:solidFill>
                  <a:srgbClr val="6600ff"/>
                </a:solidFill>
                <a:latin typeface="Arial"/>
                <a:ea typeface="华文新魏"/>
              </a:rPr>
              <a:t>秋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08000" y="335772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华文楷体"/>
              </a:rPr>
              <a:t>［元］马致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332000" y="2133720"/>
            <a:ext cx="42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  <a:ea typeface="黑体"/>
              </a:rPr>
              <a:t>（曲牌名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427640" y="2205000"/>
            <a:ext cx="35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黑体"/>
              </a:rPr>
              <a:t>（题目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195640" y="450864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体裁：散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u=838482132,222122590&amp;fm=0&amp;gp=0"/>
          <p:cNvPicPr/>
          <p:nvPr/>
        </p:nvPicPr>
        <p:blipFill>
          <a:blip r:embed="rId1"/>
          <a:stretch/>
        </p:blipFill>
        <p:spPr>
          <a:xfrm>
            <a:off x="5796000" y="549360"/>
            <a:ext cx="3348000" cy="5229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2089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马致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5472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千里，号东篱，元代著名戏曲作家、散曲家。有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曲状元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称。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Arial"/>
                <a:ea typeface="楷体_GB2312"/>
              </a:rPr>
              <a:t>他与关汉卿、王实甫、白朴并称为元代杂剧四大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他的作品中，最能反映其风格的是散曲，散曲中又以小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净沙 秋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为有名，元人周德清誉之为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秋思之祖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他的散曲意境优美、语言凝练、流畅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卷轴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5435640" y="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508720" y="1700280"/>
            <a:ext cx="3168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净沙  秋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古道西风瘦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971640" y="1916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结合前面几首诗的朗读，融入自己的感情朗读，小组推荐同学展示。要求：读准字音，声音洪亮，融入感情，上台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  <p:pic>
        <p:nvPicPr>
          <p:cNvPr id="190" name="古代诗歌五首  4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306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3059280" y="33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品味探究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0407"/>
          <p:cNvPicPr/>
          <p:nvPr/>
        </p:nvPicPr>
        <p:blipFill>
          <a:blip r:embed="rId1"/>
          <a:stretch/>
        </p:blipFill>
        <p:spPr>
          <a:xfrm>
            <a:off x="826920" y="2781360"/>
            <a:ext cx="8317080" cy="4076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1095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543400" y="1700280"/>
            <a:ext cx="457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合作，展开想像，用自己的话描述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展现的图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卷轴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53761720554575468"/>
          <p:cNvPicPr/>
          <p:nvPr/>
        </p:nvPicPr>
        <p:blipFill>
          <a:blip r:embed="rId1"/>
          <a:stretch/>
        </p:blipFill>
        <p:spPr>
          <a:xfrm>
            <a:off x="5180040" y="549360"/>
            <a:ext cx="3568680" cy="5616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395280" y="549360"/>
            <a:ext cx="4608360" cy="301860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天净沙 秋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全篇仅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方正姚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句，共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方正姚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个字，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方正姚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种景物，寄情于物，把凄苦愁楚之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通过众多自然景物的罗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就把浓重的深秋色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刻画得淋漓尽致。生动地表现了一个长期漂泊他乡的游子的悲哀，堪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方正姚体"/>
              </a:rPr>
              <a:t>悲秋思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的经典！这首小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因此被后人称赞为“秋思之祖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410231028951239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检测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3203640" y="4270320"/>
            <a:ext cx="255276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3276720" y="357336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3203640" y="2852640"/>
            <a:ext cx="1428840" cy="600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187280" y="1989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3078720" y="50799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Arial"/>
              </a:rPr>
              <a:t>闻王昌龄左迁龙表遥有此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39640" y="1557360"/>
            <a:ext cx="792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观沧海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诗选自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者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字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政治家、军事家、诗人。他的诗以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称。他与其子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曹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697280" y="153828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操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189920" y="1557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042920" y="2030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孟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962000" y="20304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汉末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643280" y="2593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608800" y="2592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1258920" y="2549520"/>
            <a:ext cx="18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慷慨悲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1128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强化训练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39640" y="436572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从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观沧海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诗的体裁看，它是一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体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诗；从表达方式看，它是一首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     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写景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58080" y="47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乐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1880640" y="477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四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254960" y="5183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感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4360" y="11970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观沧海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诗中最能反映作者的博大胸襟的诗句是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11280" y="29242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观沧海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诗以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字统领全篇，先写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景，然后写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景，借景抒情，表现了诗人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681800" y="2944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65680" y="3351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629440" y="3336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187280" y="3773520"/>
            <a:ext cx="41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宽广的胸怀和豪迈的气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39640" y="4724280"/>
            <a:ext cx="8425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次北固山下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诗中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意为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该诗作者为唐代诗人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456000" y="51944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94836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停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2756880" y="16128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日月之行，若出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星汉灿烂，若出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539640" y="981000"/>
            <a:ext cx="81378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天净沙秋思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中勾勒整个画面背景的句子是：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请说出我国不同朝代的占据主导地位的文学体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汉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唐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宋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元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明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627280" y="318276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598840" y="3759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598840" y="42465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651040" y="476568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556000" y="53323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295280" y="153504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夕阳西下，断肠人在天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212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碣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竦峙：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澹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萧瑟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哉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627280" y="263700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sǒng zh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700360" y="3573360"/>
            <a:ext cx="5184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dàn    dà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916360" y="1557360"/>
            <a:ext cx="1584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ji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771640" y="4653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s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411280" y="5445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zā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064240" y="18900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词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47520" y="28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258920" y="40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预习检测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隶书"/>
              </a:rPr>
              <a:t>--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作者生平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59054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曹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字孟德，沛国谯县（今安徽省毫县）人。东汉末政治家、军事家、诗人。他先后削平吕布等割剧势力。建安五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）在官渡大败兵强地广的袁绍，此后逐渐统一了北方。善诗歌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步出复门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蒿里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诸篇，用乐府旧题抒发自己的政治抱负，气魄雄伟，慷慨悲凉。对汉末人民的苦难生活有所反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aocao3_1"/>
          <p:cNvPicPr/>
          <p:nvPr/>
        </p:nvPicPr>
        <p:blipFill>
          <a:blip r:embed="rId1"/>
          <a:stretch/>
        </p:blipFill>
        <p:spPr>
          <a:xfrm>
            <a:off x="6713640" y="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卷轴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900000" y="3276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观沧海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选自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曹操集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步出夏门行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中的一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观沧海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曹操的名篇。公元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7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，曹操追歼了袁绍残部。又亲率大军北伐，八月大破乌桓，统一了北方，归途中登临碣石山。他面对洪波涌起的大海，触景生情，写下了这首壮丽的诗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291680" y="260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039040" y="0"/>
            <a:ext cx="317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诵角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图片2"/>
          <p:cNvPicPr/>
          <p:nvPr/>
        </p:nvPicPr>
        <p:blipFill>
          <a:blip r:embed="rId1"/>
          <a:srcRect l="23231" t="40403" r="0" b="0"/>
          <a:stretch/>
        </p:blipFill>
        <p:spPr>
          <a:xfrm>
            <a:off x="2340000" y="2060640"/>
            <a:ext cx="63324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2458080" y="11826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是“曹操’   我观沧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卷轴"/>
          <p:cNvPicPr/>
          <p:nvPr/>
        </p:nvPicPr>
        <p:blipFill>
          <a:blip r:embed="rId2"/>
          <a:srcRect l="0" t="0" r="64164" b="0"/>
          <a:stretch/>
        </p:blipFill>
        <p:spPr>
          <a:xfrm>
            <a:off x="-396720" y="0"/>
            <a:ext cx="3504960" cy="6856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050920" y="26028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403280" y="1700280"/>
            <a:ext cx="358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临碣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观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何澹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岛竦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木丛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草丰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风萧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洪波涌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之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出其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汉灿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出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甚至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以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6720" y="134136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播放录音，听名家范读，感受语言之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美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并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给发音不准的生字词注上拼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76720" y="400536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展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示朗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读；要求：读准字音，声音洪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763640" y="404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品味探究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485440" y="1484280"/>
            <a:ext cx="359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自由朗读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全文以哪个字统领全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诗人站在碣石山上，他看到了哪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图画？请用自己的话描述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2:57:31Z</dcterms:created>
  <dc:creator/>
  <dc:description/>
  <dc:language>en-US</dc:language>
  <cp:lastModifiedBy>827685415@qq.com</cp:lastModifiedBy>
  <dcterms:modified xsi:type="dcterms:W3CDTF">2017-09-26T13:38:25Z</dcterms:modified>
  <cp:revision>26</cp:revision>
  <dc:subject/>
  <dc:title>幻灯片 1</dc:title>
</cp:coreProperties>
</file>