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gif" ContentType="image/gif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4BE-B7AE-42CE-A43A-43F9CE53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D3F-790F-41E7-B8A0-3F77AEFE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1F1-F11D-41E3-9440-A888A8C4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037-FD71-435D-8274-20AAB05C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9C9-9FC1-4049-B369-465237A7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196-3623-4485-A8CF-C615071E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77A-661E-43B8-8F77-09B721A6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C6A-3C3E-41B3-848A-4AC5FE12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435-D460-41A1-9A95-E927372E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F28-DDB2-4328-987A-922C40A9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3EB-CDF3-4062-A8EF-7146B64E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3E1-4805-455F-B7B7-4E15646F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0030-F3C1-478B-9DA7-CA0029E29A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9280" y="3716280"/>
            <a:ext cx="8424720" cy="247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1125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宋体"/>
                <a:ea typeface="华文宋体"/>
              </a:rPr>
              <a:t>第一章  人的由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2781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节人类的起源和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6049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大猩猩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是灵长目中最大的动物，它们生存于非洲大陆赤道附近丛林中，食素。大猩猩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92%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至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98%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的脱氧核糖核酸排列与人一样，因此它是继黑猩猩属的两个种后与人类最接近的现存的动物。过去大猩猩曾被认为是一种幻想的生物。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300720" y="2637000"/>
            <a:ext cx="25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14357" t="0" r="7772" b="0"/>
          <a:stretch/>
        </p:blipFill>
        <p:spPr>
          <a:xfrm>
            <a:off x="6300720" y="981000"/>
            <a:ext cx="2554200" cy="2457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5148360" y="3789360"/>
            <a:ext cx="3995640" cy="2979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525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黑猩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是黑猩猩属的两种动物之一，但由于黑猩猩和人类的基因相似度达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98.77%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（最近有些研究为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99.4%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），所以亦有学者主张将黑猩猩属的动物并入人属。原产地在非洲西部及中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9280" y="18900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问题探究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0" name=""/>
          <p:cNvSpPr/>
          <p:nvPr/>
        </p:nvSpPr>
        <p:spPr>
          <a:xfrm>
            <a:off x="1965240" y="1413000"/>
            <a:ext cx="499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现代类人猿和人类的共同祖先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主要分布在什么地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现代类人猿过着怎样的生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人类的数量在急剧增加，而类人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数量日益减少，为什么会这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类人猿在形态结构上确实与人有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多相似，但究竟在哪些方面和人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根本的区别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2735280" cy="2594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804000" y="2852640"/>
            <a:ext cx="1506600" cy="1506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8728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11600" y="1989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中宋"/>
              </a:rPr>
              <a:t>森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中宋"/>
              </a:rPr>
              <a:t>古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1557360"/>
            <a:ext cx="144360" cy="180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1628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4400" y="1123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新魏"/>
              </a:rPr>
              <a:t>仍生活在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3284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3120" y="2781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华文新魏"/>
              </a:rPr>
              <a:t>生活在草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14840" y="121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中宋"/>
              </a:rPr>
              <a:t>现代类人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19960" y="2865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中宋"/>
              </a:rPr>
              <a:t>人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大猩猩生活在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非洲西部和东部赤道地区一带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；黑猩猩生活在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非洲中部和西部的热带森林中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；长臂猿生活在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南亚、东南亚地区以及我国的云南省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；猩猩生活在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亚洲的加里曼丹和苏门答腊的热带森林中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它们都依靠从森林中获取果实、嫩芽、昆虫等食物生存。它们没有制造工具和改善生存环境的能力，也不能进行人类那样的语言和文字的交流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人类具有发明和创造各种科学技术的本领，使得人类适应自然环境、改造自然环境、改善生存条件以及利用医药卫生加强自身保健的能力不断加强，这些都促使人类的数量急剧增加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相反，现代类人猿不具备这些能力；加之人类不断开发现代类人猿赖以生存的森林，以及人类对现代类人猿的乱捕滥杀和严重的环境污染等，这些都使得现代类人猿的数量日益减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36560"/>
            <a:ext cx="1800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华文新魏"/>
              </a:rPr>
              <a:t>现代类人猿与人类的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根本区别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华文新魏"/>
              </a:rPr>
              <a:t>主要在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990720"/>
            <a:ext cx="457200" cy="5029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762120"/>
            <a:ext cx="70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运动方式不同</a:t>
            </a: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。类人猿主要是臂行；人类则是直立行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制造工具的能力不同</a:t>
            </a: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。类人猿可以使用自然工具，但是不会制造工具；人类可以制造并使用各种简单和复杂的工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脑发育的程度不同</a:t>
            </a: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。类人猿脑的容量约为</a:t>
            </a: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400ml</a:t>
            </a: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，没有语言文字能力；人脑的容量约为</a:t>
            </a: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1200ml</a:t>
            </a:r>
            <a:r>
              <a:rPr b="1" lang="zh-CN" sz="3600" spc="-1" strike="noStrike">
                <a:solidFill>
                  <a:srgbClr val="cc00cc"/>
                </a:solidFill>
                <a:latin typeface="Comic Sans MS"/>
              </a:rPr>
              <a:t>，具有很强的思维能力和语言文字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0"/>
            <a:ext cx="2362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重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57200"/>
            <a:ext cx="2514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资料分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2143080" y="1752480"/>
            <a:ext cx="5118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森林古猿是怎样进化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人类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在东非大裂谷地带，发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了许多早期古人类化石，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说明了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84720" y="33336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黑体"/>
              </a:rPr>
              <a:t>一、人类起源的假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836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9079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女娲造人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24360" y="1844640"/>
            <a:ext cx="5183280" cy="496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6360" y="1844640"/>
            <a:ext cx="3888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2200" y="1270080"/>
            <a:ext cx="3529080" cy="5327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51280" y="184464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640" y="1511280"/>
            <a:ext cx="394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距今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年前的化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——”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露西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Lucy)”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少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249228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就“露西”少女的骨骼来看，她的上肢和下肢是否有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437000"/>
            <a:ext cx="51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根据四肢和骨盆的形态，想象一下她的运动方式是怎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2565360"/>
            <a:ext cx="521964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上肢较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下肢粗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4508640"/>
            <a:ext cx="5292720" cy="21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华文新魏"/>
              </a:rPr>
              <a:t>直立行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0"/>
            <a:ext cx="3809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化石图片分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非人”头骨化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484360" y="907920"/>
            <a:ext cx="3886200" cy="338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197820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4572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露西”少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02920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就“露西”少女的骨骼化石来看，她的骨盆的髋骨较宽阔，下肢骨的股骨较粗壮，和现代人类较为相似。想象一下她的运动方式会是怎样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“东非人”用图中所示石块做什么？从石块的形状来推测，“东非人”已经具有什么能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588000" y="1628640"/>
            <a:ext cx="2305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3073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314172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3284640"/>
            <a:ext cx="8424720" cy="3542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运动方式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半直立行走     直立行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劳动方面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不会使用工具     使用天然工具    制造和使用简单工具    制造和使用复杂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穿衣方面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赤身裸体     懂得御寒、遮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其他方面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大脑容量变大、功能增强，产生语言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278136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人类起源和发展过程中，在哪些方面逐渐发生了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3573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42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530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40000" y="1197000"/>
            <a:ext cx="4751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人类起源的标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直立行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手脚分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大脑发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4.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具有语言思维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4360" y="3684600"/>
            <a:ext cx="2735280" cy="2593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04000" y="2852640"/>
            <a:ext cx="150660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179600" cy="5256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284720" y="1484280"/>
            <a:ext cx="46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cc00cc"/>
                </a:solidFill>
                <a:latin typeface="华文新魏"/>
                <a:ea typeface="华文新魏"/>
              </a:rPr>
              <a:t>、“东非人”用图中所示的石块做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3716280"/>
            <a:ext cx="463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cc00cc"/>
                </a:solidFill>
                <a:latin typeface="华文新魏"/>
                <a:ea typeface="华文新魏"/>
              </a:rPr>
              <a:t>、从石块的形状来推测，“东非人”已经具有什么能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1052640"/>
            <a:ext cx="475308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当作工具，用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砍砸和削刮物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3789360"/>
            <a:ext cx="478800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具有制造和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用工具的能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228600"/>
            <a:ext cx="4114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东非人”遗物分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637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51880" y="2511360"/>
            <a:ext cx="393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从半直立行走到直立行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280" y="3284640"/>
            <a:ext cx="876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从不会使用工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到使用天然工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再到制造和使用简单工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直到制造和使用包括电脑在内的各种复杂的现代工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566100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从赤身裸体到懂得御寒、遮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33813"/>
                </a:solidFill>
                <a:latin typeface="Arial"/>
                <a:ea typeface="方正舒体"/>
              </a:rPr>
              <a:t>区分事实和观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、古人类化石“露西”是在非洲发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、“露西”生活在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300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万年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、其他地区没有发现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200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万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-300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万年前的古人类化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、其他地区没有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200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万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-300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万年前的古人类化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、亚洲的直立人是从非洲迁徙过来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049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技能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1276200"/>
            <a:ext cx="47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一、人类的起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28880" y="243828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进化论的建立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5960" y="23432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达尔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369576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人类起源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72040" y="360036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森林古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09800" y="485784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原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33600" y="478152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环境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28880" y="603900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证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33640" y="59626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化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0"/>
            <a:ext cx="30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隶书"/>
                <a:ea typeface="隶书"/>
              </a:rPr>
              <a:t>小   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rcRect l="20702" t="59430" r="0" b="7204"/>
          <a:stretch/>
        </p:blipFill>
        <p:spPr>
          <a:xfrm>
            <a:off x="1233360" y="1200240"/>
            <a:ext cx="5838840" cy="3619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95360" y="438120"/>
            <a:ext cx="65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、古猿进化为现代人类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971960"/>
            <a:ext cx="476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、人类的重要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8560" y="5543640"/>
            <a:ext cx="74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99"/>
                </a:solidFill>
                <a:latin typeface="华文新魏"/>
                <a:ea typeface="华文新魏"/>
              </a:rPr>
              <a:t>直立行走、手脚分工、大脑发达、具有语言思维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284720" y="33336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黑体"/>
              </a:rPr>
              <a:t>一、人类起源的假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9810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052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上帝造人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21080" y="907920"/>
            <a:ext cx="56880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51640" y="2060640"/>
            <a:ext cx="2813040" cy="4076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1413000"/>
            <a:ext cx="3600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神学的创造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佛学的下凡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外星人的复制论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生物学的进化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948360" y="4941720"/>
            <a:ext cx="14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达尔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221000"/>
            <a:ext cx="143964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581360"/>
            <a:ext cx="5688000" cy="132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达尔文的进化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现代类人猿和人类的共同祖先是森林古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62064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人从哪里来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07920" y="255600"/>
            <a:ext cx="56901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85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达尔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出版了《物种起源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 书。他在这本书中暗示了他的观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将 会给人类起源的研究提供重要的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路和线索。后来他在其他著作中，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较明确地指出，人类和其他动物一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进化来的，并推测人类与大猩猩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黑猩猩有亲缘关系。当时许多科学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坚信神创论，因此，达尔文进化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支持者与神创论观点的支持者展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激烈的争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8080" y="228600"/>
            <a:ext cx="6675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关于人类起源的辩论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是在科学家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胥黎与威尔伯福斯兰教之间进行的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事情发生在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186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月牛津大学大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列颠学会的一次会议上，争论的焦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是达尔文的《物种起源》一书。达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文的观点在这次辩论中最终取得了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利。 后来，达尔文在比较了人类和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人猿的相似处之后提出，人类和类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猿是由共同的祖先进化来的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3168720" cy="266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284720" y="620640"/>
            <a:ext cx="3168720" cy="2735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042920" y="3429000"/>
            <a:ext cx="309744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716360" y="3357720"/>
            <a:ext cx="3240360" cy="3500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90920" y="18900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Comic Sans MS"/>
              </a:rPr>
              <a:t>观察比较四种</a:t>
            </a:r>
            <a:r>
              <a:rPr b="1" lang="zh-CN" sz="2800" spc="-1" strike="noStrike">
                <a:solidFill>
                  <a:srgbClr val="009900"/>
                </a:solidFill>
                <a:latin typeface="Comic Sans MS"/>
              </a:rPr>
              <a:t>现代类人猿</a:t>
            </a:r>
            <a:r>
              <a:rPr b="1" lang="zh-CN" sz="2800" spc="-1" strike="noStrike">
                <a:solidFill>
                  <a:srgbClr val="cc00cc"/>
                </a:solidFill>
                <a:latin typeface="Comic Sans MS"/>
              </a:rPr>
              <a:t>与</a:t>
            </a:r>
            <a:r>
              <a:rPr b="1" lang="zh-CN" sz="2800" spc="-1" strike="noStrike">
                <a:solidFill>
                  <a:srgbClr val="000099"/>
                </a:solidFill>
                <a:latin typeface="Comic Sans MS"/>
              </a:rPr>
              <a:t>现代人</a:t>
            </a:r>
            <a:r>
              <a:rPr b="1" lang="zh-CN" sz="2800" spc="-1" strike="noStrike">
                <a:solidFill>
                  <a:srgbClr val="cc00cc"/>
                </a:solidFill>
                <a:latin typeface="Comic Sans MS"/>
              </a:rPr>
              <a:t>有什么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484360" y="0"/>
            <a:ext cx="44578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7272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长臂猿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是我国仅有的现生类人猿，与猩猩、大猩猩、黑猩猩一起被称为四大类人猿，是仅次于人类的高级灵长类动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长臂猿是猿类中最细小的一种，也是行动最快捷灵活的一种。我国有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种长臂猿，它们都是我国一级保护动物。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世界上目前共有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种长臂猿，其中黑长臂猿、白眉长臂猿和白掌长臂猿生活在我国及附近邻国，都已列入一级保护动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523280" y="4365720"/>
            <a:ext cx="1620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27640" y="2421000"/>
            <a:ext cx="2705400" cy="3809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97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猩猩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是亚洲唯一的大猿，现在仅存于婆罗洲和苏门答腊岛蒸汽缭绕的丛林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205000"/>
            <a:ext cx="6048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猩猩的两个品种有许多方面是很突出的，它们是世界上最大的树栖，也是繁殖最慢的——哺乳动物。猩猩被认为是社会的隐居者，它们建立的地区性模式使人回想起了人类早期的文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8T12:49:03Z</dcterms:created>
  <dc:creator>ZHOU</dc:creator>
  <dc:description/>
  <dc:language>en-US</dc:language>
  <cp:lastModifiedBy>lenovo</cp:lastModifiedBy>
  <dcterms:modified xsi:type="dcterms:W3CDTF">2012-09-20T02:52:35Z</dcterms:modified>
  <cp:revision>43</cp:revision>
  <dc:subject/>
  <dc:title>幻灯片 1</dc:title>
</cp:coreProperties>
</file>