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5.jpeg" ContentType="image/jpeg"/>
  <Override PartName="/ppt/media/image14.gif" ContentType="image/gif"/>
  <Override PartName="/ppt/media/image9.gif" ContentType="image/gif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png" ContentType="image/png"/>
  <Override PartName="/ppt/media/image11.png" ContentType="image/png"/>
  <Override PartName="/ppt/media/image12.jpeg" ContentType="image/jpeg"/>
  <Override PartName="/ppt/media/image8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C6CC3-6ECD-4597-9E3E-7884BAE2D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C9544-07F2-4CBD-A747-266BECBB7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26B4F-CE7B-4CF3-B38B-B46FFCA70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B62DE-51B8-4E7C-8CA0-3C23B1FBF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AA0AD-66FF-424E-8788-46E6C0B14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FBF74-FADD-4C18-8D5F-7502B6482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55EBD-616F-474D-BA23-E6AA3F438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A83F9-E854-4602-80C3-396908111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F705D-6816-476D-8929-86D238C40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D73BC-16BE-4611-9418-94FF0CA14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ABF29-6AC9-4869-95BE-BC0AD603F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189D7-A883-4A09-B1F5-DBBF559F8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BB391-6C2F-45CF-883C-BB6147B73C2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87280" y="1557000"/>
            <a:ext cx="6701040" cy="28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3399"/>
                </a:solidFill>
                <a:latin typeface="宋体"/>
              </a:rPr>
              <a:t>第五章 </a:t>
            </a:r>
            <a:br>
              <a:rPr sz="6000"/>
            </a:br>
            <a:r>
              <a:rPr b="1" lang="en-US" sz="6000" spc="-1" strike="noStrike">
                <a:solidFill>
                  <a:srgbClr val="003399"/>
                </a:solidFill>
                <a:latin typeface="宋体"/>
              </a:rPr>
              <a:t> 人体内废物的排出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ccffff">
                  <a:alpha val="79215"/>
                </a:srgbClr>
              </a:gs>
              <a:gs pos="50000">
                <a:srgbClr val="f7fefe"/>
              </a:gs>
              <a:gs pos="100000">
                <a:srgbClr val="ccffff">
                  <a:alpha val="7921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4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57200" y="152280"/>
            <a:ext cx="7462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小试牛刀 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  （有的成分打√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没有的打 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X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。）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04920" y="5181480"/>
            <a:ext cx="236196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尿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934320" y="5181480"/>
            <a:ext cx="2011320" cy="6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724280" y="5181480"/>
            <a:ext cx="2179800" cy="6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590920" y="5199120"/>
            <a:ext cx="2133360" cy="6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04920" y="4572000"/>
            <a:ext cx="2361960" cy="6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964200" y="4572000"/>
            <a:ext cx="201168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724280" y="4554360"/>
            <a:ext cx="217980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590920" y="4541760"/>
            <a:ext cx="213336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28600" y="3886200"/>
            <a:ext cx="236232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无机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724280" y="3898800"/>
            <a:ext cx="217980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590920" y="3884760"/>
            <a:ext cx="213336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" y="3200400"/>
            <a:ext cx="236232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葡萄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964200" y="3200400"/>
            <a:ext cx="2011680" cy="6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724280" y="3214800"/>
            <a:ext cx="2179800" cy="6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590920" y="3228840"/>
            <a:ext cx="2133360" cy="6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994440" y="2590920"/>
            <a:ext cx="201132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724280" y="2576520"/>
            <a:ext cx="217980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590920" y="2571840"/>
            <a:ext cx="213336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28600" y="2571840"/>
            <a:ext cx="236232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大分子蛋白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994440" y="1916280"/>
            <a:ext cx="2011320" cy="6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724280" y="1920960"/>
            <a:ext cx="2179800" cy="6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590920" y="1916280"/>
            <a:ext cx="2133360" cy="6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28600" y="1916280"/>
            <a:ext cx="2362320" cy="6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血细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904080" y="1219320"/>
            <a:ext cx="201132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尿液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724280" y="1219320"/>
            <a:ext cx="217980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原尿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438280" y="1219320"/>
            <a:ext cx="251460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没有过滤的血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" y="1219320"/>
            <a:ext cx="236232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成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" y="1219320"/>
            <a:ext cx="868680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" y="1219320"/>
            <a:ext cx="0" cy="464796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915400" y="1219320"/>
            <a:ext cx="0" cy="464796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" y="1916280"/>
            <a:ext cx="8686800" cy="0"/>
          </a:xfrm>
          <a:prstGeom prst="line">
            <a:avLst/>
          </a:prstGeom>
          <a:ln cap="rnd"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590920" y="1219320"/>
            <a:ext cx="0" cy="4647960"/>
          </a:xfrm>
          <a:prstGeom prst="line">
            <a:avLst/>
          </a:prstGeom>
          <a:ln cap="rnd"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724280" y="1219320"/>
            <a:ext cx="0" cy="4647960"/>
          </a:xfrm>
          <a:prstGeom prst="line">
            <a:avLst/>
          </a:prstGeom>
          <a:ln cap="rnd"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858000" y="1219320"/>
            <a:ext cx="0" cy="4647960"/>
          </a:xfrm>
          <a:prstGeom prst="line">
            <a:avLst/>
          </a:prstGeom>
          <a:ln cap="rnd"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28600" y="2590920"/>
            <a:ext cx="8686800" cy="0"/>
          </a:xfrm>
          <a:prstGeom prst="line">
            <a:avLst/>
          </a:prstGeom>
          <a:ln cap="rnd"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28600" y="3228840"/>
            <a:ext cx="8686800" cy="0"/>
          </a:xfrm>
          <a:prstGeom prst="line">
            <a:avLst/>
          </a:prstGeom>
          <a:ln cap="rnd"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28600" y="3886200"/>
            <a:ext cx="8686800" cy="0"/>
          </a:xfrm>
          <a:prstGeom prst="line">
            <a:avLst/>
          </a:prstGeom>
          <a:ln cap="rnd"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28600" y="4541760"/>
            <a:ext cx="8686800" cy="0"/>
          </a:xfrm>
          <a:prstGeom prst="line">
            <a:avLst/>
          </a:prstGeom>
          <a:ln cap="rnd"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28600" y="5181480"/>
            <a:ext cx="8686800" cy="0"/>
          </a:xfrm>
          <a:prstGeom prst="line">
            <a:avLst/>
          </a:prstGeom>
          <a:ln cap="rnd"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" y="5867280"/>
            <a:ext cx="8686800" cy="0"/>
          </a:xfrm>
          <a:prstGeom prst="line">
            <a:avLst/>
          </a:prstGeom>
          <a:ln cap="rnd"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2880" y="3352680"/>
            <a:ext cx="3429000" cy="457200"/>
          </a:xfrm>
          <a:prstGeom prst="rect">
            <a:avLst/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048120" y="1905120"/>
            <a:ext cx="3313080" cy="12189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590920" y="2543040"/>
            <a:ext cx="213336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90920" y="1887480"/>
            <a:ext cx="2133360" cy="6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3886200"/>
            <a:ext cx="213336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590920" y="2544840"/>
            <a:ext cx="213336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590920" y="1889280"/>
            <a:ext cx="2133360" cy="6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213336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590920" y="3916440"/>
            <a:ext cx="213336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590920" y="2575080"/>
            <a:ext cx="213336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590920" y="1919160"/>
            <a:ext cx="2133360" cy="6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590920" y="5181480"/>
            <a:ext cx="2133360" cy="6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590920" y="4554360"/>
            <a:ext cx="213336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590920" y="3898800"/>
            <a:ext cx="213336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590920" y="2557440"/>
            <a:ext cx="213336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590920" y="1901880"/>
            <a:ext cx="2133360" cy="6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590920" y="5181480"/>
            <a:ext cx="2133360" cy="6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590920" y="4572000"/>
            <a:ext cx="213336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590920" y="3911760"/>
            <a:ext cx="213336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590920" y="2590920"/>
            <a:ext cx="213336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590920" y="1905120"/>
            <a:ext cx="2133360" cy="6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888240" y="3886200"/>
            <a:ext cx="201132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33" dur="2000" fill="hold"/>
                                        <p:tgtEl>
                                          <p:spTgt spid="21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3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35" dur="2000" fill="hold"/>
                                        <p:tgtEl>
                                          <p:spTgt spid="215"/>
                                        </p:tgtEl>
                                      </p:cBhvr>
                                      <p:to x="80000" y="8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62" dur="2000" fill="hold"/>
                                        <p:tgtEl>
                                          <p:spTgt spid="21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6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64" dur="2000" fill="hold"/>
                                        <p:tgtEl>
                                          <p:spTgt spid="214"/>
                                        </p:tgtEl>
                                      </p:cBhvr>
                                      <p:to x="80000" y="8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1833480" y="1125360"/>
            <a:ext cx="5392800" cy="119124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联系前边所学知识，试着描述血液在肾单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里的流动方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0880" y="2814480"/>
            <a:ext cx="174312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肾动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905120" y="3200400"/>
            <a:ext cx="53316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467080" y="2863800"/>
            <a:ext cx="253656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入球小动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952880" y="3200400"/>
            <a:ext cx="53352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521320" y="2787480"/>
            <a:ext cx="164304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肾小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080040" y="4664160"/>
            <a:ext cx="259560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出球小动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5562720" y="4952880"/>
            <a:ext cx="4572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32080" y="4343400"/>
            <a:ext cx="2276640" cy="1191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肾小管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毛细血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flipH="1">
            <a:off x="2514240" y="4952880"/>
            <a:ext cx="60948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120" y="4616280"/>
            <a:ext cx="164916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肾静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7093080" y="3200400"/>
            <a:ext cx="527040" cy="1447920"/>
            <a:chOff x="7093080" y="3200400"/>
            <a:chExt cx="527040" cy="1447920"/>
          </a:xfrm>
        </p:grpSpPr>
        <p:sp>
          <p:nvSpPr>
            <p:cNvPr id="248" name=""/>
            <p:cNvSpPr/>
            <p:nvPr/>
          </p:nvSpPr>
          <p:spPr>
            <a:xfrm>
              <a:off x="7620120" y="3200400"/>
              <a:ext cx="0" cy="14479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093080" y="3213000"/>
              <a:ext cx="50328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314280" y="357120"/>
            <a:ext cx="252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99"/>
                </a:solidFill>
                <a:latin typeface="Arial"/>
              </a:rPr>
              <a:t>小试牛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5410080" y="228600"/>
            <a:ext cx="3733920" cy="662940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/>
          <p:nvPr/>
        </p:nvSpPr>
        <p:spPr>
          <a:xfrm>
            <a:off x="9144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04920" y="2273040"/>
            <a:ext cx="54100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肾单位结构： 在右图</a:t>
            </a:r>
            <a:r>
              <a:rPr b="0" lang="zh-CN" sz="2200" spc="-1" strike="noStrike">
                <a:solidFill>
                  <a:srgbClr val="000000"/>
                </a:solidFill>
                <a:latin typeface="黑体"/>
                <a:ea typeface="黑体"/>
              </a:rPr>
              <a:t>标示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   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③肾小球、④肾小囊、⑤肾小管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）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2.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（没有过滤的血）、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（原尿）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C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（尿液）、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D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（已过滤的血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3. </a:t>
            </a:r>
            <a:r>
              <a:rPr b="1" lang="zh-CN" sz="2200" spc="-1" strike="noStrike">
                <a:solidFill>
                  <a:srgbClr val="000000"/>
                </a:solidFill>
                <a:latin typeface="黑体"/>
                <a:ea typeface="黑体"/>
              </a:rPr>
              <a:t>箭头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2200" spc="-1" strike="noStrike">
                <a:solidFill>
                  <a:srgbClr val="000000"/>
                </a:solidFill>
                <a:latin typeface="黑体"/>
                <a:ea typeface="黑体"/>
              </a:rPr>
              <a:t>→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2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表示血液、原尿、尿液流向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4. </a:t>
            </a:r>
            <a:r>
              <a:rPr b="1" lang="zh-CN" sz="2200" spc="-1" strike="noStrike">
                <a:solidFill>
                  <a:srgbClr val="000000"/>
                </a:solidFill>
                <a:latin typeface="黑体"/>
                <a:ea typeface="黑体"/>
              </a:rPr>
              <a:t>箭头“→”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表示过滤和重吸收位置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760320"/>
            <a:ext cx="365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请同学们在右边肾单位示意图中标示出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2"/>
          <a:stretch/>
        </p:blipFill>
        <p:spPr>
          <a:xfrm>
            <a:off x="5410080" y="228600"/>
            <a:ext cx="3733920" cy="662940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5410080" y="144792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472720" y="2438280"/>
            <a:ext cx="48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914400" y="0"/>
            <a:ext cx="4529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0" y="46080"/>
            <a:ext cx="293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小试牛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0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7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5410080" y="228600"/>
            <a:ext cx="3733920" cy="662940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/>
          <p:nvPr/>
        </p:nvSpPr>
        <p:spPr>
          <a:xfrm>
            <a:off x="9144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04920" y="2273040"/>
            <a:ext cx="54100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肾单位结构： 在右图</a:t>
            </a:r>
            <a:r>
              <a:rPr b="0" lang="zh-CN" sz="2200" spc="-1" strike="noStrike">
                <a:solidFill>
                  <a:srgbClr val="000000"/>
                </a:solidFill>
                <a:latin typeface="黑体"/>
                <a:ea typeface="黑体"/>
              </a:rPr>
              <a:t>标示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   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③肾小球、④肾小囊、⑤肾小管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）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2.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（没有过滤的血）、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（原尿）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C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（尿液）、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D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（已过滤的血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3. </a:t>
            </a:r>
            <a:r>
              <a:rPr b="1" lang="zh-CN" sz="2200" spc="-1" strike="noStrike">
                <a:solidFill>
                  <a:srgbClr val="000000"/>
                </a:solidFill>
                <a:latin typeface="黑体"/>
                <a:ea typeface="黑体"/>
              </a:rPr>
              <a:t>箭头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2200" spc="-1" strike="noStrike">
                <a:solidFill>
                  <a:srgbClr val="000000"/>
                </a:solidFill>
                <a:latin typeface="黑体"/>
                <a:ea typeface="黑体"/>
              </a:rPr>
              <a:t>→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2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表示血液、原尿、尿液流向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4. </a:t>
            </a:r>
            <a:r>
              <a:rPr b="1" lang="zh-CN" sz="2200" spc="-1" strike="noStrike">
                <a:solidFill>
                  <a:srgbClr val="000000"/>
                </a:solidFill>
                <a:latin typeface="黑体"/>
                <a:ea typeface="黑体"/>
              </a:rPr>
              <a:t>箭头“→”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表示过滤和重吸收位置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0" y="760320"/>
            <a:ext cx="3657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请同学们在右边肾单位示意图中标示出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2"/>
          <a:stretch/>
        </p:blipFill>
        <p:spPr>
          <a:xfrm>
            <a:off x="5410080" y="228600"/>
            <a:ext cx="3733920" cy="66294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5410080" y="144792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5472720" y="2438280"/>
            <a:ext cx="48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914400" y="0"/>
            <a:ext cx="4529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0" y="46080"/>
            <a:ext cx="293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小试牛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948360" y="1974960"/>
            <a:ext cx="106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Wingdings"/>
                <a:ea typeface="Wingdings"/>
              </a:rPr>
              <a:t>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7178760" y="1614600"/>
            <a:ext cx="106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Wingdings"/>
                <a:ea typeface="Wingdings"/>
              </a:rPr>
              <a:t>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7899480" y="3573360"/>
            <a:ext cx="106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Wingdings"/>
                <a:ea typeface="Wingdings"/>
              </a:rPr>
              <a:t>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838840" y="8938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002280" y="4664160"/>
            <a:ext cx="65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7951680" y="5591160"/>
            <a:ext cx="72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7381800" y="2035080"/>
            <a:ext cx="72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5915160" y="1397160"/>
            <a:ext cx="4572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7" name=""/>
          <p:cNvCxnSpPr/>
          <p:nvPr/>
        </p:nvCxnSpPr>
        <p:spPr>
          <a:xfrm>
            <a:off x="5868720" y="1396800"/>
            <a:ext cx="1080" cy="432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8" name=""/>
          <p:cNvSpPr/>
          <p:nvPr/>
        </p:nvSpPr>
        <p:spPr>
          <a:xfrm>
            <a:off x="5486400" y="2957400"/>
            <a:ext cx="4572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15000" y="295740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661080" y="4921200"/>
            <a:ext cx="457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 flipH="1">
            <a:off x="6661080" y="5181480"/>
            <a:ext cx="5176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786800" y="4233960"/>
            <a:ext cx="457200" cy="6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flipH="1">
            <a:off x="7786800" y="42339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 flipH="1">
            <a:off x="7786800" y="4233960"/>
            <a:ext cx="31896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 flipH="1">
            <a:off x="7786800" y="4438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7786800" y="4653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0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4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2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5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8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1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4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7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0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知识整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701880" y="1417680"/>
            <a:ext cx="353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泌尿系统组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268360" y="2565360"/>
            <a:ext cx="63360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268360" y="2565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8604360" y="2565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732720" y="2565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7740720" y="2565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2268360" y="3371760"/>
            <a:ext cx="0" cy="164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57200" y="4071960"/>
            <a:ext cx="80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肾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4716360" y="1936800"/>
            <a:ext cx="0" cy="628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1763640" y="2925720"/>
            <a:ext cx="1224000" cy="446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肾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1763640" y="5013360"/>
            <a:ext cx="1224000" cy="576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2258640" y="3559320"/>
            <a:ext cx="729000" cy="11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基本单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393560" y="3573360"/>
            <a:ext cx="729000" cy="11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结构功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906560" y="515160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肾单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2" name=""/>
          <p:cNvCxnSpPr>
            <a:stCxn id="301" idx="3"/>
          </p:cNvCxnSpPr>
          <p:nvPr/>
        </p:nvCxnSpPr>
        <p:spPr>
          <a:xfrm>
            <a:off x="2987280" y="5333760"/>
            <a:ext cx="793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3" name=""/>
          <p:cNvCxnSpPr/>
          <p:nvPr/>
        </p:nvCxnSpPr>
        <p:spPr>
          <a:xfrm>
            <a:off x="3779640" y="3573360"/>
            <a:ext cx="1080" cy="2377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4" name=""/>
          <p:cNvCxnSpPr/>
          <p:nvPr/>
        </p:nvCxnSpPr>
        <p:spPr>
          <a:xfrm>
            <a:off x="3780000" y="3573000"/>
            <a:ext cx="288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5" name=""/>
          <p:cNvCxnSpPr/>
          <p:nvPr/>
        </p:nvCxnSpPr>
        <p:spPr>
          <a:xfrm>
            <a:off x="3780000" y="5013000"/>
            <a:ext cx="288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6" name=""/>
          <p:cNvCxnSpPr/>
          <p:nvPr/>
        </p:nvCxnSpPr>
        <p:spPr>
          <a:xfrm>
            <a:off x="3780000" y="5949720"/>
            <a:ext cx="288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07" name=""/>
          <p:cNvSpPr/>
          <p:nvPr/>
        </p:nvSpPr>
        <p:spPr>
          <a:xfrm>
            <a:off x="4068720" y="3284640"/>
            <a:ext cx="1368360" cy="512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4068720" y="4640400"/>
            <a:ext cx="1368360" cy="511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068720" y="5692680"/>
            <a:ext cx="1368360" cy="51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6516720" y="2925720"/>
            <a:ext cx="504720" cy="1146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7488360" y="2924280"/>
            <a:ext cx="506160" cy="1146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8350200" y="2924280"/>
            <a:ext cx="506520" cy="1146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3" name=""/>
          <p:cNvCxnSpPr>
            <a:stCxn id="307" idx="2"/>
            <a:endCxn id="308" idx="0"/>
          </p:cNvCxnSpPr>
          <p:nvPr/>
        </p:nvCxnSpPr>
        <p:spPr>
          <a:xfrm>
            <a:off x="4752720" y="3797280"/>
            <a:ext cx="1080" cy="843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4" name=""/>
          <p:cNvSpPr/>
          <p:nvPr/>
        </p:nvSpPr>
        <p:spPr>
          <a:xfrm>
            <a:off x="4848120" y="3916440"/>
            <a:ext cx="58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过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5" name=""/>
          <p:cNvCxnSpPr>
            <a:stCxn id="308" idx="2"/>
            <a:endCxn id="309" idx="0"/>
          </p:cNvCxnSpPr>
          <p:nvPr/>
        </p:nvCxnSpPr>
        <p:spPr>
          <a:xfrm>
            <a:off x="4752720" y="5151240"/>
            <a:ext cx="1080" cy="541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6" name=""/>
          <p:cNvSpPr/>
          <p:nvPr/>
        </p:nvSpPr>
        <p:spPr>
          <a:xfrm>
            <a:off x="4213080" y="337176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肾小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4213080" y="474012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肾小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308480" y="576576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肾小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9" name=""/>
          <p:cNvCxnSpPr>
            <a:stCxn id="309" idx="3"/>
            <a:endCxn id="320" idx="0"/>
          </p:cNvCxnSpPr>
          <p:nvPr/>
        </p:nvCxnSpPr>
        <p:spPr>
          <a:xfrm>
            <a:off x="5436720" y="5949720"/>
            <a:ext cx="577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21" name=""/>
          <p:cNvSpPr/>
          <p:nvPr/>
        </p:nvSpPr>
        <p:spPr>
          <a:xfrm>
            <a:off x="6012000" y="3575160"/>
            <a:ext cx="1440" cy="237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2" name=""/>
          <p:cNvCxnSpPr>
            <a:stCxn id="321" idx="0"/>
          </p:cNvCxnSpPr>
          <p:nvPr/>
        </p:nvCxnSpPr>
        <p:spPr>
          <a:xfrm>
            <a:off x="6012000" y="3574800"/>
            <a:ext cx="505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23" name=""/>
          <p:cNvSpPr/>
          <p:nvPr/>
        </p:nvSpPr>
        <p:spPr>
          <a:xfrm>
            <a:off x="6062040" y="4437000"/>
            <a:ext cx="454680" cy="12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重吸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292440" y="2924280"/>
            <a:ext cx="72900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输   尿   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7539840" y="2946240"/>
            <a:ext cx="454680" cy="12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膀       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8402040" y="2924280"/>
            <a:ext cx="45468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尿       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7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3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考点扫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排泄与排遗的区别，并描述其他排泄途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人体泌尿系统的组成及各部分功能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尿的形成和排出过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人粪尿的处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1600200" y="4206960"/>
            <a:ext cx="1971720" cy="1022400"/>
            <a:chOff x="1600200" y="4206960"/>
            <a:chExt cx="1971720" cy="1022400"/>
          </a:xfrm>
        </p:grpSpPr>
        <p:sp>
          <p:nvSpPr>
            <p:cNvPr id="45" name=""/>
            <p:cNvSpPr/>
            <p:nvPr/>
          </p:nvSpPr>
          <p:spPr>
            <a:xfrm>
              <a:off x="1600200" y="4206960"/>
              <a:ext cx="1971720" cy="1022400"/>
            </a:xfrm>
            <a:prstGeom prst="irregularSeal2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111400" y="4498920"/>
              <a:ext cx="1241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尿素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" name=""/>
          <p:cNvGrpSpPr/>
          <p:nvPr/>
        </p:nvGrpSpPr>
        <p:grpSpPr>
          <a:xfrm>
            <a:off x="1533600" y="851040"/>
            <a:ext cx="1971720" cy="583920"/>
            <a:chOff x="1533600" y="851040"/>
            <a:chExt cx="1971720" cy="583920"/>
          </a:xfrm>
        </p:grpSpPr>
        <p:sp>
          <p:nvSpPr>
            <p:cNvPr id="48" name=""/>
            <p:cNvSpPr/>
            <p:nvPr/>
          </p:nvSpPr>
          <p:spPr>
            <a:xfrm>
              <a:off x="1533600" y="851040"/>
              <a:ext cx="1971720" cy="583920"/>
            </a:xfrm>
            <a:prstGeom prst="cloudCallout">
              <a:avLst>
                <a:gd name="adj1" fmla="val -43750"/>
                <a:gd name="adj2" fmla="val 70000"/>
              </a:avLst>
            </a:prstGeom>
            <a:gradFill rotWithShape="0">
              <a:gsLst>
                <a:gs pos="0">
                  <a:srgbClr val="ccff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074320" y="85104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二氧化碳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1533600" y="2043000"/>
            <a:ext cx="1895040" cy="809280"/>
            <a:chOff x="1533600" y="2043000"/>
            <a:chExt cx="1895040" cy="809280"/>
          </a:xfrm>
        </p:grpSpPr>
        <p:sp>
          <p:nvSpPr>
            <p:cNvPr id="51" name=""/>
            <p:cNvSpPr/>
            <p:nvPr/>
          </p:nvSpPr>
          <p:spPr>
            <a:xfrm>
              <a:off x="1533600" y="2043000"/>
              <a:ext cx="1895040" cy="809280"/>
            </a:xfrm>
            <a:prstGeom prst="ellips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986120" y="213300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多余的水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1676520" y="3348000"/>
            <a:ext cx="1752480" cy="657360"/>
            <a:chOff x="1676520" y="3348000"/>
            <a:chExt cx="1752480" cy="657360"/>
          </a:xfrm>
        </p:grpSpPr>
        <p:sp>
          <p:nvSpPr>
            <p:cNvPr id="54" name=""/>
            <p:cNvSpPr/>
            <p:nvPr/>
          </p:nvSpPr>
          <p:spPr>
            <a:xfrm>
              <a:off x="1676520" y="3348000"/>
              <a:ext cx="1752480" cy="6573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154960" y="342108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无机盐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1676520" y="5410080"/>
            <a:ext cx="1679400" cy="961920"/>
            <a:chOff x="1676520" y="5410080"/>
            <a:chExt cx="1679400" cy="961920"/>
          </a:xfrm>
        </p:grpSpPr>
        <p:grpSp>
          <p:nvGrpSpPr>
            <p:cNvPr id="57" name=""/>
            <p:cNvGrpSpPr/>
            <p:nvPr/>
          </p:nvGrpSpPr>
          <p:grpSpPr>
            <a:xfrm>
              <a:off x="1676520" y="5410080"/>
              <a:ext cx="1679400" cy="961920"/>
              <a:chOff x="1676520" y="5410080"/>
              <a:chExt cx="1679400" cy="961920"/>
            </a:xfrm>
          </p:grpSpPr>
          <p:sp>
            <p:nvSpPr>
              <p:cNvPr id="58" name=""/>
              <p:cNvSpPr/>
              <p:nvPr/>
            </p:nvSpPr>
            <p:spPr>
              <a:xfrm>
                <a:off x="1676520" y="5860440"/>
                <a:ext cx="1679400" cy="511560"/>
              </a:xfrm>
              <a:prstGeom prst="ellipse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93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895400" y="5714280"/>
                <a:ext cx="1240920" cy="365040"/>
              </a:xfrm>
              <a:prstGeom prst="ellipse">
                <a:avLst/>
              </a:prstGeom>
              <a:blipFill rotWithShape="0">
                <a:blip r:embed="rId5"/>
                <a:srcRect/>
                <a:tile tx="0" ty="0" sx="100000" sy="100000" algn="ctr"/>
              </a:blipFill>
              <a:ln w="93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2187720" y="5641200"/>
                <a:ext cx="729720" cy="219240"/>
              </a:xfrm>
              <a:prstGeom prst="ellipse">
                <a:avLst/>
              </a:prstGeom>
              <a:blipFill rotWithShape="0">
                <a:blip r:embed="rId6"/>
                <a:srcRect/>
                <a:tile tx="0" ty="0" sx="100000" sy="100000" algn="ctr"/>
              </a:blipFill>
              <a:ln w="93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未知"/>
              <p:cNvSpPr/>
              <p:nvPr/>
            </p:nvSpPr>
            <p:spPr>
              <a:xfrm>
                <a:off x="2406600" y="5410080"/>
                <a:ext cx="401400" cy="377640"/>
              </a:xfrm>
              <a:custGeom>
                <a:avLst/>
                <a:gdLst/>
                <a:ahLst/>
                <a:rect l="l" t="t" r="r" b="b"/>
                <a:pathLst>
                  <a:path w="264" h="248">
                    <a:moveTo>
                      <a:pt x="48" y="144"/>
                    </a:moveTo>
                    <a:cubicBezTo>
                      <a:pt x="64" y="136"/>
                      <a:pt x="88" y="120"/>
                      <a:pt x="96" y="96"/>
                    </a:cubicBezTo>
                    <a:cubicBezTo>
                      <a:pt x="104" y="72"/>
                      <a:pt x="80" y="0"/>
                      <a:pt x="96" y="0"/>
                    </a:cubicBezTo>
                    <a:cubicBezTo>
                      <a:pt x="112" y="0"/>
                      <a:pt x="168" y="64"/>
                      <a:pt x="192" y="96"/>
                    </a:cubicBezTo>
                    <a:cubicBezTo>
                      <a:pt x="216" y="128"/>
                      <a:pt x="264" y="168"/>
                      <a:pt x="240" y="192"/>
                    </a:cubicBezTo>
                    <a:cubicBezTo>
                      <a:pt x="216" y="216"/>
                      <a:pt x="88" y="248"/>
                      <a:pt x="48" y="240"/>
                    </a:cubicBezTo>
                    <a:cubicBezTo>
                      <a:pt x="8" y="232"/>
                      <a:pt x="0" y="160"/>
                      <a:pt x="0" y="144"/>
                    </a:cubicBezTo>
                    <a:cubicBezTo>
                      <a:pt x="0" y="128"/>
                      <a:pt x="32" y="152"/>
                      <a:pt x="48" y="144"/>
                    </a:cubicBezTo>
                    <a:close/>
                  </a:path>
                </a:pathLst>
              </a:custGeom>
              <a:blipFill rotWithShape="0">
                <a:blip r:embed="rId7"/>
                <a:srcRect/>
                <a:tile tx="0" ty="0" sx="100000" sy="100000" algn="ctr"/>
              </a:blipFill>
              <a:ln w="936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" name=""/>
            <p:cNvSpPr/>
            <p:nvPr/>
          </p:nvSpPr>
          <p:spPr>
            <a:xfrm>
              <a:off x="2280600" y="571428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粪便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3581280" y="2819520"/>
            <a:ext cx="914400" cy="1980360"/>
            <a:chOff x="3581280" y="2819520"/>
            <a:chExt cx="914400" cy="1980360"/>
          </a:xfrm>
        </p:grpSpPr>
        <p:sp>
          <p:nvSpPr>
            <p:cNvPr id="64" name=""/>
            <p:cNvSpPr/>
            <p:nvPr/>
          </p:nvSpPr>
          <p:spPr>
            <a:xfrm>
              <a:off x="3616200" y="3743640"/>
              <a:ext cx="879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616200" y="2819520"/>
              <a:ext cx="879120" cy="92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 flipV="1">
              <a:off x="3581280" y="3743280"/>
              <a:ext cx="914400" cy="1056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" name=""/>
          <p:cNvSpPr/>
          <p:nvPr/>
        </p:nvSpPr>
        <p:spPr>
          <a:xfrm>
            <a:off x="4191120" y="1143000"/>
            <a:ext cx="152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呼吸系统以</a:t>
            </a:r>
            <a:r>
              <a:rPr b="0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气体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形式排出体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0" y="2666880"/>
            <a:ext cx="125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皮肤以 </a:t>
            </a:r>
            <a:r>
              <a:rPr b="0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汗液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的形式排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733920" y="5867280"/>
            <a:ext cx="1447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457960" y="5562720"/>
            <a:ext cx="170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排出体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0" y="5638680"/>
            <a:ext cx="1676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399"/>
                </a:solidFill>
                <a:latin typeface="黑体"/>
                <a:ea typeface="黑体"/>
              </a:rPr>
              <a:t>食物消化后的残渣形成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52280" y="-139680"/>
            <a:ext cx="80773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考点</a:t>
            </a:r>
            <a:r>
              <a:rPr b="1" lang="en-US" sz="4000" spc="-1" strike="noStrike">
                <a:solidFill>
                  <a:srgbClr val="ff0000"/>
                </a:solidFill>
                <a:latin typeface="宋体"/>
              </a:rPr>
              <a:t>1  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排泄和排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315200" y="5486400"/>
            <a:ext cx="136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黑体"/>
                <a:ea typeface="黑体"/>
              </a:rPr>
              <a:t>排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048360" y="1295280"/>
            <a:ext cx="895320" cy="520560"/>
          </a:xfrm>
          <a:prstGeom prst="rect">
            <a:avLst/>
          </a:prstGeom>
          <a:noFill/>
          <a:ln w="316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途径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495680" y="3886200"/>
            <a:ext cx="1600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泌尿系统以</a:t>
            </a:r>
            <a:r>
              <a:rPr b="0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尿液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的形式排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048360" y="2895480"/>
            <a:ext cx="895320" cy="520560"/>
          </a:xfrm>
          <a:prstGeom prst="rect">
            <a:avLst/>
          </a:prstGeom>
          <a:noFill/>
          <a:ln w="316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途径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48360" y="4114800"/>
            <a:ext cx="895320" cy="520560"/>
          </a:xfrm>
          <a:prstGeom prst="rect">
            <a:avLst/>
          </a:prstGeom>
          <a:noFill/>
          <a:ln w="316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途径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3525840" y="1117440"/>
            <a:ext cx="685800" cy="1158840"/>
            <a:chOff x="3525840" y="1117440"/>
            <a:chExt cx="685800" cy="1158840"/>
          </a:xfrm>
        </p:grpSpPr>
        <p:sp>
          <p:nvSpPr>
            <p:cNvPr id="79" name=""/>
            <p:cNvSpPr/>
            <p:nvPr/>
          </p:nvSpPr>
          <p:spPr>
            <a:xfrm>
              <a:off x="3525840" y="1117440"/>
              <a:ext cx="685800" cy="413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 flipV="1">
              <a:off x="3525840" y="1531080"/>
              <a:ext cx="685800" cy="745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"/>
          <p:cNvSpPr/>
          <p:nvPr/>
        </p:nvSpPr>
        <p:spPr>
          <a:xfrm>
            <a:off x="7238880" y="1600200"/>
            <a:ext cx="303480" cy="2743200"/>
          </a:xfrm>
          <a:custGeom>
            <a:avLst/>
            <a:gdLst>
              <a:gd name="textAreaLeft" fmla="*/ 0 w 303480"/>
              <a:gd name="textAreaRight" fmla="*/ 109440 w 303480"/>
              <a:gd name="textAreaTop" fmla="*/ 71280 h 2743200"/>
              <a:gd name="textAreaBottom" fmla="*/ 2671920 h 2743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772400" y="262080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排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294080" y="144792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气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599000" y="297180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汗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599000" y="419112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尿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427880" y="3244680"/>
            <a:ext cx="160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800080"/>
                </a:solidFill>
                <a:latin typeface="Arial"/>
              </a:rPr>
              <a:t>（细胞内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800080"/>
                </a:solidFill>
                <a:latin typeface="Arial"/>
              </a:rPr>
              <a:t>  </a:t>
            </a:r>
            <a:r>
              <a:rPr b="1" lang="zh-CN" sz="1800" spc="-1" strike="noStrike">
                <a:solidFill>
                  <a:srgbClr val="800080"/>
                </a:solidFill>
                <a:latin typeface="Arial"/>
              </a:rPr>
              <a:t>生的废物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315200" y="606600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800080"/>
                </a:solidFill>
                <a:latin typeface="Arial"/>
              </a:rPr>
              <a:t>（不是细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800080"/>
                </a:solidFill>
                <a:latin typeface="Arial"/>
              </a:rPr>
              <a:t>内产生的废物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838080" y="1500120"/>
            <a:ext cx="3648240" cy="4824360"/>
          </a:xfrm>
          <a:prstGeom prst="rect">
            <a:avLst/>
          </a:prstGeom>
          <a:ln w="0">
            <a:noFill/>
          </a:ln>
        </p:spPr>
      </p:pic>
      <p:grpSp>
        <p:nvGrpSpPr>
          <p:cNvPr id="89" name=""/>
          <p:cNvGrpSpPr/>
          <p:nvPr/>
        </p:nvGrpSpPr>
        <p:grpSpPr>
          <a:xfrm>
            <a:off x="2208240" y="3055680"/>
            <a:ext cx="2204640" cy="198360"/>
            <a:chOff x="2208240" y="3055680"/>
            <a:chExt cx="2204640" cy="198360"/>
          </a:xfrm>
        </p:grpSpPr>
        <p:sp>
          <p:nvSpPr>
            <p:cNvPr id="90" name=""/>
            <p:cNvSpPr/>
            <p:nvPr/>
          </p:nvSpPr>
          <p:spPr>
            <a:xfrm>
              <a:off x="2916720" y="3055680"/>
              <a:ext cx="1496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V="1">
              <a:off x="2208240" y="3055680"/>
              <a:ext cx="1496160" cy="198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2352600" y="3787560"/>
            <a:ext cx="2252520" cy="431640"/>
            <a:chOff x="2352600" y="3787560"/>
            <a:chExt cx="2252520" cy="431640"/>
          </a:xfrm>
        </p:grpSpPr>
        <p:sp>
          <p:nvSpPr>
            <p:cNvPr id="93" name=""/>
            <p:cNvSpPr/>
            <p:nvPr/>
          </p:nvSpPr>
          <p:spPr>
            <a:xfrm>
              <a:off x="2928960" y="3816360"/>
              <a:ext cx="1676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 flipV="1">
              <a:off x="2352600" y="3787560"/>
              <a:ext cx="1139760" cy="431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/>
          <p:nvPr/>
        </p:nvSpPr>
        <p:spPr>
          <a:xfrm>
            <a:off x="2928960" y="527040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784600" y="566100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-291960" y="-139680"/>
            <a:ext cx="8597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宋体"/>
              </a:rPr>
              <a:t> </a:t>
            </a:r>
            <a:r>
              <a:rPr b="1" lang="zh-CN" sz="4400" spc="-1" strike="noStrike">
                <a:solidFill>
                  <a:srgbClr val="ff0000"/>
                </a:solidFill>
                <a:latin typeface="宋体"/>
              </a:rPr>
              <a:t>考点</a:t>
            </a:r>
            <a:r>
              <a:rPr b="1" lang="en-US" sz="4400" spc="-1" strike="noStrike">
                <a:solidFill>
                  <a:srgbClr val="ff0000"/>
                </a:solidFill>
                <a:latin typeface="宋体"/>
              </a:rPr>
              <a:t>2 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泌尿系统的组成和功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211880" y="3625920"/>
            <a:ext cx="112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输送尿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955920" y="4997520"/>
            <a:ext cx="163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暂时贮存尿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805440" y="5638680"/>
            <a:ext cx="207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排出尿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28600" y="28954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肾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572000" y="3581280"/>
            <a:ext cx="14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输尿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00600" y="4952880"/>
            <a:ext cx="90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膀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737240" y="5486400"/>
            <a:ext cx="105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尿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33"/>
          <p:cNvSpPr/>
          <p:nvPr/>
        </p:nvSpPr>
        <p:spPr>
          <a:xfrm>
            <a:off x="6805440" y="2909880"/>
            <a:ext cx="194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形成尿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486400" y="3200400"/>
            <a:ext cx="1319040" cy="0"/>
          </a:xfrm>
          <a:prstGeom prst="line">
            <a:avLst/>
          </a:prstGeom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标题 1"/>
          <p:cNvSpPr/>
          <p:nvPr/>
        </p:nvSpPr>
        <p:spPr>
          <a:xfrm>
            <a:off x="152280" y="2944800"/>
            <a:ext cx="76212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左大括号 6"/>
          <p:cNvSpPr/>
          <p:nvPr/>
        </p:nvSpPr>
        <p:spPr>
          <a:xfrm>
            <a:off x="698400" y="2895480"/>
            <a:ext cx="1067040" cy="2895840"/>
          </a:xfrm>
          <a:custGeom>
            <a:avLst/>
            <a:gdLst>
              <a:gd name="textAreaLeft" fmla="*/ 681840 w 1067040"/>
              <a:gd name="textAreaRight" fmla="*/ 1067400 w 1067040"/>
              <a:gd name="textAreaTop" fmla="*/ 184320 h 2895840"/>
              <a:gd name="textAreaBottom" fmla="*/ 2711520 h 2895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197"/>
                  <a:pt x="10800" y="4393"/>
                </a:cubicBezTo>
                <a:lnTo>
                  <a:pt x="10800" y="6407"/>
                </a:lnTo>
                <a:cubicBezTo>
                  <a:pt x="10800" y="8604"/>
                  <a:pt x="5400" y="10800"/>
                  <a:pt x="0" y="10800"/>
                </a:cubicBezTo>
                <a:cubicBezTo>
                  <a:pt x="5400" y="10800"/>
                  <a:pt x="10800" y="12997"/>
                  <a:pt x="10800" y="15193"/>
                </a:cubicBezTo>
                <a:lnTo>
                  <a:pt x="10800" y="17207"/>
                </a:lnTo>
                <a:cubicBezTo>
                  <a:pt x="10800" y="1940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638680" y="5257800"/>
            <a:ext cx="928800" cy="12600"/>
          </a:xfrm>
          <a:prstGeom prst="line">
            <a:avLst/>
          </a:prstGeom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791320" y="3886200"/>
            <a:ext cx="1133280" cy="0"/>
          </a:xfrm>
          <a:prstGeom prst="line">
            <a:avLst/>
          </a:prstGeom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562720" y="5791320"/>
            <a:ext cx="1242720" cy="0"/>
          </a:xfrm>
          <a:prstGeom prst="line">
            <a:avLst/>
          </a:prstGeom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尿的形成图"/>
          <p:cNvPicPr/>
          <p:nvPr/>
        </p:nvPicPr>
        <p:blipFill>
          <a:blip r:embed="rId1"/>
          <a:srcRect l="0" t="0" r="52128" b="0"/>
          <a:stretch/>
        </p:blipFill>
        <p:spPr>
          <a:xfrm>
            <a:off x="0" y="2819520"/>
            <a:ext cx="2489040" cy="403848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-368280" y="-139680"/>
            <a:ext cx="8597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宋体"/>
              </a:rPr>
              <a:t> </a:t>
            </a:r>
            <a:r>
              <a:rPr b="1" lang="zh-CN" sz="4400" spc="-1" strike="noStrike">
                <a:solidFill>
                  <a:srgbClr val="ff0000"/>
                </a:solidFill>
                <a:latin typeface="宋体"/>
              </a:rPr>
              <a:t>考点</a:t>
            </a:r>
            <a:r>
              <a:rPr b="1" lang="en-US" sz="4400" spc="-1" strike="noStrike">
                <a:solidFill>
                  <a:srgbClr val="ff0000"/>
                </a:solidFill>
                <a:latin typeface="宋体"/>
              </a:rPr>
              <a:t>3 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尿液的形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3200400" y="1219320"/>
            <a:ext cx="3443400" cy="510516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4724280" y="2286000"/>
            <a:ext cx="1371600" cy="0"/>
          </a:xfrm>
          <a:prstGeom prst="line">
            <a:avLst/>
          </a:prstGeom>
          <a:ln w="381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696080" y="2133720"/>
            <a:ext cx="314280" cy="2133360"/>
          </a:xfrm>
          <a:custGeom>
            <a:avLst/>
            <a:gdLst>
              <a:gd name="textAreaLeft" fmla="*/ 0 w 314280"/>
              <a:gd name="textAreaRight" fmla="*/ 113400 w 314280"/>
              <a:gd name="textAreaTop" fmla="*/ 55440 h 2133360"/>
              <a:gd name="textAreaBottom" fmla="*/ 2077920 h 2133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8001000" y="1874880"/>
            <a:ext cx="83808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66"/>
                </a:solidFill>
                <a:latin typeface="Times New Roman"/>
                <a:ea typeface="华文行楷"/>
              </a:rPr>
              <a:t>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66"/>
                </a:solidFill>
                <a:latin typeface="Times New Roman"/>
                <a:ea typeface="华文行楷"/>
              </a:rPr>
              <a:t>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66"/>
                </a:solidFill>
                <a:latin typeface="Times New Roman"/>
                <a:ea typeface="华文行楷"/>
              </a:rPr>
              <a:t>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410080" y="838080"/>
            <a:ext cx="1143000" cy="5410080"/>
            <a:chOff x="5410080" y="838080"/>
            <a:chExt cx="1143000" cy="5410080"/>
          </a:xfrm>
        </p:grpSpPr>
        <p:grpSp>
          <p:nvGrpSpPr>
            <p:cNvPr id="119" name=""/>
            <p:cNvGrpSpPr/>
            <p:nvPr/>
          </p:nvGrpSpPr>
          <p:grpSpPr>
            <a:xfrm>
              <a:off x="5410080" y="838080"/>
              <a:ext cx="990720" cy="3657600"/>
              <a:chOff x="5410080" y="838080"/>
              <a:chExt cx="990720" cy="3657600"/>
            </a:xfrm>
          </p:grpSpPr>
          <p:sp>
            <p:nvSpPr>
              <p:cNvPr id="120" name=""/>
              <p:cNvSpPr/>
              <p:nvPr/>
            </p:nvSpPr>
            <p:spPr>
              <a:xfrm>
                <a:off x="5790960" y="2819160"/>
                <a:ext cx="609840" cy="763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5410080" y="838080"/>
                <a:ext cx="380880" cy="763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2" name=""/>
              <p:cNvGrpSpPr/>
              <p:nvPr/>
            </p:nvGrpSpPr>
            <p:grpSpPr>
              <a:xfrm>
                <a:off x="5715000" y="1066680"/>
                <a:ext cx="685800" cy="3429000"/>
                <a:chOff x="5715000" y="1066680"/>
                <a:chExt cx="685800" cy="3429000"/>
              </a:xfrm>
            </p:grpSpPr>
            <p:sp>
              <p:nvSpPr>
                <p:cNvPr id="123" name=""/>
                <p:cNvSpPr/>
                <p:nvPr/>
              </p:nvSpPr>
              <p:spPr>
                <a:xfrm>
                  <a:off x="6095880" y="4343400"/>
                  <a:ext cx="30492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6095880" y="1066680"/>
                  <a:ext cx="304920" cy="763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6248520" y="198108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5715000" y="3809880"/>
                  <a:ext cx="685800" cy="763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7" name=""/>
            <p:cNvSpPr/>
            <p:nvPr/>
          </p:nvSpPr>
          <p:spPr>
            <a:xfrm>
              <a:off x="5410080" y="6019560"/>
              <a:ext cx="114300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4876920" y="2590920"/>
            <a:ext cx="1295280" cy="0"/>
          </a:xfrm>
          <a:prstGeom prst="line">
            <a:avLst/>
          </a:prstGeom>
          <a:ln w="381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133720" y="1066680"/>
            <a:ext cx="1728720" cy="505080"/>
          </a:xfrm>
          <a:prstGeom prst="wedgeRoundRectCallout">
            <a:avLst>
              <a:gd name="adj1" fmla="val 98578"/>
              <a:gd name="adj2" fmla="val 59120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入球</a:t>
            </a:r>
            <a:r>
              <a:rPr b="0" lang="zh-CN" sz="2000" spc="-1" strike="noStrike">
                <a:solidFill>
                  <a:srgbClr val="ff0000"/>
                </a:solidFill>
                <a:latin typeface="Verdana"/>
              </a:rPr>
              <a:t>小动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324480" y="685800"/>
            <a:ext cx="1729080" cy="504720"/>
          </a:xfrm>
          <a:prstGeom prst="wedgeRoundRectCallout">
            <a:avLst>
              <a:gd name="adj1" fmla="val -110055"/>
              <a:gd name="adj2" fmla="val 163523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出球</a:t>
            </a:r>
            <a:r>
              <a:rPr b="0" lang="zh-CN" sz="2000" spc="-1" strike="noStrike">
                <a:solidFill>
                  <a:srgbClr val="ff0000"/>
                </a:solidFill>
                <a:latin typeface="Verdana"/>
              </a:rPr>
              <a:t>小动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599520" y="243828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Times New Roman"/>
                <a:ea typeface="华文行楷"/>
              </a:rPr>
              <a:t>肾小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294960" y="362736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Times New Roman"/>
                <a:ea typeface="华文行楷"/>
              </a:rPr>
              <a:t>肾小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800240" y="3978720"/>
            <a:ext cx="1232640" cy="21600"/>
          </a:xfrm>
          <a:prstGeom prst="line">
            <a:avLst/>
          </a:prstGeom>
          <a:ln w="381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0" bIns="-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6370920" y="1951200"/>
            <a:ext cx="1425240" cy="642600"/>
            <a:chOff x="6370920" y="1951200"/>
            <a:chExt cx="1425240" cy="642600"/>
          </a:xfrm>
        </p:grpSpPr>
        <p:sp>
          <p:nvSpPr>
            <p:cNvPr id="135" name=""/>
            <p:cNvSpPr/>
            <p:nvPr/>
          </p:nvSpPr>
          <p:spPr>
            <a:xfrm>
              <a:off x="6370920" y="1951200"/>
              <a:ext cx="1003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66"/>
                  </a:solidFill>
                  <a:latin typeface="Times New Roman"/>
                  <a:ea typeface="华文行楷"/>
                </a:rPr>
                <a:t>肾小球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651800" y="2229120"/>
              <a:ext cx="144360" cy="759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1981080" y="3886200"/>
            <a:ext cx="1219320" cy="457200"/>
          </a:xfrm>
          <a:prstGeom prst="rightArrow">
            <a:avLst>
              <a:gd name="adj1" fmla="val 21667"/>
              <a:gd name="adj2" fmla="val 46190"/>
            </a:avLst>
          </a:prstGeom>
          <a:noFill/>
          <a:ln w="349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1981080" y="6400800"/>
            <a:ext cx="7162920" cy="152280"/>
            <a:chOff x="1981080" y="6400800"/>
            <a:chExt cx="7162920" cy="152280"/>
          </a:xfrm>
        </p:grpSpPr>
        <p:sp>
          <p:nvSpPr>
            <p:cNvPr id="139" name=""/>
            <p:cNvSpPr/>
            <p:nvPr/>
          </p:nvSpPr>
          <p:spPr>
            <a:xfrm>
              <a:off x="2743200" y="6400800"/>
              <a:ext cx="6400800" cy="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981080" y="6553080"/>
              <a:ext cx="7162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0" y="380880"/>
            <a:ext cx="5867280" cy="533520"/>
            <a:chOff x="0" y="380880"/>
            <a:chExt cx="5867280" cy="533520"/>
          </a:xfrm>
        </p:grpSpPr>
        <p:sp>
          <p:nvSpPr>
            <p:cNvPr id="142" name=""/>
            <p:cNvSpPr/>
            <p:nvPr/>
          </p:nvSpPr>
          <p:spPr>
            <a:xfrm>
              <a:off x="228600" y="380880"/>
              <a:ext cx="403848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0" y="914400"/>
              <a:ext cx="586728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" name=""/>
          <p:cNvSpPr/>
          <p:nvPr/>
        </p:nvSpPr>
        <p:spPr>
          <a:xfrm>
            <a:off x="9144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2124000" y="1628640"/>
            <a:ext cx="4861080" cy="4608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华文行楷"/>
              </a:rPr>
              <a:t>尿液的形成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228600" y="838080"/>
            <a:ext cx="4724280" cy="356580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6858000" y="1523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肾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705720" y="243828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输尿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781680" y="33526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膀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858000" y="42670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尿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238880" y="205740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238880" y="29718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238880" y="388620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238880" y="48006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934320" y="53341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体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-216000" y="-63360"/>
            <a:ext cx="8597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宋体"/>
              </a:rPr>
              <a:t> </a:t>
            </a:r>
            <a:r>
              <a:rPr b="1" lang="zh-CN" sz="4400" spc="-1" strike="noStrike">
                <a:solidFill>
                  <a:srgbClr val="ff0000"/>
                </a:solidFill>
                <a:latin typeface="宋体"/>
              </a:rPr>
              <a:t>考点</a:t>
            </a:r>
            <a:r>
              <a:rPr b="1" lang="en-US" sz="4400" spc="-1" strike="noStrike">
                <a:solidFill>
                  <a:srgbClr val="ff0000"/>
                </a:solidFill>
                <a:latin typeface="宋体"/>
              </a:rPr>
              <a:t>4  </a:t>
            </a: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尿液的排出及意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5769000" y="685800"/>
            <a:ext cx="3375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、过程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6"/>
          <p:cNvSpPr/>
          <p:nvPr/>
        </p:nvSpPr>
        <p:spPr>
          <a:xfrm>
            <a:off x="0" y="4952880"/>
            <a:ext cx="66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排出</a:t>
            </a:r>
            <a:r>
              <a:rPr b="1" lang="zh-CN" sz="3600" spc="-1" strike="noStrike" u="sng">
                <a:solidFill>
                  <a:srgbClr val="ff3300"/>
                </a:solidFill>
                <a:uFillTx/>
                <a:latin typeface="Arial"/>
                <a:ea typeface="黑体"/>
              </a:rPr>
              <a:t>体内废物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，调节</a:t>
            </a:r>
            <a:r>
              <a:rPr b="1" lang="zh-CN" sz="3600" spc="-1" strike="noStrike" u="sng">
                <a:solidFill>
                  <a:srgbClr val="ff3300"/>
                </a:solidFill>
                <a:uFillTx/>
                <a:latin typeface="Arial"/>
                <a:ea typeface="黑体"/>
              </a:rPr>
              <a:t>体内水和无机盐的含量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，维持</a:t>
            </a:r>
            <a:r>
              <a:rPr b="1" lang="zh-CN" sz="3600" spc="-1" strike="noStrike" u="sng">
                <a:solidFill>
                  <a:srgbClr val="ff3300"/>
                </a:solidFill>
                <a:uFillTx/>
                <a:latin typeface="Arial"/>
                <a:ea typeface="黑体"/>
              </a:rPr>
              <a:t>组织细胞的正常生理功能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9"/>
          <p:cNvSpPr/>
          <p:nvPr/>
        </p:nvSpPr>
        <p:spPr>
          <a:xfrm>
            <a:off x="304920" y="4419720"/>
            <a:ext cx="23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意义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2"/>
          <p:cNvSpPr/>
          <p:nvPr/>
        </p:nvSpPr>
        <p:spPr>
          <a:xfrm>
            <a:off x="0" y="914400"/>
            <a:ext cx="8064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、人粪尿的优点：来源</a:t>
            </a:r>
            <a:r>
              <a:rPr b="1" lang="zh-CN" sz="3600" spc="-1" strike="noStrike">
                <a:solidFill>
                  <a:srgbClr val="ff0000"/>
                </a:solidFill>
                <a:latin typeface="Comic Sans MS"/>
              </a:rPr>
              <a:t>广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、养分</a:t>
            </a:r>
            <a:r>
              <a:rPr b="1" lang="zh-CN" sz="3600" spc="-1" strike="noStrike">
                <a:solidFill>
                  <a:srgbClr val="ff0000"/>
                </a:solidFill>
                <a:latin typeface="Comic Sans MS"/>
              </a:rPr>
              <a:t>全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、肥效</a:t>
            </a:r>
            <a:r>
              <a:rPr b="1" lang="zh-CN" sz="3600" spc="-1" strike="noStrike">
                <a:solidFill>
                  <a:srgbClr val="ff0000"/>
                </a:solidFill>
                <a:latin typeface="Comic Sans MS"/>
              </a:rPr>
              <a:t>持久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、能够</a:t>
            </a:r>
            <a:r>
              <a:rPr b="1" lang="zh-CN" sz="3600" spc="-1" strike="noStrike">
                <a:solidFill>
                  <a:srgbClr val="ff0000"/>
                </a:solidFill>
                <a:latin typeface="Comic Sans MS"/>
              </a:rPr>
              <a:t>改良土壤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、成本</a:t>
            </a:r>
            <a:r>
              <a:rPr b="1" lang="zh-CN" sz="3600" spc="-1" strike="noStrike">
                <a:solidFill>
                  <a:srgbClr val="ff0000"/>
                </a:solidFill>
                <a:latin typeface="Comic Sans MS"/>
              </a:rPr>
              <a:t>低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Comic Sans MS"/>
              </a:rPr>
              <a:t>2</a:t>
            </a:r>
            <a:r>
              <a:rPr b="1" lang="zh-CN" sz="3600" spc="-1" strike="noStrike">
                <a:solidFill>
                  <a:srgbClr val="003399"/>
                </a:solidFill>
                <a:latin typeface="Comic Sans MS"/>
              </a:rPr>
              <a:t>、无害化处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-291960" y="-139680"/>
            <a:ext cx="8597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 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考点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5</a:t>
            </a:r>
            <a:r>
              <a:rPr b="1" lang="en-US" sz="4000" spc="-1" strike="noStrike">
                <a:solidFill>
                  <a:srgbClr val="ff0000"/>
                </a:solidFill>
                <a:latin typeface="宋体"/>
              </a:rPr>
              <a:t> 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人粪尿优点、无害化处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5"/>
          <p:cNvSpPr/>
          <p:nvPr/>
        </p:nvSpPr>
        <p:spPr>
          <a:xfrm>
            <a:off x="152280" y="3368520"/>
            <a:ext cx="2667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333399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Comic Sans MS"/>
              </a:rPr>
              <a:t>沼气发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Comic Sans MS"/>
              </a:rPr>
              <a:t>  </a:t>
            </a:r>
            <a:r>
              <a:rPr b="1" lang="zh-CN" sz="2400" spc="-1" strike="noStrike">
                <a:solidFill>
                  <a:srgbClr val="333399"/>
                </a:solidFill>
                <a:latin typeface="Comic Sans MS"/>
              </a:rPr>
              <a:t>（窒息去害法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rcRect l="0" t="13461" r="0" b="3513"/>
          <a:stretch/>
        </p:blipFill>
        <p:spPr>
          <a:xfrm>
            <a:off x="0" y="4794120"/>
            <a:ext cx="2514600" cy="183528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6"/>
          <p:cNvSpPr/>
          <p:nvPr/>
        </p:nvSpPr>
        <p:spPr>
          <a:xfrm>
            <a:off x="3276720" y="3444840"/>
            <a:ext cx="243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(2) </a:t>
            </a:r>
            <a:r>
              <a:rPr b="1" lang="zh-CN" sz="2400" spc="-1" strike="noStrike">
                <a:solidFill>
                  <a:srgbClr val="333399"/>
                </a:solidFill>
                <a:latin typeface="Comic Sans MS"/>
              </a:rPr>
              <a:t>高温堆肥</a:t>
            </a:r>
            <a:r>
              <a:rPr b="1" lang="zh-CN" sz="24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（生物热去害法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4" descr=""/>
          <p:cNvPicPr/>
          <p:nvPr/>
        </p:nvPicPr>
        <p:blipFill>
          <a:blip r:embed="rId2"/>
          <a:stretch/>
        </p:blipFill>
        <p:spPr>
          <a:xfrm>
            <a:off x="2590920" y="4844880"/>
            <a:ext cx="2209680" cy="17082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5" descr=""/>
          <p:cNvPicPr/>
          <p:nvPr/>
        </p:nvPicPr>
        <p:blipFill>
          <a:blip r:embed="rId3"/>
          <a:stretch/>
        </p:blipFill>
        <p:spPr>
          <a:xfrm>
            <a:off x="4724280" y="4546440"/>
            <a:ext cx="2057400" cy="200664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8"/>
          <p:cNvSpPr/>
          <p:nvPr/>
        </p:nvSpPr>
        <p:spPr>
          <a:xfrm>
            <a:off x="6705720" y="33526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(3) </a:t>
            </a:r>
            <a:r>
              <a:rPr b="1" lang="zh-CN" sz="24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生态厕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4"/>
          <a:stretch/>
        </p:blipFill>
        <p:spPr>
          <a:xfrm>
            <a:off x="7110360" y="4114800"/>
            <a:ext cx="203364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尿的形成示意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92160" y="2205000"/>
            <a:ext cx="859464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4T15:02:30Z</dcterms:created>
  <dc:creator>wangyan</dc:creator>
  <dc:description/>
  <dc:language>en-US</dc:language>
  <cp:lastModifiedBy>Lenovo User</cp:lastModifiedBy>
  <cp:lastPrinted>1899-12-30T00:00:00Z</cp:lastPrinted>
  <dcterms:modified xsi:type="dcterms:W3CDTF">2012-12-17T01:56:05Z</dcterms:modified>
  <cp:revision>7</cp:revision>
  <dc:subject/>
  <dc:title>第五章   人体内废物的排出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089</vt:lpwstr>
  </property>
</Properties>
</file>