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D6DF-BF60-4D0A-A6A9-A31811C6B4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C97-BBCA-4871-8629-55DBA8A6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E52-753B-4DEE-9F86-85F05F8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22-BB4D-4835-AE58-8EFF0C11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781-ECD7-46DA-8D61-E64D6C3D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C069-668F-44B4-8C5E-D78F3900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C862-A9AD-42F3-AAFD-1755439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7C69-76A0-474C-9B38-1CBA8F7A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D45-DDB6-4E97-8862-42F3E3B7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FB15-AFF3-4171-ABEA-64847E1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28B-1925-4E10-9891-1AFBE6A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EB4-DB4B-4FBC-AB9D-E28C86C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B6E-168B-4F61-9E62-9FF18591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7B8-F642-48C5-A344-C4B3742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9C35-6249-4070-BD39-E58EF19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979-CCCF-4453-8174-CF1BC8E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8FC-3706-4DCD-A0C3-D5571C4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A8FF-2723-424E-AD40-1FFB146F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160D-10EC-4928-ADF9-76B5FC4F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0D19-489A-465D-A0F5-56F3443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DDCE-92EC-44F4-8FD8-3D3E701A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96FE-FAAD-4F85-B2A5-BFA4C50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77D1-11ED-4B5E-B3EA-39472E4E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390-284A-49A3-AD62-B370FC0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0270-5443-4B2B-AF19-BADB1C0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F41B-D6A7-4AE8-9216-F3DFE0C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E012-DFF9-425D-A94B-965A9C3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F83B-B2BB-4D23-B654-6E49D15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5F6F-2CDA-43AB-9C69-5FDEA5C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5576-C326-47D7-871B-924142DA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0375-8E71-4023-B4C0-C3EEA91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77909-6774-490D-BED8-43A18B3D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E972-88B8-4D01-A127-244EBE3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6647-222F-4607-AC3D-001FE8F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A12-3967-462B-B5CF-B9FF6E1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4932-A09A-49DA-BDDE-E56AFE3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B7E0-15D4-4682-A37D-C4BBE4B2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36EB-ACDA-4774-91F6-CFE4110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5910-4A92-4BF9-B8BE-ECA182F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1C5F-5A26-405B-93AF-15AC9DD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DF4E-81AF-4D55-BF85-52A659A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F1C1-F3F8-489A-90A7-5EF59E9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4405-9D29-4381-BAF0-21C6A7DB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BB4C-8792-4E76-B36C-BE3988F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363-FE42-4E0F-A64F-64EBF01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4F6-EFBE-4FBE-BB20-EBE1EF7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B87-073B-4298-B68D-090FDDD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5DE-B6F2-4B49-BBC7-F01F12F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9FF-E68E-412B-BF77-069BFE9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F4F-E6B6-4F86-B538-92757B75D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-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26D-B049-47CB-89BF-2942DE5CA5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122D-E1EF-4B4F-8F2E-943655CF9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1A6-3994-43DA-BA76-77D670CC8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79280" y="981000"/>
            <a:ext cx="83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一个人的生命是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6360" y="1701720"/>
            <a:ext cx="907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男性生殖系统中，产生生殖细胞的器官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送生殖细胞的器官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生殖系统中，产生生殖细胞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送生殖细胞的器官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4920" y="565776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子宫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79280" y="422100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受精卵不断进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逐渐发育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慢地移动到子宫中，最终植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是怀孕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456440" y="83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412040" y="170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睾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60080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输精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682320" y="270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卵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24044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输卵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772800" y="41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裂和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524720" y="4146480"/>
            <a:ext cx="15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618880" y="45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宫内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01880" y="5518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胎和胎儿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54728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：人的生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213080" y="5734080"/>
            <a:ext cx="44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地男女身高生长速度曲线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781280" y="189000"/>
            <a:ext cx="7362720" cy="5661000"/>
            <a:chOff x="1781280" y="189000"/>
            <a:chExt cx="7362720" cy="5661000"/>
          </a:xfrm>
        </p:grpSpPr>
        <p:pic>
          <p:nvPicPr>
            <p:cNvPr id="218" name="Picture 4" descr="7cbb14f98468727f552a9ed190ce110f"/>
            <p:cNvPicPr/>
            <p:nvPr/>
          </p:nvPicPr>
          <p:blipFill>
            <a:blip r:embed="rId1">
              <a:alphaModFix amt="56000"/>
            </a:blip>
            <a:stretch/>
          </p:blipFill>
          <p:spPr>
            <a:xfrm>
              <a:off x="1781280" y="189000"/>
              <a:ext cx="7362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Line 5"/>
            <p:cNvSpPr/>
            <p:nvPr/>
          </p:nvSpPr>
          <p:spPr>
            <a:xfrm>
              <a:off x="6102000" y="1691280"/>
              <a:ext cx="360" cy="346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5237640" y="2337120"/>
              <a:ext cx="720" cy="2823480"/>
            </a:xfrm>
            <a:prstGeom prst="line">
              <a:avLst/>
            </a:prstGeom>
            <a:ln w="93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7"/>
          <p:cNvSpPr/>
          <p:nvPr/>
        </p:nvSpPr>
        <p:spPr>
          <a:xfrm>
            <a:off x="395280" y="1197000"/>
            <a:ext cx="25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男女身高生长速度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差别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一般来说，女孩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早于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男孩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岁，女孩是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8.5-9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岁，男孩是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.5-11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188240" y="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身高突增是青春期的一个显著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Text Box 2"/>
          <p:cNvGrpSpPr/>
          <p:nvPr/>
        </p:nvGrpSpPr>
        <p:grpSpPr>
          <a:xfrm>
            <a:off x="828720" y="2346480"/>
            <a:ext cx="6694560" cy="2597040"/>
            <a:chOff x="828720" y="2346480"/>
            <a:chExt cx="6694560" cy="2597040"/>
          </a:xfrm>
        </p:grpSpPr>
        <p:pic>
          <p:nvPicPr>
            <p:cNvPr id="224" name="Text Box 2" descr=""/>
            <p:cNvPicPr/>
            <p:nvPr/>
          </p:nvPicPr>
          <p:blipFill>
            <a:blip r:embed="rId1"/>
            <a:stretch/>
          </p:blipFill>
          <p:spPr>
            <a:xfrm>
              <a:off x="830160" y="2346480"/>
              <a:ext cx="669276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rot="10800000">
              <a:off x="828720" y="2348640"/>
              <a:ext cx="669456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答：不同地区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不同生活状况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不同体质的同龄、同性别同学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都会有差异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"/>
          <p:cNvSpPr/>
          <p:nvPr/>
        </p:nvSpPr>
        <p:spPr>
          <a:xfrm>
            <a:off x="179280" y="26028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和本组同学的身高变化与图中数据完全一致吗？如果有出入，请分析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51325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1726560" y="6021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睾丸和卵巢的发育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435640" y="1123920"/>
            <a:ext cx="35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男孩女孩体形的变化与睾丸和卵巢的发育有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通过比较发现，男孩和女孩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身高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依次明显开始增加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体重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也依次明显增加，这必然会导致体形发生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00200" y="639720"/>
            <a:ext cx="2487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．男孩出现遗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85800" y="37479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遗精的间隔时间因人因条件而不同，多数是每月遗精一二次，也有短至三四天遗精一次的，只要不是过于频繁，都属正常之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53780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但是长时间频繁遗精，就需要请医生查明原因，进行治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62120" y="18579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男孩发生首次遗精的年龄一般是</a:t>
            </a:r>
            <a:r>
              <a:rPr b="1" lang="en-US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岁，但由于自然环境和生活条件的不同，首次遗精的时间差距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图片2"/>
          <p:cNvPicPr/>
          <p:nvPr/>
        </p:nvPicPr>
        <p:blipFill>
          <a:blip r:embed="rId1"/>
          <a:stretch/>
        </p:blipFill>
        <p:spPr>
          <a:xfrm>
            <a:off x="2514600" y="1752480"/>
            <a:ext cx="5715000" cy="41068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7"/>
          <p:cNvSpPr/>
          <p:nvPr/>
        </p:nvSpPr>
        <p:spPr>
          <a:xfrm>
            <a:off x="380880" y="4508640"/>
            <a:ext cx="3733920" cy="1295280"/>
          </a:xfrm>
          <a:prstGeom prst="cloudCallout">
            <a:avLst>
              <a:gd name="adj1" fmla="val 48384"/>
              <a:gd name="adj2" fmla="val -11985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为什么会遗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0" y="260280"/>
            <a:ext cx="8305920" cy="2286000"/>
          </a:xfrm>
          <a:prstGeom prst="cloudCallout">
            <a:avLst>
              <a:gd name="adj1" fmla="val 20430"/>
              <a:gd name="adj2" fmla="val -181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遗精是指男孩子进入青春期后，有时在睡梦中精液在尿道中排出的现象。精液是不断产生的，积存多了，就会排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月经1"/>
          <p:cNvPicPr/>
          <p:nvPr/>
        </p:nvPicPr>
        <p:blipFill>
          <a:blip r:embed="rId1"/>
          <a:stretch/>
        </p:blipFill>
        <p:spPr>
          <a:xfrm>
            <a:off x="228600" y="2666880"/>
            <a:ext cx="3457440" cy="3813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月经2"/>
          <p:cNvPicPr/>
          <p:nvPr/>
        </p:nvPicPr>
        <p:blipFill>
          <a:blip r:embed="rId2"/>
          <a:stretch/>
        </p:blipFill>
        <p:spPr>
          <a:xfrm>
            <a:off x="3324240" y="1676520"/>
            <a:ext cx="3610080" cy="4114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月经3"/>
          <p:cNvPicPr/>
          <p:nvPr/>
        </p:nvPicPr>
        <p:blipFill>
          <a:blip r:embed="rId3"/>
          <a:stretch/>
        </p:blipFill>
        <p:spPr>
          <a:xfrm>
            <a:off x="5486400" y="831960"/>
            <a:ext cx="3409920" cy="3816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85800" y="201744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从青春期开始，卵巢内的卵器官陆续发育成熟并排出，如果排出的卵没有受精，卵巢的雌激素和孕激素的分泌会很快减少，引起子宫内膜组织坏死脱落，血管破裂出血，脱落的子宫内膜碎片连同血液一起由阴道排出，这就是月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122200" y="609480"/>
            <a:ext cx="22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．女孩会来月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5800" y="5043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女孩子进入青春期以后第一次出现的月经，叫月经初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pic_33610"/>
          <p:cNvPicPr/>
          <p:nvPr/>
        </p:nvPicPr>
        <p:blipFill>
          <a:blip r:embed="rId1">
            <a:lum bright="-24000"/>
          </a:blip>
          <a:srcRect l="2003" t="0" r="3223" b="4636"/>
          <a:stretch/>
        </p:blipFill>
        <p:spPr>
          <a:xfrm>
            <a:off x="250920" y="476280"/>
            <a:ext cx="8496360" cy="578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768240" y="873000"/>
            <a:ext cx="7637400" cy="5173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684360" y="907920"/>
            <a:ext cx="5058360" cy="522360"/>
            <a:chOff x="684360" y="907920"/>
            <a:chExt cx="5058360" cy="522360"/>
          </a:xfrm>
        </p:grpSpPr>
        <p:sp>
          <p:nvSpPr>
            <p:cNvPr id="246" name="AutoShape 4"/>
            <p:cNvSpPr/>
            <p:nvPr/>
          </p:nvSpPr>
          <p:spPr>
            <a:xfrm>
              <a:off x="684360" y="947520"/>
              <a:ext cx="505836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66ccff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720360" y="907920"/>
              <a:ext cx="502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二、青春期心理变化及其卫生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6" descr="pic_33611"/>
          <p:cNvPicPr/>
          <p:nvPr/>
        </p:nvPicPr>
        <p:blipFill>
          <a:blip r:embed="rId1"/>
          <a:stretch/>
        </p:blipFill>
        <p:spPr>
          <a:xfrm>
            <a:off x="900000" y="1682640"/>
            <a:ext cx="4618080" cy="4086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7"/>
          <p:cNvGrpSpPr/>
          <p:nvPr/>
        </p:nvGrpSpPr>
        <p:grpSpPr>
          <a:xfrm>
            <a:off x="4284720" y="2763720"/>
            <a:ext cx="4032360" cy="1513080"/>
            <a:chOff x="4284720" y="2763720"/>
            <a:chExt cx="4032360" cy="1513080"/>
          </a:xfrm>
        </p:grpSpPr>
        <p:sp>
          <p:nvSpPr>
            <p:cNvPr id="250" name="AutoShape 8"/>
            <p:cNvSpPr/>
            <p:nvPr/>
          </p:nvSpPr>
          <p:spPr>
            <a:xfrm>
              <a:off x="4284720" y="2763720"/>
              <a:ext cx="4032360" cy="1513080"/>
            </a:xfrm>
            <a:prstGeom prst="leftArrow">
              <a:avLst>
                <a:gd name="adj1" fmla="val 50000"/>
                <a:gd name="adj2" fmla="val 66625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9"/>
            <p:cNvSpPr/>
            <p:nvPr/>
          </p:nvSpPr>
          <p:spPr>
            <a:xfrm>
              <a:off x="5296680" y="32439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了强烈的独立意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1376280"/>
            <a:ext cx="7750080" cy="414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pic_33612"/>
          <p:cNvPicPr/>
          <p:nvPr/>
        </p:nvPicPr>
        <p:blipFill>
          <a:blip r:embed="rId1"/>
          <a:srcRect l="0" t="0" r="5642" b="0"/>
          <a:stretch/>
        </p:blipFill>
        <p:spPr>
          <a:xfrm>
            <a:off x="3925800" y="1504800"/>
            <a:ext cx="4619880" cy="37958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900000" y="2424240"/>
            <a:ext cx="3024360" cy="2049480"/>
            <a:chOff x="900000" y="2424240"/>
            <a:chExt cx="3024360" cy="2049480"/>
          </a:xfrm>
        </p:grpSpPr>
        <p:sp>
          <p:nvSpPr>
            <p:cNvPr id="255" name="AutoShape 5"/>
            <p:cNvSpPr/>
            <p:nvPr/>
          </p:nvSpPr>
          <p:spPr>
            <a:xfrm>
              <a:off x="900000" y="2424240"/>
              <a:ext cx="3024360" cy="2049480"/>
            </a:xfrm>
            <a:prstGeom prst="rightArrowCallout">
              <a:avLst>
                <a:gd name="adj1" fmla="val 26280"/>
                <a:gd name="adj2" fmla="val 27245"/>
                <a:gd name="adj3" fmla="val 9981"/>
                <a:gd name="adj4" fmla="val 92009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900000" y="2529000"/>
              <a:ext cx="281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遇到挫折又有依赖性，渴望得到家长和老师的关怀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11360" y="1117440"/>
            <a:ext cx="7781760" cy="4623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ic_33613"/>
          <p:cNvPicPr/>
          <p:nvPr/>
        </p:nvPicPr>
        <p:blipFill>
          <a:blip r:embed="rId1"/>
          <a:stretch/>
        </p:blipFill>
        <p:spPr>
          <a:xfrm>
            <a:off x="755640" y="1300320"/>
            <a:ext cx="4753080" cy="273024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3989520" y="2066760"/>
            <a:ext cx="4038480" cy="2224080"/>
          </a:xfrm>
          <a:prstGeom prst="leftArrowCallout">
            <a:avLst>
              <a:gd name="adj1" fmla="val 25002"/>
              <a:gd name="adj2" fmla="val 25000"/>
              <a:gd name="adj3" fmla="val 30263"/>
              <a:gd name="adj4" fmla="val 666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357880" y="2211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心世界逐渐复杂，有的事情不想跟家长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00000" y="43797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有过类似的情况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当怎样正确处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期的想法和心理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烦恼增多，烦躁不安，与异性疏远，快乐十分的少，大部分时间都在压力和烦恼中度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些叛逆，心理上烦闷，越来越爱写日记，但日记被偷看后会十分生气。争强好胜，不服输，总好象有秘密不愿畅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觉得自己长大了，有很多心理矛盾。思想变得成熟了，有了强烈的独立意识，遇到挫折又有依赖性，内心世界逐渐复杂，有时遇到某些问题，不想跟家长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害羞，有青春豆时，很害怕被别人耻笑。有时候爸爸、妈妈对我说话，我很烦，不想给父母说的话都可以给同学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4920" y="1917720"/>
            <a:ext cx="9145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与母体进行物质交换的器官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（    ）周后，胎儿发育成熟，成熟的胎儿和胚盘从母体阴道排出的过程叫做（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24000" y="76500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胚胎发育的过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184800" y="836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精卵、胚泡、胚胎、胎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543000" y="263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盘和脐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54872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5760" y="40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43920"/>
            <a:ext cx="842472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不是很在意这一方面，而且每个人都会有这一时段。我认为不必想那么多，把主要精力放在学习上。心理表现良好。我们应保持乐观的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觉得自己老想自己呆着，总以自己为中心，渴望独立，有些事不想告诉家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父母的唠叨开始产生反感，有时对繁重的作业感到极其的烦躁，对身体一系列的变化感到十分好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想和异性同学好好相处，在集体中展现自己的魅力。多和老师交流，同老师合作，想提高自己的学习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已经长大了，不想让父母操心，写的日记也不想给父母看。性意识开始萌动，从与异性同学疏远到与异性接近，或对异性产生了朦胧的依恋</a:t>
            </a:r>
            <a:r>
              <a:rPr b="1" lang="zh-CN" sz="2800" spc="-1" strike="noStrike">
                <a:solidFill>
                  <a:srgbClr val="af67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43120" y="4876200"/>
            <a:ext cx="35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四：主动道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843120" y="283284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一：主动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43120" y="3502800"/>
            <a:ext cx="37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二：创造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43120" y="41904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三：认真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782960" y="28188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五：善于体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782960" y="4266360"/>
            <a:ext cx="38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七：承担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782960" y="4952160"/>
            <a:ext cx="37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八：讨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4782960" y="351864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招式六：控制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14400" y="11430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青春期的男孩和女孩与父母沟通八大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425952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三、如何健康的度过青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9640" y="148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青春期是人一生中重要的时期，这个时期正是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学知识、长才干、树立远大理想、塑造美好心灵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关键时期。因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、同学们应该正确看待自身出现的身心变化，要肯于向家长、老师敞开心扉，主动征得帮助和指导，健康度过青春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、集中精力，努力学习，积极参加各种文娱活动和社会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宋体"/>
                <a:ea typeface="华文宋体"/>
              </a:rPr>
              <a:t>、正确认识男女同学之间的关系，团结互助、自尊自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许多有成就的人，就是在青春期内打下良好的基础并在青春期内开始取得成就的。著名诗人王勃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岁时写下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滕王阁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；李世民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岁时任军队的总指挥；马克思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岁时写出了富有哲理性的文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青年在择业上的考虑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；恩格斯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岁学会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种外国语言；列宁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岁时投身俄国的革命等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2280" y="375120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的一生是短暂的，但青春期更是非常短暂。愿同学们健康度过这人生的金色年华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614520" y="12492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</a:rPr>
              <a:t>课堂小结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第三节 青春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一、青春期的生理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．身高、体重突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．性器官迅速发育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出现遗精和月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</a:rPr>
              <a:t>3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神经系统和心肺功能明显增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二、青春期的心理变化及健康度过青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260360" y="117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知识闯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6360" y="660240"/>
            <a:ext cx="9576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青春期开始的一个显著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进入青春期的时间，男孩一般比女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在青春期中，男孩和女孩的性器官都迅速发育，男孩出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女孩出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遗精是指男子进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，有时在睡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尿道排出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经是女子进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青春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，每月（  ）次的来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7462440" y="134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14308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681240" y="4950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63440" y="436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79344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身高突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7434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673880" y="3718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青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260360" y="117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慧眼识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81080" y="907920"/>
            <a:ext cx="9144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关于青春期的特点，不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身高迅速增长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体重迅速增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身体迅速发胖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生殖器官开始发育成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下列有关青春期心理健康方面的叙述中不恰当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能够正确认识自己身体的变化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面对性躁动，能够保持乐观开朗的心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尽可能避免与异性同学交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增强自我控制和自我保护的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908720" y="3357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452360" y="9079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79280" y="3645000"/>
            <a:ext cx="9217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生和女生青春期声音发生变化是与什么有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春期身体生长发育快，所以在青春期要加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卫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锻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468360" y="549360"/>
            <a:ext cx="85694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不是青春期生理功能增强的表现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脑的结构和功能发育逐渐完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功能的不断增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因不同的身体状态不断调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增加、呼吸功能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812360" y="476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 flipV="1" rot="10920000">
            <a:off x="8027280" y="3427920"/>
            <a:ext cx="58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8173080" y="4653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85840" y="765000"/>
            <a:ext cx="88581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孩在青春期会出现不正常的现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精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于处于青春期的学生，不要回避性知识，因为这是同学们生长发育所必需了解的知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春期是一生中身体发育和智力发展的黄金时期，因此这个时期我们要好好学习知识，增长自己的才干，树立远大理想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生要比男生不幸，因为每个月都要倒霉一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月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730160" y="2602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明辨是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668124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8421120" y="692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2154960" y="551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36960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826920" y="313308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青春是有限的，智慧是无穷的，趁短短的青春，去学习无穷的智慧。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　　　　　　　　　   　 </a:t>
            </a:r>
            <a:r>
              <a:rPr b="1" lang="en-US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80360" y="179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名人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733920" y="762120"/>
            <a:ext cx="2666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楷体"/>
              </a:rPr>
              <a:t>新课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png-0184"/>
          <p:cNvPicPr/>
          <p:nvPr/>
        </p:nvPicPr>
        <p:blipFill>
          <a:blip r:embed="rId1"/>
          <a:stretch/>
        </p:blipFill>
        <p:spPr>
          <a:xfrm>
            <a:off x="2666880" y="685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ic_33608"/>
          <p:cNvPicPr/>
          <p:nvPr/>
        </p:nvPicPr>
        <p:blipFill>
          <a:blip r:embed="rId1"/>
          <a:stretch/>
        </p:blipFill>
        <p:spPr>
          <a:xfrm>
            <a:off x="900000" y="2421000"/>
            <a:ext cx="7417080" cy="3178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755640" y="260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四单元 第一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476360" y="1123920"/>
            <a:ext cx="626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00"/>
                </a:solidFill>
                <a:latin typeface="黑体"/>
                <a:ea typeface="黑体"/>
              </a:rPr>
              <a:t>第三节</a:t>
            </a:r>
            <a:r>
              <a:rPr b="0" lang="zh-CN" sz="72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黑体"/>
              </a:rPr>
              <a:t>青春期</a:t>
            </a:r>
            <a:r>
              <a:rPr b="0" lang="zh-CN" sz="5400" spc="-1" strike="noStrike">
                <a:solidFill>
                  <a:srgbClr val="66ff33"/>
                </a:solidFill>
                <a:latin typeface="Arial"/>
                <a:ea typeface="黑体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50920" y="119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生后的发育：经历婴儿期、幼儿前期、幼儿期、童年期、青春期、青年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68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人出生后的发育通常是指哪个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95280" y="249228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儿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出生到一周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儿前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托儿所年龄期）一至三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儿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幼儿园年龄或学前期）三至六、七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童年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学年龄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六、七至十一二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青春期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约十至二十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人生中身体发育和智力发展的黄金时期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)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年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二十至二十五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生儿诞生后继续发育，其中生长比较快的两个阶段是：一是出生后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，二是青春期。现在，大多数同学已经进入青春期，你知道你的身体发生了怎样的变化？如何才能健康地度过青春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4360" y="386064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春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人体由童年生长发育到成人的过渡时期，这一时期人体的形态、某些器官的结构、功能都有显著的变化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一个人智力发展的黄金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762120" y="3294720"/>
            <a:ext cx="7848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青春人人“爱”，痘痘人人“碍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中医师指出，青春痘可分湿热上蒸型及瘀血阻滞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　　“青春痘”是一种皮肤毛囊与皮脂腺的慢性炎症，好发于</a:t>
            </a:r>
            <a:r>
              <a:rPr b="1" lang="en-US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至</a:t>
            </a:r>
            <a:r>
              <a:rPr b="1" lang="en-US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cc00ff"/>
                </a:solidFill>
                <a:latin typeface="华文楷体"/>
                <a:ea typeface="华文楷体"/>
              </a:rPr>
              <a:t>岁青春期的男女，因此俗称青春痘。临床上常见患者头面部或是胸前、背部乃至全身长满恼人的痘痘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103200" y="1828800"/>
            <a:ext cx="30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为什么会长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青春痘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3276720" y="762120"/>
            <a:ext cx="460836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楷体"/>
              </a:rPr>
              <a:t>想一想，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png-0235"/>
          <p:cNvPicPr/>
          <p:nvPr/>
        </p:nvPicPr>
        <p:blipFill>
          <a:blip r:embed="rId1"/>
          <a:srcRect l="0" t="18748" r="0" b="0"/>
          <a:stretch/>
        </p:blipFill>
        <p:spPr>
          <a:xfrm>
            <a:off x="1752480" y="762120"/>
            <a:ext cx="1371600" cy="1114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79280" y="1143000"/>
          <a:ext cx="8632800" cy="5715000"/>
        </p:xfrm>
        <a:graphic>
          <a:graphicData uri="http://schemas.openxmlformats.org/drawingml/2006/table">
            <a:tbl>
              <a:tblPr/>
              <a:tblGrid>
                <a:gridCol w="1287720"/>
                <a:gridCol w="3633480"/>
                <a:gridCol w="371160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年龄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女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男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身高突增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乳房发育开始，身高突增高峰，出现阴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身高突增开始，睾丸、阴茎开始增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乳房继续增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身高突增高峰，出现喉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月经初潮出现，出现腋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出现阴毛，睾丸、阴茎继续增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乳房显著增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变声，出现腋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脂肪积累增多，丰满，臀部变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首次遗精，出现胡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月经规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阴茎、睾丸已达成人大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骨骺愈合，生长基本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体毛接近成人水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&gt;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c00ff"/>
                          </a:solidFill>
                          <a:latin typeface="华文楷体"/>
                          <a:ea typeface="华文楷体"/>
                        </a:rPr>
                        <a:t>骨骺愈合，生长基本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12" name="Text Box 48"/>
          <p:cNvSpPr/>
          <p:nvPr/>
        </p:nvSpPr>
        <p:spPr>
          <a:xfrm>
            <a:off x="539640" y="1890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一、青春期的身体变化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楷体"/>
              </a:rPr>
              <a:t>P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pic_76543">
            <a:hlinkClick r:id="rId1" action="ppaction://hlinksldjump"/>
          </p:cNvPr>
          <p:cNvPicPr/>
          <p:nvPr/>
        </p:nvPicPr>
        <p:blipFill>
          <a:blip r:embed="rId2"/>
          <a:srcRect l="5531" t="32428" r="5657" b="6201"/>
          <a:stretch/>
        </p:blipFill>
        <p:spPr>
          <a:xfrm>
            <a:off x="1332000" y="0"/>
            <a:ext cx="7561080" cy="684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82880" y="12769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资料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2514600" y="1523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1:45:04Z</dcterms:created>
  <dc:creator/>
  <dc:description/>
  <cp:keywords/>
  <dc:language>en-US</dc:language>
  <cp:lastModifiedBy>luwang</cp:lastModifiedBy>
  <cp:lastPrinted>1899-12-30T00:00:00Z</cp:lastPrinted>
  <dcterms:modified xsi:type="dcterms:W3CDTF">2016-08-21T02:55:31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