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E10-1CE8-420C-B616-5855F249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CE8-5047-4D42-BD8F-660CBF4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8C7-5A27-4422-BE19-F1C0C4A1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45A-41C6-4067-9706-0D01B54E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FA7-1C33-4B7A-9FF4-C8E6BA5B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3EC-8982-4380-A708-D47BF74E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396-09AC-4457-93FC-D4F979D1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5CA-7E6F-4485-B95F-8F433FE8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54C-6F8A-46FF-9594-C3CC30BC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388-DABF-4DE1-BE4A-EA13786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04B-7A69-45C8-97DB-0ABF3FB8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DB2-7311-4DDD-8C41-020E66B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1E7D-520B-4AF0-B05B-BD9D9989A3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130"/>
          <p:cNvSpPr/>
          <p:nvPr/>
        </p:nvSpPr>
        <p:spPr>
          <a:xfrm>
            <a:off x="539640" y="2781360"/>
            <a:ext cx="781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语言简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900000" y="907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四，善于概括 巧用指代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900000" y="1290600"/>
            <a:ext cx="777564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无论是书面表达还是口头表达，都不能总是具体叙述而不作必要的概括。只有把必要的叙述和概括结合起来，表达才能简明。再者，运用必要的复指成分，也是表达中不可少的。不用复指成分，就会啰嗦。例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611280" y="2997360"/>
            <a:ext cx="7778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夏天到了，人们喜欢吃一些生冷的食品，外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就餐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频率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也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了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常吃生冷食品和常外出就餐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都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将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给肠道传染病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的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发生埋下了隐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1042920" y="4503600"/>
            <a:ext cx="7777080" cy="49032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解析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]“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应删除的语句是（      ）应简略的语句是（   ）可改为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714920" y="44974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24720" y="44974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Arial"/>
                <a:ea typeface="黑体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 flipV="1" rot="10745400">
            <a:off x="1934280" y="492228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2269800" y="83664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五，辨识歧义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止误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1042920" y="1265400"/>
            <a:ext cx="685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表意不明，令人误解或费解，是常见的语病，也是与“简明”的要求相违背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124000" y="4292640"/>
            <a:ext cx="5416560" cy="18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明刚还欠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1116000" y="2349360"/>
            <a:ext cx="698508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山西运城县两农民打官司。法庭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原告出示了被告亲笔所写的欠条。请问，如果你是法官的话，你如何断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193000"/>
          </a:xfrm>
          <a:prstGeom prst="rect">
            <a:avLst/>
          </a:prstGeom>
          <a:ln w="0">
            <a:noFill/>
          </a:ln>
        </p:spPr>
      </p:pic>
      <p:sp>
        <p:nvSpPr>
          <p:cNvPr id="96" name="矩形 5"/>
          <p:cNvSpPr/>
          <p:nvPr/>
        </p:nvSpPr>
        <p:spPr>
          <a:xfrm>
            <a:off x="1187280" y="1628640"/>
            <a:ext cx="6069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鲁迅先生曾说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写完后至少看两遍，竭力将可有可无的字，句，段删去，毫不可惜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答北斗杂志社问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创作要怎样才会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想写出简洁明了的文章，我们应该不断地修改、锤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588000" y="3860640"/>
            <a:ext cx="574920" cy="357480"/>
          </a:xfrm>
          <a:prstGeom prst="rect">
            <a:avLst/>
          </a:prstGeom>
          <a:noFill/>
          <a:ln w="22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87280" y="4365720"/>
            <a:ext cx="576360" cy="357120"/>
          </a:xfrm>
          <a:prstGeom prst="rect">
            <a:avLst/>
          </a:prstGeom>
          <a:noFill/>
          <a:ln w="22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148360" y="270828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979640" y="4365720"/>
            <a:ext cx="720720" cy="357120"/>
          </a:xfrm>
          <a:prstGeom prst="rect">
            <a:avLst/>
          </a:prstGeom>
          <a:noFill/>
          <a:ln w="22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3"/>
          <p:cNvGrpSpPr/>
          <p:nvPr/>
        </p:nvGrpSpPr>
        <p:grpSpPr>
          <a:xfrm>
            <a:off x="414360" y="620640"/>
            <a:ext cx="1714320" cy="498600"/>
            <a:chOff x="414360" y="620640"/>
            <a:chExt cx="1714320" cy="498600"/>
          </a:xfrm>
        </p:grpSpPr>
        <p:sp>
          <p:nvSpPr>
            <p:cNvPr id="103" name="流程图: 文档 3"/>
            <p:cNvSpPr/>
            <p:nvPr/>
          </p:nvSpPr>
          <p:spPr>
            <a:xfrm>
              <a:off x="414360" y="666720"/>
              <a:ext cx="1671840" cy="452520"/>
            </a:xfrm>
            <a:prstGeom prst="flowChartDocument">
              <a:avLst/>
            </a:prstGeom>
            <a:solidFill>
              <a:srgbClr val="222267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101"/>
            <p:cNvSpPr/>
            <p:nvPr/>
          </p:nvSpPr>
          <p:spPr>
            <a:xfrm>
              <a:off x="414360" y="62064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小试牛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2"/>
          <p:cNvSpPr/>
          <p:nvPr/>
        </p:nvSpPr>
        <p:spPr>
          <a:xfrm>
            <a:off x="900000" y="1095480"/>
            <a:ext cx="7786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面这段话不够简明，请加以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14360" y="155736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为加强基础理论工作和准备参加国际性粒子物理会议，中国科学院最近在郑州举行全国②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超对称性和超引力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问题学术讨论会。③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天阳光明媚，空气清新，沁人心脾。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④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超对称性”和“超引力”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世纪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年代在国际上才引入物理学中的新概念。在这次会上，介绍了当前国内外⑤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对于超对称性和超引力问题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研究的情况，展开了热烈、自由的⑥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学术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讨论，⑦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在某些问题上提出了一些新见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应删除的两处语句是（写画线处的序号）：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应简略的一处语句是（写画线处的“序号”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这句可改为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958000" y="414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③ 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462720" y="464040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146240" y="500688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对于这两个问题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846360" y="542448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1"/>
          <a:stretch/>
        </p:blipFill>
        <p:spPr>
          <a:xfrm>
            <a:off x="1042920" y="5424480"/>
            <a:ext cx="837108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1"/>
          <p:cNvSpPr/>
          <p:nvPr/>
        </p:nvSpPr>
        <p:spPr>
          <a:xfrm>
            <a:off x="1763640" y="2060640"/>
            <a:ext cx="57610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行文时要围绕中心来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要避免词语的重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还要注意不要堆砌词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于概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巧用指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辨识歧义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止误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 Same Side Corner Rectangle 22"/>
          <p:cNvSpPr/>
          <p:nvPr/>
        </p:nvSpPr>
        <p:spPr>
          <a:xfrm>
            <a:off x="2627280" y="1341360"/>
            <a:ext cx="4454640" cy="647640"/>
          </a:xfrm>
          <a:custGeom>
            <a:avLst/>
            <a:gdLst/>
            <a:ahLst/>
            <a:rect l="l" t="t" r="r" b="b"/>
            <a:pathLst>
              <a:path w="4454525" h="647700">
                <a:moveTo>
                  <a:pt x="250446" y="0"/>
                </a:moveTo>
                <a:lnTo>
                  <a:pt x="4204078" y="0"/>
                </a:lnTo>
                <a:cubicBezTo>
                  <a:pt x="4342396" y="0"/>
                  <a:pt x="4454524" y="112128"/>
                  <a:pt x="4454524" y="250446"/>
                </a:cubicBezTo>
                <a:lnTo>
                  <a:pt x="4454525" y="647700"/>
                </a:lnTo>
                <a:lnTo>
                  <a:pt x="4454525" y="647700"/>
                </a:lnTo>
                <a:lnTo>
                  <a:pt x="0" y="647700"/>
                </a:lnTo>
                <a:lnTo>
                  <a:pt x="0" y="647700"/>
                </a:lnTo>
                <a:lnTo>
                  <a:pt x="0" y="250446"/>
                </a:lnTo>
                <a:cubicBezTo>
                  <a:pt x="0" y="112128"/>
                  <a:pt x="112128" y="0"/>
                  <a:pt x="250446" y="0"/>
                </a:cubicBezTo>
                <a:close/>
              </a:path>
            </a:pathLst>
          </a:custGeom>
          <a:gradFill rotWithShape="0">
            <a:gsLst>
              <a:gs pos="0">
                <a:srgbClr val="19669e"/>
              </a:gs>
              <a:gs pos="100000">
                <a:srgbClr val="32b2ff"/>
              </a:gs>
            </a:gsLst>
            <a:lin ang="5400000"/>
          </a:gra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3"/>
          <p:cNvGrpSpPr/>
          <p:nvPr/>
        </p:nvGrpSpPr>
        <p:grpSpPr>
          <a:xfrm>
            <a:off x="779400" y="887400"/>
            <a:ext cx="1714680" cy="498600"/>
            <a:chOff x="779400" y="887400"/>
            <a:chExt cx="1714680" cy="498600"/>
          </a:xfrm>
        </p:grpSpPr>
        <p:sp>
          <p:nvSpPr>
            <p:cNvPr id="116" name="流程图: 文档 4"/>
            <p:cNvSpPr/>
            <p:nvPr/>
          </p:nvSpPr>
          <p:spPr>
            <a:xfrm>
              <a:off x="779400" y="933480"/>
              <a:ext cx="1672200" cy="452520"/>
            </a:xfrm>
            <a:prstGeom prst="flowChartDocument">
              <a:avLst/>
            </a:prstGeom>
            <a:solidFill>
              <a:srgbClr val="222267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4101"/>
            <p:cNvSpPr/>
            <p:nvPr/>
          </p:nvSpPr>
          <p:spPr>
            <a:xfrm>
              <a:off x="779400" y="88740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课堂小结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矩形 1"/>
          <p:cNvSpPr/>
          <p:nvPr/>
        </p:nvSpPr>
        <p:spPr>
          <a:xfrm>
            <a:off x="3313080" y="1255680"/>
            <a:ext cx="345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怎样做到语言简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内容占位符 2"/>
          <p:cNvSpPr/>
          <p:nvPr/>
        </p:nvSpPr>
        <p:spPr>
          <a:xfrm>
            <a:off x="1619280" y="1916280"/>
            <a:ext cx="6408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兄弟在下敝人我，兄台阁下老大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听你之言颇有理，可是我可不敢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虽然可能没问题，难保绝对不会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既是如此想必对，的确好像差不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大概或者也许是，不过恐怕不见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所以个人总以为，到底还是没把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希望各位再研究，最好大家再斟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留待下次开会定，阁下意见又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标题 1"/>
          <p:cNvSpPr/>
          <p:nvPr/>
        </p:nvSpPr>
        <p:spPr>
          <a:xfrm>
            <a:off x="1619280" y="90792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Garamond"/>
              </a:rPr>
              <a:t>啰 嗦 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50920" y="243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3"/>
          <p:cNvGrpSpPr/>
          <p:nvPr/>
        </p:nvGrpSpPr>
        <p:grpSpPr>
          <a:xfrm>
            <a:off x="779400" y="887400"/>
            <a:ext cx="1714680" cy="498600"/>
            <a:chOff x="779400" y="887400"/>
            <a:chExt cx="1714680" cy="498600"/>
          </a:xfrm>
        </p:grpSpPr>
        <p:sp>
          <p:nvSpPr>
            <p:cNvPr id="49" name="流程图: 文档 5"/>
            <p:cNvSpPr/>
            <p:nvPr/>
          </p:nvSpPr>
          <p:spPr>
            <a:xfrm>
              <a:off x="779400" y="933480"/>
              <a:ext cx="1672200" cy="452520"/>
            </a:xfrm>
            <a:prstGeom prst="flowChartDocument">
              <a:avLst/>
            </a:prstGeom>
            <a:solidFill>
              <a:srgbClr val="222267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4101"/>
            <p:cNvSpPr/>
            <p:nvPr/>
          </p:nvSpPr>
          <p:spPr>
            <a:xfrm>
              <a:off x="779400" y="88740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3"/>
          <p:cNvSpPr/>
          <p:nvPr/>
        </p:nvSpPr>
        <p:spPr>
          <a:xfrm>
            <a:off x="684360" y="2133720"/>
            <a:ext cx="784836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表意简明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灵活准确地解答各类语言简明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题、习作时力求做到表意简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108000" y="1125360"/>
            <a:ext cx="8964720" cy="6483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还有一种立体的书，也很吸引人。很多人围上去看。它的插图都是立体的。当你把书打开的时候，书里的人和动物会马上站起来，“跃然纸上”，栩栩如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1793520" y="620640"/>
            <a:ext cx="56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下面这段文字，你觉得它在语言表达上有什么问题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108000" y="2781360"/>
            <a:ext cx="878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段文字的语言不够简明。“立体的”出现两次，字面重复；“吸引人”和“很多人围上去看”，意思重复；“当你把书打开的时候”，不够简洁。因此，可以改成下面这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179280" y="4581360"/>
            <a:ext cx="8425080" cy="6483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还有一种书，插图是立体的，也很吸引人。打开书，书里的人和动物会马上站起来，“跃然纸上”，栩栩如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69200" cy="3667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9"/>
          <p:cNvSpPr/>
          <p:nvPr/>
        </p:nvSpPr>
        <p:spPr>
          <a:xfrm>
            <a:off x="2556000" y="1341360"/>
            <a:ext cx="38876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34560" bIns="34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什么是 “语言简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801720" y="200340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1628640" y="2292480"/>
            <a:ext cx="587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明，就是简要、明白。也就是说，行文时，语言要尽可能精练，不重复、啰嗦，同时，表达的意思又要清楚明白，不让人产生误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1042920" y="938160"/>
            <a:ext cx="785016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解说“简明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”，指简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最少的文字传递最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信息。它反映的“量”的要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”，指浅显，不绕弯，不艰涩，明确，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歧义。它则含有表达效果方面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2984760" y="4869000"/>
            <a:ext cx="3094920" cy="5205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量，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187280" y="2060640"/>
            <a:ext cx="649440" cy="357120"/>
          </a:xfrm>
          <a:prstGeom prst="rect">
            <a:avLst/>
          </a:prstGeom>
          <a:noFill/>
          <a:ln w="22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187280" y="3287880"/>
            <a:ext cx="649440" cy="357120"/>
          </a:xfrm>
          <a:prstGeom prst="rect">
            <a:avLst/>
          </a:prstGeom>
          <a:noFill/>
          <a:ln w="22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2843280" y="979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怎样做到语言简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4714200" y="16416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首先，行文时要围绕中心来写，不旁生枝叶。请看下面这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826920" y="2041560"/>
            <a:ext cx="756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最近我发现，鱼尾纹已悄然爬上了妈妈的眼角。我拿出了平时好不容易积攒下来的零用钱，跑到商店里，想给妈妈买支眼霜。各种品牌的眼霜看得我眼花缭乱，昂贵的价格更让我感到囊中羞涩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想，眼霜那么贵，利润一定很高，看来卖化妆品能挣不少钱呢！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最后，我只好失落地走出了商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949320" y="4135320"/>
            <a:ext cx="7655040" cy="886680"/>
          </a:xfrm>
          <a:prstGeom prst="rect">
            <a:avLst/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一段写“我”去商店里给妈妈买眼霜，表现“我”对妈妈的感恩之情。文中划线句子偏离中心，分散了叙事的主题，使语段不明了，应该删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771480" y="907920"/>
            <a:ext cx="7580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次，在没有特殊的表达需要时，要避免词语的重复。下面这个句子就有些啰嗦，请同学们讨论，看看应该怎样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996840" y="2997360"/>
            <a:ext cx="7355160" cy="886680"/>
          </a:xfrm>
          <a:prstGeom prst="rect">
            <a:avLst/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]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非常好”与“好极了”内容重复，并非通常说的反复或强调。“非常”是说“好”的程度深，“极”也是说“好”的程度深，因而语意重复累赘。再说，“非常好，好极了”的意思也跟“非常英明，非常及时”是一回事，所以，建议删掉“非常好，好极了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971640" y="1843200"/>
            <a:ext cx="7416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领导的这一决定非常英明，非常及时，非常好，好极了，我们坚决拥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771480" y="907920"/>
            <a:ext cx="7580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再次，还要注意不要堆砌词语。有的同学以为词语特别是形容词用得越多，写出来的作文就显得越有水平。其实不然。例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971640" y="1843200"/>
            <a:ext cx="7416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们按照民主程序，选出了自己信任的村长，负责掌握管理全村的行政事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952560" y="2874960"/>
            <a:ext cx="7515000" cy="490320"/>
          </a:xfrm>
          <a:prstGeom prst="rect">
            <a:avLst/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]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掌握”、“管理”与前面的“负责”内容重复了，有堆砌之嫌，宜删去其中任意两个语意重复的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785880" y="3884760"/>
            <a:ext cx="7848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样的例子很多，比如古代有个笑话，说的是一位秀才好舞文弄墨，有一回吟了一首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宿山房即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：“一个孤僧独自归，关门闭户掩柴扉。半夜三更子时分，杜鹃谢豹子规啼。”这首“打油诗”每一句话都堆砌词语，勉强可以压缩为下面两句话：孤僧掩柴扉，夜半子规啼。可是实在又没有什么思想内容，纯属无聊之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07T01:39:53Z</dcterms:modified>
  <cp:revision>2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