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camera.wav" ContentType="audio/x-wav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TYPE.WAV" ContentType="audio/x-wav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4C5-F9C7-4486-8BB7-5A4FAC14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807-B6B9-443E-845E-7D907A21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105-F04C-4C72-9281-FFDD5CC37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E452-2587-4201-8F68-37B258AC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C6A-CD82-49D9-A127-93F8EE28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1E7-7F60-495A-B102-A34CBF75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759B-9CCD-445D-B77A-58C3F6B1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6FA-7B00-4858-8C00-8FD43451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AA8-8A98-452D-9E03-7CD178BC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8CC8-A663-4DFD-A5A0-D1EE6F11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BF1-ED9F-4A9B-B450-88593A61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9D9-41CD-4A0E-A6D5-D2BE48C8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23CF-DE51-4861-A155-DB11E04D52A9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B5D7-FF68-49D9-9B62-76CB0519D99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MH_SubTitle_1"/>
          <p:cNvSpPr/>
          <p:nvPr/>
        </p:nvSpPr>
        <p:spPr>
          <a:xfrm>
            <a:off x="755640" y="4579920"/>
            <a:ext cx="16700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MH_SubTitle_2"/>
          <p:cNvSpPr/>
          <p:nvPr/>
        </p:nvSpPr>
        <p:spPr>
          <a:xfrm>
            <a:off x="2743200" y="4579920"/>
            <a:ext cx="16700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课探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SubTitle_3"/>
          <p:cNvSpPr/>
          <p:nvPr/>
        </p:nvSpPr>
        <p:spPr>
          <a:xfrm>
            <a:off x="4765680" y="4579920"/>
            <a:ext cx="16700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4"/>
          <p:cNvSpPr/>
          <p:nvPr/>
        </p:nvSpPr>
        <p:spPr>
          <a:xfrm>
            <a:off x="6804000" y="4579920"/>
            <a:ext cx="167004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随堂训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2560" y="155736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辽宋夏金元时期：民族关系发展和社会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130120" y="297648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第</a:t>
            </a: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12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课 宋元时期的都市和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06200" y="213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755640" y="658800"/>
            <a:ext cx="7767360" cy="5573880"/>
            <a:chOff x="755640" y="658800"/>
            <a:chExt cx="7767360" cy="5573880"/>
          </a:xfrm>
        </p:grpSpPr>
        <p:sp>
          <p:nvSpPr>
            <p:cNvPr id="99" name="Text Box 5"/>
            <p:cNvSpPr/>
            <p:nvPr/>
          </p:nvSpPr>
          <p:spPr>
            <a:xfrm>
              <a:off x="3850920" y="693360"/>
              <a:ext cx="911520" cy="5535360"/>
            </a:xfrm>
            <a:prstGeom prst="rect">
              <a:avLst/>
            </a:prstGeom>
            <a:solidFill>
              <a:srgbClr val="efea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990099"/>
                  </a:solidFill>
                  <a:latin typeface="Times New Roman"/>
                </a:rPr>
                <a:t>        </a:t>
              </a:r>
              <a:r>
                <a:rPr b="0" lang="zh-CN" sz="4400" spc="-1" strike="noStrike">
                  <a:solidFill>
                    <a:srgbClr val="990099"/>
                  </a:solidFill>
                  <a:latin typeface="Times New Roman"/>
                </a:rPr>
                <a:t>宋代说书、木偶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6" descr="sb2006012310531824"/>
            <p:cNvPicPr/>
            <p:nvPr/>
          </p:nvPicPr>
          <p:blipFill>
            <a:blip r:embed="rId1"/>
            <a:stretch/>
          </p:blipFill>
          <p:spPr>
            <a:xfrm>
              <a:off x="755640" y="693360"/>
              <a:ext cx="3229920" cy="55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7" descr="sb2006012310552861"/>
            <p:cNvPicPr/>
            <p:nvPr/>
          </p:nvPicPr>
          <p:blipFill>
            <a:blip r:embed="rId2"/>
            <a:stretch/>
          </p:blipFill>
          <p:spPr>
            <a:xfrm>
              <a:off x="4749120" y="658800"/>
              <a:ext cx="3773880" cy="557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1"/>
          <p:cNvSpPr/>
          <p:nvPr/>
        </p:nvSpPr>
        <p:spPr>
          <a:xfrm>
            <a:off x="241200" y="595440"/>
            <a:ext cx="44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三）元杂剧和节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" descr="01300000167882121968714692322"/>
          <p:cNvPicPr/>
          <p:nvPr/>
        </p:nvPicPr>
        <p:blipFill>
          <a:blip r:embed="rId1"/>
          <a:stretch/>
        </p:blipFill>
        <p:spPr>
          <a:xfrm>
            <a:off x="4091040" y="1425600"/>
            <a:ext cx="4494240" cy="422748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23557"/>
          <p:cNvSpPr/>
          <p:nvPr/>
        </p:nvSpPr>
        <p:spPr>
          <a:xfrm>
            <a:off x="5418000" y="5637240"/>
            <a:ext cx="244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元杂剧演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"/>
          <p:cNvSpPr/>
          <p:nvPr/>
        </p:nvSpPr>
        <p:spPr>
          <a:xfrm>
            <a:off x="111240" y="1697040"/>
            <a:ext cx="3722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读教材，剧表演的表演形式是什么？兴起的朝代和兴盛的朝代分别是什么时候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241200" y="4049640"/>
            <a:ext cx="3486240" cy="5508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杂剧。宋代和元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图片2"/>
          <p:cNvPicPr/>
          <p:nvPr/>
        </p:nvPicPr>
        <p:blipFill>
          <a:blip r:embed="rId1"/>
          <a:stretch/>
        </p:blipFill>
        <p:spPr>
          <a:xfrm>
            <a:off x="3390840" y="1612800"/>
            <a:ext cx="5662800" cy="38260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23557"/>
          <p:cNvSpPr/>
          <p:nvPr/>
        </p:nvSpPr>
        <p:spPr>
          <a:xfrm>
            <a:off x="3881520" y="5527800"/>
            <a:ext cx="337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宋朝时称春节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"/>
          <p:cNvSpPr/>
          <p:nvPr/>
        </p:nvSpPr>
        <p:spPr>
          <a:xfrm>
            <a:off x="7256520" y="5567400"/>
            <a:ext cx="11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元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111240" y="1266840"/>
            <a:ext cx="3279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看图，学生抢答图片展示的是什么节日？在宋元时期还有什么节日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4"/>
          <p:cNvSpPr/>
          <p:nvPr/>
        </p:nvSpPr>
        <p:spPr>
          <a:xfrm>
            <a:off x="241200" y="3387600"/>
            <a:ext cx="1319400" cy="5508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春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29701"/>
          <p:cNvSpPr/>
          <p:nvPr/>
        </p:nvSpPr>
        <p:spPr>
          <a:xfrm>
            <a:off x="74628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9702"/>
          <p:cNvSpPr/>
          <p:nvPr/>
        </p:nvSpPr>
        <p:spPr>
          <a:xfrm>
            <a:off x="1508040" y="2840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9703"/>
          <p:cNvSpPr/>
          <p:nvPr/>
        </p:nvSpPr>
        <p:spPr>
          <a:xfrm>
            <a:off x="0" y="16002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月几时有，把酒问青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9704"/>
          <p:cNvSpPr/>
          <p:nvPr/>
        </p:nvSpPr>
        <p:spPr>
          <a:xfrm>
            <a:off x="90360" y="3078000"/>
            <a:ext cx="67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灯火家家有，笙歌处处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9705"/>
          <p:cNvSpPr/>
          <p:nvPr/>
        </p:nvSpPr>
        <p:spPr>
          <a:xfrm>
            <a:off x="0" y="4498920"/>
            <a:ext cx="8426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粽包分两髻，艾束著危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陆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9706"/>
          <p:cNvSpPr/>
          <p:nvPr/>
        </p:nvSpPr>
        <p:spPr>
          <a:xfrm>
            <a:off x="1841040" y="692280"/>
            <a:ext cx="529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知道以下诗句描述的是哪些节日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9707"/>
          <p:cNvSpPr/>
          <p:nvPr/>
        </p:nvSpPr>
        <p:spPr>
          <a:xfrm>
            <a:off x="7453800" y="1600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中秋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9708"/>
          <p:cNvSpPr/>
          <p:nvPr/>
        </p:nvSpPr>
        <p:spPr>
          <a:xfrm>
            <a:off x="7453800" y="3200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元宵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9709"/>
          <p:cNvSpPr/>
          <p:nvPr/>
        </p:nvSpPr>
        <p:spPr>
          <a:xfrm>
            <a:off x="7606440" y="4648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端午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99"/>
          <p:cNvSpPr/>
          <p:nvPr/>
        </p:nvSpPr>
        <p:spPr>
          <a:xfrm>
            <a:off x="160200" y="476280"/>
            <a:ext cx="24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二、宋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1" descr="001kxUp7zy6N0Xxr0NJ63&amp;690"/>
          <p:cNvPicPr/>
          <p:nvPr/>
        </p:nvPicPr>
        <p:blipFill>
          <a:blip r:embed="rId1"/>
          <a:stretch/>
        </p:blipFill>
        <p:spPr>
          <a:xfrm>
            <a:off x="189000" y="1679400"/>
            <a:ext cx="8764560" cy="42166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23557"/>
          <p:cNvSpPr/>
          <p:nvPr/>
        </p:nvSpPr>
        <p:spPr>
          <a:xfrm>
            <a:off x="2365200" y="1030320"/>
            <a:ext cx="50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隶书"/>
              </a:rPr>
              <a:t>1.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朗诵《念奴娇 赤壁怀古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zmj-7475-47673" descr=""/>
          <p:cNvPicPr/>
          <p:nvPr/>
        </p:nvPicPr>
        <p:blipFill>
          <a:blip r:embed="rId2"/>
          <a:stretch/>
        </p:blipFill>
        <p:spPr>
          <a:xfrm>
            <a:off x="7532640" y="598968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02269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苏轼"/>
          <p:cNvPicPr/>
          <p:nvPr/>
        </p:nvPicPr>
        <p:blipFill>
          <a:blip r:embed="rId1"/>
          <a:stretch/>
        </p:blipFill>
        <p:spPr>
          <a:xfrm>
            <a:off x="658800" y="1109520"/>
            <a:ext cx="1714680" cy="404496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23557"/>
          <p:cNvSpPr/>
          <p:nvPr/>
        </p:nvSpPr>
        <p:spPr>
          <a:xfrm>
            <a:off x="841320" y="5154480"/>
            <a:ext cx="11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" descr="bd315c6034a85edf153cceee49540923dc54754e"/>
          <p:cNvPicPr/>
          <p:nvPr/>
        </p:nvPicPr>
        <p:blipFill>
          <a:blip r:embed="rId2"/>
          <a:stretch/>
        </p:blipFill>
        <p:spPr>
          <a:xfrm>
            <a:off x="5680080" y="1109520"/>
            <a:ext cx="3419640" cy="434196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3"/>
          <p:cNvSpPr/>
          <p:nvPr/>
        </p:nvSpPr>
        <p:spPr>
          <a:xfrm>
            <a:off x="6851520" y="5495760"/>
            <a:ext cx="15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辛弃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2550960" y="1482840"/>
            <a:ext cx="307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简要介绍词的基本情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4"/>
          <p:cNvSpPr/>
          <p:nvPr/>
        </p:nvSpPr>
        <p:spPr>
          <a:xfrm>
            <a:off x="2536920" y="2685960"/>
            <a:ext cx="2979720" cy="5508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词是一种新体诗歌，句子有长有短，也称长短句，便于歌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838080" y="1371600"/>
          <a:ext cx="7620120" cy="489888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3505320"/>
                <a:gridCol w="2057400"/>
              </a:tblGrid>
              <a:tr h="54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人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贡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代表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35"/>
          <p:cNvSpPr/>
          <p:nvPr/>
        </p:nvSpPr>
        <p:spPr>
          <a:xfrm>
            <a:off x="1114200" y="226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苏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6"/>
          <p:cNvSpPr/>
          <p:nvPr/>
        </p:nvSpPr>
        <p:spPr>
          <a:xfrm>
            <a:off x="2104560" y="2236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北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7"/>
          <p:cNvSpPr/>
          <p:nvPr/>
        </p:nvSpPr>
        <p:spPr>
          <a:xfrm>
            <a:off x="3057480" y="189216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改进了词的创作，扩大了词的境界，提高了词的格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6669360" y="2062080"/>
            <a:ext cx="15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水调歌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月几时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991080" y="3346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李清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1"/>
          <p:cNvSpPr/>
          <p:nvPr/>
        </p:nvSpPr>
        <p:spPr>
          <a:xfrm>
            <a:off x="2104560" y="319392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之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2"/>
          <p:cNvSpPr/>
          <p:nvPr/>
        </p:nvSpPr>
        <p:spPr>
          <a:xfrm>
            <a:off x="2819520" y="3003480"/>
            <a:ext cx="355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反映当时战乱带来的灾难，抒写深沉的忧患情怀，在当时就产生了较大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4"/>
          <p:cNvSpPr/>
          <p:nvPr/>
        </p:nvSpPr>
        <p:spPr>
          <a:xfrm>
            <a:off x="6990840" y="3235320"/>
            <a:ext cx="11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如梦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声声慢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5"/>
          <p:cNvSpPr/>
          <p:nvPr/>
        </p:nvSpPr>
        <p:spPr>
          <a:xfrm>
            <a:off x="1022760" y="4741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辛弃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6"/>
          <p:cNvSpPr/>
          <p:nvPr/>
        </p:nvSpPr>
        <p:spPr>
          <a:xfrm>
            <a:off x="2099880" y="4765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南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7"/>
          <p:cNvSpPr/>
          <p:nvPr/>
        </p:nvSpPr>
        <p:spPr>
          <a:xfrm>
            <a:off x="3564360" y="4286160"/>
            <a:ext cx="237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使词境变得更为雄奇阔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抒情、写景、叙事、议论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气势磅礴，震撼人心，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步提高了词的社会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和在文学史上的地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6723360" y="4440240"/>
            <a:ext cx="152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破阵子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为陈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同赋壮词以寄之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永遇乐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京口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固亭怀古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"/>
          <p:cNvSpPr/>
          <p:nvPr/>
        </p:nvSpPr>
        <p:spPr>
          <a:xfrm>
            <a:off x="757080" y="620640"/>
            <a:ext cx="507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读教材，完成下表的填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-345600" y="2374920"/>
            <a:ext cx="1642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大黑简体"/>
              </a:rPr>
              <a:t>苏   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211640" y="1419120"/>
            <a:ext cx="43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d7d31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多才多艺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（烹饪、宋词、书法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苏轼开创词的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豪放风格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给词注入了强劲的生命力，对后世影响很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2"/>
          <p:cNvPicPr/>
          <p:nvPr/>
        </p:nvPicPr>
        <p:blipFill>
          <a:blip r:embed="rId1"/>
          <a:stretch/>
        </p:blipFill>
        <p:spPr>
          <a:xfrm>
            <a:off x="1405080" y="1141560"/>
            <a:ext cx="2323800" cy="4735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572000" y="83196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于两宋之交，号易安居士，齐州章丘（今属山东济南历城）人。靖康之难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历了离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丈夫赵明诚病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人颠沛流离于江浙皖赣一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依无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孤寂凄苦中度过了晚年。李清照是诗、词、散文都有成就的作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以词的成就最高。所作词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期多写其悠闲生活，后期多悲叹身世，情调感伤，有的也流露出对中原的怀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李清照1"/>
          <p:cNvPicPr/>
          <p:nvPr/>
        </p:nvPicPr>
        <p:blipFill>
          <a:blip r:embed="rId1"/>
          <a:stretch/>
        </p:blipFill>
        <p:spPr>
          <a:xfrm>
            <a:off x="228600" y="762120"/>
            <a:ext cx="4056120" cy="44193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8"/>
          <p:cNvSpPr/>
          <p:nvPr/>
        </p:nvSpPr>
        <p:spPr>
          <a:xfrm>
            <a:off x="37440" y="5257800"/>
            <a:ext cx="302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李清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公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8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5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辛弃疾发扬宋词的</a:t>
            </a:r>
            <a:r>
              <a:rPr b="1" lang="zh-CN" sz="3300" spc="-1" strike="noStrike">
                <a:solidFill>
                  <a:srgbClr val="990000"/>
                </a:solidFill>
                <a:latin typeface="方正粗圆简体"/>
                <a:ea typeface="方正粗圆简体"/>
              </a:rPr>
              <a:t>豪放</a:t>
            </a:r>
            <a:r>
              <a:rPr b="1" lang="zh-CN" sz="33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风格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6360" y="1484280"/>
            <a:ext cx="4969080" cy="27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            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辛弃疾（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1140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－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1207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），南宋词人。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  <a:ea typeface="方正大标宋简体"/>
              </a:rPr>
              <a:t>代表作有：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  <a:ea typeface="方正大标宋简体"/>
              </a:rPr>
              <a:t>《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  <a:ea typeface="方正大标宋简体"/>
              </a:rPr>
              <a:t>菩萨蛮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•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  <a:ea typeface="方正大标宋简体"/>
              </a:rPr>
              <a:t>书江西造口壁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  <a:ea typeface="方正大标宋简体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  <a:ea typeface="方正大标宋简体"/>
              </a:rPr>
              <a:t>、</a:t>
            </a:r>
            <a:r>
              <a:rPr b="1" lang="en-US" sz="2100" spc="-1" strike="noStrike">
                <a:solidFill>
                  <a:srgbClr val="990000"/>
                </a:solidFill>
                <a:latin typeface="Franklin Gothic Medium"/>
                <a:ea typeface="方正大标宋简体"/>
              </a:rPr>
              <a:t>《</a:t>
            </a:r>
            <a:r>
              <a:rPr b="1" lang="zh-CN" sz="2100" spc="-1" strike="noStrike">
                <a:solidFill>
                  <a:srgbClr val="990000"/>
                </a:solidFill>
                <a:latin typeface="Franklin Gothic Medium"/>
                <a:ea typeface="方正大标宋简体"/>
              </a:rPr>
              <a:t>破阵子</a:t>
            </a:r>
            <a:r>
              <a:rPr b="1" lang="en-US" sz="2100" spc="-1" strike="noStrike">
                <a:solidFill>
                  <a:srgbClr val="990000"/>
                </a:solidFill>
                <a:latin typeface="Arial"/>
                <a:ea typeface="Times New Roman"/>
              </a:rPr>
              <a:t>•</a:t>
            </a:r>
            <a:r>
              <a:rPr b="1" lang="zh-CN" sz="2100" spc="-1" strike="noStrike">
                <a:solidFill>
                  <a:srgbClr val="990000"/>
                </a:solidFill>
                <a:latin typeface="Franklin Gothic Medium"/>
                <a:ea typeface="方正大标宋简体"/>
              </a:rPr>
              <a:t>醉里挑灯看剑</a:t>
            </a:r>
            <a:r>
              <a:rPr b="1" lang="en-US" sz="2100" spc="-1" strike="noStrike">
                <a:solidFill>
                  <a:srgbClr val="990000"/>
                </a:solidFill>
                <a:latin typeface="Franklin Gothic Medium"/>
                <a:ea typeface="方正大标宋简体"/>
              </a:rPr>
              <a:t>》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  <a:ea typeface="方正大标宋简体"/>
              </a:rPr>
              <a:t>等。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3" name="Picture 7" descr="4"/>
          <p:cNvPicPr/>
          <p:nvPr/>
        </p:nvPicPr>
        <p:blipFill>
          <a:blip r:embed="rId1"/>
          <a:stretch/>
        </p:blipFill>
        <p:spPr>
          <a:xfrm>
            <a:off x="5651640" y="1413000"/>
            <a:ext cx="2973240" cy="4464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539640" y="443700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想想在你知道的诗词里，还有这种</a:t>
            </a:r>
            <a:r>
              <a:rPr b="1" lang="zh-CN" sz="2400" spc="-1" strike="noStrike">
                <a:solidFill>
                  <a:srgbClr val="990000"/>
                </a:solidFill>
                <a:latin typeface="Arial"/>
              </a:rPr>
              <a:t>豪放风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1804320" y="5373720"/>
            <a:ext cx="208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李白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望庐山瀑布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毛泽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沁园春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雪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4103"/>
          <p:cNvSpPr/>
          <p:nvPr/>
        </p:nvSpPr>
        <p:spPr>
          <a:xfrm>
            <a:off x="142920" y="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图片1"/>
          <p:cNvPicPr/>
          <p:nvPr/>
        </p:nvPicPr>
        <p:blipFill>
          <a:blip r:embed="rId1"/>
          <a:stretch/>
        </p:blipFill>
        <p:spPr>
          <a:xfrm>
            <a:off x="2360520" y="417600"/>
            <a:ext cx="6780240" cy="35226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23557"/>
          <p:cNvSpPr/>
          <p:nvPr/>
        </p:nvSpPr>
        <p:spPr>
          <a:xfrm>
            <a:off x="4340160" y="391644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《清明上河图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71280" y="504720"/>
            <a:ext cx="904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你前面我们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习了宋代的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治、经济等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容、在经济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农业、手工业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商业都得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较大的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那么，经济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发展对人们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生活带来了什么样的影响呢？这是张择端的《清明上河图》，它反映了宋代万千气象的社会风貌。那么宋代人们的都市生活具体是一个什么样的情况？当时在节庆风俗方面都有哪些讲究？带着这些问题，我们来学习万千气象的宋元时代的都市和文化一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99"/>
          <p:cNvSpPr/>
          <p:nvPr/>
        </p:nvSpPr>
        <p:spPr>
          <a:xfrm>
            <a:off x="160200" y="476280"/>
            <a:ext cx="24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三、元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1" descr="980658818877132572"/>
          <p:cNvPicPr/>
          <p:nvPr/>
        </p:nvPicPr>
        <p:blipFill>
          <a:blip r:embed="rId1"/>
          <a:stretch/>
        </p:blipFill>
        <p:spPr>
          <a:xfrm>
            <a:off x="1474920" y="1112760"/>
            <a:ext cx="7546680" cy="422748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1"/>
          <p:cNvSpPr/>
          <p:nvPr/>
        </p:nvSpPr>
        <p:spPr>
          <a:xfrm>
            <a:off x="182520" y="1984320"/>
            <a:ext cx="135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简要介绍词的基本情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4"/>
          <p:cNvSpPr/>
          <p:nvPr/>
        </p:nvSpPr>
        <p:spPr>
          <a:xfrm>
            <a:off x="376200" y="5378400"/>
            <a:ext cx="8431200" cy="5508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包括散曲、杂剧和南戏等。元曲把音乐、歌舞、动作、念白融合在一起，成为一种综合性的艺术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" descr="2514697441950528047"/>
          <p:cNvPicPr/>
          <p:nvPr/>
        </p:nvPicPr>
        <p:blipFill>
          <a:blip r:embed="rId1"/>
          <a:stretch/>
        </p:blipFill>
        <p:spPr>
          <a:xfrm>
            <a:off x="5324400" y="911160"/>
            <a:ext cx="3475080" cy="477216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3"/>
          <p:cNvSpPr/>
          <p:nvPr/>
        </p:nvSpPr>
        <p:spPr>
          <a:xfrm>
            <a:off x="6281640" y="5754600"/>
            <a:ext cx="15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四大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"/>
          <p:cNvSpPr/>
          <p:nvPr/>
        </p:nvSpPr>
        <p:spPr>
          <a:xfrm>
            <a:off x="828720" y="1984320"/>
            <a:ext cx="317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学生抢答元曲的代表人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4"/>
          <p:cNvSpPr/>
          <p:nvPr/>
        </p:nvSpPr>
        <p:spPr>
          <a:xfrm>
            <a:off x="447840" y="3225960"/>
            <a:ext cx="4593960" cy="5508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关汉卿、马致远、郑光祖、白朴等，在明代以后被誉为“元曲四大家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关汉卿"/>
          <p:cNvPicPr/>
          <p:nvPr/>
        </p:nvPicPr>
        <p:blipFill>
          <a:blip r:embed="rId1"/>
          <a:stretch/>
        </p:blipFill>
        <p:spPr>
          <a:xfrm>
            <a:off x="152280" y="990720"/>
            <a:ext cx="4194360" cy="4343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586520" y="5410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关汉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303880" y="861840"/>
            <a:ext cx="28018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元代最优秀的杂剧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斋，生活在金末元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多才多艺，了解民间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苦，熟悉民间语言，使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杂剧内容具有强烈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实性和昂扬的斗争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与马致远、郑光祖、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朴并称为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曲四大家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表作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窦娥冤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刀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窦娥"/>
          <p:cNvPicPr/>
          <p:nvPr/>
        </p:nvPicPr>
        <p:blipFill>
          <a:blip r:embed="rId1"/>
          <a:stretch/>
        </p:blipFill>
        <p:spPr>
          <a:xfrm>
            <a:off x="2482920" y="901800"/>
            <a:ext cx="3714840" cy="4689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1908000" y="5608800"/>
            <a:ext cx="5975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血溅白练、六月飞雪、大旱三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308520" y="-187920"/>
            <a:ext cx="1582200" cy="67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汉卿用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浪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艺术手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愤怒鞭挞黑暗的恶势力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4948200" y="503280"/>
            <a:ext cx="36133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地也，你不分好歹何为地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天也，你错勘贤愚枉为天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窦娥在刑场的唱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4103"/>
          <p:cNvSpPr/>
          <p:nvPr/>
        </p:nvSpPr>
        <p:spPr>
          <a:xfrm>
            <a:off x="142920" y="1908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1" descr="1"/>
          <p:cNvPicPr/>
          <p:nvPr/>
        </p:nvPicPr>
        <p:blipFill>
          <a:blip r:embed="rId1"/>
          <a:stretch/>
        </p:blipFill>
        <p:spPr>
          <a:xfrm>
            <a:off x="758880" y="1319040"/>
            <a:ext cx="73375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4103"/>
          <p:cNvSpPr/>
          <p:nvPr/>
        </p:nvSpPr>
        <p:spPr>
          <a:xfrm>
            <a:off x="142920" y="1260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随堂训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440" y="654120"/>
            <a:ext cx="79246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瓦子在宋代城市的盛行，主要是因为（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士大夫的提倡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市民阶层不断壮大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农民的需要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达官贵人的需要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宋代已经有以下哪些节日（                 ）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A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春节　　 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B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元宵节     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C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端午节      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D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100" spc="-1" strike="noStrike">
                <a:solidFill>
                  <a:srgbClr val="000000"/>
                </a:solidFill>
                <a:latin typeface="Times New Roman"/>
              </a:rPr>
              <a:t>中秋节</a:t>
            </a:r>
            <a:r>
              <a:rPr b="0" lang="zh-CN" sz="21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7537320" y="63324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705640" y="2185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B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09480" y="4073400"/>
            <a:ext cx="821052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宋之交最著名的女词人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陶渊明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昭君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李清照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辛弃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7091280" y="406224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8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81040" y="1825560"/>
            <a:ext cx="78678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汉卿的代表作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声声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资治通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念奴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窦娥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5297400" y="176544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216000" y="930240"/>
            <a:ext cx="882000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连线题：把下面古代文学家和他的作品用线连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关汉卿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念奴娇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赤壁怀古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苏  轼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资治通鉴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辛弃疾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阵子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醉里挑灯看剑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司马光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窦娥冤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李清照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明上河图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张择端</a:t>
            </a:r>
            <a:r>
              <a:rPr b="0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梦令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763640" y="2413080"/>
            <a:ext cx="2087640" cy="2016000"/>
            <a:chOff x="1763640" y="2413080"/>
            <a:chExt cx="2087640" cy="2016000"/>
          </a:xfrm>
        </p:grpSpPr>
        <p:sp>
          <p:nvSpPr>
            <p:cNvPr id="183" name="Line 3"/>
            <p:cNvSpPr/>
            <p:nvPr/>
          </p:nvSpPr>
          <p:spPr>
            <a:xfrm>
              <a:off x="1763640" y="2413080"/>
              <a:ext cx="2087640" cy="201600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1763640" y="2413080"/>
              <a:ext cx="2087640" cy="20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692360" y="2484000"/>
            <a:ext cx="2016000" cy="647640"/>
            <a:chOff x="1692360" y="2484000"/>
            <a:chExt cx="2016000" cy="647640"/>
          </a:xfrm>
        </p:grpSpPr>
        <p:sp>
          <p:nvSpPr>
            <p:cNvPr id="186" name="Line 4"/>
            <p:cNvSpPr/>
            <p:nvPr/>
          </p:nvSpPr>
          <p:spPr>
            <a:xfrm flipV="1">
              <a:off x="1692360" y="2484000"/>
              <a:ext cx="2016000" cy="64764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 rot="10800000">
              <a:off x="1692360" y="2484000"/>
              <a:ext cx="201600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692360" y="3708360"/>
            <a:ext cx="2087640" cy="73080"/>
            <a:chOff x="1692360" y="3708360"/>
            <a:chExt cx="2087640" cy="73080"/>
          </a:xfrm>
        </p:grpSpPr>
        <p:sp>
          <p:nvSpPr>
            <p:cNvPr id="189" name="Line 5"/>
            <p:cNvSpPr/>
            <p:nvPr/>
          </p:nvSpPr>
          <p:spPr>
            <a:xfrm>
              <a:off x="1692360" y="3708360"/>
              <a:ext cx="2087640" cy="7308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1692360" y="3708360"/>
              <a:ext cx="208764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619280" y="3131640"/>
            <a:ext cx="2160720" cy="1297080"/>
            <a:chOff x="1619280" y="3131640"/>
            <a:chExt cx="2160720" cy="1297080"/>
          </a:xfrm>
        </p:grpSpPr>
        <p:sp>
          <p:nvSpPr>
            <p:cNvPr id="192" name="Line 6"/>
            <p:cNvSpPr/>
            <p:nvPr/>
          </p:nvSpPr>
          <p:spPr>
            <a:xfrm flipV="1">
              <a:off x="1619280" y="3131640"/>
              <a:ext cx="2160720" cy="129708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 rot="10800000">
              <a:off x="1619280" y="3131640"/>
              <a:ext cx="2160720" cy="12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692360" y="4932360"/>
            <a:ext cx="2303280" cy="720720"/>
            <a:chOff x="1692360" y="4932360"/>
            <a:chExt cx="2303280" cy="720720"/>
          </a:xfrm>
        </p:grpSpPr>
        <p:sp>
          <p:nvSpPr>
            <p:cNvPr id="195" name="Line 7"/>
            <p:cNvSpPr/>
            <p:nvPr/>
          </p:nvSpPr>
          <p:spPr>
            <a:xfrm>
              <a:off x="1692360" y="4932360"/>
              <a:ext cx="2303280" cy="72072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1692360" y="4932360"/>
              <a:ext cx="230328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828800" y="4952880"/>
            <a:ext cx="2016000" cy="648000"/>
            <a:chOff x="1828800" y="4952880"/>
            <a:chExt cx="2016000" cy="648000"/>
          </a:xfrm>
        </p:grpSpPr>
        <p:sp>
          <p:nvSpPr>
            <p:cNvPr id="198" name="Line 8"/>
            <p:cNvSpPr/>
            <p:nvPr/>
          </p:nvSpPr>
          <p:spPr>
            <a:xfrm flipV="1">
              <a:off x="1828800" y="4952880"/>
              <a:ext cx="2016000" cy="648000"/>
            </a:xfrm>
            <a:prstGeom prst="line">
              <a:avLst/>
            </a:prstGeom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 rot="10800000">
              <a:off x="1828800" y="4952880"/>
              <a:ext cx="201600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4"/>
          <p:cNvSpPr/>
          <p:nvPr/>
        </p:nvSpPr>
        <p:spPr>
          <a:xfrm>
            <a:off x="3427560" y="928800"/>
            <a:ext cx="19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:\users\administrator\appdata\roaming\360se6\User Data\temp\t01af057eabdd6f97a6.jpg"/>
          <p:cNvPicPr/>
          <p:nvPr/>
        </p:nvPicPr>
        <p:blipFill>
          <a:blip r:embed="rId1"/>
          <a:stretch/>
        </p:blipFill>
        <p:spPr>
          <a:xfrm>
            <a:off x="428760" y="5286240"/>
            <a:ext cx="1214280" cy="92880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1362240" y="1952640"/>
            <a:ext cx="6359400" cy="214056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了解宋朝社会生活的大概风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了解宋朝社会的文化娱乐活动的情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了解宋元时期的文学、艺术成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103"/>
          <p:cNvSpPr/>
          <p:nvPr/>
        </p:nvSpPr>
        <p:spPr>
          <a:xfrm>
            <a:off x="142920" y="12600"/>
            <a:ext cx="12952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新课探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99"/>
          <p:cNvSpPr/>
          <p:nvPr/>
        </p:nvSpPr>
        <p:spPr>
          <a:xfrm>
            <a:off x="160200" y="476280"/>
            <a:ext cx="47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彩云"/>
                <a:ea typeface="华文彩云"/>
              </a:rPr>
              <a:t>一、繁华的都市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" descr="CghzflU-CbCAWU-qAAK4M0ad3T4467"/>
          <p:cNvPicPr/>
          <p:nvPr/>
        </p:nvPicPr>
        <p:blipFill>
          <a:blip r:embed="rId1"/>
          <a:stretch/>
        </p:blipFill>
        <p:spPr>
          <a:xfrm>
            <a:off x="3432240" y="1322280"/>
            <a:ext cx="5684760" cy="4213440"/>
          </a:xfrm>
          <a:prstGeom prst="rect">
            <a:avLst/>
          </a:prstGeom>
          <a:ln w="0">
            <a:noFill/>
          </a:ln>
        </p:spPr>
      </p:pic>
      <p:sp>
        <p:nvSpPr>
          <p:cNvPr id="57" name="文本框 1"/>
          <p:cNvSpPr/>
          <p:nvPr/>
        </p:nvSpPr>
        <p:spPr>
          <a:xfrm>
            <a:off x="254160" y="1697040"/>
            <a:ext cx="2990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宋元时期都市的基本情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4"/>
          <p:cNvSpPr/>
          <p:nvPr/>
        </p:nvSpPr>
        <p:spPr>
          <a:xfrm>
            <a:off x="71280" y="2768760"/>
            <a:ext cx="3248280" cy="5508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宋元时期有很多大的城市，在社会生活方面呈现出丰富多彩的景象。北宋东京（大相国寺）、南宋临安、元朝大都，都是当时世界上著名的大都市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23557"/>
          <p:cNvSpPr/>
          <p:nvPr/>
        </p:nvSpPr>
        <p:spPr>
          <a:xfrm>
            <a:off x="4484520" y="5565600"/>
            <a:ext cx="35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河南开封大相国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241200" y="1027080"/>
            <a:ext cx="28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一）概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23557"/>
          <p:cNvSpPr/>
          <p:nvPr/>
        </p:nvSpPr>
        <p:spPr>
          <a:xfrm>
            <a:off x="4125960" y="527832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《清明上河图》瓦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"/>
          <p:cNvSpPr/>
          <p:nvPr/>
        </p:nvSpPr>
        <p:spPr>
          <a:xfrm>
            <a:off x="241200" y="595440"/>
            <a:ext cx="28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二）瓦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W020100827665800105622"/>
          <p:cNvPicPr/>
          <p:nvPr/>
        </p:nvPicPr>
        <p:blipFill>
          <a:blip r:embed="rId1"/>
          <a:stretch/>
        </p:blipFill>
        <p:spPr>
          <a:xfrm>
            <a:off x="2693880" y="1714680"/>
            <a:ext cx="635184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3"/>
          <p:cNvSpPr/>
          <p:nvPr/>
        </p:nvSpPr>
        <p:spPr>
          <a:xfrm>
            <a:off x="309600" y="1446120"/>
            <a:ext cx="24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读史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4"/>
          <p:cNvSpPr/>
          <p:nvPr/>
        </p:nvSpPr>
        <p:spPr>
          <a:xfrm>
            <a:off x="169920" y="2081160"/>
            <a:ext cx="2236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材料：</a:t>
            </a:r>
            <a:r>
              <a:rPr b="1" lang="zh-CN" sz="2600" spc="-1" strike="noStrike">
                <a:solidFill>
                  <a:srgbClr val="0070c0"/>
                </a:solidFill>
                <a:latin typeface="Arial"/>
              </a:rPr>
              <a:t>什么叫“瓦舍”呢？吴自牧在《梦梁录》卷十九中说：“瓦舍者，谓其‘来时瓦合，去时瓦解’之义，易聚易散也。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23557"/>
          <p:cNvSpPr/>
          <p:nvPr/>
        </p:nvSpPr>
        <p:spPr>
          <a:xfrm>
            <a:off x="4197240" y="570852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《清明上河图》瓦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2" descr="W020100827665800105622"/>
          <p:cNvPicPr/>
          <p:nvPr/>
        </p:nvPicPr>
        <p:blipFill>
          <a:blip r:embed="rId1"/>
          <a:stretch/>
        </p:blipFill>
        <p:spPr>
          <a:xfrm>
            <a:off x="2765520" y="2144880"/>
            <a:ext cx="6351480" cy="342900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1"/>
          <p:cNvSpPr/>
          <p:nvPr/>
        </p:nvSpPr>
        <p:spPr>
          <a:xfrm>
            <a:off x="111240" y="620640"/>
            <a:ext cx="45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读材料，学生抢答瓦子的基本情况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"/>
          <p:cNvSpPr/>
          <p:nvPr/>
        </p:nvSpPr>
        <p:spPr>
          <a:xfrm>
            <a:off x="254160" y="1763640"/>
            <a:ext cx="2409840" cy="10076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开封城内有许多娱乐兼营商业的场所，叫作“瓦子”。瓦子中圈出许多专供演出的圈子，称为“勾栏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23557"/>
          <p:cNvSpPr/>
          <p:nvPr/>
        </p:nvSpPr>
        <p:spPr>
          <a:xfrm>
            <a:off x="4197240" y="5708520"/>
            <a:ext cx="405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隶书"/>
              </a:rPr>
              <a:t>《清明上河图》瓦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" descr="W020100827665800105622"/>
          <p:cNvPicPr/>
          <p:nvPr/>
        </p:nvPicPr>
        <p:blipFill>
          <a:blip r:embed="rId1"/>
          <a:stretch/>
        </p:blipFill>
        <p:spPr>
          <a:xfrm>
            <a:off x="2765520" y="2144880"/>
            <a:ext cx="635148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1"/>
          <p:cNvSpPr/>
          <p:nvPr/>
        </p:nvSpPr>
        <p:spPr>
          <a:xfrm>
            <a:off x="111240" y="620640"/>
            <a:ext cx="4508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结合教材分析讨论瓦子兴起的原因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4"/>
          <p:cNvSpPr/>
          <p:nvPr/>
        </p:nvSpPr>
        <p:spPr>
          <a:xfrm>
            <a:off x="254160" y="2266920"/>
            <a:ext cx="2203200" cy="5508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宋体"/>
              </a:rPr>
              <a:t>随着城市的繁荣，宋代的市民阶层不断壮大，市民文化生活也丰富起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27650"/>
          <p:cNvSpPr/>
          <p:nvPr/>
        </p:nvSpPr>
        <p:spPr>
          <a:xfrm>
            <a:off x="179280" y="765000"/>
            <a:ext cx="3600720" cy="863640"/>
          </a:xfrm>
          <a:prstGeom prst="rect">
            <a:avLst/>
          </a:prstGeom>
          <a:noFill/>
          <a:ln w="76320">
            <a:solidFill>
              <a:srgbClr val="b507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化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27651" descr="05"/>
          <p:cNvPicPr/>
          <p:nvPr/>
        </p:nvPicPr>
        <p:blipFill>
          <a:blip r:embed="rId1"/>
          <a:stretch/>
        </p:blipFill>
        <p:spPr>
          <a:xfrm>
            <a:off x="755640" y="4941720"/>
            <a:ext cx="3959280" cy="13464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27652" descr="u=798253383,3296188195&amp;gp=2"/>
          <p:cNvPicPr/>
          <p:nvPr/>
        </p:nvPicPr>
        <p:blipFill>
          <a:blip r:embed="rId2"/>
          <a:stretch/>
        </p:blipFill>
        <p:spPr>
          <a:xfrm>
            <a:off x="6372360" y="692280"/>
            <a:ext cx="1879560" cy="179064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27653"/>
          <p:cNvGrpSpPr/>
          <p:nvPr/>
        </p:nvGrpSpPr>
        <p:grpSpPr>
          <a:xfrm>
            <a:off x="900000" y="1846440"/>
            <a:ext cx="6477120" cy="1711440"/>
            <a:chOff x="900000" y="1846440"/>
            <a:chExt cx="6477120" cy="1711440"/>
          </a:xfrm>
        </p:grpSpPr>
        <p:sp>
          <p:nvSpPr>
            <p:cNvPr id="78" name="文本框 27654"/>
            <p:cNvSpPr/>
            <p:nvPr/>
          </p:nvSpPr>
          <p:spPr>
            <a:xfrm>
              <a:off x="950760" y="18464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我知道：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27655"/>
            <p:cNvSpPr/>
            <p:nvPr/>
          </p:nvSpPr>
          <p:spPr>
            <a:xfrm>
              <a:off x="900000" y="2854440"/>
              <a:ext cx="647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瓦子是……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文本框 27656"/>
          <p:cNvSpPr/>
          <p:nvPr/>
        </p:nvSpPr>
        <p:spPr>
          <a:xfrm>
            <a:off x="250920" y="3573360"/>
            <a:ext cx="85978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瓦子是宋代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娱乐兼营商业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场所。瓦子中圈出许多专供演出的圈子，称为“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勾栏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28673" descr="7"/>
          <p:cNvPicPr/>
          <p:nvPr/>
        </p:nvPicPr>
        <p:blipFill>
          <a:blip r:embed="rId1"/>
          <a:stretch/>
        </p:blipFill>
        <p:spPr>
          <a:xfrm>
            <a:off x="898560" y="669960"/>
            <a:ext cx="7400880" cy="555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2" name="组合 28674"/>
          <p:cNvGrpSpPr/>
          <p:nvPr/>
        </p:nvGrpSpPr>
        <p:grpSpPr>
          <a:xfrm>
            <a:off x="3348000" y="1413000"/>
            <a:ext cx="5097600" cy="4940280"/>
            <a:chOff x="3348000" y="1413000"/>
            <a:chExt cx="5097600" cy="4940280"/>
          </a:xfrm>
        </p:grpSpPr>
        <p:sp>
          <p:nvSpPr>
            <p:cNvPr id="83" name="椭圆 28675"/>
            <p:cNvSpPr/>
            <p:nvPr/>
          </p:nvSpPr>
          <p:spPr>
            <a:xfrm>
              <a:off x="3348000" y="1413000"/>
              <a:ext cx="3505320" cy="20574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28676"/>
            <p:cNvSpPr/>
            <p:nvPr/>
          </p:nvSpPr>
          <p:spPr>
            <a:xfrm>
              <a:off x="4940280" y="4295880"/>
              <a:ext cx="3505320" cy="20574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椭圆 28677"/>
          <p:cNvSpPr/>
          <p:nvPr/>
        </p:nvSpPr>
        <p:spPr>
          <a:xfrm>
            <a:off x="898560" y="765000"/>
            <a:ext cx="3781440" cy="2619720"/>
          </a:xfrm>
          <a:prstGeom prst="ellipse">
            <a:avLst/>
          </a:prstGeom>
          <a:solidFill>
            <a:srgbClr val="99ccff">
              <a:alpha val="67000"/>
            </a:srgbClr>
          </a:solidFill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8678"/>
          <p:cNvSpPr txBox="1"/>
          <p:nvPr/>
        </p:nvSpPr>
        <p:spPr>
          <a:xfrm>
            <a:off x="1330200" y="1125360"/>
            <a:ext cx="3009960" cy="136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娱乐兼商业的场所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419280" y="1197000"/>
            <a:ext cx="1152720" cy="289080"/>
            <a:chOff x="3419280" y="1197000"/>
            <a:chExt cx="1152720" cy="289080"/>
          </a:xfrm>
        </p:grpSpPr>
        <p:sp>
          <p:nvSpPr>
            <p:cNvPr id="88" name="直接连接符 28679"/>
            <p:cNvSpPr/>
            <p:nvPr/>
          </p:nvSpPr>
          <p:spPr>
            <a:xfrm flipH="1">
              <a:off x="3419280" y="1197000"/>
              <a:ext cx="1152360" cy="289080"/>
            </a:xfrm>
            <a:prstGeom prst="line">
              <a:avLst/>
            </a:prstGeom>
            <a:ln w="63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3419640" y="1197000"/>
              <a:ext cx="1152360" cy="28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文本框 28680"/>
          <p:cNvSpPr/>
          <p:nvPr/>
        </p:nvSpPr>
        <p:spPr>
          <a:xfrm>
            <a:off x="4870080" y="765000"/>
            <a:ext cx="8514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瓦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28681"/>
          <p:cNvSpPr/>
          <p:nvPr/>
        </p:nvSpPr>
        <p:spPr>
          <a:xfrm>
            <a:off x="1833480" y="1916280"/>
            <a:ext cx="1656000" cy="792000"/>
          </a:xfrm>
          <a:prstGeom prst="ellipse">
            <a:avLst/>
          </a:prstGeom>
          <a:solidFill>
            <a:srgbClr val="ff99cc">
              <a:alpha val="68000"/>
            </a:srgbClr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8682"/>
          <p:cNvSpPr/>
          <p:nvPr/>
        </p:nvSpPr>
        <p:spPr>
          <a:xfrm>
            <a:off x="2339280" y="206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演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987280" y="2420640"/>
            <a:ext cx="2087640" cy="142920"/>
            <a:chOff x="2987280" y="2420640"/>
            <a:chExt cx="2087640" cy="142920"/>
          </a:xfrm>
        </p:grpSpPr>
        <p:sp>
          <p:nvSpPr>
            <p:cNvPr id="94" name="直接连接符 28683"/>
            <p:cNvSpPr/>
            <p:nvPr/>
          </p:nvSpPr>
          <p:spPr>
            <a:xfrm flipH="1" flipV="1">
              <a:off x="2987280" y="2420640"/>
              <a:ext cx="2087640" cy="142920"/>
            </a:xfrm>
            <a:prstGeom prst="line">
              <a:avLst/>
            </a:prstGeom>
            <a:ln w="63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 rot="10800000">
              <a:off x="2987280" y="2420640"/>
              <a:ext cx="208764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文本框 28684"/>
          <p:cNvSpPr/>
          <p:nvPr/>
        </p:nvSpPr>
        <p:spPr>
          <a:xfrm>
            <a:off x="5230440" y="2060640"/>
            <a:ext cx="8514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勾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08:19:34Z</dcterms:created>
  <dc:creator/>
  <dc:description/>
  <dc:language>en-US</dc:language>
  <cp:lastModifiedBy>Administrator</cp:lastModifiedBy>
  <dcterms:modified xsi:type="dcterms:W3CDTF">2019-01-08T08:19:34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