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6F4-910D-4D93-9BB3-29E280E6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546-6718-47F6-9617-95FF60F8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4CED-A21F-48A7-840D-262E2B0E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1E68-BB6C-4BDE-AD3D-417D5188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779E-6C73-486D-9621-353D3CAF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4725-BCBA-41E5-A0EC-8FD247EB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696-1B0A-4938-9BC7-A68C2EE4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5C9-1756-4739-AC6C-DEF8E7A3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EC1-391F-4F42-B9AE-7AA8A338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749D-9EBD-47FC-A707-3D22CF46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C48-9A94-4964-865E-F37FE0EA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0C42-2B92-4995-998A-BC74A992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EFC5-B178-4FE9-A33B-73FF9AA5950B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0272-A591-4FDD-AA6B-0462EC741B3A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tangwenhua.com/readnews.asp?id=557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MH_SubTitle_1"/>
          <p:cNvSpPr/>
          <p:nvPr/>
        </p:nvSpPr>
        <p:spPr>
          <a:xfrm>
            <a:off x="749160" y="4508640"/>
            <a:ext cx="167004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MH_SubTitle_2"/>
          <p:cNvSpPr/>
          <p:nvPr/>
        </p:nvSpPr>
        <p:spPr>
          <a:xfrm>
            <a:off x="2743200" y="4508640"/>
            <a:ext cx="167004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课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SubTitle_3"/>
          <p:cNvSpPr/>
          <p:nvPr/>
        </p:nvSpPr>
        <p:spPr>
          <a:xfrm>
            <a:off x="4765680" y="4508640"/>
            <a:ext cx="167004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4"/>
          <p:cNvSpPr/>
          <p:nvPr/>
        </p:nvSpPr>
        <p:spPr>
          <a:xfrm>
            <a:off x="6804000" y="4508640"/>
            <a:ext cx="167004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随堂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2560" y="16286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隋唐时期：繁荣与开放的时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587320" y="2600640"/>
            <a:ext cx="40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第</a:t>
            </a: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课 从“贞观之治”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开元盛世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房玄龄"/>
          <p:cNvPicPr/>
          <p:nvPr/>
        </p:nvPicPr>
        <p:blipFill>
          <a:blip r:embed="rId1"/>
          <a:stretch/>
        </p:blipFill>
        <p:spPr>
          <a:xfrm>
            <a:off x="1328760" y="2073240"/>
            <a:ext cx="2898720" cy="4022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杜如晦"/>
          <p:cNvPicPr/>
          <p:nvPr/>
        </p:nvPicPr>
        <p:blipFill>
          <a:blip r:embed="rId2"/>
          <a:stretch/>
        </p:blipFill>
        <p:spPr>
          <a:xfrm>
            <a:off x="5292720" y="2060640"/>
            <a:ext cx="3206880" cy="4048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4207320" y="719280"/>
            <a:ext cx="111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孙无忌、房玄龄、杜如晦、魏征、李靖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士廉、尉迟敬德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071880" y="207180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房玄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284960" y="207180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杜如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3132000" y="1413000"/>
            <a:ext cx="6012000" cy="3500280"/>
          </a:xfrm>
          <a:prstGeom prst="cloudCallout">
            <a:avLst>
              <a:gd name="adj1" fmla="val -24226"/>
              <a:gd name="adj2" fmla="val 59162"/>
            </a:avLst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64000" y="2505240"/>
            <a:ext cx="5565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Medium"/>
                <a:ea typeface="隶书"/>
              </a:rPr>
              <a:t>“</a:t>
            </a:r>
            <a:r>
              <a:rPr b="1" lang="zh-CN" sz="2500" spc="-1" strike="noStrike">
                <a:solidFill>
                  <a:srgbClr val="000000"/>
                </a:solidFill>
                <a:latin typeface="Franklin Gothic Medium"/>
                <a:ea typeface="隶书"/>
              </a:rPr>
              <a:t>以铜为镜，可以正衣冠；以古为镜，可以知兴替；以人为镜，可以明得失。”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Franklin Gothic Medium"/>
                <a:ea typeface="隶书"/>
              </a:rPr>
              <a:t>        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1" lang="zh-CN" sz="2500" spc="-1" strike="noStrike">
                <a:solidFill>
                  <a:srgbClr val="000000"/>
                </a:solidFill>
                <a:latin typeface="Franklin Gothic Medium"/>
                <a:ea typeface="隶书"/>
              </a:rPr>
              <a:t>唐太宗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7" name="Picture 5" descr="魏征"/>
          <p:cNvPicPr/>
          <p:nvPr/>
        </p:nvPicPr>
        <p:blipFill>
          <a:blip r:embed="rId1"/>
          <a:stretch/>
        </p:blipFill>
        <p:spPr>
          <a:xfrm>
            <a:off x="287280" y="1076400"/>
            <a:ext cx="2712960" cy="36716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2195640" y="1192320"/>
            <a:ext cx="66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Verdana"/>
                <a:ea typeface="华文行楷"/>
              </a:rPr>
              <a:t>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Verdana"/>
                <a:ea typeface="华文行楷"/>
              </a:rPr>
              <a:t>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2"/>
          <p:cNvSpPr/>
          <p:nvPr/>
        </p:nvSpPr>
        <p:spPr>
          <a:xfrm>
            <a:off x="1503360" y="3137040"/>
            <a:ext cx="697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③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经济方面。减轻人民的劳役负担，鼓励发展农业生产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4"/>
          <p:cNvSpPr/>
          <p:nvPr/>
        </p:nvSpPr>
        <p:spPr>
          <a:xfrm>
            <a:off x="1503360" y="4116240"/>
            <a:ext cx="708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④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边疆管理。唐太宗时期先后击败东、 西突厥，加强了对西域的统治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"/>
          <p:cNvSpPr/>
          <p:nvPr/>
        </p:nvSpPr>
        <p:spPr>
          <a:xfrm>
            <a:off x="1449360" y="1246320"/>
            <a:ext cx="708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宋体"/>
              </a:rPr>
              <a:t>②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政治方面。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进一步完善三省六部制；制定法律，减省刑罚；增加科举考试科目，鼓励士人报考，进士科逐渐成为最重要的科目；严格考查各级官吏的政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3"/>
          <p:cNvSpPr/>
          <p:nvPr/>
        </p:nvSpPr>
        <p:spPr>
          <a:xfrm>
            <a:off x="309600" y="94284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读史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4"/>
          <p:cNvSpPr/>
          <p:nvPr/>
        </p:nvSpPr>
        <p:spPr>
          <a:xfrm>
            <a:off x="241200" y="1436760"/>
            <a:ext cx="878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材料一：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</a:rPr>
              <a:t>“（贞观）初期，茫茫千里，人烟断绝，鸡犬不闻，道路萧条。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5"/>
          <p:cNvSpPr/>
          <p:nvPr/>
        </p:nvSpPr>
        <p:spPr>
          <a:xfrm>
            <a:off x="108000" y="2563920"/>
            <a:ext cx="878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材料二：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</a:rPr>
              <a:t>昔者唐之太宗，以神武之略起定祸乱，以王天下，威加四海矣。然所谓固天下之势，以遗诸子孙者，盖未立也。于是乎藉兵于府，置将于卫，据关而临制之。处兵于府，则将无内专之权；处将于卫，则兵无外擅之患。然犹以为未也，乃大诛四夷之侵侮者：破突厥，夷吐浑，平高昌，灭焉耆，皆俘其王，亲驾辽左而残其国。凡此者，非以黩武也，皆所以立权而固天下之势者也。”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1"/>
          <p:cNvSpPr/>
          <p:nvPr/>
        </p:nvSpPr>
        <p:spPr>
          <a:xfrm>
            <a:off x="596880" y="800280"/>
            <a:ext cx="654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根据材料讨论唐太宗采取这些措施的结果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446040" y="22986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政治比较清明，经济得到进一步发展，国力增强，文教昌盛，历史上称之为“贞观之治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1" descr="0203506009-0"/>
          <p:cNvPicPr/>
          <p:nvPr/>
        </p:nvPicPr>
        <p:blipFill>
          <a:blip r:embed="rId1"/>
          <a:stretch/>
        </p:blipFill>
        <p:spPr>
          <a:xfrm>
            <a:off x="3327480" y="2311560"/>
            <a:ext cx="576252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 flipH="1" flipV="1" rot="10783200">
            <a:off x="745560" y="2214720"/>
            <a:ext cx="306360" cy="3025440"/>
          </a:xfrm>
          <a:custGeom>
            <a:avLst/>
            <a:gdLst>
              <a:gd name="textAreaLeft" fmla="*/ 195840 w 306360"/>
              <a:gd name="textAreaRight" fmla="*/ 306360 w 306360"/>
              <a:gd name="textAreaTop" fmla="*/ 29520 h 3025440"/>
              <a:gd name="textAreaBottom" fmla="*/ 2995920 h 302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9"/>
                  <a:pt x="10800" y="677"/>
                </a:cubicBezTo>
                <a:lnTo>
                  <a:pt x="10800" y="9950"/>
                </a:lnTo>
                <a:cubicBezTo>
                  <a:pt x="10800" y="10289"/>
                  <a:pt x="5400" y="10627"/>
                  <a:pt x="0" y="10627"/>
                </a:cubicBezTo>
                <a:cubicBezTo>
                  <a:pt x="5400" y="10627"/>
                  <a:pt x="10800" y="10966"/>
                  <a:pt x="10800" y="11304"/>
                </a:cubicBezTo>
                <a:lnTo>
                  <a:pt x="10800" y="20923"/>
                </a:lnTo>
                <a:cubicBezTo>
                  <a:pt x="10800" y="2126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4454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39640" y="701640"/>
            <a:ext cx="653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  <a:ea typeface="隶书"/>
              </a:rPr>
              <a:t>贞观之治局面形成原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AL05"/>
          <p:cNvPicPr/>
          <p:nvPr/>
        </p:nvPicPr>
        <p:blipFill>
          <a:blip r:embed="rId1"/>
          <a:stretch/>
        </p:blipFill>
        <p:spPr>
          <a:xfrm>
            <a:off x="1062000" y="2033640"/>
            <a:ext cx="316080" cy="318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AL05"/>
          <p:cNvPicPr/>
          <p:nvPr/>
        </p:nvPicPr>
        <p:blipFill>
          <a:blip r:embed="rId2"/>
          <a:stretch/>
        </p:blipFill>
        <p:spPr>
          <a:xfrm>
            <a:off x="1015920" y="3133800"/>
            <a:ext cx="316080" cy="318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AL05"/>
          <p:cNvPicPr/>
          <p:nvPr/>
        </p:nvPicPr>
        <p:blipFill>
          <a:blip r:embed="rId3"/>
          <a:stretch/>
        </p:blipFill>
        <p:spPr>
          <a:xfrm>
            <a:off x="1062000" y="4189320"/>
            <a:ext cx="316080" cy="319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3240" y="2448360"/>
            <a:ext cx="85068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  <a:ea typeface="隶书"/>
              </a:rPr>
              <a:t>唐太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332520" y="1871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知人善任、虚怀纳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378080" y="4027320"/>
            <a:ext cx="46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重视生产、轻徭薄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241280" y="2948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完善制度、减轻刑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 flipH="1" flipV="1" rot="43800">
            <a:off x="5469480" y="2124000"/>
            <a:ext cx="320760" cy="3204000"/>
          </a:xfrm>
          <a:custGeom>
            <a:avLst/>
            <a:gdLst>
              <a:gd name="textAreaLeft" fmla="*/ 204840 w 320760"/>
              <a:gd name="textAreaRight" fmla="*/ 321120 w 320760"/>
              <a:gd name="textAreaTop" fmla="*/ 33120 h 3204000"/>
              <a:gd name="textAreaBottom" fmla="*/ 3170880 h 320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57"/>
                  <a:pt x="10800" y="714"/>
                </a:cubicBezTo>
                <a:lnTo>
                  <a:pt x="10800" y="10000"/>
                </a:lnTo>
                <a:cubicBezTo>
                  <a:pt x="10800" y="10357"/>
                  <a:pt x="5400" y="10714"/>
                  <a:pt x="0" y="10714"/>
                </a:cubicBezTo>
                <a:cubicBezTo>
                  <a:pt x="5400" y="10714"/>
                  <a:pt x="10800" y="11071"/>
                  <a:pt x="10800" y="11428"/>
                </a:cubicBezTo>
                <a:lnTo>
                  <a:pt x="10800" y="20886"/>
                </a:lnTo>
                <a:cubicBezTo>
                  <a:pt x="10800" y="21243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4454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6018840" y="2889360"/>
            <a:ext cx="127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政治清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经济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社会安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7680600" y="2214720"/>
            <a:ext cx="850680" cy="43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4546a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44546a"/>
                </a:solidFill>
                <a:latin typeface="Times New Roman"/>
                <a:ea typeface="隶书"/>
              </a:rPr>
              <a:t>贞观之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7677000" y="2303640"/>
            <a:ext cx="914400" cy="2700000"/>
          </a:xfrm>
          <a:prstGeom prst="rect">
            <a:avLst/>
          </a:prstGeom>
          <a:noFill/>
          <a:ln w="7632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AL05"/>
          <p:cNvPicPr/>
          <p:nvPr/>
        </p:nvPicPr>
        <p:blipFill>
          <a:blip r:embed="rId4"/>
          <a:stretch/>
        </p:blipFill>
        <p:spPr>
          <a:xfrm>
            <a:off x="973080" y="5105520"/>
            <a:ext cx="316080" cy="3189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1289160" y="4943520"/>
            <a:ext cx="46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击败突厥、巩固西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99"/>
          <p:cNvSpPr/>
          <p:nvPr/>
        </p:nvSpPr>
        <p:spPr>
          <a:xfrm>
            <a:off x="250920" y="549360"/>
            <a:ext cx="41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二：女皇帝武则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9" descr="5042631452662636"/>
          <p:cNvPicPr/>
          <p:nvPr/>
        </p:nvPicPr>
        <p:blipFill>
          <a:blip r:embed="rId1"/>
          <a:stretch/>
        </p:blipFill>
        <p:spPr>
          <a:xfrm>
            <a:off x="547560" y="1190520"/>
            <a:ext cx="4006800" cy="493092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0"/>
          <p:cNvSpPr/>
          <p:nvPr/>
        </p:nvSpPr>
        <p:spPr>
          <a:xfrm>
            <a:off x="5219640" y="3068640"/>
            <a:ext cx="3240000" cy="2232000"/>
          </a:xfrm>
          <a:prstGeom prst="cloudCallout">
            <a:avLst>
              <a:gd name="adj1" fmla="val -71851"/>
              <a:gd name="adj2" fmla="val -38902"/>
            </a:avLst>
          </a:prstGeom>
          <a:solidFill>
            <a:srgbClr val="5b9bd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说说你印象中的武则天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6840" y="1312920"/>
            <a:ext cx="386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   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</a:rPr>
              <a:t>武则天成为皇后以后，与唐高宗共掌朝政。高宗去世后，武则天相继废掉两个已经做了皇帝的儿子，自己取而代之， 改国号为周。她是中国历史上唯一的女皇帝。 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7" name="Picture 3" descr="200592684242498">
            <a:hlinkClick r:id="rId1"/>
          </p:cNvPr>
          <p:cNvPicPr/>
          <p:nvPr/>
        </p:nvPicPr>
        <p:blipFill>
          <a:blip r:embed="rId2"/>
          <a:srcRect l="13315" t="0" r="13488" b="0"/>
          <a:stretch/>
        </p:blipFill>
        <p:spPr>
          <a:xfrm>
            <a:off x="4414680" y="811080"/>
            <a:ext cx="386100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1"/>
          <p:cNvSpPr/>
          <p:nvPr/>
        </p:nvSpPr>
        <p:spPr>
          <a:xfrm>
            <a:off x="5645160" y="5443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字碑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752480" y="1600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WordArt 6"/>
          <p:cNvSpPr txBox="1"/>
          <p:nvPr/>
        </p:nvSpPr>
        <p:spPr>
          <a:xfrm>
            <a:off x="743040" y="1335240"/>
            <a:ext cx="18669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思考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200240" y="2368440"/>
            <a:ext cx="65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武则天的主要政绩有哪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"/>
          <p:cNvSpPr/>
          <p:nvPr/>
        </p:nvSpPr>
        <p:spPr>
          <a:xfrm>
            <a:off x="4317120" y="423864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、减轻人民负担，重视发展农业生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2786400" y="330372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、发展科举，选拔人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"/>
          <p:cNvSpPr/>
          <p:nvPr/>
        </p:nvSpPr>
        <p:spPr>
          <a:xfrm>
            <a:off x="2289960" y="5114880"/>
            <a:ext cx="37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３、为后来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开元盛世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奠定了基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99"/>
          <p:cNvSpPr/>
          <p:nvPr/>
        </p:nvSpPr>
        <p:spPr>
          <a:xfrm>
            <a:off x="250920" y="54936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三：开元盛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唐太宗李世民像"/>
          <p:cNvPicPr/>
          <p:nvPr/>
        </p:nvPicPr>
        <p:blipFill>
          <a:blip r:embed="rId1"/>
          <a:stretch/>
        </p:blipFill>
        <p:spPr>
          <a:xfrm>
            <a:off x="828720" y="1197000"/>
            <a:ext cx="2108160" cy="4070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武则天像"/>
          <p:cNvPicPr/>
          <p:nvPr/>
        </p:nvPicPr>
        <p:blipFill>
          <a:blip r:embed="rId2"/>
          <a:stretch/>
        </p:blipFill>
        <p:spPr>
          <a:xfrm>
            <a:off x="2924280" y="1197000"/>
            <a:ext cx="2873160" cy="4041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唐玄宗"/>
          <p:cNvPicPr/>
          <p:nvPr/>
        </p:nvPicPr>
        <p:blipFill>
          <a:blip r:embed="rId3"/>
          <a:stretch/>
        </p:blipFill>
        <p:spPr>
          <a:xfrm>
            <a:off x="5807160" y="1197000"/>
            <a:ext cx="2728800" cy="40784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1097640" y="5356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唐太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374000" y="5418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武则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7345800" y="5418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唐玄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041840" y="594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6699"/>
                </a:solidFill>
                <a:latin typeface="Times New Roman"/>
                <a:ea typeface="黑体"/>
              </a:rPr>
              <a:t>贞观之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635640" y="58802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6699"/>
                </a:solidFill>
                <a:latin typeface="Times New Roman"/>
                <a:ea typeface="黑体"/>
              </a:rPr>
              <a:t>政启开元，治宏贞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7220160" y="6027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6699"/>
                </a:solidFill>
                <a:latin typeface="Times New Roman"/>
                <a:ea typeface="黑体"/>
              </a:rPr>
              <a:t>开元盛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4103"/>
          <p:cNvSpPr/>
          <p:nvPr/>
        </p:nvSpPr>
        <p:spPr>
          <a:xfrm>
            <a:off x="14292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"/>
          <p:cNvSpPr/>
          <p:nvPr/>
        </p:nvSpPr>
        <p:spPr>
          <a:xfrm>
            <a:off x="2651040" y="4489560"/>
            <a:ext cx="38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《虢国夫人游春图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" descr="20141118043643369901_75"/>
          <p:cNvPicPr/>
          <p:nvPr/>
        </p:nvPicPr>
        <p:blipFill>
          <a:blip r:embed="rId1"/>
          <a:stretch/>
        </p:blipFill>
        <p:spPr>
          <a:xfrm>
            <a:off x="1004760" y="506520"/>
            <a:ext cx="7145640" cy="400032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3"/>
          <p:cNvSpPr/>
          <p:nvPr/>
        </p:nvSpPr>
        <p:spPr>
          <a:xfrm>
            <a:off x="311040" y="4998960"/>
            <a:ext cx="87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《虢国夫人游春图》的价值，不仅在于它的高超技巧，以及它对真实历史人物和真实风俗图景的生动描绘，更在于它从特定角度显示了一个伟大时代的风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唐玄宗"/>
          <p:cNvPicPr/>
          <p:nvPr/>
        </p:nvPicPr>
        <p:blipFill>
          <a:blip r:embed="rId1"/>
          <a:stretch/>
        </p:blipFill>
        <p:spPr>
          <a:xfrm>
            <a:off x="611280" y="1627200"/>
            <a:ext cx="3009960" cy="3657600"/>
          </a:xfrm>
          <a:prstGeom prst="rect">
            <a:avLst/>
          </a:prstGeom>
          <a:ln w="76320">
            <a:solidFill>
              <a:srgbClr val="006699"/>
            </a:solidFill>
            <a:miter/>
          </a:ln>
        </p:spPr>
      </p:pic>
      <p:sp>
        <p:nvSpPr>
          <p:cNvPr id="146" name="Text Box 4"/>
          <p:cNvSpPr/>
          <p:nvPr/>
        </p:nvSpPr>
        <p:spPr>
          <a:xfrm>
            <a:off x="3780000" y="1501920"/>
            <a:ext cx="5076720" cy="3934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新魏"/>
                <a:ea typeface="华文新魏"/>
              </a:rPr>
              <a:t>唐玄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（</a:t>
            </a:r>
            <a:r>
              <a:rPr b="1" lang="en-US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685</a:t>
            </a:r>
            <a:r>
              <a:rPr b="1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～</a:t>
            </a:r>
            <a:r>
              <a:rPr b="1" lang="en-US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762</a:t>
            </a:r>
            <a:r>
              <a:rPr b="1" lang="en-US" sz="3200" spc="-1" strike="noStrike">
                <a:solidFill>
                  <a:srgbClr val="00804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唐玄宗名李隆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又称唐明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712 </a:t>
            </a:r>
            <a:r>
              <a:rPr b="1" lang="zh-CN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～ </a:t>
            </a:r>
            <a:r>
              <a:rPr b="1" lang="en-US" sz="3200" spc="-1" strike="noStrike">
                <a:solidFill>
                  <a:srgbClr val="006699"/>
                </a:solidFill>
                <a:latin typeface="华文新魏"/>
                <a:ea typeface="华文新魏"/>
              </a:rPr>
              <a:t>756</a:t>
            </a:r>
            <a:r>
              <a:rPr b="1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年在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他统治前期年号</a:t>
            </a:r>
            <a:r>
              <a:rPr b="1" lang="en-US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:</a:t>
            </a:r>
            <a:r>
              <a:rPr b="1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开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                </a:t>
            </a:r>
            <a:r>
              <a:rPr b="1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后期年号</a:t>
            </a:r>
            <a:r>
              <a:rPr b="1" lang="en-US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:</a:t>
            </a:r>
            <a:r>
              <a:rPr b="1" lang="zh-CN" sz="3600" spc="-1" strike="noStrike">
                <a:solidFill>
                  <a:srgbClr val="006699"/>
                </a:solidFill>
                <a:latin typeface="华文新魏"/>
                <a:ea typeface="华文新魏"/>
              </a:rPr>
              <a:t>天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3"/>
          <p:cNvSpPr/>
          <p:nvPr/>
        </p:nvSpPr>
        <p:spPr>
          <a:xfrm>
            <a:off x="309600" y="942840"/>
            <a:ext cx="35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读史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"/>
          <p:cNvSpPr/>
          <p:nvPr/>
        </p:nvSpPr>
        <p:spPr>
          <a:xfrm>
            <a:off x="241200" y="1436760"/>
            <a:ext cx="878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材料一：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</a:rPr>
              <a:t>至（开元）十三年封泰山，米斗至十三文，青齐谷斗至五文。自后天下无贵物，两京米斗不至二十文，面三十二文，绢一匹二百一十文。东至宋（今河南商丘南）汴（今河南开封），西至岐州（今陕西凤翔），夹路列店肆待客，酒馔丰溢。每店皆有驴赁客乘，倏忽数十里，谓之驿驴。南诣荆襄（今湖北江陵﹑襄樊），北至太原﹑范阳（今北京），西至蜀川（今四川成都）﹑凉府（即凉州，今甘肃武威），皆有店肆，以供商旅，远适数千里，不持寸刃。”可见当时粮食布帛产量丰富，物价低廉，商业繁茂，道路畅通，行旅安全。到开元二十年，全国有民户七百八十六万一千二百三十六（最多时逾千万），人口四千五百四十三万一千二百六十五，比之唐初户口增加一倍半以上。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5"/>
          <p:cNvSpPr/>
          <p:nvPr/>
        </p:nvSpPr>
        <p:spPr>
          <a:xfrm>
            <a:off x="81000" y="1563840"/>
            <a:ext cx="8783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材料二：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</a:rPr>
              <a:t>唐玄宗时期全国耕地面积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</a:rPr>
              <a:t>6.6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</a:rPr>
              <a:t>亿亩。唐朝的版图，比之于汉代，有新的拓展；大运河把黄河流域与长江流域更密切地联系在一起，促进了全国经济的增长。史称：“开元、天宝之际，耕者益力，高山绝壑，耒耜亦满”。根据现有史料推算，当时全国实际耕地面积约八百五十万顷，折合今亩达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</a:rPr>
              <a:t>6.6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</a:rPr>
              <a:t>亿亩（当下的中国为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</a:rPr>
              <a:t>18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</a:rPr>
              <a:t>亿亩），人均占有达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</a:rPr>
              <a:t>9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</a:rPr>
              <a:t>亩多。远远超过中国今日的平均数（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</a:rPr>
              <a:t>1.4</a:t>
            </a:r>
            <a:r>
              <a:rPr b="0" lang="zh-CN" sz="2600" spc="-1" strike="noStrike">
                <a:solidFill>
                  <a:srgbClr val="0070c0"/>
                </a:solidFill>
                <a:latin typeface="Arial"/>
              </a:rPr>
              <a:t>亩）。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1"/>
          <p:cNvSpPr/>
          <p:nvPr/>
        </p:nvSpPr>
        <p:spPr>
          <a:xfrm>
            <a:off x="309600" y="657360"/>
            <a:ext cx="60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根据材料讨论开元盛世的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3"/>
          <p:cNvSpPr/>
          <p:nvPr/>
        </p:nvSpPr>
        <p:spPr>
          <a:xfrm>
            <a:off x="330120" y="2752560"/>
            <a:ext cx="210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物美价廉；商业繁盛；人口增长；耕地面积扩大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2" descr="c9a61e49"/>
          <p:cNvPicPr/>
          <p:nvPr/>
        </p:nvPicPr>
        <p:blipFill>
          <a:blip r:embed="rId1"/>
          <a:stretch/>
        </p:blipFill>
        <p:spPr>
          <a:xfrm>
            <a:off x="2462040" y="1738440"/>
            <a:ext cx="6616800" cy="363204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4"/>
          <p:cNvSpPr/>
          <p:nvPr/>
        </p:nvSpPr>
        <p:spPr>
          <a:xfrm>
            <a:off x="4933800" y="5479920"/>
            <a:ext cx="256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盛唐的景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1"/>
          <p:cNvSpPr/>
          <p:nvPr/>
        </p:nvSpPr>
        <p:spPr>
          <a:xfrm>
            <a:off x="309600" y="657360"/>
            <a:ext cx="60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学生分组讨论唐玄宗采取了那些政策措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3"/>
          <p:cNvSpPr/>
          <p:nvPr/>
        </p:nvSpPr>
        <p:spPr>
          <a:xfrm>
            <a:off x="309600" y="1973160"/>
            <a:ext cx="37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）主要措施：稳定政局，励精图治，重用贤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"/>
          <p:cNvSpPr/>
          <p:nvPr/>
        </p:nvSpPr>
        <p:spPr>
          <a:xfrm>
            <a:off x="5668920" y="5756400"/>
            <a:ext cx="18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唐三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2" descr="1347383_20140319232711"/>
          <p:cNvPicPr/>
          <p:nvPr/>
        </p:nvPicPr>
        <p:blipFill>
          <a:blip r:embed="rId1"/>
          <a:stretch/>
        </p:blipFill>
        <p:spPr>
          <a:xfrm>
            <a:off x="4614840" y="1101600"/>
            <a:ext cx="3052800" cy="4654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2"/>
          <p:cNvSpPr/>
          <p:nvPr/>
        </p:nvSpPr>
        <p:spPr>
          <a:xfrm>
            <a:off x="801720" y="839880"/>
            <a:ext cx="698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）具体措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政治方面。整顿吏治，裁减冗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经济方面。发展经济，改革税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④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文化方面。注重文教， 编修经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" descr="0ff41bd5ad6eddc4e7a9a11d38dbb6fd5366338d"/>
          <p:cNvPicPr/>
          <p:nvPr/>
        </p:nvPicPr>
        <p:blipFill>
          <a:blip r:embed="rId1"/>
          <a:stretch/>
        </p:blipFill>
        <p:spPr>
          <a:xfrm>
            <a:off x="1863720" y="2979720"/>
            <a:ext cx="5019840" cy="3335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文本框 2"/>
          <p:cNvSpPr/>
          <p:nvPr/>
        </p:nvSpPr>
        <p:spPr>
          <a:xfrm>
            <a:off x="801720" y="839880"/>
            <a:ext cx="73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）结果：当时政治稳定，经济繁荣，国库充盈，民众生活安定，唐朝的国力达到前所未有的强大，进人了鼎盛时期，历史上称为“开元盛世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7" descr="2303780_112155089_2"/>
          <p:cNvPicPr/>
          <p:nvPr/>
        </p:nvPicPr>
        <p:blipFill>
          <a:blip r:embed="rId1"/>
          <a:stretch/>
        </p:blipFill>
        <p:spPr>
          <a:xfrm>
            <a:off x="322200" y="2982960"/>
            <a:ext cx="8778960" cy="27525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文本框 4103"/>
          <p:cNvSpPr/>
          <p:nvPr/>
        </p:nvSpPr>
        <p:spPr>
          <a:xfrm>
            <a:off x="142920" y="1908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52280" y="647640"/>
            <a:ext cx="552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从贞观之治到开元盛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419120" y="21589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贞观之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114560" y="322596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起因　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85960" y="2540160"/>
            <a:ext cx="609480" cy="360"/>
            <a:chOff x="885960" y="2540160"/>
            <a:chExt cx="609480" cy="360"/>
          </a:xfrm>
        </p:grpSpPr>
        <p:sp>
          <p:nvSpPr>
            <p:cNvPr id="167" name="Line 10"/>
            <p:cNvSpPr/>
            <p:nvPr/>
          </p:nvSpPr>
          <p:spPr>
            <a:xfrm>
              <a:off x="885960" y="254016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885960" y="254016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333520" y="2782800"/>
            <a:ext cx="360" cy="609840"/>
            <a:chOff x="2333520" y="2782800"/>
            <a:chExt cx="360" cy="609840"/>
          </a:xfrm>
        </p:grpSpPr>
        <p:sp>
          <p:nvSpPr>
            <p:cNvPr id="170" name="Line 11"/>
            <p:cNvSpPr/>
            <p:nvPr/>
          </p:nvSpPr>
          <p:spPr>
            <a:xfrm>
              <a:off x="2333520" y="2782800"/>
              <a:ext cx="0" cy="60984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333520" y="2782800"/>
              <a:ext cx="360" cy="60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400560" y="2540160"/>
            <a:ext cx="609480" cy="360"/>
            <a:chOff x="3400560" y="2540160"/>
            <a:chExt cx="609480" cy="360"/>
          </a:xfrm>
        </p:grpSpPr>
        <p:sp>
          <p:nvSpPr>
            <p:cNvPr id="173" name="Line 12"/>
            <p:cNvSpPr/>
            <p:nvPr/>
          </p:nvSpPr>
          <p:spPr>
            <a:xfrm>
              <a:off x="3400560" y="254016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3400560" y="254016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3"/>
          <p:cNvSpPr/>
          <p:nvPr/>
        </p:nvSpPr>
        <p:spPr>
          <a:xfrm>
            <a:off x="4010040" y="2158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女皇武则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229360" y="2768760"/>
            <a:ext cx="360" cy="533160"/>
            <a:chOff x="5229360" y="2768760"/>
            <a:chExt cx="360" cy="533160"/>
          </a:xfrm>
        </p:grpSpPr>
        <p:sp>
          <p:nvSpPr>
            <p:cNvPr id="177" name="Line 14"/>
            <p:cNvSpPr/>
            <p:nvPr/>
          </p:nvSpPr>
          <p:spPr>
            <a:xfrm>
              <a:off x="5229360" y="276876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5229360" y="276876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15"/>
          <p:cNvSpPr/>
          <p:nvPr/>
        </p:nvSpPr>
        <p:spPr>
          <a:xfrm>
            <a:off x="3633840" y="322596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主要功绩和对历史的影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1571760" y="1092240"/>
            <a:ext cx="713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评价唐太宗　武则天         唐玄宗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7"/>
          <p:cNvSpPr/>
          <p:nvPr/>
        </p:nvSpPr>
        <p:spPr>
          <a:xfrm rot="5400000">
            <a:off x="4916520" y="-725400"/>
            <a:ext cx="85680" cy="5857920"/>
          </a:xfrm>
          <a:custGeom>
            <a:avLst/>
            <a:gdLst>
              <a:gd name="textAreaLeft" fmla="*/ 25200 w 85680"/>
              <a:gd name="textAreaRight" fmla="*/ 86040 w 85680"/>
              <a:gd name="textAreaTop" fmla="*/ 102600 h 5857920"/>
              <a:gd name="textAreaBottom" fmla="*/ 5755320 h 585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79"/>
                  <a:pt x="0" y="757"/>
                </a:cubicBezTo>
                <a:lnTo>
                  <a:pt x="0" y="20843"/>
                </a:lnTo>
                <a:cubicBezTo>
                  <a:pt x="0" y="21222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3171960" y="154944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ahoma"/>
                <a:ea typeface="隶书"/>
              </a:rPr>
              <a:t>拓　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633480" y="1701360"/>
            <a:ext cx="360" cy="381240"/>
            <a:chOff x="3633480" y="1701360"/>
            <a:chExt cx="360" cy="381240"/>
          </a:xfrm>
        </p:grpSpPr>
        <p:sp>
          <p:nvSpPr>
            <p:cNvPr id="184" name="Line 30"/>
            <p:cNvSpPr/>
            <p:nvPr/>
          </p:nvSpPr>
          <p:spPr>
            <a:xfrm flipV="1">
              <a:off x="3633840" y="170136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 rot="10800000">
              <a:off x="3633480" y="170136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397560" y="2451240"/>
            <a:ext cx="609840" cy="360"/>
            <a:chOff x="6397560" y="2451240"/>
            <a:chExt cx="609840" cy="360"/>
          </a:xfrm>
        </p:grpSpPr>
        <p:sp>
          <p:nvSpPr>
            <p:cNvPr id="187" name="Line 12"/>
            <p:cNvSpPr/>
            <p:nvPr/>
          </p:nvSpPr>
          <p:spPr>
            <a:xfrm>
              <a:off x="6397560" y="2451240"/>
              <a:ext cx="60984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6397560" y="245124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6"/>
          <p:cNvSpPr/>
          <p:nvPr/>
        </p:nvSpPr>
        <p:spPr>
          <a:xfrm>
            <a:off x="6902280" y="2141640"/>
            <a:ext cx="20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贞观之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124240" y="1685880"/>
            <a:ext cx="360" cy="380880"/>
            <a:chOff x="5124240" y="1685880"/>
            <a:chExt cx="360" cy="380880"/>
          </a:xfrm>
        </p:grpSpPr>
        <p:sp>
          <p:nvSpPr>
            <p:cNvPr id="191" name="Line 30"/>
            <p:cNvSpPr/>
            <p:nvPr/>
          </p:nvSpPr>
          <p:spPr>
            <a:xfrm flipV="1">
              <a:off x="5124600" y="168588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 rot="10800000">
              <a:off x="5124240" y="168588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851240" y="1685880"/>
            <a:ext cx="360" cy="380880"/>
            <a:chOff x="7851240" y="1685880"/>
            <a:chExt cx="360" cy="380880"/>
          </a:xfrm>
        </p:grpSpPr>
        <p:sp>
          <p:nvSpPr>
            <p:cNvPr id="194" name="Line 30"/>
            <p:cNvSpPr/>
            <p:nvPr/>
          </p:nvSpPr>
          <p:spPr>
            <a:xfrm flipV="1">
              <a:off x="7851600" y="1685880"/>
              <a:ext cx="0" cy="38088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 rot="10800000">
              <a:off x="7851240" y="168588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867800" y="2679840"/>
            <a:ext cx="360" cy="533160"/>
            <a:chOff x="7867800" y="2679840"/>
            <a:chExt cx="360" cy="533160"/>
          </a:xfrm>
        </p:grpSpPr>
        <p:sp>
          <p:nvSpPr>
            <p:cNvPr id="197" name="Line 14"/>
            <p:cNvSpPr/>
            <p:nvPr/>
          </p:nvSpPr>
          <p:spPr>
            <a:xfrm>
              <a:off x="7867800" y="267984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7867800" y="267984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9"/>
          <p:cNvSpPr/>
          <p:nvPr/>
        </p:nvSpPr>
        <p:spPr>
          <a:xfrm>
            <a:off x="6551640" y="32097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隶书"/>
              </a:rPr>
              <a:t>措施　结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文本框 4103"/>
          <p:cNvSpPr/>
          <p:nvPr/>
        </p:nvSpPr>
        <p:spPr>
          <a:xfrm>
            <a:off x="142920" y="1260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90113"/>
          <p:cNvSpPr/>
          <p:nvPr/>
        </p:nvSpPr>
        <p:spPr>
          <a:xfrm>
            <a:off x="179280" y="733320"/>
            <a:ext cx="8398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唐朝建立于：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1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2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8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8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历史上把唐太宗统治时期称为（   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贞观之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开元盛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开皇之治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光武中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人们基本上肯定武则天的统治，主要是因为：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她是我国历史惟一女皇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她替多病的高宗处理朝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她能重用一些有才能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她统治期间社会经济继续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90114"/>
          <p:cNvSpPr txBox="1"/>
          <p:nvPr/>
        </p:nvSpPr>
        <p:spPr>
          <a:xfrm>
            <a:off x="2989440" y="828720"/>
            <a:ext cx="21096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A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3" name="矩形 90115"/>
          <p:cNvSpPr txBox="1"/>
          <p:nvPr/>
        </p:nvSpPr>
        <p:spPr>
          <a:xfrm>
            <a:off x="5079960" y="1878120"/>
            <a:ext cx="22860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A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4" name="文本框 91138"/>
          <p:cNvSpPr/>
          <p:nvPr/>
        </p:nvSpPr>
        <p:spPr>
          <a:xfrm>
            <a:off x="7093080" y="32162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395280" y="11970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．唐朝的全盛时期是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44546a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唐太宗时期    </a:t>
            </a:r>
            <a:r>
              <a:rPr b="1" lang="en-US" sz="2800" spc="-1" strike="noStrike">
                <a:solidFill>
                  <a:srgbClr val="44546a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武则天时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44546a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唐玄宗前期    </a:t>
            </a:r>
            <a:r>
              <a:rPr b="1" lang="en-US" sz="2800" spc="-1" strike="noStrike">
                <a:solidFill>
                  <a:srgbClr val="44546a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唐玄宗后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80880" y="275256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．下列人物不是唐玄宗时名相的是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44546a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张九龄 </a:t>
            </a:r>
            <a:r>
              <a:rPr b="1" lang="en-US" sz="2800" spc="-1" strike="noStrike">
                <a:solidFill>
                  <a:srgbClr val="44546a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狄仁杰 </a:t>
            </a:r>
            <a:r>
              <a:rPr b="1" lang="en-US" sz="2800" spc="-1" strike="noStrike">
                <a:solidFill>
                  <a:srgbClr val="44546a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姚崇 </a:t>
            </a:r>
            <a:r>
              <a:rPr b="1" lang="en-US" sz="2800" spc="-1" strike="noStrike">
                <a:solidFill>
                  <a:srgbClr val="44546a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宋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96720" y="386064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546a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．下列说法错误的一项是（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44546a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武则天是我国唯一的女皇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44546a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武则天的统治有贞观遗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44546a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唐都长安是著名的国际大都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44546a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44546a"/>
                </a:solidFill>
                <a:latin typeface="宋体"/>
              </a:rPr>
              <a:t>唐朝出现了曲辕犁和翻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90114"/>
          <p:cNvSpPr txBox="1"/>
          <p:nvPr/>
        </p:nvSpPr>
        <p:spPr>
          <a:xfrm>
            <a:off x="4352760" y="1258920"/>
            <a:ext cx="21132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C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9" name="矩形 1"/>
          <p:cNvSpPr txBox="1"/>
          <p:nvPr/>
        </p:nvSpPr>
        <p:spPr>
          <a:xfrm>
            <a:off x="6434280" y="2838600"/>
            <a:ext cx="21096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B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10" name="矩形 2"/>
          <p:cNvSpPr txBox="1"/>
          <p:nvPr/>
        </p:nvSpPr>
        <p:spPr>
          <a:xfrm>
            <a:off x="5070600" y="3986280"/>
            <a:ext cx="210960" cy="29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D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4"/>
          <p:cNvSpPr/>
          <p:nvPr/>
        </p:nvSpPr>
        <p:spPr>
          <a:xfrm>
            <a:off x="3857760" y="928800"/>
            <a:ext cx="307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:\users\administrator\appdata\roaming\360se6\User Data\temp\t01af057eabdd6f97a6.jpg"/>
          <p:cNvPicPr/>
          <p:nvPr/>
        </p:nvPicPr>
        <p:blipFill>
          <a:blip r:embed="rId1"/>
          <a:stretch/>
        </p:blipFill>
        <p:spPr>
          <a:xfrm>
            <a:off x="428760" y="5286240"/>
            <a:ext cx="1214280" cy="92880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"/>
          <p:cNvSpPr/>
          <p:nvPr/>
        </p:nvSpPr>
        <p:spPr>
          <a:xfrm>
            <a:off x="1316160" y="1665360"/>
            <a:ext cx="6702480" cy="1458360"/>
          </a:xfrm>
          <a:prstGeom prst="rect">
            <a:avLst/>
          </a:prstGeom>
          <a:noFill/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通过本课学习，使学生了解唐朝建立、贞观之治、开元盛世基本史实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通过分析唐太宗、唐玄宗的执政措施和政绩，培养学生运用历史唯物主义观点正确评价历史人物的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4103"/>
          <p:cNvSpPr/>
          <p:nvPr/>
        </p:nvSpPr>
        <p:spPr>
          <a:xfrm>
            <a:off x="142920" y="1260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新课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99"/>
          <p:cNvSpPr/>
          <p:nvPr/>
        </p:nvSpPr>
        <p:spPr>
          <a:xfrm>
            <a:off x="250920" y="549360"/>
            <a:ext cx="63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一：唐朝的建立和贞观之治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" descr="01300000240120122086710555151"/>
          <p:cNvPicPr/>
          <p:nvPr/>
        </p:nvPicPr>
        <p:blipFill>
          <a:blip r:embed="rId1"/>
          <a:stretch/>
        </p:blipFill>
        <p:spPr>
          <a:xfrm>
            <a:off x="6246720" y="1197000"/>
            <a:ext cx="2075040" cy="463536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2"/>
          <p:cNvSpPr/>
          <p:nvPr/>
        </p:nvSpPr>
        <p:spPr>
          <a:xfrm>
            <a:off x="6807240" y="59594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李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892160" y="2308320"/>
            <a:ext cx="2286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都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建立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178160" y="2308320"/>
            <a:ext cx="13716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618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254480" y="3222720"/>
            <a:ext cx="1143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长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254480" y="4060800"/>
            <a:ext cx="13255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李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787320" y="1376280"/>
            <a:ext cx="27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唐朝的建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2"/>
          <p:cNvSpPr/>
          <p:nvPr/>
        </p:nvSpPr>
        <p:spPr>
          <a:xfrm>
            <a:off x="684360" y="5300640"/>
            <a:ext cx="2808000" cy="914400"/>
          </a:xfrm>
          <a:prstGeom prst="rect">
            <a:avLst/>
          </a:prstGeom>
          <a:solidFill>
            <a:srgbClr val="5b9bd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                           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</a:rPr>
              <a:t>皇帝（李渊）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4211640" y="1197000"/>
            <a:ext cx="485640" cy="97632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3702600" y="2349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太子（李建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4211640" y="3068640"/>
            <a:ext cx="485640" cy="97632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5b9bd5"/>
          </a:solidFill>
          <a:ln w="936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1326240" y="5516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秦王（李世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5574240" y="5516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齐王（李元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411280" y="4292640"/>
            <a:ext cx="4032360" cy="360"/>
            <a:chOff x="2411280" y="4292640"/>
            <a:chExt cx="4032360" cy="360"/>
          </a:xfrm>
        </p:grpSpPr>
        <p:sp>
          <p:nvSpPr>
            <p:cNvPr id="71" name="Line 19"/>
            <p:cNvSpPr/>
            <p:nvPr/>
          </p:nvSpPr>
          <p:spPr>
            <a:xfrm>
              <a:off x="2411280" y="4292640"/>
              <a:ext cx="4032360" cy="0"/>
            </a:xfrm>
            <a:prstGeom prst="line">
              <a:avLst/>
            </a:prstGeom>
            <a:ln w="76320">
              <a:solidFill>
                <a:srgbClr val="0563c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2411280" y="4292640"/>
              <a:ext cx="403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AutoShape 20"/>
          <p:cNvSpPr/>
          <p:nvPr/>
        </p:nvSpPr>
        <p:spPr>
          <a:xfrm>
            <a:off x="2268360" y="4292640"/>
            <a:ext cx="486000" cy="976320"/>
          </a:xfrm>
          <a:prstGeom prst="downArrow">
            <a:avLst>
              <a:gd name="adj1" fmla="val 50000"/>
              <a:gd name="adj2" fmla="val 50120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1"/>
          <p:cNvSpPr/>
          <p:nvPr/>
        </p:nvSpPr>
        <p:spPr>
          <a:xfrm>
            <a:off x="6084720" y="4292640"/>
            <a:ext cx="486000" cy="976320"/>
          </a:xfrm>
          <a:prstGeom prst="downArrow">
            <a:avLst>
              <a:gd name="adj1" fmla="val 50000"/>
              <a:gd name="adj2" fmla="val 50120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"/>
          <p:cNvSpPr/>
          <p:nvPr/>
        </p:nvSpPr>
        <p:spPr>
          <a:xfrm>
            <a:off x="1146240" y="658800"/>
            <a:ext cx="528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0108pic16595"/>
          <p:cNvPicPr/>
          <p:nvPr/>
        </p:nvPicPr>
        <p:blipFill>
          <a:blip r:embed="rId1"/>
          <a:stretch/>
        </p:blipFill>
        <p:spPr>
          <a:xfrm>
            <a:off x="395280" y="692280"/>
            <a:ext cx="2954520" cy="55483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3851280" y="549360"/>
            <a:ext cx="504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唐太宗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—</a:t>
            </a:r>
            <a:r>
              <a:rPr b="1" lang="zh-CN" sz="5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李世民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780000" y="2822400"/>
            <a:ext cx="536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唐太宗统治的</a:t>
            </a:r>
            <a:r>
              <a:rPr b="1" lang="zh-CN" sz="3600" spc="-1" strike="noStrike">
                <a:solidFill>
                  <a:srgbClr val="ff9900"/>
                </a:solidFill>
                <a:latin typeface="隶书"/>
                <a:ea typeface="隶书"/>
              </a:rPr>
              <a:t>贞观年间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(627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649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，政治比较清明，经济有所发展，国力逐步强盛，历史上称当时的统治为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ff9900"/>
                </a:solidFill>
                <a:latin typeface="隶书"/>
                <a:ea typeface="隶书"/>
              </a:rPr>
              <a:t>贞观之治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5"/>
          <p:cNvSpPr txBox="1"/>
          <p:nvPr/>
        </p:nvSpPr>
        <p:spPr>
          <a:xfrm>
            <a:off x="4788000" y="1557360"/>
            <a:ext cx="28796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玄武门之变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117360" y="1290600"/>
            <a:ext cx="8498160" cy="3387600"/>
          </a:xfrm>
          <a:prstGeom prst="horizontalScroll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9bd5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cc"/>
                </a:solidFill>
                <a:latin typeface="华文中宋"/>
                <a:ea typeface="华文中宋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华文楷体"/>
                <a:ea typeface="华文楷体"/>
              </a:rPr>
              <a:t>舟所以比人君</a:t>
            </a:r>
            <a:r>
              <a:rPr b="1" lang="en-US" sz="4000" spc="-1" strike="noStrike">
                <a:solidFill>
                  <a:srgbClr val="0000cc"/>
                </a:solidFill>
                <a:latin typeface="华文楷体"/>
                <a:ea typeface="华文楷体"/>
              </a:rPr>
              <a:t>,</a:t>
            </a:r>
            <a:r>
              <a:rPr b="1" lang="zh-CN" sz="4000" spc="-1" strike="noStrike">
                <a:solidFill>
                  <a:srgbClr val="0000cc"/>
                </a:solidFill>
                <a:latin typeface="华文楷体"/>
                <a:ea typeface="华文楷体"/>
              </a:rPr>
              <a:t>水所以比黎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华文楷体"/>
                <a:ea typeface="华文楷体"/>
              </a:rPr>
              <a:t>水能载舟</a:t>
            </a:r>
            <a:r>
              <a:rPr b="1" lang="en-US" sz="4000" spc="-1" strike="noStrike">
                <a:solidFill>
                  <a:srgbClr val="0000cc"/>
                </a:solidFill>
                <a:latin typeface="华文楷体"/>
                <a:ea typeface="华文楷体"/>
              </a:rPr>
              <a:t>,</a:t>
            </a:r>
            <a:r>
              <a:rPr b="1" lang="zh-CN" sz="4000" spc="-1" strike="noStrike">
                <a:solidFill>
                  <a:srgbClr val="0000cc"/>
                </a:solidFill>
                <a:latin typeface="华文楷体"/>
                <a:ea typeface="华文楷体"/>
              </a:rPr>
              <a:t>亦能覆舟。</a:t>
            </a:r>
            <a:r>
              <a:rPr b="1" lang="en-US" sz="4000" spc="-1" strike="noStrike">
                <a:solidFill>
                  <a:srgbClr val="0000cc"/>
                </a:solidFill>
                <a:latin typeface="华文楷体"/>
                <a:ea typeface="华文楷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              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隶书"/>
              </a:rPr>
              <a:t>——</a:t>
            </a: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《</a:t>
            </a:r>
            <a:r>
              <a:rPr b="1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贞观政要</a:t>
            </a:r>
            <a:r>
              <a:rPr b="1" lang="en-US" sz="4000" spc="-1" strike="noStrike">
                <a:solidFill>
                  <a:srgbClr val="0000cc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3"/>
          <p:cNvSpPr/>
          <p:nvPr/>
        </p:nvSpPr>
        <p:spPr>
          <a:xfrm>
            <a:off x="787320" y="587520"/>
            <a:ext cx="436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贞观之治的出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99"/>
          <p:cNvSpPr/>
          <p:nvPr/>
        </p:nvSpPr>
        <p:spPr>
          <a:xfrm>
            <a:off x="609480" y="4678200"/>
            <a:ext cx="75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70c0"/>
                </a:solidFill>
                <a:latin typeface="宋体"/>
              </a:rPr>
              <a:t>读材料和教材，合作探究，在唐太宗时期，出现贞观之治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3"/>
          <p:cNvSpPr/>
          <p:nvPr/>
        </p:nvSpPr>
        <p:spPr>
          <a:xfrm>
            <a:off x="369720" y="11620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主观原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99"/>
          <p:cNvSpPr/>
          <p:nvPr/>
        </p:nvSpPr>
        <p:spPr>
          <a:xfrm>
            <a:off x="1590840" y="1862280"/>
            <a:ext cx="663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他吸取隋朝速亡的历史教训，因此，他勤于政事，虚心纳谏，从善如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282600" y="3727440"/>
            <a:ext cx="597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）客观原因（措施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"/>
          <p:cNvSpPr/>
          <p:nvPr/>
        </p:nvSpPr>
        <p:spPr>
          <a:xfrm>
            <a:off x="1503360" y="4429080"/>
            <a:ext cx="697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①</a:t>
            </a:r>
            <a:r>
              <a:rPr b="1" lang="zh-CN" sz="3000" spc="-1" strike="noStrike">
                <a:solidFill>
                  <a:srgbClr val="0000ff"/>
                </a:solidFill>
                <a:latin typeface="宋体"/>
              </a:rPr>
              <a:t>任用贤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95280" y="1328400"/>
            <a:ext cx="8229600" cy="31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Franklin Gothic Medium"/>
              </a:rPr>
              <a:t>          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</a:rPr>
              <a:t>唐太宗认为“致安之本，惟在得人”，所以他很重视选官和用人。他求贤若渴，为了改善吏治，争取各地主集团的支持，他选拔任用了许多有才能的人担任中央要职。这些人出身不同，代表了各种地主势力，也有出身低微的寒门人士。 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129040" y="451944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你知道唐太宗身边有哪些能臣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"/>
          <p:cNvSpPr/>
          <p:nvPr/>
        </p:nvSpPr>
        <p:spPr>
          <a:xfrm>
            <a:off x="668160" y="727200"/>
            <a:ext cx="19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读材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8T07:43:50Z</dcterms:created>
  <dc:creator/>
  <dc:description/>
  <dc:language>en-US</dc:language>
  <cp:lastModifiedBy>Administrator</cp:lastModifiedBy>
  <dcterms:modified xsi:type="dcterms:W3CDTF">2019-01-08T07:44:2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