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type.wav" ContentType="audio/x-wav"/>
  <Override PartName="/ppt/media/image8.wmf" ContentType="image/x-wmf"/>
  <Override PartName="/ppt/media/image12.jpeg" ContentType="image/jpeg"/>
  <Override PartName="/ppt/media/image7.jpeg" ContentType="image/jpeg"/>
  <Override PartName="/ppt/media/image6.png" ContentType="image/png"/>
  <Override PartName="/ppt/media/image14.wmf" ContentType="image/x-wmf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3.jpeg" ContentType="image/jpeg"/>
  <Override PartName="/ppt/media/image4.png" ContentType="image/png"/>
  <Override PartName="/ppt/media/image2.jpeg" ContentType="image/jpe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FE28-E53B-4558-9273-ABA25D63C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CA9B-31E2-4F2B-A0A3-2A7728AA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E985-A535-4589-883B-631C3E075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7CA9-9DA1-44ED-94C6-FCDFEB30C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DDE2-9819-474B-BF6A-4F0092FB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BF10-3DC0-4A0E-9599-2E199C51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7D39-CF0C-4A5D-BD91-CF497402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DC30-3E4F-48C9-896B-6075F8F6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F138-A7D3-4FEB-A418-27FEA37C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89CC-C689-49BD-A87C-1420359D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66B2-1794-44B0-A71F-30A8D5CB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56DA-5C81-42B1-84D7-1B32E9C6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CDA5-38B9-4040-A306-9831A50B5432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7DBF-D8F0-4AD3-B583-8CDD03CA327F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MH_SubTitle_1"/>
          <p:cNvSpPr/>
          <p:nvPr/>
        </p:nvSpPr>
        <p:spPr>
          <a:xfrm>
            <a:off x="755640" y="4724280"/>
            <a:ext cx="1670040" cy="540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MH_SubTitle_2"/>
          <p:cNvSpPr/>
          <p:nvPr/>
        </p:nvSpPr>
        <p:spPr>
          <a:xfrm>
            <a:off x="2743200" y="4724280"/>
            <a:ext cx="1670040" cy="540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课探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H_SubTitle_3"/>
          <p:cNvSpPr/>
          <p:nvPr/>
        </p:nvSpPr>
        <p:spPr>
          <a:xfrm>
            <a:off x="4765680" y="4724280"/>
            <a:ext cx="1670040" cy="540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H_SubTitle_4"/>
          <p:cNvSpPr/>
          <p:nvPr/>
        </p:nvSpPr>
        <p:spPr>
          <a:xfrm>
            <a:off x="6804000" y="4724280"/>
            <a:ext cx="1670040" cy="540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随堂训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682560" y="1844640"/>
            <a:ext cx="78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隋唐时期：繁荣与开放的时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435040" y="3121200"/>
            <a:ext cx="43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第</a:t>
            </a: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4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课 唐朝的中外文化交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文本框 99"/>
          <p:cNvSpPr/>
          <p:nvPr/>
        </p:nvSpPr>
        <p:spPr>
          <a:xfrm>
            <a:off x="519120" y="619200"/>
            <a:ext cx="329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彩云"/>
                <a:ea typeface="华文彩云"/>
              </a:rPr>
              <a:t>三、玄奘西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3419640" y="494028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　　结合你看到的影视作品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《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西游记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》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，比较一下书中的玄奘与影视作品中的唐僧有何异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1549440" y="54324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Arial"/>
                <a:ea typeface="华文中宋"/>
              </a:rPr>
              <a:t>玄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2" descr="1812025"/>
          <p:cNvPicPr/>
          <p:nvPr/>
        </p:nvPicPr>
        <p:blipFill>
          <a:blip r:embed="rId1"/>
          <a:stretch/>
        </p:blipFill>
        <p:spPr>
          <a:xfrm>
            <a:off x="1116000" y="1427040"/>
            <a:ext cx="2131920" cy="3948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西游记里的唐僧"/>
          <p:cNvPicPr/>
          <p:nvPr/>
        </p:nvPicPr>
        <p:blipFill>
          <a:blip r:embed="rId2"/>
          <a:stretch/>
        </p:blipFill>
        <p:spPr>
          <a:xfrm>
            <a:off x="4138560" y="1413000"/>
            <a:ext cx="3818160" cy="27972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3365640" y="4294080"/>
            <a:ext cx="541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宋体"/>
              </a:rPr>
              <a:t>《</a:t>
            </a:r>
            <a:r>
              <a:rPr b="0" lang="zh-CN" sz="2800" spc="-1" strike="noStrike">
                <a:solidFill>
                  <a:srgbClr val="0000cc"/>
                </a:solidFill>
                <a:latin typeface="宋体"/>
              </a:rPr>
              <a:t>西游记</a:t>
            </a:r>
            <a:r>
              <a:rPr b="0" lang="en-US" sz="2800" spc="-1" strike="noStrike">
                <a:solidFill>
                  <a:srgbClr val="0000cc"/>
                </a:solidFill>
                <a:latin typeface="宋体"/>
              </a:rPr>
              <a:t>》</a:t>
            </a:r>
            <a:r>
              <a:rPr b="0" lang="zh-CN" sz="2800" spc="-1" strike="noStrike">
                <a:solidFill>
                  <a:srgbClr val="0000cc"/>
                </a:solidFill>
                <a:latin typeface="宋体"/>
              </a:rPr>
              <a:t>里徐少华扮演的唐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文本框 3"/>
          <p:cNvSpPr/>
          <p:nvPr/>
        </p:nvSpPr>
        <p:spPr>
          <a:xfrm>
            <a:off x="309600" y="1230480"/>
            <a:ext cx="35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读史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4"/>
          <p:cNvSpPr/>
          <p:nvPr/>
        </p:nvSpPr>
        <p:spPr>
          <a:xfrm>
            <a:off x="169920" y="1866960"/>
            <a:ext cx="8781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材料：</a:t>
            </a:r>
            <a:r>
              <a:rPr b="1" lang="zh-CN" sz="2600" spc="-1" strike="noStrike">
                <a:solidFill>
                  <a:srgbClr val="0070c0"/>
                </a:solidFill>
                <a:latin typeface="Arial"/>
              </a:rPr>
              <a:t>玄奘离国已久，怀念祖国的心情越来越迫切。戒日主和各国国王、广大的僧俗人民再三挽留他。鸠摩罗国王甚至表示只要他肯留下来，要为他建立一百所专院。无奈玄奘归国心切，留学求经的目的既然已经达到，说什么也要回国了。</a:t>
            </a:r>
            <a:r>
              <a:rPr b="1" lang="zh-CN" sz="2600" spc="-1" strike="noStrike">
                <a:solidFill>
                  <a:srgbClr val="0070c0"/>
                </a:solidFill>
                <a:latin typeface="Arial"/>
              </a:rPr>
              <a:t>643</a:t>
            </a:r>
            <a:r>
              <a:rPr b="1" lang="zh-CN" sz="2600" spc="-1" strike="noStrike">
                <a:solidFill>
                  <a:srgbClr val="0070c0"/>
                </a:solidFill>
                <a:latin typeface="Arial"/>
              </a:rPr>
              <a:t>年春天，西游十七年的玄奘辞别了戒日王和天竺的朋友们，满载着印度人民的友谊、荣誉和六百五十七卷佛经，启程回国了。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99"/>
          <p:cNvSpPr/>
          <p:nvPr/>
        </p:nvSpPr>
        <p:spPr>
          <a:xfrm>
            <a:off x="270000" y="4802040"/>
            <a:ext cx="77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天竺是今天的哪个国家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3"/>
          <p:cNvSpPr/>
          <p:nvPr/>
        </p:nvSpPr>
        <p:spPr>
          <a:xfrm>
            <a:off x="758880" y="5475240"/>
            <a:ext cx="14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印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99"/>
          <p:cNvSpPr/>
          <p:nvPr/>
        </p:nvSpPr>
        <p:spPr>
          <a:xfrm>
            <a:off x="244440" y="927000"/>
            <a:ext cx="778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结合教材回答玄奘的历史功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3"/>
          <p:cNvSpPr/>
          <p:nvPr/>
        </p:nvSpPr>
        <p:spPr>
          <a:xfrm>
            <a:off x="257040" y="1600200"/>
            <a:ext cx="3586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宋体"/>
              </a:rPr>
              <a:t>（</a:t>
            </a:r>
            <a:r>
              <a:rPr b="0" lang="zh-CN" sz="3200" spc="-1" strike="noStrike">
                <a:solidFill>
                  <a:srgbClr val="7030a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7030a0"/>
                </a:solidFill>
                <a:latin typeface="宋体"/>
              </a:rPr>
              <a:t>）玄奘携带大量佛经回到长安，为中国佛教的发展作出重大贡献。（</a:t>
            </a:r>
            <a:r>
              <a:rPr b="0" lang="zh-CN" sz="3200" spc="-1" strike="noStrike">
                <a:solidFill>
                  <a:srgbClr val="7030a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7030a0"/>
                </a:solidFill>
                <a:latin typeface="宋体"/>
              </a:rPr>
              <a:t>）根据他的口述，成书的《大唐西域记》，是研 究中外交流史的珍贵文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2" descr="20150916155206_98291w"/>
          <p:cNvPicPr/>
          <p:nvPr/>
        </p:nvPicPr>
        <p:blipFill>
          <a:blip r:embed="rId1"/>
          <a:stretch/>
        </p:blipFill>
        <p:spPr>
          <a:xfrm>
            <a:off x="3987720" y="1569960"/>
            <a:ext cx="476100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000" y="1442520"/>
            <a:ext cx="2950920" cy="4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312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0000cc"/>
                </a:solidFill>
                <a:latin typeface="Franklin Gothic Medium"/>
                <a:ea typeface="华文中宋"/>
              </a:rPr>
              <a:t>《</a:t>
            </a:r>
            <a:r>
              <a:rPr b="1" lang="zh-CN" sz="2100" spc="-1" strike="noStrike">
                <a:solidFill>
                  <a:srgbClr val="0000cc"/>
                </a:solidFill>
                <a:latin typeface="Franklin Gothic Medium"/>
                <a:ea typeface="华文中宋"/>
              </a:rPr>
              <a:t>大唐西域记</a:t>
            </a:r>
            <a:r>
              <a:rPr b="1" lang="en-US" sz="2100" spc="-1" strike="noStrike">
                <a:solidFill>
                  <a:srgbClr val="0000cc"/>
                </a:solidFill>
                <a:latin typeface="Franklin Gothic Medium"/>
                <a:ea typeface="华文中宋"/>
              </a:rPr>
              <a:t>》</a:t>
            </a:r>
            <a:r>
              <a:rPr b="1" lang="zh-CN" sz="2100" spc="-1" strike="noStrike">
                <a:solidFill>
                  <a:srgbClr val="0000cc"/>
                </a:solidFill>
                <a:latin typeface="Franklin Gothic Medium"/>
                <a:ea typeface="华文中宋"/>
              </a:rPr>
              <a:t>书影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94" name="Picture 7" descr="0387"/>
          <p:cNvPicPr/>
          <p:nvPr/>
        </p:nvPicPr>
        <p:blipFill>
          <a:blip r:embed="rId1"/>
          <a:stretch/>
        </p:blipFill>
        <p:spPr>
          <a:xfrm rot="8235600">
            <a:off x="468360" y="4005360"/>
            <a:ext cx="2735280" cy="1255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1812028"/>
          <p:cNvPicPr/>
          <p:nvPr/>
        </p:nvPicPr>
        <p:blipFill>
          <a:blip r:embed="rId2"/>
          <a:stretch/>
        </p:blipFill>
        <p:spPr>
          <a:xfrm>
            <a:off x="3924360" y="1125360"/>
            <a:ext cx="4390920" cy="4464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大唐西域记"/>
          <p:cNvPicPr/>
          <p:nvPr/>
        </p:nvPicPr>
        <p:blipFill>
          <a:blip r:embed="rId3"/>
          <a:stretch/>
        </p:blipFill>
        <p:spPr>
          <a:xfrm>
            <a:off x="3922560" y="762120"/>
            <a:ext cx="4670640" cy="5257800"/>
          </a:xfrm>
          <a:prstGeom prst="rect">
            <a:avLst/>
          </a:prstGeom>
          <a:ln w="9360">
            <a:solidFill>
              <a:srgbClr val="44546a"/>
            </a:solidFill>
            <a:miter/>
          </a:ln>
        </p:spPr>
      </p:pic>
    </p:spTree>
  </p:cSld>
  <p:transition>
    <p:random/>
    <p:sndAc>
      <p:stSnd>
        <p:snd r:embed="rId4" name="type.wav"/>
      </p:stSnd>
    </p:sndAc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921040" y="964800"/>
            <a:ext cx="4387680" cy="4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312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0000cc"/>
                </a:solidFill>
                <a:latin typeface="Franklin Gothic Medium"/>
                <a:ea typeface="华文中宋"/>
              </a:rPr>
              <a:t>《</a:t>
            </a:r>
            <a:r>
              <a:rPr b="1" lang="zh-CN" sz="2100" spc="-1" strike="noStrike">
                <a:solidFill>
                  <a:srgbClr val="0000cc"/>
                </a:solidFill>
                <a:latin typeface="Franklin Gothic Medium"/>
                <a:ea typeface="华文中宋"/>
              </a:rPr>
              <a:t>玄奘取经回长安图</a:t>
            </a:r>
            <a:r>
              <a:rPr b="1" lang="en-US" sz="2100" spc="-1" strike="noStrike">
                <a:solidFill>
                  <a:srgbClr val="0000cc"/>
                </a:solidFill>
                <a:latin typeface="Franklin Gothic Medium"/>
                <a:ea typeface="华文中宋"/>
              </a:rPr>
              <a:t>》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98" name="Picture 6" descr="1812026"/>
          <p:cNvPicPr/>
          <p:nvPr/>
        </p:nvPicPr>
        <p:blipFill>
          <a:blip r:embed="rId1"/>
          <a:stretch/>
        </p:blipFill>
        <p:spPr>
          <a:xfrm>
            <a:off x="755640" y="1628640"/>
            <a:ext cx="7343640" cy="43340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typ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900000" y="4425840"/>
            <a:ext cx="73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学习了鉴真和玄奘的故事，我们应学习他们怎样的精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035000" y="569268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精神：勤奋刻苦、持之以恒、不图名利、不畏艰险，勇往直前的精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2" descr="43185094_4"/>
          <p:cNvPicPr/>
          <p:nvPr/>
        </p:nvPicPr>
        <p:blipFill>
          <a:blip r:embed="rId1"/>
          <a:stretch/>
        </p:blipFill>
        <p:spPr>
          <a:xfrm>
            <a:off x="2327400" y="631800"/>
            <a:ext cx="4833720" cy="37274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type.wav"/>
      </p:stSnd>
    </p:sndAc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W020100825447380185395"/>
          <p:cNvPicPr/>
          <p:nvPr/>
        </p:nvPicPr>
        <p:blipFill>
          <a:blip r:embed="rId1"/>
          <a:stretch/>
        </p:blipFill>
        <p:spPr>
          <a:xfrm>
            <a:off x="457200" y="762120"/>
            <a:ext cx="4003560" cy="2868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W020100825447381435471"/>
          <p:cNvPicPr/>
          <p:nvPr/>
        </p:nvPicPr>
        <p:blipFill>
          <a:blip r:embed="rId2"/>
          <a:stretch/>
        </p:blipFill>
        <p:spPr>
          <a:xfrm>
            <a:off x="4473720" y="762120"/>
            <a:ext cx="4324320" cy="28414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9"/>
          <p:cNvSpPr/>
          <p:nvPr/>
        </p:nvSpPr>
        <p:spPr>
          <a:xfrm>
            <a:off x="5095440" y="3124080"/>
            <a:ext cx="21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职贡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局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1703880" y="3809880"/>
            <a:ext cx="438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你说说唐朝时期对外交往的特点吗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304920" y="4495680"/>
            <a:ext cx="866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对外交往比较活跃，与亚洲乃至非洲、欧洲的一些国家都有往来。②唐政府鼓励各国商人到中国贸易，允许他们长期居住。③长安、洛阳、广州、扬州等地都有频繁的外贸活动。④唐朝在世界上享有很高的声望，各国称中国人为“唐人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4103"/>
          <p:cNvSpPr/>
          <p:nvPr/>
        </p:nvSpPr>
        <p:spPr>
          <a:xfrm>
            <a:off x="142920" y="19080"/>
            <a:ext cx="12952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合作探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1799280" y="1066680"/>
            <a:ext cx="44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促使唐朝对外交往活跃的因素有哪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772280" y="1859040"/>
            <a:ext cx="38592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国家安定统一 、政治制度先进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经济繁荣，国力强盛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开放和兼容并蓄的对外政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对外交通发达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科技文化世界领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6781680" y="2286000"/>
            <a:ext cx="381240" cy="990720"/>
          </a:xfrm>
          <a:custGeom>
            <a:avLst/>
            <a:gdLst>
              <a:gd name="textAreaLeft" fmla="*/ 0 w 381240"/>
              <a:gd name="textAreaRight" fmla="*/ 137520 w 38124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4"/>
                  <a:pt x="10800" y="1788"/>
                </a:cubicBezTo>
                <a:lnTo>
                  <a:pt x="10800" y="9012"/>
                </a:lnTo>
                <a:cubicBezTo>
                  <a:pt x="10800" y="9906"/>
                  <a:pt x="16200" y="10800"/>
                  <a:pt x="21600" y="10800"/>
                </a:cubicBezTo>
                <a:cubicBezTo>
                  <a:pt x="16200" y="10800"/>
                  <a:pt x="10800" y="11694"/>
                  <a:pt x="10800" y="12588"/>
                </a:cubicBezTo>
                <a:lnTo>
                  <a:pt x="10800" y="19812"/>
                </a:lnTo>
                <a:cubicBezTo>
                  <a:pt x="10800" y="20706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7577640" y="2438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6248520" y="3733920"/>
            <a:ext cx="609480" cy="1752480"/>
          </a:xfrm>
          <a:custGeom>
            <a:avLst/>
            <a:gdLst>
              <a:gd name="textAreaLeft" fmla="*/ 0 w 609480"/>
              <a:gd name="textAreaRight" fmla="*/ 219960 w 6094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4"/>
                  <a:pt x="10800" y="1788"/>
                </a:cubicBezTo>
                <a:lnTo>
                  <a:pt x="10800" y="9012"/>
                </a:lnTo>
                <a:cubicBezTo>
                  <a:pt x="10800" y="9906"/>
                  <a:pt x="16200" y="10800"/>
                  <a:pt x="21600" y="10800"/>
                </a:cubicBezTo>
                <a:cubicBezTo>
                  <a:pt x="16200" y="10800"/>
                  <a:pt x="10800" y="11694"/>
                  <a:pt x="10800" y="12588"/>
                </a:cubicBezTo>
                <a:lnTo>
                  <a:pt x="10800" y="19812"/>
                </a:lnTo>
                <a:cubicBezTo>
                  <a:pt x="10800" y="20706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7425000" y="4267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条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152280" y="68580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以史为鉴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533520" y="2438280"/>
            <a:ext cx="784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一，我们必须有稳定的政治局面，坚持对外开放的政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二，提高自身素质，努力发展经济文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三，学习唐朝海纳百川的博大胸怀，在传播先进文化的同时，要善于吸取其精华，为己所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533520" y="1446480"/>
            <a:ext cx="79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今天的中国正处于改革开放，经济迅速发展时期，唐朝的对外交往情况对我们有什么启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文本框 4103"/>
          <p:cNvSpPr/>
          <p:nvPr/>
        </p:nvSpPr>
        <p:spPr>
          <a:xfrm>
            <a:off x="142920" y="19080"/>
            <a:ext cx="12952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3"/>
          <p:cNvSpPr/>
          <p:nvPr/>
        </p:nvSpPr>
        <p:spPr>
          <a:xfrm>
            <a:off x="3348000" y="3863880"/>
            <a:ext cx="1297080" cy="647640"/>
          </a:xfrm>
          <a:prstGeom prst="rect">
            <a:avLst/>
          </a:prstGeom>
          <a:solidFill>
            <a:srgbClr val="ffff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3132000" y="1414440"/>
            <a:ext cx="1729080" cy="2232000"/>
          </a:xfrm>
          <a:prstGeom prst="rect">
            <a:avLst/>
          </a:prstGeom>
          <a:solidFill>
            <a:srgbClr val="ffff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835280" y="213516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民间交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2843280" y="2063880"/>
            <a:ext cx="217440" cy="1008000"/>
          </a:xfrm>
          <a:custGeom>
            <a:avLst/>
            <a:gdLst>
              <a:gd name="textAreaLeft" fmla="*/ 138960 w 217440"/>
              <a:gd name="textAreaRight" fmla="*/ 217800 w 217440"/>
              <a:gd name="textAreaTop" fmla="*/ 25920 h 1008000"/>
              <a:gd name="textAreaBottom" fmla="*/ 98208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5"/>
                  <a:pt x="10800" y="1789"/>
                </a:cubicBezTo>
                <a:lnTo>
                  <a:pt x="10800" y="9011"/>
                </a:lnTo>
                <a:cubicBezTo>
                  <a:pt x="10800" y="9906"/>
                  <a:pt x="5400" y="10800"/>
                  <a:pt x="0" y="10800"/>
                </a:cubicBezTo>
                <a:cubicBezTo>
                  <a:pt x="5400" y="10800"/>
                  <a:pt x="10800" y="11695"/>
                  <a:pt x="10800" y="12589"/>
                </a:cubicBezTo>
                <a:lnTo>
                  <a:pt x="10800" y="19811"/>
                </a:lnTo>
                <a:cubicBezTo>
                  <a:pt x="10800" y="2070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132000" y="1630440"/>
            <a:ext cx="172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玄奘西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鉴真东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619280" y="384804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政府交往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3348000" y="38638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遣唐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0"/>
          <p:cNvSpPr/>
          <p:nvPr/>
        </p:nvSpPr>
        <p:spPr>
          <a:xfrm>
            <a:off x="1476360" y="2351160"/>
            <a:ext cx="144360" cy="1727280"/>
          </a:xfrm>
          <a:custGeom>
            <a:avLst/>
            <a:gdLst>
              <a:gd name="textAreaLeft" fmla="*/ 92160 w 144360"/>
              <a:gd name="textAreaRight" fmla="*/ 144360 w 144360"/>
              <a:gd name="textAreaTop" fmla="*/ 44640 h 1727280"/>
              <a:gd name="textAreaBottom" fmla="*/ 1682640 h 17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5"/>
                  <a:pt x="10800" y="1789"/>
                </a:cubicBezTo>
                <a:lnTo>
                  <a:pt x="10800" y="9011"/>
                </a:lnTo>
                <a:cubicBezTo>
                  <a:pt x="10800" y="9906"/>
                  <a:pt x="5400" y="10800"/>
                  <a:pt x="0" y="10800"/>
                </a:cubicBezTo>
                <a:cubicBezTo>
                  <a:pt x="5400" y="10800"/>
                  <a:pt x="10800" y="11695"/>
                  <a:pt x="10800" y="12589"/>
                </a:cubicBezTo>
                <a:lnTo>
                  <a:pt x="10800" y="19811"/>
                </a:lnTo>
                <a:cubicBezTo>
                  <a:pt x="10800" y="2070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826920" y="1703520"/>
            <a:ext cx="611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唐 朝 的 对 外 交 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2"/>
          <p:cNvSpPr/>
          <p:nvPr/>
        </p:nvSpPr>
        <p:spPr>
          <a:xfrm>
            <a:off x="4952880" y="1847880"/>
            <a:ext cx="220680" cy="2514600"/>
          </a:xfrm>
          <a:custGeom>
            <a:avLst/>
            <a:gdLst>
              <a:gd name="textAreaLeft" fmla="*/ 0 w 220680"/>
              <a:gd name="textAreaRight" fmla="*/ 79560 w 220680"/>
              <a:gd name="textAreaTop" fmla="*/ 65160 h 2514600"/>
              <a:gd name="textAreaBottom" fmla="*/ 244944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5"/>
                  <a:pt x="10800" y="1789"/>
                </a:cubicBezTo>
                <a:lnTo>
                  <a:pt x="10800" y="9011"/>
                </a:lnTo>
                <a:cubicBezTo>
                  <a:pt x="10800" y="9906"/>
                  <a:pt x="16200" y="10800"/>
                  <a:pt x="21600" y="10800"/>
                </a:cubicBezTo>
                <a:cubicBezTo>
                  <a:pt x="16200" y="10800"/>
                  <a:pt x="10800" y="11695"/>
                  <a:pt x="10800" y="12589"/>
                </a:cubicBezTo>
                <a:lnTo>
                  <a:pt x="10800" y="19811"/>
                </a:lnTo>
                <a:cubicBezTo>
                  <a:pt x="10800" y="2070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5364000" y="2279520"/>
            <a:ext cx="3024360" cy="947160"/>
          </a:xfrm>
          <a:prstGeom prst="rect">
            <a:avLst/>
          </a:prstGeom>
          <a:solidFill>
            <a:srgbClr val="ffffff"/>
          </a:solidFill>
          <a:ln cap="rnd" w="633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唐朝兼容并蓄泽被东西，全面开放，文化更加辉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文本框 4103"/>
          <p:cNvSpPr/>
          <p:nvPr/>
        </p:nvSpPr>
        <p:spPr>
          <a:xfrm>
            <a:off x="142920" y="0"/>
            <a:ext cx="12952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1" descr="888"/>
          <p:cNvPicPr/>
          <p:nvPr/>
        </p:nvPicPr>
        <p:blipFill>
          <a:blip r:embed="rId1"/>
          <a:stretch/>
        </p:blipFill>
        <p:spPr>
          <a:xfrm>
            <a:off x="1438200" y="425520"/>
            <a:ext cx="6515280" cy="489888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99"/>
          <p:cNvSpPr/>
          <p:nvPr/>
        </p:nvSpPr>
        <p:spPr>
          <a:xfrm>
            <a:off x="142920" y="5324400"/>
            <a:ext cx="8815320" cy="52056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图中为什么外国人会将中国人称为“唐人”？古代新罗、天竺、大食、波斯等国分别是指今天的哪些国家和地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2"/>
          <p:cNvSpPr/>
          <p:nvPr/>
        </p:nvSpPr>
        <p:spPr>
          <a:xfrm>
            <a:off x="-17280" y="1305000"/>
            <a:ext cx="1277640" cy="35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0c0"/>
                </a:solidFill>
                <a:latin typeface="Arial"/>
              </a:rPr>
              <a:t>澳大利亚唐人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3" descr="155557_umuoluku_ce3e85f10d55d6636727688281fc0337"/>
          <p:cNvPicPr/>
          <p:nvPr/>
        </p:nvPicPr>
        <p:blipFill>
          <a:blip r:embed="rId2"/>
          <a:stretch/>
        </p:blipFill>
        <p:spPr>
          <a:xfrm>
            <a:off x="1438200" y="555480"/>
            <a:ext cx="7521480" cy="4772160"/>
          </a:xfrm>
          <a:prstGeom prst="rect">
            <a:avLst/>
          </a:prstGeom>
          <a:ln w="0">
            <a:noFill/>
          </a:ln>
        </p:spPr>
      </p:pic>
      <p:sp>
        <p:nvSpPr>
          <p:cNvPr id="52" name="文本框 4"/>
          <p:cNvSpPr/>
          <p:nvPr/>
        </p:nvSpPr>
        <p:spPr>
          <a:xfrm>
            <a:off x="27360" y="1994040"/>
            <a:ext cx="127764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0c0"/>
                </a:solidFill>
                <a:latin typeface="Arial"/>
              </a:rPr>
              <a:t>日本唐人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380880" y="1447920"/>
            <a:ext cx="8016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唐朝的对外关系呈现出前所未有的盛况，主要是因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经济文化处于世界领先地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政治制度领先于世界各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开辟了发达的水陆交通路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统治者以开明态度吸纳世界先进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唐政府鼓励外商来华贸易，允许他们长期在中国居住和中国人通婚，其目的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为了改变中华血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促进经济发展，巩固统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避免外国人对中国的仇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显示大国天朝的风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7926120" y="129528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3735360" y="396252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4103"/>
          <p:cNvSpPr/>
          <p:nvPr/>
        </p:nvSpPr>
        <p:spPr>
          <a:xfrm>
            <a:off x="142920" y="12600"/>
            <a:ext cx="12952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随堂训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304920" y="990720"/>
            <a:ext cx="8602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唐朝时期，中国与古印度交往密切，其中中国与印度之间的交往纽带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互派使节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佛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交换土特产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科技交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隋唐时，中国与周边各国往来的主要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民间商贸交往　　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互通使臣　 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以宗教为纽带　　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技术交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下列唐朝政府对外商来中国采取的政策中表述不正确的是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鼓励贸易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不允许长期在中国居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可以在中国做官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可以和中国人通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2439720" y="121932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6478560" y="259092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8459640" y="411480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4"/>
          <p:cNvSpPr/>
          <p:nvPr/>
        </p:nvSpPr>
        <p:spPr>
          <a:xfrm>
            <a:off x="3857760" y="928800"/>
            <a:ext cx="307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c:\users\administrator\appdata\roaming\360se6\User Data\temp\t01af057eabdd6f97a6.jpg"/>
          <p:cNvPicPr/>
          <p:nvPr/>
        </p:nvPicPr>
        <p:blipFill>
          <a:blip r:embed="rId1"/>
          <a:stretch/>
        </p:blipFill>
        <p:spPr>
          <a:xfrm>
            <a:off x="428760" y="5286240"/>
            <a:ext cx="1214280" cy="928800"/>
          </a:xfrm>
          <a:prstGeom prst="rect">
            <a:avLst/>
          </a:prstGeom>
          <a:ln w="0">
            <a:noFill/>
          </a:ln>
        </p:spPr>
      </p:pic>
      <p:sp>
        <p:nvSpPr>
          <p:cNvPr id="55" name="文本框 1"/>
          <p:cNvSpPr/>
          <p:nvPr/>
        </p:nvSpPr>
        <p:spPr>
          <a:xfrm>
            <a:off x="1231920" y="2023920"/>
            <a:ext cx="7051680" cy="2140560"/>
          </a:xfrm>
          <a:prstGeom prst="rect">
            <a:avLst/>
          </a:prstGeom>
          <a:noFill/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掌握唐朝和日本的关系、遣唐史和唐文化对日本产生的深远影响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鉴真和尚东渡日本的情况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唐玄奘西游取经等史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文本框 4103"/>
          <p:cNvSpPr/>
          <p:nvPr/>
        </p:nvSpPr>
        <p:spPr>
          <a:xfrm>
            <a:off x="142920" y="12600"/>
            <a:ext cx="12952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新课探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99"/>
          <p:cNvSpPr/>
          <p:nvPr/>
        </p:nvSpPr>
        <p:spPr>
          <a:xfrm>
            <a:off x="519120" y="619200"/>
            <a:ext cx="371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彩云"/>
                <a:ea typeface="华文彩云"/>
              </a:rPr>
              <a:t>一、遣唐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1" descr="44"/>
          <p:cNvPicPr/>
          <p:nvPr/>
        </p:nvPicPr>
        <p:blipFill>
          <a:blip r:embed="rId1"/>
          <a:stretch/>
        </p:blipFill>
        <p:spPr>
          <a:xfrm>
            <a:off x="1811160" y="1444680"/>
            <a:ext cx="6010560" cy="3708360"/>
          </a:xfrm>
          <a:prstGeom prst="rect">
            <a:avLst/>
          </a:prstGeom>
          <a:ln w="0">
            <a:noFill/>
          </a:ln>
        </p:spPr>
      </p:pic>
      <p:sp>
        <p:nvSpPr>
          <p:cNvPr id="59" name="文本框 2"/>
          <p:cNvSpPr/>
          <p:nvPr/>
        </p:nvSpPr>
        <p:spPr>
          <a:xfrm>
            <a:off x="764280" y="1208160"/>
            <a:ext cx="667800" cy="40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Arial"/>
              </a:rPr>
              <a:t>《弘法大师行状绘词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1"/>
          <p:cNvSpPr/>
          <p:nvPr/>
        </p:nvSpPr>
        <p:spPr>
          <a:xfrm>
            <a:off x="525600" y="5337000"/>
            <a:ext cx="329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日本派遣唐使的目的是什么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3"/>
          <p:cNvSpPr/>
          <p:nvPr/>
        </p:nvSpPr>
        <p:spPr>
          <a:xfrm>
            <a:off x="3908520" y="5346720"/>
            <a:ext cx="489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为了学习中国的先进文化，日本派遣使节到中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文本框 1"/>
          <p:cNvSpPr/>
          <p:nvPr/>
        </p:nvSpPr>
        <p:spPr>
          <a:xfrm>
            <a:off x="539640" y="1327320"/>
            <a:ext cx="753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结合教材，概括派遣唐使对于日本的影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3"/>
          <p:cNvSpPr/>
          <p:nvPr/>
        </p:nvSpPr>
        <p:spPr>
          <a:xfrm>
            <a:off x="539640" y="200484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他们把唐朝先进的制度、 天文历法、文字、典籍、书法艺术、建筑技术等传 回日本，对日本社会的发展产生了深远的影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1" descr="1402022259654"/>
          <p:cNvPicPr/>
          <p:nvPr/>
        </p:nvPicPr>
        <p:blipFill>
          <a:blip r:embed="rId1"/>
          <a:stretch/>
        </p:blipFill>
        <p:spPr>
          <a:xfrm>
            <a:off x="1508040" y="3559320"/>
            <a:ext cx="5835600" cy="29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文本框 99"/>
          <p:cNvSpPr/>
          <p:nvPr/>
        </p:nvSpPr>
        <p:spPr>
          <a:xfrm>
            <a:off x="519120" y="619200"/>
            <a:ext cx="329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彩云"/>
                <a:ea typeface="华文彩云"/>
              </a:rPr>
              <a:t>二、鉴真东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1" descr="ww图片1"/>
          <p:cNvPicPr/>
          <p:nvPr/>
        </p:nvPicPr>
        <p:blipFill>
          <a:blip r:embed="rId1"/>
          <a:stretch/>
        </p:blipFill>
        <p:spPr>
          <a:xfrm>
            <a:off x="1422360" y="1289160"/>
            <a:ext cx="7361280" cy="4136760"/>
          </a:xfrm>
          <a:prstGeom prst="rect">
            <a:avLst/>
          </a:prstGeom>
          <a:ln w="0">
            <a:noFill/>
          </a:ln>
        </p:spPr>
      </p:pic>
      <p:sp>
        <p:nvSpPr>
          <p:cNvPr id="67" name="文本框 2"/>
          <p:cNvSpPr/>
          <p:nvPr/>
        </p:nvSpPr>
        <p:spPr>
          <a:xfrm>
            <a:off x="-210240" y="1671480"/>
            <a:ext cx="1399320" cy="24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Arial"/>
              </a:rPr>
              <a:t>唐招提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3"/>
          <p:cNvSpPr/>
          <p:nvPr/>
        </p:nvSpPr>
        <p:spPr>
          <a:xfrm>
            <a:off x="500040" y="557064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唐招提寺是著名古寺院，位于日本奈良市西京五条街，公元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759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年中国唐朝高僧鉴真所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鉴真"/>
          <p:cNvPicPr/>
          <p:nvPr/>
        </p:nvPicPr>
        <p:blipFill>
          <a:blip r:embed="rId1"/>
          <a:stretch/>
        </p:blipFill>
        <p:spPr>
          <a:xfrm>
            <a:off x="685800" y="1066680"/>
            <a:ext cx="3648240" cy="435456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sp>
        <p:nvSpPr>
          <p:cNvPr id="70" name="Text Box 3"/>
          <p:cNvSpPr/>
          <p:nvPr/>
        </p:nvSpPr>
        <p:spPr>
          <a:xfrm>
            <a:off x="4495680" y="1066680"/>
            <a:ext cx="4186440" cy="103212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鉴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688—763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俗姓淳于，扬州人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出家为僧，法号鉴真。他对佛经深有研究，戒律部分尤其精熟。晚年受日僧礼请，东渡扶桑，履险犯难，双目失明，终抵奈良。在传播佛教与盛唐文化上，有很大的历史功绩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4"/>
          <p:cNvSpPr/>
          <p:nvPr/>
        </p:nvSpPr>
        <p:spPr>
          <a:xfrm>
            <a:off x="971640" y="1197000"/>
            <a:ext cx="3457440" cy="576360"/>
          </a:xfrm>
          <a:prstGeom prst="rect">
            <a:avLst/>
          </a:prstGeom>
          <a:solidFill>
            <a:srgbClr val="ffff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8520" y="982440"/>
            <a:ext cx="39560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鉴真东渡日本</a:t>
            </a:r>
            <a:endParaRPr b="0" lang="en-US" sz="3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0920" y="2060640"/>
            <a:ext cx="4025880" cy="28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鉴真盲目航东海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  </a:t>
            </a:r>
            <a:r>
              <a:rPr b="1" lang="zh-CN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一片精诚照太清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  </a:t>
            </a:r>
            <a:r>
              <a:rPr b="1" lang="zh-CN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舍己为人传道义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  </a:t>
            </a:r>
            <a:r>
              <a:rPr b="1" lang="zh-CN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唐风洋溢奈良城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           </a:t>
            </a:r>
            <a:r>
              <a:rPr b="1" lang="en-US" sz="2800" spc="-1" strike="noStrike">
                <a:solidFill>
                  <a:srgbClr val="0000ff"/>
                </a:solidFill>
                <a:latin typeface="隶书"/>
                <a:ea typeface="隶书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郭沫若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74" name="Picture 9" descr="0034"/>
          <p:cNvPicPr/>
          <p:nvPr/>
        </p:nvPicPr>
        <p:blipFill>
          <a:blip r:embed="rId1"/>
          <a:stretch/>
        </p:blipFill>
        <p:spPr>
          <a:xfrm>
            <a:off x="250920" y="5516640"/>
            <a:ext cx="4284720" cy="368280"/>
          </a:xfrm>
          <a:prstGeom prst="rect">
            <a:avLst/>
          </a:prstGeom>
          <a:ln w="0">
            <a:noFill/>
          </a:ln>
        </p:spPr>
      </p:pic>
      <p:pic>
        <p:nvPicPr>
          <p:cNvPr id="75" name="图片 1" descr="img9nDsn3122"/>
          <p:cNvPicPr/>
          <p:nvPr/>
        </p:nvPicPr>
        <p:blipFill>
          <a:blip r:embed="rId2"/>
          <a:stretch/>
        </p:blipFill>
        <p:spPr>
          <a:xfrm>
            <a:off x="4870440" y="420840"/>
            <a:ext cx="3048120" cy="59529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typ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P28"/>
          <p:cNvPicPr/>
          <p:nvPr/>
        </p:nvPicPr>
        <p:blipFill>
          <a:blip r:embed="rId1"/>
          <a:stretch/>
        </p:blipFill>
        <p:spPr>
          <a:xfrm>
            <a:off x="250920" y="1339920"/>
            <a:ext cx="4806720" cy="26226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754200" y="414828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</a:rPr>
              <a:t>鉴真准备东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99"/>
          <p:cNvSpPr/>
          <p:nvPr/>
        </p:nvSpPr>
        <p:spPr>
          <a:xfrm>
            <a:off x="5338800" y="1930320"/>
            <a:ext cx="361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鉴真东渡对日本的有怎样的影响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3"/>
          <p:cNvSpPr/>
          <p:nvPr/>
        </p:nvSpPr>
        <p:spPr>
          <a:xfrm>
            <a:off x="590400" y="4757760"/>
            <a:ext cx="804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他在日本传授佛经，还传播中国的医药、文学、书法、建筑、绘画等，为中日文化交流作出了卓越的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type.wav"/>
      </p:stSnd>
    </p:sndAc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8T07:47:19Z</dcterms:created>
  <dc:creator/>
  <dc:description/>
  <dc:language>en-US</dc:language>
  <cp:lastModifiedBy>Administrator</cp:lastModifiedBy>
  <dcterms:modified xsi:type="dcterms:W3CDTF">2019-01-08T07:47:1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