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1E62-E261-4CA0-A705-97EF02E6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F1B-B701-4AFE-A55A-1A4666FB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E2B-0F6D-4621-AE20-CD93E3EC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448A-BE2B-4C31-B122-7AB905A7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CA0B-85FF-484A-BAB2-F1507026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E6E-F3E0-4289-91E6-29E438C9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57A-9197-4165-8B74-AF0EBCDE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D98C-FF51-4614-ADEA-D024A8D0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5CD-3763-4E5F-9059-9DFE1A68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0DCA-0637-4739-8F79-7D16FDC9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D5E-2A84-4F09-8A96-EC5D0BDF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0F0-684E-438F-B4CA-D0969E85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9EDC-BF3F-497C-BDDE-12643F3C6AC6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A8E6-44F6-43ED-BDC9-FAE98458334A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MH_SubTitle_1"/>
          <p:cNvSpPr/>
          <p:nvPr/>
        </p:nvSpPr>
        <p:spPr>
          <a:xfrm>
            <a:off x="755640" y="4653000"/>
            <a:ext cx="167004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MH_SubTitle_2"/>
          <p:cNvSpPr/>
          <p:nvPr/>
        </p:nvSpPr>
        <p:spPr>
          <a:xfrm>
            <a:off x="2743200" y="4653000"/>
            <a:ext cx="167004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课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SubTitle_3"/>
          <p:cNvSpPr/>
          <p:nvPr/>
        </p:nvSpPr>
        <p:spPr>
          <a:xfrm>
            <a:off x="4765680" y="4653000"/>
            <a:ext cx="167004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4"/>
          <p:cNvSpPr/>
          <p:nvPr/>
        </p:nvSpPr>
        <p:spPr>
          <a:xfrm>
            <a:off x="6804000" y="4653000"/>
            <a:ext cx="167004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随堂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2560" y="177336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隋唐时期：繁荣与开放的时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435040" y="3049560"/>
            <a:ext cx="43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第</a:t>
            </a: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课 安史之乱与唐朝衰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99"/>
          <p:cNvSpPr/>
          <p:nvPr/>
        </p:nvSpPr>
        <p:spPr>
          <a:xfrm>
            <a:off x="519120" y="619200"/>
            <a:ext cx="65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三、五代十国的更迭与分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"/>
          <p:cNvSpPr/>
          <p:nvPr/>
        </p:nvSpPr>
        <p:spPr>
          <a:xfrm>
            <a:off x="309600" y="144612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读史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4"/>
          <p:cNvSpPr/>
          <p:nvPr/>
        </p:nvSpPr>
        <p:spPr>
          <a:xfrm>
            <a:off x="169920" y="2082960"/>
            <a:ext cx="878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材料：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五代十国，包括五代与十国等众多割据政权，是中国历史上的一段时期，自唐朝灭亡开始，至宋朝建立为止；也可以定义为到宋朝统一十国剩余政权为止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99"/>
          <p:cNvSpPr/>
          <p:nvPr/>
        </p:nvSpPr>
        <p:spPr>
          <a:xfrm>
            <a:off x="244440" y="4156200"/>
            <a:ext cx="83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根据课本知识，抢答五代十国的历史根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"/>
          <p:cNvSpPr/>
          <p:nvPr/>
        </p:nvSpPr>
        <p:spPr>
          <a:xfrm>
            <a:off x="374760" y="5475240"/>
            <a:ext cx="34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唐朝藩镇割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99"/>
          <p:cNvSpPr/>
          <p:nvPr/>
        </p:nvSpPr>
        <p:spPr>
          <a:xfrm>
            <a:off x="244440" y="855720"/>
            <a:ext cx="77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五代十国的历史影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"/>
          <p:cNvSpPr/>
          <p:nvPr/>
        </p:nvSpPr>
        <p:spPr>
          <a:xfrm>
            <a:off x="374760" y="1600200"/>
            <a:ext cx="44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北方战事不断，政局动荡不安。南方地区政局相对稳定，经济在原有的基础上有一定的发展。五代十国时期，虽然政权分立，但统一始终是一个必然趋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2" descr="mp34454217_1444184717985_6"/>
          <p:cNvPicPr/>
          <p:nvPr/>
        </p:nvPicPr>
        <p:blipFill>
          <a:blip r:embed="rId1"/>
          <a:stretch/>
        </p:blipFill>
        <p:spPr>
          <a:xfrm>
            <a:off x="4802040" y="1655640"/>
            <a:ext cx="424044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52280" y="6145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以史为鉴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33520" y="258120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，在取得成就时，我们要保持戒骄戒躁的恭谨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，艰苦朴素的作风不能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三，人生应该始终如一地坚守自己的信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四，亲近贤达之人，远离不肖者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533520" y="1447200"/>
            <a:ext cx="79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的中国政府存在着腐败问题，结合唐玄宗的前半生和后半生的不同作为，导致不同的结果，谈谈对你有何启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4103"/>
          <p:cNvSpPr/>
          <p:nvPr/>
        </p:nvSpPr>
        <p:spPr>
          <a:xfrm>
            <a:off x="142920" y="1908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-2147482620" descr=""/>
          <p:cNvPicPr/>
          <p:nvPr/>
        </p:nvPicPr>
        <p:blipFill>
          <a:blip r:embed="rId1"/>
          <a:stretch/>
        </p:blipFill>
        <p:spPr>
          <a:xfrm>
            <a:off x="1320840" y="1225440"/>
            <a:ext cx="6238800" cy="359424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1"/>
          <p:cNvSpPr/>
          <p:nvPr/>
        </p:nvSpPr>
        <p:spPr>
          <a:xfrm>
            <a:off x="2076480" y="4950000"/>
            <a:ext cx="499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魏碑体"/>
              </a:rPr>
              <a:t>唐朝的兴亡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4103"/>
          <p:cNvSpPr/>
          <p:nvPr/>
        </p:nvSpPr>
        <p:spPr>
          <a:xfrm>
            <a:off x="142920" y="1260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99"/>
          <p:cNvSpPr/>
          <p:nvPr/>
        </p:nvSpPr>
        <p:spPr>
          <a:xfrm>
            <a:off x="276120" y="552600"/>
            <a:ext cx="839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光明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文章：天宝十四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又请以蕃将三十二人代汉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成一个以少数族武人为骨干、有汉族失意文人和地方军人参加的财富力强的武装集团，最终导致爆发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史之乱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黄巢起义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七国之乱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国之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908160" y="16542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"/>
          <p:cNvSpPr/>
          <p:nvPr/>
        </p:nvSpPr>
        <p:spPr>
          <a:xfrm>
            <a:off x="276120" y="3263760"/>
            <a:ext cx="839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滕州新闻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文章：这些藩镇名义上虽然是受唐朝中央政府的管制，实则是自己各霸一方，不服从中央的政命，形成了自己的独立王国，朝廷进一步失去对地方的控制，节度使林立，他们拥兵自雄，互相兼并。藩镇割据的最严重后果是什么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中央财政收入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害国家的统一局面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形成五代十国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得中央政令无法实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110240" y="52261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99"/>
          <p:cNvSpPr/>
          <p:nvPr/>
        </p:nvSpPr>
        <p:spPr>
          <a:xfrm>
            <a:off x="276120" y="552600"/>
            <a:ext cx="8391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番禺日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文章：……安禄山每次入宫，都是先拜贵妃，再拜皇帝。皇帝不解，问他何故，安禄山恭恭敬敬地说：“我们胡人的习俗，都是先拜母亲，后拜父亲。”皇帝释然，对安禄山的憨厚和朴实添了几分好感。这位皇帝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隋文帝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隋炀帝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唐太宗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唐玄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领导安史之乱的主要人物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禄山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宇文化及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朱温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姚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860880" y="205596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265720" y="383364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4103"/>
          <p:cNvSpPr/>
          <p:nvPr/>
        </p:nvSpPr>
        <p:spPr>
          <a:xfrm>
            <a:off x="14292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呜呜呜呜1"/>
          <p:cNvPicPr/>
          <p:nvPr/>
        </p:nvPicPr>
        <p:blipFill>
          <a:blip r:embed="rId1"/>
          <a:stretch/>
        </p:blipFill>
        <p:spPr>
          <a:xfrm>
            <a:off x="1967040" y="380880"/>
            <a:ext cx="6146640" cy="460692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2"/>
          <p:cNvSpPr/>
          <p:nvPr/>
        </p:nvSpPr>
        <p:spPr>
          <a:xfrm>
            <a:off x="914760" y="692280"/>
            <a:ext cx="85068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《玄宗幸蜀图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99"/>
          <p:cNvSpPr/>
          <p:nvPr/>
        </p:nvSpPr>
        <p:spPr>
          <a:xfrm>
            <a:off x="152280" y="5038560"/>
            <a:ext cx="8972640" cy="52056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在马嵬坡，玄宗为保军心安定，忍痛命令高力士在佛堂缢死杨贵妃。此后，玄宗入蜀。这就是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玄宗幸蜀图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的历史背景，今天我们一起来学习唐朝由盛世到衰败的过程，以从中汲取教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4"/>
          <p:cNvSpPr/>
          <p:nvPr/>
        </p:nvSpPr>
        <p:spPr>
          <a:xfrm>
            <a:off x="3427560" y="928800"/>
            <a:ext cx="19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:\users\administrator\appdata\roaming\360se6\User Data\temp\t01af057eabdd6f97a6.jpg"/>
          <p:cNvPicPr/>
          <p:nvPr/>
        </p:nvPicPr>
        <p:blipFill>
          <a:blip r:embed="rId1"/>
          <a:stretch/>
        </p:blipFill>
        <p:spPr>
          <a:xfrm>
            <a:off x="428760" y="5286240"/>
            <a:ext cx="1214280" cy="92880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"/>
          <p:cNvSpPr/>
          <p:nvPr/>
        </p:nvSpPr>
        <p:spPr>
          <a:xfrm>
            <a:off x="1231920" y="1881360"/>
            <a:ext cx="6529320" cy="2140560"/>
          </a:xfrm>
          <a:prstGeom prst="rect">
            <a:avLst/>
          </a:prstGeom>
          <a:noFill/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了解安史之乱爆发的原因和背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了解黄巢起义和唐朝灭亡的基本史实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把握五代十国形成的原因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4103"/>
          <p:cNvSpPr/>
          <p:nvPr/>
        </p:nvSpPr>
        <p:spPr>
          <a:xfrm>
            <a:off x="142920" y="1260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新课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99"/>
          <p:cNvSpPr/>
          <p:nvPr/>
        </p:nvSpPr>
        <p:spPr>
          <a:xfrm>
            <a:off x="519120" y="619200"/>
            <a:ext cx="37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一、安史之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"/>
          <p:cNvSpPr/>
          <p:nvPr/>
        </p:nvSpPr>
        <p:spPr>
          <a:xfrm>
            <a:off x="525600" y="1247760"/>
            <a:ext cx="3894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安史之乱爆发的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史背景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"/>
          <p:cNvSpPr/>
          <p:nvPr/>
        </p:nvSpPr>
        <p:spPr>
          <a:xfrm>
            <a:off x="358920" y="2251080"/>
            <a:ext cx="3909960" cy="5508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开元末年唐玄宗追求享乐，任人唯亲，朝政日益腐败。</a:t>
            </a: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社会矛盾尖锐，边疆形势紧张。</a:t>
            </a: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节度使势力膨胀，形成外重内轻。</a:t>
            </a: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安禄山担任三个边地的节度使，逐渐扩张势力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6" descr="Redocn_2012053101180272"/>
          <p:cNvPicPr/>
          <p:nvPr/>
        </p:nvPicPr>
        <p:blipFill>
          <a:blip r:embed="rId1"/>
          <a:stretch/>
        </p:blipFill>
        <p:spPr>
          <a:xfrm>
            <a:off x="4653000" y="958680"/>
            <a:ext cx="4003560" cy="494064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7"/>
          <p:cNvSpPr/>
          <p:nvPr/>
        </p:nvSpPr>
        <p:spPr>
          <a:xfrm>
            <a:off x="5342040" y="5897520"/>
            <a:ext cx="275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Arial"/>
              </a:rPr>
              <a:t>唐玄宗李隆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5" descr="9c025aafa40f4bfb8463f823004f78f0f7361811"/>
          <p:cNvPicPr/>
          <p:nvPr/>
        </p:nvPicPr>
        <p:blipFill>
          <a:blip r:embed="rId1"/>
          <a:stretch/>
        </p:blipFill>
        <p:spPr>
          <a:xfrm>
            <a:off x="4097160" y="1474920"/>
            <a:ext cx="5008680" cy="303984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3"/>
          <p:cNvSpPr/>
          <p:nvPr/>
        </p:nvSpPr>
        <p:spPr>
          <a:xfrm>
            <a:off x="309600" y="584280"/>
            <a:ext cx="24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读史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4"/>
          <p:cNvSpPr/>
          <p:nvPr/>
        </p:nvSpPr>
        <p:spPr>
          <a:xfrm>
            <a:off x="169920" y="1149480"/>
            <a:ext cx="3984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材料：</a:t>
            </a:r>
            <a:r>
              <a:rPr b="1" lang="zh-CN" sz="2600" spc="-1" strike="noStrike">
                <a:solidFill>
                  <a:srgbClr val="0070c0"/>
                </a:solidFill>
                <a:latin typeface="Arial"/>
              </a:rPr>
              <a:t>安禄山兼三大兵镇独掌</a:t>
            </a:r>
            <a:r>
              <a:rPr b="1" lang="zh-CN" sz="2600" spc="-1" strike="noStrike">
                <a:solidFill>
                  <a:srgbClr val="0070c0"/>
                </a:solidFill>
                <a:latin typeface="Arial"/>
              </a:rPr>
              <a:t>15</a:t>
            </a:r>
            <a:r>
              <a:rPr b="1" lang="zh-CN" sz="2600" spc="-1" strike="noStrike">
                <a:solidFill>
                  <a:srgbClr val="0070c0"/>
                </a:solidFill>
                <a:latin typeface="Arial"/>
              </a:rPr>
              <a:t>万的兵力，拥兵边陲，其手下骁勇善战，甚获玄宗宠信，引来宰相杨国忠忌恨。两人因而交恶，而唐玄宗又对此不加干预。安禄山久怀异志，加上手握重兵，就以讨杨之名举兵叛唐。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99"/>
          <p:cNvSpPr/>
          <p:nvPr/>
        </p:nvSpPr>
        <p:spPr>
          <a:xfrm>
            <a:off x="244440" y="4802040"/>
            <a:ext cx="57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安史之乱的基本情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"/>
          <p:cNvSpPr/>
          <p:nvPr/>
        </p:nvSpPr>
        <p:spPr>
          <a:xfrm>
            <a:off x="374760" y="5475240"/>
            <a:ext cx="8118360" cy="58140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755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年，安禄山借口朝廷出现奸臣，和部将史思明一起发动叛乱。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763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年被平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2" descr="TVEu"/>
          <p:cNvPicPr/>
          <p:nvPr/>
        </p:nvPicPr>
        <p:blipFill>
          <a:blip r:embed="rId1"/>
          <a:stretch/>
        </p:blipFill>
        <p:spPr>
          <a:xfrm>
            <a:off x="5176800" y="673200"/>
            <a:ext cx="3230640" cy="484668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99"/>
          <p:cNvSpPr/>
          <p:nvPr/>
        </p:nvSpPr>
        <p:spPr>
          <a:xfrm>
            <a:off x="361800" y="1312920"/>
            <a:ext cx="46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安史之乱的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"/>
          <p:cNvSpPr/>
          <p:nvPr/>
        </p:nvSpPr>
        <p:spPr>
          <a:xfrm>
            <a:off x="428760" y="2664000"/>
            <a:ext cx="4512960" cy="58140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对社会经济造成极大的破坏，唐朝的国势从此由盛转衰。安史旧将和内地节度使权势加大，逐渐形成藩镇割据的局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7"/>
          <p:cNvSpPr/>
          <p:nvPr/>
        </p:nvSpPr>
        <p:spPr>
          <a:xfrm>
            <a:off x="6059520" y="5681520"/>
            <a:ext cx="16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Arial"/>
              </a:rPr>
              <a:t>安禄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99"/>
          <p:cNvSpPr/>
          <p:nvPr/>
        </p:nvSpPr>
        <p:spPr>
          <a:xfrm>
            <a:off x="519120" y="619200"/>
            <a:ext cx="65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二、黄巢起义和唐朝的灭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1" descr="图片我问问1"/>
          <p:cNvPicPr/>
          <p:nvPr/>
        </p:nvPicPr>
        <p:blipFill>
          <a:blip r:embed="rId1"/>
          <a:stretch/>
        </p:blipFill>
        <p:spPr>
          <a:xfrm>
            <a:off x="3424320" y="1247760"/>
            <a:ext cx="5440320" cy="3989520"/>
          </a:xfrm>
          <a:prstGeom prst="rect">
            <a:avLst/>
          </a:prstGeom>
          <a:ln w="0">
            <a:noFill/>
          </a:ln>
        </p:spPr>
      </p:pic>
      <p:sp>
        <p:nvSpPr>
          <p:cNvPr id="71" name="文本框 99"/>
          <p:cNvSpPr/>
          <p:nvPr/>
        </p:nvSpPr>
        <p:spPr>
          <a:xfrm>
            <a:off x="361800" y="2173320"/>
            <a:ext cx="26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教材和图，抢答黄巢起义的背景和结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"/>
          <p:cNvSpPr/>
          <p:nvPr/>
        </p:nvSpPr>
        <p:spPr>
          <a:xfrm>
            <a:off x="361800" y="5261040"/>
            <a:ext cx="8261640" cy="58140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背景：唐朝后期，统治腐朽，宦官专权，藩镇割据的态势日益严重，相互之间发生兼并战争，人民赋役繁重，生活困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20140312145726-574547049"/>
          <p:cNvPicPr/>
          <p:nvPr/>
        </p:nvPicPr>
        <p:blipFill>
          <a:blip r:embed="rId1"/>
          <a:stretch/>
        </p:blipFill>
        <p:spPr>
          <a:xfrm>
            <a:off x="2227320" y="25560"/>
            <a:ext cx="5438880" cy="654984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3"/>
          <p:cNvSpPr/>
          <p:nvPr/>
        </p:nvSpPr>
        <p:spPr>
          <a:xfrm>
            <a:off x="217440" y="2822400"/>
            <a:ext cx="4422960" cy="58140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结果：起义军虽然一度攻占了长安，最终却被原为义军将领的朱温，与其他藩镇联合镇压了起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99"/>
          <p:cNvSpPr/>
          <p:nvPr/>
        </p:nvSpPr>
        <p:spPr>
          <a:xfrm>
            <a:off x="504720" y="666720"/>
            <a:ext cx="3838680" cy="642600"/>
          </a:xfrm>
          <a:prstGeom prst="rect">
            <a:avLst/>
          </a:prstGeom>
          <a:solidFill>
            <a:srgbClr val="757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教材和图，抢答黄巢起义的背景和结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文本框 99"/>
          <p:cNvSpPr/>
          <p:nvPr/>
        </p:nvSpPr>
        <p:spPr>
          <a:xfrm>
            <a:off x="779400" y="488880"/>
            <a:ext cx="553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唐朝灭亡的基本情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3" descr="195U14034-3"/>
          <p:cNvPicPr/>
          <p:nvPr/>
        </p:nvPicPr>
        <p:blipFill>
          <a:blip r:embed="rId1"/>
          <a:stretch/>
        </p:blipFill>
        <p:spPr>
          <a:xfrm>
            <a:off x="3260880" y="1217520"/>
            <a:ext cx="5769000" cy="365760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4"/>
          <p:cNvSpPr/>
          <p:nvPr/>
        </p:nvSpPr>
        <p:spPr>
          <a:xfrm>
            <a:off x="533520" y="550692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朱温陆续兼并了北方的大小割据势力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0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，建立了后梁政权，唐朝灭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5" descr="0d338744ebf81a4cc7d968c6d22a6059242da6d2"/>
          <p:cNvPicPr/>
          <p:nvPr/>
        </p:nvPicPr>
        <p:blipFill>
          <a:blip r:embed="rId2"/>
          <a:stretch/>
        </p:blipFill>
        <p:spPr>
          <a:xfrm>
            <a:off x="33480" y="1300320"/>
            <a:ext cx="3136680" cy="350352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7"/>
          <p:cNvSpPr/>
          <p:nvPr/>
        </p:nvSpPr>
        <p:spPr>
          <a:xfrm>
            <a:off x="965160" y="4821120"/>
            <a:ext cx="11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Arial"/>
              </a:rPr>
              <a:t>朱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6"/>
          <p:cNvSpPr/>
          <p:nvPr/>
        </p:nvSpPr>
        <p:spPr>
          <a:xfrm>
            <a:off x="4321080" y="4803840"/>
            <a:ext cx="366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Arial"/>
              </a:rPr>
              <a:t>朱温被其子所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8T07:57:09Z</dcterms:created>
  <dc:creator/>
  <dc:description/>
  <dc:language>en-US</dc:language>
  <cp:lastModifiedBy>Administrator</cp:lastModifiedBy>
  <dcterms:modified xsi:type="dcterms:W3CDTF">2019-01-08T07:57:0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