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E0D5-D7C0-4805-8A80-71F35BA4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843E-5339-4EE6-A5A9-702412F1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F4B-4ECF-4BF4-A970-F63D18BA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2C3-4373-40C5-A022-C425FEC1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2664-5EAB-4E1C-89D5-A0161782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2EC2-F7AC-412A-8BEF-36FB53C4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26C6-8400-4890-8DF9-CB605EC3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D1D1-E24F-4383-A24D-E7401846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0301-D28B-48E3-B5E4-0ED05EBC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2824-7CAD-4A5D-97B7-D03EEF1E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C47E-A816-47E2-82BF-4175CA9A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4B4A-47E2-44E1-868F-2E0A34A0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7488-1220-4C70-98B5-722ACA74CB95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9CF3-EAD4-42B7-9AA0-E6997D20C776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7"/>
          <p:cNvSpPr/>
          <p:nvPr/>
        </p:nvSpPr>
        <p:spPr>
          <a:xfrm>
            <a:off x="0" y="6526080"/>
            <a:ext cx="9144000" cy="331920"/>
          </a:xfrm>
          <a:prstGeom prst="flowChartProcess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733320" y="2293920"/>
            <a:ext cx="79218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四单元   走进法治天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九课    法律在我们身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2643120" y="3757680"/>
            <a:ext cx="53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课时  生活需要法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3" descr="图片1"/>
          <p:cNvPicPr/>
          <p:nvPr/>
        </p:nvPicPr>
        <p:blipFill>
          <a:blip r:embed="rId1"/>
          <a:srcRect l="0" t="0" r="76585" b="0"/>
          <a:stretch/>
        </p:blipFill>
        <p:spPr>
          <a:xfrm>
            <a:off x="714240" y="5392800"/>
            <a:ext cx="1801800" cy="9428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" descr="图片1"/>
          <p:cNvPicPr/>
          <p:nvPr/>
        </p:nvPicPr>
        <p:blipFill>
          <a:blip r:embed="rId2"/>
          <a:srcRect l="75719" t="0" r="0" b="0"/>
          <a:stretch/>
        </p:blipFill>
        <p:spPr>
          <a:xfrm>
            <a:off x="6508800" y="5392800"/>
            <a:ext cx="1868400" cy="9428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" descr="图片1"/>
          <p:cNvPicPr/>
          <p:nvPr/>
        </p:nvPicPr>
        <p:blipFill>
          <a:blip r:embed="rId3"/>
          <a:srcRect l="49848" t="0" r="24295" b="0"/>
          <a:stretch/>
        </p:blipFill>
        <p:spPr>
          <a:xfrm>
            <a:off x="4521240" y="5392800"/>
            <a:ext cx="1990800" cy="9428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" descr="图片1"/>
          <p:cNvPicPr/>
          <p:nvPr/>
        </p:nvPicPr>
        <p:blipFill>
          <a:blip r:embed="rId4"/>
          <a:srcRect l="23546" t="0" r="50395" b="0"/>
          <a:stretch/>
        </p:blipFill>
        <p:spPr>
          <a:xfrm>
            <a:off x="2516040" y="5392800"/>
            <a:ext cx="2005200" cy="9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99"/>
          <p:cNvSpPr/>
          <p:nvPr/>
        </p:nvSpPr>
        <p:spPr>
          <a:xfrm>
            <a:off x="476280" y="814320"/>
            <a:ext cx="845964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活动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法律相伴一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同学们翻开课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8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思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探究与分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栏目中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一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学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完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8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连线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学们自行组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干小组，每个小组探讨：我们的主要权利有哪些？相应的法律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示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见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99"/>
          <p:cNvSpPr/>
          <p:nvPr/>
        </p:nvSpPr>
        <p:spPr>
          <a:xfrm>
            <a:off x="1120680" y="4597560"/>
            <a:ext cx="775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权利与我们相伴一生，法律与我们每个人如影随形，我们一生都享有法律规定的各项权利，同时必须履行法律规定的各项义务。生活与法律息息相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" descr="gif011"/>
          <p:cNvPicPr/>
          <p:nvPr/>
        </p:nvPicPr>
        <p:blipFill>
          <a:blip r:embed="rId1"/>
          <a:stretch/>
        </p:blipFill>
        <p:spPr>
          <a:xfrm>
            <a:off x="66600" y="4924440"/>
            <a:ext cx="1143000" cy="12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596880" y="598320"/>
          <a:ext cx="7893000" cy="3416400"/>
        </p:xfrm>
        <a:graphic>
          <a:graphicData uri="http://schemas.openxmlformats.org/drawingml/2006/table">
            <a:tbl>
              <a:tblPr/>
              <a:tblGrid>
                <a:gridCol w="3159000"/>
                <a:gridCol w="4734000"/>
              </a:tblGrid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我们的权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相应的法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文本框 1"/>
          <p:cNvSpPr/>
          <p:nvPr/>
        </p:nvSpPr>
        <p:spPr>
          <a:xfrm>
            <a:off x="1150920" y="988920"/>
            <a:ext cx="21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生命健康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2"/>
          <p:cNvSpPr/>
          <p:nvPr/>
        </p:nvSpPr>
        <p:spPr>
          <a:xfrm>
            <a:off x="3946680" y="988920"/>
            <a:ext cx="41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宪法、民法通则、刑法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"/>
          <p:cNvSpPr/>
          <p:nvPr/>
        </p:nvSpPr>
        <p:spPr>
          <a:xfrm>
            <a:off x="1138320" y="1411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人身自由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4"/>
          <p:cNvSpPr/>
          <p:nvPr/>
        </p:nvSpPr>
        <p:spPr>
          <a:xfrm>
            <a:off x="4010040" y="1427040"/>
            <a:ext cx="44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宪法、民法通则、刑法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5"/>
          <p:cNvSpPr/>
          <p:nvPr/>
        </p:nvSpPr>
        <p:spPr>
          <a:xfrm>
            <a:off x="1095480" y="1857240"/>
            <a:ext cx="21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人格尊严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6"/>
          <p:cNvSpPr/>
          <p:nvPr/>
        </p:nvSpPr>
        <p:spPr>
          <a:xfrm>
            <a:off x="3836880" y="1873080"/>
            <a:ext cx="44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民法通则、户口登记条例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7"/>
          <p:cNvSpPr/>
          <p:nvPr/>
        </p:nvSpPr>
        <p:spPr>
          <a:xfrm>
            <a:off x="1243080" y="230508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教育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0"/>
          <p:cNvSpPr/>
          <p:nvPr/>
        </p:nvSpPr>
        <p:spPr>
          <a:xfrm>
            <a:off x="4168800" y="2287440"/>
            <a:ext cx="39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义务教育法、教育法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1"/>
          <p:cNvSpPr/>
          <p:nvPr/>
        </p:nvSpPr>
        <p:spPr>
          <a:xfrm>
            <a:off x="1100160" y="2705040"/>
            <a:ext cx="19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智力成果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2"/>
          <p:cNvSpPr/>
          <p:nvPr/>
        </p:nvSpPr>
        <p:spPr>
          <a:xfrm>
            <a:off x="4025880" y="26892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民法通则、知识产权法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3"/>
          <p:cNvSpPr/>
          <p:nvPr/>
        </p:nvSpPr>
        <p:spPr>
          <a:xfrm>
            <a:off x="1498680" y="310356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财产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4"/>
          <p:cNvSpPr/>
          <p:nvPr/>
        </p:nvSpPr>
        <p:spPr>
          <a:xfrm>
            <a:off x="4025880" y="315900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宪法、民法通则、刑法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5"/>
          <p:cNvSpPr/>
          <p:nvPr/>
        </p:nvSpPr>
        <p:spPr>
          <a:xfrm>
            <a:off x="1425600" y="35719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劳动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6"/>
          <p:cNvSpPr/>
          <p:nvPr/>
        </p:nvSpPr>
        <p:spPr>
          <a:xfrm>
            <a:off x="5300640" y="3549600"/>
            <a:ext cx="17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劳动法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6152"/>
          <p:cNvSpPr/>
          <p:nvPr/>
        </p:nvSpPr>
        <p:spPr>
          <a:xfrm>
            <a:off x="558720" y="70488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6151"/>
          <p:cNvSpPr/>
          <p:nvPr/>
        </p:nvSpPr>
        <p:spPr>
          <a:xfrm>
            <a:off x="1837440" y="6922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二：法治的脚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6152"/>
          <p:cNvSpPr/>
          <p:nvPr/>
        </p:nvSpPr>
        <p:spPr>
          <a:xfrm>
            <a:off x="685800" y="8319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6147"/>
          <p:cNvGrpSpPr/>
          <p:nvPr/>
        </p:nvGrpSpPr>
        <p:grpSpPr>
          <a:xfrm>
            <a:off x="615960" y="477720"/>
            <a:ext cx="2232000" cy="808200"/>
            <a:chOff x="615960" y="477720"/>
            <a:chExt cx="2232000" cy="808200"/>
          </a:xfrm>
        </p:grpSpPr>
        <p:sp>
          <p:nvSpPr>
            <p:cNvPr id="107" name="矩形 7"/>
            <p:cNvSpPr/>
            <p:nvPr/>
          </p:nvSpPr>
          <p:spPr>
            <a:xfrm>
              <a:off x="1175760" y="47772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任意多边形 16"/>
            <p:cNvSpPr/>
            <p:nvPr/>
          </p:nvSpPr>
          <p:spPr>
            <a:xfrm>
              <a:off x="615960" y="76608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17"/>
            <p:cNvSpPr/>
            <p:nvPr/>
          </p:nvSpPr>
          <p:spPr>
            <a:xfrm>
              <a:off x="977760" y="71532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6152"/>
            <p:cNvSpPr/>
            <p:nvPr/>
          </p:nvSpPr>
          <p:spPr>
            <a:xfrm>
              <a:off x="615960" y="76536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343080" y="2085840"/>
            <a:ext cx="8476920" cy="420876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99"/>
          <p:cNvSpPr/>
          <p:nvPr/>
        </p:nvSpPr>
        <p:spPr>
          <a:xfrm>
            <a:off x="781200" y="148428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活动四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法治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99"/>
          <p:cNvSpPr/>
          <p:nvPr/>
        </p:nvSpPr>
        <p:spPr>
          <a:xfrm>
            <a:off x="479520" y="830160"/>
            <a:ext cx="8277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始社会没有法律，人类靠什么调节人际关系和自己的行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提示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俗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法律是在什么情况下产生的？创制法律目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提示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国家产生之后，统治阶级开始有意识地创制法律。用来统治国家、管理社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1"/>
          <p:cNvSpPr/>
          <p:nvPr/>
        </p:nvSpPr>
        <p:spPr>
          <a:xfrm>
            <a:off x="1420920" y="1166760"/>
            <a:ext cx="60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法律的本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"/>
          <p:cNvSpPr/>
          <p:nvPr/>
        </p:nvSpPr>
        <p:spPr>
          <a:xfrm>
            <a:off x="1509840" y="1879560"/>
            <a:ext cx="7180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法律是统治阶级意志的体现，是用来统治国家、管理社会的工具，也是调整社会关系、判断是非曲直、处理矛盾和纠纷的标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3" descr=""/>
          <p:cNvPicPr/>
          <p:nvPr/>
        </p:nvPicPr>
        <p:blipFill>
          <a:blip r:embed="rId1"/>
          <a:stretch/>
        </p:blipFill>
        <p:spPr>
          <a:xfrm>
            <a:off x="3195720" y="4287960"/>
            <a:ext cx="3463920" cy="20494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1" descr="gif011"/>
          <p:cNvPicPr/>
          <p:nvPr/>
        </p:nvPicPr>
        <p:blipFill>
          <a:blip r:embed="rId2"/>
          <a:stretch/>
        </p:blipFill>
        <p:spPr>
          <a:xfrm>
            <a:off x="366840" y="1327320"/>
            <a:ext cx="1143000" cy="128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100"/>
          <p:cNvSpPr/>
          <p:nvPr/>
        </p:nvSpPr>
        <p:spPr>
          <a:xfrm>
            <a:off x="676440" y="1263600"/>
            <a:ext cx="458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教育部印发的</a:t>
            </a:r>
            <a:r>
              <a:rPr b="0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全国教育系统开展法治宣传教育的第七个五年规划</a:t>
            </a:r>
            <a:r>
              <a:rPr b="0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(2016—2020</a:t>
            </a:r>
            <a:r>
              <a:rPr b="0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要求，切实将法治教育纳入国民教育体系，形成学校、家庭、社会“三位一体”的青少年法治教育格局。在中小学开设道德与法治课，发挥法治教育的课堂主渠道作用。</a:t>
            </a:r>
            <a:r>
              <a:rPr b="0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规划</a:t>
            </a:r>
            <a:r>
              <a:rPr b="0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提出，在中、高考中适当增加法治知识内容，不断改进教学评价方式，将社会主义法治理念、法治素养和法治实践纳入学生考核评价中</a:t>
            </a:r>
            <a:r>
              <a:rPr b="0" lang="zh-CN" sz="2400" spc="-1" strike="noStrike">
                <a:solidFill>
                  <a:srgbClr val="333333"/>
                </a:solidFill>
                <a:latin typeface="仿宋"/>
                <a:ea typeface="仿宋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1125360" y="6124680"/>
            <a:ext cx="61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什么是法治？它的要求、意义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2" descr=""/>
          <p:cNvPicPr/>
          <p:nvPr/>
        </p:nvPicPr>
        <p:blipFill>
          <a:blip r:embed="rId1"/>
          <a:stretch/>
        </p:blipFill>
        <p:spPr>
          <a:xfrm>
            <a:off x="5159520" y="1785960"/>
            <a:ext cx="3527280" cy="294480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6152"/>
          <p:cNvSpPr/>
          <p:nvPr/>
        </p:nvSpPr>
        <p:spPr>
          <a:xfrm>
            <a:off x="558720" y="56052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6151"/>
          <p:cNvSpPr/>
          <p:nvPr/>
        </p:nvSpPr>
        <p:spPr>
          <a:xfrm>
            <a:off x="1909440" y="5475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三：法治代替人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6152"/>
          <p:cNvSpPr/>
          <p:nvPr/>
        </p:nvSpPr>
        <p:spPr>
          <a:xfrm>
            <a:off x="685800" y="6872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6147"/>
          <p:cNvGrpSpPr/>
          <p:nvPr/>
        </p:nvGrpSpPr>
        <p:grpSpPr>
          <a:xfrm>
            <a:off x="615960" y="333360"/>
            <a:ext cx="2232000" cy="808560"/>
            <a:chOff x="615960" y="333360"/>
            <a:chExt cx="2232000" cy="808560"/>
          </a:xfrm>
        </p:grpSpPr>
        <p:sp>
          <p:nvSpPr>
            <p:cNvPr id="125" name="矩形 7"/>
            <p:cNvSpPr/>
            <p:nvPr/>
          </p:nvSpPr>
          <p:spPr>
            <a:xfrm>
              <a:off x="1175760" y="333360"/>
              <a:ext cx="1672200" cy="7632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16"/>
            <p:cNvSpPr/>
            <p:nvPr/>
          </p:nvSpPr>
          <p:spPr>
            <a:xfrm>
              <a:off x="615960" y="622080"/>
              <a:ext cx="524160" cy="4831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17"/>
            <p:cNvSpPr/>
            <p:nvPr/>
          </p:nvSpPr>
          <p:spPr>
            <a:xfrm>
              <a:off x="977760" y="57096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文本框 6152"/>
            <p:cNvSpPr/>
            <p:nvPr/>
          </p:nvSpPr>
          <p:spPr>
            <a:xfrm>
              <a:off x="615960" y="62136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99"/>
          <p:cNvSpPr/>
          <p:nvPr/>
        </p:nvSpPr>
        <p:spPr>
          <a:xfrm>
            <a:off x="361800" y="598320"/>
            <a:ext cx="84582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活动五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期待中的法治国家管理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同学们，让我们一起来做做下面的游戏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动主题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期待中的法治国家管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动步骤：请同学们自行组成几个小组，准备五类人员分工，并准备小纸片，写下你们分别要扮演的五个角色，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政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管理人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贩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执法人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警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社会成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要求先弄清自己的角色，按照角色进行对话表演，先在组内交流，再在班内展示，相互评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讨论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什么是法治？它的要求是什么？它的意义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100"/>
          <p:cNvSpPr/>
          <p:nvPr/>
        </p:nvSpPr>
        <p:spPr>
          <a:xfrm>
            <a:off x="708120" y="384120"/>
            <a:ext cx="75564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含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法治就是依法对国家和社会事务进行治理，强调依法治国、法律至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要求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任何组织和个人都要服从法律，遵守法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法办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意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法治是人们共同的生活方式，也是国家治理现代化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3" descr=""/>
          <p:cNvPicPr/>
          <p:nvPr/>
        </p:nvPicPr>
        <p:blipFill>
          <a:blip r:embed="rId1"/>
          <a:stretch/>
        </p:blipFill>
        <p:spPr>
          <a:xfrm>
            <a:off x="7381800" y="5180040"/>
            <a:ext cx="1490760" cy="124452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99"/>
          <p:cNvSpPr/>
          <p:nvPr/>
        </p:nvSpPr>
        <p:spPr>
          <a:xfrm>
            <a:off x="1386000" y="4227480"/>
            <a:ext cx="5995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法治就是依法对国家和社会事务进行治理。要求任何组织和个人都要服从法律，遵守法律，依法办事。法治是国家治理现代化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1" descr="gif011"/>
          <p:cNvPicPr/>
          <p:nvPr/>
        </p:nvPicPr>
        <p:blipFill>
          <a:blip r:embed="rId2"/>
          <a:stretch/>
        </p:blipFill>
        <p:spPr>
          <a:xfrm>
            <a:off x="366840" y="4873680"/>
            <a:ext cx="114300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文本框 100"/>
          <p:cNvSpPr/>
          <p:nvPr/>
        </p:nvSpPr>
        <p:spPr>
          <a:xfrm>
            <a:off x="676440" y="1263600"/>
            <a:ext cx="57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六：新中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法治历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6152"/>
          <p:cNvSpPr/>
          <p:nvPr/>
        </p:nvSpPr>
        <p:spPr>
          <a:xfrm>
            <a:off x="558720" y="56052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6151"/>
          <p:cNvSpPr/>
          <p:nvPr/>
        </p:nvSpPr>
        <p:spPr>
          <a:xfrm>
            <a:off x="2197800" y="5475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四：建设社会主义法治国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6152"/>
          <p:cNvSpPr/>
          <p:nvPr/>
        </p:nvSpPr>
        <p:spPr>
          <a:xfrm>
            <a:off x="685800" y="6872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6147"/>
          <p:cNvGrpSpPr/>
          <p:nvPr/>
        </p:nvGrpSpPr>
        <p:grpSpPr>
          <a:xfrm>
            <a:off x="615960" y="333360"/>
            <a:ext cx="2232000" cy="808560"/>
            <a:chOff x="615960" y="333360"/>
            <a:chExt cx="2232000" cy="808560"/>
          </a:xfrm>
        </p:grpSpPr>
        <p:sp>
          <p:nvSpPr>
            <p:cNvPr id="139" name="矩形 7"/>
            <p:cNvSpPr/>
            <p:nvPr/>
          </p:nvSpPr>
          <p:spPr>
            <a:xfrm>
              <a:off x="1175760" y="333360"/>
              <a:ext cx="1672200" cy="7632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任意多边形 16"/>
            <p:cNvSpPr/>
            <p:nvPr/>
          </p:nvSpPr>
          <p:spPr>
            <a:xfrm>
              <a:off x="615960" y="622080"/>
              <a:ext cx="524160" cy="4831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17"/>
            <p:cNvSpPr/>
            <p:nvPr/>
          </p:nvSpPr>
          <p:spPr>
            <a:xfrm>
              <a:off x="977760" y="57096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文本框 6152"/>
            <p:cNvSpPr/>
            <p:nvPr/>
          </p:nvSpPr>
          <p:spPr>
            <a:xfrm>
              <a:off x="615960" y="62136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文本框 1"/>
          <p:cNvSpPr/>
          <p:nvPr/>
        </p:nvSpPr>
        <p:spPr>
          <a:xfrm>
            <a:off x="2655720" y="580716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回眸新中国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6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法治历程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回眸新中国65年法治历程 141023 通天下_标清" descr=""/>
          <p:cNvPicPr/>
          <p:nvPr/>
        </p:nvPicPr>
        <p:blipFill>
          <a:blip r:embed="rId1"/>
          <a:stretch/>
        </p:blipFill>
        <p:spPr>
          <a:xfrm>
            <a:off x="1824120" y="1917720"/>
            <a:ext cx="5005440" cy="37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9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99"/>
          <p:cNvSpPr/>
          <p:nvPr/>
        </p:nvSpPr>
        <p:spPr>
          <a:xfrm>
            <a:off x="596880" y="463680"/>
            <a:ext cx="800424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我国社会主义法治建设的历程中有哪些重要的标志性事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提示：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95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日，通过了新中国第一部社会主义宪法。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②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98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日，第五届全国人大五次会议通过了我国现行宪法。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③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999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，我国宪法修正案明确规定，我国实行依法治国，建设社会主义法治国家。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1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，我国形成了中国特色社会主义法律体系。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1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党的十八届四中全会提出全面推进依法治国的总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6678720" y="4984920"/>
            <a:ext cx="2085840" cy="156528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4103"/>
          <p:cNvSpPr/>
          <p:nvPr/>
        </p:nvSpPr>
        <p:spPr>
          <a:xfrm>
            <a:off x="71280" y="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99"/>
          <p:cNvSpPr/>
          <p:nvPr/>
        </p:nvSpPr>
        <p:spPr>
          <a:xfrm>
            <a:off x="266760" y="555480"/>
            <a:ext cx="84978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阅读下列材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材料一：为保证广大人民群众能够放心购买各类消费品，市质监局出动执法人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9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次，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9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生产经营企业进行了检查。检查中，共立案查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3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起，其中大案要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起，查获涉案货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余万元；检查中发现的主要问题有：掺假，以次充好；标识标注无净含量；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无生产许可证生产；伪造、冒用厂名、厂址；伪造日期；棉花产品无中文标志；定量包装无厂名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材料二：张立兵、孙红等四人加工、销售黑心棉被、黑心棉垫子金额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多元，已涉嫌生产、销售伪劣产品罪，经检察院提起公诉，张立兵被人民法院判处有期徒刑六个月，其女张蒙蒙判处有期徒刑七个月，缓刑一年，妻子孙红被判处拘役六个月、女婿张大山有期徒刑六个月缓刑一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3" descr=""/>
          <p:cNvPicPr/>
          <p:nvPr/>
        </p:nvPicPr>
        <p:blipFill>
          <a:blip r:embed="rId1"/>
          <a:stretch/>
        </p:blipFill>
        <p:spPr>
          <a:xfrm>
            <a:off x="6153120" y="5149800"/>
            <a:ext cx="1492200" cy="124452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4" descr=""/>
          <p:cNvPicPr/>
          <p:nvPr/>
        </p:nvPicPr>
        <p:blipFill>
          <a:blip r:embed="rId2"/>
          <a:stretch/>
        </p:blipFill>
        <p:spPr>
          <a:xfrm>
            <a:off x="3825720" y="5149800"/>
            <a:ext cx="1492560" cy="124452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5" descr=""/>
          <p:cNvPicPr/>
          <p:nvPr/>
        </p:nvPicPr>
        <p:blipFill>
          <a:blip r:embed="rId3"/>
          <a:stretch/>
        </p:blipFill>
        <p:spPr>
          <a:xfrm>
            <a:off x="1633680" y="5149800"/>
            <a:ext cx="1490400" cy="124452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99"/>
          <p:cNvSpPr/>
          <p:nvPr/>
        </p:nvSpPr>
        <p:spPr>
          <a:xfrm>
            <a:off x="320760" y="736560"/>
            <a:ext cx="8524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建设社会主义法治国家的总目标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提示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建设中国特色社会主义法治体系，建设社会主义法治国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提出建设社会主义法治国家的总目标有什么重要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提示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法治助推中国梦的实现，是实现政治清明、社会公平、民心稳定、国家长治久安的必由之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99"/>
          <p:cNvSpPr/>
          <p:nvPr/>
        </p:nvSpPr>
        <p:spPr>
          <a:xfrm>
            <a:off x="496800" y="565200"/>
            <a:ext cx="82425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活动七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法律小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读一读下面的小故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多，张女士刚起床，就听见院里一片嘈杂：原来是他们院子一个老爷子由于年岁已高，反应稍慢，骑自行车稍稍碰了一条小狗，牵狗人不依不饶，非得逼老爷子赔偿。张女士看到情况就下了楼，问清了碰狗的时间后，对牵狗那人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，我们需要你出示合法的养犬证。第二，您遛狗的时间不对，有关法律规定是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以后至第二天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之前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了张女士的话，牵狗人也自觉理亏，搭讪了几句就走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文本框 99"/>
          <p:cNvSpPr/>
          <p:nvPr/>
        </p:nvSpPr>
        <p:spPr>
          <a:xfrm>
            <a:off x="353880" y="923760"/>
            <a:ext cx="8437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这个法律小故事告诉我们法律在生活中有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提示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在生活中形成的各种社会关系，以及由此产生的矛盾和纠纷，不仅需要依靠道德、亲情、友情来协调，而且需要法律来调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文本框 4103"/>
          <p:cNvSpPr/>
          <p:nvPr/>
        </p:nvSpPr>
        <p:spPr>
          <a:xfrm>
            <a:off x="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99"/>
          <p:cNvSpPr/>
          <p:nvPr/>
        </p:nvSpPr>
        <p:spPr>
          <a:xfrm>
            <a:off x="490680" y="758880"/>
            <a:ext cx="8200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通过这节课的学习，我们知道了法律就在我们身边；明白了法律与我们的生活息息相关；了解了法律的产生过程和法律的本质；懂得了法治是人们共同的生活方式，也是国家治理现代化的重要标志；明确了我国建设中国特色社会主义法治体系，建设社会主义法治国家的总目标。生活需要法律的保障，生活离不开法律，从今以后，我们要做到认真学法、懂法、自觉守法，做一个遵纪守法的小公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073742973" descr=""/>
          <p:cNvPicPr/>
          <p:nvPr/>
        </p:nvPicPr>
        <p:blipFill>
          <a:blip r:embed="rId1"/>
          <a:stretch/>
        </p:blipFill>
        <p:spPr>
          <a:xfrm>
            <a:off x="682560" y="785880"/>
            <a:ext cx="7545600" cy="527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文本框 4103"/>
          <p:cNvSpPr/>
          <p:nvPr/>
        </p:nvSpPr>
        <p:spPr>
          <a:xfrm>
            <a:off x="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C:\Users\ADMINI~1\AppData\Local\Temp\ksohtml\wps5F02.tmp.jpg"/>
          <p:cNvPicPr/>
          <p:nvPr/>
        </p:nvPicPr>
        <p:blipFill>
          <a:blip r:embed="rId1"/>
          <a:stretch/>
        </p:blipFill>
        <p:spPr>
          <a:xfrm>
            <a:off x="4572000" y="-152280"/>
            <a:ext cx="19080" cy="1908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100"/>
          <p:cNvSpPr/>
          <p:nvPr/>
        </p:nvSpPr>
        <p:spPr>
          <a:xfrm>
            <a:off x="930240" y="1220760"/>
            <a:ext cx="730260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说法正确的是（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只有违法的人才需要与法律打交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任何人都要与法律打交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守法的人在日常生活中不会与法律打交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未成年人年龄尚小不需要与法律打交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1" descr=""/>
          <p:cNvPicPr/>
          <p:nvPr/>
        </p:nvPicPr>
        <p:blipFill>
          <a:blip r:embed="rId2"/>
          <a:stretch/>
        </p:blipFill>
        <p:spPr>
          <a:xfrm>
            <a:off x="4683240" y="1428840"/>
            <a:ext cx="655560" cy="453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文本框 100"/>
          <p:cNvSpPr/>
          <p:nvPr/>
        </p:nvSpPr>
        <p:spPr>
          <a:xfrm>
            <a:off x="816120" y="984240"/>
            <a:ext cx="7786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律通过规定人们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规范全体社会成员的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权利和义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道德与责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生活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社会秩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1" descr=""/>
          <p:cNvPicPr/>
          <p:nvPr/>
        </p:nvPicPr>
        <p:blipFill>
          <a:blip r:embed="rId1"/>
          <a:stretch/>
        </p:blipFill>
        <p:spPr>
          <a:xfrm>
            <a:off x="2827440" y="1892160"/>
            <a:ext cx="627120" cy="5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100"/>
          <p:cNvSpPr/>
          <p:nvPr/>
        </p:nvSpPr>
        <p:spPr>
          <a:xfrm>
            <a:off x="816120" y="984240"/>
            <a:ext cx="7786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律所体现的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奴隶主阶级的意志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地主阶级的意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资产阶级的意志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统治阶级的意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1" descr=""/>
          <p:cNvPicPr/>
          <p:nvPr/>
        </p:nvPicPr>
        <p:blipFill>
          <a:blip r:embed="rId1"/>
          <a:stretch/>
        </p:blipFill>
        <p:spPr>
          <a:xfrm>
            <a:off x="4257720" y="1160640"/>
            <a:ext cx="62856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100"/>
          <p:cNvSpPr/>
          <p:nvPr/>
        </p:nvSpPr>
        <p:spPr>
          <a:xfrm>
            <a:off x="816120" y="984240"/>
            <a:ext cx="7786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中国特色社会主义法治体系，建设社会主义法治国家”是依法治国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本质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根本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基本要求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总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6081840" y="1812960"/>
            <a:ext cx="62676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99"/>
          <p:cNvSpPr/>
          <p:nvPr/>
        </p:nvSpPr>
        <p:spPr>
          <a:xfrm>
            <a:off x="287280" y="893880"/>
            <a:ext cx="8417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想一想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材料表明了法律怎样保护我们的生活？法律与我们的生活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提示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学们可以从法律的作用、执法管理、百姓生活等不同的角度思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"/>
          <p:cNvSpPr/>
          <p:nvPr/>
        </p:nvSpPr>
        <p:spPr>
          <a:xfrm>
            <a:off x="1401840" y="3841920"/>
            <a:ext cx="743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法律是治理国家的重器，为我们的成长提供文明有序、安全稳定的空间。法律与我们的生活密切相关，这一节课就让我们共同来探讨法律与生活的关系这个话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" descr="gif011"/>
          <p:cNvPicPr/>
          <p:nvPr/>
        </p:nvPicPr>
        <p:blipFill>
          <a:blip r:embed="rId1"/>
          <a:stretch/>
        </p:blipFill>
        <p:spPr>
          <a:xfrm>
            <a:off x="250920" y="4365720"/>
            <a:ext cx="114300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4"/>
          <p:cNvSpPr/>
          <p:nvPr/>
        </p:nvSpPr>
        <p:spPr>
          <a:xfrm>
            <a:off x="4000680" y="71280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学习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users\administrator\appdata\roaming\360se6\User Data\temp\t01af057eabdd6f97a6.jpg"/>
          <p:cNvPicPr/>
          <p:nvPr/>
        </p:nvPicPr>
        <p:blipFill>
          <a:blip r:embed="rId1"/>
          <a:stretch/>
        </p:blipFill>
        <p:spPr>
          <a:xfrm>
            <a:off x="212760" y="5286240"/>
            <a:ext cx="1214280" cy="92880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1428840" y="1378080"/>
            <a:ext cx="6750000" cy="4525920"/>
          </a:xfrm>
          <a:prstGeom prst="rect">
            <a:avLst/>
          </a:prstGeom>
          <a:solidFill>
            <a:srgbClr val="fbe5d6"/>
          </a:soli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"/>
          <p:cNvSpPr/>
          <p:nvPr/>
        </p:nvSpPr>
        <p:spPr>
          <a:xfrm>
            <a:off x="1589040" y="1574640"/>
            <a:ext cx="632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知道生活需要法律保障，人的一生与法律相伴；了解法律产生的过程；体会法律对生活的作用，认识生活与法律的关系；了解我国法治建设的发展历程，懂得依法治国的重要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对生活与法律关系的学习，能够体会法律在社会生活中的作用；通过对法治的学习和思考，提高学生对问题的理解能力和归纳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激发学生学习法律知识的兴趣；学会尊重法律，遵守法律，初步树立法治意识和法律观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6152"/>
          <p:cNvSpPr/>
          <p:nvPr/>
        </p:nvSpPr>
        <p:spPr>
          <a:xfrm>
            <a:off x="325440" y="69372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6147"/>
          <p:cNvGrpSpPr/>
          <p:nvPr/>
        </p:nvGrpSpPr>
        <p:grpSpPr>
          <a:xfrm>
            <a:off x="325440" y="406440"/>
            <a:ext cx="2232000" cy="808200"/>
            <a:chOff x="325440" y="406440"/>
            <a:chExt cx="2232000" cy="808200"/>
          </a:xfrm>
        </p:grpSpPr>
        <p:sp>
          <p:nvSpPr>
            <p:cNvPr id="60" name="矩形 7"/>
            <p:cNvSpPr/>
            <p:nvPr/>
          </p:nvSpPr>
          <p:spPr>
            <a:xfrm>
              <a:off x="885240" y="40644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任意多边形 16"/>
            <p:cNvSpPr/>
            <p:nvPr/>
          </p:nvSpPr>
          <p:spPr>
            <a:xfrm>
              <a:off x="325440" y="6948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17"/>
            <p:cNvSpPr/>
            <p:nvPr/>
          </p:nvSpPr>
          <p:spPr>
            <a:xfrm>
              <a:off x="687240" y="6440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文本框 6152"/>
            <p:cNvSpPr/>
            <p:nvPr/>
          </p:nvSpPr>
          <p:spPr>
            <a:xfrm>
              <a:off x="325440" y="69408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文本框 6151"/>
          <p:cNvSpPr/>
          <p:nvPr/>
        </p:nvSpPr>
        <p:spPr>
          <a:xfrm>
            <a:off x="3208680" y="6811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一：生活与法律息息相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103"/>
          <p:cNvSpPr/>
          <p:nvPr/>
        </p:nvSpPr>
        <p:spPr>
          <a:xfrm>
            <a:off x="14292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新课探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00"/>
          <p:cNvSpPr/>
          <p:nvPr/>
        </p:nvSpPr>
        <p:spPr>
          <a:xfrm>
            <a:off x="325440" y="1212840"/>
            <a:ext cx="533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1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日，十二届全国人大常委会第二十四次会议在北京举行，一大波法律等着本次会议来审议：民法总则草案二审稿，增加个人信息保护内容；未成年人受到性侵害的诉讼时效改变，自受害人年满十八周岁之日起计算；红十字会法草案二审稿，规定红十字会应当建立健全信息公开制度；电影产业促进法草案三审稿，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增加国家支持创作、摄制“传播中华优秀文化”的电影；民办教育促进法修正案草案三审稿，规定不得设立实施义务教育的营利性民办学校；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"/>
          <p:cNvSpPr/>
          <p:nvPr/>
        </p:nvSpPr>
        <p:spPr>
          <a:xfrm>
            <a:off x="5581800" y="4911840"/>
            <a:ext cx="23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根据上述材料，谈谈生活与法律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2" descr=""/>
          <p:cNvPicPr/>
          <p:nvPr/>
        </p:nvPicPr>
        <p:blipFill>
          <a:blip r:embed="rId1"/>
          <a:stretch/>
        </p:blipFill>
        <p:spPr>
          <a:xfrm>
            <a:off x="5483160" y="1333440"/>
            <a:ext cx="303840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99"/>
          <p:cNvSpPr/>
          <p:nvPr/>
        </p:nvSpPr>
        <p:spPr>
          <a:xfrm>
            <a:off x="447840" y="598320"/>
            <a:ext cx="81406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法律与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活动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与法律息息相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同学们翻开课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8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读一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运用你的经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栏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想一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图片中有哪些法律？能再列举一些与我们生活密切相关的法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提示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老年人权益保障法、义务教育法、环境保护法。食品安全法、建筑法、道路交通安全法、治安管理处罚法、婚姻法、未成年人保护法、大气污染防治法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99"/>
          <p:cNvSpPr/>
          <p:nvPr/>
        </p:nvSpPr>
        <p:spPr>
          <a:xfrm>
            <a:off x="447840" y="455760"/>
            <a:ext cx="81406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如果没有这些法律，我们的生活会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提示：如果没有法律，就像道路没有交通信号灯一样，车会横冲直撞，交通瘫痪，安全事故频发。如果没有法律，社会生活就会没有秩序，人类随心所欲，带来的是自己的灭顶之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341280" y="4359240"/>
            <a:ext cx="86025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如何理解生活与法律息息相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提示：生活中的各种社会关系，不仅需要依靠道德、亲情、友情来协调，而且需要法律来调整。法律不仅服务于人们的当前生活，而且指导着人们未来的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1" descr="gif011"/>
          <p:cNvPicPr/>
          <p:nvPr/>
        </p:nvPicPr>
        <p:blipFill>
          <a:blip r:embed="rId1"/>
          <a:stretch/>
        </p:blipFill>
        <p:spPr>
          <a:xfrm>
            <a:off x="449280" y="3105000"/>
            <a:ext cx="1143000" cy="128592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2"/>
          <p:cNvSpPr/>
          <p:nvPr/>
        </p:nvSpPr>
        <p:spPr>
          <a:xfrm>
            <a:off x="3872880" y="3362400"/>
            <a:ext cx="354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生活需要法律，生活离不开法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99"/>
          <p:cNvSpPr/>
          <p:nvPr/>
        </p:nvSpPr>
        <p:spPr>
          <a:xfrm>
            <a:off x="441360" y="598320"/>
            <a:ext cx="825192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法律与个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活动二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权利义务相伴一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阅读下列材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华参军前是个勤奋学习的学生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1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复员后到电厂工作，由于工作努力，又被评为县人大代表。他每月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钱给乡下年迈的父母，并自觉交纳个人收入调节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材料中的李华享有了哪些权利？履行了哪些义务？将下面的表格填写完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365120" y="512640"/>
          <a:ext cx="6194520" cy="3863880"/>
        </p:xfrm>
        <a:graphic>
          <a:graphicData uri="http://schemas.openxmlformats.org/drawingml/2006/table">
            <a:tbl>
              <a:tblPr/>
              <a:tblGrid>
                <a:gridCol w="2220840"/>
                <a:gridCol w="1892520"/>
                <a:gridCol w="2081160"/>
              </a:tblGrid>
              <a:tr h="73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李华的经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享有的权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履行的义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勤奋学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参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厂工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被评为县人大代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觉交纳个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文本框 99"/>
          <p:cNvSpPr/>
          <p:nvPr/>
        </p:nvSpPr>
        <p:spPr>
          <a:xfrm>
            <a:off x="1120680" y="4454640"/>
            <a:ext cx="775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想一想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法律与个人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在我国，我们一生都享有法律规定的各项权利，同时必须履行法律规定的各项义务。法律规定的权利和义务为我们每个人提供了自由生存和发展的空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"/>
          <p:cNvSpPr/>
          <p:nvPr/>
        </p:nvSpPr>
        <p:spPr>
          <a:xfrm>
            <a:off x="3849840" y="1360440"/>
            <a:ext cx="13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受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"/>
          <p:cNvSpPr/>
          <p:nvPr/>
        </p:nvSpPr>
        <p:spPr>
          <a:xfrm>
            <a:off x="5842080" y="1343160"/>
            <a:ext cx="13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受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3"/>
          <p:cNvSpPr/>
          <p:nvPr/>
        </p:nvSpPr>
        <p:spPr>
          <a:xfrm>
            <a:off x="5575320" y="1973160"/>
            <a:ext cx="19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依法服兵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"/>
          <p:cNvSpPr/>
          <p:nvPr/>
        </p:nvSpPr>
        <p:spPr>
          <a:xfrm>
            <a:off x="4029120" y="2530440"/>
            <a:ext cx="12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劳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"/>
          <p:cNvSpPr/>
          <p:nvPr/>
        </p:nvSpPr>
        <p:spPr>
          <a:xfrm>
            <a:off x="6045120" y="2514600"/>
            <a:ext cx="9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劳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6"/>
          <p:cNvSpPr/>
          <p:nvPr/>
        </p:nvSpPr>
        <p:spPr>
          <a:xfrm>
            <a:off x="3516480" y="3000240"/>
            <a:ext cx="19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选举权和被选举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7"/>
          <p:cNvSpPr/>
          <p:nvPr/>
        </p:nvSpPr>
        <p:spPr>
          <a:xfrm>
            <a:off x="5653080" y="3916440"/>
            <a:ext cx="17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依法纳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" descr="gif011"/>
          <p:cNvPicPr/>
          <p:nvPr/>
        </p:nvPicPr>
        <p:blipFill>
          <a:blip r:embed="rId1"/>
          <a:stretch/>
        </p:blipFill>
        <p:spPr>
          <a:xfrm>
            <a:off x="66600" y="4995720"/>
            <a:ext cx="114300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1T03:04:23Z</dcterms:created>
  <dc:creator/>
  <dc:description/>
  <dc:language>en-US</dc:language>
  <cp:lastModifiedBy>Administrator</cp:lastModifiedBy>
  <dcterms:modified xsi:type="dcterms:W3CDTF">2019-01-11T03:04:2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