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7E1-28B4-4C0E-AEF5-0C9DD096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CD7-7140-4617-8FF1-8CFE92E7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3DE-BFFD-4A77-8F51-BBA2C48A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38F-8097-4B79-8C1E-1A9DA52E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A44-BFF0-47D8-9753-30EEA7E1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460-FB9D-4ED3-815A-C63176F6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FE2-F383-4236-9E4D-1D4C112D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91A-DF2E-4AAD-AB3A-18EB4E3E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7DE-61DF-48A7-9BCD-4BC015EE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225-E6FF-48F3-A612-A200054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29D-1867-4C2A-ADD3-87603AC9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555-1222-4FB9-BFF9-FFEB54CE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132D-3045-4E2C-8C8B-341063DCB270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8069-A3E8-4254-9599-52B72895847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526080"/>
            <a:ext cx="9144000" cy="331920"/>
          </a:xfrm>
          <a:prstGeom prst="flowChartProcess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图片1"/>
          <p:cNvPicPr/>
          <p:nvPr/>
        </p:nvPicPr>
        <p:blipFill>
          <a:blip r:embed="rId1"/>
          <a:stretch/>
        </p:blipFill>
        <p:spPr>
          <a:xfrm>
            <a:off x="644400" y="5392800"/>
            <a:ext cx="7694640" cy="9428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733320" y="2293920"/>
            <a:ext cx="792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单元   青春时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课    青春的证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132000" y="404496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课时  青春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99"/>
          <p:cNvSpPr/>
          <p:nvPr/>
        </p:nvSpPr>
        <p:spPr>
          <a:xfrm>
            <a:off x="158760" y="6634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47520" y="1211400"/>
            <a:ext cx="892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轮椅姑娘李玉川给我们带来什么震撼？从她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学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"/>
          <p:cNvSpPr/>
          <p:nvPr/>
        </p:nvSpPr>
        <p:spPr>
          <a:xfrm>
            <a:off x="1249200" y="2255760"/>
            <a:ext cx="750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李玉川遭遇事故导致高位截瘫，但她没有放弃梦想，克服各种困难，考取了国内绘画艺术最顶尖的学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央美术学院，又考取了中央美术学院的公费研究生。这让我们看到自强不息的李玉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"/>
          <p:cNvSpPr/>
          <p:nvPr/>
        </p:nvSpPr>
        <p:spPr>
          <a:xfrm>
            <a:off x="1025640" y="458640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使我们懂得要自强，不向命运低头。自信、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强使自己的青春无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99"/>
          <p:cNvSpPr/>
          <p:nvPr/>
        </p:nvSpPr>
        <p:spPr>
          <a:xfrm>
            <a:off x="247680" y="21286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青春为什么需要自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1149480" y="2857680"/>
            <a:ext cx="723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自强，让青春奋进的步伐永不停息。不断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服自己的弱点，战胜自己、超越自己，是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强的重要内容。自强，要靠坚强的意志、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取的精神和持久的坚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99"/>
          <p:cNvSpPr/>
          <p:nvPr/>
        </p:nvSpPr>
        <p:spPr>
          <a:xfrm>
            <a:off x="958680" y="336600"/>
            <a:ext cx="74739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进步，表现在时时、处处、事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动学习，积极思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学有效沟通，顺畅表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会调节自己的情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20520" y="2349360"/>
            <a:ext cx="889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反思一下，这些进步能否给你带来自信？与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交流，找到能让自己增强自信的方法，并在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尝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"/>
          <p:cNvSpPr/>
          <p:nvPr/>
        </p:nvSpPr>
        <p:spPr>
          <a:xfrm>
            <a:off x="878040" y="3679920"/>
            <a:ext cx="80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。帮助朋友解决困难；把生活中不开心的事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录下来；做让自己开心的事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"/>
          <p:cNvSpPr/>
          <p:nvPr/>
        </p:nvSpPr>
        <p:spPr>
          <a:xfrm>
            <a:off x="209520" y="4721400"/>
            <a:ext cx="87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自强可以让我们更自信。我们的每一点进步，都是成长的足迹，印记着我们克服惰性、抵制诱惑、战胜自我的努力。相信自己，勇敢尝试，不断进步，才能体验成功带来的自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"/>
          <p:cNvSpPr/>
          <p:nvPr/>
        </p:nvSpPr>
        <p:spPr>
          <a:xfrm>
            <a:off x="228600" y="615960"/>
            <a:ext cx="860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日之责任，不在他人，而全在我少年，少年智则国智，少年强则国强，少年进步则国进步，少年胜于欧洲则国胜于欧洲，少年雄于地球则国雄于地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梁启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"/>
          <p:cNvSpPr/>
          <p:nvPr/>
        </p:nvSpPr>
        <p:spPr>
          <a:xfrm>
            <a:off x="399960" y="2579760"/>
            <a:ext cx="59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思考：你对这段话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1301760" y="3125880"/>
            <a:ext cx="72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青春期的我们要坚持自信自强，勇于承担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081f"/>
                </a:solidFill>
                <a:latin typeface="方正楷体简体"/>
                <a:ea typeface="方正楷体简体"/>
              </a:rPr>
              <a:t>史重任，肩负起祖国的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473040" y="4435560"/>
            <a:ext cx="84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对于青春期的我们，有很多梦想等着我们去实现，美好的未来需要我们去创造。激荡的青春活力，自信的青春热情，自强的青春态度，会给我们飞翔的翅膀，助力青春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073742904" descr=""/>
          <p:cNvPicPr/>
          <p:nvPr/>
        </p:nvPicPr>
        <p:blipFill>
          <a:blip r:embed="rId1"/>
          <a:stretch/>
        </p:blipFill>
        <p:spPr>
          <a:xfrm>
            <a:off x="1090440" y="1646280"/>
            <a:ext cx="7263000" cy="357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C:\Users\ADMINI~1\AppData\Local\Temp\ksohtml\wps5F02.tmp.jpg"/>
          <p:cNvPicPr/>
          <p:nvPr/>
        </p:nvPicPr>
        <p:blipFill>
          <a:blip r:embed="rId1"/>
          <a:stretch/>
        </p:blipFill>
        <p:spPr>
          <a:xfrm>
            <a:off x="4572000" y="-15228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2"/>
          <p:cNvSpPr/>
          <p:nvPr/>
        </p:nvSpPr>
        <p:spPr>
          <a:xfrm>
            <a:off x="206280" y="709560"/>
            <a:ext cx="86900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春的探索需要自信。”对这句话认识正确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信让我们充满激情  ②有了自信，我们才能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着坚定的信心和希望，开始伟大而光荣的事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了自信就有了一切  ④自信的人有勇气交往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达，有信心尝试与坚持，能够展现优势与才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激发潜能与活力，获得更多的实践机会与创造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①②            B.①③④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①②③④        D.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7715160" y="135108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2"/>
          <p:cNvSpPr/>
          <p:nvPr/>
        </p:nvSpPr>
        <p:spPr>
          <a:xfrm>
            <a:off x="227160" y="1209600"/>
            <a:ext cx="8631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天行健，君子以自强不息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强      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可以让我们更自信  ②自强让青春奋进的步伐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止息  ③能不断克服自己的弱点，战胜自己、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越自己  ④会给我们飞翔的翅膀，助力青春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①②            B.①③④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.①②③④        D.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"/>
          <p:cNvSpPr/>
          <p:nvPr/>
        </p:nvSpPr>
        <p:spPr>
          <a:xfrm>
            <a:off x="7691400" y="125424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103"/>
          <p:cNvSpPr/>
          <p:nvPr/>
        </p:nvSpPr>
        <p:spPr>
          <a:xfrm>
            <a:off x="71280" y="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1116000" y="81108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有人说，青春是泪水；有人说，青春是任性；有人说，青春是无悔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1122480" y="5113440"/>
            <a:ext cx="701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这一节课就让我们一起来探讨“青春飞扬”的话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863640" y="237024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：你认为什么是青春？你会用哪些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语描述青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955800" y="3736800"/>
            <a:ext cx="71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纠结、梦想、莽撞、遗憾、美好、勇气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4"/>
          <p:cNvSpPr/>
          <p:nvPr/>
        </p:nvSpPr>
        <p:spPr>
          <a:xfrm>
            <a:off x="4000680" y="1000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1973160" y="1736640"/>
            <a:ext cx="5761080" cy="3384720"/>
          </a:xfrm>
          <a:prstGeom prst="rect">
            <a:avLst/>
          </a:prstGeom>
          <a:solidFill>
            <a:srgbClr val="fbe5d6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2417760" y="2805120"/>
            <a:ext cx="474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解青春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掌握青春的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6152"/>
          <p:cNvSpPr/>
          <p:nvPr/>
        </p:nvSpPr>
        <p:spPr>
          <a:xfrm>
            <a:off x="325440" y="6937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6147"/>
          <p:cNvGrpSpPr/>
          <p:nvPr/>
        </p:nvGrpSpPr>
        <p:grpSpPr>
          <a:xfrm>
            <a:off x="325440" y="406440"/>
            <a:ext cx="2232000" cy="808200"/>
            <a:chOff x="325440" y="406440"/>
            <a:chExt cx="2232000" cy="808200"/>
          </a:xfrm>
        </p:grpSpPr>
        <p:sp>
          <p:nvSpPr>
            <p:cNvPr id="56" name="矩形 7"/>
            <p:cNvSpPr/>
            <p:nvPr/>
          </p:nvSpPr>
          <p:spPr>
            <a:xfrm>
              <a:off x="88524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16"/>
            <p:cNvSpPr/>
            <p:nvPr/>
          </p:nvSpPr>
          <p:spPr>
            <a:xfrm>
              <a:off x="32544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7"/>
            <p:cNvSpPr/>
            <p:nvPr/>
          </p:nvSpPr>
          <p:spPr>
            <a:xfrm>
              <a:off x="68724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6152"/>
            <p:cNvSpPr/>
            <p:nvPr/>
          </p:nvSpPr>
          <p:spPr>
            <a:xfrm>
              <a:off x="32544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6151"/>
          <p:cNvSpPr/>
          <p:nvPr/>
        </p:nvSpPr>
        <p:spPr>
          <a:xfrm>
            <a:off x="2493720" y="681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一：成长的渴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412920" y="164952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一：描述青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5"/>
          <p:cNvSpPr/>
          <p:nvPr/>
        </p:nvSpPr>
        <p:spPr>
          <a:xfrm>
            <a:off x="723960" y="26924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说出描述青春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6"/>
          <p:cNvSpPr/>
          <p:nvPr/>
        </p:nvSpPr>
        <p:spPr>
          <a:xfrm>
            <a:off x="820800" y="3651120"/>
            <a:ext cx="79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青春的词典里，独立、自由、理想、信念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些词语具有特别的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3"/>
          <p:cNvSpPr/>
          <p:nvPr/>
        </p:nvSpPr>
        <p:spPr>
          <a:xfrm>
            <a:off x="609480" y="853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：你对青春有什么渴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887400" y="1881360"/>
            <a:ext cx="71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翱翔、梦想飞扬、浪漫的爱情、激荡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1012680" y="343836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面对青春，每个人会有不同的憧憬，形成不同的理想，规划青春路径，思考自己如何走过青春之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6152"/>
          <p:cNvSpPr/>
          <p:nvPr/>
        </p:nvSpPr>
        <p:spPr>
          <a:xfrm>
            <a:off x="558720" y="5605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151"/>
          <p:cNvSpPr/>
          <p:nvPr/>
        </p:nvSpPr>
        <p:spPr>
          <a:xfrm>
            <a:off x="1837440" y="5475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二：飞翔的力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6152"/>
          <p:cNvSpPr/>
          <p:nvPr/>
        </p:nvSpPr>
        <p:spPr>
          <a:xfrm>
            <a:off x="685800" y="6872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6147"/>
          <p:cNvGrpSpPr/>
          <p:nvPr/>
        </p:nvGrpSpPr>
        <p:grpSpPr>
          <a:xfrm>
            <a:off x="615960" y="333360"/>
            <a:ext cx="2232000" cy="808200"/>
            <a:chOff x="615960" y="333360"/>
            <a:chExt cx="2232000" cy="808200"/>
          </a:xfrm>
        </p:grpSpPr>
        <p:sp>
          <p:nvSpPr>
            <p:cNvPr id="72" name="矩形 7"/>
            <p:cNvSpPr/>
            <p:nvPr/>
          </p:nvSpPr>
          <p:spPr>
            <a:xfrm>
              <a:off x="1175760" y="33336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6"/>
            <p:cNvSpPr/>
            <p:nvPr/>
          </p:nvSpPr>
          <p:spPr>
            <a:xfrm>
              <a:off x="615960" y="62172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7"/>
            <p:cNvSpPr/>
            <p:nvPr/>
          </p:nvSpPr>
          <p:spPr>
            <a:xfrm>
              <a:off x="977760" y="57096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6152"/>
            <p:cNvSpPr/>
            <p:nvPr/>
          </p:nvSpPr>
          <p:spPr>
            <a:xfrm>
              <a:off x="615960" y="62100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文本框 3"/>
          <p:cNvSpPr/>
          <p:nvPr/>
        </p:nvSpPr>
        <p:spPr>
          <a:xfrm>
            <a:off x="412920" y="114768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二：展开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2" descr=""/>
          <p:cNvPicPr/>
          <p:nvPr/>
        </p:nvPicPr>
        <p:blipFill>
          <a:blip r:embed="rId1"/>
          <a:stretch/>
        </p:blipFill>
        <p:spPr>
          <a:xfrm>
            <a:off x="2058840" y="2516040"/>
            <a:ext cx="4970520" cy="28051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4"/>
          <p:cNvSpPr/>
          <p:nvPr/>
        </p:nvSpPr>
        <p:spPr>
          <a:xfrm>
            <a:off x="755640" y="178272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想象你是一只振翅欲飞的雄鹰，应该拥有怎样的羽翼才能独立飞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5"/>
          <p:cNvSpPr/>
          <p:nvPr/>
        </p:nvSpPr>
        <p:spPr>
          <a:xfrm>
            <a:off x="755640" y="527220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大家写了很多词语，比如自信、自尊、自强等。我们现在看看它们能不能使我们展开翅膀翱翔于蓝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6"/>
          <p:cNvSpPr/>
          <p:nvPr/>
        </p:nvSpPr>
        <p:spPr>
          <a:xfrm>
            <a:off x="230040" y="1081080"/>
            <a:ext cx="8606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人从小就失去了自信，源于常常有大人们训斥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孩子太笨了，将来没有什么出息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久而久之，他就会自己认可了，碰到小失败就会自我安慰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正我很笨，我是不会完成的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他的青春年华就少了一份快乐，多了几分悲伤。但有些人就具备了自信，无论是别人的贬低，还是碰钉子，他总会保持一种自信的心态，相信自己，所以他历尽千辛去攻克，拼尽全力去改变，终于他的努力，造就了成功，也尝到了自信的甜头，后来，自信便一直陪伴着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3"/>
          <p:cNvSpPr/>
          <p:nvPr/>
        </p:nvSpPr>
        <p:spPr>
          <a:xfrm>
            <a:off x="412920" y="71748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活动三：你选择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384120" y="145080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你会向他们谁学习？说说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"/>
          <p:cNvSpPr/>
          <p:nvPr/>
        </p:nvSpPr>
        <p:spPr>
          <a:xfrm>
            <a:off x="1077840" y="2120760"/>
            <a:ext cx="76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那些具备自信的人学习。生活中，我们因为有自信才有勇气，才能坚持，创造奇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453960" y="323208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春为什么需要自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1098720" y="386064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自信让我们充满激情。有了自信，我们才能怀有坚定的信心和希望，开始伟大而光荣的事业。自信的人有勇气交往与表达，有信心尝试与坚持，能够展现优势与才华，激发潜能与活力，获得更多的实践机会与创造可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3"/>
          <p:cNvSpPr/>
          <p:nvPr/>
        </p:nvSpPr>
        <p:spPr>
          <a:xfrm>
            <a:off x="230040" y="628560"/>
            <a:ext cx="86202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轮椅姑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李玉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时充满阳光与快乐的李玉川因一次事故导致全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骨折，高位截瘫，只能与病床和轮椅相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画是我从小的爱好，虽然身体残疾了，但我不甘心就这么放弃。所以，即使再苦再累，我都必须坚持下去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玉川告诉记者，为了画画，她坚持积极治疗。只要有时间，她就会练画画，因为那是她的梦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身体的缘故，李玉川没法天天去学校，几乎靠自学，但她的成绩一直优秀。十多年来，她先后辗转北京、江西、山西等地治疗。其间，一直有很多热心人士帮助和资助她。在求学的第四年，按照有关规定，李玉川取得了北京的学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向命运低头的李玉川，以常人难以想象的毅力自学完成了中学的课程，并考取了国内绘画艺术最顶尖的学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央美术学院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中央美术学院给了她一份宝贵的录取通知书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玉川又考取了中央美术学院的公费研究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1T01:30:44Z</dcterms:created>
  <dc:creator/>
  <dc:description/>
  <dc:language>en-US</dc:language>
  <cp:lastModifiedBy>Administrator</cp:lastModifiedBy>
  <dcterms:modified xsi:type="dcterms:W3CDTF">2019-01-11T01:30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