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11.jpeg" ContentType="image/jpeg"/>
  <Override PartName="/ppt/media/image15.gif" ContentType="image/gif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9C8-1DCA-45A2-A954-B539ED8B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58E-6B15-47EC-823A-677F8010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07D-EBCB-4872-A03D-4650F5A7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E05-53DD-4F29-91E7-D3D70C1E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A03-9E22-48A9-9395-EE58BBBC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F12-E925-40B0-8883-D64EDCD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90B-4216-4CBA-AFAC-CC6DBB6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075-4BC6-4AA9-B75C-00440EA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F79-71EB-421A-BB3F-3141478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923-57E6-45EB-8BC2-C34F9DB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25F-6634-45A3-AFC6-F7F5BC8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C46-41A0-4D68-B804-C138DB58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1673-60A9-41F1-94F4-21313A053E7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E0AB-13BE-45DE-8F72-367F63A743F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图片1"/>
          <p:cNvPicPr/>
          <p:nvPr/>
        </p:nvPicPr>
        <p:blipFill>
          <a:blip r:embed="rId1"/>
          <a:stretch/>
        </p:blipFill>
        <p:spPr>
          <a:xfrm>
            <a:off x="723960" y="5052960"/>
            <a:ext cx="7694640" cy="9432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7"/>
          <p:cNvSpPr/>
          <p:nvPr/>
        </p:nvSpPr>
        <p:spPr>
          <a:xfrm>
            <a:off x="0" y="6526080"/>
            <a:ext cx="9144000" cy="331920"/>
          </a:xfrm>
          <a:prstGeom prst="flowChartProcess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33320" y="2293920"/>
            <a:ext cx="792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单元   青春时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课    青春的邀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2643120" y="375768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课时  悄悄变化的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SubTitle_1"/>
          <p:cNvSpPr/>
          <p:nvPr/>
        </p:nvSpPr>
        <p:spPr>
          <a:xfrm>
            <a:off x="69696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2"/>
          <p:cNvSpPr/>
          <p:nvPr/>
        </p:nvSpPr>
        <p:spPr>
          <a:xfrm>
            <a:off x="269892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3"/>
          <p:cNvSpPr/>
          <p:nvPr/>
        </p:nvSpPr>
        <p:spPr>
          <a:xfrm>
            <a:off x="470700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SubTitle_4"/>
          <p:cNvSpPr/>
          <p:nvPr/>
        </p:nvSpPr>
        <p:spPr>
          <a:xfrm>
            <a:off x="6718320" y="520056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4"/>
          <p:cNvSpPr/>
          <p:nvPr/>
        </p:nvSpPr>
        <p:spPr>
          <a:xfrm>
            <a:off x="328680" y="723960"/>
            <a:ext cx="58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7030a0"/>
                </a:solidFill>
                <a:latin typeface="隶书"/>
                <a:ea typeface="隶书"/>
              </a:rPr>
              <a:t>三</a:t>
            </a:r>
            <a:r>
              <a:rPr b="0" lang="en-US" sz="3600" spc="-1" strike="noStrike">
                <a:solidFill>
                  <a:srgbClr val="7030a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隶书"/>
                <a:ea typeface="隶书"/>
              </a:rPr>
              <a:t>正确对待生理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u=1069470995,31201068&amp;fm=23&amp;gp=0"/>
          <p:cNvPicPr/>
          <p:nvPr/>
        </p:nvPicPr>
        <p:blipFill>
          <a:blip r:embed="rId1"/>
          <a:stretch/>
        </p:blipFill>
        <p:spPr>
          <a:xfrm>
            <a:off x="480960" y="1528920"/>
            <a:ext cx="2063880" cy="1890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e09fc9ea15ce36d3a8c5a93339f33a87e850b19e"/>
          <p:cNvPicPr/>
          <p:nvPr/>
        </p:nvPicPr>
        <p:blipFill>
          <a:blip r:embed="rId2"/>
          <a:stretch/>
        </p:blipFill>
        <p:spPr>
          <a:xfrm>
            <a:off x="2612880" y="1295280"/>
            <a:ext cx="1589400" cy="21243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Img221788295"/>
          <p:cNvPicPr/>
          <p:nvPr/>
        </p:nvPicPr>
        <p:blipFill>
          <a:blip r:embed="rId3"/>
          <a:stretch/>
        </p:blipFill>
        <p:spPr>
          <a:xfrm>
            <a:off x="4349880" y="1295280"/>
            <a:ext cx="1100160" cy="2157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176090555"/>
          <p:cNvPicPr/>
          <p:nvPr/>
        </p:nvPicPr>
        <p:blipFill>
          <a:blip r:embed="rId4"/>
          <a:stretch/>
        </p:blipFill>
        <p:spPr>
          <a:xfrm>
            <a:off x="5614920" y="1295280"/>
            <a:ext cx="1387440" cy="21528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"/>
          <p:cNvSpPr/>
          <p:nvPr/>
        </p:nvSpPr>
        <p:spPr>
          <a:xfrm>
            <a:off x="328680" y="3813120"/>
            <a:ext cx="819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青春期里，部分同学生理变化带来的一些烦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如：①我的个子怎么没有别人高。②我不想出门了，脸上长了痘痘，难看死了。③体重又涨了，我不能再吃饭了，我要减肥。④我不敢在公共场所说话了，我的声音可难听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0"/>
          <p:cNvSpPr/>
          <p:nvPr/>
        </p:nvSpPr>
        <p:spPr>
          <a:xfrm>
            <a:off x="372960" y="6112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些学生为什么有这些烦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"/>
          <p:cNvSpPr/>
          <p:nvPr/>
        </p:nvSpPr>
        <p:spPr>
          <a:xfrm>
            <a:off x="663480" y="1225440"/>
            <a:ext cx="83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处于青春期的我们，往往更加关注自己的外表。一些正常的生理现象可能给我们带来烦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" descr="2345截图20170103132222"/>
          <p:cNvPicPr/>
          <p:nvPr/>
        </p:nvPicPr>
        <p:blipFill>
          <a:blip r:embed="rId1"/>
          <a:stretch/>
        </p:blipFill>
        <p:spPr>
          <a:xfrm>
            <a:off x="372960" y="2876400"/>
            <a:ext cx="1362240" cy="28386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2293920" y="2244600"/>
            <a:ext cx="844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你怎样帮助这些同学解决烦恼？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你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2584440" y="3146400"/>
            <a:ext cx="623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受遗传、营养、锻炼、家庭环境、个人因素等影响，我们每个人的生理特征有所不同。我们要正确对待一些与别人不一样的生理变化。在追求外在美的同时，还要追求内在美，提高品德和文化修养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99"/>
          <p:cNvSpPr/>
          <p:nvPr/>
        </p:nvSpPr>
        <p:spPr>
          <a:xfrm>
            <a:off x="1025640" y="746280"/>
            <a:ext cx="674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016</a:t>
            </a:r>
            <a:r>
              <a:rPr b="0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年</a:t>
            </a:r>
            <a:r>
              <a:rPr b="0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0</a:t>
            </a:r>
            <a:r>
              <a:rPr b="0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月</a:t>
            </a:r>
            <a:r>
              <a:rPr b="0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日下午，安徽省马鞍山市计生协会的社工给某初级中学七年级的</a:t>
            </a:r>
            <a:r>
              <a:rPr b="0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00</a:t>
            </a:r>
            <a:r>
              <a:rPr b="0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多名学生带来了一场青春期健康知识讲座。社工在讲座中指出，男生、女生有不同的生理变化，如男生的肌肉会变得强壮有力、长青春痘或粉刺等；女生来月经、乳房发育等，同学们要正确对待青春期发生的这些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727200" y="4395960"/>
            <a:ext cx="396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根据上述材料说说青春期的生理变化对我们的影响，我们又该如何面对这些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4960800" y="4343400"/>
            <a:ext cx="366732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u=1715194,871670196&amp;fm=23&amp;gp=0"/>
          <p:cNvPicPr/>
          <p:nvPr/>
        </p:nvPicPr>
        <p:blipFill>
          <a:blip r:embed="rId1"/>
          <a:stretch/>
        </p:blipFill>
        <p:spPr>
          <a:xfrm>
            <a:off x="5172120" y="3241800"/>
            <a:ext cx="3932280" cy="28573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99"/>
          <p:cNvSpPr/>
          <p:nvPr/>
        </p:nvSpPr>
        <p:spPr>
          <a:xfrm>
            <a:off x="958680" y="7952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影响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春期的生理变化带给我们旺盛的生命力，使我们的身体充满能量。我们拥有充沛的精力、敏捷的思维，对成长充满强烈渴望，感觉生活拥有无限可能。但是，一些正常的生理现象也可能给我们带来烦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"/>
          <p:cNvSpPr/>
          <p:nvPr/>
        </p:nvSpPr>
        <p:spPr>
          <a:xfrm>
            <a:off x="600120" y="3164040"/>
            <a:ext cx="60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应对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我们需要正视身体的变化，欣然接受青春花蕾的绽放。不因自己的生理变化而自卑，是我们对自己的尊重；不嘲弄同伴的生理变化，是我们对同伴的尊重；在追求形体、仪表等外在美的同时，也要提高品德和文化修养，体现青春的内在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6152"/>
          <p:cNvSpPr/>
          <p:nvPr/>
        </p:nvSpPr>
        <p:spPr>
          <a:xfrm>
            <a:off x="558720" y="4176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151"/>
          <p:cNvSpPr/>
          <p:nvPr/>
        </p:nvSpPr>
        <p:spPr>
          <a:xfrm>
            <a:off x="1909440" y="404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二：直面矛盾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QQ截图20170103140403"/>
          <p:cNvPicPr/>
          <p:nvPr/>
        </p:nvPicPr>
        <p:blipFill>
          <a:blip r:embed="rId1"/>
          <a:stretch/>
        </p:blipFill>
        <p:spPr>
          <a:xfrm>
            <a:off x="166680" y="1722600"/>
            <a:ext cx="8628120" cy="21049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QQ截图20170103140712"/>
          <p:cNvPicPr/>
          <p:nvPr/>
        </p:nvPicPr>
        <p:blipFill>
          <a:blip r:embed="rId2"/>
          <a:stretch/>
        </p:blipFill>
        <p:spPr>
          <a:xfrm>
            <a:off x="299880" y="3846600"/>
            <a:ext cx="8542440" cy="88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6"/>
          <p:cNvSpPr/>
          <p:nvPr/>
        </p:nvSpPr>
        <p:spPr>
          <a:xfrm>
            <a:off x="372960" y="491652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你遇到过类似的问题吗？（根据自己的实际情况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7"/>
          <p:cNvSpPr/>
          <p:nvPr/>
        </p:nvSpPr>
        <p:spPr>
          <a:xfrm>
            <a:off x="357120" y="590544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与同学一起讨论产生这些问题的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"/>
          <p:cNvSpPr/>
          <p:nvPr/>
        </p:nvSpPr>
        <p:spPr>
          <a:xfrm>
            <a:off x="471600" y="107640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三：自主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u=1715194,871670196&amp;fm=23&amp;gp=0"/>
          <p:cNvPicPr/>
          <p:nvPr/>
        </p:nvPicPr>
        <p:blipFill>
          <a:blip r:embed="rId1"/>
          <a:stretch/>
        </p:blipFill>
        <p:spPr>
          <a:xfrm>
            <a:off x="5157720" y="2835360"/>
            <a:ext cx="3932280" cy="2855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498600" y="72540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伴随生理发育，我们的认知能力得到发展，自我意识不断增强，情感世界愈加丰富……这些变化让我们感到新奇，也使我们产生矛盾和困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"/>
          <p:cNvSpPr/>
          <p:nvPr/>
        </p:nvSpPr>
        <p:spPr>
          <a:xfrm>
            <a:off x="357120" y="210168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这些情况的具体表现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484200" y="2646360"/>
            <a:ext cx="62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现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抗与依赖。产生强烈的成人感，对成人的意见有抵触情绪，但内心并没有完全摆脱对他人的依赖。闭锁与开放。内心活动丰富，但表露于外的东西少，将自己的内心封闭起来。容易感到孤独和寂寞，希望得到关心和理解。勇敢与怯懦。有时勇敢有时怯懦、比较害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99"/>
          <p:cNvSpPr/>
          <p:nvPr/>
        </p:nvSpPr>
        <p:spPr>
          <a:xfrm>
            <a:off x="685800" y="1150920"/>
            <a:ext cx="75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情景一：我每天把自己一天的快乐和烦恼，记录到自己的日记本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情景二：今天和小明闹得不愉快，心里很烦。放学后，我去操场和别人打球，这让我忘记了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情景三：我个子矮，大家都嘲笑我，所以整天闷闷不乐失去进取心，耽误了学习。有一天，我看潘长江的专访，听他讲自己的经历，他也曾被别人嘲笑身高矮，但是他却说“浓缩的都是精华”。从此以后，当别人再嘲笑我，我也用“浓缩的都是精华”来反驳他们。我再也不为个子矮而烦恼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情景四：同桌把我心爱的铅笔盒碰到地上，摔坏了。我暗示自己不要着急，同桌也不是故意的，避免了与同桌发生矛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"/>
          <p:cNvSpPr/>
          <p:nvPr/>
        </p:nvSpPr>
        <p:spPr>
          <a:xfrm>
            <a:off x="514440" y="571680"/>
            <a:ext cx="39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四：对症下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542880" y="723960"/>
            <a:ext cx="766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你出现矛盾心理的时候，你是如何解决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盾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"/>
          <p:cNvSpPr/>
          <p:nvPr/>
        </p:nvSpPr>
        <p:spPr>
          <a:xfrm>
            <a:off x="569880" y="1730520"/>
            <a:ext cx="79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参加集体活动，在集体的温暖中放松自己；②通过求助他人，学习化解烦恼的方法；③通过培养兴趣爱好转移注意力；④学习自我调节，成为自己的“心理保健医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"/>
          <p:cNvSpPr/>
          <p:nvPr/>
        </p:nvSpPr>
        <p:spPr>
          <a:xfrm>
            <a:off x="525600" y="3720960"/>
            <a:ext cx="76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情景，“我”是怎么调节“我”的烦恼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552600" y="4368960"/>
            <a:ext cx="79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情景一是把自己的想法写下来；情景二是参加体育活动，转移注意力；情景三是自我解嘲；情景四是自我暗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073742883" descr=""/>
          <p:cNvPicPr/>
          <p:nvPr/>
        </p:nvPicPr>
        <p:blipFill>
          <a:blip r:embed="rId1"/>
          <a:stretch/>
        </p:blipFill>
        <p:spPr>
          <a:xfrm>
            <a:off x="789120" y="1444680"/>
            <a:ext cx="7565760" cy="4124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103"/>
          <p:cNvSpPr/>
          <p:nvPr/>
        </p:nvSpPr>
        <p:spPr>
          <a:xfrm>
            <a:off x="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99"/>
          <p:cNvSpPr/>
          <p:nvPr/>
        </p:nvSpPr>
        <p:spPr>
          <a:xfrm>
            <a:off x="257040" y="1654200"/>
            <a:ext cx="85838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春期一般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它是人生发展的一个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阶段。这一时期我们的身体变化主要表现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我意识的增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性机能的成熟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身体外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变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内部器官的完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①②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B.②③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①②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D.①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"/>
          <p:cNvSpPr/>
          <p:nvPr/>
        </p:nvSpPr>
        <p:spPr>
          <a:xfrm>
            <a:off x="7826400" y="2238480"/>
            <a:ext cx="6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1"/>
          <p:cNvSpPr/>
          <p:nvPr/>
        </p:nvSpPr>
        <p:spPr>
          <a:xfrm>
            <a:off x="396720" y="5259240"/>
            <a:ext cx="861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103"/>
          <p:cNvSpPr/>
          <p:nvPr/>
        </p:nvSpPr>
        <p:spPr>
          <a:xfrm>
            <a:off x="71280" y="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99"/>
          <p:cNvSpPr/>
          <p:nvPr/>
        </p:nvSpPr>
        <p:spPr>
          <a:xfrm>
            <a:off x="396720" y="474840"/>
            <a:ext cx="5577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身体变化，使人骚动不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喜欢看武侠小说、电影、电视剧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变得爱顶撞家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对新鲜事物特别感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对异性产生异常的好奇和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有心里话不爱跟大人说了，但与好朋友谈起来却没完没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在和他人争论时，明知是自己错了，还是要争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喜欢模仿自己崇拜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了解自己的身体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．喜欢在家里、班级或学校表现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5830920" y="479124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心理测试：写序号，把符合自己的内容的序号写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6081840" y="452520"/>
            <a:ext cx="2687400" cy="41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"/>
          <p:cNvSpPr/>
          <p:nvPr/>
        </p:nvSpPr>
        <p:spPr>
          <a:xfrm>
            <a:off x="263520" y="561960"/>
            <a:ext cx="868032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进入青春期，我们面临各种各样的烦恼，首先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来自学习上的烦恼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同学感到学习压力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很多同学感到“在学习上我已经尽最大努力了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爸爸和老师总说我学习不用心，我难道就不想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难道不求上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认为我不是那样的人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，很苦闷、心烦。”摆脱这些烦恼，我们应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搞好自己的学习，让父母放心  ②与同学和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往沟通  ③学会当自己的“心理医生”  ④相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己，排斥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A.①②③    B.①②④    C.①③④    D.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"/>
          <p:cNvSpPr/>
          <p:nvPr/>
        </p:nvSpPr>
        <p:spPr>
          <a:xfrm>
            <a:off x="7740720" y="4076640"/>
            <a:ext cx="6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081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2"/>
          <p:cNvSpPr/>
          <p:nvPr/>
        </p:nvSpPr>
        <p:spPr>
          <a:xfrm>
            <a:off x="222120" y="708120"/>
            <a:ext cx="31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7d31"/>
                </a:solidFill>
                <a:latin typeface="仿宋"/>
                <a:ea typeface="仿宋"/>
              </a:rPr>
              <a:t>想一想：为什么我们变得爱顶撞家长、身体变化而产生骚动不安的情绪、对异性产生异常的好奇和兴趣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30120" y="4273560"/>
            <a:ext cx="84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青春，带着一份特殊的邀约，款款而来。在这个时期，我们的身体会发生一定的变化，我们的内心会面对一些新的问题，我们看待自然和社会的观点也会有所改变。这一节课就让我们一起来探讨“悄悄变化的我”这个话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2014072310293658"/>
          <p:cNvPicPr/>
          <p:nvPr/>
        </p:nvPicPr>
        <p:blipFill>
          <a:blip r:embed="rId1"/>
          <a:stretch/>
        </p:blipFill>
        <p:spPr>
          <a:xfrm>
            <a:off x="3341520" y="603360"/>
            <a:ext cx="5475600" cy="36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9" name="矩形 2"/>
          <p:cNvSpPr/>
          <p:nvPr/>
        </p:nvSpPr>
        <p:spPr>
          <a:xfrm>
            <a:off x="1973160" y="1736640"/>
            <a:ext cx="5761080" cy="384336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2363760" y="1889280"/>
            <a:ext cx="5226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解青春期的一些基本的生理和心理常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解青春期特有的一些心理矛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了解青春期特有的一些心理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151"/>
          <p:cNvSpPr/>
          <p:nvPr/>
        </p:nvSpPr>
        <p:spPr>
          <a:xfrm>
            <a:off x="2672280" y="681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一：悦纳生理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471600" y="1298520"/>
            <a:ext cx="33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7030a0"/>
                </a:solidFill>
                <a:latin typeface="隶书"/>
                <a:ea typeface="隶书"/>
              </a:rPr>
              <a:t>一</a:t>
            </a:r>
            <a:r>
              <a:rPr b="0" lang="en-US" sz="3600" spc="-1" strike="noStrike">
                <a:solidFill>
                  <a:srgbClr val="7030a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隶书"/>
                <a:ea typeface="隶书"/>
              </a:rPr>
              <a:t>身体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71600" y="206676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一：各组同学欣赏自己组员从小到现在不同时期的照片，关注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7" descr="u=1237537937,2696374532&amp;fm=214&amp;gp=0"/>
          <p:cNvPicPr/>
          <p:nvPr/>
        </p:nvPicPr>
        <p:blipFill>
          <a:blip r:embed="rId1"/>
          <a:stretch/>
        </p:blipFill>
        <p:spPr>
          <a:xfrm>
            <a:off x="3772080" y="1781280"/>
            <a:ext cx="4572000" cy="33033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u=144726897,628872717&amp;fm=214&amp;gp=0"/>
          <p:cNvPicPr/>
          <p:nvPr/>
        </p:nvPicPr>
        <p:blipFill>
          <a:blip r:embed="rId2"/>
          <a:stretch/>
        </p:blipFill>
        <p:spPr>
          <a:xfrm>
            <a:off x="3200400" y="1743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ac4bd11373f08202c6b6f7844bfbfbedab641b60"/>
          <p:cNvPicPr/>
          <p:nvPr/>
        </p:nvPicPr>
        <p:blipFill>
          <a:blip r:embed="rId3"/>
          <a:stretch/>
        </p:blipFill>
        <p:spPr>
          <a:xfrm>
            <a:off x="3252960" y="1914480"/>
            <a:ext cx="5609880" cy="346716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0"/>
          <p:cNvSpPr/>
          <p:nvPr/>
        </p:nvSpPr>
        <p:spPr>
          <a:xfrm>
            <a:off x="372960" y="556272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时期的我们有不同吗？这说明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5"/>
          <p:cNvSpPr/>
          <p:nvPr/>
        </p:nvSpPr>
        <p:spPr>
          <a:xfrm>
            <a:off x="2245320" y="81288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变化：伴随着身体外形的明显变化，我们的内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世界也发生着变化。这说明了我们开始进入青春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372960" y="183204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阅读教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P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青春期是指哪个年龄阶段呢？在这一阶段身体会发生哪些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"/>
          <p:cNvSpPr/>
          <p:nvPr/>
        </p:nvSpPr>
        <p:spPr>
          <a:xfrm>
            <a:off x="1859040" y="2876400"/>
            <a:ext cx="70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青春期一般指人的发育过程中，介于儿童期和成年期之间的过渡期。它是继婴儿期后，人生第二个生长发育的高峰期。具体表现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．身体外形的变化：身高，体重等；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身体内部器官的完善：心脏，肺脏，脑；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性机能的成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3" descr="2345截图20170103132222"/>
          <p:cNvPicPr/>
          <p:nvPr/>
        </p:nvPicPr>
        <p:blipFill>
          <a:blip r:embed="rId1"/>
          <a:stretch/>
        </p:blipFill>
        <p:spPr>
          <a:xfrm>
            <a:off x="372960" y="2876400"/>
            <a:ext cx="13622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2"/>
          <p:cNvSpPr/>
          <p:nvPr/>
        </p:nvSpPr>
        <p:spPr>
          <a:xfrm>
            <a:off x="339840" y="878040"/>
            <a:ext cx="48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理解青春期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9"/>
          <p:cNvSpPr/>
          <p:nvPr/>
        </p:nvSpPr>
        <p:spPr>
          <a:xfrm>
            <a:off x="249120" y="18478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伴随着身体外形的明显变化，我们开始进入青春期。青春期是人一生中身体发育的重要时期。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这一时期，我们的变化表现在三个方面：身体外形的变化，内部器官的完善，性机能的成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4975200" y="2463840"/>
            <a:ext cx="3667320" cy="18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4"/>
          <p:cNvSpPr/>
          <p:nvPr/>
        </p:nvSpPr>
        <p:spPr>
          <a:xfrm>
            <a:off x="328680" y="723960"/>
            <a:ext cx="58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7030a0"/>
                </a:solidFill>
                <a:latin typeface="隶书"/>
                <a:ea typeface="隶书"/>
              </a:rPr>
              <a:t>二</a:t>
            </a:r>
            <a:r>
              <a:rPr b="0" lang="en-US" sz="3600" spc="-1" strike="noStrike">
                <a:solidFill>
                  <a:srgbClr val="7030a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隶书"/>
                <a:ea typeface="隶书"/>
              </a:rPr>
              <a:t>青春带来旺盛的生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471600" y="4232160"/>
            <a:ext cx="82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活动二：各组同学欣赏自己组员从小到现在不同时期的照片，关注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图片1"/>
          <p:cNvPicPr/>
          <p:nvPr/>
        </p:nvPicPr>
        <p:blipFill>
          <a:blip r:embed="rId1"/>
          <a:stretch/>
        </p:blipFill>
        <p:spPr>
          <a:xfrm>
            <a:off x="345960" y="1581120"/>
            <a:ext cx="845352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10"/>
          <p:cNvSpPr/>
          <p:nvPr/>
        </p:nvSpPr>
        <p:spPr>
          <a:xfrm>
            <a:off x="372960" y="3338640"/>
            <a:ext cx="84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：学生说出体验每种场景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482760" y="4175280"/>
            <a:ext cx="81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理变化带给我们旺盛的生命力，使我们的身体充满能量。我们拥有充沛的精力、敏捷的思维，对成长充满强烈的渴望，感觉生活拥有无限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" descr="图片1"/>
          <p:cNvPicPr/>
          <p:nvPr/>
        </p:nvPicPr>
        <p:blipFill>
          <a:blip r:embed="rId1"/>
          <a:stretch/>
        </p:blipFill>
        <p:spPr>
          <a:xfrm>
            <a:off x="225360" y="473040"/>
            <a:ext cx="8453520" cy="23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1T01:24:55Z</dcterms:created>
  <dc:creator/>
  <dc:description/>
  <dc:language>en-US</dc:language>
  <cp:lastModifiedBy>Administrator</cp:lastModifiedBy>
  <dcterms:modified xsi:type="dcterms:W3CDTF">2019-01-11T01:24:5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