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8.gif" ContentType="image/gif"/>
  <Override PartName="/ppt/media/image3.wmf" ContentType="image/x-wmf"/>
  <Override PartName="/ppt/media/image35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1A39-5964-46DB-88C1-EA8F2A15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DB4C-9DAF-47E7-A156-B24F6BED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4972-2213-4D66-84EB-DA7FF742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5B3-4C07-4FE3-AFA8-D1354952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1C0E-068B-4AD9-8E26-3D6EE652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FFAF-39BB-4ED7-8932-B9A68747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981-F8D6-4D38-9B42-A6B587FE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EBB1-BC0A-4FD2-98D4-33B49BF4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6BCE-8C02-408C-918F-363A5505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B50C-844E-40EA-A9BA-B6CCCC1F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73BF-68A1-4DAD-8E96-6582A61D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6349-9203-4797-96D3-2A608B59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F6024-019F-420D-BCC9-44FB2602D401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97FA-0C61-45C2-BB87-C5614ACE564E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07160" y="3139200"/>
            <a:ext cx="3361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二节 神经系统的组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90360" y="1805040"/>
            <a:ext cx="885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六章 人体生命活动的调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"/>
          <p:cNvPicPr/>
          <p:nvPr/>
        </p:nvPicPr>
        <p:blipFill>
          <a:blip r:embed="rId1"/>
          <a:stretch/>
        </p:blipFill>
        <p:spPr>
          <a:xfrm>
            <a:off x="3062160" y="1303200"/>
            <a:ext cx="2227320" cy="50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2255760" y="3313080"/>
            <a:ext cx="106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脊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4624560" y="3498840"/>
            <a:ext cx="11188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 flipV="1">
            <a:off x="4600440" y="3503160"/>
            <a:ext cx="1143000" cy="13194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4761000" y="2152800"/>
            <a:ext cx="982440" cy="1350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5764320" y="3203640"/>
            <a:ext cx="144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脊神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5775480" y="4043520"/>
            <a:ext cx="153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脑神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7211880" y="3386160"/>
            <a:ext cx="1308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周围神经系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2419200" y="223524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4"/>
          <p:cNvGrpSpPr/>
          <p:nvPr/>
        </p:nvGrpSpPr>
        <p:grpSpPr>
          <a:xfrm>
            <a:off x="495360" y="2430360"/>
            <a:ext cx="1793880" cy="1174680"/>
            <a:chOff x="495360" y="2430360"/>
            <a:chExt cx="1793880" cy="1174680"/>
          </a:xfrm>
        </p:grpSpPr>
        <p:sp>
          <p:nvSpPr>
            <p:cNvPr id="105" name="Text Box 21"/>
            <p:cNvSpPr/>
            <p:nvPr/>
          </p:nvSpPr>
          <p:spPr>
            <a:xfrm>
              <a:off x="495360" y="2498400"/>
              <a:ext cx="1676520" cy="10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中枢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神经系统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22"/>
            <p:cNvSpPr/>
            <p:nvPr/>
          </p:nvSpPr>
          <p:spPr>
            <a:xfrm>
              <a:off x="2095560" y="2430360"/>
              <a:ext cx="193680" cy="1174680"/>
            </a:xfrm>
            <a:custGeom>
              <a:avLst/>
              <a:gdLst>
                <a:gd name="textAreaLeft" fmla="*/ 123840 w 193680"/>
                <a:gd name="textAreaRight" fmla="*/ 194040 w 193680"/>
                <a:gd name="textAreaTop" fmla="*/ 41400 h 1174680"/>
                <a:gd name="textAreaBottom" fmla="*/ 1133280 h 11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222"/>
                    <a:pt x="10800" y="2444"/>
                  </a:cubicBezTo>
                  <a:lnTo>
                    <a:pt x="10800" y="8356"/>
                  </a:lnTo>
                  <a:cubicBezTo>
                    <a:pt x="10800" y="9578"/>
                    <a:pt x="5400" y="10800"/>
                    <a:pt x="0" y="10800"/>
                  </a:cubicBezTo>
                  <a:cubicBezTo>
                    <a:pt x="5400" y="10800"/>
                    <a:pt x="10800" y="12022"/>
                    <a:pt x="10800" y="13244"/>
                  </a:cubicBezTo>
                  <a:lnTo>
                    <a:pt x="10800" y="19156"/>
                  </a:lnTo>
                  <a:cubicBezTo>
                    <a:pt x="10800" y="20378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3"/>
          <p:cNvSpPr/>
          <p:nvPr/>
        </p:nvSpPr>
        <p:spPr>
          <a:xfrm>
            <a:off x="3159000" y="700200"/>
            <a:ext cx="342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神经系统的组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5"/>
          <p:cNvSpPr/>
          <p:nvPr/>
        </p:nvSpPr>
        <p:spPr>
          <a:xfrm flipH="1">
            <a:off x="3211200" y="3575160"/>
            <a:ext cx="12826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6"/>
          <p:cNvSpPr/>
          <p:nvPr/>
        </p:nvSpPr>
        <p:spPr>
          <a:xfrm flipH="1">
            <a:off x="3111120" y="2494080"/>
            <a:ext cx="1330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6253200" y="3605040"/>
            <a:ext cx="46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2"/>
          <p:cNvSpPr/>
          <p:nvPr/>
        </p:nvSpPr>
        <p:spPr>
          <a:xfrm flipH="1">
            <a:off x="7118280" y="3313080"/>
            <a:ext cx="163440" cy="1162080"/>
          </a:xfrm>
          <a:custGeom>
            <a:avLst/>
            <a:gdLst>
              <a:gd name="textAreaLeft" fmla="*/ 104760 w 163440"/>
              <a:gd name="textAreaRight" fmla="*/ 164160 w 163440"/>
              <a:gd name="textAreaTop" fmla="*/ 34920 h 1162080"/>
              <a:gd name="textAreaBottom" fmla="*/ 1127160 h 1162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7"/>
                  <a:pt x="10800" y="2074"/>
                </a:cubicBezTo>
                <a:lnTo>
                  <a:pt x="10800" y="8726"/>
                </a:lnTo>
                <a:cubicBezTo>
                  <a:pt x="10800" y="9763"/>
                  <a:pt x="5400" y="10800"/>
                  <a:pt x="0" y="10800"/>
                </a:cubicBezTo>
                <a:cubicBezTo>
                  <a:pt x="5400" y="10800"/>
                  <a:pt x="10800" y="11837"/>
                  <a:pt x="10800" y="12874"/>
                </a:cubicBezTo>
                <a:lnTo>
                  <a:pt x="10800" y="19526"/>
                </a:lnTo>
                <a:cubicBezTo>
                  <a:pt x="10800" y="2056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601560" y="996840"/>
            <a:ext cx="3063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脑的结构和功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4352760" y="1701720"/>
            <a:ext cx="4219560" cy="3798720"/>
            <a:chOff x="4352760" y="1701720"/>
            <a:chExt cx="4219560" cy="3798720"/>
          </a:xfrm>
        </p:grpSpPr>
        <p:pic>
          <p:nvPicPr>
            <p:cNvPr id="115" name="Picture 4" descr="Image36"/>
            <p:cNvPicPr/>
            <p:nvPr/>
          </p:nvPicPr>
          <p:blipFill>
            <a:blip r:embed="rId1">
              <a:lum contrast="42000"/>
            </a:blip>
            <a:stretch/>
          </p:blipFill>
          <p:spPr>
            <a:xfrm>
              <a:off x="4352760" y="2203560"/>
              <a:ext cx="3741480" cy="298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Line 5"/>
            <p:cNvSpPr/>
            <p:nvPr/>
          </p:nvSpPr>
          <p:spPr>
            <a:xfrm>
              <a:off x="4851360" y="2276640"/>
              <a:ext cx="0" cy="64512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6"/>
            <p:cNvSpPr/>
            <p:nvPr/>
          </p:nvSpPr>
          <p:spPr>
            <a:xfrm>
              <a:off x="4851360" y="2276640"/>
              <a:ext cx="116424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7"/>
            <p:cNvSpPr/>
            <p:nvPr/>
          </p:nvSpPr>
          <p:spPr>
            <a:xfrm>
              <a:off x="6015960" y="2274840"/>
              <a:ext cx="0" cy="14328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8"/>
            <p:cNvSpPr/>
            <p:nvPr/>
          </p:nvSpPr>
          <p:spPr>
            <a:xfrm>
              <a:off x="4924440" y="1701720"/>
              <a:ext cx="1016640" cy="429840"/>
            </a:xfrm>
            <a:prstGeom prst="rect">
              <a:avLst/>
            </a:prstGeom>
            <a:solidFill>
              <a:srgbClr val="e2f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大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9"/>
            <p:cNvSpPr/>
            <p:nvPr/>
          </p:nvSpPr>
          <p:spPr>
            <a:xfrm>
              <a:off x="5433840" y="2133000"/>
              <a:ext cx="0" cy="14328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0"/>
            <p:cNvSpPr/>
            <p:nvPr/>
          </p:nvSpPr>
          <p:spPr>
            <a:xfrm>
              <a:off x="7219440" y="4527000"/>
              <a:ext cx="74808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1"/>
            <p:cNvSpPr/>
            <p:nvPr/>
          </p:nvSpPr>
          <p:spPr>
            <a:xfrm>
              <a:off x="7742880" y="4273200"/>
              <a:ext cx="829440" cy="429840"/>
            </a:xfrm>
            <a:prstGeom prst="rect">
              <a:avLst/>
            </a:prstGeom>
            <a:solidFill>
              <a:srgbClr val="e2f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小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6213240" y="4068360"/>
              <a:ext cx="0" cy="93168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3"/>
            <p:cNvSpPr/>
            <p:nvPr/>
          </p:nvSpPr>
          <p:spPr>
            <a:xfrm>
              <a:off x="5766480" y="5070600"/>
              <a:ext cx="912960" cy="429840"/>
            </a:xfrm>
            <a:prstGeom prst="rect">
              <a:avLst/>
            </a:prstGeom>
            <a:solidFill>
              <a:srgbClr val="e2f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脑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4"/>
            <p:cNvSpPr/>
            <p:nvPr/>
          </p:nvSpPr>
          <p:spPr>
            <a:xfrm>
              <a:off x="7082640" y="5014080"/>
              <a:ext cx="66492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7747920" y="4851000"/>
              <a:ext cx="763920" cy="465840"/>
            </a:xfrm>
            <a:prstGeom prst="rect">
              <a:avLst/>
            </a:prstGeom>
            <a:solidFill>
              <a:srgbClr val="e2f0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脊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Picture 16" descr="12"/>
          <p:cNvPicPr/>
          <p:nvPr/>
        </p:nvPicPr>
        <p:blipFill>
          <a:blip r:embed="rId2"/>
          <a:stretch/>
        </p:blipFill>
        <p:spPr>
          <a:xfrm>
            <a:off x="152280" y="2438280"/>
            <a:ext cx="3048120" cy="2590920"/>
          </a:xfrm>
          <a:prstGeom prst="rect">
            <a:avLst/>
          </a:prstGeom>
          <a:ln w="0">
            <a:noFill/>
          </a:ln>
        </p:spPr>
      </p:pic>
      <p:sp>
        <p:nvSpPr>
          <p:cNvPr id="128" name="Line 17"/>
          <p:cNvSpPr/>
          <p:nvPr/>
        </p:nvSpPr>
        <p:spPr>
          <a:xfrm>
            <a:off x="1752480" y="2819520"/>
            <a:ext cx="1447920" cy="0"/>
          </a:xfrm>
          <a:prstGeom prst="line">
            <a:avLst/>
          </a:prstGeom>
          <a:ln w="38160">
            <a:solidFill>
              <a:srgbClr val="3857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3200400" y="2514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大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1143000" y="4495680"/>
            <a:ext cx="1981080" cy="0"/>
          </a:xfrm>
          <a:prstGeom prst="line">
            <a:avLst/>
          </a:prstGeom>
          <a:ln w="38160">
            <a:solidFill>
              <a:srgbClr val="3857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3124080" y="4267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1828800" y="4038480"/>
            <a:ext cx="1371600" cy="0"/>
          </a:xfrm>
          <a:prstGeom prst="line">
            <a:avLst/>
          </a:prstGeom>
          <a:ln w="38160">
            <a:solidFill>
              <a:srgbClr val="38572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 flipH="1">
            <a:off x="3199680" y="3733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脑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4"/>
          <p:cNvPicPr/>
          <p:nvPr/>
        </p:nvPicPr>
        <p:blipFill>
          <a:blip r:embed="rId1"/>
          <a:stretch/>
        </p:blipFill>
        <p:spPr>
          <a:xfrm>
            <a:off x="3157560" y="3648240"/>
            <a:ext cx="2495520" cy="156528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7"/>
          <p:cNvGrpSpPr/>
          <p:nvPr/>
        </p:nvGrpSpPr>
        <p:grpSpPr>
          <a:xfrm>
            <a:off x="2883960" y="3032280"/>
            <a:ext cx="1724040" cy="805680"/>
            <a:chOff x="2883960" y="3032280"/>
            <a:chExt cx="1724040" cy="805680"/>
          </a:xfrm>
        </p:grpSpPr>
        <p:sp>
          <p:nvSpPr>
            <p:cNvPr id="137" name="Line 8"/>
            <p:cNvSpPr/>
            <p:nvPr/>
          </p:nvSpPr>
          <p:spPr>
            <a:xfrm flipH="1" flipV="1">
              <a:off x="2883960" y="3250800"/>
              <a:ext cx="1414440" cy="5871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9"/>
            <p:cNvSpPr/>
            <p:nvPr/>
          </p:nvSpPr>
          <p:spPr>
            <a:xfrm>
              <a:off x="3180240" y="3032280"/>
              <a:ext cx="142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运动中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10"/>
          <p:cNvGrpSpPr/>
          <p:nvPr/>
        </p:nvGrpSpPr>
        <p:grpSpPr>
          <a:xfrm>
            <a:off x="4670280" y="3025800"/>
            <a:ext cx="1676520" cy="1204560"/>
            <a:chOff x="4670280" y="3025800"/>
            <a:chExt cx="1676520" cy="1204560"/>
          </a:xfrm>
        </p:grpSpPr>
        <p:sp>
          <p:nvSpPr>
            <p:cNvPr id="140" name="Line 11"/>
            <p:cNvSpPr/>
            <p:nvPr/>
          </p:nvSpPr>
          <p:spPr>
            <a:xfrm flipV="1">
              <a:off x="4874400" y="3296880"/>
              <a:ext cx="1286280" cy="9334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670280" y="30258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语言中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13"/>
          <p:cNvGrpSpPr/>
          <p:nvPr/>
        </p:nvGrpSpPr>
        <p:grpSpPr>
          <a:xfrm>
            <a:off x="2916360" y="4616280"/>
            <a:ext cx="1831680" cy="1056600"/>
            <a:chOff x="2916360" y="4616280"/>
            <a:chExt cx="1831680" cy="1056600"/>
          </a:xfrm>
        </p:grpSpPr>
        <p:sp>
          <p:nvSpPr>
            <p:cNvPr id="143" name="Line 14"/>
            <p:cNvSpPr/>
            <p:nvPr/>
          </p:nvSpPr>
          <p:spPr>
            <a:xfrm flipH="1">
              <a:off x="2916360" y="4616280"/>
              <a:ext cx="1481760" cy="7869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5"/>
            <p:cNvSpPr/>
            <p:nvPr/>
          </p:nvSpPr>
          <p:spPr>
            <a:xfrm rot="21599400">
              <a:off x="3068640" y="5212800"/>
              <a:ext cx="167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听觉中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16"/>
          <p:cNvGrpSpPr/>
          <p:nvPr/>
        </p:nvGrpSpPr>
        <p:grpSpPr>
          <a:xfrm>
            <a:off x="4640400" y="4937040"/>
            <a:ext cx="1828800" cy="713880"/>
            <a:chOff x="4640400" y="4937040"/>
            <a:chExt cx="1828800" cy="713880"/>
          </a:xfrm>
        </p:grpSpPr>
        <p:sp>
          <p:nvSpPr>
            <p:cNvPr id="146" name="Line 17"/>
            <p:cNvSpPr/>
            <p:nvPr/>
          </p:nvSpPr>
          <p:spPr>
            <a:xfrm>
              <a:off x="5285160" y="4937040"/>
              <a:ext cx="1063440" cy="5652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8"/>
            <p:cNvSpPr/>
            <p:nvPr/>
          </p:nvSpPr>
          <p:spPr>
            <a:xfrm>
              <a:off x="4640400" y="51912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视觉中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Rectangle 5"/>
          <p:cNvSpPr/>
          <p:nvPr/>
        </p:nvSpPr>
        <p:spPr>
          <a:xfrm>
            <a:off x="609480" y="838080"/>
            <a:ext cx="79250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大脑皮层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是神经元细胞体高度集中的地方，是控制人身体活动的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最高级中枢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5" descr=""/>
          <p:cNvPicPr/>
          <p:nvPr/>
        </p:nvPicPr>
        <p:blipFill>
          <a:blip r:embed="rId2"/>
          <a:stretch/>
        </p:blipFill>
        <p:spPr>
          <a:xfrm>
            <a:off x="6402240" y="4834080"/>
            <a:ext cx="1638360" cy="15062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6" descr=""/>
          <p:cNvPicPr/>
          <p:nvPr/>
        </p:nvPicPr>
        <p:blipFill>
          <a:blip r:embed="rId3"/>
          <a:stretch/>
        </p:blipFill>
        <p:spPr>
          <a:xfrm>
            <a:off x="6480000" y="2112840"/>
            <a:ext cx="1779840" cy="15732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7" descr=""/>
          <p:cNvPicPr/>
          <p:nvPr/>
        </p:nvPicPr>
        <p:blipFill>
          <a:blip r:embed="rId4"/>
          <a:stretch/>
        </p:blipFill>
        <p:spPr>
          <a:xfrm>
            <a:off x="988920" y="2200320"/>
            <a:ext cx="1758960" cy="166536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8" descr=""/>
          <p:cNvPicPr/>
          <p:nvPr/>
        </p:nvPicPr>
        <p:blipFill>
          <a:blip r:embed="rId5"/>
          <a:stretch/>
        </p:blipFill>
        <p:spPr>
          <a:xfrm>
            <a:off x="939960" y="4695840"/>
            <a:ext cx="1807920" cy="1606680"/>
          </a:xfrm>
          <a:prstGeom prst="rect">
            <a:avLst/>
          </a:prstGeom>
          <a:ln w="0">
            <a:noFill/>
          </a:ln>
        </p:spPr>
      </p:pic>
      <p:sp>
        <p:nvSpPr>
          <p:cNvPr id="15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3"/>
          <p:cNvGrpSpPr/>
          <p:nvPr/>
        </p:nvGrpSpPr>
        <p:grpSpPr>
          <a:xfrm>
            <a:off x="3348000" y="1700280"/>
            <a:ext cx="2666880" cy="2133360"/>
            <a:chOff x="3348000" y="1700280"/>
            <a:chExt cx="2666880" cy="2133360"/>
          </a:xfrm>
        </p:grpSpPr>
        <p:pic>
          <p:nvPicPr>
            <p:cNvPr id="155" name="Picture 4" descr="zuoyounao"/>
            <p:cNvPicPr/>
            <p:nvPr/>
          </p:nvPicPr>
          <p:blipFill>
            <a:blip r:embed="rId1"/>
            <a:stretch/>
          </p:blipFill>
          <p:spPr>
            <a:xfrm>
              <a:off x="3348000" y="1700280"/>
              <a:ext cx="26668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Line 5"/>
            <p:cNvSpPr/>
            <p:nvPr/>
          </p:nvSpPr>
          <p:spPr>
            <a:xfrm>
              <a:off x="4630680" y="177768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6"/>
          <p:cNvSpPr/>
          <p:nvPr/>
        </p:nvSpPr>
        <p:spPr>
          <a:xfrm>
            <a:off x="3917880" y="2120760"/>
            <a:ext cx="546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左 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894200" y="2082960"/>
            <a:ext cx="546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右 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 flipH="1" flipV="1">
            <a:off x="2957400" y="2018880"/>
            <a:ext cx="1144800" cy="21276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Text Box 9" descr=""/>
          <p:cNvPicPr/>
          <p:nvPr/>
        </p:nvPicPr>
        <p:blipFill>
          <a:blip r:embed="rId2"/>
          <a:stretch/>
        </p:blipFill>
        <p:spPr>
          <a:xfrm>
            <a:off x="939960" y="1471680"/>
            <a:ext cx="2226960" cy="1154160"/>
          </a:xfrm>
          <a:prstGeom prst="rect">
            <a:avLst/>
          </a:prstGeom>
          <a:ln w="0">
            <a:noFill/>
          </a:ln>
        </p:spPr>
      </p:pic>
      <p:sp>
        <p:nvSpPr>
          <p:cNvPr id="161" name="Line 10"/>
          <p:cNvSpPr/>
          <p:nvPr/>
        </p:nvSpPr>
        <p:spPr>
          <a:xfrm flipH="1">
            <a:off x="2957400" y="3203640"/>
            <a:ext cx="1030320" cy="44136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"/>
          <p:cNvSpPr/>
          <p:nvPr/>
        </p:nvSpPr>
        <p:spPr>
          <a:xfrm flipV="1">
            <a:off x="5473800" y="1925640"/>
            <a:ext cx="990360" cy="2491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Text Box 12" descr=""/>
          <p:cNvPicPr/>
          <p:nvPr/>
        </p:nvPicPr>
        <p:blipFill>
          <a:blip r:embed="rId3"/>
          <a:stretch/>
        </p:blipFill>
        <p:spPr>
          <a:xfrm>
            <a:off x="6483240" y="1403280"/>
            <a:ext cx="2075040" cy="1154160"/>
          </a:xfrm>
          <a:prstGeom prst="rect">
            <a:avLst/>
          </a:prstGeom>
          <a:ln w="0">
            <a:noFill/>
          </a:ln>
        </p:spPr>
      </p:pic>
      <p:sp>
        <p:nvSpPr>
          <p:cNvPr id="164" name="Line 13"/>
          <p:cNvSpPr/>
          <p:nvPr/>
        </p:nvSpPr>
        <p:spPr>
          <a:xfrm>
            <a:off x="5454720" y="3187800"/>
            <a:ext cx="979560" cy="43812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Organization Chart 14"/>
          <p:cNvGrpSpPr/>
          <p:nvPr/>
        </p:nvGrpSpPr>
        <p:grpSpPr>
          <a:xfrm>
            <a:off x="349200" y="3805200"/>
            <a:ext cx="4266720" cy="1927080"/>
            <a:chOff x="349200" y="3805200"/>
            <a:chExt cx="4266720" cy="1927080"/>
          </a:xfrm>
        </p:grpSpPr>
        <p:cxnSp>
          <p:nvCxnSpPr>
            <p:cNvPr id="166" name="_s1028"/>
            <p:cNvCxnSpPr/>
            <p:nvPr/>
          </p:nvCxnSpPr>
          <p:spPr>
            <a:xfrm flipH="1" flipV="1">
              <a:off x="2481480" y="4725720"/>
              <a:ext cx="1468080" cy="317880"/>
            </a:xfrm>
            <a:prstGeom prst="straightConnector1">
              <a:avLst/>
            </a:prstGeom>
            <a:ln w="28440">
              <a:solidFill>
                <a:srgbClr val="385723"/>
              </a:solidFill>
              <a:miter/>
            </a:ln>
          </p:spPr>
        </p:cxnSp>
        <p:cxnSp>
          <p:nvCxnSpPr>
            <p:cNvPr id="167" name="_s1029"/>
            <p:cNvCxnSpPr/>
            <p:nvPr/>
          </p:nvCxnSpPr>
          <p:spPr>
            <a:xfrm flipV="1">
              <a:off x="2472120" y="4716720"/>
              <a:ext cx="1800" cy="317880"/>
            </a:xfrm>
            <a:prstGeom prst="straightConnector1">
              <a:avLst/>
            </a:prstGeom>
            <a:ln w="28440">
              <a:solidFill>
                <a:srgbClr val="8a9c65"/>
              </a:solidFill>
              <a:round/>
            </a:ln>
          </p:spPr>
        </p:cxnSp>
        <p:cxnSp>
          <p:nvCxnSpPr>
            <p:cNvPr id="168" name="_s1030"/>
            <p:cNvCxnSpPr/>
            <p:nvPr/>
          </p:nvCxnSpPr>
          <p:spPr>
            <a:xfrm flipV="1">
              <a:off x="1014120" y="4725720"/>
              <a:ext cx="1468080" cy="317880"/>
            </a:xfrm>
            <a:prstGeom prst="straightConnector1">
              <a:avLst/>
            </a:prstGeom>
            <a:ln w="28440">
              <a:solidFill>
                <a:srgbClr val="385723"/>
              </a:solidFill>
              <a:miter/>
            </a:ln>
          </p:spPr>
        </p:cxnSp>
        <p:pic>
          <p:nvPicPr>
            <p:cNvPr id="169" name="_s1031" descr=""/>
            <p:cNvPicPr/>
            <p:nvPr/>
          </p:nvPicPr>
          <p:blipFill>
            <a:blip r:embed="rId4"/>
            <a:stretch/>
          </p:blipFill>
          <p:spPr>
            <a:xfrm>
              <a:off x="1341720" y="3805200"/>
              <a:ext cx="1910160" cy="120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_s1032" descr=""/>
            <p:cNvPicPr/>
            <p:nvPr/>
          </p:nvPicPr>
          <p:blipFill>
            <a:blip r:embed="rId5"/>
            <a:stretch/>
          </p:blipFill>
          <p:spPr>
            <a:xfrm>
              <a:off x="349200" y="5034600"/>
              <a:ext cx="1332000" cy="69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_s1033" descr=""/>
            <p:cNvPicPr/>
            <p:nvPr/>
          </p:nvPicPr>
          <p:blipFill>
            <a:blip r:embed="rId6"/>
            <a:stretch/>
          </p:blipFill>
          <p:spPr>
            <a:xfrm>
              <a:off x="1816560" y="5034600"/>
              <a:ext cx="1332000" cy="69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_s1034" descr=""/>
            <p:cNvPicPr/>
            <p:nvPr/>
          </p:nvPicPr>
          <p:blipFill>
            <a:blip r:embed="rId7"/>
            <a:stretch/>
          </p:blipFill>
          <p:spPr>
            <a:xfrm>
              <a:off x="3283920" y="5034600"/>
              <a:ext cx="1332000" cy="69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" name="Organization Chart 23"/>
          <p:cNvGrpSpPr/>
          <p:nvPr/>
        </p:nvGrpSpPr>
        <p:grpSpPr>
          <a:xfrm>
            <a:off x="4976640" y="3770280"/>
            <a:ext cx="3886200" cy="1937880"/>
            <a:chOff x="4976640" y="3770280"/>
            <a:chExt cx="3886200" cy="1937880"/>
          </a:xfrm>
        </p:grpSpPr>
        <p:cxnSp>
          <p:nvCxnSpPr>
            <p:cNvPr id="174" name="_s1037"/>
            <p:cNvCxnSpPr/>
            <p:nvPr/>
          </p:nvCxnSpPr>
          <p:spPr>
            <a:xfrm flipH="1" flipV="1">
              <a:off x="6919200" y="4519440"/>
              <a:ext cx="1334880" cy="375480"/>
            </a:xfrm>
            <a:prstGeom prst="straightConnector1">
              <a:avLst/>
            </a:prstGeom>
            <a:ln w="28440">
              <a:solidFill>
                <a:srgbClr val="385723"/>
              </a:solidFill>
              <a:miter/>
            </a:ln>
          </p:spPr>
        </p:cxnSp>
        <p:cxnSp>
          <p:nvCxnSpPr>
            <p:cNvPr id="175" name="_s1038"/>
            <p:cNvCxnSpPr/>
            <p:nvPr/>
          </p:nvCxnSpPr>
          <p:spPr>
            <a:xfrm flipV="1">
              <a:off x="6910560" y="4509000"/>
              <a:ext cx="1800" cy="375480"/>
            </a:xfrm>
            <a:prstGeom prst="straightConnector1">
              <a:avLst/>
            </a:prstGeom>
            <a:ln w="28440">
              <a:solidFill>
                <a:srgbClr val="8a9c65"/>
              </a:solidFill>
              <a:round/>
            </a:ln>
          </p:spPr>
        </p:cxnSp>
        <p:cxnSp>
          <p:nvCxnSpPr>
            <p:cNvPr id="176" name="_s1039"/>
            <p:cNvCxnSpPr/>
            <p:nvPr/>
          </p:nvCxnSpPr>
          <p:spPr>
            <a:xfrm flipV="1">
              <a:off x="5585400" y="4519440"/>
              <a:ext cx="1334880" cy="375480"/>
            </a:xfrm>
            <a:prstGeom prst="straightConnector1">
              <a:avLst/>
            </a:prstGeom>
            <a:ln w="28440">
              <a:solidFill>
                <a:srgbClr val="385723"/>
              </a:solidFill>
              <a:miter/>
            </a:ln>
          </p:spPr>
        </p:cxnSp>
        <p:pic>
          <p:nvPicPr>
            <p:cNvPr id="177" name="_s1040" descr=""/>
            <p:cNvPicPr/>
            <p:nvPr/>
          </p:nvPicPr>
          <p:blipFill>
            <a:blip r:embed="rId8"/>
            <a:stretch/>
          </p:blipFill>
          <p:spPr>
            <a:xfrm>
              <a:off x="5833080" y="3770280"/>
              <a:ext cx="18979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_s1041" descr=""/>
            <p:cNvPicPr/>
            <p:nvPr/>
          </p:nvPicPr>
          <p:blipFill>
            <a:blip r:embed="rId9"/>
            <a:stretch/>
          </p:blipFill>
          <p:spPr>
            <a:xfrm>
              <a:off x="4976640" y="4884840"/>
              <a:ext cx="1217520" cy="82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_s1042" descr=""/>
            <p:cNvPicPr/>
            <p:nvPr/>
          </p:nvPicPr>
          <p:blipFill>
            <a:blip r:embed="rId10"/>
            <a:stretch/>
          </p:blipFill>
          <p:spPr>
            <a:xfrm>
              <a:off x="6310800" y="4884840"/>
              <a:ext cx="1217520" cy="82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_s1043" descr=""/>
            <p:cNvPicPr/>
            <p:nvPr/>
          </p:nvPicPr>
          <p:blipFill>
            <a:blip r:embed="rId11"/>
            <a:stretch/>
          </p:blipFill>
          <p:spPr>
            <a:xfrm>
              <a:off x="7645320" y="4884840"/>
              <a:ext cx="1217520" cy="82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dur="indefinite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9"/>
          <p:cNvGrpSpPr/>
          <p:nvPr/>
        </p:nvGrpSpPr>
        <p:grpSpPr>
          <a:xfrm>
            <a:off x="620640" y="2852640"/>
            <a:ext cx="8086320" cy="2736720"/>
            <a:chOff x="620640" y="2852640"/>
            <a:chExt cx="8086320" cy="2736720"/>
          </a:xfrm>
        </p:grpSpPr>
        <p:pic>
          <p:nvPicPr>
            <p:cNvPr id="183" name="Picture 10" descr="狗被切除小脑后的行动姿势"/>
            <p:cNvPicPr/>
            <p:nvPr/>
          </p:nvPicPr>
          <p:blipFill>
            <a:blip r:embed="rId1"/>
            <a:stretch/>
          </p:blipFill>
          <p:spPr>
            <a:xfrm>
              <a:off x="620640" y="2852640"/>
              <a:ext cx="404424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AutoShape 11"/>
            <p:cNvSpPr/>
            <p:nvPr/>
          </p:nvSpPr>
          <p:spPr>
            <a:xfrm>
              <a:off x="4968360" y="3276720"/>
              <a:ext cx="3738600" cy="1629720"/>
            </a:xfrm>
            <a:prstGeom prst="cloudCallout">
              <a:avLst>
                <a:gd name="adj1" fmla="val -65856"/>
                <a:gd name="adj2" fmla="val 74236"/>
              </a:avLst>
            </a:pr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狗被切除小脑后的行动姿势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9"/>
          <p:cNvSpPr/>
          <p:nvPr/>
        </p:nvSpPr>
        <p:spPr>
          <a:xfrm>
            <a:off x="1725480" y="1368360"/>
            <a:ext cx="56930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小脑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：协调身体运动、维持身体平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3"/>
          <p:cNvSpPr/>
          <p:nvPr/>
        </p:nvSpPr>
        <p:spPr>
          <a:xfrm>
            <a:off x="1339920" y="5113440"/>
            <a:ext cx="309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酒后驾车易出车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4935600" y="5114880"/>
            <a:ext cx="309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酒后走路歪歪斜斜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2" descr=""/>
          <p:cNvPicPr/>
          <p:nvPr/>
        </p:nvPicPr>
        <p:blipFill>
          <a:blip r:embed="rId1"/>
          <a:srcRect l="1890" t="2117" r="6747" b="5537"/>
          <a:stretch/>
        </p:blipFill>
        <p:spPr>
          <a:xfrm>
            <a:off x="1332000" y="2421000"/>
            <a:ext cx="2950920" cy="257184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1" descr=""/>
          <p:cNvPicPr/>
          <p:nvPr/>
        </p:nvPicPr>
        <p:blipFill>
          <a:blip r:embed="rId2"/>
          <a:stretch/>
        </p:blipFill>
        <p:spPr>
          <a:xfrm>
            <a:off x="4624560" y="2421000"/>
            <a:ext cx="3447720" cy="257184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3" descr=""/>
          <p:cNvPicPr/>
          <p:nvPr/>
        </p:nvPicPr>
        <p:blipFill>
          <a:blip r:embed="rId3"/>
          <a:stretch/>
        </p:blipFill>
        <p:spPr>
          <a:xfrm>
            <a:off x="4125960" y="2908440"/>
            <a:ext cx="314280" cy="2664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9"/>
          <p:cNvSpPr/>
          <p:nvPr/>
        </p:nvSpPr>
        <p:spPr>
          <a:xfrm>
            <a:off x="1725480" y="1368360"/>
            <a:ext cx="56930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小脑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：协调身体运动、维持身体平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4013280" y="1274760"/>
            <a:ext cx="944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脑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067280" y="2708280"/>
            <a:ext cx="428148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有专门调节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心跳</a:t>
            </a:r>
            <a:r>
              <a:rPr b="0" lang="zh-CN" sz="2600" spc="-1" strike="noStrike">
                <a:solidFill>
                  <a:srgbClr val="003300"/>
                </a:solidFill>
                <a:latin typeface="黑体"/>
                <a:ea typeface="黑体"/>
              </a:rPr>
              <a:t>、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呼吸</a:t>
            </a:r>
            <a:r>
              <a:rPr b="0" lang="zh-CN" sz="2600" spc="-1" strike="noStrike">
                <a:solidFill>
                  <a:srgbClr val="003300"/>
                </a:solidFill>
                <a:latin typeface="黑体"/>
                <a:ea typeface="黑体"/>
              </a:rPr>
              <a:t>、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血压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等人体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基本生命活动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的部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1" descr=""/>
          <p:cNvPicPr/>
          <p:nvPr/>
        </p:nvPicPr>
        <p:blipFill>
          <a:blip r:embed="rId1"/>
          <a:stretch/>
        </p:blipFill>
        <p:spPr>
          <a:xfrm>
            <a:off x="826920" y="3044880"/>
            <a:ext cx="2687760" cy="2419200"/>
          </a:xfrm>
          <a:prstGeom prst="rect">
            <a:avLst/>
          </a:prstGeom>
          <a:ln w="0">
            <a:noFill/>
          </a:ln>
        </p:spPr>
      </p:pic>
      <p:sp>
        <p:nvSpPr>
          <p:cNvPr id="197" name="直接连接符 6"/>
          <p:cNvSpPr/>
          <p:nvPr/>
        </p:nvSpPr>
        <p:spPr>
          <a:xfrm flipH="1">
            <a:off x="1618920" y="4719600"/>
            <a:ext cx="577800" cy="509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1187280" y="5084640"/>
            <a:ext cx="15130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脑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" descr="未命名脊髓"/>
          <p:cNvPicPr/>
          <p:nvPr/>
        </p:nvPicPr>
        <p:blipFill>
          <a:blip r:embed="rId1"/>
          <a:stretch/>
        </p:blipFill>
        <p:spPr>
          <a:xfrm>
            <a:off x="662040" y="2131920"/>
            <a:ext cx="550800" cy="1816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jishui"/>
          <p:cNvPicPr/>
          <p:nvPr/>
        </p:nvPicPr>
        <p:blipFill>
          <a:blip r:embed="rId2"/>
          <a:stretch/>
        </p:blipFill>
        <p:spPr>
          <a:xfrm>
            <a:off x="5676840" y="4308480"/>
            <a:ext cx="1278000" cy="21286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8"/>
          <p:cNvSpPr/>
          <p:nvPr/>
        </p:nvSpPr>
        <p:spPr>
          <a:xfrm>
            <a:off x="783360" y="2489040"/>
            <a:ext cx="97236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脊髓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1827360" y="2071800"/>
            <a:ext cx="165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反射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1798560" y="3289320"/>
            <a:ext cx="16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传导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1755720" y="2198520"/>
            <a:ext cx="76320" cy="1355760"/>
          </a:xfrm>
          <a:custGeom>
            <a:avLst/>
            <a:gdLst>
              <a:gd name="textAreaLeft" fmla="*/ 48960 w 76320"/>
              <a:gd name="textAreaRight" fmla="*/ 76320 w 76320"/>
              <a:gd name="textAreaTop" fmla="*/ 41760 h 1355760"/>
              <a:gd name="textAreaBottom" fmla="*/ 1314000 h 1355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68"/>
                  <a:pt x="10800" y="2136"/>
                </a:cubicBezTo>
                <a:lnTo>
                  <a:pt x="10800" y="8664"/>
                </a:lnTo>
                <a:cubicBezTo>
                  <a:pt x="10800" y="9732"/>
                  <a:pt x="5400" y="10800"/>
                  <a:pt x="0" y="10800"/>
                </a:cubicBezTo>
                <a:cubicBezTo>
                  <a:pt x="5400" y="10800"/>
                  <a:pt x="10800" y="11868"/>
                  <a:pt x="10800" y="12936"/>
                </a:cubicBezTo>
                <a:lnTo>
                  <a:pt x="10800" y="19464"/>
                </a:lnTo>
                <a:cubicBezTo>
                  <a:pt x="10800" y="2053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2916360" y="2000160"/>
            <a:ext cx="540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对外界或体内的刺激产生有规律的反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2916360" y="3259080"/>
            <a:ext cx="540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能将对这些刺激的反应传导到大脑，是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脑与躯干、内脏之间的联系通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374760" y="896760"/>
            <a:ext cx="324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脊髓的结构和功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971640" y="1773360"/>
            <a:ext cx="7416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脊髓里的神经中枢，是受大脑控制的，人能有意识地控制排便和排尿就是一个例证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幼儿因大脑的发育尚未完善，对排尿的控制能力较弱，所以排尿次数多，而且容易发生夜间遗尿现象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414360" y="3278160"/>
            <a:ext cx="5461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920880" y="2682720"/>
            <a:ext cx="164880" cy="2698920"/>
          </a:xfrm>
          <a:custGeom>
            <a:avLst/>
            <a:gdLst>
              <a:gd name="textAreaLeft" fmla="*/ 105480 w 164880"/>
              <a:gd name="textAreaRight" fmla="*/ 165240 w 164880"/>
              <a:gd name="textAreaTop" fmla="*/ 39960 h 2698920"/>
              <a:gd name="textAreaBottom" fmla="*/ 2658960 h 269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15"/>
                  <a:pt x="10800" y="1030"/>
                </a:cubicBezTo>
                <a:lnTo>
                  <a:pt x="10800" y="9770"/>
                </a:lnTo>
                <a:cubicBezTo>
                  <a:pt x="10800" y="10285"/>
                  <a:pt x="5400" y="10800"/>
                  <a:pt x="0" y="10800"/>
                </a:cubicBezTo>
                <a:cubicBezTo>
                  <a:pt x="5400" y="10800"/>
                  <a:pt x="10800" y="11315"/>
                  <a:pt x="10800" y="11830"/>
                </a:cubicBezTo>
                <a:lnTo>
                  <a:pt x="10800" y="20570"/>
                </a:lnTo>
                <a:cubicBezTo>
                  <a:pt x="10800" y="2108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052640" y="25131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中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1116000" y="48020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周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2214720" y="1940040"/>
            <a:ext cx="301320" cy="1871640"/>
          </a:xfrm>
          <a:custGeom>
            <a:avLst/>
            <a:gdLst>
              <a:gd name="textAreaLeft" fmla="*/ 192600 w 301320"/>
              <a:gd name="textAreaRight" fmla="*/ 301680 w 301320"/>
              <a:gd name="textAreaTop" fmla="*/ 43920 h 1871640"/>
              <a:gd name="textAreaBottom" fmla="*/ 182772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0"/>
                  <a:pt x="10800" y="1620"/>
                </a:cubicBezTo>
                <a:lnTo>
                  <a:pt x="10800" y="9180"/>
                </a:lnTo>
                <a:cubicBezTo>
                  <a:pt x="10800" y="9990"/>
                  <a:pt x="5400" y="10800"/>
                  <a:pt x="0" y="10800"/>
                </a:cubicBezTo>
                <a:cubicBezTo>
                  <a:pt x="5400" y="10800"/>
                  <a:pt x="10800" y="11610"/>
                  <a:pt x="10800" y="12420"/>
                </a:cubicBezTo>
                <a:lnTo>
                  <a:pt x="10800" y="19980"/>
                </a:lnTo>
                <a:cubicBezTo>
                  <a:pt x="10800" y="2079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2567160" y="1782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2487600" y="35067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脊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3114720" y="1343160"/>
            <a:ext cx="287280" cy="161748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617480"/>
              <a:gd name="textAreaBottom" fmla="*/ 1589400 h 161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05"/>
                  <a:pt x="10800" y="1209"/>
                </a:cubicBezTo>
                <a:lnTo>
                  <a:pt x="10800" y="9591"/>
                </a:lnTo>
                <a:cubicBezTo>
                  <a:pt x="10800" y="10196"/>
                  <a:pt x="5400" y="10800"/>
                  <a:pt x="0" y="10800"/>
                </a:cubicBezTo>
                <a:cubicBezTo>
                  <a:pt x="5400" y="10800"/>
                  <a:pt x="10800" y="11405"/>
                  <a:pt x="10800" y="12009"/>
                </a:cubicBezTo>
                <a:lnTo>
                  <a:pt x="10800" y="20391"/>
                </a:lnTo>
                <a:cubicBezTo>
                  <a:pt x="10800" y="2099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3402000" y="1062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大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3330720" y="1862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339084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脑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3"/>
          <p:cNvSpPr/>
          <p:nvPr/>
        </p:nvSpPr>
        <p:spPr>
          <a:xfrm>
            <a:off x="2406600" y="4765680"/>
            <a:ext cx="220680" cy="1114560"/>
          </a:xfrm>
          <a:custGeom>
            <a:avLst/>
            <a:gdLst>
              <a:gd name="textAreaLeft" fmla="*/ 141120 w 220680"/>
              <a:gd name="textAreaRight" fmla="*/ 221040 w 220680"/>
              <a:gd name="textAreaTop" fmla="*/ 33120 h 1114560"/>
              <a:gd name="textAreaBottom" fmla="*/ 1081440 h 111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1"/>
                  <a:pt x="10800" y="2062"/>
                </a:cubicBezTo>
                <a:lnTo>
                  <a:pt x="10800" y="8738"/>
                </a:lnTo>
                <a:cubicBezTo>
                  <a:pt x="10800" y="9769"/>
                  <a:pt x="5400" y="10800"/>
                  <a:pt x="0" y="10800"/>
                </a:cubicBezTo>
                <a:cubicBezTo>
                  <a:pt x="5400" y="10800"/>
                  <a:pt x="10800" y="11831"/>
                  <a:pt x="10800" y="12862"/>
                </a:cubicBezTo>
                <a:lnTo>
                  <a:pt x="10800" y="19538"/>
                </a:lnTo>
                <a:cubicBezTo>
                  <a:pt x="10800" y="2056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2649600" y="46814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脑神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2649600" y="5513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脊神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3360600" y="3478320"/>
            <a:ext cx="5410440" cy="459720"/>
          </a:xfrm>
          <a:prstGeom prst="rect">
            <a:avLst/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灰质内的神经中枢，控制着一些简单的、低级的生命活动，如人的排便、排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4245120" y="1886040"/>
            <a:ext cx="4267080" cy="459720"/>
          </a:xfrm>
          <a:prstGeom prst="rect">
            <a:avLst/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维持身体平衡和动作的协调性及准确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4249800" y="2808360"/>
            <a:ext cx="3570120" cy="459720"/>
          </a:xfrm>
          <a:prstGeom prst="rect">
            <a:avLst/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控制循环系统、呼吸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6"/>
          <p:cNvSpPr/>
          <p:nvPr/>
        </p:nvSpPr>
        <p:spPr>
          <a:xfrm>
            <a:off x="4245120" y="961920"/>
            <a:ext cx="4195440" cy="459720"/>
          </a:xfrm>
          <a:prstGeom prst="rect">
            <a:avLst/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大脑皮层有许多调节人体生命活动的最高级中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1"/>
          <p:cNvSpPr/>
          <p:nvPr/>
        </p:nvSpPr>
        <p:spPr>
          <a:xfrm>
            <a:off x="3797280" y="4697280"/>
            <a:ext cx="2070000" cy="459720"/>
          </a:xfrm>
          <a:prstGeom prst="rect">
            <a:avLst/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传导神经冲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1"/>
          <p:cNvSpPr/>
          <p:nvPr/>
        </p:nvSpPr>
        <p:spPr>
          <a:xfrm>
            <a:off x="3781440" y="5559480"/>
            <a:ext cx="2214720" cy="459720"/>
          </a:xfrm>
          <a:prstGeom prst="rect">
            <a:avLst/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传导神经冲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512720" y="3070080"/>
            <a:ext cx="2544840" cy="26146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2" descr=""/>
          <p:cNvPicPr/>
          <p:nvPr/>
        </p:nvPicPr>
        <p:blipFill>
          <a:blip r:embed="rId2"/>
          <a:stretch/>
        </p:blipFill>
        <p:spPr>
          <a:xfrm>
            <a:off x="4403880" y="3070080"/>
            <a:ext cx="3527280" cy="2576520"/>
          </a:xfrm>
          <a:prstGeom prst="rect">
            <a:avLst/>
          </a:prstGeom>
          <a:ln w="0">
            <a:noFill/>
          </a:ln>
        </p:spPr>
      </p:pic>
      <p:sp>
        <p:nvSpPr>
          <p:cNvPr id="45" name="矩形 3"/>
          <p:cNvSpPr/>
          <p:nvPr/>
        </p:nvSpPr>
        <p:spPr>
          <a:xfrm>
            <a:off x="1011240" y="1120680"/>
            <a:ext cx="71200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弯道骑车，靠的是自信和勇敢；而保持车身的平衡，是神经调节的结果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8" descr="http://dl.zhishi.sina.com.cn/upload/41/47/15/1510414715.13526139.jpg"/>
          <p:cNvPicPr/>
          <p:nvPr/>
        </p:nvPicPr>
        <p:blipFill>
          <a:blip r:embed="rId1"/>
          <a:srcRect l="1233" t="0" r="0" b="0"/>
          <a:stretch/>
        </p:blipFill>
        <p:spPr>
          <a:xfrm>
            <a:off x="5078520" y="3397320"/>
            <a:ext cx="2498760" cy="20192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8"/>
          <p:cNvSpPr/>
          <p:nvPr/>
        </p:nvSpPr>
        <p:spPr>
          <a:xfrm>
            <a:off x="4210200" y="1647720"/>
            <a:ext cx="1140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观察讨论</a:t>
            </a:r>
            <a:r>
              <a:rPr b="0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图片 1" descr=""/>
          <p:cNvPicPr/>
          <p:nvPr/>
        </p:nvPicPr>
        <p:blipFill>
          <a:blip r:embed="rId2"/>
          <a:stretch/>
        </p:blipFill>
        <p:spPr>
          <a:xfrm flipH="1" rot="693600">
            <a:off x="3215880" y="1345680"/>
            <a:ext cx="942840" cy="942840"/>
          </a:xfrm>
          <a:prstGeom prst="rect">
            <a:avLst/>
          </a:prstGeom>
          <a:ln w="0">
            <a:noFill/>
          </a:ln>
        </p:spPr>
      </p:pic>
      <p:sp>
        <p:nvSpPr>
          <p:cNvPr id="236" name="矩形 8"/>
          <p:cNvSpPr/>
          <p:nvPr/>
        </p:nvSpPr>
        <p:spPr>
          <a:xfrm>
            <a:off x="3093840" y="2432160"/>
            <a:ext cx="2954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神经细胞与一般细胞有何异同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图片 1" descr=""/>
          <p:cNvPicPr/>
          <p:nvPr/>
        </p:nvPicPr>
        <p:blipFill>
          <a:blip r:embed="rId3"/>
          <a:stretch/>
        </p:blipFill>
        <p:spPr>
          <a:xfrm>
            <a:off x="1641600" y="3348000"/>
            <a:ext cx="2711160" cy="2016000"/>
          </a:xfrm>
          <a:prstGeom prst="rect">
            <a:avLst/>
          </a:prstGeom>
          <a:ln w="0">
            <a:noFill/>
          </a:ln>
        </p:spPr>
      </p:pic>
      <p:sp>
        <p:nvSpPr>
          <p:cNvPr id="238" name="矩形 7"/>
          <p:cNvSpPr/>
          <p:nvPr/>
        </p:nvSpPr>
        <p:spPr>
          <a:xfrm>
            <a:off x="2335320" y="5416560"/>
            <a:ext cx="136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口腔上皮细胞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8"/>
          <p:cNvSpPr/>
          <p:nvPr/>
        </p:nvSpPr>
        <p:spPr>
          <a:xfrm>
            <a:off x="5945040" y="541656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神经细胞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6147"/>
          <p:cNvGrpSpPr/>
          <p:nvPr/>
        </p:nvGrpSpPr>
        <p:grpSpPr>
          <a:xfrm>
            <a:off x="490680" y="639720"/>
            <a:ext cx="2232000" cy="806760"/>
            <a:chOff x="490680" y="639720"/>
            <a:chExt cx="2232000" cy="806760"/>
          </a:xfrm>
        </p:grpSpPr>
        <p:sp>
          <p:nvSpPr>
            <p:cNvPr id="241" name="矩形 7"/>
            <p:cNvSpPr/>
            <p:nvPr/>
          </p:nvSpPr>
          <p:spPr>
            <a:xfrm>
              <a:off x="1050480" y="639720"/>
              <a:ext cx="1672200" cy="75996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任意多边形 16"/>
            <p:cNvSpPr/>
            <p:nvPr/>
          </p:nvSpPr>
          <p:spPr>
            <a:xfrm>
              <a:off x="490680" y="927000"/>
              <a:ext cx="524160" cy="4813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矩形 17"/>
            <p:cNvSpPr/>
            <p:nvPr/>
          </p:nvSpPr>
          <p:spPr>
            <a:xfrm>
              <a:off x="852480" y="87660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6151"/>
            <p:cNvSpPr/>
            <p:nvPr/>
          </p:nvSpPr>
          <p:spPr>
            <a:xfrm>
              <a:off x="1262520" y="9133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800" spc="-1" strike="noStrike">
                  <a:solidFill>
                    <a:srgbClr val="385723"/>
                  </a:solidFill>
                  <a:latin typeface="微软雅黑"/>
                  <a:ea typeface="微软雅黑"/>
                </a:rPr>
                <a:t>神经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6152"/>
            <p:cNvSpPr/>
            <p:nvPr/>
          </p:nvSpPr>
          <p:spPr>
            <a:xfrm>
              <a:off x="490680" y="92592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神经元"/>
          <p:cNvPicPr/>
          <p:nvPr/>
        </p:nvPicPr>
        <p:blipFill>
          <a:blip r:embed="rId1"/>
          <a:stretch/>
        </p:blipFill>
        <p:spPr>
          <a:xfrm>
            <a:off x="3630600" y="2108160"/>
            <a:ext cx="4008600" cy="355932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4"/>
          <p:cNvGrpSpPr/>
          <p:nvPr/>
        </p:nvGrpSpPr>
        <p:grpSpPr>
          <a:xfrm>
            <a:off x="1166760" y="2592360"/>
            <a:ext cx="3277440" cy="489960"/>
            <a:chOff x="1166760" y="2592360"/>
            <a:chExt cx="3277440" cy="489960"/>
          </a:xfrm>
        </p:grpSpPr>
        <p:sp>
          <p:nvSpPr>
            <p:cNvPr id="249" name="Rectangle 5"/>
            <p:cNvSpPr/>
            <p:nvPr/>
          </p:nvSpPr>
          <p:spPr>
            <a:xfrm>
              <a:off x="1166760" y="2592360"/>
              <a:ext cx="1843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细胞体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6"/>
            <p:cNvSpPr/>
            <p:nvPr/>
          </p:nvSpPr>
          <p:spPr>
            <a:xfrm flipH="1">
              <a:off x="2770560" y="2892600"/>
              <a:ext cx="167364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7"/>
          <p:cNvGrpSpPr/>
          <p:nvPr/>
        </p:nvGrpSpPr>
        <p:grpSpPr>
          <a:xfrm>
            <a:off x="2119320" y="3814920"/>
            <a:ext cx="1837440" cy="489960"/>
            <a:chOff x="2119320" y="3814920"/>
            <a:chExt cx="1837440" cy="489960"/>
          </a:xfrm>
        </p:grpSpPr>
        <p:sp>
          <p:nvSpPr>
            <p:cNvPr id="252" name="Rectangle 8"/>
            <p:cNvSpPr/>
            <p:nvPr/>
          </p:nvSpPr>
          <p:spPr>
            <a:xfrm>
              <a:off x="2119320" y="3814920"/>
              <a:ext cx="1603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树突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9"/>
            <p:cNvSpPr/>
            <p:nvPr/>
          </p:nvSpPr>
          <p:spPr>
            <a:xfrm flipH="1">
              <a:off x="3176280" y="4119840"/>
              <a:ext cx="7804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10"/>
          <p:cNvGrpSpPr/>
          <p:nvPr/>
        </p:nvGrpSpPr>
        <p:grpSpPr>
          <a:xfrm>
            <a:off x="2187720" y="4675320"/>
            <a:ext cx="2118960" cy="489960"/>
            <a:chOff x="2187720" y="4675320"/>
            <a:chExt cx="2118960" cy="489960"/>
          </a:xfrm>
        </p:grpSpPr>
        <p:sp>
          <p:nvSpPr>
            <p:cNvPr id="255" name="Rectangle 11"/>
            <p:cNvSpPr/>
            <p:nvPr/>
          </p:nvSpPr>
          <p:spPr>
            <a:xfrm>
              <a:off x="2187720" y="4675320"/>
              <a:ext cx="166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轴突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2"/>
            <p:cNvSpPr/>
            <p:nvPr/>
          </p:nvSpPr>
          <p:spPr>
            <a:xfrm flipH="1">
              <a:off x="3087360" y="4980240"/>
              <a:ext cx="12193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13"/>
          <p:cNvGrpSpPr/>
          <p:nvPr/>
        </p:nvGrpSpPr>
        <p:grpSpPr>
          <a:xfrm>
            <a:off x="387000" y="2728800"/>
            <a:ext cx="757080" cy="2057400"/>
            <a:chOff x="387000" y="2728800"/>
            <a:chExt cx="757080" cy="2057400"/>
          </a:xfrm>
        </p:grpSpPr>
        <p:sp>
          <p:nvSpPr>
            <p:cNvPr id="258" name="AutoShape 14"/>
            <p:cNvSpPr/>
            <p:nvPr/>
          </p:nvSpPr>
          <p:spPr>
            <a:xfrm>
              <a:off x="963360" y="2728800"/>
              <a:ext cx="180720" cy="2057400"/>
            </a:xfrm>
            <a:custGeom>
              <a:avLst/>
              <a:gdLst>
                <a:gd name="textAreaLeft" fmla="*/ 115560 w 180720"/>
                <a:gd name="textAreaRight" fmla="*/ 181080 w 180720"/>
                <a:gd name="textAreaTop" fmla="*/ 53280 h 2057400"/>
                <a:gd name="textAreaBottom" fmla="*/ 200412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15"/>
            <p:cNvSpPr/>
            <p:nvPr/>
          </p:nvSpPr>
          <p:spPr>
            <a:xfrm>
              <a:off x="387000" y="3083400"/>
              <a:ext cx="576360" cy="14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神经元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16"/>
          <p:cNvGrpSpPr/>
          <p:nvPr/>
        </p:nvGrpSpPr>
        <p:grpSpPr>
          <a:xfrm>
            <a:off x="1093680" y="4033800"/>
            <a:ext cx="1600200" cy="1066680"/>
            <a:chOff x="1093680" y="4033800"/>
            <a:chExt cx="1600200" cy="1066680"/>
          </a:xfrm>
        </p:grpSpPr>
        <p:sp>
          <p:nvSpPr>
            <p:cNvPr id="261" name="AutoShape 17"/>
            <p:cNvSpPr/>
            <p:nvPr/>
          </p:nvSpPr>
          <p:spPr>
            <a:xfrm>
              <a:off x="1976400" y="4033800"/>
              <a:ext cx="152280" cy="10666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5840 h 1066680"/>
                <a:gd name="textAreaBottom" fmla="*/ 10508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513"/>
                    <a:pt x="10800" y="1026"/>
                  </a:cubicBezTo>
                  <a:lnTo>
                    <a:pt x="10800" y="9774"/>
                  </a:lnTo>
                  <a:cubicBezTo>
                    <a:pt x="10800" y="10287"/>
                    <a:pt x="5400" y="10800"/>
                    <a:pt x="0" y="10800"/>
                  </a:cubicBezTo>
                  <a:cubicBezTo>
                    <a:pt x="5400" y="10800"/>
                    <a:pt x="10800" y="11313"/>
                    <a:pt x="10800" y="11826"/>
                  </a:cubicBezTo>
                  <a:lnTo>
                    <a:pt x="10800" y="20574"/>
                  </a:lnTo>
                  <a:cubicBezTo>
                    <a:pt x="10800" y="21087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8"/>
            <p:cNvSpPr/>
            <p:nvPr/>
          </p:nvSpPr>
          <p:spPr>
            <a:xfrm>
              <a:off x="1093680" y="4262400"/>
              <a:ext cx="1600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突起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19"/>
          <p:cNvGrpSpPr/>
          <p:nvPr/>
        </p:nvGrpSpPr>
        <p:grpSpPr>
          <a:xfrm>
            <a:off x="6229440" y="1773360"/>
            <a:ext cx="2271240" cy="3012120"/>
            <a:chOff x="6229440" y="1773360"/>
            <a:chExt cx="2271240" cy="3012120"/>
          </a:xfrm>
        </p:grpSpPr>
        <p:sp>
          <p:nvSpPr>
            <p:cNvPr id="264" name="Text Box 20"/>
            <p:cNvSpPr/>
            <p:nvPr/>
          </p:nvSpPr>
          <p:spPr>
            <a:xfrm>
              <a:off x="7924320" y="1773360"/>
              <a:ext cx="576360" cy="24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神经纤维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2"/>
            <p:cNvSpPr/>
            <p:nvPr/>
          </p:nvSpPr>
          <p:spPr>
            <a:xfrm flipV="1">
              <a:off x="6229440" y="2870640"/>
              <a:ext cx="1661760" cy="19148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23"/>
          <p:cNvGrpSpPr/>
          <p:nvPr/>
        </p:nvGrpSpPr>
        <p:grpSpPr>
          <a:xfrm>
            <a:off x="7539120" y="3529080"/>
            <a:ext cx="928440" cy="2428920"/>
            <a:chOff x="7539120" y="3529080"/>
            <a:chExt cx="928440" cy="2428920"/>
          </a:xfrm>
        </p:grpSpPr>
        <p:sp>
          <p:nvSpPr>
            <p:cNvPr id="267" name="Text Box 24"/>
            <p:cNvSpPr/>
            <p:nvPr/>
          </p:nvSpPr>
          <p:spPr>
            <a:xfrm>
              <a:off x="7891200" y="3595680"/>
              <a:ext cx="57636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神经末梢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25"/>
            <p:cNvSpPr/>
            <p:nvPr/>
          </p:nvSpPr>
          <p:spPr>
            <a:xfrm>
              <a:off x="7539120" y="3529080"/>
              <a:ext cx="344520" cy="12096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6"/>
            <p:cNvSpPr/>
            <p:nvPr/>
          </p:nvSpPr>
          <p:spPr>
            <a:xfrm flipV="1">
              <a:off x="7539120" y="4756320"/>
              <a:ext cx="317520" cy="4190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Line 30"/>
          <p:cNvSpPr/>
          <p:nvPr/>
        </p:nvSpPr>
        <p:spPr>
          <a:xfrm>
            <a:off x="3548160" y="5958000"/>
            <a:ext cx="892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3990960" y="3760920"/>
            <a:ext cx="3830760" cy="489960"/>
          </a:xfrm>
          <a:prstGeom prst="rect">
            <a:avLst/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较短而分支多，接受信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3087720" y="4678200"/>
            <a:ext cx="3990960" cy="489960"/>
          </a:xfrm>
          <a:prstGeom prst="rect">
            <a:avLst/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只有</a:t>
            </a:r>
            <a:r>
              <a:rPr b="0" lang="en-US" sz="2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个，较长，传导信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标题 8"/>
          <p:cNvSpPr/>
          <p:nvPr/>
        </p:nvSpPr>
        <p:spPr>
          <a:xfrm>
            <a:off x="2940120" y="1050840"/>
            <a:ext cx="334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神经元的结构和功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图片 1" descr=""/>
          <p:cNvPicPr/>
          <p:nvPr/>
        </p:nvPicPr>
        <p:blipFill>
          <a:blip r:embed="rId1"/>
          <a:srcRect l="0" t="3885" r="0" b="0"/>
          <a:stretch/>
        </p:blipFill>
        <p:spPr>
          <a:xfrm>
            <a:off x="3132000" y="1628640"/>
            <a:ext cx="1851120" cy="33228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"/>
          <p:cNvSpPr/>
          <p:nvPr/>
        </p:nvSpPr>
        <p:spPr>
          <a:xfrm>
            <a:off x="5870520" y="412272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神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5383080" y="1440000"/>
            <a:ext cx="2894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神经纤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"/>
          <p:cNvSpPr/>
          <p:nvPr/>
        </p:nvSpPr>
        <p:spPr>
          <a:xfrm>
            <a:off x="4425840" y="1701720"/>
            <a:ext cx="1584360" cy="0"/>
          </a:xfrm>
          <a:prstGeom prst="line">
            <a:avLst/>
          </a:prstGeom>
          <a:ln w="2844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6"/>
          <p:cNvSpPr/>
          <p:nvPr/>
        </p:nvSpPr>
        <p:spPr>
          <a:xfrm>
            <a:off x="4613400" y="4386240"/>
            <a:ext cx="1584360" cy="0"/>
          </a:xfrm>
          <a:prstGeom prst="line">
            <a:avLst/>
          </a:prstGeom>
          <a:ln w="2844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1135080" y="5525640"/>
            <a:ext cx="6873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神经与神经纤维的关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sjy"/>
          <p:cNvPicPr/>
          <p:nvPr/>
        </p:nvPicPr>
        <p:blipFill>
          <a:blip r:embed="rId1"/>
          <a:stretch/>
        </p:blipFill>
        <p:spPr>
          <a:xfrm>
            <a:off x="1852560" y="2181240"/>
            <a:ext cx="4705560" cy="31352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1085760" y="1484280"/>
            <a:ext cx="126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功能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2195640" y="1484280"/>
            <a:ext cx="435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接受刺激，产生并传导兴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976320" y="4964040"/>
            <a:ext cx="129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树突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7"/>
          <p:cNvSpPr/>
          <p:nvPr/>
        </p:nvSpPr>
        <p:spPr>
          <a:xfrm>
            <a:off x="1890720" y="5207040"/>
            <a:ext cx="457200" cy="1440"/>
          </a:xfrm>
          <a:prstGeom prst="line">
            <a:avLst/>
          </a:prstGeom>
          <a:ln w="38160">
            <a:solidFill>
              <a:srgbClr val="0d0d0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2347920" y="496404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细胞体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9"/>
          <p:cNvSpPr/>
          <p:nvPr/>
        </p:nvSpPr>
        <p:spPr>
          <a:xfrm>
            <a:off x="3573360" y="5208480"/>
            <a:ext cx="457200" cy="1800"/>
          </a:xfrm>
          <a:prstGeom prst="line">
            <a:avLst/>
          </a:prstGeom>
          <a:ln w="38160">
            <a:solidFill>
              <a:srgbClr val="0d0d0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4176720" y="496404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轴突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376200" y="552924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（接受信息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3970440" y="5549760"/>
            <a:ext cx="136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（传导信息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5548320" y="4930920"/>
            <a:ext cx="3308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下个神经元的树突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9"/>
          <p:cNvSpPr/>
          <p:nvPr/>
        </p:nvSpPr>
        <p:spPr>
          <a:xfrm>
            <a:off x="5091120" y="5208480"/>
            <a:ext cx="457200" cy="1800"/>
          </a:xfrm>
          <a:prstGeom prst="line">
            <a:avLst/>
          </a:prstGeom>
          <a:ln w="38160">
            <a:solidFill>
              <a:srgbClr val="0d0d0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8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utoShape 3"/>
          <p:cNvSpPr/>
          <p:nvPr/>
        </p:nvSpPr>
        <p:spPr>
          <a:xfrm>
            <a:off x="3692520" y="2486160"/>
            <a:ext cx="252360" cy="1915920"/>
          </a:xfrm>
          <a:custGeom>
            <a:avLst/>
            <a:gdLst>
              <a:gd name="textAreaLeft" fmla="*/ 161280 w 252360"/>
              <a:gd name="textAreaRight" fmla="*/ 252720 w 252360"/>
              <a:gd name="textAreaTop" fmla="*/ 61560 h 1915920"/>
              <a:gd name="textAreaBottom" fmla="*/ 1854360 h 191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3"/>
                  <a:pt x="10800" y="2226"/>
                </a:cubicBezTo>
                <a:lnTo>
                  <a:pt x="10800" y="8574"/>
                </a:lnTo>
                <a:cubicBezTo>
                  <a:pt x="10800" y="9687"/>
                  <a:pt x="5400" y="10800"/>
                  <a:pt x="0" y="10800"/>
                </a:cubicBezTo>
                <a:cubicBezTo>
                  <a:pt x="5400" y="10800"/>
                  <a:pt x="10800" y="11913"/>
                  <a:pt x="10800" y="13026"/>
                </a:cubicBezTo>
                <a:lnTo>
                  <a:pt x="10800" y="19374"/>
                </a:lnTo>
                <a:cubicBezTo>
                  <a:pt x="10800" y="2048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3927600" y="2131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中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944880" y="3814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周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4992840" y="1789200"/>
            <a:ext cx="230040" cy="1369800"/>
          </a:xfrm>
          <a:custGeom>
            <a:avLst/>
            <a:gdLst>
              <a:gd name="textAreaLeft" fmla="*/ 146880 w 230040"/>
              <a:gd name="textAreaRight" fmla="*/ 230400 w 230040"/>
              <a:gd name="textAreaTop" fmla="*/ 33480 h 1369800"/>
              <a:gd name="textAreaBottom" fmla="*/ 1336320 h 136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46"/>
                  <a:pt x="10800" y="1692"/>
                </a:cubicBezTo>
                <a:lnTo>
                  <a:pt x="10800" y="9108"/>
                </a:lnTo>
                <a:cubicBezTo>
                  <a:pt x="10800" y="9954"/>
                  <a:pt x="5400" y="10800"/>
                  <a:pt x="0" y="10800"/>
                </a:cubicBezTo>
                <a:cubicBezTo>
                  <a:pt x="5400" y="10800"/>
                  <a:pt x="10800" y="11646"/>
                  <a:pt x="10800" y="12492"/>
                </a:cubicBezTo>
                <a:lnTo>
                  <a:pt x="10800" y="19908"/>
                </a:lnTo>
                <a:cubicBezTo>
                  <a:pt x="10800" y="2075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5259240" y="1684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5154480" y="2697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脊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5857920" y="1319040"/>
            <a:ext cx="183960" cy="1144800"/>
          </a:xfrm>
          <a:custGeom>
            <a:avLst/>
            <a:gdLst>
              <a:gd name="textAreaLeft" fmla="*/ 117720 w 183960"/>
              <a:gd name="textAreaRight" fmla="*/ 184320 w 183960"/>
              <a:gd name="textAreaTop" fmla="*/ 18000 h 1144800"/>
              <a:gd name="textAreaBottom" fmla="*/ 1126800 h 114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49"/>
                  <a:pt x="10800" y="1098"/>
                </a:cubicBezTo>
                <a:lnTo>
                  <a:pt x="10800" y="9702"/>
                </a:lnTo>
                <a:cubicBezTo>
                  <a:pt x="10800" y="10251"/>
                  <a:pt x="5400" y="10800"/>
                  <a:pt x="0" y="10800"/>
                </a:cubicBezTo>
                <a:cubicBezTo>
                  <a:pt x="5400" y="10800"/>
                  <a:pt x="10800" y="11349"/>
                  <a:pt x="10800" y="11898"/>
                </a:cubicBezTo>
                <a:lnTo>
                  <a:pt x="10800" y="20502"/>
                </a:lnTo>
                <a:cubicBezTo>
                  <a:pt x="10800" y="2105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6068880" y="11588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大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6041880" y="16178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6059520" y="20750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脑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3"/>
          <p:cNvSpPr/>
          <p:nvPr/>
        </p:nvSpPr>
        <p:spPr>
          <a:xfrm>
            <a:off x="5016600" y="3768840"/>
            <a:ext cx="137880" cy="817560"/>
          </a:xfrm>
          <a:custGeom>
            <a:avLst/>
            <a:gdLst>
              <a:gd name="textAreaLeft" fmla="*/ 88200 w 137880"/>
              <a:gd name="textAreaRight" fmla="*/ 138240 w 137880"/>
              <a:gd name="textAreaTop" fmla="*/ 20520 h 817560"/>
              <a:gd name="textAreaBottom" fmla="*/ 797040 h 81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74"/>
                  <a:pt x="10800" y="1748"/>
                </a:cubicBezTo>
                <a:lnTo>
                  <a:pt x="10800" y="9052"/>
                </a:lnTo>
                <a:cubicBezTo>
                  <a:pt x="10800" y="9926"/>
                  <a:pt x="5400" y="10800"/>
                  <a:pt x="0" y="10800"/>
                </a:cubicBezTo>
                <a:cubicBezTo>
                  <a:pt x="5400" y="10800"/>
                  <a:pt x="10800" y="11674"/>
                  <a:pt x="10800" y="12548"/>
                </a:cubicBezTo>
                <a:lnTo>
                  <a:pt x="10800" y="19852"/>
                </a:lnTo>
                <a:cubicBezTo>
                  <a:pt x="10800" y="2072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5106960" y="3641760"/>
            <a:ext cx="1098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脑神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5094360" y="41702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脊神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16"/>
          <p:cNvSpPr/>
          <p:nvPr/>
        </p:nvSpPr>
        <p:spPr>
          <a:xfrm>
            <a:off x="2031840" y="3159000"/>
            <a:ext cx="14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17"/>
          <p:cNvSpPr/>
          <p:nvPr/>
        </p:nvSpPr>
        <p:spPr>
          <a:xfrm>
            <a:off x="1936800" y="4848120"/>
            <a:ext cx="638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元：是神经系统结构和功能的基本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3"/>
          <p:cNvSpPr/>
          <p:nvPr/>
        </p:nvSpPr>
        <p:spPr>
          <a:xfrm>
            <a:off x="1562040" y="3400560"/>
            <a:ext cx="312840" cy="1674720"/>
          </a:xfrm>
          <a:custGeom>
            <a:avLst/>
            <a:gdLst>
              <a:gd name="textAreaLeft" fmla="*/ 199800 w 312840"/>
              <a:gd name="textAreaRight" fmla="*/ 313200 w 312840"/>
              <a:gd name="textAreaTop" fmla="*/ 76320 h 1674720"/>
              <a:gd name="textAreaBottom" fmla="*/ 1598400 h 167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74"/>
                  <a:pt x="10800" y="3148"/>
                </a:cubicBezTo>
                <a:lnTo>
                  <a:pt x="10800" y="7652"/>
                </a:lnTo>
                <a:cubicBezTo>
                  <a:pt x="10800" y="9226"/>
                  <a:pt x="5400" y="10800"/>
                  <a:pt x="0" y="10800"/>
                </a:cubicBezTo>
                <a:cubicBezTo>
                  <a:pt x="5400" y="10800"/>
                  <a:pt x="10800" y="12374"/>
                  <a:pt x="10800" y="13948"/>
                </a:cubicBezTo>
                <a:lnTo>
                  <a:pt x="10800" y="18452"/>
                </a:lnTo>
                <a:cubicBezTo>
                  <a:pt x="10800" y="2002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2"/>
          <p:cNvSpPr/>
          <p:nvPr/>
        </p:nvSpPr>
        <p:spPr>
          <a:xfrm>
            <a:off x="717480" y="2838600"/>
            <a:ext cx="70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系统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960480" y="1341360"/>
            <a:ext cx="698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脑中风病人发生脑部溢血后不能说话，很可能是因溢血压迫了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脑语言中枢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大脑语言中枢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脑干语言中枢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脊髓语言中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3063960" y="20750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973080" y="3575160"/>
            <a:ext cx="67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某人喝醉了酒，走路摇晃，站立不稳，说明酒精麻痹了脑中的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大脑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脑干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脑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脑神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3443400" y="42991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1"/>
          <p:cNvSpPr/>
          <p:nvPr/>
        </p:nvSpPr>
        <p:spPr>
          <a:xfrm>
            <a:off x="1294560" y="892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、选择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3"/>
          <p:cNvSpPr/>
          <p:nvPr/>
        </p:nvSpPr>
        <p:spPr>
          <a:xfrm>
            <a:off x="539640" y="1438200"/>
            <a:ext cx="80010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系统包括脑和脊髓两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元包括细胞体和突起两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枢神经系统是大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元的功能是接受刺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是神经系统结构和功能的基本单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5488200" y="1593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5759280" y="2341440"/>
            <a:ext cx="48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4175640" y="3041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9"/>
          <p:cNvSpPr/>
          <p:nvPr/>
        </p:nvSpPr>
        <p:spPr>
          <a:xfrm>
            <a:off x="4942440" y="3805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6745680" y="44737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1"/>
          <p:cNvSpPr/>
          <p:nvPr/>
        </p:nvSpPr>
        <p:spPr>
          <a:xfrm>
            <a:off x="1623960" y="8748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判断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内容占位符 2"/>
          <p:cNvSpPr/>
          <p:nvPr/>
        </p:nvSpPr>
        <p:spPr>
          <a:xfrm>
            <a:off x="719280" y="2276640"/>
            <a:ext cx="770544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描述人体神经系统的组成和功能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描述神经元的结构和功能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说明人体各部分的协调动作主要靠神经系统的调节来实现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"/>
          <p:cNvSpPr/>
          <p:nvPr/>
        </p:nvSpPr>
        <p:spPr>
          <a:xfrm>
            <a:off x="3614760" y="1463760"/>
            <a:ext cx="16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1665360" y="3679920"/>
            <a:ext cx="41767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症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病变部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推测发病原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863640" y="2033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以下三个方面分析教材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87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页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想一想，议一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资料分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的三个病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6147"/>
          <p:cNvGrpSpPr/>
          <p:nvPr/>
        </p:nvGrpSpPr>
        <p:grpSpPr>
          <a:xfrm>
            <a:off x="490680" y="639720"/>
            <a:ext cx="2730240" cy="807120"/>
            <a:chOff x="490680" y="639720"/>
            <a:chExt cx="2730240" cy="807120"/>
          </a:xfrm>
        </p:grpSpPr>
        <p:sp>
          <p:nvSpPr>
            <p:cNvPr id="53" name="矩形 7"/>
            <p:cNvSpPr/>
            <p:nvPr/>
          </p:nvSpPr>
          <p:spPr>
            <a:xfrm>
              <a:off x="1050480" y="639720"/>
              <a:ext cx="1671840" cy="7606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任意多边形 16"/>
            <p:cNvSpPr/>
            <p:nvPr/>
          </p:nvSpPr>
          <p:spPr>
            <a:xfrm>
              <a:off x="490680" y="927360"/>
              <a:ext cx="524160" cy="48168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17"/>
            <p:cNvSpPr/>
            <p:nvPr/>
          </p:nvSpPr>
          <p:spPr>
            <a:xfrm>
              <a:off x="852480" y="87660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文本框 6151"/>
            <p:cNvSpPr/>
            <p:nvPr/>
          </p:nvSpPr>
          <p:spPr>
            <a:xfrm>
              <a:off x="1546560" y="91332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2800" spc="-1" strike="noStrike">
                  <a:solidFill>
                    <a:srgbClr val="385723"/>
                  </a:solidFill>
                  <a:latin typeface="微软雅黑"/>
                  <a:ea typeface="微软雅黑"/>
                </a:rPr>
                <a:t>神经系统的组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文本框 6152"/>
            <p:cNvSpPr/>
            <p:nvPr/>
          </p:nvSpPr>
          <p:spPr>
            <a:xfrm>
              <a:off x="490680" y="92628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614520" y="2016000"/>
            <a:ext cx="78469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一位妇女脑颅内长了肿瘤。肿瘤压迫大脑形成视觉的区域，结果造成了这位妇女失明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1692360" y="3714840"/>
            <a:ext cx="6019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黑体"/>
              </a:rPr>
              <a:t>     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黑体"/>
              </a:rPr>
              <a:t>肿瘤压迫了大脑中的视觉中枢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8"/>
          <p:cNvSpPr/>
          <p:nvPr/>
        </p:nvSpPr>
        <p:spPr>
          <a:xfrm>
            <a:off x="2598840" y="2662200"/>
            <a:ext cx="244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10"/>
          <p:cNvSpPr/>
          <p:nvPr/>
        </p:nvSpPr>
        <p:spPr>
          <a:xfrm>
            <a:off x="5268960" y="330840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1" descr=""/>
          <p:cNvPicPr/>
          <p:nvPr/>
        </p:nvPicPr>
        <p:blipFill>
          <a:blip r:embed="rId1"/>
          <a:stretch/>
        </p:blipFill>
        <p:spPr>
          <a:xfrm flipH="1">
            <a:off x="2600280" y="1044720"/>
            <a:ext cx="936720" cy="91584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1"/>
          <p:cNvSpPr/>
          <p:nvPr/>
        </p:nvSpPr>
        <p:spPr>
          <a:xfrm>
            <a:off x="3351240" y="1284120"/>
            <a:ext cx="265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黑体"/>
              </a:rPr>
              <a:t>病例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936360" y="4322520"/>
            <a:ext cx="755964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可能损伤了控制排尿的神经，由此推断排尿中枢在腰部脊髓。另外脊髓还有向下传导的功能，因为此人的下肢运动功能丧失。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93560" y="1774800"/>
            <a:ext cx="8013960" cy="25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一位运动员在跳马比赛中，不幸摔伤腰部，腰部脊髓因此受到了严重损害。尽管及时进行了治疗，并且该运动员的下肢没有任何损伤，却形成了截瘫：下肢丧失运动功能，大小便失禁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4224960" y="1209600"/>
            <a:ext cx="93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黑体"/>
              </a:rPr>
              <a:t>病例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1" descr=""/>
          <p:cNvPicPr/>
          <p:nvPr/>
        </p:nvPicPr>
        <p:blipFill>
          <a:blip r:embed="rId1"/>
          <a:stretch/>
        </p:blipFill>
        <p:spPr>
          <a:xfrm flipH="1">
            <a:off x="3321000" y="785880"/>
            <a:ext cx="936720" cy="915840"/>
          </a:xfrm>
          <a:prstGeom prst="rect">
            <a:avLst/>
          </a:prstGeom>
          <a:ln w="0">
            <a:noFill/>
          </a:ln>
        </p:spPr>
      </p:pic>
      <p:sp>
        <p:nvSpPr>
          <p:cNvPr id="70" name="直接连接符 8"/>
          <p:cNvSpPr/>
          <p:nvPr/>
        </p:nvSpPr>
        <p:spPr>
          <a:xfrm>
            <a:off x="7505640" y="3584520"/>
            <a:ext cx="817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9"/>
          <p:cNvSpPr/>
          <p:nvPr/>
        </p:nvSpPr>
        <p:spPr>
          <a:xfrm>
            <a:off x="971640" y="3068640"/>
            <a:ext cx="936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2"/>
          <p:cNvSpPr/>
          <p:nvPr/>
        </p:nvSpPr>
        <p:spPr>
          <a:xfrm>
            <a:off x="938160" y="4176720"/>
            <a:ext cx="4672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1"/>
          <p:cNvSpPr/>
          <p:nvPr/>
        </p:nvSpPr>
        <p:spPr>
          <a:xfrm flipV="1">
            <a:off x="7824960" y="2421000"/>
            <a:ext cx="347400" cy="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1355760" y="934920"/>
            <a:ext cx="1839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703440" y="2205000"/>
            <a:ext cx="78292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一位小伙子在劳动中不慎将腰部扭伤，致使由腰部脊髓通向右下肢的神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黑体"/>
              </a:rPr>
              <a:t>右侧坐骨神经受到了压迫。这位小伙子的右下肢没有任何损伤，却出现了麻木和疼痛等症状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925560" y="5137200"/>
            <a:ext cx="7226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Arial"/>
                <a:ea typeface="黑体"/>
              </a:rPr>
              <a:t>支配右下肢的神经——右侧坐骨神经受损引起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755640" y="551664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8"/>
          <p:cNvSpPr/>
          <p:nvPr/>
        </p:nvSpPr>
        <p:spPr>
          <a:xfrm>
            <a:off x="4314600" y="142560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病例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 flipH="1">
            <a:off x="3203640" y="1073160"/>
            <a:ext cx="936720" cy="915840"/>
          </a:xfrm>
          <a:prstGeom prst="rect">
            <a:avLst/>
          </a:prstGeom>
          <a:ln w="0">
            <a:noFill/>
          </a:ln>
        </p:spPr>
      </p:pic>
      <p:sp>
        <p:nvSpPr>
          <p:cNvPr id="81" name="直接连接符 10"/>
          <p:cNvSpPr/>
          <p:nvPr/>
        </p:nvSpPr>
        <p:spPr>
          <a:xfrm>
            <a:off x="5361120" y="2898720"/>
            <a:ext cx="1331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11"/>
          <p:cNvSpPr/>
          <p:nvPr/>
        </p:nvSpPr>
        <p:spPr>
          <a:xfrm>
            <a:off x="7066080" y="2898720"/>
            <a:ext cx="133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12"/>
          <p:cNvSpPr/>
          <p:nvPr/>
        </p:nvSpPr>
        <p:spPr>
          <a:xfrm>
            <a:off x="828720" y="3451320"/>
            <a:ext cx="754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14"/>
          <p:cNvSpPr/>
          <p:nvPr/>
        </p:nvSpPr>
        <p:spPr>
          <a:xfrm>
            <a:off x="809640" y="4016520"/>
            <a:ext cx="453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16"/>
          <p:cNvSpPr/>
          <p:nvPr/>
        </p:nvSpPr>
        <p:spPr>
          <a:xfrm>
            <a:off x="3492360" y="4076640"/>
            <a:ext cx="487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19"/>
          <p:cNvSpPr/>
          <p:nvPr/>
        </p:nvSpPr>
        <p:spPr>
          <a:xfrm flipV="1">
            <a:off x="809640" y="4581000"/>
            <a:ext cx="2322360" cy="1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857160" y="2362320"/>
            <a:ext cx="763272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由此可见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脑与四肢、眼睛、内脏之间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脊髓与四肢之间都具有神经联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神经系统究竟是由哪些结构组成？它们分别有哪些功能呢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矩形 10" descr=""/>
          <p:cNvPicPr/>
          <p:nvPr/>
        </p:nvPicPr>
        <p:blipFill>
          <a:blip r:embed="rId1"/>
          <a:stretch/>
        </p:blipFill>
        <p:spPr>
          <a:xfrm>
            <a:off x="4222800" y="1257480"/>
            <a:ext cx="2089080" cy="6728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6" descr=""/>
          <p:cNvPicPr/>
          <p:nvPr/>
        </p:nvPicPr>
        <p:blipFill>
          <a:blip r:embed="rId2"/>
          <a:stretch/>
        </p:blipFill>
        <p:spPr>
          <a:xfrm>
            <a:off x="3400560" y="482760"/>
            <a:ext cx="1222200" cy="168732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8"/>
          <p:cNvSpPr/>
          <p:nvPr/>
        </p:nvSpPr>
        <p:spPr>
          <a:xfrm>
            <a:off x="539640" y="2887560"/>
            <a:ext cx="45928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神经系统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是由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脑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脊髓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它们发出的神经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组成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图Ⅳ-52 神经系统的组成和功能"/>
          <p:cNvPicPr/>
          <p:nvPr/>
        </p:nvPicPr>
        <p:blipFill>
          <a:blip r:embed="rId1"/>
          <a:srcRect l="42711" t="4087" r="31406" b="867"/>
          <a:stretch/>
        </p:blipFill>
        <p:spPr>
          <a:xfrm>
            <a:off x="5580000" y="957240"/>
            <a:ext cx="2508480" cy="524520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00Z</dcterms:created>
  <dc:creator>Administrator</dc:creator>
  <dc:description/>
  <dc:language>en-US</dc:language>
  <cp:lastModifiedBy>Administrator</cp:lastModifiedBy>
  <dcterms:modified xsi:type="dcterms:W3CDTF">2019-01-12T02:09:47Z</dcterms:modified>
  <cp:revision>10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