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7.gif" ContentType="image/gif"/>
  <Override PartName="/ppt/media/image6.png" ContentType="image/png"/>
  <Override PartName="/ppt/media/image29.png" ContentType="image/png"/>
  <Override PartName="/ppt/media/image11.png" ContentType="image/png"/>
  <Override PartName="/ppt/media/image15.png" ContentType="image/png"/>
  <Override PartName="/ppt/media/image12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31.jpeg" ContentType="image/jpeg"/>
  <Override PartName="/ppt/media/image14.gif" ContentType="image/gif"/>
  <Override PartName="/ppt/media/image32.jpeg" ContentType="image/jpe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21CA-DF86-46CE-83FA-BF785AD0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A1C-78AE-4A37-8674-5F0154BC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F90-FECE-427C-AE5D-7FB5DABE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FC09-0DCF-410A-8DD5-75A265D4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3B07-31D5-4673-88A3-D17E8C37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54BB-C8A4-4D31-BB4A-EB002D1E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8813-3881-455F-9E1C-1D299993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DB8-B123-4454-B688-30E2A020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D78E-760C-41AD-8E98-243E6C80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E83-B42C-4F3C-A7A5-1CDDDE94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183-CD49-43F7-A22B-BADA3CD9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A14F-B037-4FAA-B463-AE9603FD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57A9-EA36-43C9-B24A-2FAE2354496C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9F0D-47E5-4AD9-97EB-8B561206F69A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888640" y="3139200"/>
            <a:ext cx="379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五章  人体内废物的排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90360" y="1805040"/>
            <a:ext cx="885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五章  人体内废物的排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val 3"/>
          <p:cNvSpPr/>
          <p:nvPr/>
        </p:nvSpPr>
        <p:spPr>
          <a:xfrm>
            <a:off x="3571920" y="2063880"/>
            <a:ext cx="260280" cy="73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8"/>
          <p:cNvPicPr/>
          <p:nvPr/>
        </p:nvPicPr>
        <p:blipFill>
          <a:blip r:embed="rId1"/>
          <a:srcRect l="0" t="12957" r="63556" b="36649"/>
          <a:stretch/>
        </p:blipFill>
        <p:spPr>
          <a:xfrm>
            <a:off x="3635280" y="1486080"/>
            <a:ext cx="4032360" cy="417636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5"/>
          <p:cNvGrpSpPr/>
          <p:nvPr/>
        </p:nvGrpSpPr>
        <p:grpSpPr>
          <a:xfrm>
            <a:off x="4282920" y="4630680"/>
            <a:ext cx="139320" cy="1189080"/>
            <a:chOff x="4282920" y="4630680"/>
            <a:chExt cx="139320" cy="1189080"/>
          </a:xfrm>
        </p:grpSpPr>
        <p:pic>
          <p:nvPicPr>
            <p:cNvPr id="138" name="Picture 6" descr="25"/>
            <p:cNvPicPr/>
            <p:nvPr/>
          </p:nvPicPr>
          <p:blipFill>
            <a:blip r:embed="rId2"/>
            <a:stretch/>
          </p:blipFill>
          <p:spPr>
            <a:xfrm>
              <a:off x="4288320" y="4630680"/>
              <a:ext cx="12276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7" descr="25"/>
            <p:cNvPicPr/>
            <p:nvPr/>
          </p:nvPicPr>
          <p:blipFill>
            <a:blip r:embed="rId3"/>
            <a:stretch/>
          </p:blipFill>
          <p:spPr>
            <a:xfrm>
              <a:off x="4282920" y="4920120"/>
              <a:ext cx="13392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8" descr="25"/>
            <p:cNvPicPr/>
            <p:nvPr/>
          </p:nvPicPr>
          <p:blipFill>
            <a:blip r:embed="rId4"/>
            <a:stretch/>
          </p:blipFill>
          <p:spPr>
            <a:xfrm>
              <a:off x="4288320" y="5220000"/>
              <a:ext cx="13392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9" descr="25"/>
            <p:cNvPicPr/>
            <p:nvPr/>
          </p:nvPicPr>
          <p:blipFill>
            <a:blip r:embed="rId5"/>
            <a:stretch/>
          </p:blipFill>
          <p:spPr>
            <a:xfrm>
              <a:off x="4288320" y="5519880"/>
              <a:ext cx="133920" cy="29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Group 10"/>
          <p:cNvGrpSpPr/>
          <p:nvPr/>
        </p:nvGrpSpPr>
        <p:grpSpPr>
          <a:xfrm>
            <a:off x="1393920" y="3233880"/>
            <a:ext cx="2437560" cy="858240"/>
            <a:chOff x="1393920" y="3233880"/>
            <a:chExt cx="2437560" cy="858240"/>
          </a:xfrm>
        </p:grpSpPr>
        <p:pic>
          <p:nvPicPr>
            <p:cNvPr id="143" name="Picture 11" descr="0030"/>
            <p:cNvPicPr/>
            <p:nvPr/>
          </p:nvPicPr>
          <p:blipFill>
            <a:blip r:embed="rId6"/>
            <a:stretch/>
          </p:blipFill>
          <p:spPr>
            <a:xfrm>
              <a:off x="1971360" y="3233880"/>
              <a:ext cx="1771560" cy="441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Group 12"/>
            <p:cNvGrpSpPr/>
            <p:nvPr/>
          </p:nvGrpSpPr>
          <p:grpSpPr>
            <a:xfrm>
              <a:off x="1393920" y="3873240"/>
              <a:ext cx="2437560" cy="218880"/>
              <a:chOff x="1393920" y="3873240"/>
              <a:chExt cx="2437560" cy="218880"/>
            </a:xfrm>
          </p:grpSpPr>
          <p:grpSp>
            <p:nvGrpSpPr>
              <p:cNvPr id="145" name="Group 13"/>
              <p:cNvGrpSpPr/>
              <p:nvPr/>
            </p:nvGrpSpPr>
            <p:grpSpPr>
              <a:xfrm>
                <a:off x="1393920" y="3873600"/>
                <a:ext cx="2437560" cy="218520"/>
                <a:chOff x="1393920" y="3873600"/>
                <a:chExt cx="2437560" cy="218520"/>
              </a:xfrm>
            </p:grpSpPr>
            <p:pic>
              <p:nvPicPr>
                <p:cNvPr id="146" name="Picture 14" descr="23"/>
                <p:cNvPicPr/>
                <p:nvPr/>
              </p:nvPicPr>
              <p:blipFill>
                <a:blip r:embed="rId7"/>
                <a:stretch/>
              </p:blipFill>
              <p:spPr>
                <a:xfrm flipH="1" rot="10800000">
                  <a:off x="1393920" y="3873600"/>
                  <a:ext cx="1125000" cy="218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15" descr="23"/>
                <p:cNvPicPr/>
                <p:nvPr/>
              </p:nvPicPr>
              <p:blipFill>
                <a:blip r:embed="rId8"/>
                <a:stretch/>
              </p:blipFill>
              <p:spPr>
                <a:xfrm flipH="1" rot="10800000">
                  <a:off x="2706480" y="3873600"/>
                  <a:ext cx="1125000" cy="21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8" name="Picture 16" descr="23"/>
              <p:cNvPicPr/>
              <p:nvPr/>
            </p:nvPicPr>
            <p:blipFill>
              <a:blip r:embed="rId9"/>
              <a:stretch/>
            </p:blipFill>
            <p:spPr>
              <a:xfrm flipH="1" rot="10800000">
                <a:off x="2029680" y="3873240"/>
                <a:ext cx="1165680" cy="182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9" name="Text Box 17"/>
          <p:cNvSpPr/>
          <p:nvPr/>
        </p:nvSpPr>
        <p:spPr>
          <a:xfrm>
            <a:off x="5035680" y="2046240"/>
            <a:ext cx="482400" cy="422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22"/>
          <p:cNvPicPr/>
          <p:nvPr/>
        </p:nvPicPr>
        <p:blipFill>
          <a:blip r:embed="rId10"/>
          <a:stretch/>
        </p:blipFill>
        <p:spPr>
          <a:xfrm>
            <a:off x="5219640" y="1577880"/>
            <a:ext cx="779400" cy="77940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10"/>
          <p:cNvGrpSpPr/>
          <p:nvPr/>
        </p:nvGrpSpPr>
        <p:grpSpPr>
          <a:xfrm>
            <a:off x="368280" y="1231920"/>
            <a:ext cx="5182920" cy="4835520"/>
            <a:chOff x="368280" y="1231920"/>
            <a:chExt cx="5182920" cy="4835520"/>
          </a:xfrm>
        </p:grpSpPr>
        <p:pic>
          <p:nvPicPr>
            <p:cNvPr id="153" name="Picture 11" descr="9"/>
            <p:cNvPicPr/>
            <p:nvPr/>
          </p:nvPicPr>
          <p:blipFill>
            <a:blip r:embed="rId1"/>
            <a:srcRect l="32319" t="14387" r="39873" b="38054"/>
            <a:stretch/>
          </p:blipFill>
          <p:spPr>
            <a:xfrm>
              <a:off x="2166480" y="1231920"/>
              <a:ext cx="3384720" cy="41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" name="Group 12"/>
            <p:cNvGrpSpPr/>
            <p:nvPr/>
          </p:nvGrpSpPr>
          <p:grpSpPr>
            <a:xfrm>
              <a:off x="4458240" y="5440320"/>
              <a:ext cx="143640" cy="627120"/>
              <a:chOff x="4458240" y="5440320"/>
              <a:chExt cx="143640" cy="627120"/>
            </a:xfrm>
          </p:grpSpPr>
          <p:pic>
            <p:nvPicPr>
              <p:cNvPr id="155" name="Picture 13" descr="0042"/>
              <p:cNvPicPr/>
              <p:nvPr/>
            </p:nvPicPr>
            <p:blipFill>
              <a:blip r:embed="rId2"/>
              <a:stretch/>
            </p:blipFill>
            <p:spPr>
              <a:xfrm>
                <a:off x="4458240" y="5440320"/>
                <a:ext cx="14364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16" descr="0042"/>
              <p:cNvPicPr/>
              <p:nvPr/>
            </p:nvPicPr>
            <p:blipFill>
              <a:blip r:embed="rId3"/>
              <a:stretch/>
            </p:blipFill>
            <p:spPr>
              <a:xfrm>
                <a:off x="4458240" y="5792760"/>
                <a:ext cx="143640" cy="274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Picture 17" descr="0030"/>
            <p:cNvPicPr/>
            <p:nvPr/>
          </p:nvPicPr>
          <p:blipFill>
            <a:blip r:embed="rId4"/>
            <a:stretch/>
          </p:blipFill>
          <p:spPr>
            <a:xfrm>
              <a:off x="1118520" y="3728880"/>
              <a:ext cx="1047600" cy="25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" name="Group 18"/>
            <p:cNvGrpSpPr/>
            <p:nvPr/>
          </p:nvGrpSpPr>
          <p:grpSpPr>
            <a:xfrm>
              <a:off x="368280" y="4097160"/>
              <a:ext cx="1851480" cy="76320"/>
              <a:chOff x="368280" y="4097160"/>
              <a:chExt cx="1851480" cy="76320"/>
            </a:xfrm>
          </p:grpSpPr>
          <p:pic>
            <p:nvPicPr>
              <p:cNvPr id="159" name="Picture 19" descr="23"/>
              <p:cNvPicPr/>
              <p:nvPr/>
            </p:nvPicPr>
            <p:blipFill>
              <a:blip r:embed="rId5"/>
              <a:stretch/>
            </p:blipFill>
            <p:spPr>
              <a:xfrm>
                <a:off x="1333440" y="4097160"/>
                <a:ext cx="88632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Picture 20" descr="23"/>
              <p:cNvPicPr/>
              <p:nvPr/>
            </p:nvPicPr>
            <p:blipFill>
              <a:blip r:embed="rId6"/>
              <a:stretch/>
            </p:blipFill>
            <p:spPr>
              <a:xfrm>
                <a:off x="852120" y="4097160"/>
                <a:ext cx="88704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Picture 21" descr="23"/>
              <p:cNvPicPr/>
              <p:nvPr/>
            </p:nvPicPr>
            <p:blipFill>
              <a:blip r:embed="rId7"/>
              <a:stretch/>
            </p:blipFill>
            <p:spPr>
              <a:xfrm>
                <a:off x="368280" y="4097160"/>
                <a:ext cx="887040" cy="76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2" name="Group 24"/>
          <p:cNvGrpSpPr/>
          <p:nvPr/>
        </p:nvGrpSpPr>
        <p:grpSpPr>
          <a:xfrm>
            <a:off x="3681360" y="3884760"/>
            <a:ext cx="3044880" cy="489960"/>
            <a:chOff x="3681360" y="3884760"/>
            <a:chExt cx="3044880" cy="489960"/>
          </a:xfrm>
        </p:grpSpPr>
        <p:sp>
          <p:nvSpPr>
            <p:cNvPr id="163" name="Line 25"/>
            <p:cNvSpPr/>
            <p:nvPr/>
          </p:nvSpPr>
          <p:spPr>
            <a:xfrm>
              <a:off x="3681360" y="4170240"/>
              <a:ext cx="14432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6"/>
            <p:cNvSpPr/>
            <p:nvPr/>
          </p:nvSpPr>
          <p:spPr>
            <a:xfrm>
              <a:off x="5202360" y="3884760"/>
              <a:ext cx="152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肾小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8"/>
          <p:cNvGrpSpPr/>
          <p:nvPr/>
        </p:nvGrpSpPr>
        <p:grpSpPr>
          <a:xfrm>
            <a:off x="3406680" y="2049480"/>
            <a:ext cx="3392280" cy="547560"/>
            <a:chOff x="3406680" y="2049480"/>
            <a:chExt cx="3392280" cy="547560"/>
          </a:xfrm>
        </p:grpSpPr>
        <p:sp>
          <p:nvSpPr>
            <p:cNvPr id="166" name="Line 29"/>
            <p:cNvSpPr/>
            <p:nvPr/>
          </p:nvSpPr>
          <p:spPr>
            <a:xfrm>
              <a:off x="3406680" y="2597040"/>
              <a:ext cx="1566720" cy="0"/>
            </a:xfrm>
            <a:prstGeom prst="line">
              <a:avLst/>
            </a:prstGeom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0"/>
            <p:cNvSpPr/>
            <p:nvPr/>
          </p:nvSpPr>
          <p:spPr>
            <a:xfrm>
              <a:off x="5046480" y="204948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肾小球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31"/>
          <p:cNvGrpSpPr/>
          <p:nvPr/>
        </p:nvGrpSpPr>
        <p:grpSpPr>
          <a:xfrm>
            <a:off x="6485040" y="2390760"/>
            <a:ext cx="1590480" cy="1779480"/>
            <a:chOff x="6485040" y="2390760"/>
            <a:chExt cx="1590480" cy="1779480"/>
          </a:xfrm>
        </p:grpSpPr>
        <p:sp>
          <p:nvSpPr>
            <p:cNvPr id="169" name="AutoShape 32"/>
            <p:cNvSpPr/>
            <p:nvPr/>
          </p:nvSpPr>
          <p:spPr>
            <a:xfrm>
              <a:off x="6485040" y="2390760"/>
              <a:ext cx="241200" cy="1779480"/>
            </a:xfrm>
            <a:custGeom>
              <a:avLst/>
              <a:gdLst>
                <a:gd name="textAreaLeft" fmla="*/ 0 w 241200"/>
                <a:gd name="textAreaRight" fmla="*/ 87120 w 241200"/>
                <a:gd name="textAreaTop" fmla="*/ 58320 h 1779480"/>
                <a:gd name="textAreaBottom" fmla="*/ 1721160 h 177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34"/>
                    <a:pt x="10800" y="2267"/>
                  </a:cubicBezTo>
                  <a:lnTo>
                    <a:pt x="10800" y="8533"/>
                  </a:lnTo>
                  <a:cubicBezTo>
                    <a:pt x="10800" y="9667"/>
                    <a:pt x="16200" y="10800"/>
                    <a:pt x="21600" y="10800"/>
                  </a:cubicBezTo>
                  <a:cubicBezTo>
                    <a:pt x="16200" y="10800"/>
                    <a:pt x="10800" y="11934"/>
                    <a:pt x="10800" y="13067"/>
                  </a:cubicBezTo>
                  <a:lnTo>
                    <a:pt x="10800" y="19333"/>
                  </a:lnTo>
                  <a:cubicBezTo>
                    <a:pt x="10800" y="20467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3"/>
            <p:cNvSpPr/>
            <p:nvPr/>
          </p:nvSpPr>
          <p:spPr>
            <a:xfrm>
              <a:off x="6824520" y="3033720"/>
              <a:ext cx="125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肾单位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Picture 34" descr="22"/>
          <p:cNvPicPr/>
          <p:nvPr/>
        </p:nvPicPr>
        <p:blipFill>
          <a:blip r:embed="rId8"/>
          <a:stretch/>
        </p:blipFill>
        <p:spPr>
          <a:xfrm>
            <a:off x="3162240" y="12142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9"/>
          <p:cNvSpPr/>
          <p:nvPr/>
        </p:nvSpPr>
        <p:spPr>
          <a:xfrm flipV="1">
            <a:off x="3255840" y="2192400"/>
            <a:ext cx="1868760" cy="164880"/>
          </a:xfrm>
          <a:prstGeom prst="line">
            <a:avLst/>
          </a:prstGeom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4959360" y="2463840"/>
            <a:ext cx="175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肾小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4" descr=""/>
          <p:cNvPicPr/>
          <p:nvPr/>
        </p:nvPicPr>
        <p:blipFill>
          <a:blip r:embed="rId1"/>
          <a:stretch/>
        </p:blipFill>
        <p:spPr>
          <a:xfrm>
            <a:off x="179280" y="1460520"/>
            <a:ext cx="3237120" cy="3376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0062"/>
          <p:cNvPicPr/>
          <p:nvPr/>
        </p:nvPicPr>
        <p:blipFill>
          <a:blip r:embed="rId2"/>
          <a:stretch/>
        </p:blipFill>
        <p:spPr>
          <a:xfrm>
            <a:off x="457200" y="2211480"/>
            <a:ext cx="399960" cy="2397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3508200" y="150480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出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球小动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08200" y="22068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入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球小动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56080" y="2943360"/>
            <a:ext cx="565128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肾小球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（毛细血管弯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成的血管球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3556080" y="4078440"/>
            <a:ext cx="144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肾小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5" descr="0062"/>
          <p:cNvPicPr/>
          <p:nvPr/>
        </p:nvPicPr>
        <p:blipFill>
          <a:blip r:embed="rId3"/>
          <a:stretch/>
        </p:blipFill>
        <p:spPr>
          <a:xfrm>
            <a:off x="2057400" y="1569960"/>
            <a:ext cx="324000" cy="1954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7"/>
          <p:cNvSpPr/>
          <p:nvPr/>
        </p:nvSpPr>
        <p:spPr>
          <a:xfrm>
            <a:off x="2079000" y="5526000"/>
            <a:ext cx="513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ahoma"/>
                <a:ea typeface="黑体"/>
              </a:rPr>
              <a:t>肾小球两端连接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黑体"/>
              </a:rPr>
              <a:t>_____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  <a:ea typeface="黑体"/>
              </a:rPr>
              <a:t>血管并且流的都是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黑体"/>
              </a:rPr>
              <a:t>_____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  <a:ea typeface="黑体"/>
              </a:rPr>
              <a:t>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3621240" y="5472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ahoma"/>
                <a:ea typeface="黑体"/>
              </a:rPr>
              <a:t>动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7111440" y="5472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ahoma"/>
                <a:ea typeface="黑体"/>
              </a:rPr>
              <a:t>动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7"/>
          <p:cNvSpPr/>
          <p:nvPr/>
        </p:nvSpPr>
        <p:spPr>
          <a:xfrm>
            <a:off x="2019240" y="3284640"/>
            <a:ext cx="148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28"/>
          <p:cNvSpPr/>
          <p:nvPr/>
        </p:nvSpPr>
        <p:spPr>
          <a:xfrm>
            <a:off x="2057400" y="4121280"/>
            <a:ext cx="1442880" cy="12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30"/>
          <p:cNvSpPr/>
          <p:nvPr/>
        </p:nvSpPr>
        <p:spPr>
          <a:xfrm>
            <a:off x="1835280" y="1844640"/>
            <a:ext cx="166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33"/>
          <p:cNvSpPr/>
          <p:nvPr/>
        </p:nvSpPr>
        <p:spPr>
          <a:xfrm>
            <a:off x="900000" y="2467080"/>
            <a:ext cx="260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标题 1"/>
          <p:cNvSpPr/>
          <p:nvPr/>
        </p:nvSpPr>
        <p:spPr>
          <a:xfrm>
            <a:off x="2859120" y="606240"/>
            <a:ext cx="3424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肾的内部结构示意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3067200" y="1270080"/>
            <a:ext cx="3128760" cy="5157720"/>
          </a:xfrm>
          <a:prstGeom prst="rect">
            <a:avLst/>
          </a:prstGeom>
          <a:ln w="0">
            <a:noFill/>
          </a:ln>
        </p:spPr>
      </p:pic>
      <p:grpSp>
        <p:nvGrpSpPr>
          <p:cNvPr id="192" name="组合 5"/>
          <p:cNvGrpSpPr/>
          <p:nvPr/>
        </p:nvGrpSpPr>
        <p:grpSpPr>
          <a:xfrm>
            <a:off x="1796760" y="1407960"/>
            <a:ext cx="3265920" cy="459720"/>
            <a:chOff x="1796760" y="1407960"/>
            <a:chExt cx="3265920" cy="459720"/>
          </a:xfrm>
        </p:grpSpPr>
        <p:sp>
          <p:nvSpPr>
            <p:cNvPr id="193" name="Line 7"/>
            <p:cNvSpPr/>
            <p:nvPr/>
          </p:nvSpPr>
          <p:spPr>
            <a:xfrm>
              <a:off x="3154680" y="1630080"/>
              <a:ext cx="1908000" cy="0"/>
            </a:xfrm>
            <a:prstGeom prst="line">
              <a:avLst/>
            </a:prstGeom>
            <a:ln w="2844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3"/>
            <p:cNvSpPr/>
            <p:nvPr/>
          </p:nvSpPr>
          <p:spPr>
            <a:xfrm>
              <a:off x="1796760" y="1407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入球小动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9"/>
          <p:cNvGrpSpPr/>
          <p:nvPr/>
        </p:nvGrpSpPr>
        <p:grpSpPr>
          <a:xfrm>
            <a:off x="4923000" y="1852560"/>
            <a:ext cx="2717280" cy="459720"/>
            <a:chOff x="4923000" y="1852560"/>
            <a:chExt cx="2717280" cy="459720"/>
          </a:xfrm>
        </p:grpSpPr>
        <p:sp>
          <p:nvSpPr>
            <p:cNvPr id="196" name="Line 5"/>
            <p:cNvSpPr/>
            <p:nvPr/>
          </p:nvSpPr>
          <p:spPr>
            <a:xfrm flipV="1">
              <a:off x="4923000" y="2059560"/>
              <a:ext cx="1774800" cy="23760"/>
            </a:xfrm>
            <a:prstGeom prst="line">
              <a:avLst/>
            </a:prstGeom>
            <a:ln w="2844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5"/>
            <p:cNvSpPr/>
            <p:nvPr/>
          </p:nvSpPr>
          <p:spPr>
            <a:xfrm>
              <a:off x="6910920" y="1852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肾小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14"/>
          <p:cNvGrpSpPr/>
          <p:nvPr/>
        </p:nvGrpSpPr>
        <p:grpSpPr>
          <a:xfrm>
            <a:off x="1477800" y="2432160"/>
            <a:ext cx="4146840" cy="459720"/>
            <a:chOff x="1477800" y="2432160"/>
            <a:chExt cx="4146840" cy="459720"/>
          </a:xfrm>
        </p:grpSpPr>
        <p:sp>
          <p:nvSpPr>
            <p:cNvPr id="199" name="Line 4"/>
            <p:cNvSpPr/>
            <p:nvPr/>
          </p:nvSpPr>
          <p:spPr>
            <a:xfrm>
              <a:off x="3119760" y="2663280"/>
              <a:ext cx="2504880" cy="0"/>
            </a:xfrm>
            <a:prstGeom prst="line">
              <a:avLst/>
            </a:prstGeom>
            <a:ln w="2844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4"/>
            <p:cNvSpPr/>
            <p:nvPr/>
          </p:nvSpPr>
          <p:spPr>
            <a:xfrm>
              <a:off x="1477800" y="24321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出球小动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18"/>
          <p:cNvGrpSpPr/>
          <p:nvPr/>
        </p:nvGrpSpPr>
        <p:grpSpPr>
          <a:xfrm>
            <a:off x="5351400" y="2273400"/>
            <a:ext cx="2265120" cy="459720"/>
            <a:chOff x="5351400" y="2273400"/>
            <a:chExt cx="2265120" cy="459720"/>
          </a:xfrm>
        </p:grpSpPr>
        <p:sp>
          <p:nvSpPr>
            <p:cNvPr id="202" name="Line 10"/>
            <p:cNvSpPr/>
            <p:nvPr/>
          </p:nvSpPr>
          <p:spPr>
            <a:xfrm flipV="1">
              <a:off x="5351400" y="2487240"/>
              <a:ext cx="1382760" cy="6840"/>
            </a:xfrm>
            <a:prstGeom prst="line">
              <a:avLst/>
            </a:prstGeom>
            <a:ln w="2844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6"/>
            <p:cNvSpPr/>
            <p:nvPr/>
          </p:nvSpPr>
          <p:spPr>
            <a:xfrm>
              <a:off x="6887160" y="227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肾小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23"/>
          <p:cNvGrpSpPr/>
          <p:nvPr/>
        </p:nvGrpSpPr>
        <p:grpSpPr>
          <a:xfrm>
            <a:off x="1902600" y="4430880"/>
            <a:ext cx="2728080" cy="459720"/>
            <a:chOff x="1902600" y="4430880"/>
            <a:chExt cx="2728080" cy="459720"/>
          </a:xfrm>
        </p:grpSpPr>
        <p:sp>
          <p:nvSpPr>
            <p:cNvPr id="205" name="Line 8"/>
            <p:cNvSpPr/>
            <p:nvPr/>
          </p:nvSpPr>
          <p:spPr>
            <a:xfrm>
              <a:off x="3066480" y="4660920"/>
              <a:ext cx="1564200" cy="0"/>
            </a:xfrm>
            <a:prstGeom prst="line">
              <a:avLst/>
            </a:prstGeom>
            <a:ln w="2844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1"/>
            <p:cNvSpPr/>
            <p:nvPr/>
          </p:nvSpPr>
          <p:spPr>
            <a:xfrm>
              <a:off x="1902600" y="4430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毛细血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27"/>
          <p:cNvGrpSpPr/>
          <p:nvPr/>
        </p:nvGrpSpPr>
        <p:grpSpPr>
          <a:xfrm>
            <a:off x="5624640" y="5176800"/>
            <a:ext cx="2071080" cy="459720"/>
            <a:chOff x="5624640" y="5176800"/>
            <a:chExt cx="2071080" cy="459720"/>
          </a:xfrm>
        </p:grpSpPr>
        <p:sp>
          <p:nvSpPr>
            <p:cNvPr id="208" name="Line 9"/>
            <p:cNvSpPr/>
            <p:nvPr/>
          </p:nvSpPr>
          <p:spPr>
            <a:xfrm>
              <a:off x="5624640" y="5399280"/>
              <a:ext cx="1136880" cy="8280"/>
            </a:xfrm>
            <a:prstGeom prst="line">
              <a:avLst/>
            </a:prstGeom>
            <a:ln w="2844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2"/>
            <p:cNvSpPr/>
            <p:nvPr/>
          </p:nvSpPr>
          <p:spPr>
            <a:xfrm>
              <a:off x="6966360" y="51768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肾静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30"/>
          <p:cNvGrpSpPr/>
          <p:nvPr/>
        </p:nvGrpSpPr>
        <p:grpSpPr>
          <a:xfrm>
            <a:off x="2419560" y="5396040"/>
            <a:ext cx="1231560" cy="459720"/>
            <a:chOff x="2419560" y="5396040"/>
            <a:chExt cx="1231560" cy="459720"/>
          </a:xfrm>
        </p:grpSpPr>
        <p:sp>
          <p:nvSpPr>
            <p:cNvPr id="211" name="Line 8"/>
            <p:cNvSpPr/>
            <p:nvPr/>
          </p:nvSpPr>
          <p:spPr>
            <a:xfrm>
              <a:off x="3119400" y="5630760"/>
              <a:ext cx="531720" cy="0"/>
            </a:xfrm>
            <a:prstGeom prst="line">
              <a:avLst/>
            </a:prstGeom>
            <a:ln w="2844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1"/>
            <p:cNvSpPr/>
            <p:nvPr/>
          </p:nvSpPr>
          <p:spPr>
            <a:xfrm>
              <a:off x="2419560" y="53960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尿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33"/>
          <p:cNvGrpSpPr/>
          <p:nvPr/>
        </p:nvGrpSpPr>
        <p:grpSpPr>
          <a:xfrm>
            <a:off x="4923000" y="3817800"/>
            <a:ext cx="2756880" cy="459720"/>
            <a:chOff x="4923000" y="3817800"/>
            <a:chExt cx="2756880" cy="459720"/>
          </a:xfrm>
        </p:grpSpPr>
        <p:sp>
          <p:nvSpPr>
            <p:cNvPr id="214" name="Line 6"/>
            <p:cNvSpPr/>
            <p:nvPr/>
          </p:nvSpPr>
          <p:spPr>
            <a:xfrm flipV="1">
              <a:off x="4923000" y="4005360"/>
              <a:ext cx="1838160" cy="36360"/>
            </a:xfrm>
            <a:prstGeom prst="line">
              <a:avLst/>
            </a:prstGeom>
            <a:ln w="2844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7"/>
            <p:cNvSpPr/>
            <p:nvPr/>
          </p:nvSpPr>
          <p:spPr>
            <a:xfrm>
              <a:off x="6950520" y="38178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肾小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尿的形成"/>
          <p:cNvPicPr/>
          <p:nvPr/>
        </p:nvPicPr>
        <p:blipFill>
          <a:blip r:embed="rId1"/>
          <a:stretch/>
        </p:blipFill>
        <p:spPr>
          <a:xfrm>
            <a:off x="2700360" y="1700280"/>
            <a:ext cx="1432080" cy="4403520"/>
          </a:xfrm>
          <a:prstGeom prst="rect">
            <a:avLst/>
          </a:prstGeom>
          <a:ln w="0">
            <a:noFill/>
          </a:ln>
        </p:spPr>
      </p:pic>
      <p:sp>
        <p:nvSpPr>
          <p:cNvPr id="218" name="Line 4"/>
          <p:cNvSpPr/>
          <p:nvPr/>
        </p:nvSpPr>
        <p:spPr>
          <a:xfrm>
            <a:off x="3616200" y="21556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3760920" y="2484360"/>
            <a:ext cx="838080" cy="5335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3400560" y="44830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4912200" y="183672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肾小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4929840" y="28018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肾小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4966200" y="425592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肾小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0"/>
          <p:cNvSpPr/>
          <p:nvPr/>
        </p:nvSpPr>
        <p:spPr>
          <a:xfrm>
            <a:off x="5288040" y="2327400"/>
            <a:ext cx="139680" cy="522000"/>
          </a:xfrm>
          <a:prstGeom prst="downArrow">
            <a:avLst>
              <a:gd name="adj1" fmla="val 50000"/>
              <a:gd name="adj2" fmla="val 12538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5830920" y="1835280"/>
            <a:ext cx="238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（过滤作用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2"/>
          <p:cNvSpPr/>
          <p:nvPr/>
        </p:nvSpPr>
        <p:spPr>
          <a:xfrm>
            <a:off x="2270160" y="17305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3"/>
          <p:cNvSpPr/>
          <p:nvPr/>
        </p:nvSpPr>
        <p:spPr>
          <a:xfrm>
            <a:off x="2262240" y="4973760"/>
            <a:ext cx="533520" cy="15228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2530440" y="2816280"/>
            <a:ext cx="39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毛细血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174680" y="141912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含废物多血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4481640" y="3268800"/>
            <a:ext cx="2133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99"/>
                </a:solidFill>
                <a:latin typeface="黑体"/>
                <a:ea typeface="黑体"/>
              </a:rPr>
              <a:t>(</a:t>
            </a:r>
            <a:r>
              <a:rPr b="0" lang="zh-CN" sz="2600" spc="-1" strike="noStrike">
                <a:solidFill>
                  <a:srgbClr val="cc3399"/>
                </a:solidFill>
                <a:latin typeface="黑体"/>
                <a:ea typeface="黑体"/>
              </a:rPr>
              <a:t>形成原尿</a:t>
            </a:r>
            <a:r>
              <a:rPr b="0" lang="en-US" sz="2600" spc="-1" strike="noStrike">
                <a:solidFill>
                  <a:srgbClr val="cc3399"/>
                </a:solidFill>
                <a:latin typeface="黑体"/>
                <a:ea typeface="黑体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024600" y="4221000"/>
            <a:ext cx="25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（重吸收作用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4599000" y="4762440"/>
            <a:ext cx="260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99"/>
                </a:solidFill>
                <a:latin typeface="黑体"/>
                <a:ea typeface="黑体"/>
              </a:rPr>
              <a:t>(</a:t>
            </a:r>
            <a:r>
              <a:rPr b="0" lang="zh-CN" sz="2600" spc="-1" strike="noStrike">
                <a:solidFill>
                  <a:srgbClr val="cc3399"/>
                </a:solidFill>
                <a:latin typeface="黑体"/>
                <a:ea typeface="黑体"/>
              </a:rPr>
              <a:t>形成尿液</a:t>
            </a:r>
            <a:r>
              <a:rPr b="0" lang="en-US" sz="2600" spc="-1" strike="noStrike">
                <a:solidFill>
                  <a:srgbClr val="cc3399"/>
                </a:solidFill>
                <a:latin typeface="黑体"/>
                <a:ea typeface="黑体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1239840" y="4811760"/>
            <a:ext cx="117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含废物少血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5289480" y="3792600"/>
            <a:ext cx="139680" cy="520560"/>
          </a:xfrm>
          <a:prstGeom prst="downArrow">
            <a:avLst>
              <a:gd name="adj1" fmla="val 50000"/>
              <a:gd name="adj2" fmla="val 1250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2373480" y="575640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52d88"/>
                </a:solidFill>
                <a:latin typeface="Times New Roman"/>
                <a:ea typeface="黑体"/>
              </a:rPr>
              <a:t>尿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4"/>
          <p:cNvSpPr/>
          <p:nvPr/>
        </p:nvSpPr>
        <p:spPr>
          <a:xfrm>
            <a:off x="5112720" y="58071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肾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6321600" y="4929120"/>
            <a:ext cx="1618920" cy="181152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10"/>
          <p:cNvSpPr/>
          <p:nvPr/>
        </p:nvSpPr>
        <p:spPr>
          <a:xfrm>
            <a:off x="5367240" y="5335560"/>
            <a:ext cx="139680" cy="520560"/>
          </a:xfrm>
          <a:prstGeom prst="downArrow">
            <a:avLst>
              <a:gd name="adj1" fmla="val 50000"/>
              <a:gd name="adj2" fmla="val 1250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组合 6147"/>
          <p:cNvGrpSpPr/>
          <p:nvPr/>
        </p:nvGrpSpPr>
        <p:grpSpPr>
          <a:xfrm>
            <a:off x="297000" y="463680"/>
            <a:ext cx="2730960" cy="807120"/>
            <a:chOff x="297000" y="463680"/>
            <a:chExt cx="2730960" cy="807120"/>
          </a:xfrm>
        </p:grpSpPr>
        <p:sp>
          <p:nvSpPr>
            <p:cNvPr id="240" name="矩形 7"/>
            <p:cNvSpPr/>
            <p:nvPr/>
          </p:nvSpPr>
          <p:spPr>
            <a:xfrm>
              <a:off x="857160" y="463680"/>
              <a:ext cx="1672920" cy="7614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16"/>
            <p:cNvSpPr/>
            <p:nvPr/>
          </p:nvSpPr>
          <p:spPr>
            <a:xfrm>
              <a:off x="297000" y="751680"/>
              <a:ext cx="524520" cy="48204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17"/>
            <p:cNvSpPr/>
            <p:nvPr/>
          </p:nvSpPr>
          <p:spPr>
            <a:xfrm>
              <a:off x="658800" y="700920"/>
              <a:ext cx="163440" cy="16812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120" bIns="-47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6151"/>
            <p:cNvSpPr/>
            <p:nvPr/>
          </p:nvSpPr>
          <p:spPr>
            <a:xfrm>
              <a:off x="1353600" y="73764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385723"/>
                  </a:solidFill>
                  <a:latin typeface="微软雅黑"/>
                  <a:ea typeface="微软雅黑"/>
                </a:rPr>
                <a:t>尿的形成与排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6152"/>
            <p:cNvSpPr/>
            <p:nvPr/>
          </p:nvSpPr>
          <p:spPr>
            <a:xfrm>
              <a:off x="297000" y="750240"/>
              <a:ext cx="55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1254240" y="4167360"/>
            <a:ext cx="220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血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2676600" y="3273480"/>
            <a:ext cx="297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血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 rot="10800000">
            <a:off x="2359080" y="3374640"/>
            <a:ext cx="264960" cy="2438280"/>
          </a:xfrm>
          <a:custGeom>
            <a:avLst/>
            <a:gdLst>
              <a:gd name="textAreaLeft" fmla="*/ 0 w 264960"/>
              <a:gd name="textAreaRight" fmla="*/ 95760 w 264960"/>
              <a:gd name="textAreaTop" fmla="*/ 60120 h 2438280"/>
              <a:gd name="textAreaBottom" fmla="*/ 237816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56"/>
                  <a:pt x="10800" y="1711"/>
                </a:cubicBezTo>
                <a:lnTo>
                  <a:pt x="10800" y="10052"/>
                </a:lnTo>
                <a:cubicBezTo>
                  <a:pt x="10800" y="10908"/>
                  <a:pt x="16200" y="11763"/>
                  <a:pt x="21600" y="11763"/>
                </a:cubicBezTo>
                <a:cubicBezTo>
                  <a:pt x="16200" y="11763"/>
                  <a:pt x="10800" y="12619"/>
                  <a:pt x="10800" y="13474"/>
                </a:cubicBezTo>
                <a:lnTo>
                  <a:pt x="10800" y="19889"/>
                </a:lnTo>
                <a:cubicBezTo>
                  <a:pt x="10800" y="2074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 rot="10800000">
            <a:off x="3650760" y="2239920"/>
            <a:ext cx="304920" cy="2913120"/>
          </a:xfrm>
          <a:custGeom>
            <a:avLst/>
            <a:gdLst>
              <a:gd name="textAreaLeft" fmla="*/ 0 w 304920"/>
              <a:gd name="textAreaRight" fmla="*/ 110160 w 304920"/>
              <a:gd name="textAreaTop" fmla="*/ 56520 h 2913120"/>
              <a:gd name="textAreaBottom" fmla="*/ 2856600 h 291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70"/>
                  <a:pt x="10800" y="1339"/>
                </a:cubicBezTo>
                <a:lnTo>
                  <a:pt x="10800" y="10424"/>
                </a:lnTo>
                <a:cubicBezTo>
                  <a:pt x="10800" y="11094"/>
                  <a:pt x="16200" y="11763"/>
                  <a:pt x="21600" y="11763"/>
                </a:cubicBezTo>
                <a:cubicBezTo>
                  <a:pt x="16200" y="11763"/>
                  <a:pt x="10800" y="12433"/>
                  <a:pt x="10800" y="13102"/>
                </a:cubicBezTo>
                <a:lnTo>
                  <a:pt x="10800" y="20261"/>
                </a:lnTo>
                <a:cubicBezTo>
                  <a:pt x="10800" y="2093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2698920" y="5445000"/>
            <a:ext cx="350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血细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4044240" y="2070000"/>
            <a:ext cx="3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956040" y="2664000"/>
            <a:ext cx="44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蛋白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3956040" y="3349800"/>
            <a:ext cx="380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3956040" y="4035600"/>
            <a:ext cx="419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无机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3981600" y="4721400"/>
            <a:ext cx="319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代谢废物（尿素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2803680" y="1066680"/>
            <a:ext cx="434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黑体"/>
              </a:rPr>
              <a:t>思考：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哪些是大分子物质？哪些是小分子物质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4"/>
          <p:cNvSpPr/>
          <p:nvPr/>
        </p:nvSpPr>
        <p:spPr>
          <a:xfrm>
            <a:off x="5464080" y="4781520"/>
            <a:ext cx="311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AutoShape 15" descr=""/>
          <p:cNvPicPr/>
          <p:nvPr/>
        </p:nvPicPr>
        <p:blipFill>
          <a:blip r:embed="rId1"/>
          <a:stretch/>
        </p:blipFill>
        <p:spPr>
          <a:xfrm>
            <a:off x="5203800" y="2738520"/>
            <a:ext cx="132228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AutoShape 16" descr=""/>
          <p:cNvPicPr/>
          <p:nvPr/>
        </p:nvPicPr>
        <p:blipFill>
          <a:blip r:embed="rId2"/>
          <a:stretch/>
        </p:blipFill>
        <p:spPr>
          <a:xfrm>
            <a:off x="4249800" y="5548320"/>
            <a:ext cx="1423800" cy="620640"/>
          </a:xfrm>
          <a:prstGeom prst="rect">
            <a:avLst/>
          </a:prstGeom>
          <a:ln w="0">
            <a:noFill/>
          </a:ln>
        </p:spPr>
      </p:pic>
      <p:sp>
        <p:nvSpPr>
          <p:cNvPr id="260" name="矩形 1"/>
          <p:cNvSpPr/>
          <p:nvPr/>
        </p:nvSpPr>
        <p:spPr>
          <a:xfrm>
            <a:off x="6648480" y="266076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大分子物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6"/>
          <p:cNvSpPr/>
          <p:nvPr/>
        </p:nvSpPr>
        <p:spPr>
          <a:xfrm>
            <a:off x="5931000" y="544500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大分子物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尿的形成"/>
          <p:cNvPicPr/>
          <p:nvPr/>
        </p:nvPicPr>
        <p:blipFill>
          <a:blip r:embed="rId1"/>
          <a:stretch/>
        </p:blipFill>
        <p:spPr>
          <a:xfrm>
            <a:off x="2122560" y="1630440"/>
            <a:ext cx="1431720" cy="440352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12"/>
          <p:cNvSpPr/>
          <p:nvPr/>
        </p:nvSpPr>
        <p:spPr>
          <a:xfrm>
            <a:off x="1692360" y="166068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3"/>
          <p:cNvSpPr/>
          <p:nvPr/>
        </p:nvSpPr>
        <p:spPr>
          <a:xfrm>
            <a:off x="1692360" y="4932360"/>
            <a:ext cx="533160" cy="152280"/>
          </a:xfrm>
          <a:prstGeom prst="leftArrow">
            <a:avLst>
              <a:gd name="adj1" fmla="val 50000"/>
              <a:gd name="adj2" fmla="val 8753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1952640" y="2746440"/>
            <a:ext cx="39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52d88"/>
                </a:solidFill>
                <a:latin typeface="黑体"/>
                <a:ea typeface="黑体"/>
              </a:rPr>
              <a:t>毛细血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596880" y="1349280"/>
            <a:ext cx="11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52d88"/>
                </a:solidFill>
                <a:latin typeface="黑体"/>
                <a:ea typeface="黑体"/>
              </a:rPr>
              <a:t>含废物多血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662040" y="4740120"/>
            <a:ext cx="117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52d88"/>
                </a:solidFill>
                <a:latin typeface="黑体"/>
                <a:ea typeface="黑体"/>
              </a:rPr>
              <a:t>含废物少血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Text Box 2" descr=""/>
          <p:cNvPicPr/>
          <p:nvPr/>
        </p:nvPicPr>
        <p:blipFill>
          <a:blip r:embed="rId2"/>
          <a:stretch/>
        </p:blipFill>
        <p:spPr>
          <a:xfrm>
            <a:off x="6089760" y="2422440"/>
            <a:ext cx="2535120" cy="1150920"/>
          </a:xfrm>
          <a:prstGeom prst="rect">
            <a:avLst/>
          </a:prstGeom>
          <a:ln w="0">
            <a:noFill/>
          </a:ln>
        </p:spPr>
      </p:pic>
      <p:sp>
        <p:nvSpPr>
          <p:cNvPr id="270" name="Line 3"/>
          <p:cNvSpPr/>
          <p:nvPr/>
        </p:nvSpPr>
        <p:spPr>
          <a:xfrm>
            <a:off x="5859360" y="2347920"/>
            <a:ext cx="0" cy="7732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4672080" y="3159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原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3429000" y="3508200"/>
            <a:ext cx="52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含水、无机盐、葡萄糖、尿素等）进入肾小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5950080" y="4325760"/>
            <a:ext cx="0" cy="7938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Text Box 7" descr=""/>
          <p:cNvPicPr/>
          <p:nvPr/>
        </p:nvPicPr>
        <p:blipFill>
          <a:blip r:embed="rId3"/>
          <a:stretch/>
        </p:blipFill>
        <p:spPr>
          <a:xfrm>
            <a:off x="6195960" y="4467240"/>
            <a:ext cx="2428920" cy="78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9"/>
          <p:cNvSpPr/>
          <p:nvPr/>
        </p:nvSpPr>
        <p:spPr>
          <a:xfrm>
            <a:off x="5194440" y="5262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尿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110040" y="5680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含水、无机盐、尿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3554280" y="1386000"/>
            <a:ext cx="5116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含血细胞、蛋白质、水、无机盐、葡萄糖、尿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"/>
          <p:cNvSpPr/>
          <p:nvPr/>
        </p:nvSpPr>
        <p:spPr>
          <a:xfrm>
            <a:off x="5272200" y="93996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血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TextBox 18" descr=""/>
          <p:cNvPicPr/>
          <p:nvPr/>
        </p:nvPicPr>
        <p:blipFill>
          <a:blip r:embed="rId4"/>
          <a:stretch/>
        </p:blipFill>
        <p:spPr>
          <a:xfrm>
            <a:off x="3330720" y="4325760"/>
            <a:ext cx="2739960" cy="1030320"/>
          </a:xfrm>
          <a:prstGeom prst="rect">
            <a:avLst/>
          </a:prstGeom>
          <a:ln w="0">
            <a:noFill/>
          </a:ln>
        </p:spPr>
      </p:pic>
      <p:sp>
        <p:nvSpPr>
          <p:cNvPr id="28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8"/>
          <p:cNvSpPr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28640" y="634680"/>
            <a:ext cx="42498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8081f"/>
                </a:solidFill>
                <a:latin typeface="黑体"/>
                <a:ea typeface="黑体"/>
              </a:rPr>
              <a:t>尿的形成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3" name="HiddenControl5" descr=""/>
          <p:cNvPicPr/>
          <p:nvPr/>
        </p:nvPicPr>
        <p:blipFill>
          <a:blip r:embed="rId1"/>
          <a:stretch/>
        </p:blipFill>
        <p:spPr>
          <a:xfrm>
            <a:off x="1332000" y="704880"/>
            <a:ext cx="6480000" cy="5688000"/>
          </a:xfrm>
          <a:prstGeom prst="rect">
            <a:avLst/>
          </a:prstGeom>
          <a:ln w="0">
            <a:noFill/>
          </a:ln>
        </p:spPr>
      </p:pic>
      <p:sp>
        <p:nvSpPr>
          <p:cNvPr id="28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66600" y="790200"/>
            <a:ext cx="16030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想一想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6" name="图片 16" descr=""/>
          <p:cNvPicPr/>
          <p:nvPr/>
        </p:nvPicPr>
        <p:blipFill>
          <a:blip r:embed="rId1"/>
          <a:stretch/>
        </p:blipFill>
        <p:spPr>
          <a:xfrm>
            <a:off x="3408480" y="784080"/>
            <a:ext cx="5475240" cy="56660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2"/>
          <p:cNvSpPr/>
          <p:nvPr/>
        </p:nvSpPr>
        <p:spPr>
          <a:xfrm>
            <a:off x="3817800" y="2070000"/>
            <a:ext cx="46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肾小球和肾小囊内壁的过滤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"/>
          <p:cNvSpPr/>
          <p:nvPr/>
        </p:nvSpPr>
        <p:spPr>
          <a:xfrm>
            <a:off x="5994360" y="25322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4795920" y="2963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原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3444840" y="3435480"/>
            <a:ext cx="52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水、无机盐、葡萄糖、尿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6"/>
          <p:cNvSpPr/>
          <p:nvPr/>
        </p:nvSpPr>
        <p:spPr>
          <a:xfrm>
            <a:off x="6026040" y="3897360"/>
            <a:ext cx="0" cy="4125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3898800" y="43020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肾小管的重吸收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6039000" y="476424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5329080" y="52005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尿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3348000" y="56624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水、无机盐、尿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7"/>
          <p:cNvSpPr/>
          <p:nvPr/>
        </p:nvSpPr>
        <p:spPr>
          <a:xfrm>
            <a:off x="3327480" y="1131840"/>
            <a:ext cx="5333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血液：血细胞、蛋白质、水、无机盐、葡萄糖、尿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447840" y="1724040"/>
            <a:ext cx="31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原尿与血液相比不含哪些物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469800" y="3805200"/>
            <a:ext cx="28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尿液与原尿相比不含哪些物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1108800" y="3057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血细胞、蛋白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1508400" y="5200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葡萄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2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39360" y="682200"/>
            <a:ext cx="6357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想一想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793800" y="1822320"/>
            <a:ext cx="77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流入肾脏的血液和流出肾脏的血液最大的差别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971640" y="2844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流入肾脏的血液成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971640" y="35146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血细胞、蛋白质、水、无机盐、葡萄糖、尿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971640" y="4229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流出肾脏的血液成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6"/>
          <p:cNvSpPr/>
          <p:nvPr/>
        </p:nvSpPr>
        <p:spPr>
          <a:xfrm>
            <a:off x="971640" y="49449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血细胞、蛋白质、水、无机盐、葡萄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71320" y="1004760"/>
            <a:ext cx="800100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Medium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我们每天都要排出一定量的尿液，通过排尿把体内的一些代谢废物和多余的物质排出体外，从而保证体内环境的稳定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任意多边形 20"/>
          <p:cNvSpPr/>
          <p:nvPr/>
        </p:nvSpPr>
        <p:spPr>
          <a:xfrm>
            <a:off x="3132000" y="468360"/>
            <a:ext cx="719280" cy="708120"/>
          </a:xfrm>
          <a:custGeom>
            <a:avLst/>
            <a:gdLst/>
            <a:ahLst/>
            <a:rect l="l" t="t" r="r" b="b"/>
            <a:pathLst>
              <a:path w="1361803" h="1281345">
                <a:moveTo>
                  <a:pt x="340187" y="867542"/>
                </a:moveTo>
                <a:cubicBezTo>
                  <a:pt x="351512" y="867144"/>
                  <a:pt x="363575" y="872724"/>
                  <a:pt x="372930" y="883885"/>
                </a:cubicBezTo>
                <a:cubicBezTo>
                  <a:pt x="394595" y="907270"/>
                  <a:pt x="415275" y="931718"/>
                  <a:pt x="436940" y="957229"/>
                </a:cubicBezTo>
                <a:cubicBezTo>
                  <a:pt x="449742" y="946599"/>
                  <a:pt x="462543" y="935970"/>
                  <a:pt x="475345" y="925340"/>
                </a:cubicBezTo>
                <a:cubicBezTo>
                  <a:pt x="492086" y="911522"/>
                  <a:pt x="506857" y="910459"/>
                  <a:pt x="525568" y="923214"/>
                </a:cubicBezTo>
                <a:cubicBezTo>
                  <a:pt x="535415" y="929592"/>
                  <a:pt x="544278" y="935970"/>
                  <a:pt x="553141" y="942347"/>
                </a:cubicBezTo>
                <a:cubicBezTo>
                  <a:pt x="545263" y="967858"/>
                  <a:pt x="538370" y="993369"/>
                  <a:pt x="530492" y="1018880"/>
                </a:cubicBezTo>
                <a:cubicBezTo>
                  <a:pt x="528522" y="1018880"/>
                  <a:pt x="528522" y="1018880"/>
                  <a:pt x="527537" y="1018880"/>
                </a:cubicBezTo>
                <a:cubicBezTo>
                  <a:pt x="509812" y="1000810"/>
                  <a:pt x="494056" y="1007187"/>
                  <a:pt x="479284" y="1024195"/>
                </a:cubicBezTo>
                <a:cubicBezTo>
                  <a:pt x="473376" y="1030572"/>
                  <a:pt x="466482" y="1035887"/>
                  <a:pt x="459589" y="1041202"/>
                </a:cubicBezTo>
                <a:cubicBezTo>
                  <a:pt x="438909" y="1058209"/>
                  <a:pt x="420199" y="1056083"/>
                  <a:pt x="402473" y="1035887"/>
                </a:cubicBezTo>
                <a:cubicBezTo>
                  <a:pt x="385732" y="1017817"/>
                  <a:pt x="369976" y="998684"/>
                  <a:pt x="352251" y="978488"/>
                </a:cubicBezTo>
                <a:cubicBezTo>
                  <a:pt x="343388" y="995495"/>
                  <a:pt x="335510" y="1012502"/>
                  <a:pt x="327632" y="1028446"/>
                </a:cubicBezTo>
                <a:cubicBezTo>
                  <a:pt x="318769" y="1046517"/>
                  <a:pt x="303013" y="1053957"/>
                  <a:pt x="286272" y="1050768"/>
                </a:cubicBezTo>
                <a:cubicBezTo>
                  <a:pt x="262638" y="1046517"/>
                  <a:pt x="248851" y="1019943"/>
                  <a:pt x="259683" y="995495"/>
                </a:cubicBezTo>
                <a:cubicBezTo>
                  <a:pt x="276424" y="959355"/>
                  <a:pt x="293165" y="922151"/>
                  <a:pt x="311876" y="887074"/>
                </a:cubicBezTo>
                <a:cubicBezTo>
                  <a:pt x="318276" y="874318"/>
                  <a:pt x="328863" y="867941"/>
                  <a:pt x="340187" y="867542"/>
                </a:cubicBezTo>
                <a:close/>
                <a:moveTo>
                  <a:pt x="274255" y="687365"/>
                </a:moveTo>
                <a:cubicBezTo>
                  <a:pt x="330459" y="687365"/>
                  <a:pt x="386662" y="687365"/>
                  <a:pt x="442866" y="687365"/>
                </a:cubicBezTo>
                <a:cubicBezTo>
                  <a:pt x="516819" y="687365"/>
                  <a:pt x="590771" y="687365"/>
                  <a:pt x="664723" y="687365"/>
                </a:cubicBezTo>
                <a:cubicBezTo>
                  <a:pt x="670640" y="687365"/>
                  <a:pt x="675570" y="687365"/>
                  <a:pt x="684444" y="687365"/>
                </a:cubicBezTo>
                <a:cubicBezTo>
                  <a:pt x="666695" y="718154"/>
                  <a:pt x="649933" y="745757"/>
                  <a:pt x="632184" y="772299"/>
                </a:cubicBezTo>
                <a:cubicBezTo>
                  <a:pt x="630212" y="775484"/>
                  <a:pt x="625282" y="776545"/>
                  <a:pt x="621338" y="776545"/>
                </a:cubicBezTo>
                <a:cubicBezTo>
                  <a:pt x="504000" y="777607"/>
                  <a:pt x="387648" y="776545"/>
                  <a:pt x="270311" y="777607"/>
                </a:cubicBezTo>
                <a:cubicBezTo>
                  <a:pt x="259464" y="777607"/>
                  <a:pt x="255520" y="772299"/>
                  <a:pt x="256506" y="760620"/>
                </a:cubicBezTo>
                <a:cubicBezTo>
                  <a:pt x="256506" y="742572"/>
                  <a:pt x="256506" y="724524"/>
                  <a:pt x="255520" y="706475"/>
                </a:cubicBezTo>
                <a:cubicBezTo>
                  <a:pt x="255520" y="691612"/>
                  <a:pt x="261436" y="687365"/>
                  <a:pt x="274255" y="687365"/>
                </a:cubicBezTo>
                <a:close/>
                <a:moveTo>
                  <a:pt x="278054" y="504636"/>
                </a:moveTo>
                <a:cubicBezTo>
                  <a:pt x="354989" y="504636"/>
                  <a:pt x="432911" y="504636"/>
                  <a:pt x="509846" y="504636"/>
                </a:cubicBezTo>
                <a:cubicBezTo>
                  <a:pt x="588754" y="504636"/>
                  <a:pt x="666676" y="504636"/>
                  <a:pt x="745584" y="504636"/>
                </a:cubicBezTo>
                <a:cubicBezTo>
                  <a:pt x="764325" y="504636"/>
                  <a:pt x="765311" y="505700"/>
                  <a:pt x="765311" y="524845"/>
                </a:cubicBezTo>
                <a:cubicBezTo>
                  <a:pt x="765311" y="535481"/>
                  <a:pt x="765311" y="546117"/>
                  <a:pt x="765311" y="556753"/>
                </a:cubicBezTo>
                <a:cubicBezTo>
                  <a:pt x="765311" y="580153"/>
                  <a:pt x="752489" y="593980"/>
                  <a:pt x="730789" y="593980"/>
                </a:cubicBezTo>
                <a:cubicBezTo>
                  <a:pt x="580863" y="593980"/>
                  <a:pt x="429952" y="593980"/>
                  <a:pt x="279040" y="593980"/>
                </a:cubicBezTo>
                <a:cubicBezTo>
                  <a:pt x="256354" y="593980"/>
                  <a:pt x="256354" y="592917"/>
                  <a:pt x="256354" y="569517"/>
                </a:cubicBezTo>
                <a:cubicBezTo>
                  <a:pt x="256354" y="555690"/>
                  <a:pt x="256354" y="541863"/>
                  <a:pt x="256354" y="528036"/>
                </a:cubicBezTo>
                <a:cubicBezTo>
                  <a:pt x="256354" y="504636"/>
                  <a:pt x="256354" y="504636"/>
                  <a:pt x="278054" y="504636"/>
                </a:cubicBezTo>
                <a:close/>
                <a:moveTo>
                  <a:pt x="942895" y="453454"/>
                </a:moveTo>
                <a:cubicBezTo>
                  <a:pt x="989224" y="494914"/>
                  <a:pt x="1033581" y="534249"/>
                  <a:pt x="1077938" y="574646"/>
                </a:cubicBezTo>
                <a:cubicBezTo>
                  <a:pt x="1059210" y="599097"/>
                  <a:pt x="1040481" y="622484"/>
                  <a:pt x="1021752" y="644809"/>
                </a:cubicBezTo>
                <a:cubicBezTo>
                  <a:pt x="928109" y="760685"/>
                  <a:pt x="831509" y="874435"/>
                  <a:pt x="722095" y="974365"/>
                </a:cubicBezTo>
                <a:cubicBezTo>
                  <a:pt x="695481" y="999879"/>
                  <a:pt x="664923" y="1021141"/>
                  <a:pt x="635352" y="1042403"/>
                </a:cubicBezTo>
                <a:cubicBezTo>
                  <a:pt x="626481" y="1048781"/>
                  <a:pt x="613666" y="1046655"/>
                  <a:pt x="601838" y="1048781"/>
                </a:cubicBezTo>
                <a:cubicBezTo>
                  <a:pt x="601838" y="1037087"/>
                  <a:pt x="596909" y="1023267"/>
                  <a:pt x="600852" y="1012636"/>
                </a:cubicBezTo>
                <a:cubicBezTo>
                  <a:pt x="619581" y="969050"/>
                  <a:pt x="637323" y="924400"/>
                  <a:pt x="659995" y="882940"/>
                </a:cubicBezTo>
                <a:cubicBezTo>
                  <a:pt x="741809" y="734108"/>
                  <a:pt x="838409" y="595907"/>
                  <a:pt x="938952" y="460896"/>
                </a:cubicBezTo>
                <a:cubicBezTo>
                  <a:pt x="939938" y="458770"/>
                  <a:pt x="940924" y="456643"/>
                  <a:pt x="942895" y="453454"/>
                </a:cubicBezTo>
                <a:close/>
                <a:moveTo>
                  <a:pt x="1337162" y="323013"/>
                </a:moveTo>
                <a:cubicBezTo>
                  <a:pt x="1348990" y="326198"/>
                  <a:pt x="1361803" y="343189"/>
                  <a:pt x="1361803" y="358055"/>
                </a:cubicBezTo>
                <a:cubicBezTo>
                  <a:pt x="1359832" y="361241"/>
                  <a:pt x="1357861" y="367612"/>
                  <a:pt x="1353918" y="373984"/>
                </a:cubicBezTo>
                <a:cubicBezTo>
                  <a:pt x="1300693" y="447255"/>
                  <a:pt x="1247469" y="521588"/>
                  <a:pt x="1194244" y="594859"/>
                </a:cubicBezTo>
                <a:cubicBezTo>
                  <a:pt x="1175517" y="619282"/>
                  <a:pt x="1154818" y="642644"/>
                  <a:pt x="1134120" y="664944"/>
                </a:cubicBezTo>
                <a:cubicBezTo>
                  <a:pt x="1125249" y="673439"/>
                  <a:pt x="1113421" y="678749"/>
                  <a:pt x="1101594" y="682996"/>
                </a:cubicBezTo>
                <a:cubicBezTo>
                  <a:pt x="1095680" y="685120"/>
                  <a:pt x="1083852" y="682996"/>
                  <a:pt x="1080895" y="677687"/>
                </a:cubicBezTo>
                <a:cubicBezTo>
                  <a:pt x="1077938" y="671315"/>
                  <a:pt x="1077938" y="658573"/>
                  <a:pt x="1080895" y="652201"/>
                </a:cubicBezTo>
                <a:cubicBezTo>
                  <a:pt x="1092723" y="633087"/>
                  <a:pt x="1107507" y="615035"/>
                  <a:pt x="1121306" y="596983"/>
                </a:cubicBezTo>
                <a:cubicBezTo>
                  <a:pt x="1175517" y="522650"/>
                  <a:pt x="1229727" y="449379"/>
                  <a:pt x="1284923" y="375046"/>
                </a:cubicBezTo>
                <a:cubicBezTo>
                  <a:pt x="1293794" y="362303"/>
                  <a:pt x="1302665" y="348498"/>
                  <a:pt x="1310550" y="334694"/>
                </a:cubicBezTo>
                <a:cubicBezTo>
                  <a:pt x="1317449" y="324075"/>
                  <a:pt x="1325334" y="318765"/>
                  <a:pt x="1337162" y="323013"/>
                </a:cubicBezTo>
                <a:close/>
                <a:moveTo>
                  <a:pt x="525824" y="229421"/>
                </a:moveTo>
                <a:cubicBezTo>
                  <a:pt x="600725" y="229421"/>
                  <a:pt x="675627" y="229421"/>
                  <a:pt x="750528" y="229421"/>
                </a:cubicBezTo>
                <a:cubicBezTo>
                  <a:pt x="761369" y="229421"/>
                  <a:pt x="765311" y="233676"/>
                  <a:pt x="765311" y="245375"/>
                </a:cubicBezTo>
                <a:cubicBezTo>
                  <a:pt x="764326" y="264521"/>
                  <a:pt x="764326" y="282602"/>
                  <a:pt x="765311" y="301747"/>
                </a:cubicBezTo>
                <a:cubicBezTo>
                  <a:pt x="765311" y="314511"/>
                  <a:pt x="760383" y="318765"/>
                  <a:pt x="748557" y="318765"/>
                </a:cubicBezTo>
                <a:cubicBezTo>
                  <a:pt x="711106" y="318765"/>
                  <a:pt x="674641" y="318765"/>
                  <a:pt x="638176" y="318765"/>
                </a:cubicBezTo>
                <a:cubicBezTo>
                  <a:pt x="601711" y="318765"/>
                  <a:pt x="565246" y="317702"/>
                  <a:pt x="528781" y="318765"/>
                </a:cubicBezTo>
                <a:cubicBezTo>
                  <a:pt x="515969" y="318765"/>
                  <a:pt x="511041" y="313447"/>
                  <a:pt x="511041" y="299620"/>
                </a:cubicBezTo>
                <a:cubicBezTo>
                  <a:pt x="512027" y="282602"/>
                  <a:pt x="512027" y="264521"/>
                  <a:pt x="511041" y="246439"/>
                </a:cubicBezTo>
                <a:cubicBezTo>
                  <a:pt x="511041" y="234739"/>
                  <a:pt x="514983" y="229421"/>
                  <a:pt x="525824" y="229421"/>
                </a:cubicBezTo>
                <a:close/>
                <a:moveTo>
                  <a:pt x="1243182" y="137949"/>
                </a:moveTo>
                <a:cubicBezTo>
                  <a:pt x="1255260" y="139675"/>
                  <a:pt x="1267337" y="146577"/>
                  <a:pt x="1281140" y="158257"/>
                </a:cubicBezTo>
                <a:cubicBezTo>
                  <a:pt x="1308745" y="183741"/>
                  <a:pt x="1317618" y="208163"/>
                  <a:pt x="1306773" y="240018"/>
                </a:cubicBezTo>
                <a:cubicBezTo>
                  <a:pt x="1300858" y="257008"/>
                  <a:pt x="1294942" y="275059"/>
                  <a:pt x="1285083" y="289925"/>
                </a:cubicBezTo>
                <a:cubicBezTo>
                  <a:pt x="1228886" y="370624"/>
                  <a:pt x="1171704" y="450262"/>
                  <a:pt x="1114521" y="532023"/>
                </a:cubicBezTo>
                <a:cubicBezTo>
                  <a:pt x="1066212" y="489550"/>
                  <a:pt x="1022832" y="450262"/>
                  <a:pt x="977480" y="410974"/>
                </a:cubicBezTo>
                <a:cubicBezTo>
                  <a:pt x="984381" y="401417"/>
                  <a:pt x="990297" y="392923"/>
                  <a:pt x="996212" y="385490"/>
                </a:cubicBezTo>
                <a:cubicBezTo>
                  <a:pt x="1050437" y="319656"/>
                  <a:pt x="1103676" y="252760"/>
                  <a:pt x="1157901" y="187988"/>
                </a:cubicBezTo>
                <a:cubicBezTo>
                  <a:pt x="1170718" y="172061"/>
                  <a:pt x="1188464" y="159319"/>
                  <a:pt x="1205225" y="148700"/>
                </a:cubicBezTo>
                <a:cubicBezTo>
                  <a:pt x="1219027" y="139675"/>
                  <a:pt x="1231105" y="136224"/>
                  <a:pt x="1243182" y="137949"/>
                </a:cubicBezTo>
                <a:close/>
                <a:moveTo>
                  <a:pt x="326420" y="0"/>
                </a:moveTo>
                <a:cubicBezTo>
                  <a:pt x="513791" y="0"/>
                  <a:pt x="702148" y="0"/>
                  <a:pt x="889519" y="0"/>
                </a:cubicBezTo>
                <a:cubicBezTo>
                  <a:pt x="964468" y="1063"/>
                  <a:pt x="1018707" y="56311"/>
                  <a:pt x="1021665" y="137059"/>
                </a:cubicBezTo>
                <a:cubicBezTo>
                  <a:pt x="1021665" y="164684"/>
                  <a:pt x="1021665" y="191246"/>
                  <a:pt x="1020679" y="218870"/>
                </a:cubicBezTo>
                <a:cubicBezTo>
                  <a:pt x="1020679" y="225245"/>
                  <a:pt x="1017721" y="232682"/>
                  <a:pt x="1013776" y="237995"/>
                </a:cubicBezTo>
                <a:cubicBezTo>
                  <a:pt x="985177" y="275181"/>
                  <a:pt x="956578" y="311305"/>
                  <a:pt x="928966" y="348492"/>
                </a:cubicBezTo>
                <a:cubicBezTo>
                  <a:pt x="921077" y="358054"/>
                  <a:pt x="915160" y="369741"/>
                  <a:pt x="908256" y="380366"/>
                </a:cubicBezTo>
                <a:cubicBezTo>
                  <a:pt x="905298" y="384616"/>
                  <a:pt x="901353" y="387804"/>
                  <a:pt x="895436" y="395241"/>
                </a:cubicBezTo>
                <a:cubicBezTo>
                  <a:pt x="895436" y="365492"/>
                  <a:pt x="895436" y="339992"/>
                  <a:pt x="895436" y="314493"/>
                </a:cubicBezTo>
                <a:cubicBezTo>
                  <a:pt x="895436" y="263494"/>
                  <a:pt x="895436" y="212495"/>
                  <a:pt x="895436" y="161496"/>
                </a:cubicBezTo>
                <a:cubicBezTo>
                  <a:pt x="895436" y="139184"/>
                  <a:pt x="892478" y="135997"/>
                  <a:pt x="870782" y="135997"/>
                </a:cubicBezTo>
                <a:cubicBezTo>
                  <a:pt x="713982" y="135997"/>
                  <a:pt x="557182" y="135997"/>
                  <a:pt x="399396" y="135997"/>
                </a:cubicBezTo>
                <a:cubicBezTo>
                  <a:pt x="394465" y="135997"/>
                  <a:pt x="388548" y="135997"/>
                  <a:pt x="381645" y="135997"/>
                </a:cubicBezTo>
                <a:cubicBezTo>
                  <a:pt x="381645" y="145559"/>
                  <a:pt x="381645" y="152997"/>
                  <a:pt x="381645" y="159371"/>
                </a:cubicBezTo>
                <a:cubicBezTo>
                  <a:pt x="381645" y="211433"/>
                  <a:pt x="381645" y="262431"/>
                  <a:pt x="381645" y="314493"/>
                </a:cubicBezTo>
                <a:cubicBezTo>
                  <a:pt x="380659" y="373991"/>
                  <a:pt x="346143" y="410116"/>
                  <a:pt x="290918" y="410116"/>
                </a:cubicBezTo>
                <a:cubicBezTo>
                  <a:pt x="241610" y="410116"/>
                  <a:pt x="192302" y="410116"/>
                  <a:pt x="142994" y="410116"/>
                </a:cubicBezTo>
                <a:cubicBezTo>
                  <a:pt x="138063" y="410116"/>
                  <a:pt x="133132" y="410116"/>
                  <a:pt x="126229" y="410116"/>
                </a:cubicBezTo>
                <a:cubicBezTo>
                  <a:pt x="126229" y="418615"/>
                  <a:pt x="126229" y="423928"/>
                  <a:pt x="126229" y="429240"/>
                </a:cubicBezTo>
                <a:cubicBezTo>
                  <a:pt x="126229" y="658735"/>
                  <a:pt x="126229" y="888229"/>
                  <a:pt x="126229" y="1117724"/>
                </a:cubicBezTo>
                <a:cubicBezTo>
                  <a:pt x="126229" y="1143223"/>
                  <a:pt x="128201" y="1145348"/>
                  <a:pt x="150883" y="1145348"/>
                </a:cubicBezTo>
                <a:cubicBezTo>
                  <a:pt x="390521" y="1145348"/>
                  <a:pt x="630158" y="1145348"/>
                  <a:pt x="869796" y="1145348"/>
                </a:cubicBezTo>
                <a:cubicBezTo>
                  <a:pt x="893464" y="1145348"/>
                  <a:pt x="895436" y="1143223"/>
                  <a:pt x="895436" y="1117724"/>
                </a:cubicBezTo>
                <a:cubicBezTo>
                  <a:pt x="895436" y="1052913"/>
                  <a:pt x="895436" y="988102"/>
                  <a:pt x="895436" y="923291"/>
                </a:cubicBezTo>
                <a:cubicBezTo>
                  <a:pt x="895436" y="916916"/>
                  <a:pt x="897409" y="908416"/>
                  <a:pt x="901353" y="904166"/>
                </a:cubicBezTo>
                <a:cubicBezTo>
                  <a:pt x="938827" y="860605"/>
                  <a:pt x="976302" y="818106"/>
                  <a:pt x="1013776" y="774545"/>
                </a:cubicBezTo>
                <a:cubicBezTo>
                  <a:pt x="1015748" y="773482"/>
                  <a:pt x="1016734" y="772420"/>
                  <a:pt x="1020679" y="769232"/>
                </a:cubicBezTo>
                <a:cubicBezTo>
                  <a:pt x="1020679" y="775607"/>
                  <a:pt x="1021665" y="779857"/>
                  <a:pt x="1021665" y="784107"/>
                </a:cubicBezTo>
                <a:cubicBezTo>
                  <a:pt x="1021665" y="902042"/>
                  <a:pt x="1021665" y="1018914"/>
                  <a:pt x="1021665" y="1135786"/>
                </a:cubicBezTo>
                <a:cubicBezTo>
                  <a:pt x="1020679" y="1222909"/>
                  <a:pt x="967426" y="1281345"/>
                  <a:pt x="886561" y="1281345"/>
                </a:cubicBezTo>
                <a:cubicBezTo>
                  <a:pt x="634103" y="1281345"/>
                  <a:pt x="382631" y="1281345"/>
                  <a:pt x="131160" y="1281345"/>
                </a:cubicBezTo>
                <a:cubicBezTo>
                  <a:pt x="55225" y="1281345"/>
                  <a:pt x="0" y="1221847"/>
                  <a:pt x="0" y="1140036"/>
                </a:cubicBezTo>
                <a:cubicBezTo>
                  <a:pt x="0" y="872292"/>
                  <a:pt x="0" y="603486"/>
                  <a:pt x="0" y="335742"/>
                </a:cubicBezTo>
                <a:cubicBezTo>
                  <a:pt x="0" y="315555"/>
                  <a:pt x="5917" y="298556"/>
                  <a:pt x="18737" y="283681"/>
                </a:cubicBezTo>
                <a:cubicBezTo>
                  <a:pt x="99603" y="198683"/>
                  <a:pt x="180468" y="113685"/>
                  <a:pt x="261333" y="28687"/>
                </a:cubicBezTo>
                <a:cubicBezTo>
                  <a:pt x="279084" y="9562"/>
                  <a:pt x="300780" y="0"/>
                  <a:pt x="3264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4" descr=""/>
          <p:cNvPicPr/>
          <p:nvPr/>
        </p:nvPicPr>
        <p:blipFill>
          <a:blip r:embed="rId1"/>
          <a:stretch/>
        </p:blipFill>
        <p:spPr>
          <a:xfrm>
            <a:off x="2300400" y="3413160"/>
            <a:ext cx="4863960" cy="261612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Line 2"/>
          <p:cNvSpPr/>
          <p:nvPr/>
        </p:nvSpPr>
        <p:spPr>
          <a:xfrm>
            <a:off x="3389400" y="533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" descr="22"/>
          <p:cNvPicPr/>
          <p:nvPr/>
        </p:nvPicPr>
        <p:blipFill>
          <a:blip r:embed="rId1"/>
          <a:stretch/>
        </p:blipFill>
        <p:spPr>
          <a:xfrm>
            <a:off x="1265400" y="1749600"/>
            <a:ext cx="2278080" cy="349560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5"/>
          <p:cNvGrpSpPr/>
          <p:nvPr/>
        </p:nvGrpSpPr>
        <p:grpSpPr>
          <a:xfrm>
            <a:off x="3024360" y="1878120"/>
            <a:ext cx="2065320" cy="459720"/>
            <a:chOff x="3024360" y="1878120"/>
            <a:chExt cx="2065320" cy="459720"/>
          </a:xfrm>
        </p:grpSpPr>
        <p:sp>
          <p:nvSpPr>
            <p:cNvPr id="312" name="Line 6"/>
            <p:cNvSpPr/>
            <p:nvPr/>
          </p:nvSpPr>
          <p:spPr>
            <a:xfrm>
              <a:off x="3024360" y="2141640"/>
              <a:ext cx="1065240" cy="0"/>
            </a:xfrm>
            <a:prstGeom prst="line">
              <a:avLst/>
            </a:prstGeom>
            <a:ln w="2844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7"/>
            <p:cNvSpPr/>
            <p:nvPr/>
          </p:nvSpPr>
          <p:spPr>
            <a:xfrm>
              <a:off x="4089600" y="187812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肾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8"/>
          <p:cNvGrpSpPr/>
          <p:nvPr/>
        </p:nvGrpSpPr>
        <p:grpSpPr>
          <a:xfrm>
            <a:off x="2727360" y="2703600"/>
            <a:ext cx="2724120" cy="459720"/>
            <a:chOff x="2727360" y="2703600"/>
            <a:chExt cx="2724120" cy="459720"/>
          </a:xfrm>
        </p:grpSpPr>
        <p:sp>
          <p:nvSpPr>
            <p:cNvPr id="315" name="Text Box 9"/>
            <p:cNvSpPr/>
            <p:nvPr/>
          </p:nvSpPr>
          <p:spPr>
            <a:xfrm>
              <a:off x="4093920" y="2703600"/>
              <a:ext cx="135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输尿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0"/>
            <p:cNvSpPr/>
            <p:nvPr/>
          </p:nvSpPr>
          <p:spPr>
            <a:xfrm>
              <a:off x="2727360" y="3009960"/>
              <a:ext cx="1371600" cy="0"/>
            </a:xfrm>
            <a:prstGeom prst="line">
              <a:avLst/>
            </a:prstGeom>
            <a:ln w="2844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1"/>
          <p:cNvGrpSpPr/>
          <p:nvPr/>
        </p:nvGrpSpPr>
        <p:grpSpPr>
          <a:xfrm>
            <a:off x="2722680" y="4297320"/>
            <a:ext cx="2560680" cy="459720"/>
            <a:chOff x="2722680" y="4297320"/>
            <a:chExt cx="2560680" cy="459720"/>
          </a:xfrm>
        </p:grpSpPr>
        <p:sp>
          <p:nvSpPr>
            <p:cNvPr id="318" name="Line 12"/>
            <p:cNvSpPr/>
            <p:nvPr/>
          </p:nvSpPr>
          <p:spPr>
            <a:xfrm>
              <a:off x="2722680" y="4619520"/>
              <a:ext cx="1376640" cy="0"/>
            </a:xfrm>
            <a:prstGeom prst="line">
              <a:avLst/>
            </a:prstGeom>
            <a:ln w="2844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3"/>
            <p:cNvSpPr/>
            <p:nvPr/>
          </p:nvSpPr>
          <p:spPr>
            <a:xfrm>
              <a:off x="4140360" y="4297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膀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14"/>
          <p:cNvGrpSpPr/>
          <p:nvPr/>
        </p:nvGrpSpPr>
        <p:grpSpPr>
          <a:xfrm>
            <a:off x="2403360" y="4871880"/>
            <a:ext cx="3032280" cy="459720"/>
            <a:chOff x="2403360" y="4871880"/>
            <a:chExt cx="3032280" cy="459720"/>
          </a:xfrm>
        </p:grpSpPr>
        <p:sp>
          <p:nvSpPr>
            <p:cNvPr id="321" name="Line 15"/>
            <p:cNvSpPr/>
            <p:nvPr/>
          </p:nvSpPr>
          <p:spPr>
            <a:xfrm>
              <a:off x="2403360" y="5152680"/>
              <a:ext cx="1703520" cy="0"/>
            </a:xfrm>
            <a:prstGeom prst="line">
              <a:avLst/>
            </a:prstGeom>
            <a:ln w="2844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16"/>
            <p:cNvSpPr/>
            <p:nvPr/>
          </p:nvSpPr>
          <p:spPr>
            <a:xfrm>
              <a:off x="4140000" y="48718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尿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标题 2"/>
          <p:cNvSpPr/>
          <p:nvPr/>
        </p:nvSpPr>
        <p:spPr>
          <a:xfrm>
            <a:off x="1393920" y="665280"/>
            <a:ext cx="6356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尿液的排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Text Box 2" descr=""/>
          <p:cNvPicPr/>
          <p:nvPr/>
        </p:nvPicPr>
        <p:blipFill>
          <a:blip r:embed="rId2"/>
          <a:stretch/>
        </p:blipFill>
        <p:spPr>
          <a:xfrm>
            <a:off x="5527800" y="1846440"/>
            <a:ext cx="1158840" cy="779400"/>
          </a:xfrm>
          <a:prstGeom prst="rect">
            <a:avLst/>
          </a:prstGeom>
          <a:ln w="0">
            <a:noFill/>
          </a:ln>
        </p:spPr>
      </p:pic>
      <p:pic>
        <p:nvPicPr>
          <p:cNvPr id="325" name="Text Box 3" descr=""/>
          <p:cNvPicPr/>
          <p:nvPr/>
        </p:nvPicPr>
        <p:blipFill>
          <a:blip r:embed="rId3"/>
          <a:stretch/>
        </p:blipFill>
        <p:spPr>
          <a:xfrm>
            <a:off x="6680160" y="1846440"/>
            <a:ext cx="1158840" cy="77940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4"/>
          <p:cNvGrpSpPr/>
          <p:nvPr/>
        </p:nvGrpSpPr>
        <p:grpSpPr>
          <a:xfrm>
            <a:off x="5743440" y="2352600"/>
            <a:ext cx="1371600" cy="1371600"/>
            <a:chOff x="5743440" y="2352600"/>
            <a:chExt cx="1371600" cy="1371600"/>
          </a:xfrm>
        </p:grpSpPr>
        <p:sp>
          <p:nvSpPr>
            <p:cNvPr id="327" name="Line 5"/>
            <p:cNvSpPr/>
            <p:nvPr/>
          </p:nvSpPr>
          <p:spPr>
            <a:xfrm>
              <a:off x="5743440" y="2428920"/>
              <a:ext cx="609480" cy="129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6"/>
            <p:cNvSpPr/>
            <p:nvPr/>
          </p:nvSpPr>
          <p:spPr>
            <a:xfrm flipH="1">
              <a:off x="6505200" y="2352600"/>
              <a:ext cx="609840" cy="1371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7"/>
            <p:cNvSpPr/>
            <p:nvPr/>
          </p:nvSpPr>
          <p:spPr>
            <a:xfrm>
              <a:off x="6200640" y="242892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输尿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Text Box 8" descr=""/>
          <p:cNvPicPr/>
          <p:nvPr/>
        </p:nvPicPr>
        <p:blipFill>
          <a:blip r:embed="rId4"/>
          <a:stretch/>
        </p:blipFill>
        <p:spPr>
          <a:xfrm>
            <a:off x="5959440" y="3719520"/>
            <a:ext cx="1311480" cy="77940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9"/>
          <p:cNvGrpSpPr/>
          <p:nvPr/>
        </p:nvGrpSpPr>
        <p:grpSpPr>
          <a:xfrm>
            <a:off x="6030360" y="4152960"/>
            <a:ext cx="911880" cy="914400"/>
            <a:chOff x="6030360" y="4152960"/>
            <a:chExt cx="911880" cy="914400"/>
          </a:xfrm>
        </p:grpSpPr>
        <p:sp>
          <p:nvSpPr>
            <p:cNvPr id="332" name="Line 10"/>
            <p:cNvSpPr/>
            <p:nvPr/>
          </p:nvSpPr>
          <p:spPr>
            <a:xfrm>
              <a:off x="6408720" y="41529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1"/>
            <p:cNvSpPr/>
            <p:nvPr/>
          </p:nvSpPr>
          <p:spPr>
            <a:xfrm>
              <a:off x="6030360" y="4228920"/>
              <a:ext cx="9118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尿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4" name="Text Box 12" descr=""/>
          <p:cNvPicPr/>
          <p:nvPr/>
        </p:nvPicPr>
        <p:blipFill>
          <a:blip r:embed="rId5"/>
          <a:stretch/>
        </p:blipFill>
        <p:spPr>
          <a:xfrm>
            <a:off x="6032520" y="5014800"/>
            <a:ext cx="1311120" cy="7794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3"/>
          <p:cNvSpPr/>
          <p:nvPr/>
        </p:nvSpPr>
        <p:spPr>
          <a:xfrm>
            <a:off x="1073160" y="580536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尿液的排出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164040" y="5805360"/>
            <a:ext cx="143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肾脏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4375080" y="5786280"/>
            <a:ext cx="18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输尿管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5845320" y="5805360"/>
            <a:ext cx="1342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膀胱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7077240" y="5805360"/>
            <a:ext cx="94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尿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1"/>
          <p:cNvSpPr/>
          <p:nvPr/>
        </p:nvSpPr>
        <p:spPr>
          <a:xfrm>
            <a:off x="627120" y="1728720"/>
            <a:ext cx="816588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尿的形成是连续的，而尿的排出是间断的，为什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4913280" y="2728800"/>
            <a:ext cx="271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排尿受大脑支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1084320" y="2728800"/>
            <a:ext cx="3686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膀胱可以暂时储存尿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1084320" y="4302000"/>
            <a:ext cx="746136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排出代谢废物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调节体内水和无机盐的平衡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维持组织细胞的正常生理功能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627120" y="3452760"/>
            <a:ext cx="7632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人体排尿有什么意义呢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标题 24"/>
          <p:cNvSpPr/>
          <p:nvPr/>
        </p:nvSpPr>
        <p:spPr>
          <a:xfrm>
            <a:off x="1608120" y="871560"/>
            <a:ext cx="6359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想一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23" descr=""/>
          <p:cNvPicPr/>
          <p:nvPr/>
        </p:nvPicPr>
        <p:blipFill>
          <a:blip r:embed="rId1"/>
          <a:stretch/>
        </p:blipFill>
        <p:spPr>
          <a:xfrm>
            <a:off x="3284640" y="720720"/>
            <a:ext cx="707760" cy="709560"/>
          </a:xfrm>
          <a:prstGeom prst="rect">
            <a:avLst/>
          </a:prstGeom>
          <a:ln w="0">
            <a:noFill/>
          </a:ln>
        </p:spPr>
      </p:pic>
      <p:sp>
        <p:nvSpPr>
          <p:cNvPr id="34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5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0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3"/>
          <p:cNvGrpSpPr/>
          <p:nvPr/>
        </p:nvGrpSpPr>
        <p:grpSpPr>
          <a:xfrm>
            <a:off x="1662120" y="4797360"/>
            <a:ext cx="2341080" cy="1066680"/>
            <a:chOff x="1662120" y="4797360"/>
            <a:chExt cx="2341080" cy="1066680"/>
          </a:xfrm>
        </p:grpSpPr>
        <p:sp>
          <p:nvSpPr>
            <p:cNvPr id="350" name="AutoShape 4"/>
            <p:cNvSpPr/>
            <p:nvPr/>
          </p:nvSpPr>
          <p:spPr>
            <a:xfrm>
              <a:off x="1662120" y="4797360"/>
              <a:ext cx="2341080" cy="1066680"/>
            </a:xfrm>
            <a:prstGeom prst="irregularSeal2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5"/>
            <p:cNvSpPr/>
            <p:nvPr/>
          </p:nvSpPr>
          <p:spPr>
            <a:xfrm>
              <a:off x="2269080" y="5102280"/>
              <a:ext cx="147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尿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6"/>
          <p:cNvGrpSpPr/>
          <p:nvPr/>
        </p:nvGrpSpPr>
        <p:grpSpPr>
          <a:xfrm>
            <a:off x="1579680" y="2208240"/>
            <a:ext cx="2210760" cy="609480"/>
            <a:chOff x="1579680" y="2208240"/>
            <a:chExt cx="2210760" cy="609480"/>
          </a:xfrm>
        </p:grpSpPr>
        <p:sp>
          <p:nvSpPr>
            <p:cNvPr id="353" name="AutoShape 7"/>
            <p:cNvSpPr/>
            <p:nvPr/>
          </p:nvSpPr>
          <p:spPr>
            <a:xfrm>
              <a:off x="1579680" y="2208240"/>
              <a:ext cx="2210760" cy="609480"/>
            </a:xfrm>
            <a:prstGeom prst="cloudCallout">
              <a:avLst>
                <a:gd name="adj1" fmla="val -43750"/>
                <a:gd name="adj2" fmla="val 70000"/>
              </a:avLst>
            </a:prstGeom>
            <a:gradFill rotWithShape="0">
              <a:gsLst>
                <a:gs pos="0">
                  <a:srgbClr val="cc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8"/>
            <p:cNvSpPr/>
            <p:nvPr/>
          </p:nvSpPr>
          <p:spPr>
            <a:xfrm>
              <a:off x="2172240" y="2208240"/>
              <a:ext cx="973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二氧化碳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9"/>
          <p:cNvGrpSpPr/>
          <p:nvPr/>
        </p:nvGrpSpPr>
        <p:grpSpPr>
          <a:xfrm>
            <a:off x="1662120" y="3076560"/>
            <a:ext cx="2080800" cy="685800"/>
            <a:chOff x="1662120" y="3076560"/>
            <a:chExt cx="2080800" cy="685800"/>
          </a:xfrm>
        </p:grpSpPr>
        <p:sp>
          <p:nvSpPr>
            <p:cNvPr id="356" name="Oval 10"/>
            <p:cNvSpPr/>
            <p:nvPr/>
          </p:nvSpPr>
          <p:spPr>
            <a:xfrm>
              <a:off x="1662120" y="3076560"/>
              <a:ext cx="2080800" cy="6858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563c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1"/>
            <p:cNvSpPr/>
            <p:nvPr/>
          </p:nvSpPr>
          <p:spPr>
            <a:xfrm>
              <a:off x="2151000" y="3152880"/>
              <a:ext cx="973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余的水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12"/>
          <p:cNvGrpSpPr/>
          <p:nvPr/>
        </p:nvGrpSpPr>
        <p:grpSpPr>
          <a:xfrm>
            <a:off x="1709640" y="4056120"/>
            <a:ext cx="2080800" cy="685800"/>
            <a:chOff x="1709640" y="4056120"/>
            <a:chExt cx="2080800" cy="685800"/>
          </a:xfrm>
        </p:grpSpPr>
        <p:sp>
          <p:nvSpPr>
            <p:cNvPr id="359" name="Rectangle 13"/>
            <p:cNvSpPr/>
            <p:nvPr/>
          </p:nvSpPr>
          <p:spPr>
            <a:xfrm>
              <a:off x="1709640" y="4056120"/>
              <a:ext cx="2080800" cy="685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4"/>
            <p:cNvSpPr/>
            <p:nvPr/>
          </p:nvSpPr>
          <p:spPr>
            <a:xfrm>
              <a:off x="2056320" y="4132440"/>
              <a:ext cx="1249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无机盐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2"/>
          <p:cNvGrpSpPr/>
          <p:nvPr/>
        </p:nvGrpSpPr>
        <p:grpSpPr>
          <a:xfrm>
            <a:off x="3692520" y="2376360"/>
            <a:ext cx="1447920" cy="990000"/>
            <a:chOff x="3692520" y="2376360"/>
            <a:chExt cx="1447920" cy="990000"/>
          </a:xfrm>
        </p:grpSpPr>
        <p:sp>
          <p:nvSpPr>
            <p:cNvPr id="362" name="Line 23"/>
            <p:cNvSpPr/>
            <p:nvPr/>
          </p:nvSpPr>
          <p:spPr>
            <a:xfrm>
              <a:off x="3692520" y="2376360"/>
              <a:ext cx="1447920" cy="3535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24"/>
            <p:cNvSpPr/>
            <p:nvPr/>
          </p:nvSpPr>
          <p:spPr>
            <a:xfrm flipV="1">
              <a:off x="3692520" y="2729520"/>
              <a:ext cx="1447920" cy="6368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5"/>
          <p:cNvGrpSpPr/>
          <p:nvPr/>
        </p:nvGrpSpPr>
        <p:grpSpPr>
          <a:xfrm>
            <a:off x="3382920" y="3424320"/>
            <a:ext cx="1766880" cy="1949400"/>
            <a:chOff x="3382920" y="3424320"/>
            <a:chExt cx="1766880" cy="1949400"/>
          </a:xfrm>
        </p:grpSpPr>
        <p:sp>
          <p:nvSpPr>
            <p:cNvPr id="365" name="Line 26"/>
            <p:cNvSpPr/>
            <p:nvPr/>
          </p:nvSpPr>
          <p:spPr>
            <a:xfrm>
              <a:off x="3612240" y="4491000"/>
              <a:ext cx="15372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7"/>
            <p:cNvSpPr/>
            <p:nvPr/>
          </p:nvSpPr>
          <p:spPr>
            <a:xfrm>
              <a:off x="3612240" y="3424320"/>
              <a:ext cx="1537200" cy="10666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8"/>
            <p:cNvSpPr/>
            <p:nvPr/>
          </p:nvSpPr>
          <p:spPr>
            <a:xfrm flipV="1">
              <a:off x="3382920" y="4491000"/>
              <a:ext cx="1766880" cy="882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 Box 29"/>
          <p:cNvSpPr/>
          <p:nvPr/>
        </p:nvSpPr>
        <p:spPr>
          <a:xfrm>
            <a:off x="5091120" y="242244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呼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0"/>
          <p:cNvSpPr/>
          <p:nvPr/>
        </p:nvSpPr>
        <p:spPr>
          <a:xfrm>
            <a:off x="5059440" y="457200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排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31"/>
          <p:cNvSpPr/>
          <p:nvPr/>
        </p:nvSpPr>
        <p:spPr>
          <a:xfrm>
            <a:off x="6067440" y="2614680"/>
            <a:ext cx="304920" cy="2361960"/>
          </a:xfrm>
          <a:custGeom>
            <a:avLst/>
            <a:gdLst>
              <a:gd name="textAreaLeft" fmla="*/ 0 w 304920"/>
              <a:gd name="textAreaRight" fmla="*/ 110160 w 304920"/>
              <a:gd name="textAreaTop" fmla="*/ 61200 h 2361960"/>
              <a:gd name="textAreaBottom" fmla="*/ 230076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16200" y="10800"/>
                  <a:pt x="21600" y="10800"/>
                </a:cubicBezTo>
                <a:cubicBezTo>
                  <a:pt x="162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33"/>
          <p:cNvGrpSpPr/>
          <p:nvPr/>
        </p:nvGrpSpPr>
        <p:grpSpPr>
          <a:xfrm>
            <a:off x="6026040" y="3584520"/>
            <a:ext cx="1595160" cy="904680"/>
            <a:chOff x="6026040" y="3584520"/>
            <a:chExt cx="1595160" cy="904680"/>
          </a:xfrm>
        </p:grpSpPr>
        <p:sp>
          <p:nvSpPr>
            <p:cNvPr id="372" name="Text Box 34"/>
            <p:cNvSpPr/>
            <p:nvPr/>
          </p:nvSpPr>
          <p:spPr>
            <a:xfrm>
              <a:off x="6506280" y="3584520"/>
              <a:ext cx="1114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排泄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35"/>
            <p:cNvSpPr/>
            <p:nvPr/>
          </p:nvSpPr>
          <p:spPr>
            <a:xfrm>
              <a:off x="6026040" y="3997440"/>
              <a:ext cx="30996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43"/>
          <p:cNvSpPr/>
          <p:nvPr/>
        </p:nvSpPr>
        <p:spPr>
          <a:xfrm>
            <a:off x="5054760" y="387360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出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4"/>
          <p:cNvSpPr/>
          <p:nvPr/>
        </p:nvSpPr>
        <p:spPr>
          <a:xfrm>
            <a:off x="6210360" y="4552920"/>
            <a:ext cx="234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----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主要途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6147"/>
          <p:cNvGrpSpPr/>
          <p:nvPr/>
        </p:nvGrpSpPr>
        <p:grpSpPr>
          <a:xfrm>
            <a:off x="507960" y="727200"/>
            <a:ext cx="2445480" cy="806760"/>
            <a:chOff x="507960" y="727200"/>
            <a:chExt cx="2445480" cy="806760"/>
          </a:xfrm>
        </p:grpSpPr>
        <p:sp>
          <p:nvSpPr>
            <p:cNvPr id="377" name="矩形 7"/>
            <p:cNvSpPr/>
            <p:nvPr/>
          </p:nvSpPr>
          <p:spPr>
            <a:xfrm>
              <a:off x="1067760" y="727200"/>
              <a:ext cx="1672560" cy="7596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任意多边形 16"/>
            <p:cNvSpPr/>
            <p:nvPr/>
          </p:nvSpPr>
          <p:spPr>
            <a:xfrm>
              <a:off x="507960" y="1014480"/>
              <a:ext cx="524160" cy="4809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17"/>
            <p:cNvSpPr/>
            <p:nvPr/>
          </p:nvSpPr>
          <p:spPr>
            <a:xfrm>
              <a:off x="869760" y="96372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文本框 6151"/>
            <p:cNvSpPr/>
            <p:nvPr/>
          </p:nvSpPr>
          <p:spPr>
            <a:xfrm>
              <a:off x="1492560" y="1000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385723"/>
                  </a:solidFill>
                  <a:latin typeface="微软雅黑"/>
                  <a:ea typeface="微软雅黑"/>
                </a:rPr>
                <a:t>其他排泄途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文本框 6152"/>
            <p:cNvSpPr/>
            <p:nvPr/>
          </p:nvSpPr>
          <p:spPr>
            <a:xfrm>
              <a:off x="507960" y="1013400"/>
              <a:ext cx="55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图片 1" descr=""/>
          <p:cNvPicPr/>
          <p:nvPr/>
        </p:nvPicPr>
        <p:blipFill>
          <a:blip r:embed="rId1"/>
          <a:stretch/>
        </p:blipFill>
        <p:spPr>
          <a:xfrm>
            <a:off x="2556000" y="2131920"/>
            <a:ext cx="3360600" cy="398304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2"/>
          <p:cNvSpPr/>
          <p:nvPr/>
        </p:nvSpPr>
        <p:spPr>
          <a:xfrm>
            <a:off x="1274760" y="21304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表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7"/>
          <p:cNvSpPr/>
          <p:nvPr/>
        </p:nvSpPr>
        <p:spPr>
          <a:xfrm flipH="1">
            <a:off x="2164680" y="2671920"/>
            <a:ext cx="253800" cy="2184120"/>
          </a:xfrm>
          <a:custGeom>
            <a:avLst/>
            <a:gdLst>
              <a:gd name="textAreaLeft" fmla="*/ -360 w 253800"/>
              <a:gd name="textAreaRight" fmla="*/ 91080 w 253800"/>
              <a:gd name="textAreaTop" fmla="*/ 29160 h 2184120"/>
              <a:gd name="textAreaBottom" fmla="*/ 2154960 h 21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61"/>
                  <a:pt x="10800" y="922"/>
                </a:cubicBezTo>
                <a:lnTo>
                  <a:pt x="10800" y="9878"/>
                </a:lnTo>
                <a:cubicBezTo>
                  <a:pt x="10800" y="10339"/>
                  <a:pt x="16200" y="10800"/>
                  <a:pt x="21600" y="10800"/>
                </a:cubicBezTo>
                <a:cubicBezTo>
                  <a:pt x="16200" y="10800"/>
                  <a:pt x="10800" y="11261"/>
                  <a:pt x="10800" y="11722"/>
                </a:cubicBezTo>
                <a:lnTo>
                  <a:pt x="10800" y="20678"/>
                </a:lnTo>
                <a:cubicBezTo>
                  <a:pt x="10800" y="2113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3"/>
          <p:cNvSpPr/>
          <p:nvPr/>
        </p:nvSpPr>
        <p:spPr>
          <a:xfrm>
            <a:off x="1274760" y="4941720"/>
            <a:ext cx="107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皮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组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7"/>
          <p:cNvSpPr/>
          <p:nvPr/>
        </p:nvSpPr>
        <p:spPr>
          <a:xfrm flipH="1">
            <a:off x="2241000" y="2217600"/>
            <a:ext cx="177480" cy="420840"/>
          </a:xfrm>
          <a:custGeom>
            <a:avLst/>
            <a:gdLst>
              <a:gd name="textAreaLeft" fmla="*/ -360 w 177480"/>
              <a:gd name="textAreaRight" fmla="*/ 63720 w 177480"/>
              <a:gd name="textAreaTop" fmla="*/ 20160 h 420840"/>
              <a:gd name="textAreaBottom" fmla="*/ 400680 h 42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77"/>
                  <a:pt x="10800" y="3354"/>
                </a:cubicBezTo>
                <a:lnTo>
                  <a:pt x="10800" y="7446"/>
                </a:lnTo>
                <a:cubicBezTo>
                  <a:pt x="10800" y="9123"/>
                  <a:pt x="16200" y="10800"/>
                  <a:pt x="21600" y="10800"/>
                </a:cubicBezTo>
                <a:cubicBezTo>
                  <a:pt x="16200" y="10800"/>
                  <a:pt x="10800" y="12477"/>
                  <a:pt x="10800" y="14154"/>
                </a:cubicBezTo>
                <a:lnTo>
                  <a:pt x="10800" y="18246"/>
                </a:lnTo>
                <a:cubicBezTo>
                  <a:pt x="10800" y="19923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7"/>
          <p:cNvSpPr/>
          <p:nvPr/>
        </p:nvSpPr>
        <p:spPr>
          <a:xfrm flipH="1">
            <a:off x="2209680" y="4941720"/>
            <a:ext cx="209520" cy="841680"/>
          </a:xfrm>
          <a:custGeom>
            <a:avLst/>
            <a:gdLst>
              <a:gd name="textAreaLeft" fmla="*/ 0 w 209520"/>
              <a:gd name="textAreaRight" fmla="*/ 75600 w 209520"/>
              <a:gd name="textAreaTop" fmla="*/ 23760 h 841680"/>
              <a:gd name="textAreaBottom" fmla="*/ 817920 h 84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7"/>
                  <a:pt x="10800" y="1974"/>
                </a:cubicBezTo>
                <a:lnTo>
                  <a:pt x="10800" y="8826"/>
                </a:lnTo>
                <a:cubicBezTo>
                  <a:pt x="10800" y="9813"/>
                  <a:pt x="16200" y="10800"/>
                  <a:pt x="21600" y="10800"/>
                </a:cubicBezTo>
                <a:cubicBezTo>
                  <a:pt x="16200" y="10800"/>
                  <a:pt x="10800" y="11787"/>
                  <a:pt x="10800" y="12774"/>
                </a:cubicBezTo>
                <a:lnTo>
                  <a:pt x="10800" y="19626"/>
                </a:lnTo>
                <a:cubicBezTo>
                  <a:pt x="10800" y="20613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1211400" y="3459240"/>
            <a:ext cx="144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真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9"/>
          <p:cNvSpPr/>
          <p:nvPr/>
        </p:nvSpPr>
        <p:spPr>
          <a:xfrm>
            <a:off x="4929120" y="3743280"/>
            <a:ext cx="1222560" cy="0"/>
          </a:xfrm>
          <a:prstGeom prst="line">
            <a:avLst/>
          </a:prstGeom>
          <a:ln w="2844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0"/>
          <p:cNvSpPr/>
          <p:nvPr/>
        </p:nvSpPr>
        <p:spPr>
          <a:xfrm>
            <a:off x="6151680" y="3517920"/>
            <a:ext cx="144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导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6084720" y="4680000"/>
            <a:ext cx="1287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分泌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5"/>
          <p:cNvSpPr/>
          <p:nvPr/>
        </p:nvSpPr>
        <p:spPr>
          <a:xfrm flipH="1">
            <a:off x="4929120" y="4941720"/>
            <a:ext cx="1222560" cy="0"/>
          </a:xfrm>
          <a:prstGeom prst="line">
            <a:avLst/>
          </a:prstGeom>
          <a:ln w="2844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8"/>
          <p:cNvSpPr/>
          <p:nvPr/>
        </p:nvSpPr>
        <p:spPr>
          <a:xfrm>
            <a:off x="7772400" y="3743280"/>
            <a:ext cx="6285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9"/>
          <p:cNvSpPr/>
          <p:nvPr/>
        </p:nvSpPr>
        <p:spPr>
          <a:xfrm flipH="1">
            <a:off x="7319880" y="3689280"/>
            <a:ext cx="349200" cy="1357560"/>
          </a:xfrm>
          <a:custGeom>
            <a:avLst/>
            <a:gdLst>
              <a:gd name="textAreaLeft" fmla="*/ 223560 w 349200"/>
              <a:gd name="textAreaRight" fmla="*/ 349920 w 349200"/>
              <a:gd name="textAreaTop" fmla="*/ 32760 h 1357560"/>
              <a:gd name="textAreaBottom" fmla="*/ 1324800 h 135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3"/>
                  <a:pt x="10800" y="1666"/>
                </a:cubicBezTo>
                <a:lnTo>
                  <a:pt x="10800" y="9134"/>
                </a:lnTo>
                <a:cubicBezTo>
                  <a:pt x="10800" y="9967"/>
                  <a:pt x="5400" y="10800"/>
                  <a:pt x="0" y="10800"/>
                </a:cubicBezTo>
                <a:cubicBezTo>
                  <a:pt x="5400" y="10800"/>
                  <a:pt x="10800" y="11633"/>
                  <a:pt x="10800" y="12466"/>
                </a:cubicBezTo>
                <a:lnTo>
                  <a:pt x="10800" y="19934"/>
                </a:lnTo>
                <a:cubicBezTo>
                  <a:pt x="10800" y="2076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91760" y="615600"/>
            <a:ext cx="6357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汗腺的结构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3"/>
          <p:cNvSpPr/>
          <p:nvPr/>
        </p:nvSpPr>
        <p:spPr>
          <a:xfrm>
            <a:off x="665280" y="2016000"/>
            <a:ext cx="781344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人体排出粪便是不是排泄？为什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不是，因为排出的不是人体分解产生的废物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人体排出的粪便属于排遗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什么叫排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人体消化系统把消化后的食物残渣等物质由肛门排出，也就是排出粪便的过程叫排遗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矩形 1" descr=""/>
          <p:cNvPicPr/>
          <p:nvPr/>
        </p:nvPicPr>
        <p:blipFill>
          <a:blip r:embed="rId1"/>
          <a:stretch/>
        </p:blipFill>
        <p:spPr>
          <a:xfrm>
            <a:off x="3792600" y="1041480"/>
            <a:ext cx="1758960" cy="67320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6" descr=""/>
          <p:cNvPicPr/>
          <p:nvPr/>
        </p:nvPicPr>
        <p:blipFill>
          <a:blip r:embed="rId2"/>
          <a:stretch/>
        </p:blipFill>
        <p:spPr>
          <a:xfrm>
            <a:off x="2970360" y="266760"/>
            <a:ext cx="1222200" cy="1687320"/>
          </a:xfrm>
          <a:prstGeom prst="rect">
            <a:avLst/>
          </a:prstGeom>
          <a:ln w="0">
            <a:noFill/>
          </a:ln>
        </p:spPr>
      </p:pic>
      <p:sp>
        <p:nvSpPr>
          <p:cNvPr id="40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图片 2" descr=""/>
          <p:cNvPicPr/>
          <p:nvPr/>
        </p:nvPicPr>
        <p:blipFill>
          <a:blip r:embed="rId3"/>
          <a:stretch/>
        </p:blipFill>
        <p:spPr>
          <a:xfrm>
            <a:off x="606600" y="2940120"/>
            <a:ext cx="1014120" cy="420480"/>
          </a:xfrm>
          <a:prstGeom prst="rect">
            <a:avLst/>
          </a:prstGeom>
          <a:ln w="0">
            <a:noFill/>
          </a:ln>
        </p:spPr>
      </p:pic>
      <p:pic>
        <p:nvPicPr>
          <p:cNvPr id="403" name="图片 3" descr=""/>
          <p:cNvPicPr/>
          <p:nvPr/>
        </p:nvPicPr>
        <p:blipFill>
          <a:blip r:embed="rId4"/>
          <a:stretch/>
        </p:blipFill>
        <p:spPr>
          <a:xfrm>
            <a:off x="1709640" y="3009960"/>
            <a:ext cx="5654880" cy="1079280"/>
          </a:xfrm>
          <a:prstGeom prst="rect">
            <a:avLst/>
          </a:prstGeom>
          <a:ln w="0">
            <a:noFill/>
          </a:ln>
        </p:spPr>
      </p:pic>
      <p:pic>
        <p:nvPicPr>
          <p:cNvPr id="404" name="图片 4" descr=""/>
          <p:cNvPicPr/>
          <p:nvPr/>
        </p:nvPicPr>
        <p:blipFill>
          <a:blip r:embed="rId5"/>
          <a:stretch/>
        </p:blipFill>
        <p:spPr>
          <a:xfrm>
            <a:off x="695160" y="3670200"/>
            <a:ext cx="1014480" cy="41904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7" descr=""/>
          <p:cNvPicPr/>
          <p:nvPr/>
        </p:nvPicPr>
        <p:blipFill>
          <a:blip r:embed="rId6"/>
          <a:stretch/>
        </p:blipFill>
        <p:spPr>
          <a:xfrm>
            <a:off x="606600" y="4857840"/>
            <a:ext cx="7908840" cy="10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任意多边形 20"/>
          <p:cNvSpPr/>
          <p:nvPr/>
        </p:nvSpPr>
        <p:spPr>
          <a:xfrm>
            <a:off x="2989440" y="396720"/>
            <a:ext cx="718920" cy="708120"/>
          </a:xfrm>
          <a:custGeom>
            <a:avLst/>
            <a:gdLst/>
            <a:ahLst/>
            <a:rect l="l" t="t" r="r" b="b"/>
            <a:pathLst>
              <a:path w="1361803" h="1281345">
                <a:moveTo>
                  <a:pt x="340187" y="867542"/>
                </a:moveTo>
                <a:cubicBezTo>
                  <a:pt x="351512" y="867144"/>
                  <a:pt x="363575" y="872724"/>
                  <a:pt x="372930" y="883885"/>
                </a:cubicBezTo>
                <a:cubicBezTo>
                  <a:pt x="394595" y="907270"/>
                  <a:pt x="415275" y="931718"/>
                  <a:pt x="436940" y="957229"/>
                </a:cubicBezTo>
                <a:cubicBezTo>
                  <a:pt x="449742" y="946599"/>
                  <a:pt x="462543" y="935970"/>
                  <a:pt x="475345" y="925340"/>
                </a:cubicBezTo>
                <a:cubicBezTo>
                  <a:pt x="492086" y="911522"/>
                  <a:pt x="506857" y="910459"/>
                  <a:pt x="525568" y="923214"/>
                </a:cubicBezTo>
                <a:cubicBezTo>
                  <a:pt x="535415" y="929592"/>
                  <a:pt x="544278" y="935970"/>
                  <a:pt x="553141" y="942347"/>
                </a:cubicBezTo>
                <a:cubicBezTo>
                  <a:pt x="545263" y="967858"/>
                  <a:pt x="538370" y="993369"/>
                  <a:pt x="530492" y="1018880"/>
                </a:cubicBezTo>
                <a:cubicBezTo>
                  <a:pt x="528522" y="1018880"/>
                  <a:pt x="528522" y="1018880"/>
                  <a:pt x="527537" y="1018880"/>
                </a:cubicBezTo>
                <a:cubicBezTo>
                  <a:pt x="509812" y="1000810"/>
                  <a:pt x="494056" y="1007187"/>
                  <a:pt x="479284" y="1024195"/>
                </a:cubicBezTo>
                <a:cubicBezTo>
                  <a:pt x="473376" y="1030572"/>
                  <a:pt x="466482" y="1035887"/>
                  <a:pt x="459589" y="1041202"/>
                </a:cubicBezTo>
                <a:cubicBezTo>
                  <a:pt x="438909" y="1058209"/>
                  <a:pt x="420199" y="1056083"/>
                  <a:pt x="402473" y="1035887"/>
                </a:cubicBezTo>
                <a:cubicBezTo>
                  <a:pt x="385732" y="1017817"/>
                  <a:pt x="369976" y="998684"/>
                  <a:pt x="352251" y="978488"/>
                </a:cubicBezTo>
                <a:cubicBezTo>
                  <a:pt x="343388" y="995495"/>
                  <a:pt x="335510" y="1012502"/>
                  <a:pt x="327632" y="1028446"/>
                </a:cubicBezTo>
                <a:cubicBezTo>
                  <a:pt x="318769" y="1046517"/>
                  <a:pt x="303013" y="1053957"/>
                  <a:pt x="286272" y="1050768"/>
                </a:cubicBezTo>
                <a:cubicBezTo>
                  <a:pt x="262638" y="1046517"/>
                  <a:pt x="248851" y="1019943"/>
                  <a:pt x="259683" y="995495"/>
                </a:cubicBezTo>
                <a:cubicBezTo>
                  <a:pt x="276424" y="959355"/>
                  <a:pt x="293165" y="922151"/>
                  <a:pt x="311876" y="887074"/>
                </a:cubicBezTo>
                <a:cubicBezTo>
                  <a:pt x="318276" y="874318"/>
                  <a:pt x="328863" y="867941"/>
                  <a:pt x="340187" y="867542"/>
                </a:cubicBezTo>
                <a:close/>
                <a:moveTo>
                  <a:pt x="274255" y="687365"/>
                </a:moveTo>
                <a:cubicBezTo>
                  <a:pt x="330459" y="687365"/>
                  <a:pt x="386662" y="687365"/>
                  <a:pt x="442866" y="687365"/>
                </a:cubicBezTo>
                <a:cubicBezTo>
                  <a:pt x="516819" y="687365"/>
                  <a:pt x="590771" y="687365"/>
                  <a:pt x="664723" y="687365"/>
                </a:cubicBezTo>
                <a:cubicBezTo>
                  <a:pt x="670640" y="687365"/>
                  <a:pt x="675570" y="687365"/>
                  <a:pt x="684444" y="687365"/>
                </a:cubicBezTo>
                <a:cubicBezTo>
                  <a:pt x="666695" y="718154"/>
                  <a:pt x="649933" y="745757"/>
                  <a:pt x="632184" y="772299"/>
                </a:cubicBezTo>
                <a:cubicBezTo>
                  <a:pt x="630212" y="775484"/>
                  <a:pt x="625282" y="776545"/>
                  <a:pt x="621338" y="776545"/>
                </a:cubicBezTo>
                <a:cubicBezTo>
                  <a:pt x="504000" y="777607"/>
                  <a:pt x="387648" y="776545"/>
                  <a:pt x="270311" y="777607"/>
                </a:cubicBezTo>
                <a:cubicBezTo>
                  <a:pt x="259464" y="777607"/>
                  <a:pt x="255520" y="772299"/>
                  <a:pt x="256506" y="760620"/>
                </a:cubicBezTo>
                <a:cubicBezTo>
                  <a:pt x="256506" y="742572"/>
                  <a:pt x="256506" y="724524"/>
                  <a:pt x="255520" y="706475"/>
                </a:cubicBezTo>
                <a:cubicBezTo>
                  <a:pt x="255520" y="691612"/>
                  <a:pt x="261436" y="687365"/>
                  <a:pt x="274255" y="687365"/>
                </a:cubicBezTo>
                <a:close/>
                <a:moveTo>
                  <a:pt x="278054" y="504636"/>
                </a:moveTo>
                <a:cubicBezTo>
                  <a:pt x="354989" y="504636"/>
                  <a:pt x="432911" y="504636"/>
                  <a:pt x="509846" y="504636"/>
                </a:cubicBezTo>
                <a:cubicBezTo>
                  <a:pt x="588754" y="504636"/>
                  <a:pt x="666676" y="504636"/>
                  <a:pt x="745584" y="504636"/>
                </a:cubicBezTo>
                <a:cubicBezTo>
                  <a:pt x="764325" y="504636"/>
                  <a:pt x="765311" y="505700"/>
                  <a:pt x="765311" y="524845"/>
                </a:cubicBezTo>
                <a:cubicBezTo>
                  <a:pt x="765311" y="535481"/>
                  <a:pt x="765311" y="546117"/>
                  <a:pt x="765311" y="556753"/>
                </a:cubicBezTo>
                <a:cubicBezTo>
                  <a:pt x="765311" y="580153"/>
                  <a:pt x="752489" y="593980"/>
                  <a:pt x="730789" y="593980"/>
                </a:cubicBezTo>
                <a:cubicBezTo>
                  <a:pt x="580863" y="593980"/>
                  <a:pt x="429952" y="593980"/>
                  <a:pt x="279040" y="593980"/>
                </a:cubicBezTo>
                <a:cubicBezTo>
                  <a:pt x="256354" y="593980"/>
                  <a:pt x="256354" y="592917"/>
                  <a:pt x="256354" y="569517"/>
                </a:cubicBezTo>
                <a:cubicBezTo>
                  <a:pt x="256354" y="555690"/>
                  <a:pt x="256354" y="541863"/>
                  <a:pt x="256354" y="528036"/>
                </a:cubicBezTo>
                <a:cubicBezTo>
                  <a:pt x="256354" y="504636"/>
                  <a:pt x="256354" y="504636"/>
                  <a:pt x="278054" y="504636"/>
                </a:cubicBezTo>
                <a:close/>
                <a:moveTo>
                  <a:pt x="942895" y="453454"/>
                </a:moveTo>
                <a:cubicBezTo>
                  <a:pt x="989224" y="494914"/>
                  <a:pt x="1033581" y="534249"/>
                  <a:pt x="1077938" y="574646"/>
                </a:cubicBezTo>
                <a:cubicBezTo>
                  <a:pt x="1059210" y="599097"/>
                  <a:pt x="1040481" y="622484"/>
                  <a:pt x="1021752" y="644809"/>
                </a:cubicBezTo>
                <a:cubicBezTo>
                  <a:pt x="928109" y="760685"/>
                  <a:pt x="831509" y="874435"/>
                  <a:pt x="722095" y="974365"/>
                </a:cubicBezTo>
                <a:cubicBezTo>
                  <a:pt x="695481" y="999879"/>
                  <a:pt x="664923" y="1021141"/>
                  <a:pt x="635352" y="1042403"/>
                </a:cubicBezTo>
                <a:cubicBezTo>
                  <a:pt x="626481" y="1048781"/>
                  <a:pt x="613666" y="1046655"/>
                  <a:pt x="601838" y="1048781"/>
                </a:cubicBezTo>
                <a:cubicBezTo>
                  <a:pt x="601838" y="1037087"/>
                  <a:pt x="596909" y="1023267"/>
                  <a:pt x="600852" y="1012636"/>
                </a:cubicBezTo>
                <a:cubicBezTo>
                  <a:pt x="619581" y="969050"/>
                  <a:pt x="637323" y="924400"/>
                  <a:pt x="659995" y="882940"/>
                </a:cubicBezTo>
                <a:cubicBezTo>
                  <a:pt x="741809" y="734108"/>
                  <a:pt x="838409" y="595907"/>
                  <a:pt x="938952" y="460896"/>
                </a:cubicBezTo>
                <a:cubicBezTo>
                  <a:pt x="939938" y="458770"/>
                  <a:pt x="940924" y="456643"/>
                  <a:pt x="942895" y="453454"/>
                </a:cubicBezTo>
                <a:close/>
                <a:moveTo>
                  <a:pt x="1337162" y="323013"/>
                </a:moveTo>
                <a:cubicBezTo>
                  <a:pt x="1348990" y="326198"/>
                  <a:pt x="1361803" y="343189"/>
                  <a:pt x="1361803" y="358055"/>
                </a:cubicBezTo>
                <a:cubicBezTo>
                  <a:pt x="1359832" y="361241"/>
                  <a:pt x="1357861" y="367612"/>
                  <a:pt x="1353918" y="373984"/>
                </a:cubicBezTo>
                <a:cubicBezTo>
                  <a:pt x="1300693" y="447255"/>
                  <a:pt x="1247469" y="521588"/>
                  <a:pt x="1194244" y="594859"/>
                </a:cubicBezTo>
                <a:cubicBezTo>
                  <a:pt x="1175517" y="619282"/>
                  <a:pt x="1154818" y="642644"/>
                  <a:pt x="1134120" y="664944"/>
                </a:cubicBezTo>
                <a:cubicBezTo>
                  <a:pt x="1125249" y="673439"/>
                  <a:pt x="1113421" y="678749"/>
                  <a:pt x="1101594" y="682996"/>
                </a:cubicBezTo>
                <a:cubicBezTo>
                  <a:pt x="1095680" y="685120"/>
                  <a:pt x="1083852" y="682996"/>
                  <a:pt x="1080895" y="677687"/>
                </a:cubicBezTo>
                <a:cubicBezTo>
                  <a:pt x="1077938" y="671315"/>
                  <a:pt x="1077938" y="658573"/>
                  <a:pt x="1080895" y="652201"/>
                </a:cubicBezTo>
                <a:cubicBezTo>
                  <a:pt x="1092723" y="633087"/>
                  <a:pt x="1107507" y="615035"/>
                  <a:pt x="1121306" y="596983"/>
                </a:cubicBezTo>
                <a:cubicBezTo>
                  <a:pt x="1175517" y="522650"/>
                  <a:pt x="1229727" y="449379"/>
                  <a:pt x="1284923" y="375046"/>
                </a:cubicBezTo>
                <a:cubicBezTo>
                  <a:pt x="1293794" y="362303"/>
                  <a:pt x="1302665" y="348498"/>
                  <a:pt x="1310550" y="334694"/>
                </a:cubicBezTo>
                <a:cubicBezTo>
                  <a:pt x="1317449" y="324075"/>
                  <a:pt x="1325334" y="318765"/>
                  <a:pt x="1337162" y="323013"/>
                </a:cubicBezTo>
                <a:close/>
                <a:moveTo>
                  <a:pt x="525824" y="229421"/>
                </a:moveTo>
                <a:cubicBezTo>
                  <a:pt x="600725" y="229421"/>
                  <a:pt x="675627" y="229421"/>
                  <a:pt x="750528" y="229421"/>
                </a:cubicBezTo>
                <a:cubicBezTo>
                  <a:pt x="761369" y="229421"/>
                  <a:pt x="765311" y="233676"/>
                  <a:pt x="765311" y="245375"/>
                </a:cubicBezTo>
                <a:cubicBezTo>
                  <a:pt x="764326" y="264521"/>
                  <a:pt x="764326" y="282602"/>
                  <a:pt x="765311" y="301747"/>
                </a:cubicBezTo>
                <a:cubicBezTo>
                  <a:pt x="765311" y="314511"/>
                  <a:pt x="760383" y="318765"/>
                  <a:pt x="748557" y="318765"/>
                </a:cubicBezTo>
                <a:cubicBezTo>
                  <a:pt x="711106" y="318765"/>
                  <a:pt x="674641" y="318765"/>
                  <a:pt x="638176" y="318765"/>
                </a:cubicBezTo>
                <a:cubicBezTo>
                  <a:pt x="601711" y="318765"/>
                  <a:pt x="565246" y="317702"/>
                  <a:pt x="528781" y="318765"/>
                </a:cubicBezTo>
                <a:cubicBezTo>
                  <a:pt x="515969" y="318765"/>
                  <a:pt x="511041" y="313447"/>
                  <a:pt x="511041" y="299620"/>
                </a:cubicBezTo>
                <a:cubicBezTo>
                  <a:pt x="512027" y="282602"/>
                  <a:pt x="512027" y="264521"/>
                  <a:pt x="511041" y="246439"/>
                </a:cubicBezTo>
                <a:cubicBezTo>
                  <a:pt x="511041" y="234739"/>
                  <a:pt x="514983" y="229421"/>
                  <a:pt x="525824" y="229421"/>
                </a:cubicBezTo>
                <a:close/>
                <a:moveTo>
                  <a:pt x="1243182" y="137949"/>
                </a:moveTo>
                <a:cubicBezTo>
                  <a:pt x="1255260" y="139675"/>
                  <a:pt x="1267337" y="146577"/>
                  <a:pt x="1281140" y="158257"/>
                </a:cubicBezTo>
                <a:cubicBezTo>
                  <a:pt x="1308745" y="183741"/>
                  <a:pt x="1317618" y="208163"/>
                  <a:pt x="1306773" y="240018"/>
                </a:cubicBezTo>
                <a:cubicBezTo>
                  <a:pt x="1300858" y="257008"/>
                  <a:pt x="1294942" y="275059"/>
                  <a:pt x="1285083" y="289925"/>
                </a:cubicBezTo>
                <a:cubicBezTo>
                  <a:pt x="1228886" y="370624"/>
                  <a:pt x="1171704" y="450262"/>
                  <a:pt x="1114521" y="532023"/>
                </a:cubicBezTo>
                <a:cubicBezTo>
                  <a:pt x="1066212" y="489550"/>
                  <a:pt x="1022832" y="450262"/>
                  <a:pt x="977480" y="410974"/>
                </a:cubicBezTo>
                <a:cubicBezTo>
                  <a:pt x="984381" y="401417"/>
                  <a:pt x="990297" y="392923"/>
                  <a:pt x="996212" y="385490"/>
                </a:cubicBezTo>
                <a:cubicBezTo>
                  <a:pt x="1050437" y="319656"/>
                  <a:pt x="1103676" y="252760"/>
                  <a:pt x="1157901" y="187988"/>
                </a:cubicBezTo>
                <a:cubicBezTo>
                  <a:pt x="1170718" y="172061"/>
                  <a:pt x="1188464" y="159319"/>
                  <a:pt x="1205225" y="148700"/>
                </a:cubicBezTo>
                <a:cubicBezTo>
                  <a:pt x="1219027" y="139675"/>
                  <a:pt x="1231105" y="136224"/>
                  <a:pt x="1243182" y="137949"/>
                </a:cubicBezTo>
                <a:close/>
                <a:moveTo>
                  <a:pt x="326420" y="0"/>
                </a:moveTo>
                <a:cubicBezTo>
                  <a:pt x="513791" y="0"/>
                  <a:pt x="702148" y="0"/>
                  <a:pt x="889519" y="0"/>
                </a:cubicBezTo>
                <a:cubicBezTo>
                  <a:pt x="964468" y="1063"/>
                  <a:pt x="1018707" y="56311"/>
                  <a:pt x="1021665" y="137059"/>
                </a:cubicBezTo>
                <a:cubicBezTo>
                  <a:pt x="1021665" y="164684"/>
                  <a:pt x="1021665" y="191246"/>
                  <a:pt x="1020679" y="218870"/>
                </a:cubicBezTo>
                <a:cubicBezTo>
                  <a:pt x="1020679" y="225245"/>
                  <a:pt x="1017721" y="232682"/>
                  <a:pt x="1013776" y="237995"/>
                </a:cubicBezTo>
                <a:cubicBezTo>
                  <a:pt x="985177" y="275181"/>
                  <a:pt x="956578" y="311305"/>
                  <a:pt x="928966" y="348492"/>
                </a:cubicBezTo>
                <a:cubicBezTo>
                  <a:pt x="921077" y="358054"/>
                  <a:pt x="915160" y="369741"/>
                  <a:pt x="908256" y="380366"/>
                </a:cubicBezTo>
                <a:cubicBezTo>
                  <a:pt x="905298" y="384616"/>
                  <a:pt x="901353" y="387804"/>
                  <a:pt x="895436" y="395241"/>
                </a:cubicBezTo>
                <a:cubicBezTo>
                  <a:pt x="895436" y="365492"/>
                  <a:pt x="895436" y="339992"/>
                  <a:pt x="895436" y="314493"/>
                </a:cubicBezTo>
                <a:cubicBezTo>
                  <a:pt x="895436" y="263494"/>
                  <a:pt x="895436" y="212495"/>
                  <a:pt x="895436" y="161496"/>
                </a:cubicBezTo>
                <a:cubicBezTo>
                  <a:pt x="895436" y="139184"/>
                  <a:pt x="892478" y="135997"/>
                  <a:pt x="870782" y="135997"/>
                </a:cubicBezTo>
                <a:cubicBezTo>
                  <a:pt x="713982" y="135997"/>
                  <a:pt x="557182" y="135997"/>
                  <a:pt x="399396" y="135997"/>
                </a:cubicBezTo>
                <a:cubicBezTo>
                  <a:pt x="394465" y="135997"/>
                  <a:pt x="388548" y="135997"/>
                  <a:pt x="381645" y="135997"/>
                </a:cubicBezTo>
                <a:cubicBezTo>
                  <a:pt x="381645" y="145559"/>
                  <a:pt x="381645" y="152997"/>
                  <a:pt x="381645" y="159371"/>
                </a:cubicBezTo>
                <a:cubicBezTo>
                  <a:pt x="381645" y="211433"/>
                  <a:pt x="381645" y="262431"/>
                  <a:pt x="381645" y="314493"/>
                </a:cubicBezTo>
                <a:cubicBezTo>
                  <a:pt x="380659" y="373991"/>
                  <a:pt x="346143" y="410116"/>
                  <a:pt x="290918" y="410116"/>
                </a:cubicBezTo>
                <a:cubicBezTo>
                  <a:pt x="241610" y="410116"/>
                  <a:pt x="192302" y="410116"/>
                  <a:pt x="142994" y="410116"/>
                </a:cubicBezTo>
                <a:cubicBezTo>
                  <a:pt x="138063" y="410116"/>
                  <a:pt x="133132" y="410116"/>
                  <a:pt x="126229" y="410116"/>
                </a:cubicBezTo>
                <a:cubicBezTo>
                  <a:pt x="126229" y="418615"/>
                  <a:pt x="126229" y="423928"/>
                  <a:pt x="126229" y="429240"/>
                </a:cubicBezTo>
                <a:cubicBezTo>
                  <a:pt x="126229" y="658735"/>
                  <a:pt x="126229" y="888229"/>
                  <a:pt x="126229" y="1117724"/>
                </a:cubicBezTo>
                <a:cubicBezTo>
                  <a:pt x="126229" y="1143223"/>
                  <a:pt x="128201" y="1145348"/>
                  <a:pt x="150883" y="1145348"/>
                </a:cubicBezTo>
                <a:cubicBezTo>
                  <a:pt x="390521" y="1145348"/>
                  <a:pt x="630158" y="1145348"/>
                  <a:pt x="869796" y="1145348"/>
                </a:cubicBezTo>
                <a:cubicBezTo>
                  <a:pt x="893464" y="1145348"/>
                  <a:pt x="895436" y="1143223"/>
                  <a:pt x="895436" y="1117724"/>
                </a:cubicBezTo>
                <a:cubicBezTo>
                  <a:pt x="895436" y="1052913"/>
                  <a:pt x="895436" y="988102"/>
                  <a:pt x="895436" y="923291"/>
                </a:cubicBezTo>
                <a:cubicBezTo>
                  <a:pt x="895436" y="916916"/>
                  <a:pt x="897409" y="908416"/>
                  <a:pt x="901353" y="904166"/>
                </a:cubicBezTo>
                <a:cubicBezTo>
                  <a:pt x="938827" y="860605"/>
                  <a:pt x="976302" y="818106"/>
                  <a:pt x="1013776" y="774545"/>
                </a:cubicBezTo>
                <a:cubicBezTo>
                  <a:pt x="1015748" y="773482"/>
                  <a:pt x="1016734" y="772420"/>
                  <a:pt x="1020679" y="769232"/>
                </a:cubicBezTo>
                <a:cubicBezTo>
                  <a:pt x="1020679" y="775607"/>
                  <a:pt x="1021665" y="779857"/>
                  <a:pt x="1021665" y="784107"/>
                </a:cubicBezTo>
                <a:cubicBezTo>
                  <a:pt x="1021665" y="902042"/>
                  <a:pt x="1021665" y="1018914"/>
                  <a:pt x="1021665" y="1135786"/>
                </a:cubicBezTo>
                <a:cubicBezTo>
                  <a:pt x="1020679" y="1222909"/>
                  <a:pt x="967426" y="1281345"/>
                  <a:pt x="886561" y="1281345"/>
                </a:cubicBezTo>
                <a:cubicBezTo>
                  <a:pt x="634103" y="1281345"/>
                  <a:pt x="382631" y="1281345"/>
                  <a:pt x="131160" y="1281345"/>
                </a:cubicBezTo>
                <a:cubicBezTo>
                  <a:pt x="55225" y="1281345"/>
                  <a:pt x="0" y="1221847"/>
                  <a:pt x="0" y="1140036"/>
                </a:cubicBezTo>
                <a:cubicBezTo>
                  <a:pt x="0" y="872292"/>
                  <a:pt x="0" y="603486"/>
                  <a:pt x="0" y="335742"/>
                </a:cubicBezTo>
                <a:cubicBezTo>
                  <a:pt x="0" y="315555"/>
                  <a:pt x="5917" y="298556"/>
                  <a:pt x="18737" y="283681"/>
                </a:cubicBezTo>
                <a:cubicBezTo>
                  <a:pt x="99603" y="198683"/>
                  <a:pt x="180468" y="113685"/>
                  <a:pt x="261333" y="28687"/>
                </a:cubicBezTo>
                <a:cubicBezTo>
                  <a:pt x="279084" y="9562"/>
                  <a:pt x="300780" y="0"/>
                  <a:pt x="3264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1519200" y="2995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尿液的形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6"/>
          <p:cNvSpPr/>
          <p:nvPr/>
        </p:nvSpPr>
        <p:spPr>
          <a:xfrm>
            <a:off x="3792240" y="2666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的过滤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7"/>
          <p:cNvSpPr/>
          <p:nvPr/>
        </p:nvSpPr>
        <p:spPr>
          <a:xfrm>
            <a:off x="3799080" y="33498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的重吸收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9"/>
          <p:cNvSpPr/>
          <p:nvPr/>
        </p:nvSpPr>
        <p:spPr>
          <a:xfrm>
            <a:off x="6069960" y="2666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形成原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10"/>
          <p:cNvSpPr/>
          <p:nvPr/>
        </p:nvSpPr>
        <p:spPr>
          <a:xfrm>
            <a:off x="6318360" y="3349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形成尿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1255680" y="4551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尿液的排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4575240" y="40734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脏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5821200" y="40734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输尿管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7097760" y="40798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膀胱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7996680" y="4081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尿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6"/>
          <p:cNvSpPr/>
          <p:nvPr/>
        </p:nvSpPr>
        <p:spPr>
          <a:xfrm>
            <a:off x="3485520" y="4092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途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18"/>
          <p:cNvSpPr/>
          <p:nvPr/>
        </p:nvSpPr>
        <p:spPr>
          <a:xfrm>
            <a:off x="3487320" y="494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5236560" y="4871880"/>
            <a:ext cx="25581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出代谢废物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调节体内水和无机盐的平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维持组织细胞的正常生理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4"/>
          <p:cNvSpPr/>
          <p:nvPr/>
        </p:nvSpPr>
        <p:spPr>
          <a:xfrm>
            <a:off x="3067200" y="2789280"/>
            <a:ext cx="182520" cy="874800"/>
          </a:xfrm>
          <a:custGeom>
            <a:avLst/>
            <a:gdLst>
              <a:gd name="textAreaLeft" fmla="*/ 116640 w 182520"/>
              <a:gd name="textAreaRight" fmla="*/ 182880 w 182520"/>
              <a:gd name="textAreaTop" fmla="*/ 49680 h 874800"/>
              <a:gd name="textAreaBottom" fmla="*/ 825120 h 87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3"/>
                  <a:pt x="10800" y="3926"/>
                </a:cubicBezTo>
                <a:lnTo>
                  <a:pt x="10800" y="6874"/>
                </a:lnTo>
                <a:cubicBezTo>
                  <a:pt x="10800" y="8837"/>
                  <a:pt x="5400" y="10800"/>
                  <a:pt x="0" y="10800"/>
                </a:cubicBezTo>
                <a:cubicBezTo>
                  <a:pt x="5400" y="10800"/>
                  <a:pt x="10800" y="12763"/>
                  <a:pt x="10800" y="14726"/>
                </a:cubicBezTo>
                <a:lnTo>
                  <a:pt x="10800" y="17674"/>
                </a:lnTo>
                <a:cubicBezTo>
                  <a:pt x="10800" y="19637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3067200" y="4280040"/>
            <a:ext cx="182520" cy="1004760"/>
          </a:xfrm>
          <a:custGeom>
            <a:avLst/>
            <a:gdLst>
              <a:gd name="textAreaLeft" fmla="*/ 116640 w 182520"/>
              <a:gd name="textAreaRight" fmla="*/ 182880 w 182520"/>
              <a:gd name="textAreaTop" fmla="*/ 49680 h 1004760"/>
              <a:gd name="textAreaBottom" fmla="*/ 955080 h 10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1"/>
                  <a:pt x="10800" y="3421"/>
                </a:cubicBezTo>
                <a:lnTo>
                  <a:pt x="10800" y="7379"/>
                </a:lnTo>
                <a:cubicBezTo>
                  <a:pt x="10800" y="9090"/>
                  <a:pt x="5400" y="10800"/>
                  <a:pt x="0" y="10800"/>
                </a:cubicBezTo>
                <a:cubicBezTo>
                  <a:pt x="5400" y="10800"/>
                  <a:pt x="10800" y="12511"/>
                  <a:pt x="10800" y="14221"/>
                </a:cubicBezTo>
                <a:lnTo>
                  <a:pt x="10800" y="18179"/>
                </a:lnTo>
                <a:cubicBezTo>
                  <a:pt x="10800" y="1989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1395360" y="1262160"/>
            <a:ext cx="8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2417760" y="295200"/>
            <a:ext cx="137160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皮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髓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4"/>
          <p:cNvSpPr/>
          <p:nvPr/>
        </p:nvSpPr>
        <p:spPr>
          <a:xfrm>
            <a:off x="2224080" y="719280"/>
            <a:ext cx="106200" cy="1493640"/>
          </a:xfrm>
          <a:custGeom>
            <a:avLst/>
            <a:gdLst>
              <a:gd name="textAreaLeft" fmla="*/ 68040 w 106200"/>
              <a:gd name="textAreaRight" fmla="*/ 106560 w 106200"/>
              <a:gd name="textAreaTop" fmla="*/ 28440 h 1493640"/>
              <a:gd name="textAreaBottom" fmla="*/ 1465200 h 149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1"/>
                  <a:pt x="10800" y="1322"/>
                </a:cubicBezTo>
                <a:lnTo>
                  <a:pt x="10800" y="9478"/>
                </a:lnTo>
                <a:cubicBezTo>
                  <a:pt x="10800" y="10139"/>
                  <a:pt x="5400" y="10800"/>
                  <a:pt x="0" y="10800"/>
                </a:cubicBezTo>
                <a:cubicBezTo>
                  <a:pt x="5400" y="10800"/>
                  <a:pt x="10800" y="11461"/>
                  <a:pt x="10800" y="12122"/>
                </a:cubicBezTo>
                <a:lnTo>
                  <a:pt x="10800" y="20278"/>
                </a:lnTo>
                <a:cubicBezTo>
                  <a:pt x="10800" y="20939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3"/>
          <p:cNvSpPr/>
          <p:nvPr/>
        </p:nvSpPr>
        <p:spPr>
          <a:xfrm>
            <a:off x="4522680" y="1117440"/>
            <a:ext cx="104760" cy="1274760"/>
          </a:xfrm>
          <a:custGeom>
            <a:avLst/>
            <a:gdLst>
              <a:gd name="textAreaLeft" fmla="*/ 66960 w 104760"/>
              <a:gd name="textAreaRight" fmla="*/ 105120 w 104760"/>
              <a:gd name="textAreaTop" fmla="*/ 46080 h 1274760"/>
              <a:gd name="textAreaBottom" fmla="*/ 1228680 h 127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5"/>
                  <a:pt x="10800" y="2510"/>
                </a:cubicBezTo>
                <a:lnTo>
                  <a:pt x="10800" y="8290"/>
                </a:lnTo>
                <a:cubicBezTo>
                  <a:pt x="10800" y="9545"/>
                  <a:pt x="5400" y="10800"/>
                  <a:pt x="0" y="10800"/>
                </a:cubicBezTo>
                <a:cubicBezTo>
                  <a:pt x="5400" y="10800"/>
                  <a:pt x="10800" y="12055"/>
                  <a:pt x="10800" y="13310"/>
                </a:cubicBezTo>
                <a:lnTo>
                  <a:pt x="10800" y="19090"/>
                </a:lnTo>
                <a:cubicBezTo>
                  <a:pt x="10800" y="20345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4"/>
          <p:cNvSpPr/>
          <p:nvPr/>
        </p:nvSpPr>
        <p:spPr>
          <a:xfrm>
            <a:off x="4667400" y="1419120"/>
            <a:ext cx="136368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6"/>
          <p:cNvSpPr/>
          <p:nvPr/>
        </p:nvSpPr>
        <p:spPr>
          <a:xfrm>
            <a:off x="4851000" y="958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4667400" y="15429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0"/>
          <p:cNvSpPr/>
          <p:nvPr/>
        </p:nvSpPr>
        <p:spPr>
          <a:xfrm>
            <a:off x="3362400" y="1541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肾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9"/>
          <p:cNvSpPr/>
          <p:nvPr/>
        </p:nvSpPr>
        <p:spPr>
          <a:xfrm>
            <a:off x="3211560" y="1330200"/>
            <a:ext cx="150840" cy="884520"/>
          </a:xfrm>
          <a:custGeom>
            <a:avLst/>
            <a:gdLst>
              <a:gd name="textAreaLeft" fmla="*/ 0 w 150840"/>
              <a:gd name="textAreaRight" fmla="*/ 54360 w 150840"/>
              <a:gd name="textAreaTop" fmla="*/ 35280 h 884520"/>
              <a:gd name="textAreaBottom" fmla="*/ 849240 h 88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88"/>
                  <a:pt x="10800" y="2775"/>
                </a:cubicBezTo>
                <a:lnTo>
                  <a:pt x="10800" y="7185"/>
                </a:lnTo>
                <a:cubicBezTo>
                  <a:pt x="10800" y="8573"/>
                  <a:pt x="16200" y="9960"/>
                  <a:pt x="21600" y="9960"/>
                </a:cubicBezTo>
                <a:cubicBezTo>
                  <a:pt x="16200" y="9960"/>
                  <a:pt x="10800" y="11348"/>
                  <a:pt x="10800" y="12735"/>
                </a:cubicBezTo>
                <a:lnTo>
                  <a:pt x="10800" y="18825"/>
                </a:lnTo>
                <a:cubicBezTo>
                  <a:pt x="10800" y="20213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4"/>
          <p:cNvSpPr/>
          <p:nvPr/>
        </p:nvSpPr>
        <p:spPr>
          <a:xfrm>
            <a:off x="1108080" y="1501920"/>
            <a:ext cx="147600" cy="3286080"/>
          </a:xfrm>
          <a:custGeom>
            <a:avLst/>
            <a:gdLst>
              <a:gd name="textAreaLeft" fmla="*/ 94320 w 147600"/>
              <a:gd name="textAreaRight" fmla="*/ 147960 w 147600"/>
              <a:gd name="textAreaTop" fmla="*/ 39960 h 3286080"/>
              <a:gd name="textAreaBottom" fmla="*/ 3246120 h 328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0"/>
                  <a:pt x="10800" y="840"/>
                </a:cubicBezTo>
                <a:lnTo>
                  <a:pt x="10800" y="9960"/>
                </a:lnTo>
                <a:cubicBezTo>
                  <a:pt x="10800" y="10380"/>
                  <a:pt x="5400" y="10800"/>
                  <a:pt x="0" y="10800"/>
                </a:cubicBezTo>
                <a:cubicBezTo>
                  <a:pt x="5400" y="10800"/>
                  <a:pt x="10800" y="11220"/>
                  <a:pt x="10800" y="11640"/>
                </a:cubicBezTo>
                <a:lnTo>
                  <a:pt x="10800" y="20760"/>
                </a:lnTo>
                <a:cubicBezTo>
                  <a:pt x="10800" y="2118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30"/>
          <p:cNvSpPr/>
          <p:nvPr/>
        </p:nvSpPr>
        <p:spPr>
          <a:xfrm>
            <a:off x="461880" y="1865160"/>
            <a:ext cx="58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尿的形成与排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623520" y="661680"/>
            <a:ext cx="803124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构成肾单位的结构是（     ）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肾小球和肾小囊     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肾小球、肾小囊和肾小管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肾小球和肾小管     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肾皮质和肾髓质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4024440" y="824040"/>
            <a:ext cx="4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623880" y="276084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假如某人出现了“糖尿”，肾脏中最可能发生病变的部位是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肾小囊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肾小球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肾小管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肾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流出肾脏的血液和流入肾脏的血液相比，减少最多的成分是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素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蛋白质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1647720" y="345132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1582560" y="51004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3"/>
          <p:cNvSpPr/>
          <p:nvPr/>
        </p:nvSpPr>
        <p:spPr>
          <a:xfrm>
            <a:off x="557280" y="1065240"/>
            <a:ext cx="802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人的原尿与血浆相比，原尿中一定没有（   ）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无机盐      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尿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葡萄糖      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分子蛋白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列物质中，被肾小管全部重吸收的是（   ）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水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无机盐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葡萄糖      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尿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5"/>
          <p:cNvSpPr/>
          <p:nvPr/>
        </p:nvSpPr>
        <p:spPr>
          <a:xfrm>
            <a:off x="7005600" y="1139760"/>
            <a:ext cx="568440" cy="604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6"/>
          <p:cNvSpPr/>
          <p:nvPr/>
        </p:nvSpPr>
        <p:spPr>
          <a:xfrm>
            <a:off x="6377040" y="2827440"/>
            <a:ext cx="568440" cy="56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98560" y="2114640"/>
            <a:ext cx="734688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知道泌尿系统的组成；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理解肾脏的结构及与尿形成有关的结构特点；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阐明尿的形成过程及叙述尿的排出过程；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</a:rPr>
              <a:t>4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描述其他排泄途径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" name="任意多边形 20"/>
          <p:cNvSpPr/>
          <p:nvPr/>
        </p:nvSpPr>
        <p:spPr>
          <a:xfrm>
            <a:off x="3132000" y="468360"/>
            <a:ext cx="719280" cy="708120"/>
          </a:xfrm>
          <a:custGeom>
            <a:avLst/>
            <a:gdLst/>
            <a:ahLst/>
            <a:rect l="l" t="t" r="r" b="b"/>
            <a:pathLst>
              <a:path w="1361803" h="1281345">
                <a:moveTo>
                  <a:pt x="340187" y="867542"/>
                </a:moveTo>
                <a:cubicBezTo>
                  <a:pt x="351512" y="867144"/>
                  <a:pt x="363575" y="872724"/>
                  <a:pt x="372930" y="883885"/>
                </a:cubicBezTo>
                <a:cubicBezTo>
                  <a:pt x="394595" y="907270"/>
                  <a:pt x="415275" y="931718"/>
                  <a:pt x="436940" y="957229"/>
                </a:cubicBezTo>
                <a:cubicBezTo>
                  <a:pt x="449742" y="946599"/>
                  <a:pt x="462543" y="935970"/>
                  <a:pt x="475345" y="925340"/>
                </a:cubicBezTo>
                <a:cubicBezTo>
                  <a:pt x="492086" y="911522"/>
                  <a:pt x="506857" y="910459"/>
                  <a:pt x="525568" y="923214"/>
                </a:cubicBezTo>
                <a:cubicBezTo>
                  <a:pt x="535415" y="929592"/>
                  <a:pt x="544278" y="935970"/>
                  <a:pt x="553141" y="942347"/>
                </a:cubicBezTo>
                <a:cubicBezTo>
                  <a:pt x="545263" y="967858"/>
                  <a:pt x="538370" y="993369"/>
                  <a:pt x="530492" y="1018880"/>
                </a:cubicBezTo>
                <a:cubicBezTo>
                  <a:pt x="528522" y="1018880"/>
                  <a:pt x="528522" y="1018880"/>
                  <a:pt x="527537" y="1018880"/>
                </a:cubicBezTo>
                <a:cubicBezTo>
                  <a:pt x="509812" y="1000810"/>
                  <a:pt x="494056" y="1007187"/>
                  <a:pt x="479284" y="1024195"/>
                </a:cubicBezTo>
                <a:cubicBezTo>
                  <a:pt x="473376" y="1030572"/>
                  <a:pt x="466482" y="1035887"/>
                  <a:pt x="459589" y="1041202"/>
                </a:cubicBezTo>
                <a:cubicBezTo>
                  <a:pt x="438909" y="1058209"/>
                  <a:pt x="420199" y="1056083"/>
                  <a:pt x="402473" y="1035887"/>
                </a:cubicBezTo>
                <a:cubicBezTo>
                  <a:pt x="385732" y="1017817"/>
                  <a:pt x="369976" y="998684"/>
                  <a:pt x="352251" y="978488"/>
                </a:cubicBezTo>
                <a:cubicBezTo>
                  <a:pt x="343388" y="995495"/>
                  <a:pt x="335510" y="1012502"/>
                  <a:pt x="327632" y="1028446"/>
                </a:cubicBezTo>
                <a:cubicBezTo>
                  <a:pt x="318769" y="1046517"/>
                  <a:pt x="303013" y="1053957"/>
                  <a:pt x="286272" y="1050768"/>
                </a:cubicBezTo>
                <a:cubicBezTo>
                  <a:pt x="262638" y="1046517"/>
                  <a:pt x="248851" y="1019943"/>
                  <a:pt x="259683" y="995495"/>
                </a:cubicBezTo>
                <a:cubicBezTo>
                  <a:pt x="276424" y="959355"/>
                  <a:pt x="293165" y="922151"/>
                  <a:pt x="311876" y="887074"/>
                </a:cubicBezTo>
                <a:cubicBezTo>
                  <a:pt x="318276" y="874318"/>
                  <a:pt x="328863" y="867941"/>
                  <a:pt x="340187" y="867542"/>
                </a:cubicBezTo>
                <a:close/>
                <a:moveTo>
                  <a:pt x="274255" y="687365"/>
                </a:moveTo>
                <a:cubicBezTo>
                  <a:pt x="330459" y="687365"/>
                  <a:pt x="386662" y="687365"/>
                  <a:pt x="442866" y="687365"/>
                </a:cubicBezTo>
                <a:cubicBezTo>
                  <a:pt x="516819" y="687365"/>
                  <a:pt x="590771" y="687365"/>
                  <a:pt x="664723" y="687365"/>
                </a:cubicBezTo>
                <a:cubicBezTo>
                  <a:pt x="670640" y="687365"/>
                  <a:pt x="675570" y="687365"/>
                  <a:pt x="684444" y="687365"/>
                </a:cubicBezTo>
                <a:cubicBezTo>
                  <a:pt x="666695" y="718154"/>
                  <a:pt x="649933" y="745757"/>
                  <a:pt x="632184" y="772299"/>
                </a:cubicBezTo>
                <a:cubicBezTo>
                  <a:pt x="630212" y="775484"/>
                  <a:pt x="625282" y="776545"/>
                  <a:pt x="621338" y="776545"/>
                </a:cubicBezTo>
                <a:cubicBezTo>
                  <a:pt x="504000" y="777607"/>
                  <a:pt x="387648" y="776545"/>
                  <a:pt x="270311" y="777607"/>
                </a:cubicBezTo>
                <a:cubicBezTo>
                  <a:pt x="259464" y="777607"/>
                  <a:pt x="255520" y="772299"/>
                  <a:pt x="256506" y="760620"/>
                </a:cubicBezTo>
                <a:cubicBezTo>
                  <a:pt x="256506" y="742572"/>
                  <a:pt x="256506" y="724524"/>
                  <a:pt x="255520" y="706475"/>
                </a:cubicBezTo>
                <a:cubicBezTo>
                  <a:pt x="255520" y="691612"/>
                  <a:pt x="261436" y="687365"/>
                  <a:pt x="274255" y="687365"/>
                </a:cubicBezTo>
                <a:close/>
                <a:moveTo>
                  <a:pt x="278054" y="504636"/>
                </a:moveTo>
                <a:cubicBezTo>
                  <a:pt x="354989" y="504636"/>
                  <a:pt x="432911" y="504636"/>
                  <a:pt x="509846" y="504636"/>
                </a:cubicBezTo>
                <a:cubicBezTo>
                  <a:pt x="588754" y="504636"/>
                  <a:pt x="666676" y="504636"/>
                  <a:pt x="745584" y="504636"/>
                </a:cubicBezTo>
                <a:cubicBezTo>
                  <a:pt x="764325" y="504636"/>
                  <a:pt x="765311" y="505700"/>
                  <a:pt x="765311" y="524845"/>
                </a:cubicBezTo>
                <a:cubicBezTo>
                  <a:pt x="765311" y="535481"/>
                  <a:pt x="765311" y="546117"/>
                  <a:pt x="765311" y="556753"/>
                </a:cubicBezTo>
                <a:cubicBezTo>
                  <a:pt x="765311" y="580153"/>
                  <a:pt x="752489" y="593980"/>
                  <a:pt x="730789" y="593980"/>
                </a:cubicBezTo>
                <a:cubicBezTo>
                  <a:pt x="580863" y="593980"/>
                  <a:pt x="429952" y="593980"/>
                  <a:pt x="279040" y="593980"/>
                </a:cubicBezTo>
                <a:cubicBezTo>
                  <a:pt x="256354" y="593980"/>
                  <a:pt x="256354" y="592917"/>
                  <a:pt x="256354" y="569517"/>
                </a:cubicBezTo>
                <a:cubicBezTo>
                  <a:pt x="256354" y="555690"/>
                  <a:pt x="256354" y="541863"/>
                  <a:pt x="256354" y="528036"/>
                </a:cubicBezTo>
                <a:cubicBezTo>
                  <a:pt x="256354" y="504636"/>
                  <a:pt x="256354" y="504636"/>
                  <a:pt x="278054" y="504636"/>
                </a:cubicBezTo>
                <a:close/>
                <a:moveTo>
                  <a:pt x="942895" y="453454"/>
                </a:moveTo>
                <a:cubicBezTo>
                  <a:pt x="989224" y="494914"/>
                  <a:pt x="1033581" y="534249"/>
                  <a:pt x="1077938" y="574646"/>
                </a:cubicBezTo>
                <a:cubicBezTo>
                  <a:pt x="1059210" y="599097"/>
                  <a:pt x="1040481" y="622484"/>
                  <a:pt x="1021752" y="644809"/>
                </a:cubicBezTo>
                <a:cubicBezTo>
                  <a:pt x="928109" y="760685"/>
                  <a:pt x="831509" y="874435"/>
                  <a:pt x="722095" y="974365"/>
                </a:cubicBezTo>
                <a:cubicBezTo>
                  <a:pt x="695481" y="999879"/>
                  <a:pt x="664923" y="1021141"/>
                  <a:pt x="635352" y="1042403"/>
                </a:cubicBezTo>
                <a:cubicBezTo>
                  <a:pt x="626481" y="1048781"/>
                  <a:pt x="613666" y="1046655"/>
                  <a:pt x="601838" y="1048781"/>
                </a:cubicBezTo>
                <a:cubicBezTo>
                  <a:pt x="601838" y="1037087"/>
                  <a:pt x="596909" y="1023267"/>
                  <a:pt x="600852" y="1012636"/>
                </a:cubicBezTo>
                <a:cubicBezTo>
                  <a:pt x="619581" y="969050"/>
                  <a:pt x="637323" y="924400"/>
                  <a:pt x="659995" y="882940"/>
                </a:cubicBezTo>
                <a:cubicBezTo>
                  <a:pt x="741809" y="734108"/>
                  <a:pt x="838409" y="595907"/>
                  <a:pt x="938952" y="460896"/>
                </a:cubicBezTo>
                <a:cubicBezTo>
                  <a:pt x="939938" y="458770"/>
                  <a:pt x="940924" y="456643"/>
                  <a:pt x="942895" y="453454"/>
                </a:cubicBezTo>
                <a:close/>
                <a:moveTo>
                  <a:pt x="1337162" y="323013"/>
                </a:moveTo>
                <a:cubicBezTo>
                  <a:pt x="1348990" y="326198"/>
                  <a:pt x="1361803" y="343189"/>
                  <a:pt x="1361803" y="358055"/>
                </a:cubicBezTo>
                <a:cubicBezTo>
                  <a:pt x="1359832" y="361241"/>
                  <a:pt x="1357861" y="367612"/>
                  <a:pt x="1353918" y="373984"/>
                </a:cubicBezTo>
                <a:cubicBezTo>
                  <a:pt x="1300693" y="447255"/>
                  <a:pt x="1247469" y="521588"/>
                  <a:pt x="1194244" y="594859"/>
                </a:cubicBezTo>
                <a:cubicBezTo>
                  <a:pt x="1175517" y="619282"/>
                  <a:pt x="1154818" y="642644"/>
                  <a:pt x="1134120" y="664944"/>
                </a:cubicBezTo>
                <a:cubicBezTo>
                  <a:pt x="1125249" y="673439"/>
                  <a:pt x="1113421" y="678749"/>
                  <a:pt x="1101594" y="682996"/>
                </a:cubicBezTo>
                <a:cubicBezTo>
                  <a:pt x="1095680" y="685120"/>
                  <a:pt x="1083852" y="682996"/>
                  <a:pt x="1080895" y="677687"/>
                </a:cubicBezTo>
                <a:cubicBezTo>
                  <a:pt x="1077938" y="671315"/>
                  <a:pt x="1077938" y="658573"/>
                  <a:pt x="1080895" y="652201"/>
                </a:cubicBezTo>
                <a:cubicBezTo>
                  <a:pt x="1092723" y="633087"/>
                  <a:pt x="1107507" y="615035"/>
                  <a:pt x="1121306" y="596983"/>
                </a:cubicBezTo>
                <a:cubicBezTo>
                  <a:pt x="1175517" y="522650"/>
                  <a:pt x="1229727" y="449379"/>
                  <a:pt x="1284923" y="375046"/>
                </a:cubicBezTo>
                <a:cubicBezTo>
                  <a:pt x="1293794" y="362303"/>
                  <a:pt x="1302665" y="348498"/>
                  <a:pt x="1310550" y="334694"/>
                </a:cubicBezTo>
                <a:cubicBezTo>
                  <a:pt x="1317449" y="324075"/>
                  <a:pt x="1325334" y="318765"/>
                  <a:pt x="1337162" y="323013"/>
                </a:cubicBezTo>
                <a:close/>
                <a:moveTo>
                  <a:pt x="525824" y="229421"/>
                </a:moveTo>
                <a:cubicBezTo>
                  <a:pt x="600725" y="229421"/>
                  <a:pt x="675627" y="229421"/>
                  <a:pt x="750528" y="229421"/>
                </a:cubicBezTo>
                <a:cubicBezTo>
                  <a:pt x="761369" y="229421"/>
                  <a:pt x="765311" y="233676"/>
                  <a:pt x="765311" y="245375"/>
                </a:cubicBezTo>
                <a:cubicBezTo>
                  <a:pt x="764326" y="264521"/>
                  <a:pt x="764326" y="282602"/>
                  <a:pt x="765311" y="301747"/>
                </a:cubicBezTo>
                <a:cubicBezTo>
                  <a:pt x="765311" y="314511"/>
                  <a:pt x="760383" y="318765"/>
                  <a:pt x="748557" y="318765"/>
                </a:cubicBezTo>
                <a:cubicBezTo>
                  <a:pt x="711106" y="318765"/>
                  <a:pt x="674641" y="318765"/>
                  <a:pt x="638176" y="318765"/>
                </a:cubicBezTo>
                <a:cubicBezTo>
                  <a:pt x="601711" y="318765"/>
                  <a:pt x="565246" y="317702"/>
                  <a:pt x="528781" y="318765"/>
                </a:cubicBezTo>
                <a:cubicBezTo>
                  <a:pt x="515969" y="318765"/>
                  <a:pt x="511041" y="313447"/>
                  <a:pt x="511041" y="299620"/>
                </a:cubicBezTo>
                <a:cubicBezTo>
                  <a:pt x="512027" y="282602"/>
                  <a:pt x="512027" y="264521"/>
                  <a:pt x="511041" y="246439"/>
                </a:cubicBezTo>
                <a:cubicBezTo>
                  <a:pt x="511041" y="234739"/>
                  <a:pt x="514983" y="229421"/>
                  <a:pt x="525824" y="229421"/>
                </a:cubicBezTo>
                <a:close/>
                <a:moveTo>
                  <a:pt x="1243182" y="137949"/>
                </a:moveTo>
                <a:cubicBezTo>
                  <a:pt x="1255260" y="139675"/>
                  <a:pt x="1267337" y="146577"/>
                  <a:pt x="1281140" y="158257"/>
                </a:cubicBezTo>
                <a:cubicBezTo>
                  <a:pt x="1308745" y="183741"/>
                  <a:pt x="1317618" y="208163"/>
                  <a:pt x="1306773" y="240018"/>
                </a:cubicBezTo>
                <a:cubicBezTo>
                  <a:pt x="1300858" y="257008"/>
                  <a:pt x="1294942" y="275059"/>
                  <a:pt x="1285083" y="289925"/>
                </a:cubicBezTo>
                <a:cubicBezTo>
                  <a:pt x="1228886" y="370624"/>
                  <a:pt x="1171704" y="450262"/>
                  <a:pt x="1114521" y="532023"/>
                </a:cubicBezTo>
                <a:cubicBezTo>
                  <a:pt x="1066212" y="489550"/>
                  <a:pt x="1022832" y="450262"/>
                  <a:pt x="977480" y="410974"/>
                </a:cubicBezTo>
                <a:cubicBezTo>
                  <a:pt x="984381" y="401417"/>
                  <a:pt x="990297" y="392923"/>
                  <a:pt x="996212" y="385490"/>
                </a:cubicBezTo>
                <a:cubicBezTo>
                  <a:pt x="1050437" y="319656"/>
                  <a:pt x="1103676" y="252760"/>
                  <a:pt x="1157901" y="187988"/>
                </a:cubicBezTo>
                <a:cubicBezTo>
                  <a:pt x="1170718" y="172061"/>
                  <a:pt x="1188464" y="159319"/>
                  <a:pt x="1205225" y="148700"/>
                </a:cubicBezTo>
                <a:cubicBezTo>
                  <a:pt x="1219027" y="139675"/>
                  <a:pt x="1231105" y="136224"/>
                  <a:pt x="1243182" y="137949"/>
                </a:cubicBezTo>
                <a:close/>
                <a:moveTo>
                  <a:pt x="326420" y="0"/>
                </a:moveTo>
                <a:cubicBezTo>
                  <a:pt x="513791" y="0"/>
                  <a:pt x="702148" y="0"/>
                  <a:pt x="889519" y="0"/>
                </a:cubicBezTo>
                <a:cubicBezTo>
                  <a:pt x="964468" y="1063"/>
                  <a:pt x="1018707" y="56311"/>
                  <a:pt x="1021665" y="137059"/>
                </a:cubicBezTo>
                <a:cubicBezTo>
                  <a:pt x="1021665" y="164684"/>
                  <a:pt x="1021665" y="191246"/>
                  <a:pt x="1020679" y="218870"/>
                </a:cubicBezTo>
                <a:cubicBezTo>
                  <a:pt x="1020679" y="225245"/>
                  <a:pt x="1017721" y="232682"/>
                  <a:pt x="1013776" y="237995"/>
                </a:cubicBezTo>
                <a:cubicBezTo>
                  <a:pt x="985177" y="275181"/>
                  <a:pt x="956578" y="311305"/>
                  <a:pt x="928966" y="348492"/>
                </a:cubicBezTo>
                <a:cubicBezTo>
                  <a:pt x="921077" y="358054"/>
                  <a:pt x="915160" y="369741"/>
                  <a:pt x="908256" y="380366"/>
                </a:cubicBezTo>
                <a:cubicBezTo>
                  <a:pt x="905298" y="384616"/>
                  <a:pt x="901353" y="387804"/>
                  <a:pt x="895436" y="395241"/>
                </a:cubicBezTo>
                <a:cubicBezTo>
                  <a:pt x="895436" y="365492"/>
                  <a:pt x="895436" y="339992"/>
                  <a:pt x="895436" y="314493"/>
                </a:cubicBezTo>
                <a:cubicBezTo>
                  <a:pt x="895436" y="263494"/>
                  <a:pt x="895436" y="212495"/>
                  <a:pt x="895436" y="161496"/>
                </a:cubicBezTo>
                <a:cubicBezTo>
                  <a:pt x="895436" y="139184"/>
                  <a:pt x="892478" y="135997"/>
                  <a:pt x="870782" y="135997"/>
                </a:cubicBezTo>
                <a:cubicBezTo>
                  <a:pt x="713982" y="135997"/>
                  <a:pt x="557182" y="135997"/>
                  <a:pt x="399396" y="135997"/>
                </a:cubicBezTo>
                <a:cubicBezTo>
                  <a:pt x="394465" y="135997"/>
                  <a:pt x="388548" y="135997"/>
                  <a:pt x="381645" y="135997"/>
                </a:cubicBezTo>
                <a:cubicBezTo>
                  <a:pt x="381645" y="145559"/>
                  <a:pt x="381645" y="152997"/>
                  <a:pt x="381645" y="159371"/>
                </a:cubicBezTo>
                <a:cubicBezTo>
                  <a:pt x="381645" y="211433"/>
                  <a:pt x="381645" y="262431"/>
                  <a:pt x="381645" y="314493"/>
                </a:cubicBezTo>
                <a:cubicBezTo>
                  <a:pt x="380659" y="373991"/>
                  <a:pt x="346143" y="410116"/>
                  <a:pt x="290918" y="410116"/>
                </a:cubicBezTo>
                <a:cubicBezTo>
                  <a:pt x="241610" y="410116"/>
                  <a:pt x="192302" y="410116"/>
                  <a:pt x="142994" y="410116"/>
                </a:cubicBezTo>
                <a:cubicBezTo>
                  <a:pt x="138063" y="410116"/>
                  <a:pt x="133132" y="410116"/>
                  <a:pt x="126229" y="410116"/>
                </a:cubicBezTo>
                <a:cubicBezTo>
                  <a:pt x="126229" y="418615"/>
                  <a:pt x="126229" y="423928"/>
                  <a:pt x="126229" y="429240"/>
                </a:cubicBezTo>
                <a:cubicBezTo>
                  <a:pt x="126229" y="658735"/>
                  <a:pt x="126229" y="888229"/>
                  <a:pt x="126229" y="1117724"/>
                </a:cubicBezTo>
                <a:cubicBezTo>
                  <a:pt x="126229" y="1143223"/>
                  <a:pt x="128201" y="1145348"/>
                  <a:pt x="150883" y="1145348"/>
                </a:cubicBezTo>
                <a:cubicBezTo>
                  <a:pt x="390521" y="1145348"/>
                  <a:pt x="630158" y="1145348"/>
                  <a:pt x="869796" y="1145348"/>
                </a:cubicBezTo>
                <a:cubicBezTo>
                  <a:pt x="893464" y="1145348"/>
                  <a:pt x="895436" y="1143223"/>
                  <a:pt x="895436" y="1117724"/>
                </a:cubicBezTo>
                <a:cubicBezTo>
                  <a:pt x="895436" y="1052913"/>
                  <a:pt x="895436" y="988102"/>
                  <a:pt x="895436" y="923291"/>
                </a:cubicBezTo>
                <a:cubicBezTo>
                  <a:pt x="895436" y="916916"/>
                  <a:pt x="897409" y="908416"/>
                  <a:pt x="901353" y="904166"/>
                </a:cubicBezTo>
                <a:cubicBezTo>
                  <a:pt x="938827" y="860605"/>
                  <a:pt x="976302" y="818106"/>
                  <a:pt x="1013776" y="774545"/>
                </a:cubicBezTo>
                <a:cubicBezTo>
                  <a:pt x="1015748" y="773482"/>
                  <a:pt x="1016734" y="772420"/>
                  <a:pt x="1020679" y="769232"/>
                </a:cubicBezTo>
                <a:cubicBezTo>
                  <a:pt x="1020679" y="775607"/>
                  <a:pt x="1021665" y="779857"/>
                  <a:pt x="1021665" y="784107"/>
                </a:cubicBezTo>
                <a:cubicBezTo>
                  <a:pt x="1021665" y="902042"/>
                  <a:pt x="1021665" y="1018914"/>
                  <a:pt x="1021665" y="1135786"/>
                </a:cubicBezTo>
                <a:cubicBezTo>
                  <a:pt x="1020679" y="1222909"/>
                  <a:pt x="967426" y="1281345"/>
                  <a:pt x="886561" y="1281345"/>
                </a:cubicBezTo>
                <a:cubicBezTo>
                  <a:pt x="634103" y="1281345"/>
                  <a:pt x="382631" y="1281345"/>
                  <a:pt x="131160" y="1281345"/>
                </a:cubicBezTo>
                <a:cubicBezTo>
                  <a:pt x="55225" y="1281345"/>
                  <a:pt x="0" y="1221847"/>
                  <a:pt x="0" y="1140036"/>
                </a:cubicBezTo>
                <a:cubicBezTo>
                  <a:pt x="0" y="872292"/>
                  <a:pt x="0" y="603486"/>
                  <a:pt x="0" y="335742"/>
                </a:cubicBezTo>
                <a:cubicBezTo>
                  <a:pt x="0" y="315555"/>
                  <a:pt x="5917" y="298556"/>
                  <a:pt x="18737" y="283681"/>
                </a:cubicBezTo>
                <a:cubicBezTo>
                  <a:pt x="99603" y="198683"/>
                  <a:pt x="180468" y="113685"/>
                  <a:pt x="261333" y="28687"/>
                </a:cubicBezTo>
                <a:cubicBezTo>
                  <a:pt x="279084" y="9562"/>
                  <a:pt x="300780" y="0"/>
                  <a:pt x="3264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3711600" y="1371600"/>
            <a:ext cx="17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870120" y="2143080"/>
            <a:ext cx="712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排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概念：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人体内物质分解时产生的二氧化碳、尿素、和多余的水等排出体外的过程，就叫排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870120" y="4284720"/>
            <a:ext cx="7308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人体产生的废物中，尿素、多余的水和无机盐主要是通过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泌尿系统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排出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6147"/>
          <p:cNvGrpSpPr/>
          <p:nvPr/>
        </p:nvGrpSpPr>
        <p:grpSpPr>
          <a:xfrm>
            <a:off x="507960" y="727200"/>
            <a:ext cx="2729880" cy="806760"/>
            <a:chOff x="507960" y="727200"/>
            <a:chExt cx="2729880" cy="806760"/>
          </a:xfrm>
        </p:grpSpPr>
        <p:sp>
          <p:nvSpPr>
            <p:cNvPr id="54" name="矩形 7"/>
            <p:cNvSpPr/>
            <p:nvPr/>
          </p:nvSpPr>
          <p:spPr>
            <a:xfrm>
              <a:off x="1067760" y="727200"/>
              <a:ext cx="1672560" cy="7603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16"/>
            <p:cNvSpPr/>
            <p:nvPr/>
          </p:nvSpPr>
          <p:spPr>
            <a:xfrm>
              <a:off x="507960" y="1014840"/>
              <a:ext cx="524160" cy="4813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17"/>
            <p:cNvSpPr/>
            <p:nvPr/>
          </p:nvSpPr>
          <p:spPr>
            <a:xfrm>
              <a:off x="869760" y="96408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文本框 6151"/>
            <p:cNvSpPr/>
            <p:nvPr/>
          </p:nvSpPr>
          <p:spPr>
            <a:xfrm>
              <a:off x="1563480" y="10008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385723"/>
                  </a:solidFill>
                  <a:latin typeface="微软雅黑"/>
                  <a:ea typeface="微软雅黑"/>
                </a:rPr>
                <a:t>泌尿系统的组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文本框 6152"/>
            <p:cNvSpPr/>
            <p:nvPr/>
          </p:nvSpPr>
          <p:spPr>
            <a:xfrm>
              <a:off x="507960" y="1013400"/>
              <a:ext cx="55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image14-19"/>
          <p:cNvPicPr/>
          <p:nvPr/>
        </p:nvPicPr>
        <p:blipFill>
          <a:blip r:embed="rId1"/>
          <a:srcRect l="3437" t="0" r="4995" b="36"/>
          <a:stretch/>
        </p:blipFill>
        <p:spPr>
          <a:xfrm>
            <a:off x="1574640" y="2295360"/>
            <a:ext cx="2665440" cy="3507120"/>
          </a:xfrm>
          <a:prstGeom prst="rect">
            <a:avLst/>
          </a:prstGeom>
          <a:ln w="0">
            <a:noFill/>
          </a:ln>
        </p:spPr>
      </p:pic>
      <p:sp>
        <p:nvSpPr>
          <p:cNvPr id="61" name="直接连接符 30"/>
          <p:cNvSpPr/>
          <p:nvPr/>
        </p:nvSpPr>
        <p:spPr>
          <a:xfrm>
            <a:off x="3568680" y="3048120"/>
            <a:ext cx="1728720" cy="0"/>
          </a:xfrm>
          <a:prstGeom prst="line">
            <a:avLst/>
          </a:prstGeom>
          <a:ln w="2844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5311800" y="2816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黑体"/>
              </a:rPr>
              <a:t>肾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245200" y="3394080"/>
            <a:ext cx="13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黑体"/>
              </a:rPr>
              <a:t>输尿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5253120" y="48402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黑体"/>
              </a:rPr>
              <a:t>膀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311800" y="539424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黑体"/>
              </a:rPr>
              <a:t>尿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35"/>
          <p:cNvSpPr/>
          <p:nvPr/>
        </p:nvSpPr>
        <p:spPr>
          <a:xfrm>
            <a:off x="3206880" y="3641760"/>
            <a:ext cx="2046240" cy="0"/>
          </a:xfrm>
          <a:prstGeom prst="line">
            <a:avLst/>
          </a:prstGeom>
          <a:ln w="2844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37"/>
          <p:cNvSpPr/>
          <p:nvPr/>
        </p:nvSpPr>
        <p:spPr>
          <a:xfrm>
            <a:off x="3063960" y="5114880"/>
            <a:ext cx="2233440" cy="0"/>
          </a:xfrm>
          <a:prstGeom prst="line">
            <a:avLst/>
          </a:prstGeom>
          <a:ln w="2844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39"/>
          <p:cNvSpPr/>
          <p:nvPr/>
        </p:nvSpPr>
        <p:spPr>
          <a:xfrm>
            <a:off x="2865600" y="5626080"/>
            <a:ext cx="2425680" cy="0"/>
          </a:xfrm>
          <a:prstGeom prst="line">
            <a:avLst/>
          </a:prstGeom>
          <a:ln w="2844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5"/>
          <p:cNvSpPr/>
          <p:nvPr/>
        </p:nvSpPr>
        <p:spPr>
          <a:xfrm>
            <a:off x="6356520" y="2575080"/>
            <a:ext cx="326880" cy="3276360"/>
          </a:xfrm>
          <a:custGeom>
            <a:avLst/>
            <a:gdLst>
              <a:gd name="textAreaLeft" fmla="*/ 0 w 326880"/>
              <a:gd name="textAreaRight" fmla="*/ 118080 w 326880"/>
              <a:gd name="textAreaTop" fmla="*/ 164160 h 3276360"/>
              <a:gd name="textAreaBottom" fmla="*/ 31122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32"/>
                  <a:pt x="10800" y="3464"/>
                </a:cubicBezTo>
                <a:lnTo>
                  <a:pt x="10800" y="7483"/>
                </a:lnTo>
                <a:cubicBezTo>
                  <a:pt x="10800" y="9215"/>
                  <a:pt x="16200" y="10947"/>
                  <a:pt x="21600" y="10947"/>
                </a:cubicBezTo>
                <a:cubicBezTo>
                  <a:pt x="16200" y="10947"/>
                  <a:pt x="10800" y="12679"/>
                  <a:pt x="10800" y="14411"/>
                </a:cubicBezTo>
                <a:lnTo>
                  <a:pt x="10800" y="18136"/>
                </a:lnTo>
                <a:cubicBezTo>
                  <a:pt x="10800" y="19868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6762600" y="398448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黑体"/>
              </a:rPr>
              <a:t>泌尿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6705720" y="281772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形成尿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6705720" y="3394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输送尿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6705720" y="484200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暂时储存尿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6705720" y="5397480"/>
            <a:ext cx="16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排出尿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6985080" y="18795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ahoma"/>
                <a:ea typeface="黑体"/>
              </a:rPr>
              <a:t>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3"/>
          <p:cNvGrpSpPr/>
          <p:nvPr/>
        </p:nvGrpSpPr>
        <p:grpSpPr>
          <a:xfrm>
            <a:off x="1682640" y="1752480"/>
            <a:ext cx="1524240" cy="1028880"/>
            <a:chOff x="1682640" y="1752480"/>
            <a:chExt cx="1524240" cy="1028880"/>
          </a:xfrm>
        </p:grpSpPr>
        <p:sp>
          <p:nvSpPr>
            <p:cNvPr id="78" name="Text Box 5"/>
            <p:cNvSpPr/>
            <p:nvPr/>
          </p:nvSpPr>
          <p:spPr>
            <a:xfrm>
              <a:off x="1682640" y="17524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肾静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直接箭头连接符 2"/>
            <p:cNvCxnSpPr/>
            <p:nvPr/>
          </p:nvCxnSpPr>
          <p:spPr>
            <a:xfrm>
              <a:off x="2441160" y="2145960"/>
              <a:ext cx="330840" cy="635760"/>
            </a:xfrm>
            <a:prstGeom prst="straightConnector1">
              <a:avLst/>
            </a:prstGeom>
            <a:ln w="28440">
              <a:solidFill>
                <a:srgbClr val="385723"/>
              </a:solidFill>
              <a:miter/>
            </a:ln>
          </p:spPr>
        </p:cxnSp>
      </p:grpSp>
      <p:grpSp>
        <p:nvGrpSpPr>
          <p:cNvPr id="80" name="组合 4"/>
          <p:cNvGrpSpPr/>
          <p:nvPr/>
        </p:nvGrpSpPr>
        <p:grpSpPr>
          <a:xfrm>
            <a:off x="2865600" y="1752480"/>
            <a:ext cx="1904760" cy="1028880"/>
            <a:chOff x="2865600" y="1752480"/>
            <a:chExt cx="1904760" cy="1028880"/>
          </a:xfrm>
        </p:grpSpPr>
        <p:sp>
          <p:nvSpPr>
            <p:cNvPr id="81" name="Text Box 6"/>
            <p:cNvSpPr/>
            <p:nvPr/>
          </p:nvSpPr>
          <p:spPr>
            <a:xfrm>
              <a:off x="2865600" y="17524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肾动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" name="直接箭头连接符 1"/>
            <p:cNvCxnSpPr/>
            <p:nvPr/>
          </p:nvCxnSpPr>
          <p:spPr>
            <a:xfrm flipH="1">
              <a:off x="2987280" y="2145960"/>
              <a:ext cx="425880" cy="635760"/>
            </a:xfrm>
            <a:prstGeom prst="straightConnector1">
              <a:avLst/>
            </a:prstGeom>
            <a:ln w="28440">
              <a:solidFill>
                <a:srgbClr val="385723"/>
              </a:solidFill>
              <a:miter/>
            </a:ln>
          </p:spPr>
        </p:cxn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48040" y="974880"/>
            <a:ext cx="3549600" cy="4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Times New Roman"/>
                <a:ea typeface="黑体"/>
              </a:rPr>
              <a:t>泌尿系统的组成示意图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900000" y="2459160"/>
            <a:ext cx="769464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注意观察肾动脉和肾静脉以及肾的颜色，根据你所学过的知识，想象一下肾脏里血管的分布状况是怎样的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血液是怎样进出肾脏的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血液经肾动脉流入肾脏，经肾静脉流出肾脏。肾的颜色为紫红色，推测肾内有丰富的毛细血管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矩形 1" descr=""/>
          <p:cNvPicPr/>
          <p:nvPr/>
        </p:nvPicPr>
        <p:blipFill>
          <a:blip r:embed="rId1"/>
          <a:stretch/>
        </p:blipFill>
        <p:spPr>
          <a:xfrm>
            <a:off x="4079880" y="1328760"/>
            <a:ext cx="1758960" cy="6732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6" descr=""/>
          <p:cNvPicPr/>
          <p:nvPr/>
        </p:nvPicPr>
        <p:blipFill>
          <a:blip r:embed="rId2"/>
          <a:stretch/>
        </p:blipFill>
        <p:spPr>
          <a:xfrm>
            <a:off x="3257640" y="554040"/>
            <a:ext cx="1222200" cy="168768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image14-19"/>
          <p:cNvPicPr/>
          <p:nvPr/>
        </p:nvPicPr>
        <p:blipFill>
          <a:blip r:embed="rId1"/>
          <a:srcRect l="0" t="0" r="0" b="36"/>
          <a:stretch/>
        </p:blipFill>
        <p:spPr>
          <a:xfrm>
            <a:off x="503280" y="2130480"/>
            <a:ext cx="3290760" cy="3962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006880" y="3103560"/>
            <a:ext cx="352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腹腔后壁、脊柱两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006880" y="41353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像蚕豆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006880" y="500544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红褐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3794040" y="3176640"/>
            <a:ext cx="2112840" cy="2340000"/>
            <a:chOff x="3794040" y="3176640"/>
            <a:chExt cx="2112840" cy="2340000"/>
          </a:xfrm>
        </p:grpSpPr>
        <p:sp>
          <p:nvSpPr>
            <p:cNvPr id="93" name="Text Box 9"/>
            <p:cNvSpPr/>
            <p:nvPr/>
          </p:nvSpPr>
          <p:spPr>
            <a:xfrm>
              <a:off x="4106880" y="317664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  <a:ea typeface="黑体"/>
                </a:rPr>
                <a:t>位置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0"/>
            <p:cNvSpPr/>
            <p:nvPr/>
          </p:nvSpPr>
          <p:spPr>
            <a:xfrm>
              <a:off x="4106880" y="411192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  <a:ea typeface="黑体"/>
                </a:rPr>
                <a:t>形状：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1"/>
            <p:cNvSpPr/>
            <p:nvPr/>
          </p:nvSpPr>
          <p:spPr>
            <a:xfrm>
              <a:off x="4106880" y="497700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  <a:ea typeface="黑体"/>
                </a:rPr>
                <a:t>颜色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12"/>
            <p:cNvSpPr/>
            <p:nvPr/>
          </p:nvSpPr>
          <p:spPr>
            <a:xfrm>
              <a:off x="3794040" y="3357720"/>
              <a:ext cx="312840" cy="2158920"/>
            </a:xfrm>
            <a:custGeom>
              <a:avLst/>
              <a:gdLst>
                <a:gd name="textAreaLeft" fmla="*/ 199800 w 312840"/>
                <a:gd name="textAreaRight" fmla="*/ 313200 w 312840"/>
                <a:gd name="textAreaTop" fmla="*/ 66600 h 2158920"/>
                <a:gd name="textAreaBottom" fmla="*/ 2092320 h 21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69"/>
                    <a:pt x="10800" y="2137"/>
                  </a:cubicBezTo>
                  <a:lnTo>
                    <a:pt x="10800" y="2149"/>
                  </a:lnTo>
                  <a:cubicBezTo>
                    <a:pt x="10800" y="3218"/>
                    <a:pt x="5400" y="4286"/>
                    <a:pt x="0" y="4286"/>
                  </a:cubicBezTo>
                  <a:cubicBezTo>
                    <a:pt x="5400" y="4286"/>
                    <a:pt x="10800" y="5355"/>
                    <a:pt x="10800" y="6423"/>
                  </a:cubicBezTo>
                  <a:lnTo>
                    <a:pt x="10800" y="19463"/>
                  </a:lnTo>
                  <a:cubicBezTo>
                    <a:pt x="10800" y="20532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椭圆 2"/>
          <p:cNvSpPr/>
          <p:nvPr/>
        </p:nvSpPr>
        <p:spPr>
          <a:xfrm>
            <a:off x="820800" y="2529000"/>
            <a:ext cx="2759040" cy="13698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1"/>
          <p:cNvSpPr/>
          <p:nvPr/>
        </p:nvSpPr>
        <p:spPr>
          <a:xfrm>
            <a:off x="4374720" y="939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肾"/>
          <p:cNvPicPr/>
          <p:nvPr/>
        </p:nvPicPr>
        <p:blipFill>
          <a:blip r:embed="rId1"/>
          <a:stretch/>
        </p:blipFill>
        <p:spPr>
          <a:xfrm>
            <a:off x="1330200" y="1568520"/>
            <a:ext cx="4062600" cy="453708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3"/>
          <p:cNvGrpSpPr/>
          <p:nvPr/>
        </p:nvGrpSpPr>
        <p:grpSpPr>
          <a:xfrm>
            <a:off x="4143240" y="1757520"/>
            <a:ext cx="3524040" cy="489960"/>
            <a:chOff x="4143240" y="1757520"/>
            <a:chExt cx="3524040" cy="489960"/>
          </a:xfrm>
        </p:grpSpPr>
        <p:sp>
          <p:nvSpPr>
            <p:cNvPr id="103" name="Line 4"/>
            <p:cNvSpPr/>
            <p:nvPr/>
          </p:nvSpPr>
          <p:spPr>
            <a:xfrm>
              <a:off x="4143240" y="2117880"/>
              <a:ext cx="15105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5653800" y="1757520"/>
              <a:ext cx="201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皮质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6"/>
          <p:cNvGrpSpPr/>
          <p:nvPr/>
        </p:nvGrpSpPr>
        <p:grpSpPr>
          <a:xfrm>
            <a:off x="4143240" y="2341440"/>
            <a:ext cx="3455640" cy="489960"/>
            <a:chOff x="4143240" y="2341440"/>
            <a:chExt cx="3455640" cy="489960"/>
          </a:xfrm>
        </p:grpSpPr>
        <p:sp>
          <p:nvSpPr>
            <p:cNvPr id="106" name="Line 7"/>
            <p:cNvSpPr/>
            <p:nvPr/>
          </p:nvSpPr>
          <p:spPr>
            <a:xfrm>
              <a:off x="4143240" y="2701800"/>
              <a:ext cx="15591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8"/>
            <p:cNvSpPr/>
            <p:nvPr/>
          </p:nvSpPr>
          <p:spPr>
            <a:xfrm>
              <a:off x="5702400" y="2341440"/>
              <a:ext cx="1896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髓质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3637080" y="3249720"/>
            <a:ext cx="4262040" cy="489960"/>
            <a:chOff x="3637080" y="3249720"/>
            <a:chExt cx="4262040" cy="489960"/>
          </a:xfrm>
        </p:grpSpPr>
        <p:sp>
          <p:nvSpPr>
            <p:cNvPr id="109" name="Line 10"/>
            <p:cNvSpPr/>
            <p:nvPr/>
          </p:nvSpPr>
          <p:spPr>
            <a:xfrm>
              <a:off x="3637080" y="3537000"/>
              <a:ext cx="2034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5671440" y="3249720"/>
              <a:ext cx="2227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肾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15"/>
          <p:cNvSpPr/>
          <p:nvPr/>
        </p:nvSpPr>
        <p:spPr>
          <a:xfrm>
            <a:off x="5343480" y="4521240"/>
            <a:ext cx="14414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6"/>
          <p:cNvGrpSpPr/>
          <p:nvPr/>
        </p:nvGrpSpPr>
        <p:grpSpPr>
          <a:xfrm>
            <a:off x="1884240" y="4140360"/>
            <a:ext cx="6010200" cy="1029600"/>
            <a:chOff x="1884240" y="4140360"/>
            <a:chExt cx="6010200" cy="1029600"/>
          </a:xfrm>
        </p:grpSpPr>
        <p:sp>
          <p:nvSpPr>
            <p:cNvPr id="113" name="Line 17"/>
            <p:cNvSpPr/>
            <p:nvPr/>
          </p:nvSpPr>
          <p:spPr>
            <a:xfrm>
              <a:off x="1884240" y="4140360"/>
              <a:ext cx="376200" cy="7714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2260440" y="4911840"/>
              <a:ext cx="3403800" cy="28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9"/>
            <p:cNvSpPr/>
            <p:nvPr/>
          </p:nvSpPr>
          <p:spPr>
            <a:xfrm>
              <a:off x="5734080" y="4680000"/>
              <a:ext cx="216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肾动脉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2584440" y="5332320"/>
            <a:ext cx="5310360" cy="489960"/>
            <a:chOff x="2584440" y="5332320"/>
            <a:chExt cx="5310360" cy="489960"/>
          </a:xfrm>
        </p:grpSpPr>
        <p:sp>
          <p:nvSpPr>
            <p:cNvPr id="117" name="Line 21"/>
            <p:cNvSpPr/>
            <p:nvPr/>
          </p:nvSpPr>
          <p:spPr>
            <a:xfrm>
              <a:off x="2584440" y="5578200"/>
              <a:ext cx="3071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2"/>
            <p:cNvSpPr/>
            <p:nvPr/>
          </p:nvSpPr>
          <p:spPr>
            <a:xfrm>
              <a:off x="5734080" y="5332320"/>
              <a:ext cx="216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输尿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3"/>
          <p:cNvGrpSpPr/>
          <p:nvPr/>
        </p:nvGrpSpPr>
        <p:grpSpPr>
          <a:xfrm>
            <a:off x="1978200" y="3772080"/>
            <a:ext cx="5860440" cy="610560"/>
            <a:chOff x="1978200" y="3772080"/>
            <a:chExt cx="5860440" cy="610560"/>
          </a:xfrm>
        </p:grpSpPr>
        <p:sp>
          <p:nvSpPr>
            <p:cNvPr id="120" name="Line 24"/>
            <p:cNvSpPr/>
            <p:nvPr/>
          </p:nvSpPr>
          <p:spPr>
            <a:xfrm>
              <a:off x="1978200" y="3772080"/>
              <a:ext cx="360000" cy="3664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2338200" y="4138560"/>
              <a:ext cx="33400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6"/>
            <p:cNvSpPr/>
            <p:nvPr/>
          </p:nvSpPr>
          <p:spPr>
            <a:xfrm>
              <a:off x="5678640" y="3892680"/>
              <a:ext cx="2160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肾静脉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8"/>
          <p:cNvGrpSpPr/>
          <p:nvPr/>
        </p:nvGrpSpPr>
        <p:grpSpPr>
          <a:xfrm>
            <a:off x="6639840" y="1952640"/>
            <a:ext cx="972360" cy="1584360"/>
            <a:chOff x="6639840" y="1952640"/>
            <a:chExt cx="972360" cy="1584360"/>
          </a:xfrm>
        </p:grpSpPr>
        <p:sp>
          <p:nvSpPr>
            <p:cNvPr id="124" name="Text Box 29"/>
            <p:cNvSpPr/>
            <p:nvPr/>
          </p:nvSpPr>
          <p:spPr>
            <a:xfrm>
              <a:off x="6639840" y="2327400"/>
              <a:ext cx="9723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肾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30"/>
            <p:cNvSpPr/>
            <p:nvPr/>
          </p:nvSpPr>
          <p:spPr>
            <a:xfrm>
              <a:off x="6686640" y="1952640"/>
              <a:ext cx="144360" cy="158436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5"/>
                    <a:pt x="10800" y="1790"/>
                  </a:cubicBezTo>
                  <a:lnTo>
                    <a:pt x="10800" y="9010"/>
                  </a:lnTo>
                  <a:cubicBezTo>
                    <a:pt x="10800" y="9905"/>
                    <a:pt x="16200" y="10800"/>
                    <a:pt x="21600" y="10800"/>
                  </a:cubicBezTo>
                  <a:cubicBezTo>
                    <a:pt x="16200" y="10800"/>
                    <a:pt x="10800" y="11695"/>
                    <a:pt x="10800" y="12590"/>
                  </a:cubicBezTo>
                  <a:lnTo>
                    <a:pt x="10800" y="19810"/>
                  </a:lnTo>
                  <a:cubicBezTo>
                    <a:pt x="10800" y="20705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文本框 11"/>
          <p:cNvSpPr/>
          <p:nvPr/>
        </p:nvSpPr>
        <p:spPr>
          <a:xfrm>
            <a:off x="3603240" y="777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肾的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1908000" y="2955960"/>
            <a:ext cx="7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肾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2403360" y="3411360"/>
            <a:ext cx="762120" cy="0"/>
          </a:xfrm>
          <a:prstGeom prst="line">
            <a:avLst/>
          </a:prstGeom>
          <a:ln w="28440">
            <a:solidFill>
              <a:srgbClr val="0563c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112920" y="2755800"/>
            <a:ext cx="131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大约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万个肾单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4425840" y="2367000"/>
            <a:ext cx="287280" cy="223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7080 h 2232000"/>
              <a:gd name="textAreaBottom" fmla="*/ 219492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4"/>
                  <a:pt x="10800" y="1147"/>
                </a:cubicBezTo>
                <a:lnTo>
                  <a:pt x="10800" y="9653"/>
                </a:lnTo>
                <a:cubicBezTo>
                  <a:pt x="10800" y="10227"/>
                  <a:pt x="5400" y="10800"/>
                  <a:pt x="0" y="10800"/>
                </a:cubicBezTo>
                <a:cubicBezTo>
                  <a:pt x="5400" y="10800"/>
                  <a:pt x="10800" y="11374"/>
                  <a:pt x="10800" y="11947"/>
                </a:cubicBezTo>
                <a:lnTo>
                  <a:pt x="10800" y="20453"/>
                </a:lnTo>
                <a:cubicBezTo>
                  <a:pt x="10800" y="2102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563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697280" y="2100240"/>
            <a:ext cx="1920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肾小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713120" y="42228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肾小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4697280" y="3165480"/>
            <a:ext cx="2073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肾小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103"/>
          <p:cNvSpPr/>
          <p:nvPr/>
        </p:nvSpPr>
        <p:spPr>
          <a:xfrm>
            <a:off x="115920" y="3492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9-01-12T02:07:50Z</dcterms:modified>
  <cp:revision>98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