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69D-EAE3-453F-A71E-445CAC98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408-1108-47B3-B9C1-AF81EEFE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BF4-E719-4691-82AC-6D5F3334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74E-7A38-450A-ADB0-8B0AFF07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646-7AA8-4C75-B6BB-8FBF889D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660-6D5C-4CBA-935B-80AAE1CD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759-F73C-418E-AFDA-ED6F463F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56B-4FEC-4A67-B7E4-EE9C4455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D72-D8DD-4C4D-9581-04EAC64C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676-FDEC-48D3-A112-C682508E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CF0-4567-4E2B-9776-550C7E59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658-5B54-4E99-9FBF-37B3595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5167-73E1-4F31-A4C4-70FD1295B46C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0DBE-2475-48E8-8293-A90761C3C3D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411720" y="3139200"/>
            <a:ext cx="275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四节 输血与血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7080" y="1765440"/>
            <a:ext cx="812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四章  人体内物质的运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"/>
          <p:cNvPicPr/>
          <p:nvPr/>
        </p:nvPicPr>
        <p:blipFill>
          <a:blip r:embed="rId1"/>
          <a:stretch/>
        </p:blipFill>
        <p:spPr>
          <a:xfrm>
            <a:off x="5435640" y="2627280"/>
            <a:ext cx="246996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Rectangle 5"/>
          <p:cNvSpPr/>
          <p:nvPr/>
        </p:nvSpPr>
        <p:spPr>
          <a:xfrm>
            <a:off x="2613600" y="191124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Black"/>
                <a:ea typeface="黑体"/>
              </a:rPr>
              <a:t>一次献血量是多少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435640" y="1911240"/>
            <a:ext cx="234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00~300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毫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2" descr=""/>
          <p:cNvPicPr/>
          <p:nvPr/>
        </p:nvPicPr>
        <p:blipFill>
          <a:blip r:embed="rId2"/>
          <a:stretch/>
        </p:blipFill>
        <p:spPr>
          <a:xfrm>
            <a:off x="1004760" y="2627280"/>
            <a:ext cx="403884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54000" y="2276640"/>
            <a:ext cx="50990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 Black"/>
                <a:ea typeface="黑体"/>
              </a:rPr>
              <a:t>保证医疗临床用血需要和安全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 Black"/>
                <a:ea typeface="黑体"/>
              </a:rPr>
              <a:t>保障献血者和用血者身体健康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 Black"/>
                <a:ea typeface="黑体"/>
              </a:rPr>
              <a:t>提高用血质量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 Black"/>
                <a:ea typeface="黑体"/>
              </a:rPr>
              <a:t>发扬人道主义精神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954000" y="128736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献血意义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3" descr=""/>
          <p:cNvPicPr/>
          <p:nvPr/>
        </p:nvPicPr>
        <p:blipFill>
          <a:blip r:embed="rId1"/>
          <a:stretch/>
        </p:blipFill>
        <p:spPr>
          <a:xfrm>
            <a:off x="5318280" y="3932280"/>
            <a:ext cx="3321000" cy="223848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990720" y="2197080"/>
            <a:ext cx="71625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长期坚持适量献血的人，体内新鲜的血细胞含量明显高于未献血者，其精力更充沛，身体更健康。菲律宾前总统拉莫斯于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1997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月第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41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次无偿献血，以此作为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69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岁的生日纪念，他常说：献血使自己更显年轻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"/>
          <p:cNvSpPr/>
          <p:nvPr/>
        </p:nvSpPr>
        <p:spPr>
          <a:xfrm>
            <a:off x="988920" y="1303200"/>
            <a:ext cx="20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献血实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3"/>
          <p:cNvSpPr/>
          <p:nvPr/>
        </p:nvSpPr>
        <p:spPr>
          <a:xfrm>
            <a:off x="392040" y="310680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血与血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5"/>
          <p:cNvSpPr/>
          <p:nvPr/>
        </p:nvSpPr>
        <p:spPr>
          <a:xfrm>
            <a:off x="2556000" y="143028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量：成年人体内的血量大致相当于本人体重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%-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6"/>
          <p:cNvSpPr/>
          <p:nvPr/>
        </p:nvSpPr>
        <p:spPr>
          <a:xfrm>
            <a:off x="2556000" y="2811600"/>
            <a:ext cx="86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8"/>
          <p:cNvSpPr/>
          <p:nvPr/>
        </p:nvSpPr>
        <p:spPr>
          <a:xfrm>
            <a:off x="3673440" y="2386080"/>
            <a:ext cx="48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型的发现者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0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奥地利科学家卡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兰德斯坦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9"/>
          <p:cNvSpPr/>
          <p:nvPr/>
        </p:nvSpPr>
        <p:spPr>
          <a:xfrm>
            <a:off x="3673440" y="3268800"/>
            <a:ext cx="48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血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型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型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型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0"/>
          <p:cNvSpPr/>
          <p:nvPr/>
        </p:nvSpPr>
        <p:spPr>
          <a:xfrm>
            <a:off x="2554200" y="370188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安全输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2"/>
          <p:cNvSpPr/>
          <p:nvPr/>
        </p:nvSpPr>
        <p:spPr>
          <a:xfrm>
            <a:off x="3673440" y="3736800"/>
            <a:ext cx="2695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输同型血为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3"/>
          <p:cNvSpPr/>
          <p:nvPr/>
        </p:nvSpPr>
        <p:spPr>
          <a:xfrm>
            <a:off x="3654360" y="4224240"/>
            <a:ext cx="269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成分输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4"/>
          <p:cNvSpPr/>
          <p:nvPr/>
        </p:nvSpPr>
        <p:spPr>
          <a:xfrm>
            <a:off x="2484360" y="4800600"/>
            <a:ext cx="60134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偿献血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成年人每次献血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毫升不会影响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2203560" y="1749600"/>
            <a:ext cx="199800" cy="3501720"/>
          </a:xfrm>
          <a:custGeom>
            <a:avLst/>
            <a:gdLst>
              <a:gd name="textAreaLeft" fmla="*/ 127800 w 199800"/>
              <a:gd name="textAreaRight" fmla="*/ 200160 w 199800"/>
              <a:gd name="textAreaTop" fmla="*/ 27360 h 3501720"/>
              <a:gd name="textAreaBottom" fmla="*/ 3474360 h 35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2"/>
                  <a:pt x="10800" y="543"/>
                </a:cubicBezTo>
                <a:lnTo>
                  <a:pt x="10800" y="10257"/>
                </a:lnTo>
                <a:cubicBezTo>
                  <a:pt x="10800" y="10529"/>
                  <a:pt x="5400" y="10800"/>
                  <a:pt x="0" y="10800"/>
                </a:cubicBezTo>
                <a:cubicBezTo>
                  <a:pt x="5400" y="10800"/>
                  <a:pt x="10800" y="11072"/>
                  <a:pt x="10800" y="11343"/>
                </a:cubicBezTo>
                <a:lnTo>
                  <a:pt x="10800" y="21057"/>
                </a:lnTo>
                <a:cubicBezTo>
                  <a:pt x="10800" y="2132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3435480" y="2608200"/>
            <a:ext cx="218880" cy="982800"/>
          </a:xfrm>
          <a:custGeom>
            <a:avLst/>
            <a:gdLst>
              <a:gd name="textAreaLeft" fmla="*/ 140040 w 218880"/>
              <a:gd name="textAreaRight" fmla="*/ 219240 w 218880"/>
              <a:gd name="textAreaTop" fmla="*/ 30240 h 982800"/>
              <a:gd name="textAreaBottom" fmla="*/ 952560 h 9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8"/>
                  <a:pt x="10800" y="2136"/>
                </a:cubicBezTo>
                <a:lnTo>
                  <a:pt x="10800" y="8664"/>
                </a:lnTo>
                <a:cubicBezTo>
                  <a:pt x="10800" y="9732"/>
                  <a:pt x="5400" y="10800"/>
                  <a:pt x="0" y="10800"/>
                </a:cubicBezTo>
                <a:cubicBezTo>
                  <a:pt x="5400" y="10800"/>
                  <a:pt x="10800" y="11868"/>
                  <a:pt x="10800" y="12936"/>
                </a:cubicBezTo>
                <a:lnTo>
                  <a:pt x="10800" y="19464"/>
                </a:lnTo>
                <a:cubicBezTo>
                  <a:pt x="10800" y="20532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3421080" y="3905280"/>
            <a:ext cx="218880" cy="622440"/>
          </a:xfrm>
          <a:custGeom>
            <a:avLst/>
            <a:gdLst>
              <a:gd name="textAreaLeft" fmla="*/ 140040 w 218880"/>
              <a:gd name="textAreaRight" fmla="*/ 219240 w 218880"/>
              <a:gd name="textAreaTop" fmla="*/ 30240 h 622440"/>
              <a:gd name="textAreaBottom" fmla="*/ 592200 h 62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87"/>
                  <a:pt x="10800" y="3374"/>
                </a:cubicBezTo>
                <a:lnTo>
                  <a:pt x="10800" y="7426"/>
                </a:lnTo>
                <a:cubicBezTo>
                  <a:pt x="10800" y="9113"/>
                  <a:pt x="5400" y="10800"/>
                  <a:pt x="0" y="10800"/>
                </a:cubicBezTo>
                <a:cubicBezTo>
                  <a:pt x="5400" y="10800"/>
                  <a:pt x="10800" y="12487"/>
                  <a:pt x="10800" y="14174"/>
                </a:cubicBezTo>
                <a:lnTo>
                  <a:pt x="10800" y="18226"/>
                </a:lnTo>
                <a:cubicBezTo>
                  <a:pt x="10800" y="19913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1583280" y="128124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型最早是谁发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788560" y="20988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9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奥地利兰德斯坦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622880" y="288936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见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型分成几种类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426760" y="3556080"/>
            <a:ext cx="22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型、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型、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型、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型四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436760" y="422100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输血原则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398600" y="4853160"/>
            <a:ext cx="6191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输同型血为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590400" y="927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2017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日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川九寨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发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级地震。在救灾中，一消防官兵救出了一位大量失血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型重伤者，急需输血。下列供血中，应该输入的血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型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B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型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O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型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AB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5479920" y="216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3649680"/>
            <a:ext cx="787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某一健康的成年人一次失血多少就会引发生命危险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12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毫升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8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毫升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6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毫升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4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1342800" y="430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内容占位符 1"/>
          <p:cNvSpPr/>
          <p:nvPr/>
        </p:nvSpPr>
        <p:spPr>
          <a:xfrm>
            <a:off x="482760" y="890640"/>
            <a:ext cx="817848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d4021f"/>
                </a:solidFill>
                <a:latin typeface="黑体"/>
                <a:ea typeface="黑体"/>
              </a:rPr>
              <a:t>科学史记载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年代的英国，有位医生曾经给一个生命垂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年轻人输羊血，奇迹般地挽救了他的生命。其他医生纷纷效仿，结果却造成大量受血者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18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英国一位医生给一位濒临死亡的产妇输入人血，产妇起死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生。医学界再次掀起输血医疗热，却带来惊人的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0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奥地利人卡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兰德斯坦纳发现健康人的血清对不同人的红细胞有凝集作用。通过大量的实验，卡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兰德斯坦纳提出了人类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O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血型系统，从而打开了科学输血的大门。让我们共同来了解输血与血型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863640" y="2386080"/>
            <a:ext cx="7416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说出人体的血量与输血的关系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说出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ABO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血型的类型以及安全输血的原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认同无偿献血制度，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建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立健康成年公民应当积极参加无偿献血的意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3720960" y="1467000"/>
            <a:ext cx="17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2946240" y="2293920"/>
            <a:ext cx="55245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成人的血量大约是体重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7%~8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失血超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200~150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毫升，有生命危险；超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800~100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毫升，出现头晕、心跳、眼前发黑等症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" descr=""/>
          <p:cNvPicPr/>
          <p:nvPr/>
        </p:nvPicPr>
        <p:blipFill>
          <a:blip r:embed="rId1"/>
          <a:stretch/>
        </p:blipFill>
        <p:spPr>
          <a:xfrm>
            <a:off x="593640" y="2720880"/>
            <a:ext cx="2065320" cy="20653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6147"/>
          <p:cNvGrpSpPr/>
          <p:nvPr/>
        </p:nvGrpSpPr>
        <p:grpSpPr>
          <a:xfrm>
            <a:off x="426960" y="719280"/>
            <a:ext cx="2232360" cy="807480"/>
            <a:chOff x="426960" y="719280"/>
            <a:chExt cx="2232360" cy="807480"/>
          </a:xfrm>
        </p:grpSpPr>
        <p:sp>
          <p:nvSpPr>
            <p:cNvPr id="51" name="矩形 7"/>
            <p:cNvSpPr/>
            <p:nvPr/>
          </p:nvSpPr>
          <p:spPr>
            <a:xfrm>
              <a:off x="986760" y="719280"/>
              <a:ext cx="1672560" cy="7621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6"/>
            <p:cNvSpPr/>
            <p:nvPr/>
          </p:nvSpPr>
          <p:spPr>
            <a:xfrm>
              <a:off x="426960" y="1007640"/>
              <a:ext cx="524160" cy="48240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7"/>
            <p:cNvSpPr/>
            <p:nvPr/>
          </p:nvSpPr>
          <p:spPr>
            <a:xfrm>
              <a:off x="788760" y="95652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6151"/>
            <p:cNvSpPr/>
            <p:nvPr/>
          </p:nvSpPr>
          <p:spPr>
            <a:xfrm>
              <a:off x="1341360" y="993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血量和输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6152"/>
            <p:cNvSpPr/>
            <p:nvPr/>
          </p:nvSpPr>
          <p:spPr>
            <a:xfrm>
              <a:off x="426960" y="10062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16040" y="379584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红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740120" y="3770280"/>
            <a:ext cx="115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血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661080" y="318600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凝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659640" y="4187880"/>
            <a:ext cx="179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不凝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732120" y="4068720"/>
            <a:ext cx="1008000" cy="0"/>
          </a:xfrm>
          <a:prstGeom prst="line">
            <a:avLst/>
          </a:prstGeom>
          <a:ln w="38160">
            <a:solidFill>
              <a:srgbClr val="38572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5654520" y="3473280"/>
            <a:ext cx="1005120" cy="463680"/>
          </a:xfrm>
          <a:prstGeom prst="line">
            <a:avLst/>
          </a:prstGeom>
          <a:ln w="38160">
            <a:solidFill>
              <a:srgbClr val="38572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654520" y="4187880"/>
            <a:ext cx="1005120" cy="298440"/>
          </a:xfrm>
          <a:prstGeom prst="line">
            <a:avLst/>
          </a:prstGeom>
          <a:ln w="38160">
            <a:solidFill>
              <a:srgbClr val="38572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832200" y="3535200"/>
            <a:ext cx="100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遇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2413080" y="1895400"/>
            <a:ext cx="5732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90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年，奥地利科学家卡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兰德斯坦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实验中发现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7" descr=""/>
          <p:cNvPicPr/>
          <p:nvPr/>
        </p:nvPicPr>
        <p:blipFill>
          <a:blip r:embed="rId1"/>
          <a:stretch/>
        </p:blipFill>
        <p:spPr>
          <a:xfrm>
            <a:off x="750960" y="1698480"/>
            <a:ext cx="1566720" cy="2238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147840" y="505620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凝集成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pic_74581"/>
          <p:cNvPicPr/>
          <p:nvPr/>
        </p:nvPicPr>
        <p:blipFill>
          <a:blip r:embed="rId2"/>
          <a:stretch/>
        </p:blipFill>
        <p:spPr>
          <a:xfrm>
            <a:off x="633240" y="4187880"/>
            <a:ext cx="2341800" cy="219708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6147"/>
          <p:cNvGrpSpPr/>
          <p:nvPr/>
        </p:nvGrpSpPr>
        <p:grpSpPr>
          <a:xfrm>
            <a:off x="554040" y="639720"/>
            <a:ext cx="2230560" cy="807120"/>
            <a:chOff x="554040" y="639720"/>
            <a:chExt cx="2230560" cy="807120"/>
          </a:xfrm>
        </p:grpSpPr>
        <p:sp>
          <p:nvSpPr>
            <p:cNvPr id="70" name="矩形 7"/>
            <p:cNvSpPr/>
            <p:nvPr/>
          </p:nvSpPr>
          <p:spPr>
            <a:xfrm>
              <a:off x="1113480" y="639720"/>
              <a:ext cx="167112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16"/>
            <p:cNvSpPr/>
            <p:nvPr/>
          </p:nvSpPr>
          <p:spPr>
            <a:xfrm>
              <a:off x="554040" y="927360"/>
              <a:ext cx="52380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7"/>
            <p:cNvSpPr/>
            <p:nvPr/>
          </p:nvSpPr>
          <p:spPr>
            <a:xfrm>
              <a:off x="915480" y="87660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6151"/>
            <p:cNvSpPr/>
            <p:nvPr/>
          </p:nvSpPr>
          <p:spPr>
            <a:xfrm>
              <a:off x="1254240" y="913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血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6152"/>
            <p:cNvSpPr/>
            <p:nvPr/>
          </p:nvSpPr>
          <p:spPr>
            <a:xfrm>
              <a:off x="554040" y="9262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712800" y="1125360"/>
            <a:ext cx="7605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兰德斯坦纳发现血液有不同的类型，他将它们分为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型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型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型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型，这就是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B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血型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5751360" y="3770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血型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型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型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型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812880" y="3068640"/>
            <a:ext cx="4619520" cy="260208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2"/>
          <p:cNvSpPr/>
          <p:nvPr/>
        </p:nvSpPr>
        <p:spPr>
          <a:xfrm>
            <a:off x="4299120" y="2087640"/>
            <a:ext cx="3429000" cy="1417680"/>
          </a:xfrm>
          <a:prstGeom prst="ellipse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 Black"/>
                <a:ea typeface="黑体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Arial Black"/>
                <a:ea typeface="黑体"/>
              </a:rPr>
              <a:t>输血前必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 Black"/>
                <a:ea typeface="黑体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Arial Black"/>
                <a:ea typeface="黑体"/>
              </a:rPr>
              <a:t>要做的是什么事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619280" y="246204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验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67200" y="3784680"/>
            <a:ext cx="44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型不合，受血者体内存在的抗体与输入的红细胞抗原会发生凝集反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287496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6147"/>
          <p:cNvGrpSpPr/>
          <p:nvPr/>
        </p:nvGrpSpPr>
        <p:grpSpPr>
          <a:xfrm>
            <a:off x="517680" y="792000"/>
            <a:ext cx="2232000" cy="807120"/>
            <a:chOff x="517680" y="792000"/>
            <a:chExt cx="2232000" cy="807120"/>
          </a:xfrm>
        </p:grpSpPr>
        <p:sp>
          <p:nvSpPr>
            <p:cNvPr id="85" name="矩形 7"/>
            <p:cNvSpPr/>
            <p:nvPr/>
          </p:nvSpPr>
          <p:spPr>
            <a:xfrm>
              <a:off x="1077480" y="792000"/>
              <a:ext cx="167220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16"/>
            <p:cNvSpPr/>
            <p:nvPr/>
          </p:nvSpPr>
          <p:spPr>
            <a:xfrm>
              <a:off x="517680" y="107964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7"/>
            <p:cNvSpPr/>
            <p:nvPr/>
          </p:nvSpPr>
          <p:spPr>
            <a:xfrm>
              <a:off x="879480" y="102888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6151"/>
            <p:cNvSpPr/>
            <p:nvPr/>
          </p:nvSpPr>
          <p:spPr>
            <a:xfrm>
              <a:off x="1360440" y="1065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安全输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6152"/>
            <p:cNvSpPr/>
            <p:nvPr/>
          </p:nvSpPr>
          <p:spPr>
            <a:xfrm>
              <a:off x="517680" y="107856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21000" y="743040"/>
            <a:ext cx="266688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输血关系表：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Rectangle 38"/>
          <p:cNvSpPr/>
          <p:nvPr/>
        </p:nvSpPr>
        <p:spPr>
          <a:xfrm>
            <a:off x="1114560" y="4387680"/>
            <a:ext cx="691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安全输血以输入同型血为原则。在没有同型血可输而且情况紧急时，任何血型的人都可以缓慢输入少量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型血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型血的人也可缓慢输入少量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型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型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型三种血。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87280" y="1244520"/>
          <a:ext cx="6769080" cy="2805120"/>
        </p:xfrm>
        <a:graphic>
          <a:graphicData uri="http://schemas.openxmlformats.org/drawingml/2006/table">
            <a:tbl>
              <a:tblPr/>
              <a:tblGrid>
                <a:gridCol w="1784520"/>
                <a:gridCol w="2338200"/>
                <a:gridCol w="2646360"/>
              </a:tblGrid>
              <a:tr h="876240"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d0d0d"/>
                          </a:solidFill>
                          <a:latin typeface="黑体"/>
                          <a:ea typeface="黑体"/>
                        </a:rPr>
                        <a:t>某人的血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d0d0d"/>
                          </a:solidFill>
                          <a:latin typeface="黑体"/>
                          <a:ea typeface="黑体"/>
                        </a:rPr>
                        <a:t>可接受的血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d0d0d"/>
                          </a:solidFill>
                          <a:latin typeface="黑体"/>
                          <a:ea typeface="黑体"/>
                        </a:rPr>
                        <a:t>可输给的血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93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93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93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AB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93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1368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AB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93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文本框 4103"/>
          <p:cNvSpPr/>
          <p:nvPr/>
        </p:nvSpPr>
        <p:spPr>
          <a:xfrm>
            <a:off x="106200" y="-2700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0461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039040" y="1557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Black"/>
                <a:ea typeface="黑体"/>
              </a:rPr>
              <a:t>我国何时实行无偿献血制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710360" y="2066760"/>
            <a:ext cx="25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998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华人民共和国献血法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92240" y="363852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Black"/>
                <a:ea typeface="黑体"/>
              </a:rPr>
              <a:t>什么样的人可参加献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014480" y="4167360"/>
            <a:ext cx="398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提倡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岁符合体检标准的健康公民自愿献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献血车"/>
          <p:cNvPicPr/>
          <p:nvPr/>
        </p:nvPicPr>
        <p:blipFill>
          <a:blip r:embed="rId1"/>
          <a:srcRect l="4488" t="2882" r="2058" b="6923"/>
          <a:stretch/>
        </p:blipFill>
        <p:spPr>
          <a:xfrm>
            <a:off x="5219640" y="2789280"/>
            <a:ext cx="3122640" cy="251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2T02:06:58Z</dcterms:modified>
  <cp:revision>9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