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ECD-C6F9-4249-9DBC-E7EF897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9AD-E0E6-4AED-843B-EE7DE11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88E-20AE-4855-A643-BDB31E53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1DA-082C-479D-B432-305654EB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584-67AB-4126-A352-FC07415A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41A-F38C-4651-8764-23363DE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18F-23A8-4E91-B32C-48BAB62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E8B-CD83-4BC1-A115-008C3343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455-D552-4536-89D8-C4E56E3D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EFB-15BC-468B-9EE8-D57F9D93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BEE-E2F8-4231-A902-6FEB92BD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04C-B2A6-44FE-B5EF-2CAD5BD9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1909-2441-4428-915C-CB3913D2DB9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D2C-AB2D-4E0B-84F6-96A64224FA8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25800" y="2782440"/>
            <a:ext cx="35236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节  消化和吸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课时 人体的消化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360" y="1805040"/>
            <a:ext cx="71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二章  人体的营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6"/>
          <p:cNvSpPr/>
          <p:nvPr/>
        </p:nvSpPr>
        <p:spPr>
          <a:xfrm>
            <a:off x="357120" y="928800"/>
            <a:ext cx="8742600" cy="51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消化道中各器官的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牙齿咀嚼食物，舌搅拌食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咽：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食物的通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道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能蠕动，将食物推入胃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胃：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通过蠕动搅磨食物，使食物与胃液充分混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肠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通过蠕动，促进消化，吸收营养物质，并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81f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剩余物推入大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肠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通过蠕动，将食物残渣推向肛门，粪便通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81f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肛门排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8007840" y="75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8101080" y="15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8019000" y="235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8124840" y="322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8011080" y="4143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8019000" y="4986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079480" y="578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肛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下箭头 14"/>
          <p:cNvSpPr/>
          <p:nvPr/>
        </p:nvSpPr>
        <p:spPr>
          <a:xfrm>
            <a:off x="8086680" y="12142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下箭头 15"/>
          <p:cNvSpPr/>
          <p:nvPr/>
        </p:nvSpPr>
        <p:spPr>
          <a:xfrm>
            <a:off x="8129520" y="20145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下箭头 16"/>
          <p:cNvSpPr/>
          <p:nvPr/>
        </p:nvSpPr>
        <p:spPr>
          <a:xfrm>
            <a:off x="8158320" y="285768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下箭头 17"/>
          <p:cNvSpPr/>
          <p:nvPr/>
        </p:nvSpPr>
        <p:spPr>
          <a:xfrm>
            <a:off x="8170920" y="3755880"/>
            <a:ext cx="357120" cy="3574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下箭头 18"/>
          <p:cNvSpPr/>
          <p:nvPr/>
        </p:nvSpPr>
        <p:spPr>
          <a:xfrm>
            <a:off x="8201160" y="46292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下箭头 19"/>
          <p:cNvSpPr/>
          <p:nvPr/>
        </p:nvSpPr>
        <p:spPr>
          <a:xfrm>
            <a:off x="8215200" y="5443560"/>
            <a:ext cx="3574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285840" y="157464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唾液腺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分泌唾液。唾液中的唾液淀粉酶能够初步消化淀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  脏：分泌胆汁，胆汁储藏在胆囊中，经导管流入十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肠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胃  腺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分泌胃液。胃液中含有盐酸和蛋白酶，可初步消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81f"/>
                </a:solidFill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蛋白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胰  腺：可以分泌胰液。胰液中含有消化糖类、蛋白质和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肪的酶。胰液通过导管流入十二指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肠  腺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分泌肠液。肠液中含有消化糖类、蛋白质和脂肪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81f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3490920" y="82080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消化腺中各器官的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14200" y="78552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200000"/>
              </a:lnSpc>
              <a:spcBef>
                <a:spcPts val="1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实验目的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究馒头变甜是否与牙齿的咀嚼和舌的搅拌有关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馒头变甜是否与唾液有关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200000"/>
              </a:lnSpc>
              <a:spcBef>
                <a:spcPts val="14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实验原理：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淀粉是馒头的主要成分，淀粉分解形成麦芽糖，淀</a:t>
            </a:r>
            <a:r>
              <a:rPr b="0" lang="en-US" sz="2400" spc="-1" strike="noStrike">
                <a:solidFill>
                  <a:srgbClr val="f8081f"/>
                </a:solidFill>
                <a:latin typeface="黑体"/>
              </a:rPr>
              <a:t>	</a:t>
            </a:r>
            <a:r>
              <a:rPr b="0" lang="en-US" sz="2400" spc="-1" strike="noStrike">
                <a:solidFill>
                  <a:srgbClr val="f8081f"/>
                </a:solidFill>
                <a:latin typeface="黑体"/>
              </a:rPr>
              <a:t>    </a:t>
            </a: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粉遇碘变蓝，麦芽糖遇碘不变蓝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500040" y="5072040"/>
            <a:ext cx="8286840" cy="1227240"/>
          </a:xfrm>
          <a:prstGeom prst="rect">
            <a:avLst/>
          </a:prstGeom>
          <a:noFill/>
          <a:ln w="25560">
            <a:solidFill>
              <a:srgbClr val="c55a1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温馨提示：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牙齿的咀嚼、舌的搅拌和唾液的混合都是在口腔中进行的。口腔的温度大约是</a:t>
            </a:r>
            <a:r>
              <a:rPr b="0" lang="en-US" sz="2400" spc="-1" strike="noStrike">
                <a:solidFill>
                  <a:srgbClr val="44546a"/>
                </a:solidFill>
                <a:latin typeface="黑体"/>
                <a:ea typeface="黑体"/>
              </a:rPr>
              <a:t>37℃</a:t>
            </a:r>
            <a:r>
              <a:rPr b="0" lang="zh-CN" sz="2400" spc="-1" strike="noStrike">
                <a:solidFill>
                  <a:srgbClr val="44546a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6147"/>
          <p:cNvGrpSpPr/>
          <p:nvPr/>
        </p:nvGrpSpPr>
        <p:grpSpPr>
          <a:xfrm>
            <a:off x="398520" y="584280"/>
            <a:ext cx="3868920" cy="806760"/>
            <a:chOff x="398520" y="584280"/>
            <a:chExt cx="3868920" cy="806760"/>
          </a:xfrm>
        </p:grpSpPr>
        <p:sp>
          <p:nvSpPr>
            <p:cNvPr id="162" name="矩形 7"/>
            <p:cNvSpPr/>
            <p:nvPr/>
          </p:nvSpPr>
          <p:spPr>
            <a:xfrm>
              <a:off x="958320" y="584280"/>
              <a:ext cx="1672200" cy="7596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6"/>
            <p:cNvSpPr/>
            <p:nvPr/>
          </p:nvSpPr>
          <p:spPr>
            <a:xfrm>
              <a:off x="398520" y="871560"/>
              <a:ext cx="524160" cy="4809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760320" y="8208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6151"/>
            <p:cNvSpPr/>
            <p:nvPr/>
          </p:nvSpPr>
          <p:spPr>
            <a:xfrm>
              <a:off x="1739880" y="8575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食物在消化系统中的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6152"/>
            <p:cNvSpPr/>
            <p:nvPr/>
          </p:nvSpPr>
          <p:spPr>
            <a:xfrm>
              <a:off x="398520" y="8704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5"/>
          <p:cNvSpPr/>
          <p:nvPr/>
        </p:nvSpPr>
        <p:spPr>
          <a:xfrm>
            <a:off x="2071800" y="4014720"/>
            <a:ext cx="214200" cy="17146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4786200" y="4014720"/>
            <a:ext cx="216000" cy="18003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6443640" y="4019400"/>
            <a:ext cx="216000" cy="180036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30120" y="4229280"/>
            <a:ext cx="14763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馒头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碎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毫升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唾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充分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搅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3071880" y="4443480"/>
            <a:ext cx="147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馒头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碎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毫升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清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充分搅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7184880" y="4448160"/>
            <a:ext cx="1476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块状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馒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毫升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唾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不搅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785960" y="5657760"/>
            <a:ext cx="115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4500720" y="5729400"/>
            <a:ext cx="115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162840" y="5692680"/>
            <a:ext cx="1152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85840" y="714240"/>
            <a:ext cx="7929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实验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55a1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新鲜的馒头，切成大小相同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小块。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块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块分别用刀细细切碎；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块不做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55a1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消毒棉从口腔内部取出唾液并挤压到烧杯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55a1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支试管放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7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左右的温水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5-1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后取出并各加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滴碘液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摇匀。观察各试管中的颜色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9"/>
          <p:cNvSpPr/>
          <p:nvPr/>
        </p:nvSpPr>
        <p:spPr>
          <a:xfrm flipV="1">
            <a:off x="1806480" y="4871520"/>
            <a:ext cx="265320" cy="11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20"/>
          <p:cNvSpPr/>
          <p:nvPr/>
        </p:nvSpPr>
        <p:spPr>
          <a:xfrm flipV="1">
            <a:off x="4500720" y="4871520"/>
            <a:ext cx="264960" cy="11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1"/>
          <p:cNvSpPr/>
          <p:nvPr/>
        </p:nvSpPr>
        <p:spPr>
          <a:xfrm>
            <a:off x="6715080" y="4811760"/>
            <a:ext cx="469800" cy="2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7"/>
          <p:cNvSpPr/>
          <p:nvPr/>
        </p:nvSpPr>
        <p:spPr>
          <a:xfrm>
            <a:off x="571680" y="642960"/>
            <a:ext cx="771516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实验结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管内颜色最浅，通过搅拌、加唾液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馒头中的淀粉分解成麦芽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管内颜色最深，通过搅拌、加清水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馒头中的淀粉基本没有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管内颜色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管深，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管浅。无切碎、无搅拌、加唾液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馒头中的淀粉没有充分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实验结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71600" y="53546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淀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206960" y="57722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567240" y="4994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唾液淀粉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6303960" y="542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081f"/>
                </a:solidFill>
                <a:latin typeface="黑体"/>
                <a:ea typeface="黑体"/>
              </a:rPr>
              <a:t>麦芽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右箭头 25"/>
          <p:cNvSpPr/>
          <p:nvPr/>
        </p:nvSpPr>
        <p:spPr>
          <a:xfrm>
            <a:off x="3486240" y="5429160"/>
            <a:ext cx="3143160" cy="357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6"/>
          <p:cNvSpPr/>
          <p:nvPr/>
        </p:nvSpPr>
        <p:spPr>
          <a:xfrm>
            <a:off x="642960" y="521496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馒头变甜与唾液的分泌以及牙齿的咀嚼和舌的搅拌都有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"/>
                            </p:stCondLst>
                            <p:childTnLst>
                              <p:par>
                                <p:cTn id="3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1"/>
                            </p:stCondLst>
                            <p:childTnLst>
                              <p:par>
                                <p:cTn id="3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1"/>
                            </p:stCondLst>
                            <p:childTnLst>
                              <p:par>
                                <p:cTn id="3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2"/>
          <p:cNvSpPr/>
          <p:nvPr/>
        </p:nvSpPr>
        <p:spPr>
          <a:xfrm>
            <a:off x="1657440" y="2098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657440" y="3557520"/>
            <a:ext cx="25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系统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4141800" y="2819520"/>
            <a:ext cx="462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：口腔、咽、食道、胃、小肠、大肠、肛门等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腺：唾液腺、肝、胰等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1657440" y="49514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究馒头在口腔中的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"/>
          <p:cNvSpPr/>
          <p:nvPr/>
        </p:nvSpPr>
        <p:spPr>
          <a:xfrm>
            <a:off x="4141800" y="1914480"/>
            <a:ext cx="44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在消化道内分解成可以被细胞吸收的物质的过程叫消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935520" y="3003480"/>
            <a:ext cx="206280" cy="1568520"/>
          </a:xfrm>
          <a:custGeom>
            <a:avLst/>
            <a:gdLst>
              <a:gd name="textAreaLeft" fmla="*/ 131760 w 206280"/>
              <a:gd name="textAreaRight" fmla="*/ 206640 w 206280"/>
              <a:gd name="textAreaTop" fmla="*/ 35640 h 1568520"/>
              <a:gd name="textAreaBottom" fmla="*/ 1532880 h 15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2"/>
                  <a:pt x="10800" y="1583"/>
                </a:cubicBezTo>
                <a:lnTo>
                  <a:pt x="10800" y="9217"/>
                </a:lnTo>
                <a:cubicBezTo>
                  <a:pt x="10800" y="10009"/>
                  <a:pt x="5400" y="10800"/>
                  <a:pt x="0" y="10800"/>
                </a:cubicBezTo>
                <a:cubicBezTo>
                  <a:pt x="5400" y="10800"/>
                  <a:pt x="10800" y="11592"/>
                  <a:pt x="10800" y="12383"/>
                </a:cubicBezTo>
                <a:lnTo>
                  <a:pt x="10800" y="20017"/>
                </a:lnTo>
                <a:cubicBezTo>
                  <a:pt x="10800" y="2080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392120" y="2313000"/>
            <a:ext cx="214560" cy="2921040"/>
          </a:xfrm>
          <a:custGeom>
            <a:avLst/>
            <a:gdLst>
              <a:gd name="textAreaLeft" fmla="*/ 137160 w 214560"/>
              <a:gd name="textAreaRight" fmla="*/ 214920 w 214560"/>
              <a:gd name="textAreaTop" fmla="*/ 37080 h 2921040"/>
              <a:gd name="textAreaBottom" fmla="*/ 2883960 h 29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1"/>
                  <a:pt x="10800" y="881"/>
                </a:cubicBezTo>
                <a:lnTo>
                  <a:pt x="10800" y="9919"/>
                </a:lnTo>
                <a:cubicBezTo>
                  <a:pt x="10800" y="10360"/>
                  <a:pt x="5400" y="10800"/>
                  <a:pt x="0" y="10800"/>
                </a:cubicBezTo>
                <a:cubicBezTo>
                  <a:pt x="5400" y="10800"/>
                  <a:pt x="10800" y="11241"/>
                  <a:pt x="10800" y="11681"/>
                </a:cubicBezTo>
                <a:lnTo>
                  <a:pt x="10800" y="20719"/>
                </a:lnTo>
                <a:cubicBezTo>
                  <a:pt x="10800" y="211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右箭头 3"/>
          <p:cNvSpPr/>
          <p:nvPr/>
        </p:nvSpPr>
        <p:spPr>
          <a:xfrm>
            <a:off x="3456000" y="2185920"/>
            <a:ext cx="649440" cy="289080"/>
          </a:xfrm>
          <a:prstGeom prst="rightArrow">
            <a:avLst>
              <a:gd name="adj1" fmla="val 50000"/>
              <a:gd name="adj2" fmla="val 49976"/>
            </a:avLst>
          </a:pr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"/>
          <p:cNvSpPr/>
          <p:nvPr/>
        </p:nvSpPr>
        <p:spPr>
          <a:xfrm>
            <a:off x="603360" y="2819520"/>
            <a:ext cx="5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和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1"/>
          <p:cNvSpPr/>
          <p:nvPr/>
        </p:nvSpPr>
        <p:spPr>
          <a:xfrm>
            <a:off x="395280" y="3529080"/>
            <a:ext cx="86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馒头在口腔中咀嚼能尝出甜味，这种有甜味的物质是（    ）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淀粉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唾液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麦芽糖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葡萄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395280" y="9842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在消化道内分解成可以被细胞吸收的物质的过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叫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系统由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组成。能分泌胆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消化腺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619280" y="1606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消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484360" y="27208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肝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411280" y="21798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138560" y="21798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消化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188200" y="3673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736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（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2017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上海）位于人体腹腔左上部的器官是（　</a:t>
            </a:r>
            <a:r>
              <a:rPr b="0" lang="en-US" sz="2100" spc="-1" strike="noStrike">
                <a:solidFill>
                  <a:srgbClr val="ff0000"/>
                </a:solidFill>
                <a:latin typeface="Franklin Gothic Medium"/>
              </a:rPr>
              <a:t>A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　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A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胃                 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B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肺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C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肝脏              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D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小肠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09" name="图片 3" descr=""/>
          <p:cNvPicPr/>
          <p:nvPr/>
        </p:nvPicPr>
        <p:blipFill>
          <a:blip r:embed="rId1"/>
          <a:stretch/>
        </p:blipFill>
        <p:spPr>
          <a:xfrm>
            <a:off x="1595520" y="1343160"/>
            <a:ext cx="53316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71520" y="79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如图为消化系统的部分结构，下列有关分析错误的是（　</a:t>
            </a:r>
            <a:r>
              <a:rPr b="0" lang="en-US" sz="2800" spc="-1" strike="noStrike">
                <a:solidFill>
                  <a:srgbClr val="ff0000"/>
                </a:solidFill>
                <a:latin typeface="Franklin Gothic Medium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　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是胆囊，贮存的胆汁能乳化脂肪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是小肠，它的内表面有许多皱襞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是肝脏，属于消化道外的消化腺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是胰腺，分泌的胰液中含胰岛素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1"/>
          <a:stretch/>
        </p:blipFill>
        <p:spPr>
          <a:xfrm>
            <a:off x="1790640" y="1279440"/>
            <a:ext cx="412920" cy="40176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" descr="t0135d62b76c70c57ae"/>
          <p:cNvPicPr/>
          <p:nvPr/>
        </p:nvPicPr>
        <p:blipFill>
          <a:blip r:embed="rId2"/>
          <a:stretch/>
        </p:blipFill>
        <p:spPr>
          <a:xfrm>
            <a:off x="3646440" y="1419120"/>
            <a:ext cx="2828880" cy="21574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"/>
          <p:cNvPicPr/>
          <p:nvPr/>
        </p:nvPicPr>
        <p:blipFill>
          <a:blip r:embed="rId3"/>
          <a:stretch/>
        </p:blipFill>
        <p:spPr>
          <a:xfrm>
            <a:off x="3646440" y="3454560"/>
            <a:ext cx="5796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250920" y="1666800"/>
            <a:ext cx="8424720" cy="3529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p026"/>
          <p:cNvPicPr/>
          <p:nvPr/>
        </p:nvPicPr>
        <p:blipFill>
          <a:blip r:embed="rId1">
            <a:lum contrast="6000"/>
          </a:blip>
          <a:srcRect l="28023" t="5056" r="0" b="0"/>
          <a:stretch/>
        </p:blipFill>
        <p:spPr>
          <a:xfrm>
            <a:off x="2489040" y="2027160"/>
            <a:ext cx="6654960" cy="399420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428760" y="2324160"/>
            <a:ext cx="392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请看右图中一家三口的对话。母亲说的话有道理吗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108000" y="1249200"/>
            <a:ext cx="3008160" cy="8496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4640" y="2439720"/>
            <a:ext cx="69598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描述人体消化系统的组成及功能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概述食物消化的过程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探究馒头在口腔中的变化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3722760" y="160956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817560" y="2000160"/>
            <a:ext cx="75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食物当中有哪些营养物质？我们人体当中有没有这些营养物质？（我们的每一个细胞当中有没有这些营养物质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817560" y="389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不是食物中的营养物质直接就能变成你身体的物质？如此，你吃一块肉，这块肉能不能直接长到你身上？那要经过什么过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矩形 5" descr=""/>
          <p:cNvPicPr/>
          <p:nvPr/>
        </p:nvPicPr>
        <p:blipFill>
          <a:blip r:embed="rId1"/>
          <a:stretch/>
        </p:blipFill>
        <p:spPr>
          <a:xfrm>
            <a:off x="3935520" y="1184400"/>
            <a:ext cx="2090520" cy="674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2"/>
          <a:stretch/>
        </p:blipFill>
        <p:spPr>
          <a:xfrm>
            <a:off x="3112920" y="409680"/>
            <a:ext cx="12225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3273480" y="4219560"/>
            <a:ext cx="1828440" cy="610200"/>
            <a:chOff x="3273480" y="4219560"/>
            <a:chExt cx="1828440" cy="610200"/>
          </a:xfrm>
        </p:grpSpPr>
        <p:sp>
          <p:nvSpPr>
            <p:cNvPr id="57" name="Rectangle 3"/>
            <p:cNvSpPr/>
            <p:nvPr/>
          </p:nvSpPr>
          <p:spPr>
            <a:xfrm>
              <a:off x="3435480" y="4219560"/>
              <a:ext cx="1502280" cy="576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4"/>
            <p:cNvSpPr/>
            <p:nvPr/>
          </p:nvSpPr>
          <p:spPr>
            <a:xfrm>
              <a:off x="3273480" y="4248360"/>
              <a:ext cx="18284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纤维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3129120" y="1411200"/>
            <a:ext cx="4501800" cy="647640"/>
            <a:chOff x="3129120" y="1411200"/>
            <a:chExt cx="4501800" cy="647640"/>
          </a:xfrm>
        </p:grpSpPr>
        <p:sp>
          <p:nvSpPr>
            <p:cNvPr id="60" name="Rectangle 6"/>
            <p:cNvSpPr/>
            <p:nvPr/>
          </p:nvSpPr>
          <p:spPr>
            <a:xfrm>
              <a:off x="3132720" y="1411200"/>
              <a:ext cx="4498200" cy="647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3129120" y="1425240"/>
              <a:ext cx="4218840" cy="581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、糖类、脂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3129120" y="2776680"/>
            <a:ext cx="4190400" cy="581400"/>
            <a:chOff x="3129120" y="2776680"/>
            <a:chExt cx="4190400" cy="581400"/>
          </a:xfrm>
        </p:grpSpPr>
        <p:sp>
          <p:nvSpPr>
            <p:cNvPr id="63" name="Rectangle 9"/>
            <p:cNvSpPr/>
            <p:nvPr/>
          </p:nvSpPr>
          <p:spPr>
            <a:xfrm>
              <a:off x="3137040" y="2779560"/>
              <a:ext cx="4182480" cy="576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3129120" y="2776680"/>
              <a:ext cx="3928680" cy="581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水、无机盐、维生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2624040" y="1700280"/>
            <a:ext cx="4273560" cy="977760"/>
            <a:chOff x="2624040" y="1700280"/>
            <a:chExt cx="4273560" cy="977760"/>
          </a:xfrm>
        </p:grpSpPr>
        <p:sp>
          <p:nvSpPr>
            <p:cNvPr id="66" name="Text Box 13"/>
            <p:cNvSpPr/>
            <p:nvPr/>
          </p:nvSpPr>
          <p:spPr>
            <a:xfrm>
              <a:off x="3081240" y="215748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须消化后才能被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>
              <a:off x="2624040" y="170028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5056"/>
                  <a:lnTo>
                    <a:pt x="14409" y="21169"/>
                  </a:lnTo>
                  <a:lnTo>
                    <a:pt x="21600" y="17280"/>
                  </a:lnTo>
                  <a:lnTo>
                    <a:pt x="14409" y="12529"/>
                  </a:lnTo>
                  <a:lnTo>
                    <a:pt x="14409" y="14689"/>
                  </a:lnTo>
                  <a:arcTo wR="21600" hR="7560" stAng="8114944" swAng="232762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5"/>
          <p:cNvGrpSpPr/>
          <p:nvPr/>
        </p:nvGrpSpPr>
        <p:grpSpPr>
          <a:xfrm>
            <a:off x="2697120" y="3067200"/>
            <a:ext cx="4773600" cy="1053720"/>
            <a:chOff x="2697120" y="3067200"/>
            <a:chExt cx="4773600" cy="1053720"/>
          </a:xfrm>
        </p:grpSpPr>
        <p:sp>
          <p:nvSpPr>
            <p:cNvPr id="69" name="Text Box 16"/>
            <p:cNvSpPr/>
            <p:nvPr/>
          </p:nvSpPr>
          <p:spPr>
            <a:xfrm>
              <a:off x="3078000" y="3600360"/>
              <a:ext cx="43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无需消化即可直接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7"/>
            <p:cNvSpPr/>
            <p:nvPr/>
          </p:nvSpPr>
          <p:spPr>
            <a:xfrm>
              <a:off x="2697120" y="3067200"/>
              <a:ext cx="304920" cy="91404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040"/>
                <a:gd name="textAreaBottom" fmla="*/ 6627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5056"/>
                  <a:lnTo>
                    <a:pt x="14409" y="21169"/>
                  </a:lnTo>
                  <a:lnTo>
                    <a:pt x="21600" y="17280"/>
                  </a:lnTo>
                  <a:lnTo>
                    <a:pt x="14409" y="12529"/>
                  </a:lnTo>
                  <a:lnTo>
                    <a:pt x="14409" y="14689"/>
                  </a:lnTo>
                  <a:arcTo wR="21600" hR="7560" stAng="8114944" swAng="232762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8"/>
          <p:cNvGrpSpPr/>
          <p:nvPr/>
        </p:nvGrpSpPr>
        <p:grpSpPr>
          <a:xfrm>
            <a:off x="2840040" y="4579920"/>
            <a:ext cx="4049280" cy="914400"/>
            <a:chOff x="2840040" y="4579920"/>
            <a:chExt cx="4049280" cy="914400"/>
          </a:xfrm>
        </p:grpSpPr>
        <p:sp>
          <p:nvSpPr>
            <p:cNvPr id="72" name="Text Box 19"/>
            <p:cNvSpPr/>
            <p:nvPr/>
          </p:nvSpPr>
          <p:spPr>
            <a:xfrm>
              <a:off x="3144600" y="4960800"/>
              <a:ext cx="37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不能被消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20"/>
            <p:cNvSpPr/>
            <p:nvPr/>
          </p:nvSpPr>
          <p:spPr>
            <a:xfrm>
              <a:off x="2840040" y="4579920"/>
              <a:ext cx="304560" cy="9144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5056"/>
                  <a:lnTo>
                    <a:pt x="14409" y="21169"/>
                  </a:lnTo>
                  <a:lnTo>
                    <a:pt x="21600" y="17280"/>
                  </a:lnTo>
                  <a:lnTo>
                    <a:pt x="14409" y="12529"/>
                  </a:lnTo>
                  <a:lnTo>
                    <a:pt x="14409" y="14689"/>
                  </a:lnTo>
                  <a:arcTo wR="21600" hR="7560" stAng="8114944" swAng="232762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"/>
          <p:cNvSpPr/>
          <p:nvPr/>
        </p:nvSpPr>
        <p:spPr>
          <a:xfrm>
            <a:off x="1630440" y="1590840"/>
            <a:ext cx="637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食物中的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727200" y="1687680"/>
            <a:ext cx="7721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消化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：食物在消化道内分解成可以被细胞吸收的物质的过程叫消化。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798560" y="3430440"/>
            <a:ext cx="145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大分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AutoShape 12" descr=""/>
          <p:cNvPicPr/>
          <p:nvPr/>
        </p:nvPicPr>
        <p:blipFill>
          <a:blip r:embed="rId1"/>
          <a:stretch/>
        </p:blipFill>
        <p:spPr>
          <a:xfrm>
            <a:off x="2932200" y="3430440"/>
            <a:ext cx="2844720" cy="668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6318720" y="344016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小分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4231800" y="304020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621400" y="4195800"/>
            <a:ext cx="2004840" cy="209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1461960" y="4195800"/>
            <a:ext cx="3754440" cy="2093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308400" y="662040"/>
            <a:ext cx="255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黑体"/>
                <a:ea typeface="黑体"/>
              </a:rPr>
              <a:t>何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谓</a:t>
            </a:r>
            <a:r>
              <a:rPr b="1" lang="zh-TW" sz="3200" spc="-1" strike="noStrike">
                <a:solidFill>
                  <a:srgbClr val="ff0000"/>
                </a:solidFill>
                <a:latin typeface="黑体"/>
                <a:ea typeface="黑体"/>
              </a:rPr>
              <a:t>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976480" y="5848200"/>
            <a:ext cx="25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消化道的组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胃"/>
          <p:cNvPicPr/>
          <p:nvPr/>
        </p:nvPicPr>
        <p:blipFill>
          <a:blip r:embed="rId1">
            <a:lum contrast="24000"/>
          </a:blip>
          <a:srcRect l="25222" t="6106" r="22208" b="7313"/>
          <a:stretch/>
        </p:blipFill>
        <p:spPr>
          <a:xfrm>
            <a:off x="2620800" y="1365120"/>
            <a:ext cx="2881440" cy="44229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4"/>
          <p:cNvGrpSpPr/>
          <p:nvPr/>
        </p:nvGrpSpPr>
        <p:grpSpPr>
          <a:xfrm>
            <a:off x="4240080" y="1554120"/>
            <a:ext cx="2962080" cy="489960"/>
            <a:chOff x="4240080" y="1554120"/>
            <a:chExt cx="2962080" cy="489960"/>
          </a:xfrm>
        </p:grpSpPr>
        <p:sp>
          <p:nvSpPr>
            <p:cNvPr id="88" name="Line 5"/>
            <p:cNvSpPr/>
            <p:nvPr/>
          </p:nvSpPr>
          <p:spPr>
            <a:xfrm>
              <a:off x="4240080" y="1854360"/>
              <a:ext cx="180252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6072120" y="1554120"/>
              <a:ext cx="1130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3879720" y="1978200"/>
            <a:ext cx="2658960" cy="505800"/>
            <a:chOff x="3879720" y="1978200"/>
            <a:chExt cx="2658960" cy="505800"/>
          </a:xfrm>
        </p:grpSpPr>
        <p:sp>
          <p:nvSpPr>
            <p:cNvPr id="91" name="Line 8"/>
            <p:cNvSpPr/>
            <p:nvPr/>
          </p:nvSpPr>
          <p:spPr>
            <a:xfrm>
              <a:off x="4599000" y="2214720"/>
              <a:ext cx="144468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6159960" y="199404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3879720" y="1978200"/>
              <a:ext cx="719280" cy="23652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0"/>
          <p:cNvGrpSpPr/>
          <p:nvPr/>
        </p:nvGrpSpPr>
        <p:grpSpPr>
          <a:xfrm>
            <a:off x="3879720" y="2443320"/>
            <a:ext cx="3633480" cy="489960"/>
            <a:chOff x="3879720" y="2443320"/>
            <a:chExt cx="3633480" cy="489960"/>
          </a:xfrm>
        </p:grpSpPr>
        <p:sp>
          <p:nvSpPr>
            <p:cNvPr id="95" name="Line 11"/>
            <p:cNvSpPr/>
            <p:nvPr/>
          </p:nvSpPr>
          <p:spPr>
            <a:xfrm>
              <a:off x="3879720" y="2719440"/>
              <a:ext cx="218484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6037920" y="2443320"/>
              <a:ext cx="147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食道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4167360" y="3376440"/>
            <a:ext cx="2371320" cy="489960"/>
            <a:chOff x="4167360" y="3376440"/>
            <a:chExt cx="2371320" cy="489960"/>
          </a:xfrm>
        </p:grpSpPr>
        <p:sp>
          <p:nvSpPr>
            <p:cNvPr id="98" name="Line 14"/>
            <p:cNvSpPr/>
            <p:nvPr/>
          </p:nvSpPr>
          <p:spPr>
            <a:xfrm>
              <a:off x="4167360" y="3654000"/>
              <a:ext cx="187632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6159960" y="3376440"/>
              <a:ext cx="37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4167360" y="4406760"/>
            <a:ext cx="3237840" cy="489960"/>
            <a:chOff x="4167360" y="4406760"/>
            <a:chExt cx="3237840" cy="489960"/>
          </a:xfrm>
        </p:grpSpPr>
        <p:sp>
          <p:nvSpPr>
            <p:cNvPr id="101" name="Line 17"/>
            <p:cNvSpPr/>
            <p:nvPr/>
          </p:nvSpPr>
          <p:spPr>
            <a:xfrm>
              <a:off x="4167360" y="4735080"/>
              <a:ext cx="189288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6071400" y="4406760"/>
              <a:ext cx="133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9"/>
          <p:cNvGrpSpPr/>
          <p:nvPr/>
        </p:nvGrpSpPr>
        <p:grpSpPr>
          <a:xfrm>
            <a:off x="4311720" y="4903920"/>
            <a:ext cx="3955680" cy="489960"/>
            <a:chOff x="4311720" y="4903920"/>
            <a:chExt cx="3955680" cy="489960"/>
          </a:xfrm>
        </p:grpSpPr>
        <p:sp>
          <p:nvSpPr>
            <p:cNvPr id="104" name="Line 20"/>
            <p:cNvSpPr/>
            <p:nvPr/>
          </p:nvSpPr>
          <p:spPr>
            <a:xfrm>
              <a:off x="4311720" y="5167440"/>
              <a:ext cx="174636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1"/>
            <p:cNvSpPr/>
            <p:nvPr/>
          </p:nvSpPr>
          <p:spPr>
            <a:xfrm>
              <a:off x="6138000" y="4903920"/>
              <a:ext cx="2129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大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2"/>
          <p:cNvGrpSpPr/>
          <p:nvPr/>
        </p:nvGrpSpPr>
        <p:grpSpPr>
          <a:xfrm>
            <a:off x="3879720" y="5356080"/>
            <a:ext cx="3744720" cy="489960"/>
            <a:chOff x="3879720" y="5356080"/>
            <a:chExt cx="3744720" cy="489960"/>
          </a:xfrm>
        </p:grpSpPr>
        <p:sp>
          <p:nvSpPr>
            <p:cNvPr id="107" name="Line 23"/>
            <p:cNvSpPr/>
            <p:nvPr/>
          </p:nvSpPr>
          <p:spPr>
            <a:xfrm>
              <a:off x="3879720" y="5598720"/>
              <a:ext cx="218484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4"/>
            <p:cNvSpPr/>
            <p:nvPr/>
          </p:nvSpPr>
          <p:spPr>
            <a:xfrm>
              <a:off x="6149520" y="5356080"/>
              <a:ext cx="1474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肛门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6147"/>
          <p:cNvGrpSpPr/>
          <p:nvPr/>
        </p:nvGrpSpPr>
        <p:grpSpPr>
          <a:xfrm>
            <a:off x="330120" y="557280"/>
            <a:ext cx="2730240" cy="806760"/>
            <a:chOff x="330120" y="557280"/>
            <a:chExt cx="2730240" cy="806760"/>
          </a:xfrm>
        </p:grpSpPr>
        <p:sp>
          <p:nvSpPr>
            <p:cNvPr id="110" name="矩形 7"/>
            <p:cNvSpPr/>
            <p:nvPr/>
          </p:nvSpPr>
          <p:spPr>
            <a:xfrm>
              <a:off x="889920" y="557280"/>
              <a:ext cx="1672200" cy="7603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6"/>
            <p:cNvSpPr/>
            <p:nvPr/>
          </p:nvSpPr>
          <p:spPr>
            <a:xfrm>
              <a:off x="330120" y="84492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7"/>
            <p:cNvSpPr/>
            <p:nvPr/>
          </p:nvSpPr>
          <p:spPr>
            <a:xfrm>
              <a:off x="691920" y="79416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151"/>
            <p:cNvSpPr/>
            <p:nvPr/>
          </p:nvSpPr>
          <p:spPr>
            <a:xfrm>
              <a:off x="1386000" y="830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消化系统的组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6152"/>
            <p:cNvSpPr/>
            <p:nvPr/>
          </p:nvSpPr>
          <p:spPr>
            <a:xfrm>
              <a:off x="330120" y="8434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胃"/>
          <p:cNvPicPr/>
          <p:nvPr/>
        </p:nvPicPr>
        <p:blipFill>
          <a:blip r:embed="rId1">
            <a:lum contrast="24000"/>
          </a:blip>
          <a:srcRect l="25222" t="6106" r="22208" b="7313"/>
          <a:stretch/>
        </p:blipFill>
        <p:spPr>
          <a:xfrm>
            <a:off x="2620800" y="1652760"/>
            <a:ext cx="2881440" cy="44226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3836880" y="1611360"/>
            <a:ext cx="2812680" cy="489960"/>
            <a:chOff x="3836880" y="1611360"/>
            <a:chExt cx="2812680" cy="489960"/>
          </a:xfrm>
        </p:grpSpPr>
        <p:sp>
          <p:nvSpPr>
            <p:cNvPr id="118" name="Line 7"/>
            <p:cNvSpPr/>
            <p:nvPr/>
          </p:nvSpPr>
          <p:spPr>
            <a:xfrm>
              <a:off x="3836880" y="1917000"/>
              <a:ext cx="1496520" cy="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5328360" y="1611360"/>
              <a:ext cx="1321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唾液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4062240" y="3652920"/>
            <a:ext cx="2229120" cy="489960"/>
            <a:chOff x="4062240" y="3652920"/>
            <a:chExt cx="2229120" cy="489960"/>
          </a:xfrm>
        </p:grpSpPr>
        <p:sp>
          <p:nvSpPr>
            <p:cNvPr id="121" name="Line 10"/>
            <p:cNvSpPr/>
            <p:nvPr/>
          </p:nvSpPr>
          <p:spPr>
            <a:xfrm flipV="1">
              <a:off x="4062240" y="3929040"/>
              <a:ext cx="1271880" cy="1224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5337000" y="3652920"/>
              <a:ext cx="95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胃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4229280" y="4227480"/>
            <a:ext cx="2048760" cy="489960"/>
            <a:chOff x="4229280" y="4227480"/>
            <a:chExt cx="2048760" cy="489960"/>
          </a:xfrm>
        </p:grpSpPr>
        <p:sp>
          <p:nvSpPr>
            <p:cNvPr id="124" name="Line 13"/>
            <p:cNvSpPr/>
            <p:nvPr/>
          </p:nvSpPr>
          <p:spPr>
            <a:xfrm flipV="1">
              <a:off x="4554360" y="4496400"/>
              <a:ext cx="792000" cy="900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5349600" y="4227480"/>
              <a:ext cx="92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胰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4229280" y="4371120"/>
              <a:ext cx="325080" cy="13464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4022640" y="4800600"/>
            <a:ext cx="2290320" cy="489960"/>
            <a:chOff x="4022640" y="4800600"/>
            <a:chExt cx="2290320" cy="489960"/>
          </a:xfrm>
        </p:grpSpPr>
        <p:sp>
          <p:nvSpPr>
            <p:cNvPr id="128" name="Line 16"/>
            <p:cNvSpPr/>
            <p:nvPr/>
          </p:nvSpPr>
          <p:spPr>
            <a:xfrm>
              <a:off x="4022640" y="5105160"/>
              <a:ext cx="1306440" cy="1944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5362560" y="4800600"/>
              <a:ext cx="95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肠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2043000" y="2590920"/>
            <a:ext cx="1271520" cy="1272600"/>
            <a:chOff x="2043000" y="2590920"/>
            <a:chExt cx="1271520" cy="1272600"/>
          </a:xfrm>
        </p:grpSpPr>
        <p:sp>
          <p:nvSpPr>
            <p:cNvPr id="131" name="Line 22"/>
            <p:cNvSpPr/>
            <p:nvPr/>
          </p:nvSpPr>
          <p:spPr>
            <a:xfrm flipH="1" flipV="1">
              <a:off x="2895480" y="3109680"/>
              <a:ext cx="419040" cy="753840"/>
            </a:xfrm>
            <a:prstGeom prst="line">
              <a:avLst/>
            </a:prstGeom>
            <a:ln w="25560">
              <a:solidFill>
                <a:srgbClr val="3857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3"/>
            <p:cNvSpPr/>
            <p:nvPr/>
          </p:nvSpPr>
          <p:spPr>
            <a:xfrm flipH="1">
              <a:off x="2043000" y="2590920"/>
              <a:ext cx="1155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肝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2"/>
          <p:cNvSpPr/>
          <p:nvPr/>
        </p:nvSpPr>
        <p:spPr>
          <a:xfrm>
            <a:off x="3127320" y="836640"/>
            <a:ext cx="252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消化腺的组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胃"/>
          <p:cNvPicPr/>
          <p:nvPr/>
        </p:nvPicPr>
        <p:blipFill>
          <a:blip r:embed="rId1">
            <a:lum contrast="24000"/>
          </a:blip>
          <a:srcRect l="25219" t="6104" r="22209" b="7317"/>
          <a:stretch/>
        </p:blipFill>
        <p:spPr>
          <a:xfrm>
            <a:off x="2916360" y="1657440"/>
            <a:ext cx="2950920" cy="4039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5"/>
          <p:cNvSpPr/>
          <p:nvPr/>
        </p:nvSpPr>
        <p:spPr>
          <a:xfrm>
            <a:off x="584280" y="5697360"/>
            <a:ext cx="753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你的身体上，你能找到这些器官的大致位置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utoShape 26" descr=""/>
          <p:cNvPicPr/>
          <p:nvPr/>
        </p:nvPicPr>
        <p:blipFill>
          <a:blip r:embed="rId2"/>
          <a:stretch/>
        </p:blipFill>
        <p:spPr>
          <a:xfrm>
            <a:off x="4603680" y="2082960"/>
            <a:ext cx="4022640" cy="351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5423040" y="2398680"/>
            <a:ext cx="29210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特别提醒：解剖图上器官的位置和你实际的位置正好是相反的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84280" y="925560"/>
            <a:ext cx="614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消化系统：包括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消化道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消化腺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两部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2T01:44:04Z</dcterms:modified>
  <cp:revision>9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