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0E3-B8F8-4913-801F-8A9CB9DE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EDB-18C2-4DBD-8FED-FE32F82B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555-3F5A-4735-86CF-8AF3A734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612-DB2D-462E-B961-2263FB12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03D-826C-4F27-B4DF-E9209738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5A1-74BA-4BB0-BB94-B1250CD0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E13-2303-4CEC-933A-8162FF75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154-3BAF-41A3-989C-22515E57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B4B-A7CD-440C-9133-7CE3F30C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00E-7E26-4F40-8D23-648A8B1F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BE7-90FB-4E77-AC23-49CC34A9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4C72-7B1E-45DE-9544-43880FD4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6E2B-F6D2-4ECD-A936-05D4C697EE3C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0B19-0E80-40D6-A7C4-353F7F542411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921400" y="2782440"/>
            <a:ext cx="373248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一节  食物中的营养物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第</a:t>
            </a:r>
            <a:r>
              <a:rPr b="1" lang="en-US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2</a:t>
            </a:r>
            <a:r>
              <a:rPr b="1" lang="zh-CN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课时 水、无机盐和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90360" y="1805040"/>
            <a:ext cx="71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二章  人体的营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747720" y="1028880"/>
          <a:ext cx="7934400" cy="5155920"/>
        </p:xfrm>
        <a:graphic>
          <a:graphicData uri="http://schemas.openxmlformats.org/drawingml/2006/table">
            <a:tbl>
              <a:tblPr/>
              <a:tblGrid>
                <a:gridCol w="1593720"/>
                <a:gridCol w="3181320"/>
                <a:gridCol w="3159360"/>
              </a:tblGrid>
              <a:tr h="764640">
                <a:tc>
                  <a:txBody>
                    <a:bodyPr lIns="84240" rIns="84240" tIns="42120" bIns="42120" anchor="ctr" anchorCtr="1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维生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84240" rIns="84240" tIns="42120" bIns="42120" anchor="ctr" anchorCtr="1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缺乏时的症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84240" rIns="84240" tIns="42120" bIns="42120" anchor="ctr" anchorCtr="1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食物来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48235"/>
                    </a:solidFill>
                  </a:tcPr>
                </a:tc>
              </a:tr>
              <a:tr h="1105200">
                <a:tc>
                  <a:txBody>
                    <a:bodyPr lIns="84240" rIns="84240" tIns="42120" bIns="42120" anchor="ctr" anchorCtr="1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维生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84240" rIns="84240" tIns="42120" bIns="42120" anchor="ctr" anchorCtr="1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84240" rIns="84240" tIns="42120" bIns="4212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</a:tr>
              <a:tr h="1292040">
                <a:tc>
                  <a:txBody>
                    <a:bodyPr lIns="84240" rIns="84240" tIns="42120" bIns="42120" anchor="ctr" anchorCtr="1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维生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lIns="84240" rIns="84240" tIns="42120" bIns="42120" anchor="ctr" anchorCtr="1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lIns="84240" rIns="84240" tIns="42120" bIns="4212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</a:tr>
              <a:tr h="1184400">
                <a:tc>
                  <a:txBody>
                    <a:bodyPr lIns="84240" rIns="84240" tIns="42120" bIns="42120" anchor="ctr" anchorCtr="1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维生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84240" rIns="84240" tIns="42120" bIns="42120" anchor="ctr" anchorCtr="1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84240" rIns="84240" tIns="42120" bIns="4212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</a:tr>
              <a:tr h="809640">
                <a:tc>
                  <a:txBody>
                    <a:bodyPr lIns="84240" rIns="84240" tIns="42120" bIns="42120" anchor="ctr" anchorCtr="1">
                      <a:noAutofit/>
                    </a:bodyPr>
                    <a:p>
                      <a:pPr marL="343080" indent="-343080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维生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lIns="84240" rIns="84240" tIns="42120" bIns="42120" anchor="ctr" anchorCtr="1">
                      <a:noAutofit/>
                    </a:bodyPr>
                    <a:p>
                      <a:pPr marL="343080" indent="-343080"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lIns="84240" rIns="84240" tIns="42120" bIns="42120" anchor="ctr" anchorCtr="1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</a:tr>
            </a:tbl>
          </a:graphicData>
        </a:graphic>
      </p:graphicFrame>
      <p:sp>
        <p:nvSpPr>
          <p:cNvPr id="97" name="矩形 1"/>
          <p:cNvSpPr/>
          <p:nvPr/>
        </p:nvSpPr>
        <p:spPr>
          <a:xfrm>
            <a:off x="2502000" y="1843200"/>
            <a:ext cx="2736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皮肤粗糙、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夜盲症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干眼症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5541840" y="1844640"/>
            <a:ext cx="3140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肝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鱼肝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胡萝卜、玉米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502000" y="2992320"/>
            <a:ext cx="311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炎、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脚气病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消化不良、食欲不振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5600880" y="3214800"/>
            <a:ext cx="3100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糙米、瘦肉、麦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2330280" y="4300560"/>
            <a:ext cx="295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坏血病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牙龈出血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抵抗力下降易感冒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6103440" y="4573440"/>
            <a:ext cx="16437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新鲜的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水果蔬菜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3131280" y="5572080"/>
            <a:ext cx="15555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2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佝偻病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骨质疏松症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5614920" y="5554800"/>
            <a:ext cx="3086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肝脏、蛋类、奶类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3"/>
          <p:cNvSpPr/>
          <p:nvPr/>
        </p:nvSpPr>
        <p:spPr>
          <a:xfrm>
            <a:off x="1693800" y="1619280"/>
            <a:ext cx="575640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参与代谢维他命，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A B C D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最知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VA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会夜盲， 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VB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脚气病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VD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骨疏松， 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VC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坏血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无机盐，很有用，预防百病显神通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缺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铁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容易患贫血，缺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碘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会得大脖病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缺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锌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发育不太好，缺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钙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易患佝偻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需要量少不用夸，健康身体全靠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"/>
          <p:cNvSpPr/>
          <p:nvPr/>
        </p:nvSpPr>
        <p:spPr>
          <a:xfrm>
            <a:off x="4105080" y="811080"/>
            <a:ext cx="9730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歌谣巧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:\Users\Administrator\Desktop\图片2.png图片2"/>
          <p:cNvPicPr/>
          <p:nvPr/>
        </p:nvPicPr>
        <p:blipFill>
          <a:blip r:embed="rId1"/>
          <a:stretch/>
        </p:blipFill>
        <p:spPr>
          <a:xfrm>
            <a:off x="291960" y="2587680"/>
            <a:ext cx="3524400" cy="2335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图片1.png图片1"/>
          <p:cNvPicPr/>
          <p:nvPr/>
        </p:nvPicPr>
        <p:blipFill>
          <a:blip r:embed="rId2"/>
          <a:stretch/>
        </p:blipFill>
        <p:spPr>
          <a:xfrm>
            <a:off x="554040" y="2408400"/>
            <a:ext cx="3000240" cy="2334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Administrator\Desktop\图片3.png图片3"/>
          <p:cNvPicPr/>
          <p:nvPr/>
        </p:nvPicPr>
        <p:blipFill>
          <a:blip r:embed="rId3"/>
          <a:stretch/>
        </p:blipFill>
        <p:spPr>
          <a:xfrm>
            <a:off x="711360" y="2584440"/>
            <a:ext cx="3076560" cy="2338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393840" y="9032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分析下面的一组插图，每幅插图中的做法是否正确？并说出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3995640" y="3170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甲图反映出这位同学挑食，时间长了会使人体缺乏某些营养物质，导致营养不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4021200" y="2224080"/>
            <a:ext cx="48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乙图反映出这位同学不吃早餐就去上学，上午学习任务很重，往往两节课后就处于半饥饿状态，出现头晕、心慌、注意力不集中等现象，影响学习效果。如果长期不吃早餐，还会影响健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6"/>
          <p:cNvSpPr/>
          <p:nvPr/>
        </p:nvSpPr>
        <p:spPr>
          <a:xfrm>
            <a:off x="4179960" y="2879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丙图反映出这位同学偏食，而偏食会造成某些营养过剩和某些营养缺乏而导致营养不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1828800" y="4937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"/>
          <p:cNvSpPr/>
          <p:nvPr/>
        </p:nvSpPr>
        <p:spPr>
          <a:xfrm>
            <a:off x="1770120" y="4937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4"/>
          <p:cNvSpPr/>
          <p:nvPr/>
        </p:nvSpPr>
        <p:spPr>
          <a:xfrm>
            <a:off x="1811160" y="5021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2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3"/>
          <p:cNvSpPr/>
          <p:nvPr/>
        </p:nvSpPr>
        <p:spPr>
          <a:xfrm>
            <a:off x="1681200" y="2616120"/>
            <a:ext cx="231840" cy="2333880"/>
          </a:xfrm>
          <a:custGeom>
            <a:avLst/>
            <a:gdLst>
              <a:gd name="textAreaLeft" fmla="*/ 148320 w 231840"/>
              <a:gd name="textAreaRight" fmla="*/ 232200 w 231840"/>
              <a:gd name="textAreaTop" fmla="*/ 33840 h 2333880"/>
              <a:gd name="textAreaBottom" fmla="*/ 2300040 h 233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5"/>
                  <a:pt x="10800" y="1009"/>
                </a:cubicBezTo>
                <a:lnTo>
                  <a:pt x="10800" y="9791"/>
                </a:lnTo>
                <a:cubicBezTo>
                  <a:pt x="10800" y="10296"/>
                  <a:pt x="5400" y="10800"/>
                  <a:pt x="0" y="10800"/>
                </a:cubicBezTo>
                <a:cubicBezTo>
                  <a:pt x="5400" y="10800"/>
                  <a:pt x="10800" y="11305"/>
                  <a:pt x="10800" y="11809"/>
                </a:cubicBezTo>
                <a:lnTo>
                  <a:pt x="10800" y="20591"/>
                </a:lnTo>
                <a:cubicBezTo>
                  <a:pt x="10800" y="2109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981080" y="239724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81080" y="4670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3224160" y="1503360"/>
            <a:ext cx="243000" cy="2249640"/>
          </a:xfrm>
          <a:custGeom>
            <a:avLst/>
            <a:gdLst>
              <a:gd name="textAreaLeft" fmla="*/ 155160 w 243000"/>
              <a:gd name="textAreaRight" fmla="*/ 243360 w 243000"/>
              <a:gd name="textAreaTop" fmla="*/ 41760 h 2249640"/>
              <a:gd name="textAreaBottom" fmla="*/ 2207880 h 224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5"/>
                  <a:pt x="10800" y="1290"/>
                </a:cubicBezTo>
                <a:lnTo>
                  <a:pt x="10800" y="9510"/>
                </a:lnTo>
                <a:cubicBezTo>
                  <a:pt x="10800" y="10155"/>
                  <a:pt x="5400" y="10800"/>
                  <a:pt x="0" y="10800"/>
                </a:cubicBezTo>
                <a:cubicBezTo>
                  <a:pt x="5400" y="10800"/>
                  <a:pt x="10800" y="11445"/>
                  <a:pt x="10800" y="12090"/>
                </a:cubicBezTo>
                <a:lnTo>
                  <a:pt x="10800" y="20310"/>
                </a:lnTo>
                <a:cubicBezTo>
                  <a:pt x="10800" y="2095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3209760" y="4430880"/>
            <a:ext cx="235080" cy="1066680"/>
          </a:xfrm>
          <a:custGeom>
            <a:avLst/>
            <a:gdLst>
              <a:gd name="textAreaLeft" fmla="*/ 150120 w 235080"/>
              <a:gd name="textAreaRight" fmla="*/ 235440 w 235080"/>
              <a:gd name="textAreaTop" fmla="*/ 16920 h 1066680"/>
              <a:gd name="textAreaBottom" fmla="*/ 10497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6"/>
                  <a:pt x="10800" y="1112"/>
                </a:cubicBezTo>
                <a:lnTo>
                  <a:pt x="10800" y="9688"/>
                </a:lnTo>
                <a:cubicBezTo>
                  <a:pt x="10800" y="10244"/>
                  <a:pt x="5400" y="10800"/>
                  <a:pt x="0" y="10800"/>
                </a:cubicBezTo>
                <a:cubicBezTo>
                  <a:pt x="5400" y="10800"/>
                  <a:pt x="10800" y="11356"/>
                  <a:pt x="10800" y="11912"/>
                </a:cubicBezTo>
                <a:lnTo>
                  <a:pt x="10800" y="20488"/>
                </a:lnTo>
                <a:cubicBezTo>
                  <a:pt x="10800" y="2104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513240" y="1197000"/>
            <a:ext cx="19047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脂肪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维生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513240" y="4272120"/>
            <a:ext cx="1828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机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792680" y="134136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主要的供能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4792680" y="2033640"/>
            <a:ext cx="22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储备能源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794120" y="3384720"/>
            <a:ext cx="32497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维生素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维生素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308480" y="4430880"/>
            <a:ext cx="25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细胞的主要成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4921200" y="5130720"/>
            <a:ext cx="19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钙、铁、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792680" y="278748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构成细胞的基本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574200" y="2455920"/>
            <a:ext cx="9118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食物中的营养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42720" y="1181160"/>
            <a:ext cx="81723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9560" indent="-1695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列食物中含有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最多的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(     ) 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9560" indent="-1695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面包 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猪肉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鱼 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柑橘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9560" indent="-169560">
              <a:lnSpc>
                <a:spcPct val="150000"/>
              </a:lnSpc>
              <a:spcBef>
                <a:spcPts val="1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果一个人患了夜盲症，你认为他需要的食物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(     ) 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9560" indent="-1695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鸡肝 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辣椒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鱼肉 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牛奶 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9560" indent="-169560">
              <a:lnSpc>
                <a:spcPct val="150000"/>
              </a:lnSpc>
              <a:spcBef>
                <a:spcPts val="1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认为贫血的人体内有可能缺乏的无机盐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(     ) 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9560" indent="-1695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镁 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锌 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铁 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钙 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430960" y="13129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446960" y="26258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796080" y="40179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4"/>
          <p:cNvSpPr/>
          <p:nvPr/>
        </p:nvSpPr>
        <p:spPr>
          <a:xfrm>
            <a:off x="496800" y="703440"/>
            <a:ext cx="8290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经常食用鱼肝油和猪肝可以预防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      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夜盲症和脚气病 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唇炎和佝偻病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佝偻病和夜盲症 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角炎和夜盲症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列物质不属于糖类的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      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60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葡萄糖 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淀粉 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木糖醇 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麦芽糖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脚气病患者应该多吃的食物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      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白面粉 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胡萝卜 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白大米 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糙米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于食物中的水说法不正确的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      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运输营养物质的作用            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能量的来源物质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人体细胞内水的来源之一    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以运输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218280" y="800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654440" y="24732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159520" y="35654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5657760" y="46576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29840" y="785880"/>
            <a:ext cx="84646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9560" indent="-1695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脂肪         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体生命活动的主要能源物质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9560" indent="-1695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类           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备用的能源物质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9560" indent="-1695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水             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进人体正常的生长发育，人体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9560" indent="-1695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需要量很少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9560" indent="-1695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维生素          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含有人体内不可缺少的营养成分，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9560" indent="-1695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钙、铁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9560" indent="-1695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E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质           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e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体细胞的主要成分，同时具有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9560" indent="-1695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输功能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69560" indent="-1695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机盐          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成人体细胞的主要物质，生长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育，组织更新的原料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1616040" y="1214280"/>
            <a:ext cx="2028960" cy="500400"/>
          </a:xfrm>
          <a:prstGeom prst="line">
            <a:avLst/>
          </a:prstGeom>
          <a:ln w="38160">
            <a:solidFill>
              <a:srgbClr val="f808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 flipV="1">
            <a:off x="1692360" y="1214280"/>
            <a:ext cx="1952640" cy="500400"/>
          </a:xfrm>
          <a:prstGeom prst="line">
            <a:avLst/>
          </a:prstGeom>
          <a:ln w="38160">
            <a:solidFill>
              <a:srgbClr val="f808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1486080" y="2276640"/>
            <a:ext cx="2158920" cy="2081160"/>
          </a:xfrm>
          <a:prstGeom prst="line">
            <a:avLst/>
          </a:prstGeom>
          <a:ln w="38160">
            <a:solidFill>
              <a:srgbClr val="f808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1866960" y="4500720"/>
            <a:ext cx="1838160" cy="1066680"/>
          </a:xfrm>
          <a:prstGeom prst="line">
            <a:avLst/>
          </a:prstGeom>
          <a:ln w="38160">
            <a:solidFill>
              <a:srgbClr val="f808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1866960" y="3428640"/>
            <a:ext cx="1778040" cy="2071800"/>
          </a:xfrm>
          <a:prstGeom prst="line">
            <a:avLst/>
          </a:prstGeom>
          <a:ln w="38160">
            <a:solidFill>
              <a:srgbClr val="f808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1930320" y="2350800"/>
            <a:ext cx="1654200" cy="1011240"/>
          </a:xfrm>
          <a:prstGeom prst="line">
            <a:avLst/>
          </a:prstGeom>
          <a:ln w="38160">
            <a:solidFill>
              <a:srgbClr val="f808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103"/>
          <p:cNvSpPr/>
          <p:nvPr/>
        </p:nvSpPr>
        <p:spPr>
          <a:xfrm>
            <a:off x="106200" y="44280"/>
            <a:ext cx="1295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5" descr="C:\Users\Administrator\Desktop\t0190b1f4deef722940.jpg"/>
          <p:cNvPicPr/>
          <p:nvPr/>
        </p:nvPicPr>
        <p:blipFill>
          <a:blip r:embed="rId1"/>
          <a:stretch/>
        </p:blipFill>
        <p:spPr>
          <a:xfrm>
            <a:off x="6643800" y="3921120"/>
            <a:ext cx="2143080" cy="1606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C:\Users\Administrator\Desktop\t01a86ee343769dc8e2.jpg"/>
          <p:cNvPicPr/>
          <p:nvPr/>
        </p:nvPicPr>
        <p:blipFill>
          <a:blip r:embed="rId2"/>
          <a:stretch/>
        </p:blipFill>
        <p:spPr>
          <a:xfrm>
            <a:off x="3598920" y="3992400"/>
            <a:ext cx="2514600" cy="157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C:\Users\Administrator\Desktop\t0100332eaa879bbacb.jpg"/>
          <p:cNvPicPr/>
          <p:nvPr/>
        </p:nvPicPr>
        <p:blipFill>
          <a:blip r:embed="rId3"/>
          <a:stretch/>
        </p:blipFill>
        <p:spPr>
          <a:xfrm>
            <a:off x="4683240" y="1600200"/>
            <a:ext cx="2603520" cy="164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C:\Users\Administrator\Desktop\t01d7644ee8340dac99.jpg"/>
          <p:cNvPicPr/>
          <p:nvPr/>
        </p:nvPicPr>
        <p:blipFill>
          <a:blip r:embed="rId4"/>
          <a:stretch/>
        </p:blipFill>
        <p:spPr>
          <a:xfrm>
            <a:off x="1468440" y="1569960"/>
            <a:ext cx="2571840" cy="1714680"/>
          </a:xfrm>
          <a:prstGeom prst="rect">
            <a:avLst/>
          </a:prstGeom>
          <a:ln w="0">
            <a:noFill/>
          </a:ln>
        </p:spPr>
      </p:pic>
      <p:sp>
        <p:nvSpPr>
          <p:cNvPr id="47" name="云形标注 19"/>
          <p:cNvSpPr/>
          <p:nvPr/>
        </p:nvSpPr>
        <p:spPr>
          <a:xfrm>
            <a:off x="343080" y="3784680"/>
            <a:ext cx="2786040" cy="1571400"/>
          </a:xfrm>
          <a:prstGeom prst="cloudCallout">
            <a:avLst>
              <a:gd name="adj1" fmla="val 60699"/>
              <a:gd name="adj2" fmla="val 57731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8"/>
          <p:cNvSpPr/>
          <p:nvPr/>
        </p:nvSpPr>
        <p:spPr>
          <a:xfrm>
            <a:off x="771480" y="39988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考虑一下：水对于我们有什么作用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1198440" y="2324160"/>
            <a:ext cx="6748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知道水、无机盐和维生素对人体的作用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列举几种无机盐和维生素的缺乏症状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关注食物中的营养物质与健康的关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3733920" y="1403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表 4" descr=""/>
          <p:cNvPicPr/>
          <p:nvPr/>
        </p:nvPicPr>
        <p:blipFill>
          <a:blip r:embed="rId1"/>
          <a:stretch/>
        </p:blipFill>
        <p:spPr>
          <a:xfrm>
            <a:off x="5195880" y="1940040"/>
            <a:ext cx="3643200" cy="2406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6970680" y="2962440"/>
            <a:ext cx="16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b9bd5"/>
                </a:solidFill>
                <a:latin typeface="Times New Roman"/>
              </a:rPr>
              <a:t>60%~7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404640" y="1654200"/>
            <a:ext cx="479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808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081f"/>
                </a:solidFill>
                <a:latin typeface="Times New Roman"/>
                <a:ea typeface="黑体"/>
              </a:rPr>
              <a:t>水是人体细胞的主要成分之一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081f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f8081f"/>
                </a:solidFill>
                <a:latin typeface="Times New Roman"/>
                <a:ea typeface="黑体"/>
              </a:rPr>
              <a:t>约占体重的</a:t>
            </a:r>
            <a:r>
              <a:rPr b="1" lang="en-US" sz="2400" spc="-1" strike="noStrike">
                <a:solidFill>
                  <a:srgbClr val="f8081f"/>
                </a:solidFill>
                <a:latin typeface="Times New Roman"/>
                <a:ea typeface="黑体"/>
              </a:rPr>
              <a:t>60%~70%</a:t>
            </a:r>
            <a:r>
              <a:rPr b="0" lang="zh-CN" sz="2400" spc="-1" strike="noStrike">
                <a:solidFill>
                  <a:srgbClr val="f8081f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808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081f"/>
                </a:solidFill>
                <a:latin typeface="Times New Roman"/>
                <a:ea typeface="黑体"/>
              </a:rPr>
              <a:t>运输人体内的营养物质以及尿素 </a:t>
            </a:r>
            <a:r>
              <a:rPr b="0" lang="en-US" sz="2400" spc="-1" strike="noStrike">
                <a:solidFill>
                  <a:srgbClr val="f8081f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081f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f8081f"/>
                </a:solidFill>
                <a:latin typeface="Times New Roman"/>
                <a:ea typeface="黑体"/>
              </a:rPr>
              <a:t>等废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569880" y="48513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体脱水时细胞内水分因细胞内外</a:t>
            </a:r>
            <a:r>
              <a:rPr b="0" lang="zh-CN" sz="2400" spc="-1" strike="noStrike" u="sng">
                <a:solidFill>
                  <a:srgbClr val="f8081f"/>
                </a:solidFill>
                <a:uFillTx/>
                <a:latin typeface="黑体"/>
                <a:ea typeface="黑体"/>
              </a:rPr>
              <a:t>渗透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出，导致细胞缺水，严重影响生命安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6147"/>
          <p:cNvGrpSpPr/>
          <p:nvPr/>
        </p:nvGrpSpPr>
        <p:grpSpPr>
          <a:xfrm>
            <a:off x="519120" y="704880"/>
            <a:ext cx="2232000" cy="806760"/>
            <a:chOff x="519120" y="704880"/>
            <a:chExt cx="2232000" cy="806760"/>
          </a:xfrm>
        </p:grpSpPr>
        <p:sp>
          <p:nvSpPr>
            <p:cNvPr id="58" name="矩形 7"/>
            <p:cNvSpPr/>
            <p:nvPr/>
          </p:nvSpPr>
          <p:spPr>
            <a:xfrm>
              <a:off x="1078920" y="704880"/>
              <a:ext cx="1672200" cy="7603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16"/>
            <p:cNvSpPr/>
            <p:nvPr/>
          </p:nvSpPr>
          <p:spPr>
            <a:xfrm>
              <a:off x="519120" y="992520"/>
              <a:ext cx="52416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17"/>
            <p:cNvSpPr/>
            <p:nvPr/>
          </p:nvSpPr>
          <p:spPr>
            <a:xfrm>
              <a:off x="880920" y="94176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6151"/>
            <p:cNvSpPr/>
            <p:nvPr/>
          </p:nvSpPr>
          <p:spPr>
            <a:xfrm>
              <a:off x="1148400" y="978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6152"/>
            <p:cNvSpPr/>
            <p:nvPr/>
          </p:nvSpPr>
          <p:spPr>
            <a:xfrm>
              <a:off x="519120" y="99108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356000" y="2843280"/>
            <a:ext cx="4186440" cy="22953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" descr=""/>
          <p:cNvPicPr/>
          <p:nvPr/>
        </p:nvPicPr>
        <p:blipFill>
          <a:blip r:embed="rId2"/>
          <a:stretch/>
        </p:blipFill>
        <p:spPr>
          <a:xfrm>
            <a:off x="876240" y="2832120"/>
            <a:ext cx="3151080" cy="2317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104840" y="538164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缺钙：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4530600" y="538164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老年人缺钙：骨质疏松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6147"/>
          <p:cNvGrpSpPr/>
          <p:nvPr/>
        </p:nvGrpSpPr>
        <p:grpSpPr>
          <a:xfrm>
            <a:off x="316080" y="565200"/>
            <a:ext cx="2232000" cy="806760"/>
            <a:chOff x="316080" y="565200"/>
            <a:chExt cx="2232000" cy="806760"/>
          </a:xfrm>
        </p:grpSpPr>
        <p:sp>
          <p:nvSpPr>
            <p:cNvPr id="70" name="矩形 7"/>
            <p:cNvSpPr/>
            <p:nvPr/>
          </p:nvSpPr>
          <p:spPr>
            <a:xfrm>
              <a:off x="875880" y="565200"/>
              <a:ext cx="1672200" cy="7596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16"/>
            <p:cNvSpPr/>
            <p:nvPr/>
          </p:nvSpPr>
          <p:spPr>
            <a:xfrm>
              <a:off x="316080" y="852480"/>
              <a:ext cx="524160" cy="4809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7"/>
            <p:cNvSpPr/>
            <p:nvPr/>
          </p:nvSpPr>
          <p:spPr>
            <a:xfrm>
              <a:off x="677880" y="80172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6151"/>
            <p:cNvSpPr/>
            <p:nvPr/>
          </p:nvSpPr>
          <p:spPr>
            <a:xfrm>
              <a:off x="1087920" y="8384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无机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6152"/>
            <p:cNvSpPr/>
            <p:nvPr/>
          </p:nvSpPr>
          <p:spPr>
            <a:xfrm>
              <a:off x="316080" y="85140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Box 2"/>
          <p:cNvSpPr/>
          <p:nvPr/>
        </p:nvSpPr>
        <p:spPr>
          <a:xfrm>
            <a:off x="703440" y="1577880"/>
            <a:ext cx="71434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含钙的无机盐是骨骼和牙齿的重要组成成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1"/>
          <p:cNvGrpSpPr/>
          <p:nvPr/>
        </p:nvGrpSpPr>
        <p:grpSpPr>
          <a:xfrm>
            <a:off x="1871640" y="1744560"/>
            <a:ext cx="5473800" cy="2952720"/>
            <a:chOff x="1871640" y="1744560"/>
            <a:chExt cx="5473800" cy="2952720"/>
          </a:xfrm>
        </p:grpSpPr>
        <p:pic>
          <p:nvPicPr>
            <p:cNvPr id="77" name="Picture 3" descr="1263429146Iq2vCFjb"/>
            <p:cNvPicPr/>
            <p:nvPr/>
          </p:nvPicPr>
          <p:blipFill>
            <a:blip r:embed="rId1"/>
            <a:stretch/>
          </p:blipFill>
          <p:spPr>
            <a:xfrm>
              <a:off x="1871640" y="1744560"/>
              <a:ext cx="2211480" cy="2952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78" name="Picture 5" descr="01300000337727123248466282287"/>
            <p:cNvPicPr/>
            <p:nvPr/>
          </p:nvPicPr>
          <p:blipFill>
            <a:blip r:embed="rId2"/>
            <a:stretch/>
          </p:blipFill>
          <p:spPr>
            <a:xfrm>
              <a:off x="4208400" y="1744560"/>
              <a:ext cx="3137040" cy="2952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79" name="Rectangle 6"/>
          <p:cNvSpPr/>
          <p:nvPr/>
        </p:nvSpPr>
        <p:spPr>
          <a:xfrm>
            <a:off x="1517760" y="4807080"/>
            <a:ext cx="677700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缺碘：地方性甲状腺肿（俗称大脖子病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85840" y="1751040"/>
          <a:ext cx="8620200" cy="4194000"/>
        </p:xfrm>
        <a:graphic>
          <a:graphicData uri="http://schemas.openxmlformats.org/drawingml/2006/table">
            <a:tbl>
              <a:tblPr/>
              <a:tblGrid>
                <a:gridCol w="2714760"/>
                <a:gridCol w="590544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无机盐的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缺乏时的症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48235"/>
                    </a:solidFill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含钙的无机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2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儿童缺钙易患佝偻病（鸡胸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X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形或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O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形腿）；中老年人特别是妇女缺钙，易患骨质疏松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2f4f4"/>
                    </a:solidFill>
                  </a:tcPr>
                </a:tc>
              </a:tr>
              <a:tr h="595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含磷的无机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厌食、贫血、肌无力、骨痛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</a:tr>
              <a:tr h="595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含铁的无机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缺铁性贫血（乏力、头晕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</a:tr>
              <a:tr h="884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含碘的无机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微量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方性甲状腺肿，儿童的智力和体格发育出现障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含锌的无机盐（微量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生长发育不良，味觉发生障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</a:tr>
            </a:tbl>
          </a:graphicData>
        </a:graphic>
      </p:graphicFrame>
      <p:sp>
        <p:nvSpPr>
          <p:cNvPr id="82" name="文本框 1"/>
          <p:cNvSpPr/>
          <p:nvPr/>
        </p:nvSpPr>
        <p:spPr>
          <a:xfrm>
            <a:off x="2944800" y="965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几种无机盐的缺乏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坏血病与维生素C"/>
          <p:cNvPicPr/>
          <p:nvPr/>
        </p:nvPicPr>
        <p:blipFill>
          <a:blip r:embed="rId1"/>
          <a:stretch/>
        </p:blipFill>
        <p:spPr>
          <a:xfrm>
            <a:off x="4773600" y="2382840"/>
            <a:ext cx="3830760" cy="2643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581040" y="1685880"/>
            <a:ext cx="393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几百年前的欧洲，长期在海上航行的水手经常遭受坏血病的折磨，人们一直查不出病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最后科学家从新鲜的水果和蔬菜中提取出维生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治愈了坏血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6147"/>
          <p:cNvGrpSpPr/>
          <p:nvPr/>
        </p:nvGrpSpPr>
        <p:grpSpPr>
          <a:xfrm>
            <a:off x="316080" y="565200"/>
            <a:ext cx="2232000" cy="806760"/>
            <a:chOff x="316080" y="565200"/>
            <a:chExt cx="2232000" cy="806760"/>
          </a:xfrm>
        </p:grpSpPr>
        <p:sp>
          <p:nvSpPr>
            <p:cNvPr id="87" name="矩形 7"/>
            <p:cNvSpPr/>
            <p:nvPr/>
          </p:nvSpPr>
          <p:spPr>
            <a:xfrm>
              <a:off x="875880" y="565200"/>
              <a:ext cx="1672200" cy="7596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16"/>
            <p:cNvSpPr/>
            <p:nvPr/>
          </p:nvSpPr>
          <p:spPr>
            <a:xfrm>
              <a:off x="316080" y="852480"/>
              <a:ext cx="524160" cy="4809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677880" y="80172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6151"/>
            <p:cNvSpPr/>
            <p:nvPr/>
          </p:nvSpPr>
          <p:spPr>
            <a:xfrm>
              <a:off x="1087920" y="8384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维生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6152"/>
            <p:cNvSpPr/>
            <p:nvPr/>
          </p:nvSpPr>
          <p:spPr>
            <a:xfrm>
              <a:off x="316080" y="85140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维生素"/>
          <p:cNvPicPr/>
          <p:nvPr/>
        </p:nvPicPr>
        <p:blipFill>
          <a:blip r:embed="rId1"/>
          <a:stretch/>
        </p:blipFill>
        <p:spPr>
          <a:xfrm>
            <a:off x="649440" y="1820880"/>
            <a:ext cx="2727000" cy="3214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3827520" y="843120"/>
            <a:ext cx="492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维生素是一类比较简单的有机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类很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多数是人体自身不能制造的，要从食物中摄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是构成细胞的主要原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能为人体提供能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体每日对它们的需要量很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12T01:40:18Z</dcterms:modified>
  <cp:revision>9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