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72D-6AA3-48F7-A873-94B004A6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924-E276-4FED-B729-AD3BEE82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68C-5899-4413-A472-7A47C0D6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782-508A-41FE-9E36-20F6A455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403-35DB-4F63-9B84-CF06EE6A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5DA-17AD-442C-8ED7-2632B50A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B17-AC6A-43FB-B8D8-5495876B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F00-EBDB-4EA9-A7DE-BF1C6CA0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660-4E4C-4623-846F-1F587B94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5FA-03CF-48BA-A1CA-8F783AB9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54F-551A-4AB5-8643-5EA72F6B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387-4867-45B3-A202-EC457E1B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8D37-E691-43D6-A2EC-DCC9D98E9ABA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4A4C-AEB6-4D57-B833-15FF9BD3BB4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643920" y="264096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909"/>
                </a:solidFill>
                <a:latin typeface="宋体"/>
              </a:rPr>
              <a:t>第二章 用药与急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00000" y="1843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7"/>
                </a:solidFill>
                <a:latin typeface="黑体"/>
                <a:ea typeface="黑体"/>
              </a:rPr>
              <a:t>第八单元 健康地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495960" y="3496320"/>
            <a:ext cx="24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课时 安全用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32771"/>
          <p:cNvSpPr/>
          <p:nvPr/>
        </p:nvSpPr>
        <p:spPr>
          <a:xfrm>
            <a:off x="1149480" y="907920"/>
            <a:ext cx="799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使用药物之前，应该先要做什么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2773"/>
          <p:cNvSpPr/>
          <p:nvPr/>
        </p:nvSpPr>
        <p:spPr>
          <a:xfrm>
            <a:off x="1042920" y="2276640"/>
            <a:ext cx="777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无论是处方药还是非处方药，在使用之前，都应该仔细阅读药品说明书，了解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药物的名称、主要成分、作用与用途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功能与主治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、适应症、禁忌症、不良反应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副作用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、注意事项、用法与用量、制剂与规格、生产日期和有效期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等，以确保用药安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36866"/>
          <p:cNvSpPr/>
          <p:nvPr/>
        </p:nvSpPr>
        <p:spPr>
          <a:xfrm>
            <a:off x="2195640" y="285264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有效成分主要是从各种植物中提取出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6867"/>
          <p:cNvSpPr/>
          <p:nvPr/>
        </p:nvSpPr>
        <p:spPr>
          <a:xfrm>
            <a:off x="2197080" y="4221000"/>
            <a:ext cx="64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有效成分主要是由化学物质合成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因此又被称为化学药品制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6868"/>
          <p:cNvSpPr/>
          <p:nvPr/>
        </p:nvSpPr>
        <p:spPr>
          <a:xfrm>
            <a:off x="900000" y="2859120"/>
            <a:ext cx="23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中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6869"/>
          <p:cNvSpPr/>
          <p:nvPr/>
        </p:nvSpPr>
        <p:spPr>
          <a:xfrm>
            <a:off x="900000" y="4156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西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6870"/>
          <p:cNvSpPr/>
          <p:nvPr/>
        </p:nvSpPr>
        <p:spPr>
          <a:xfrm>
            <a:off x="1042920" y="822240"/>
            <a:ext cx="7705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你能分辨出哪些是中药，哪些是西药吗？你是怎么分辨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8916"/>
          <p:cNvSpPr/>
          <p:nvPr/>
        </p:nvSpPr>
        <p:spPr>
          <a:xfrm>
            <a:off x="971640" y="981000"/>
            <a:ext cx="7921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药物的说明书中有哪些信息对于安全用药十分重要？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8917"/>
          <p:cNvSpPr/>
          <p:nvPr/>
        </p:nvSpPr>
        <p:spPr>
          <a:xfrm>
            <a:off x="468360" y="2419200"/>
            <a:ext cx="82803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　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药物的名称、主要成分、作用与用途（功能与主治）、适应症、禁忌症、不良反应（副作用）、注意事项、用法与用量、制剂与规格、生产日期和有效期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0961"/>
          <p:cNvSpPr/>
          <p:nvPr/>
        </p:nvSpPr>
        <p:spPr>
          <a:xfrm>
            <a:off x="1044720" y="1328760"/>
            <a:ext cx="770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否从使用说明中概括出一些药物保存的基本要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40966"/>
          <p:cNvSpPr/>
          <p:nvPr/>
        </p:nvSpPr>
        <p:spPr>
          <a:xfrm>
            <a:off x="1042920" y="3092400"/>
            <a:ext cx="7888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"/>
              </a:rPr>
              <a:t>大多需要放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"/>
              </a:rPr>
              <a:t>干燥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楷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"/>
              </a:rPr>
              <a:t>避光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"/>
              </a:rPr>
              <a:t>的地方而且要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"/>
              </a:rPr>
              <a:t>密封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"/>
              </a:rPr>
              <a:t>保存，避免受潮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药物受潮后有效成分可能分解，甚至发生霉变，影响药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43009"/>
          <p:cNvSpPr/>
          <p:nvPr/>
        </p:nvSpPr>
        <p:spPr>
          <a:xfrm>
            <a:off x="1455120" y="9079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有效期识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43010"/>
          <p:cNvSpPr/>
          <p:nvPr/>
        </p:nvSpPr>
        <p:spPr>
          <a:xfrm>
            <a:off x="2129400" y="1628640"/>
            <a:ext cx="38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：有效期至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3011"/>
          <p:cNvSpPr/>
          <p:nvPr/>
        </p:nvSpPr>
        <p:spPr>
          <a:xfrm>
            <a:off x="1958760" y="3860640"/>
            <a:ext cx="40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生产批号：由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6-8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位数字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3012"/>
          <p:cNvSpPr/>
          <p:nvPr/>
        </p:nvSpPr>
        <p:spPr>
          <a:xfrm>
            <a:off x="2222280" y="4606920"/>
            <a:ext cx="366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5 0 3 0 2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43013"/>
          <p:cNvSpPr/>
          <p:nvPr/>
        </p:nvSpPr>
        <p:spPr>
          <a:xfrm>
            <a:off x="67057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3014"/>
          <p:cNvSpPr/>
          <p:nvPr/>
        </p:nvSpPr>
        <p:spPr>
          <a:xfrm>
            <a:off x="2732400" y="2273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失效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3015"/>
          <p:cNvSpPr/>
          <p:nvPr/>
        </p:nvSpPr>
        <p:spPr>
          <a:xfrm>
            <a:off x="3346920" y="2921040"/>
            <a:ext cx="35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没规定有效期的按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43016"/>
          <p:cNvSpPr/>
          <p:nvPr/>
        </p:nvSpPr>
        <p:spPr>
          <a:xfrm>
            <a:off x="2825640" y="52722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3017"/>
          <p:cNvSpPr/>
          <p:nvPr/>
        </p:nvSpPr>
        <p:spPr>
          <a:xfrm>
            <a:off x="23529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生产年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43018"/>
          <p:cNvSpPr/>
          <p:nvPr/>
        </p:nvSpPr>
        <p:spPr>
          <a:xfrm>
            <a:off x="3968640" y="5272200"/>
            <a:ext cx="685800" cy="0"/>
          </a:xfrm>
          <a:prstGeom prst="line">
            <a:avLst/>
          </a:prstGeom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3019"/>
          <p:cNvSpPr/>
          <p:nvPr/>
        </p:nvSpPr>
        <p:spPr>
          <a:xfrm>
            <a:off x="4038120" y="527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43020"/>
          <p:cNvSpPr/>
          <p:nvPr/>
        </p:nvSpPr>
        <p:spPr>
          <a:xfrm>
            <a:off x="4959360" y="5272200"/>
            <a:ext cx="1143000" cy="0"/>
          </a:xfrm>
          <a:prstGeom prst="line">
            <a:avLst/>
          </a:prstGeom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3021"/>
          <p:cNvSpPr/>
          <p:nvPr/>
        </p:nvSpPr>
        <p:spPr>
          <a:xfrm>
            <a:off x="5257080" y="528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批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44033"/>
          <p:cNvSpPr/>
          <p:nvPr/>
        </p:nvSpPr>
        <p:spPr>
          <a:xfrm>
            <a:off x="826920" y="907920"/>
            <a:ext cx="44197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你家有家庭小药箱吗？家庭小药箱如何配备？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4034"/>
          <p:cNvSpPr/>
          <p:nvPr/>
        </p:nvSpPr>
        <p:spPr>
          <a:xfrm>
            <a:off x="684360" y="522936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药箱的配备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某些家庭成员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特殊需要的药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一些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常用药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感冒冲剂、阿司匹林、黄连素、碘酒等；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纱布、胶布、创可贴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44035" descr="小药箱"/>
          <p:cNvPicPr/>
          <p:nvPr/>
        </p:nvPicPr>
        <p:blipFill>
          <a:blip r:embed="rId1"/>
          <a:stretch/>
        </p:blipFill>
        <p:spPr>
          <a:xfrm>
            <a:off x="755640" y="2060640"/>
            <a:ext cx="7704000" cy="321156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Medium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目的要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通过设计一个旅行小药箱的药物清单，学会把用药常识应用到生活中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 示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在准备过程中，应考虑以下几个问题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Medium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Franklin Gothic Medium"/>
              </a:rPr>
              <a:t>你是否配备了防治腹泻、感冒、发烧、蚊虫叮咬、过敏以及轻微外伤的药物？你是否会正确使用这些药物？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71640" y="9079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设计一个旅行小药箱的药物清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6560" y="105264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②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结合自己的身体状况，考虑有没有必需带在身边的药物，比如，晕车的同学要带上防晕车药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与你一起旅行的家长或朋友是否需要准备一些特殊的药物？如给患有心脏病的人配备硝酸甘油，等等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出发前要了解目的地的环境条件（如饮食、居住和卫生条件等），针对当地的气候、季节和具体情况，准备要带的药物。 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66560" y="503280"/>
          <a:ext cx="8569440" cy="5879880"/>
        </p:xfrm>
        <a:graphic>
          <a:graphicData uri="http://schemas.openxmlformats.org/drawingml/2006/table">
            <a:tbl>
              <a:tblPr/>
              <a:tblGrid>
                <a:gridCol w="2376360"/>
                <a:gridCol w="6193080"/>
              </a:tblGrid>
              <a:tr h="685440">
                <a:tc gridSpan="2"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常用药（仅供参考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止泻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楷体"/>
                          <a:ea typeface="楷体"/>
                        </a:rPr>
                        <a:t>黄连素、止泻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感冒类药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楷体"/>
                          <a:ea typeface="楷体"/>
                        </a:rPr>
                        <a:t>新康泰克、速效伤风胶囊、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楷体"/>
                          <a:ea typeface="楷体"/>
                        </a:rPr>
                        <a:t>Vc</a:t>
                      </a: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楷体"/>
                          <a:ea typeface="楷体"/>
                        </a:rPr>
                        <a:t>银翘片、复方甘草合剂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解热镇痛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急救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楷体"/>
                          <a:ea typeface="楷体"/>
                        </a:rPr>
                        <a:t>硝酸甘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防暑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楷体"/>
                          <a:ea typeface="楷体"/>
                        </a:rPr>
                        <a:t>十滴水、清凉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抗过敏药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楷体"/>
                          <a:ea typeface="楷体"/>
                        </a:rPr>
                        <a:t>扑尔敏、息斯敏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晕车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楷体"/>
                          <a:ea typeface="楷体"/>
                        </a:rPr>
                        <a:t>乘晕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外伤用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楷体"/>
                          <a:ea typeface="楷体"/>
                        </a:rPr>
                        <a:t>红花油、碘酒、创可贴、红药水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文本框 48160"/>
          <p:cNvSpPr/>
          <p:nvPr/>
        </p:nvSpPr>
        <p:spPr>
          <a:xfrm>
            <a:off x="5848560" y="27828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阿司匹林、去痛片、消炎痛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50177"/>
          <p:cNvSpPr/>
          <p:nvPr/>
        </p:nvSpPr>
        <p:spPr>
          <a:xfrm>
            <a:off x="755640" y="1055520"/>
            <a:ext cx="79344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带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T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志的药物适用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   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处方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知道药的作用及服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凭医生处方，方可购买的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可以自我诊断、自我治疗的小伤小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当有人因溺水、煤气中毒或触电等意外事故突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呼吸时，可用下列方法进行急救的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   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人工呼吸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打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4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吃药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向邻居求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0178"/>
          <p:cNvSpPr/>
          <p:nvPr/>
        </p:nvSpPr>
        <p:spPr>
          <a:xfrm>
            <a:off x="5149440" y="1133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0179"/>
          <p:cNvSpPr/>
          <p:nvPr/>
        </p:nvSpPr>
        <p:spPr>
          <a:xfrm>
            <a:off x="6599160" y="4157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01440" y="1414080"/>
            <a:ext cx="56862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赞同下图中女孩说的话吗？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45" name="图片 21507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680000" cy="3065400"/>
          </a:xfrm>
          <a:prstGeom prst="rect">
            <a:avLst/>
          </a:prstGeom>
          <a:ln w="0">
            <a:noFill/>
          </a:ln>
        </p:spPr>
      </p:pic>
      <p:sp>
        <p:nvSpPr>
          <p:cNvPr id="46" name="椭圆形标注 21508"/>
          <p:cNvSpPr/>
          <p:nvPr/>
        </p:nvSpPr>
        <p:spPr>
          <a:xfrm flipH="1">
            <a:off x="394560" y="2278080"/>
            <a:ext cx="2590920" cy="1254240"/>
          </a:xfrm>
          <a:prstGeom prst="wedgeEllipseCallout">
            <a:avLst>
              <a:gd name="adj1" fmla="val -46569"/>
              <a:gd name="adj2" fmla="val 78351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想快点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吃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粒行吗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形标注 21509"/>
          <p:cNvSpPr/>
          <p:nvPr/>
        </p:nvSpPr>
        <p:spPr>
          <a:xfrm flipH="1">
            <a:off x="5362560" y="2235240"/>
            <a:ext cx="3602160" cy="1224000"/>
          </a:xfrm>
          <a:prstGeom prst="wedgeEllipseCallout">
            <a:avLst>
              <a:gd name="adj1" fmla="val 35763"/>
              <a:gd name="adj2" fmla="val 7295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该吃药了，医生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次吃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371600" y="62712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情景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录像机 512"/>
          <p:cNvSpPr/>
          <p:nvPr/>
        </p:nvSpPr>
        <p:spPr>
          <a:xfrm>
            <a:off x="835200" y="701640"/>
            <a:ext cx="536400" cy="382680"/>
          </a:xfrm>
          <a:custGeom>
            <a:avLst/>
            <a:gdLst/>
            <a:ahLst/>
            <a:rect l="l" t="t" r="r" b="b"/>
            <a:pathLst>
              <a:path w="3710374" h="2848566">
                <a:moveTo>
                  <a:pt x="132902" y="1177607"/>
                </a:moveTo>
                <a:cubicBezTo>
                  <a:pt x="206302" y="1177607"/>
                  <a:pt x="265804" y="1237109"/>
                  <a:pt x="265804" y="1310509"/>
                </a:cubicBezTo>
                <a:lnTo>
                  <a:pt x="265804" y="1822976"/>
                </a:lnTo>
                <a:cubicBezTo>
                  <a:pt x="265804" y="1896376"/>
                  <a:pt x="206302" y="1955878"/>
                  <a:pt x="132902" y="1955878"/>
                </a:cubicBezTo>
                <a:cubicBezTo>
                  <a:pt x="59502" y="1955878"/>
                  <a:pt x="0" y="1896376"/>
                  <a:pt x="0" y="1822976"/>
                </a:cubicBezTo>
                <a:lnTo>
                  <a:pt x="0" y="1310509"/>
                </a:lnTo>
                <a:cubicBezTo>
                  <a:pt x="0" y="1237109"/>
                  <a:pt x="59502" y="1177607"/>
                  <a:pt x="132902" y="1177607"/>
                </a:cubicBezTo>
                <a:close/>
                <a:moveTo>
                  <a:pt x="3676647" y="1014899"/>
                </a:moveTo>
                <a:cubicBezTo>
                  <a:pt x="3699953" y="1011726"/>
                  <a:pt x="3709766" y="1038156"/>
                  <a:pt x="3709762" y="1126078"/>
                </a:cubicBezTo>
                <a:lnTo>
                  <a:pt x="3709762" y="2733814"/>
                </a:lnTo>
                <a:cubicBezTo>
                  <a:pt x="3714789" y="2810852"/>
                  <a:pt x="3689665" y="2852720"/>
                  <a:pt x="3604255" y="2784056"/>
                </a:cubicBezTo>
                <a:cubicBezTo>
                  <a:pt x="3539382" y="2731902"/>
                  <a:pt x="3308368" y="2542961"/>
                  <a:pt x="3100502" y="2373078"/>
                </a:cubicBezTo>
                <a:lnTo>
                  <a:pt x="2983265" y="2373078"/>
                </a:lnTo>
                <a:lnTo>
                  <a:pt x="2983265" y="2692091"/>
                </a:lnTo>
                <a:cubicBezTo>
                  <a:pt x="2983265" y="2778510"/>
                  <a:pt x="2913209" y="2848566"/>
                  <a:pt x="2826790" y="2848566"/>
                </a:cubicBezTo>
                <a:lnTo>
                  <a:pt x="542844" y="2848566"/>
                </a:lnTo>
                <a:cubicBezTo>
                  <a:pt x="456425" y="2848566"/>
                  <a:pt x="386369" y="2778510"/>
                  <a:pt x="386369" y="2692091"/>
                </a:cubicBezTo>
                <a:lnTo>
                  <a:pt x="386369" y="1261585"/>
                </a:lnTo>
                <a:cubicBezTo>
                  <a:pt x="386369" y="1175166"/>
                  <a:pt x="456425" y="1105110"/>
                  <a:pt x="542844" y="1105110"/>
                </a:cubicBezTo>
                <a:lnTo>
                  <a:pt x="2826790" y="1105110"/>
                </a:lnTo>
                <a:cubicBezTo>
                  <a:pt x="2913209" y="1105110"/>
                  <a:pt x="2983265" y="1175166"/>
                  <a:pt x="2983265" y="1261585"/>
                </a:cubicBezTo>
                <a:lnTo>
                  <a:pt x="2983265" y="1470870"/>
                </a:lnTo>
                <a:lnTo>
                  <a:pt x="3095401" y="1470870"/>
                </a:lnTo>
                <a:cubicBezTo>
                  <a:pt x="3315877" y="1289257"/>
                  <a:pt x="3568799" y="1079374"/>
                  <a:pt x="3619327" y="1045691"/>
                </a:cubicBezTo>
                <a:cubicBezTo>
                  <a:pt x="3643821" y="1029362"/>
                  <a:pt x="3662662" y="1016802"/>
                  <a:pt x="3676647" y="1014899"/>
                </a:cubicBezTo>
                <a:close/>
                <a:moveTo>
                  <a:pt x="2266043" y="0"/>
                </a:moveTo>
                <a:cubicBezTo>
                  <a:pt x="2555481" y="0"/>
                  <a:pt x="2790117" y="234636"/>
                  <a:pt x="2790117" y="524074"/>
                </a:cubicBezTo>
                <a:cubicBezTo>
                  <a:pt x="2790117" y="813512"/>
                  <a:pt x="2555481" y="1048148"/>
                  <a:pt x="2266043" y="1048148"/>
                </a:cubicBezTo>
                <a:cubicBezTo>
                  <a:pt x="1976605" y="1048148"/>
                  <a:pt x="1741969" y="813512"/>
                  <a:pt x="1741969" y="524074"/>
                </a:cubicBezTo>
                <a:cubicBezTo>
                  <a:pt x="1741969" y="234636"/>
                  <a:pt x="1976605" y="0"/>
                  <a:pt x="2266043" y="0"/>
                </a:cubicBezTo>
                <a:close/>
                <a:moveTo>
                  <a:pt x="1041907" y="0"/>
                </a:moveTo>
                <a:cubicBezTo>
                  <a:pt x="1331345" y="0"/>
                  <a:pt x="1565981" y="234636"/>
                  <a:pt x="1565981" y="524074"/>
                </a:cubicBezTo>
                <a:cubicBezTo>
                  <a:pt x="1565981" y="813512"/>
                  <a:pt x="1331345" y="1048148"/>
                  <a:pt x="1041907" y="1048148"/>
                </a:cubicBezTo>
                <a:cubicBezTo>
                  <a:pt x="752469" y="1048148"/>
                  <a:pt x="517833" y="813512"/>
                  <a:pt x="517833" y="524074"/>
                </a:cubicBezTo>
                <a:cubicBezTo>
                  <a:pt x="517833" y="234636"/>
                  <a:pt x="752469" y="0"/>
                  <a:pt x="1041907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51201"/>
          <p:cNvSpPr/>
          <p:nvPr/>
        </p:nvSpPr>
        <p:spPr>
          <a:xfrm>
            <a:off x="812880" y="1260360"/>
            <a:ext cx="822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如果你感冒了，你认为下列处理方法正确的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   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用上一次感冒没吃完的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医院请医生诊断，凭医生的处方到医院药房拿药，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按医嘱服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药店购买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R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志的感冒药，按药品的说明书服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药店购买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T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志的感冒药，按药品的说明书服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①②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③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 ①③                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②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1202"/>
          <p:cNvSpPr/>
          <p:nvPr/>
        </p:nvSpPr>
        <p:spPr>
          <a:xfrm>
            <a:off x="7812000" y="13255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23553"/>
          <p:cNvSpPr/>
          <p:nvPr/>
        </p:nvSpPr>
        <p:spPr>
          <a:xfrm>
            <a:off x="684360" y="887400"/>
            <a:ext cx="833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你知道“是药三分毒”这句话的含义吗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3554"/>
          <p:cNvSpPr/>
          <p:nvPr/>
        </p:nvSpPr>
        <p:spPr>
          <a:xfrm>
            <a:off x="395280" y="1557360"/>
            <a:ext cx="83534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“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良药苦口利于病”。正确用药能够治疗疾病，解除病痛。然而，“是药三分毒”，凡是药物都带有一定的毒性或副作用，如果应用合理，可以防治疾病，反之，则有可能危害健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555"/>
          <p:cNvSpPr/>
          <p:nvPr/>
        </p:nvSpPr>
        <p:spPr>
          <a:xfrm>
            <a:off x="468360" y="3933720"/>
            <a:ext cx="806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日常生活中有时会发生一些危急情况或意外伤害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如吃错药、溺水、跌伤出血等。因此，了解一些安全用药的常识和急救方法，对于保障身体健康，挽救病人生命有重要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loud"/>
          <p:cNvSpPr/>
          <p:nvPr/>
        </p:nvSpPr>
        <p:spPr>
          <a:xfrm>
            <a:off x="1258920" y="706320"/>
            <a:ext cx="2819520" cy="1195560"/>
          </a:xfrm>
          <a:custGeom>
            <a:avLst/>
            <a:gdLst/>
            <a:ahLst/>
            <a:rect l="l" t="t" r="r" b="b"/>
            <a:pathLst>
              <a:path w="21631" h="21614">
                <a:moveTo>
                  <a:pt x="1950" y="7185"/>
                </a:moveTo>
                <a:cubicBezTo>
                  <a:pt x="854" y="7337"/>
                  <a:pt x="-1" y="8603"/>
                  <a:pt x="-1" y="10142"/>
                </a:cubicBezTo>
                <a:cubicBezTo>
                  <a:pt x="-1" y="11236"/>
                  <a:pt x="431" y="12192"/>
                  <a:pt x="1074" y="12708"/>
                </a:cubicBezTo>
                <a:cubicBezTo>
                  <a:pt x="709" y="13237"/>
                  <a:pt x="486" y="13948"/>
                  <a:pt x="486" y="14730"/>
                </a:cubicBezTo>
                <a:cubicBezTo>
                  <a:pt x="486" y="16364"/>
                  <a:pt x="1462" y="17689"/>
                  <a:pt x="2666" y="17689"/>
                </a:cubicBezTo>
                <a:cubicBezTo>
                  <a:pt x="2752" y="17689"/>
                  <a:pt x="2837" y="17682"/>
                  <a:pt x="2921" y="17669"/>
                </a:cubicBezTo>
                <a:cubicBezTo>
                  <a:pt x="3587" y="19254"/>
                  <a:pt x="4837" y="20320"/>
                  <a:pt x="6270" y="20320"/>
                </a:cubicBezTo>
                <a:cubicBezTo>
                  <a:pt x="6998" y="20320"/>
                  <a:pt x="7678" y="20045"/>
                  <a:pt x="8259" y="19567"/>
                </a:cubicBezTo>
                <a:cubicBezTo>
                  <a:pt x="8865" y="20802"/>
                  <a:pt x="9896" y="21614"/>
                  <a:pt x="11066" y="21614"/>
                </a:cubicBezTo>
                <a:cubicBezTo>
                  <a:pt x="12590" y="21614"/>
                  <a:pt x="13878" y="20236"/>
                  <a:pt x="14298" y="18343"/>
                </a:cubicBezTo>
                <a:cubicBezTo>
                  <a:pt x="14741" y="18721"/>
                  <a:pt x="15266" y="18939"/>
                  <a:pt x="15829" y="18939"/>
                </a:cubicBezTo>
                <a:cubicBezTo>
                  <a:pt x="17419" y="18939"/>
                  <a:pt x="18709" y="17195"/>
                  <a:pt x="18722" y="15037"/>
                </a:cubicBezTo>
                <a:cubicBezTo>
                  <a:pt x="20367" y="14720"/>
                  <a:pt x="21630" y="12798"/>
                  <a:pt x="21630" y="10474"/>
                </a:cubicBezTo>
                <a:cubicBezTo>
                  <a:pt x="21630" y="9417"/>
                  <a:pt x="21369" y="8443"/>
                  <a:pt x="20929" y="7666"/>
                </a:cubicBezTo>
                <a:cubicBezTo>
                  <a:pt x="21068" y="7226"/>
                  <a:pt x="21145" y="6741"/>
                  <a:pt x="21145" y="6232"/>
                </a:cubicBezTo>
                <a:cubicBezTo>
                  <a:pt x="21145" y="4555"/>
                  <a:pt x="20312" y="3142"/>
                  <a:pt x="19180" y="2722"/>
                </a:cubicBezTo>
                <a:cubicBezTo>
                  <a:pt x="18976" y="1178"/>
                  <a:pt x="17983" y="8"/>
                  <a:pt x="16789" y="8"/>
                </a:cubicBezTo>
                <a:cubicBezTo>
                  <a:pt x="16046" y="8"/>
                  <a:pt x="15382" y="460"/>
                  <a:pt x="14936" y="1173"/>
                </a:cubicBezTo>
                <a:cubicBezTo>
                  <a:pt x="14537" y="461"/>
                  <a:pt x="13908" y="2"/>
                  <a:pt x="13200" y="2"/>
                </a:cubicBezTo>
                <a:cubicBezTo>
                  <a:pt x="12345" y="2"/>
                  <a:pt x="11604" y="672"/>
                  <a:pt x="11246" y="1647"/>
                </a:cubicBezTo>
                <a:cubicBezTo>
                  <a:pt x="10765" y="1001"/>
                  <a:pt x="10104" y="602"/>
                  <a:pt x="9375" y="602"/>
                </a:cubicBezTo>
                <a:cubicBezTo>
                  <a:pt x="8354" y="602"/>
                  <a:pt x="7468" y="1383"/>
                  <a:pt x="7019" y="2531"/>
                </a:cubicBezTo>
                <a:cubicBezTo>
                  <a:pt x="6519" y="2130"/>
                  <a:pt x="5935" y="1900"/>
                  <a:pt x="5312" y="1900"/>
                </a:cubicBezTo>
                <a:cubicBezTo>
                  <a:pt x="3447" y="1900"/>
                  <a:pt x="1935" y="3957"/>
                  <a:pt x="1935" y="6495"/>
                </a:cubicBezTo>
                <a:cubicBezTo>
                  <a:pt x="1935" y="6706"/>
                  <a:pt x="1945" y="6913"/>
                  <a:pt x="1966" y="7117"/>
                </a:cubicBezTo>
                <a:close/>
              </a:path>
              <a:path fill="none" w="21631" h="21614">
                <a:moveTo>
                  <a:pt x="1080" y="12690"/>
                </a:moveTo>
                <a:cubicBezTo>
                  <a:pt x="1402" y="12949"/>
                  <a:pt x="1778" y="13097"/>
                  <a:pt x="2178" y="13097"/>
                </a:cubicBezTo>
                <a:cubicBezTo>
                  <a:pt x="2235" y="13097"/>
                  <a:pt x="2292" y="13094"/>
                  <a:pt x="2348" y="13088"/>
                </a:cubicBezTo>
              </a:path>
              <a:path fill="none" w="21631" h="21614">
                <a:moveTo>
                  <a:pt x="2910" y="17640"/>
                </a:moveTo>
                <a:cubicBezTo>
                  <a:pt x="3105" y="17609"/>
                  <a:pt x="3290" y="17544"/>
                  <a:pt x="3465" y="17450"/>
                </a:cubicBezTo>
              </a:path>
              <a:path fill="none" w="21631" h="21614">
                <a:moveTo>
                  <a:pt x="7905" y="18675"/>
                </a:moveTo>
                <a:cubicBezTo>
                  <a:pt x="7993" y="18984"/>
                  <a:pt x="8105" y="19275"/>
                  <a:pt x="8238" y="19546"/>
                </a:cubicBezTo>
              </a:path>
              <a:path fill="none" w="21631" h="21614">
                <a:moveTo>
                  <a:pt x="14280" y="18330"/>
                </a:moveTo>
                <a:cubicBezTo>
                  <a:pt x="14349" y="18025"/>
                  <a:pt x="14394" y="17705"/>
                  <a:pt x="14414" y="17375"/>
                </a:cubicBezTo>
              </a:path>
              <a:path fill="none" w="21631" h="21614">
                <a:moveTo>
                  <a:pt x="18690" y="15045"/>
                </a:moveTo>
                <a:cubicBezTo>
                  <a:pt x="18690" y="15034"/>
                  <a:pt x="18690" y="15024"/>
                  <a:pt x="18690" y="15013"/>
                </a:cubicBezTo>
                <a:cubicBezTo>
                  <a:pt x="18690" y="13459"/>
                  <a:pt x="18027" y="12115"/>
                  <a:pt x="17065" y="11476"/>
                </a:cubicBezTo>
              </a:path>
              <a:path fill="none" w="21631" h="21614">
                <a:moveTo>
                  <a:pt x="20175" y="9015"/>
                </a:moveTo>
                <a:cubicBezTo>
                  <a:pt x="20486" y="8654"/>
                  <a:pt x="20736" y="8197"/>
                  <a:pt x="20900" y="7678"/>
                </a:cubicBezTo>
              </a:path>
              <a:path fill="none" w="21631" h="21614">
                <a:moveTo>
                  <a:pt x="19200" y="3345"/>
                </a:moveTo>
                <a:cubicBezTo>
                  <a:pt x="19200" y="3329"/>
                  <a:pt x="19200" y="3313"/>
                  <a:pt x="19200" y="3297"/>
                </a:cubicBezTo>
                <a:cubicBezTo>
                  <a:pt x="19200" y="3097"/>
                  <a:pt x="19187" y="2901"/>
                  <a:pt x="19162" y="2711"/>
                </a:cubicBezTo>
              </a:path>
              <a:path fill="none" w="21631" h="21614">
                <a:moveTo>
                  <a:pt x="14910" y="1170"/>
                </a:moveTo>
                <a:cubicBezTo>
                  <a:pt x="14759" y="1412"/>
                  <a:pt x="14634" y="1683"/>
                  <a:pt x="14539" y="1976"/>
                </a:cubicBezTo>
              </a:path>
              <a:path fill="none" w="21631" h="21614">
                <a:moveTo>
                  <a:pt x="11250" y="1665"/>
                </a:moveTo>
                <a:cubicBezTo>
                  <a:pt x="11169" y="1882"/>
                  <a:pt x="11108" y="2115"/>
                  <a:pt x="11069" y="2360"/>
                </a:cubicBezTo>
              </a:path>
              <a:path fill="none" w="21631" h="21614">
                <a:moveTo>
                  <a:pt x="7650" y="3270"/>
                </a:moveTo>
                <a:cubicBezTo>
                  <a:pt x="7455" y="3011"/>
                  <a:pt x="7237" y="2784"/>
                  <a:pt x="7001" y="2595"/>
                </a:cubicBezTo>
              </a:path>
              <a:path fill="none" w="21631" h="21614">
                <a:moveTo>
                  <a:pt x="1950" y="7185"/>
                </a:moveTo>
                <a:cubicBezTo>
                  <a:pt x="1974" y="7430"/>
                  <a:pt x="2012" y="7667"/>
                  <a:pt x="2063" y="7896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24578"/>
          <p:cNvSpPr/>
          <p:nvPr/>
        </p:nvSpPr>
        <p:spPr>
          <a:xfrm>
            <a:off x="1042920" y="2073240"/>
            <a:ext cx="7561440" cy="4076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rnd" w="57240">
            <a:solidFill>
              <a:srgbClr val="ffcc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4581"/>
          <p:cNvSpPr/>
          <p:nvPr/>
        </p:nvSpPr>
        <p:spPr>
          <a:xfrm>
            <a:off x="468360" y="790560"/>
            <a:ext cx="43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4546a"/>
                </a:solidFill>
                <a:latin typeface="Franklin Gothic Medium"/>
                <a:ea typeface="黑体"/>
              </a:rPr>
              <a:t>小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4583"/>
          <p:cNvSpPr/>
          <p:nvPr/>
        </p:nvSpPr>
        <p:spPr>
          <a:xfrm>
            <a:off x="1187280" y="2433600"/>
            <a:ext cx="7129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常见的药物不良反应有：青霉素过敏反应，轻者会出现皮疹及哮喘发作，严重时会发生过敏性休克，若抢救不及时会死亡；长期或大剂量服用阿司匹林可引起胃肠溃疡、出血或穿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5602"/>
          <p:cNvSpPr/>
          <p:nvPr/>
        </p:nvSpPr>
        <p:spPr>
          <a:xfrm>
            <a:off x="900000" y="2205000"/>
            <a:ext cx="784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安全用药是指根据病人的病情、体质和药物的作用适当选择药物的品种，以适当的方法、剂量和时间准确用药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，充分发挥药物的最佳效果，尽量减小药物对人体所产生的不良影响或危害。</a:t>
            </a:r>
            <a:r>
              <a:rPr b="1" lang="zh-CN" sz="3200" spc="-1" strike="noStrike">
                <a:solidFill>
                  <a:srgbClr val="cc0066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845640"/>
            <a:ext cx="75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什么是安全用药？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圆角矩形 26625"/>
          <p:cNvSpPr/>
          <p:nvPr/>
        </p:nvSpPr>
        <p:spPr>
          <a:xfrm>
            <a:off x="4211640" y="2781360"/>
            <a:ext cx="4105440" cy="3240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rnd" w="57240">
            <a:solidFill>
              <a:srgbClr val="ffcc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6626"/>
          <p:cNvSpPr/>
          <p:nvPr/>
        </p:nvSpPr>
        <p:spPr>
          <a:xfrm>
            <a:off x="826920" y="836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药物可分为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处方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非处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6627"/>
          <p:cNvSpPr/>
          <p:nvPr/>
        </p:nvSpPr>
        <p:spPr>
          <a:xfrm>
            <a:off x="5219280" y="1773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什么是处方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6628"/>
          <p:cNvSpPr/>
          <p:nvPr/>
        </p:nvSpPr>
        <p:spPr>
          <a:xfrm>
            <a:off x="4356000" y="3068640"/>
            <a:ext cx="39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处方药是指必须凭执业医师或执业助理医师的处方才可以购买，并按医嘱服用的药物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r>
              <a:rPr b="1" lang="zh-CN" sz="3200" spc="-1" strike="noStrike">
                <a:solidFill>
                  <a:srgbClr val="e53c07"/>
                </a:solidFill>
                <a:latin typeface="楷体"/>
                <a:ea typeface="楷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简称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Rx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26629" descr="200671491720"/>
          <p:cNvPicPr/>
          <p:nvPr/>
        </p:nvPicPr>
        <p:blipFill>
          <a:blip r:embed="rId1"/>
          <a:srcRect l="4446" t="9999" r="4446" b="13337"/>
          <a:stretch/>
        </p:blipFill>
        <p:spPr>
          <a:xfrm>
            <a:off x="1042920" y="2708280"/>
            <a:ext cx="2925720" cy="331164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圆角矩形 27649"/>
          <p:cNvSpPr/>
          <p:nvPr/>
        </p:nvSpPr>
        <p:spPr>
          <a:xfrm>
            <a:off x="4140360" y="1801800"/>
            <a:ext cx="4816440" cy="3211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rnd" w="57240">
            <a:solidFill>
              <a:srgbClr val="ffcc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7650"/>
          <p:cNvSpPr/>
          <p:nvPr/>
        </p:nvSpPr>
        <p:spPr>
          <a:xfrm>
            <a:off x="5202000" y="836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什么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非处方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7651"/>
          <p:cNvSpPr/>
          <p:nvPr/>
        </p:nvSpPr>
        <p:spPr>
          <a:xfrm>
            <a:off x="4282920" y="19112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不需要凭医师处方即可购买，按所附说明服用的药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7652"/>
          <p:cNvSpPr/>
          <p:nvPr/>
        </p:nvSpPr>
        <p:spPr>
          <a:xfrm>
            <a:off x="4284720" y="3424320"/>
            <a:ext cx="460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非处方药适于消费者可以自我诊断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、自我治疗的小伤小病。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简称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OTC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27653" descr="118266_1"/>
          <p:cNvPicPr/>
          <p:nvPr/>
        </p:nvPicPr>
        <p:blipFill>
          <a:blip r:embed="rId1"/>
          <a:srcRect l="10494" t="12426" r="9394" b="13994"/>
          <a:stretch/>
        </p:blipFill>
        <p:spPr>
          <a:xfrm>
            <a:off x="826920" y="1268280"/>
            <a:ext cx="3083040" cy="39592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8675" descr="p087c"/>
          <p:cNvPicPr/>
          <p:nvPr/>
        </p:nvPicPr>
        <p:blipFill>
          <a:blip r:embed="rId1"/>
          <a:stretch/>
        </p:blipFill>
        <p:spPr>
          <a:xfrm>
            <a:off x="971640" y="555480"/>
            <a:ext cx="7632720" cy="572292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0440" y="790200"/>
            <a:ext cx="7056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处方药与非处方药的区别</a:t>
            </a:r>
            <a:endParaRPr b="0" lang="en-US" sz="3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16000" y="2060640"/>
          <a:ext cx="7704000" cy="4032360"/>
        </p:xfrm>
        <a:graphic>
          <a:graphicData uri="http://schemas.openxmlformats.org/drawingml/2006/table">
            <a:tbl>
              <a:tblPr/>
              <a:tblGrid>
                <a:gridCol w="2125800"/>
                <a:gridCol w="3252600"/>
                <a:gridCol w="2325600"/>
              </a:tblGrid>
              <a:tr h="110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药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购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服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处方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非处方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文本框 29716"/>
          <p:cNvSpPr/>
          <p:nvPr/>
        </p:nvSpPr>
        <p:spPr>
          <a:xfrm>
            <a:off x="3132000" y="320832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凭执业医师或执业助理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楷体"/>
              </a:rPr>
              <a:t>医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所开的处方购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9717"/>
          <p:cNvSpPr/>
          <p:nvPr/>
        </p:nvSpPr>
        <p:spPr>
          <a:xfrm>
            <a:off x="3276720" y="4930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消费者按需要自行购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9718"/>
          <p:cNvSpPr/>
          <p:nvPr/>
        </p:nvSpPr>
        <p:spPr>
          <a:xfrm>
            <a:off x="6659640" y="350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按医嘱服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9719"/>
          <p:cNvSpPr/>
          <p:nvPr/>
        </p:nvSpPr>
        <p:spPr>
          <a:xfrm>
            <a:off x="6516720" y="4941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按所附说明服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9720" descr="09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12254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4103"/>
          <p:cNvSpPr/>
          <p:nvPr/>
        </p:nvSpPr>
        <p:spPr>
          <a:xfrm>
            <a:off x="106200" y="46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4T05:37:15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