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png" ContentType="image/png"/>
  <Override PartName="/ppt/media/image5.png" ContentType="image/png"/>
  <Override PartName="/ppt/media/image30.png" ContentType="image/png"/>
  <Override PartName="/ppt/media/image27.jpeg" ContentType="image/jpeg"/>
  <Override PartName="/ppt/media/image29.jpeg" ContentType="image/jpeg"/>
  <Override PartName="/ppt/media/image7.gif" ContentType="image/gif"/>
  <Override PartName="/ppt/media/image26.jpeg" ContentType="image/jpeg"/>
  <Override PartName="/ppt/media/image12.gif" ContentType="image/gif"/>
  <Override PartName="/ppt/media/image15.png" ContentType="image/png"/>
  <Override PartName="/ppt/media/image10.gif" ContentType="image/gif"/>
  <Override PartName="/ppt/media/image14.png" ContentType="image/png"/>
  <Override PartName="/ppt/media/image11.gif" ContentType="image/gif"/>
  <Override PartName="/ppt/media/image8.png" ContentType="image/png"/>
  <Override PartName="/ppt/media/chimes.wav" ContentType="audio/x-wav"/>
  <Override PartName="/ppt/media/image1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C93E-C5F3-4BC9-A656-EA2E17EE0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6675-B177-4DA8-92C9-D02B9770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1E8B-EF26-41DB-8D6C-DE8552896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533A-5599-4EFE-AABF-379F869DF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2B97-9F0B-4F16-ACFC-A7E0608D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EBCE-6356-4BCD-8C0D-56BD186F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8ECC-7F86-45A2-9DBB-65444606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9836-2F6E-44AA-81E7-BAA31C0F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D334-E9B9-4F9E-8EC4-8A16C537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3DF4-625F-46A3-B6C6-B9B5FCE5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DDD5-4EF7-494B-BBDD-DAB89454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7A97-5D6F-4D1A-A6E3-0084BC4E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B1ED-1716-43C7-B645-6442941FB539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C50F-5BDE-4C1E-9326-C62CA5386AF7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689640" y="2498040"/>
            <a:ext cx="240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90909"/>
                </a:solidFill>
                <a:latin typeface="宋体"/>
              </a:rPr>
              <a:t>第一章 传染病和免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00000" y="17715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70707"/>
                </a:solidFill>
                <a:latin typeface="黑体"/>
                <a:ea typeface="黑体"/>
              </a:rPr>
              <a:t>第八单元 健康地生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268360" y="3137400"/>
            <a:ext cx="51832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第二节 免疫与计划免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课时  人体的三道防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文本框 133123"/>
          <p:cNvSpPr/>
          <p:nvPr/>
        </p:nvSpPr>
        <p:spPr>
          <a:xfrm>
            <a:off x="971640" y="1052640"/>
            <a:ext cx="81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思考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道防线和第二道防线共有什么特点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133124"/>
          <p:cNvSpPr/>
          <p:nvPr/>
        </p:nvSpPr>
        <p:spPr>
          <a:xfrm>
            <a:off x="934920" y="1994040"/>
            <a:ext cx="81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、人类进化过程中形成的天然防御功能，是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人生来就有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133125"/>
          <p:cNvSpPr/>
          <p:nvPr/>
        </p:nvSpPr>
        <p:spPr>
          <a:xfrm>
            <a:off x="934920" y="2930400"/>
            <a:ext cx="78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不针对某一特定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的病原体，而是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对多种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病原体都有防御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33126"/>
          <p:cNvSpPr/>
          <p:nvPr/>
        </p:nvSpPr>
        <p:spPr>
          <a:xfrm>
            <a:off x="1008000" y="4083120"/>
            <a:ext cx="80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种免疫叫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非特异性免疫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又叫先天性免疫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齿轮1 501"/>
          <p:cNvSpPr/>
          <p:nvPr/>
        </p:nvSpPr>
        <p:spPr>
          <a:xfrm rot="720000">
            <a:off x="914400" y="937800"/>
            <a:ext cx="706320" cy="500040"/>
          </a:xfrm>
          <a:custGeom>
            <a:avLst/>
            <a:gdLst/>
            <a:ahLst/>
            <a:rect l="l" t="t" r="r" b="b"/>
            <a:pathLst>
              <a:path w="2063518" h="1276454">
                <a:moveTo>
                  <a:pt x="1631470" y="557485"/>
                </a:moveTo>
                <a:cubicBezTo>
                  <a:pt x="1479172" y="557485"/>
                  <a:pt x="1355710" y="680947"/>
                  <a:pt x="1355710" y="833245"/>
                </a:cubicBezTo>
                <a:cubicBezTo>
                  <a:pt x="1355710" y="985543"/>
                  <a:pt x="1479172" y="1109005"/>
                  <a:pt x="1631470" y="1109005"/>
                </a:cubicBezTo>
                <a:cubicBezTo>
                  <a:pt x="1783768" y="1109005"/>
                  <a:pt x="1907230" y="985543"/>
                  <a:pt x="1907230" y="833245"/>
                </a:cubicBezTo>
                <a:cubicBezTo>
                  <a:pt x="1907230" y="680947"/>
                  <a:pt x="1783768" y="557485"/>
                  <a:pt x="1631470" y="557485"/>
                </a:cubicBezTo>
                <a:close/>
                <a:moveTo>
                  <a:pt x="1596087" y="400771"/>
                </a:moveTo>
                <a:lnTo>
                  <a:pt x="1666853" y="400771"/>
                </a:lnTo>
                <a:lnTo>
                  <a:pt x="1682233" y="488008"/>
                </a:lnTo>
                <a:cubicBezTo>
                  <a:pt x="1729134" y="494904"/>
                  <a:pt x="1774137" y="511284"/>
                  <a:pt x="1814498" y="536149"/>
                </a:cubicBezTo>
                <a:lnTo>
                  <a:pt x="1882355" y="479207"/>
                </a:lnTo>
                <a:lnTo>
                  <a:pt x="1936564" y="524695"/>
                </a:lnTo>
                <a:lnTo>
                  <a:pt x="1892271" y="601408"/>
                </a:lnTo>
                <a:cubicBezTo>
                  <a:pt x="1923766" y="636838"/>
                  <a:pt x="1947711" y="678313"/>
                  <a:pt x="1962647" y="723304"/>
                </a:cubicBezTo>
                <a:lnTo>
                  <a:pt x="2051230" y="723302"/>
                </a:lnTo>
                <a:lnTo>
                  <a:pt x="2063518" y="792992"/>
                </a:lnTo>
                <a:lnTo>
                  <a:pt x="1980277" y="823287"/>
                </a:lnTo>
                <a:cubicBezTo>
                  <a:pt x="1981630" y="870672"/>
                  <a:pt x="1973314" y="917837"/>
                  <a:pt x="1955836" y="961902"/>
                </a:cubicBezTo>
                <a:lnTo>
                  <a:pt x="2023695" y="1018840"/>
                </a:lnTo>
                <a:lnTo>
                  <a:pt x="1988313" y="1080125"/>
                </a:lnTo>
                <a:lnTo>
                  <a:pt x="1905073" y="1049826"/>
                </a:lnTo>
                <a:cubicBezTo>
                  <a:pt x="1875651" y="1086995"/>
                  <a:pt x="1838963" y="1117779"/>
                  <a:pt x="1797250" y="1140300"/>
                </a:cubicBezTo>
                <a:lnTo>
                  <a:pt x="1812635" y="1227537"/>
                </a:lnTo>
                <a:lnTo>
                  <a:pt x="1746136" y="1251740"/>
                </a:lnTo>
                <a:lnTo>
                  <a:pt x="1701847" y="1175024"/>
                </a:lnTo>
                <a:cubicBezTo>
                  <a:pt x="1655416" y="1184585"/>
                  <a:pt x="1607524" y="1184585"/>
                  <a:pt x="1561093" y="1175024"/>
                </a:cubicBezTo>
                <a:lnTo>
                  <a:pt x="1516804" y="1251740"/>
                </a:lnTo>
                <a:lnTo>
                  <a:pt x="1450306" y="1227537"/>
                </a:lnTo>
                <a:lnTo>
                  <a:pt x="1465691" y="1140300"/>
                </a:lnTo>
                <a:cubicBezTo>
                  <a:pt x="1423978" y="1117779"/>
                  <a:pt x="1387290" y="1086995"/>
                  <a:pt x="1357868" y="1049826"/>
                </a:cubicBezTo>
                <a:lnTo>
                  <a:pt x="1274628" y="1080125"/>
                </a:lnTo>
                <a:lnTo>
                  <a:pt x="1239245" y="1018840"/>
                </a:lnTo>
                <a:lnTo>
                  <a:pt x="1307105" y="961902"/>
                </a:lnTo>
                <a:cubicBezTo>
                  <a:pt x="1289627" y="917837"/>
                  <a:pt x="1281310" y="870672"/>
                  <a:pt x="1282663" y="823287"/>
                </a:cubicBezTo>
                <a:lnTo>
                  <a:pt x="1199422" y="792992"/>
                </a:lnTo>
                <a:lnTo>
                  <a:pt x="1211710" y="723302"/>
                </a:lnTo>
                <a:lnTo>
                  <a:pt x="1300293" y="723304"/>
                </a:lnTo>
                <a:cubicBezTo>
                  <a:pt x="1315229" y="678313"/>
                  <a:pt x="1339174" y="636838"/>
                  <a:pt x="1370670" y="601408"/>
                </a:cubicBezTo>
                <a:lnTo>
                  <a:pt x="1326376" y="524695"/>
                </a:lnTo>
                <a:lnTo>
                  <a:pt x="1380586" y="479207"/>
                </a:lnTo>
                <a:lnTo>
                  <a:pt x="1448443" y="536149"/>
                </a:lnTo>
                <a:cubicBezTo>
                  <a:pt x="1488803" y="511284"/>
                  <a:pt x="1533807" y="494905"/>
                  <a:pt x="1580707" y="488008"/>
                </a:cubicBezTo>
                <a:lnTo>
                  <a:pt x="1596087" y="400771"/>
                </a:lnTo>
                <a:close/>
                <a:moveTo>
                  <a:pt x="648072" y="235071"/>
                </a:moveTo>
                <a:cubicBezTo>
                  <a:pt x="419625" y="235071"/>
                  <a:pt x="234432" y="420264"/>
                  <a:pt x="234432" y="648711"/>
                </a:cubicBezTo>
                <a:cubicBezTo>
                  <a:pt x="234432" y="877158"/>
                  <a:pt x="419625" y="1062352"/>
                  <a:pt x="648072" y="1062352"/>
                </a:cubicBezTo>
                <a:cubicBezTo>
                  <a:pt x="876519" y="1062352"/>
                  <a:pt x="1061712" y="877158"/>
                  <a:pt x="1061712" y="648711"/>
                </a:cubicBezTo>
                <a:cubicBezTo>
                  <a:pt x="1061712" y="420264"/>
                  <a:pt x="876519" y="235071"/>
                  <a:pt x="648072" y="235071"/>
                </a:cubicBezTo>
                <a:close/>
                <a:moveTo>
                  <a:pt x="594998" y="0"/>
                </a:moveTo>
                <a:lnTo>
                  <a:pt x="701146" y="0"/>
                </a:lnTo>
                <a:lnTo>
                  <a:pt x="724216" y="130856"/>
                </a:lnTo>
                <a:cubicBezTo>
                  <a:pt x="794567" y="141200"/>
                  <a:pt x="862072" y="165770"/>
                  <a:pt x="922614" y="203067"/>
                </a:cubicBezTo>
                <a:lnTo>
                  <a:pt x="1024399" y="117654"/>
                </a:lnTo>
                <a:lnTo>
                  <a:pt x="1105713" y="185886"/>
                </a:lnTo>
                <a:lnTo>
                  <a:pt x="1039273" y="300956"/>
                </a:lnTo>
                <a:cubicBezTo>
                  <a:pt x="1086516" y="354101"/>
                  <a:pt x="1122434" y="416314"/>
                  <a:pt x="1144837" y="483799"/>
                </a:cubicBezTo>
                <a:lnTo>
                  <a:pt x="1277712" y="483796"/>
                </a:lnTo>
                <a:lnTo>
                  <a:pt x="1296144" y="588332"/>
                </a:lnTo>
                <a:lnTo>
                  <a:pt x="1171283" y="633774"/>
                </a:lnTo>
                <a:cubicBezTo>
                  <a:pt x="1173312" y="704852"/>
                  <a:pt x="1160838" y="775599"/>
                  <a:pt x="1134620" y="841697"/>
                </a:cubicBezTo>
                <a:lnTo>
                  <a:pt x="1236410" y="927104"/>
                </a:lnTo>
                <a:lnTo>
                  <a:pt x="1183336" y="1019032"/>
                </a:lnTo>
                <a:lnTo>
                  <a:pt x="1058476" y="973583"/>
                </a:lnTo>
                <a:cubicBezTo>
                  <a:pt x="1014343" y="1029336"/>
                  <a:pt x="959312" y="1075513"/>
                  <a:pt x="896742" y="1109294"/>
                </a:cubicBezTo>
                <a:lnTo>
                  <a:pt x="919819" y="1240149"/>
                </a:lnTo>
                <a:lnTo>
                  <a:pt x="820071" y="1276454"/>
                </a:lnTo>
                <a:lnTo>
                  <a:pt x="753637" y="1161380"/>
                </a:lnTo>
                <a:cubicBezTo>
                  <a:pt x="683991" y="1175721"/>
                  <a:pt x="612153" y="1175721"/>
                  <a:pt x="542507" y="1161380"/>
                </a:cubicBezTo>
                <a:lnTo>
                  <a:pt x="476073" y="1276454"/>
                </a:lnTo>
                <a:lnTo>
                  <a:pt x="376326" y="1240149"/>
                </a:lnTo>
                <a:lnTo>
                  <a:pt x="399403" y="1109294"/>
                </a:lnTo>
                <a:cubicBezTo>
                  <a:pt x="336833" y="1075513"/>
                  <a:pt x="281802" y="1029336"/>
                  <a:pt x="237669" y="973583"/>
                </a:cubicBezTo>
                <a:lnTo>
                  <a:pt x="112809" y="1019032"/>
                </a:lnTo>
                <a:lnTo>
                  <a:pt x="59735" y="927104"/>
                </a:lnTo>
                <a:lnTo>
                  <a:pt x="161524" y="841697"/>
                </a:lnTo>
                <a:cubicBezTo>
                  <a:pt x="135307" y="775599"/>
                  <a:pt x="122832" y="704852"/>
                  <a:pt x="124862" y="633774"/>
                </a:cubicBezTo>
                <a:lnTo>
                  <a:pt x="0" y="588332"/>
                </a:lnTo>
                <a:lnTo>
                  <a:pt x="18432" y="483796"/>
                </a:lnTo>
                <a:lnTo>
                  <a:pt x="151306" y="483799"/>
                </a:lnTo>
                <a:cubicBezTo>
                  <a:pt x="173710" y="416314"/>
                  <a:pt x="209628" y="354100"/>
                  <a:pt x="256871" y="300956"/>
                </a:cubicBezTo>
                <a:lnTo>
                  <a:pt x="190431" y="185886"/>
                </a:lnTo>
                <a:lnTo>
                  <a:pt x="271746" y="117654"/>
                </a:lnTo>
                <a:lnTo>
                  <a:pt x="373531" y="203067"/>
                </a:lnTo>
                <a:cubicBezTo>
                  <a:pt x="434072" y="165770"/>
                  <a:pt x="501577" y="141200"/>
                  <a:pt x="571928" y="130856"/>
                </a:cubicBezTo>
                <a:lnTo>
                  <a:pt x="594998" y="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50182"/>
          <p:cNvSpPr/>
          <p:nvPr/>
        </p:nvSpPr>
        <p:spPr>
          <a:xfrm>
            <a:off x="1676520" y="905040"/>
            <a:ext cx="692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探究点二  人体的第二道防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50183"/>
          <p:cNvSpPr/>
          <p:nvPr/>
        </p:nvSpPr>
        <p:spPr>
          <a:xfrm>
            <a:off x="647640" y="5877000"/>
            <a:ext cx="8317080" cy="550800"/>
          </a:xfrm>
          <a:prstGeom prst="rect">
            <a:avLst/>
          </a:prstGeom>
          <a:gradFill rotWithShape="0">
            <a:gsLst>
              <a:gs pos="0">
                <a:srgbClr val="5b9bd5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"/>
              </a:rPr>
              <a:t>溶菌酶能破坏许多病菌的</a:t>
            </a:r>
            <a:r>
              <a:rPr b="1" lang="zh-CN" sz="3000" spc="-1" strike="noStrike" u="sng">
                <a:solidFill>
                  <a:srgbClr val="ff0000"/>
                </a:solidFill>
                <a:uFillTx/>
                <a:latin typeface="Arial"/>
                <a:ea typeface="楷体"/>
              </a:rPr>
              <a:t>细胞壁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"/>
              </a:rPr>
              <a:t>，使病菌</a:t>
            </a:r>
            <a:r>
              <a:rPr b="1" lang="zh-CN" sz="3000" spc="-1" strike="noStrike" u="sng">
                <a:solidFill>
                  <a:srgbClr val="ff0000"/>
                </a:solidFill>
                <a:uFillTx/>
                <a:latin typeface="Arial"/>
                <a:ea typeface="楷体"/>
              </a:rPr>
              <a:t>溶解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楷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50184"/>
          <p:cNvSpPr/>
          <p:nvPr/>
        </p:nvSpPr>
        <p:spPr>
          <a:xfrm>
            <a:off x="7444440" y="1341360"/>
            <a:ext cx="7898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溶菌酶的作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50185" descr="00041"/>
          <p:cNvPicPr/>
          <p:nvPr/>
        </p:nvPicPr>
        <p:blipFill>
          <a:blip r:embed="rId1"/>
          <a:stretch/>
        </p:blipFill>
        <p:spPr>
          <a:xfrm>
            <a:off x="1547640" y="1557360"/>
            <a:ext cx="5440680" cy="403380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文本框 54273"/>
          <p:cNvSpPr/>
          <p:nvPr/>
        </p:nvSpPr>
        <p:spPr>
          <a:xfrm>
            <a:off x="1979640" y="5805360"/>
            <a:ext cx="61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吞噬细胞的</a:t>
            </a:r>
            <a:r>
              <a:rPr b="0" lang="zh-CN" sz="4000" spc="-1" strike="noStrike" u="sng">
                <a:solidFill>
                  <a:srgbClr val="ff0000"/>
                </a:solidFill>
                <a:uFillTx/>
                <a:latin typeface="Arial"/>
                <a:ea typeface="华文行楷"/>
              </a:rPr>
              <a:t>吞噬作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54274" descr="00051"/>
          <p:cNvPicPr/>
          <p:nvPr/>
        </p:nvPicPr>
        <p:blipFill>
          <a:blip r:embed="rId1"/>
          <a:stretch/>
        </p:blipFill>
        <p:spPr>
          <a:xfrm>
            <a:off x="1908000" y="981000"/>
            <a:ext cx="5616720" cy="457668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56321" descr="巨噬细胞吞噬大肠杆菌"/>
          <p:cNvPicPr/>
          <p:nvPr/>
        </p:nvPicPr>
        <p:blipFill>
          <a:blip r:embed="rId1"/>
          <a:stretch/>
        </p:blipFill>
        <p:spPr>
          <a:xfrm>
            <a:off x="2195640" y="836640"/>
            <a:ext cx="4809960" cy="4762440"/>
          </a:xfrm>
          <a:prstGeom prst="rect">
            <a:avLst/>
          </a:prstGeom>
          <a:ln w="0">
            <a:noFill/>
          </a:ln>
        </p:spPr>
      </p:pic>
      <p:sp>
        <p:nvSpPr>
          <p:cNvPr id="91" name="矩形 56323"/>
          <p:cNvSpPr/>
          <p:nvPr/>
        </p:nvSpPr>
        <p:spPr>
          <a:xfrm>
            <a:off x="2814480" y="579132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吞噬细胞正在吞噬大肠杆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640" y="76464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400" spc="-1" strike="noStrike">
                <a:solidFill>
                  <a:srgbClr val="ff0000"/>
                </a:solidFill>
                <a:latin typeface="Franklin Gothic Medium"/>
                <a:ea typeface="隶书"/>
              </a:rPr>
              <a:t>人体第二道防线的作用</a:t>
            </a:r>
            <a:endParaRPr b="0" lang="en-US" sz="3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3213000"/>
            <a:ext cx="84582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0">
              <a:lnSpc>
                <a:spcPct val="13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体液中的杀菌物质中含有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溶菌酶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破坏病  菌的细胞壁，使病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溶解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吞噬细胞可以直接将病原体</a:t>
            </a:r>
            <a:r>
              <a:rPr b="1" lang="zh-CN" sz="21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吞噬</a:t>
            </a: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消化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5" name="文本框 58371"/>
          <p:cNvSpPr/>
          <p:nvPr/>
        </p:nvSpPr>
        <p:spPr>
          <a:xfrm>
            <a:off x="1042920" y="191628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组成：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溶菌酶和吞噬细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58372"/>
          <p:cNvSpPr/>
          <p:nvPr/>
        </p:nvSpPr>
        <p:spPr>
          <a:xfrm>
            <a:off x="1044720" y="25653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功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齿轮1 501"/>
          <p:cNvSpPr/>
          <p:nvPr/>
        </p:nvSpPr>
        <p:spPr>
          <a:xfrm rot="720000">
            <a:off x="914400" y="937800"/>
            <a:ext cx="706320" cy="500040"/>
          </a:xfrm>
          <a:custGeom>
            <a:avLst/>
            <a:gdLst/>
            <a:ahLst/>
            <a:rect l="l" t="t" r="r" b="b"/>
            <a:pathLst>
              <a:path w="2063518" h="1276454">
                <a:moveTo>
                  <a:pt x="1631470" y="557485"/>
                </a:moveTo>
                <a:cubicBezTo>
                  <a:pt x="1479172" y="557485"/>
                  <a:pt x="1355710" y="680947"/>
                  <a:pt x="1355710" y="833245"/>
                </a:cubicBezTo>
                <a:cubicBezTo>
                  <a:pt x="1355710" y="985543"/>
                  <a:pt x="1479172" y="1109005"/>
                  <a:pt x="1631470" y="1109005"/>
                </a:cubicBezTo>
                <a:cubicBezTo>
                  <a:pt x="1783768" y="1109005"/>
                  <a:pt x="1907230" y="985543"/>
                  <a:pt x="1907230" y="833245"/>
                </a:cubicBezTo>
                <a:cubicBezTo>
                  <a:pt x="1907230" y="680947"/>
                  <a:pt x="1783768" y="557485"/>
                  <a:pt x="1631470" y="557485"/>
                </a:cubicBezTo>
                <a:close/>
                <a:moveTo>
                  <a:pt x="1596087" y="400771"/>
                </a:moveTo>
                <a:lnTo>
                  <a:pt x="1666853" y="400771"/>
                </a:lnTo>
                <a:lnTo>
                  <a:pt x="1682233" y="488008"/>
                </a:lnTo>
                <a:cubicBezTo>
                  <a:pt x="1729134" y="494904"/>
                  <a:pt x="1774137" y="511284"/>
                  <a:pt x="1814498" y="536149"/>
                </a:cubicBezTo>
                <a:lnTo>
                  <a:pt x="1882355" y="479207"/>
                </a:lnTo>
                <a:lnTo>
                  <a:pt x="1936564" y="524695"/>
                </a:lnTo>
                <a:lnTo>
                  <a:pt x="1892271" y="601408"/>
                </a:lnTo>
                <a:cubicBezTo>
                  <a:pt x="1923766" y="636838"/>
                  <a:pt x="1947711" y="678313"/>
                  <a:pt x="1962647" y="723304"/>
                </a:cubicBezTo>
                <a:lnTo>
                  <a:pt x="2051230" y="723302"/>
                </a:lnTo>
                <a:lnTo>
                  <a:pt x="2063518" y="792992"/>
                </a:lnTo>
                <a:lnTo>
                  <a:pt x="1980277" y="823287"/>
                </a:lnTo>
                <a:cubicBezTo>
                  <a:pt x="1981630" y="870672"/>
                  <a:pt x="1973314" y="917837"/>
                  <a:pt x="1955836" y="961902"/>
                </a:cubicBezTo>
                <a:lnTo>
                  <a:pt x="2023695" y="1018840"/>
                </a:lnTo>
                <a:lnTo>
                  <a:pt x="1988313" y="1080125"/>
                </a:lnTo>
                <a:lnTo>
                  <a:pt x="1905073" y="1049826"/>
                </a:lnTo>
                <a:cubicBezTo>
                  <a:pt x="1875651" y="1086995"/>
                  <a:pt x="1838963" y="1117779"/>
                  <a:pt x="1797250" y="1140300"/>
                </a:cubicBezTo>
                <a:lnTo>
                  <a:pt x="1812635" y="1227537"/>
                </a:lnTo>
                <a:lnTo>
                  <a:pt x="1746136" y="1251740"/>
                </a:lnTo>
                <a:lnTo>
                  <a:pt x="1701847" y="1175024"/>
                </a:lnTo>
                <a:cubicBezTo>
                  <a:pt x="1655416" y="1184585"/>
                  <a:pt x="1607524" y="1184585"/>
                  <a:pt x="1561093" y="1175024"/>
                </a:cubicBezTo>
                <a:lnTo>
                  <a:pt x="1516804" y="1251740"/>
                </a:lnTo>
                <a:lnTo>
                  <a:pt x="1450306" y="1227537"/>
                </a:lnTo>
                <a:lnTo>
                  <a:pt x="1465691" y="1140300"/>
                </a:lnTo>
                <a:cubicBezTo>
                  <a:pt x="1423978" y="1117779"/>
                  <a:pt x="1387290" y="1086995"/>
                  <a:pt x="1357868" y="1049826"/>
                </a:cubicBezTo>
                <a:lnTo>
                  <a:pt x="1274628" y="1080125"/>
                </a:lnTo>
                <a:lnTo>
                  <a:pt x="1239245" y="1018840"/>
                </a:lnTo>
                <a:lnTo>
                  <a:pt x="1307105" y="961902"/>
                </a:lnTo>
                <a:cubicBezTo>
                  <a:pt x="1289627" y="917837"/>
                  <a:pt x="1281310" y="870672"/>
                  <a:pt x="1282663" y="823287"/>
                </a:cubicBezTo>
                <a:lnTo>
                  <a:pt x="1199422" y="792992"/>
                </a:lnTo>
                <a:lnTo>
                  <a:pt x="1211710" y="723302"/>
                </a:lnTo>
                <a:lnTo>
                  <a:pt x="1300293" y="723304"/>
                </a:lnTo>
                <a:cubicBezTo>
                  <a:pt x="1315229" y="678313"/>
                  <a:pt x="1339174" y="636838"/>
                  <a:pt x="1370670" y="601408"/>
                </a:cubicBezTo>
                <a:lnTo>
                  <a:pt x="1326376" y="524695"/>
                </a:lnTo>
                <a:lnTo>
                  <a:pt x="1380586" y="479207"/>
                </a:lnTo>
                <a:lnTo>
                  <a:pt x="1448443" y="536149"/>
                </a:lnTo>
                <a:cubicBezTo>
                  <a:pt x="1488803" y="511284"/>
                  <a:pt x="1533807" y="494905"/>
                  <a:pt x="1580707" y="488008"/>
                </a:cubicBezTo>
                <a:lnTo>
                  <a:pt x="1596087" y="400771"/>
                </a:lnTo>
                <a:close/>
                <a:moveTo>
                  <a:pt x="648072" y="235071"/>
                </a:moveTo>
                <a:cubicBezTo>
                  <a:pt x="419625" y="235071"/>
                  <a:pt x="234432" y="420264"/>
                  <a:pt x="234432" y="648711"/>
                </a:cubicBezTo>
                <a:cubicBezTo>
                  <a:pt x="234432" y="877158"/>
                  <a:pt x="419625" y="1062352"/>
                  <a:pt x="648072" y="1062352"/>
                </a:cubicBezTo>
                <a:cubicBezTo>
                  <a:pt x="876519" y="1062352"/>
                  <a:pt x="1061712" y="877158"/>
                  <a:pt x="1061712" y="648711"/>
                </a:cubicBezTo>
                <a:cubicBezTo>
                  <a:pt x="1061712" y="420264"/>
                  <a:pt x="876519" y="235071"/>
                  <a:pt x="648072" y="235071"/>
                </a:cubicBezTo>
                <a:close/>
                <a:moveTo>
                  <a:pt x="594998" y="0"/>
                </a:moveTo>
                <a:lnTo>
                  <a:pt x="701146" y="0"/>
                </a:lnTo>
                <a:lnTo>
                  <a:pt x="724216" y="130856"/>
                </a:lnTo>
                <a:cubicBezTo>
                  <a:pt x="794567" y="141200"/>
                  <a:pt x="862072" y="165770"/>
                  <a:pt x="922614" y="203067"/>
                </a:cubicBezTo>
                <a:lnTo>
                  <a:pt x="1024399" y="117654"/>
                </a:lnTo>
                <a:lnTo>
                  <a:pt x="1105713" y="185886"/>
                </a:lnTo>
                <a:lnTo>
                  <a:pt x="1039273" y="300956"/>
                </a:lnTo>
                <a:cubicBezTo>
                  <a:pt x="1086516" y="354101"/>
                  <a:pt x="1122434" y="416314"/>
                  <a:pt x="1144837" y="483799"/>
                </a:cubicBezTo>
                <a:lnTo>
                  <a:pt x="1277712" y="483796"/>
                </a:lnTo>
                <a:lnTo>
                  <a:pt x="1296144" y="588332"/>
                </a:lnTo>
                <a:lnTo>
                  <a:pt x="1171283" y="633774"/>
                </a:lnTo>
                <a:cubicBezTo>
                  <a:pt x="1173312" y="704852"/>
                  <a:pt x="1160838" y="775599"/>
                  <a:pt x="1134620" y="841697"/>
                </a:cubicBezTo>
                <a:lnTo>
                  <a:pt x="1236410" y="927104"/>
                </a:lnTo>
                <a:lnTo>
                  <a:pt x="1183336" y="1019032"/>
                </a:lnTo>
                <a:lnTo>
                  <a:pt x="1058476" y="973583"/>
                </a:lnTo>
                <a:cubicBezTo>
                  <a:pt x="1014343" y="1029336"/>
                  <a:pt x="959312" y="1075513"/>
                  <a:pt x="896742" y="1109294"/>
                </a:cubicBezTo>
                <a:lnTo>
                  <a:pt x="919819" y="1240149"/>
                </a:lnTo>
                <a:lnTo>
                  <a:pt x="820071" y="1276454"/>
                </a:lnTo>
                <a:lnTo>
                  <a:pt x="753637" y="1161380"/>
                </a:lnTo>
                <a:cubicBezTo>
                  <a:pt x="683991" y="1175721"/>
                  <a:pt x="612153" y="1175721"/>
                  <a:pt x="542507" y="1161380"/>
                </a:cubicBezTo>
                <a:lnTo>
                  <a:pt x="476073" y="1276454"/>
                </a:lnTo>
                <a:lnTo>
                  <a:pt x="376326" y="1240149"/>
                </a:lnTo>
                <a:lnTo>
                  <a:pt x="399403" y="1109294"/>
                </a:lnTo>
                <a:cubicBezTo>
                  <a:pt x="336833" y="1075513"/>
                  <a:pt x="281802" y="1029336"/>
                  <a:pt x="237669" y="973583"/>
                </a:cubicBezTo>
                <a:lnTo>
                  <a:pt x="112809" y="1019032"/>
                </a:lnTo>
                <a:lnTo>
                  <a:pt x="59735" y="927104"/>
                </a:lnTo>
                <a:lnTo>
                  <a:pt x="161524" y="841697"/>
                </a:lnTo>
                <a:cubicBezTo>
                  <a:pt x="135307" y="775599"/>
                  <a:pt x="122832" y="704852"/>
                  <a:pt x="124862" y="633774"/>
                </a:cubicBezTo>
                <a:lnTo>
                  <a:pt x="0" y="588332"/>
                </a:lnTo>
                <a:lnTo>
                  <a:pt x="18432" y="483796"/>
                </a:lnTo>
                <a:lnTo>
                  <a:pt x="151306" y="483799"/>
                </a:lnTo>
                <a:cubicBezTo>
                  <a:pt x="173710" y="416314"/>
                  <a:pt x="209628" y="354100"/>
                  <a:pt x="256871" y="300956"/>
                </a:cubicBezTo>
                <a:lnTo>
                  <a:pt x="190431" y="185886"/>
                </a:lnTo>
                <a:lnTo>
                  <a:pt x="271746" y="117654"/>
                </a:lnTo>
                <a:lnTo>
                  <a:pt x="373531" y="203067"/>
                </a:lnTo>
                <a:cubicBezTo>
                  <a:pt x="434072" y="165770"/>
                  <a:pt x="501577" y="141200"/>
                  <a:pt x="571928" y="130856"/>
                </a:cubicBezTo>
                <a:lnTo>
                  <a:pt x="594998" y="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60423"/>
          <p:cNvSpPr/>
          <p:nvPr/>
        </p:nvSpPr>
        <p:spPr>
          <a:xfrm>
            <a:off x="1676520" y="905040"/>
            <a:ext cx="692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探究点三  人体的第三道防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1038240" y="171144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"/>
              </a:rPr>
              <a:t>免疫器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"/>
              </a:rPr>
              <a:t>免疫细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Object 3" descr=""/>
          <p:cNvPicPr/>
          <p:nvPr/>
        </p:nvPicPr>
        <p:blipFill>
          <a:blip r:embed="rId1"/>
          <a:stretch/>
        </p:blipFill>
        <p:spPr>
          <a:xfrm>
            <a:off x="1279440" y="2316240"/>
            <a:ext cx="2257560" cy="3024000"/>
          </a:xfrm>
          <a:prstGeom prst="rect">
            <a:avLst/>
          </a:prstGeom>
          <a:ln w="57240">
            <a:solidFill>
              <a:srgbClr val="5b9bd5"/>
            </a:solidFill>
            <a:miter/>
          </a:ln>
        </p:spPr>
      </p:pic>
      <p:pic>
        <p:nvPicPr>
          <p:cNvPr id="102" name="Object 6" descr=""/>
          <p:cNvPicPr/>
          <p:nvPr/>
        </p:nvPicPr>
        <p:blipFill>
          <a:blip r:embed="rId2"/>
          <a:stretch/>
        </p:blipFill>
        <p:spPr>
          <a:xfrm>
            <a:off x="3944880" y="2316240"/>
            <a:ext cx="2387520" cy="3024000"/>
          </a:xfrm>
          <a:prstGeom prst="rect">
            <a:avLst/>
          </a:prstGeom>
          <a:ln w="57240">
            <a:solidFill>
              <a:srgbClr val="5b9bd5"/>
            </a:solidFill>
            <a:miter/>
          </a:ln>
        </p:spPr>
      </p:pic>
      <p:pic>
        <p:nvPicPr>
          <p:cNvPr id="103" name="Picture 7" descr="rentineibujiegou 副本"/>
          <p:cNvPicPr/>
          <p:nvPr/>
        </p:nvPicPr>
        <p:blipFill>
          <a:blip r:embed="rId3"/>
          <a:stretch/>
        </p:blipFill>
        <p:spPr>
          <a:xfrm>
            <a:off x="6638760" y="2316240"/>
            <a:ext cx="2397240" cy="3025800"/>
          </a:xfrm>
          <a:prstGeom prst="rect">
            <a:avLst/>
          </a:prstGeom>
          <a:ln w="57240">
            <a:solidFill>
              <a:srgbClr val="5b9bd5"/>
            </a:solidFill>
            <a:miter/>
          </a:ln>
        </p:spPr>
      </p:pic>
      <p:sp>
        <p:nvSpPr>
          <p:cNvPr id="104" name="Oval 8"/>
          <p:cNvSpPr/>
          <p:nvPr/>
        </p:nvSpPr>
        <p:spPr>
          <a:xfrm>
            <a:off x="1351080" y="3322800"/>
            <a:ext cx="504720" cy="288720"/>
          </a:xfrm>
          <a:prstGeom prst="ellips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9"/>
          <p:cNvSpPr/>
          <p:nvPr/>
        </p:nvSpPr>
        <p:spPr>
          <a:xfrm>
            <a:off x="8335800" y="3611520"/>
            <a:ext cx="505080" cy="289080"/>
          </a:xfrm>
          <a:prstGeom prst="ellips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淋巴系统"/>
          <p:cNvPicPr/>
          <p:nvPr/>
        </p:nvPicPr>
        <p:blipFill>
          <a:blip r:embed="rId1"/>
          <a:srcRect l="6381" t="0" r="0" b="0"/>
          <a:stretch/>
        </p:blipFill>
        <p:spPr>
          <a:xfrm>
            <a:off x="1238400" y="907920"/>
            <a:ext cx="6141960" cy="52628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-5040" y="1517760"/>
            <a:ext cx="1521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隶书"/>
              </a:rPr>
              <a:t>淋巴系统的组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淋巴结（注字）_2"/>
          <p:cNvPicPr/>
          <p:nvPr/>
        </p:nvPicPr>
        <p:blipFill>
          <a:blip r:embed="rId2"/>
          <a:srcRect l="8213" t="0" r="16433" b="0"/>
          <a:stretch/>
        </p:blipFill>
        <p:spPr>
          <a:xfrm>
            <a:off x="6062760" y="901800"/>
            <a:ext cx="2830320" cy="2811240"/>
          </a:xfrm>
          <a:prstGeom prst="rect">
            <a:avLst/>
          </a:prstGeom>
          <a:ln w="0">
            <a:noFill/>
          </a:ln>
        </p:spPr>
      </p:pic>
      <p:sp>
        <p:nvSpPr>
          <p:cNvPr id="11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66561" descr="胸腺"/>
          <p:cNvPicPr/>
          <p:nvPr/>
        </p:nvPicPr>
        <p:blipFill>
          <a:blip r:embed="rId1"/>
          <a:srcRect l="0" t="10973" r="0" b="0"/>
          <a:stretch/>
        </p:blipFill>
        <p:spPr>
          <a:xfrm>
            <a:off x="1079640" y="1368360"/>
            <a:ext cx="7956360" cy="5489640"/>
          </a:xfrm>
          <a:prstGeom prst="rect">
            <a:avLst/>
          </a:prstGeom>
          <a:ln w="0">
            <a:noFill/>
          </a:ln>
        </p:spPr>
      </p:pic>
      <p:sp>
        <p:nvSpPr>
          <p:cNvPr id="112" name="矩形 66562"/>
          <p:cNvSpPr txBox="1"/>
          <p:nvPr/>
        </p:nvSpPr>
        <p:spPr>
          <a:xfrm>
            <a:off x="4140360" y="1052640"/>
            <a:ext cx="158400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胸腺</a:t>
            </a:r>
            <a:endParaRPr b="1" lang="en-US" sz="4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1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内脏器官（脾脏）"/>
          <p:cNvPicPr/>
          <p:nvPr/>
        </p:nvPicPr>
        <p:blipFill>
          <a:blip r:embed="rId1"/>
          <a:stretch/>
        </p:blipFill>
        <p:spPr>
          <a:xfrm>
            <a:off x="3851280" y="1389240"/>
            <a:ext cx="5076720" cy="3198600"/>
          </a:xfrm>
          <a:prstGeom prst="rect">
            <a:avLst/>
          </a:prstGeom>
          <a:ln w="0">
            <a:noFill/>
          </a:ln>
        </p:spPr>
      </p:pic>
      <p:sp>
        <p:nvSpPr>
          <p:cNvPr id="115" name="Oval 3"/>
          <p:cNvSpPr/>
          <p:nvPr/>
        </p:nvSpPr>
        <p:spPr>
          <a:xfrm rot="20607600">
            <a:off x="7056360" y="1958760"/>
            <a:ext cx="505080" cy="1439640"/>
          </a:xfrm>
          <a:prstGeom prst="ellipse">
            <a:avLst/>
          </a:prstGeom>
          <a:noFill/>
          <a:ln w="572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187280" y="558972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位置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腹腔的左上部，呈卵圆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脾脏"/>
          <p:cNvPicPr/>
          <p:nvPr/>
        </p:nvPicPr>
        <p:blipFill>
          <a:blip r:embed="rId2"/>
          <a:stretch/>
        </p:blipFill>
        <p:spPr>
          <a:xfrm>
            <a:off x="826920" y="1125360"/>
            <a:ext cx="3299040" cy="4032360"/>
          </a:xfrm>
          <a:prstGeom prst="rect">
            <a:avLst/>
          </a:prstGeom>
          <a:ln w="0">
            <a:noFill/>
          </a:ln>
        </p:spPr>
      </p:pic>
      <p:sp>
        <p:nvSpPr>
          <p:cNvPr id="11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3640" y="-54000"/>
            <a:ext cx="8273880" cy="1022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000" spc="-1" strike="noStrike">
                <a:solidFill>
                  <a:srgbClr val="336600"/>
                </a:solidFill>
                <a:latin typeface="黑体"/>
                <a:ea typeface="黑体"/>
              </a:rPr>
              <a:t>免疫器官和免疫细胞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20" name="Picture 3" descr="linbajie"/>
          <p:cNvPicPr/>
          <p:nvPr/>
        </p:nvPicPr>
        <p:blipFill>
          <a:blip r:embed="rId1"/>
          <a:stretch/>
        </p:blipFill>
        <p:spPr>
          <a:xfrm>
            <a:off x="250920" y="3213000"/>
            <a:ext cx="1728720" cy="1368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pi"/>
          <p:cNvPicPr/>
          <p:nvPr/>
        </p:nvPicPr>
        <p:blipFill>
          <a:blip r:embed="rId2"/>
          <a:srcRect l="63188" t="42596" r="0" b="0"/>
          <a:stretch/>
        </p:blipFill>
        <p:spPr>
          <a:xfrm>
            <a:off x="250920" y="4653000"/>
            <a:ext cx="1800000" cy="1477800"/>
          </a:xfrm>
          <a:prstGeom prst="rect">
            <a:avLst/>
          </a:prstGeom>
          <a:ln w="0">
            <a:noFill/>
          </a:ln>
        </p:spPr>
      </p:pic>
      <p:pic>
        <p:nvPicPr>
          <p:cNvPr id="122" name="Object 4" descr=""/>
          <p:cNvPicPr/>
          <p:nvPr/>
        </p:nvPicPr>
        <p:blipFill>
          <a:blip r:embed="rId3"/>
          <a:stretch/>
        </p:blipFill>
        <p:spPr>
          <a:xfrm>
            <a:off x="250920" y="1460520"/>
            <a:ext cx="1728720" cy="164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209520" y="836640"/>
          <a:ext cx="8610480" cy="5291280"/>
        </p:xfrm>
        <a:graphic>
          <a:graphicData uri="http://schemas.openxmlformats.org/drawingml/2006/table">
            <a:tbl>
              <a:tblPr/>
              <a:tblGrid>
                <a:gridCol w="1841400"/>
                <a:gridCol w="2570400"/>
                <a:gridCol w="4198680"/>
              </a:tblGrid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9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免疫器官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 </a:t>
                      </a:r>
                      <a:r>
                        <a:rPr b="0" lang="zh-CN" sz="29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位  置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  </a:t>
                      </a:r>
                      <a:r>
                        <a:rPr b="0" lang="zh-CN" sz="29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功     能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0" lang="zh-CN" sz="29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胸  腺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0" lang="zh-CN" sz="29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淋巴结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5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</a:t>
                      </a:r>
                      <a:r>
                        <a:rPr b="0" lang="zh-CN" sz="29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脾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Text Box 28"/>
          <p:cNvSpPr/>
          <p:nvPr/>
        </p:nvSpPr>
        <p:spPr>
          <a:xfrm>
            <a:off x="2124000" y="1844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甲状腺之下，紧贴气管前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9"/>
          <p:cNvSpPr/>
          <p:nvPr/>
        </p:nvSpPr>
        <p:spPr>
          <a:xfrm>
            <a:off x="4643280" y="170028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产生淋巴细胞和分泌胸腺激素。胸腺激素促使淋巴细胞分化和成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0"/>
          <p:cNvSpPr/>
          <p:nvPr/>
        </p:nvSpPr>
        <p:spPr>
          <a:xfrm>
            <a:off x="2021040" y="342756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多集中于腋窝、腹股沟、颈部等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1"/>
          <p:cNvSpPr/>
          <p:nvPr/>
        </p:nvSpPr>
        <p:spPr>
          <a:xfrm>
            <a:off x="4643280" y="3357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内有吞噬细胞、能吞噬侵入人体的病毒、对人体有保护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2"/>
          <p:cNvSpPr/>
          <p:nvPr/>
        </p:nvSpPr>
        <p:spPr>
          <a:xfrm>
            <a:off x="2124000" y="49417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位于腹腔左上部 呈卵园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3"/>
          <p:cNvSpPr/>
          <p:nvPr/>
        </p:nvSpPr>
        <p:spPr>
          <a:xfrm>
            <a:off x="4716360" y="4869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产生白细胞、内含吞噬细胞。能吞噬衰老血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4"/>
          <p:cNvSpPr/>
          <p:nvPr/>
        </p:nvSpPr>
        <p:spPr>
          <a:xfrm>
            <a:off x="663480" y="458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7"/>
          <p:cNvSpPr/>
          <p:nvPr/>
        </p:nvSpPr>
        <p:spPr>
          <a:xfrm>
            <a:off x="1455840" y="5667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8"/>
          <p:cNvSpPr/>
          <p:nvPr/>
        </p:nvSpPr>
        <p:spPr>
          <a:xfrm>
            <a:off x="900000" y="2565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9"/>
          <p:cNvSpPr/>
          <p:nvPr/>
        </p:nvSpPr>
        <p:spPr>
          <a:xfrm>
            <a:off x="1239840" y="193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0"/>
          <p:cNvSpPr/>
          <p:nvPr/>
        </p:nvSpPr>
        <p:spPr>
          <a:xfrm>
            <a:off x="1134360" y="6072120"/>
            <a:ext cx="1941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免疫细胞主要是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1"/>
          <p:cNvSpPr/>
          <p:nvPr/>
        </p:nvSpPr>
        <p:spPr>
          <a:xfrm>
            <a:off x="4731120" y="6031080"/>
            <a:ext cx="3848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淋巴细胞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826920" y="5373720"/>
            <a:ext cx="813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知道家养的狗等宠物都要定期打预防针吗？预防的是什么病？这和人的健康有关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1"/>
          <a:stretch/>
        </p:blipFill>
        <p:spPr>
          <a:xfrm>
            <a:off x="1403280" y="2492280"/>
            <a:ext cx="1459080" cy="19224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2" descr=""/>
          <p:cNvPicPr/>
          <p:nvPr/>
        </p:nvPicPr>
        <p:blipFill>
          <a:blip r:embed="rId2"/>
          <a:stretch/>
        </p:blipFill>
        <p:spPr>
          <a:xfrm>
            <a:off x="2230560" y="1843200"/>
            <a:ext cx="5656320" cy="33004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1371600" y="914400"/>
            <a:ext cx="240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情景引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录像机 512"/>
          <p:cNvSpPr/>
          <p:nvPr/>
        </p:nvSpPr>
        <p:spPr>
          <a:xfrm>
            <a:off x="835200" y="988920"/>
            <a:ext cx="536400" cy="382680"/>
          </a:xfrm>
          <a:custGeom>
            <a:avLst/>
            <a:gdLst/>
            <a:ahLst/>
            <a:rect l="l" t="t" r="r" b="b"/>
            <a:pathLst>
              <a:path w="3710374" h="2848566">
                <a:moveTo>
                  <a:pt x="132902" y="1177607"/>
                </a:moveTo>
                <a:cubicBezTo>
                  <a:pt x="206302" y="1177607"/>
                  <a:pt x="265804" y="1237109"/>
                  <a:pt x="265804" y="1310509"/>
                </a:cubicBezTo>
                <a:lnTo>
                  <a:pt x="265804" y="1822976"/>
                </a:lnTo>
                <a:cubicBezTo>
                  <a:pt x="265804" y="1896376"/>
                  <a:pt x="206302" y="1955878"/>
                  <a:pt x="132902" y="1955878"/>
                </a:cubicBezTo>
                <a:cubicBezTo>
                  <a:pt x="59502" y="1955878"/>
                  <a:pt x="0" y="1896376"/>
                  <a:pt x="0" y="1822976"/>
                </a:cubicBezTo>
                <a:lnTo>
                  <a:pt x="0" y="1310509"/>
                </a:lnTo>
                <a:cubicBezTo>
                  <a:pt x="0" y="1237109"/>
                  <a:pt x="59502" y="1177607"/>
                  <a:pt x="132902" y="1177607"/>
                </a:cubicBezTo>
                <a:close/>
                <a:moveTo>
                  <a:pt x="3676647" y="1014899"/>
                </a:moveTo>
                <a:cubicBezTo>
                  <a:pt x="3699953" y="1011726"/>
                  <a:pt x="3709766" y="1038156"/>
                  <a:pt x="3709762" y="1126078"/>
                </a:cubicBezTo>
                <a:lnTo>
                  <a:pt x="3709762" y="2733814"/>
                </a:lnTo>
                <a:cubicBezTo>
                  <a:pt x="3714789" y="2810852"/>
                  <a:pt x="3689665" y="2852720"/>
                  <a:pt x="3604255" y="2784056"/>
                </a:cubicBezTo>
                <a:cubicBezTo>
                  <a:pt x="3539382" y="2731902"/>
                  <a:pt x="3308368" y="2542961"/>
                  <a:pt x="3100502" y="2373078"/>
                </a:cubicBezTo>
                <a:lnTo>
                  <a:pt x="2983265" y="2373078"/>
                </a:lnTo>
                <a:lnTo>
                  <a:pt x="2983265" y="2692091"/>
                </a:lnTo>
                <a:cubicBezTo>
                  <a:pt x="2983265" y="2778510"/>
                  <a:pt x="2913209" y="2848566"/>
                  <a:pt x="2826790" y="2848566"/>
                </a:cubicBezTo>
                <a:lnTo>
                  <a:pt x="542844" y="2848566"/>
                </a:lnTo>
                <a:cubicBezTo>
                  <a:pt x="456425" y="2848566"/>
                  <a:pt x="386369" y="2778510"/>
                  <a:pt x="386369" y="2692091"/>
                </a:cubicBezTo>
                <a:lnTo>
                  <a:pt x="386369" y="1261585"/>
                </a:lnTo>
                <a:cubicBezTo>
                  <a:pt x="386369" y="1175166"/>
                  <a:pt x="456425" y="1105110"/>
                  <a:pt x="542844" y="1105110"/>
                </a:cubicBezTo>
                <a:lnTo>
                  <a:pt x="2826790" y="1105110"/>
                </a:lnTo>
                <a:cubicBezTo>
                  <a:pt x="2913209" y="1105110"/>
                  <a:pt x="2983265" y="1175166"/>
                  <a:pt x="2983265" y="1261585"/>
                </a:cubicBezTo>
                <a:lnTo>
                  <a:pt x="2983265" y="1470870"/>
                </a:lnTo>
                <a:lnTo>
                  <a:pt x="3095401" y="1470870"/>
                </a:lnTo>
                <a:cubicBezTo>
                  <a:pt x="3315877" y="1289257"/>
                  <a:pt x="3568799" y="1079374"/>
                  <a:pt x="3619327" y="1045691"/>
                </a:cubicBezTo>
                <a:cubicBezTo>
                  <a:pt x="3643821" y="1029362"/>
                  <a:pt x="3662662" y="1016802"/>
                  <a:pt x="3676647" y="1014899"/>
                </a:cubicBezTo>
                <a:close/>
                <a:moveTo>
                  <a:pt x="2266043" y="0"/>
                </a:moveTo>
                <a:cubicBezTo>
                  <a:pt x="2555481" y="0"/>
                  <a:pt x="2790117" y="234636"/>
                  <a:pt x="2790117" y="524074"/>
                </a:cubicBezTo>
                <a:cubicBezTo>
                  <a:pt x="2790117" y="813512"/>
                  <a:pt x="2555481" y="1048148"/>
                  <a:pt x="2266043" y="1048148"/>
                </a:cubicBezTo>
                <a:cubicBezTo>
                  <a:pt x="1976605" y="1048148"/>
                  <a:pt x="1741969" y="813512"/>
                  <a:pt x="1741969" y="524074"/>
                </a:cubicBezTo>
                <a:cubicBezTo>
                  <a:pt x="1741969" y="234636"/>
                  <a:pt x="1976605" y="0"/>
                  <a:pt x="2266043" y="0"/>
                </a:cubicBezTo>
                <a:close/>
                <a:moveTo>
                  <a:pt x="1041907" y="0"/>
                </a:moveTo>
                <a:cubicBezTo>
                  <a:pt x="1331345" y="0"/>
                  <a:pt x="1565981" y="234636"/>
                  <a:pt x="1565981" y="524074"/>
                </a:cubicBezTo>
                <a:cubicBezTo>
                  <a:pt x="1565981" y="813512"/>
                  <a:pt x="1331345" y="1048148"/>
                  <a:pt x="1041907" y="1048148"/>
                </a:cubicBezTo>
                <a:cubicBezTo>
                  <a:pt x="752469" y="1048148"/>
                  <a:pt x="517833" y="813512"/>
                  <a:pt x="517833" y="524074"/>
                </a:cubicBezTo>
                <a:cubicBezTo>
                  <a:pt x="517833" y="234636"/>
                  <a:pt x="752469" y="0"/>
                  <a:pt x="1041907" y="0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6"/>
          <p:cNvGrpSpPr/>
          <p:nvPr/>
        </p:nvGrpSpPr>
        <p:grpSpPr>
          <a:xfrm>
            <a:off x="789120" y="1171440"/>
            <a:ext cx="2630520" cy="2834280"/>
            <a:chOff x="789120" y="1171440"/>
            <a:chExt cx="2630520" cy="2834280"/>
          </a:xfrm>
        </p:grpSpPr>
        <p:pic>
          <p:nvPicPr>
            <p:cNvPr id="138" name="Picture 7" descr="T淋巴细胞"/>
            <p:cNvPicPr/>
            <p:nvPr/>
          </p:nvPicPr>
          <p:blipFill>
            <a:blip r:embed="rId1"/>
            <a:stretch/>
          </p:blipFill>
          <p:spPr>
            <a:xfrm>
              <a:off x="789120" y="1171440"/>
              <a:ext cx="2630520" cy="229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8"/>
            <p:cNvSpPr/>
            <p:nvPr/>
          </p:nvSpPr>
          <p:spPr>
            <a:xfrm>
              <a:off x="853560" y="1398960"/>
              <a:ext cx="682560" cy="26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</a:t>
              </a:r>
              <a:r>
                <a:rPr b="0" lang="en-US" sz="33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T 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3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淋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3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巴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3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细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3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胞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 Box 9"/>
          <p:cNvSpPr/>
          <p:nvPr/>
        </p:nvSpPr>
        <p:spPr>
          <a:xfrm>
            <a:off x="4695840" y="2284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0"/>
          <p:cNvGrpSpPr/>
          <p:nvPr/>
        </p:nvGrpSpPr>
        <p:grpSpPr>
          <a:xfrm>
            <a:off x="3492360" y="1198440"/>
            <a:ext cx="2693880" cy="2232000"/>
            <a:chOff x="3492360" y="1198440"/>
            <a:chExt cx="2693880" cy="2232000"/>
          </a:xfrm>
        </p:grpSpPr>
        <p:pic>
          <p:nvPicPr>
            <p:cNvPr id="142" name="Picture 11" descr="T细胞红细胞血小板"/>
            <p:cNvPicPr/>
            <p:nvPr/>
          </p:nvPicPr>
          <p:blipFill>
            <a:blip r:embed="rId2"/>
            <a:stretch/>
          </p:blipFill>
          <p:spPr>
            <a:xfrm>
              <a:off x="3492360" y="1198440"/>
              <a:ext cx="260424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12"/>
            <p:cNvSpPr/>
            <p:nvPr/>
          </p:nvSpPr>
          <p:spPr>
            <a:xfrm>
              <a:off x="4443480" y="1985760"/>
              <a:ext cx="17427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T </a:t>
              </a:r>
              <a:r>
                <a:rPr b="0" lang="zh-CN" sz="33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细胞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13"/>
          <p:cNvSpPr/>
          <p:nvPr/>
        </p:nvSpPr>
        <p:spPr>
          <a:xfrm>
            <a:off x="3832200" y="4229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447840" y="4371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5"/>
          <p:cNvGrpSpPr/>
          <p:nvPr/>
        </p:nvGrpSpPr>
        <p:grpSpPr>
          <a:xfrm>
            <a:off x="755640" y="3646440"/>
            <a:ext cx="2665440" cy="2376360"/>
            <a:chOff x="755640" y="3646440"/>
            <a:chExt cx="2665440" cy="2376360"/>
          </a:xfrm>
        </p:grpSpPr>
        <p:pic>
          <p:nvPicPr>
            <p:cNvPr id="147" name="Picture 16" descr="单核细胞"/>
            <p:cNvPicPr/>
            <p:nvPr/>
          </p:nvPicPr>
          <p:blipFill>
            <a:blip r:embed="rId3"/>
            <a:stretch/>
          </p:blipFill>
          <p:spPr>
            <a:xfrm>
              <a:off x="755640" y="3646440"/>
              <a:ext cx="266544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17"/>
            <p:cNvSpPr/>
            <p:nvPr/>
          </p:nvSpPr>
          <p:spPr>
            <a:xfrm>
              <a:off x="1819080" y="5025240"/>
              <a:ext cx="1095120" cy="550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44546a"/>
                  </a:solidFill>
                  <a:latin typeface="Arial"/>
                  <a:ea typeface="华文新魏"/>
                </a:rPr>
                <a:t>单核细胞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18"/>
          <p:cNvSpPr/>
          <p:nvPr/>
        </p:nvSpPr>
        <p:spPr>
          <a:xfrm>
            <a:off x="4643280" y="465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19"/>
          <p:cNvGrpSpPr/>
          <p:nvPr/>
        </p:nvGrpSpPr>
        <p:grpSpPr>
          <a:xfrm>
            <a:off x="3565440" y="3646440"/>
            <a:ext cx="2519280" cy="2305080"/>
            <a:chOff x="3565440" y="3646440"/>
            <a:chExt cx="2519280" cy="2305080"/>
          </a:xfrm>
        </p:grpSpPr>
        <p:pic>
          <p:nvPicPr>
            <p:cNvPr id="151" name="Picture 20" descr="中性粒细胞"/>
            <p:cNvPicPr/>
            <p:nvPr/>
          </p:nvPicPr>
          <p:blipFill>
            <a:blip r:embed="rId4"/>
            <a:stretch/>
          </p:blipFill>
          <p:spPr>
            <a:xfrm>
              <a:off x="3565440" y="3646440"/>
              <a:ext cx="251928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21"/>
            <p:cNvSpPr/>
            <p:nvPr/>
          </p:nvSpPr>
          <p:spPr>
            <a:xfrm>
              <a:off x="4222440" y="4701240"/>
              <a:ext cx="143820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3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中性粒细胞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22"/>
          <p:cNvGrpSpPr/>
          <p:nvPr/>
        </p:nvGrpSpPr>
        <p:grpSpPr>
          <a:xfrm>
            <a:off x="6237360" y="3575160"/>
            <a:ext cx="2460600" cy="2425320"/>
            <a:chOff x="6237360" y="3575160"/>
            <a:chExt cx="2460600" cy="2425320"/>
          </a:xfrm>
        </p:grpSpPr>
        <p:pic>
          <p:nvPicPr>
            <p:cNvPr id="154" name="Picture 23" descr="毛细血管中的淋巴细胞"/>
            <p:cNvPicPr/>
            <p:nvPr/>
          </p:nvPicPr>
          <p:blipFill>
            <a:blip r:embed="rId5"/>
            <a:stretch/>
          </p:blipFill>
          <p:spPr>
            <a:xfrm>
              <a:off x="6237360" y="3575160"/>
              <a:ext cx="2460600" cy="24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24"/>
            <p:cNvSpPr/>
            <p:nvPr/>
          </p:nvSpPr>
          <p:spPr>
            <a:xfrm>
              <a:off x="7225200" y="5397480"/>
              <a:ext cx="11865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3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淋巴细胞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 Box 25"/>
          <p:cNvSpPr/>
          <p:nvPr/>
        </p:nvSpPr>
        <p:spPr>
          <a:xfrm>
            <a:off x="6496200" y="-92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2680" y="-16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淋巴细胞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图片 1" descr=""/>
          <p:cNvPicPr/>
          <p:nvPr/>
        </p:nvPicPr>
        <p:blipFill>
          <a:blip r:embed="rId6"/>
          <a:stretch/>
        </p:blipFill>
        <p:spPr>
          <a:xfrm>
            <a:off x="6296040" y="1255680"/>
            <a:ext cx="2452680" cy="1859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文本框 132098"/>
          <p:cNvSpPr/>
          <p:nvPr/>
        </p:nvSpPr>
        <p:spPr>
          <a:xfrm>
            <a:off x="343440" y="2133720"/>
            <a:ext cx="115524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第三道防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左大括号 132099"/>
          <p:cNvSpPr/>
          <p:nvPr/>
        </p:nvSpPr>
        <p:spPr>
          <a:xfrm>
            <a:off x="1498680" y="2205000"/>
            <a:ext cx="264960" cy="1871640"/>
          </a:xfrm>
          <a:custGeom>
            <a:avLst/>
            <a:gdLst>
              <a:gd name="textAreaLeft" fmla="*/ 169200 w 264960"/>
              <a:gd name="textAreaRight" fmla="*/ 265320 w 26496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132100"/>
          <p:cNvSpPr/>
          <p:nvPr/>
        </p:nvSpPr>
        <p:spPr>
          <a:xfrm>
            <a:off x="1763640" y="191628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组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132101"/>
          <p:cNvSpPr/>
          <p:nvPr/>
        </p:nvSpPr>
        <p:spPr>
          <a:xfrm>
            <a:off x="2795760" y="1698480"/>
            <a:ext cx="63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"/>
              </a:rPr>
              <a:t>免疫器官（如胸腺、淋巴结和脾脏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32102"/>
          <p:cNvSpPr/>
          <p:nvPr/>
        </p:nvSpPr>
        <p:spPr>
          <a:xfrm>
            <a:off x="2722680" y="2273400"/>
            <a:ext cx="68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"/>
              </a:rPr>
              <a:t>免疫细胞（淋巴细胞，是白细胞的一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左大括号 132103"/>
          <p:cNvSpPr/>
          <p:nvPr/>
        </p:nvSpPr>
        <p:spPr>
          <a:xfrm>
            <a:off x="2651040" y="1914480"/>
            <a:ext cx="144720" cy="647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132104"/>
          <p:cNvSpPr/>
          <p:nvPr/>
        </p:nvSpPr>
        <p:spPr>
          <a:xfrm>
            <a:off x="1787400" y="3860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132105"/>
          <p:cNvSpPr/>
          <p:nvPr/>
        </p:nvSpPr>
        <p:spPr>
          <a:xfrm>
            <a:off x="2627280" y="3860640"/>
            <a:ext cx="59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"/>
              </a:rPr>
              <a:t>产生特定的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"/>
              </a:rPr>
              <a:t>抗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"/>
              </a:rPr>
              <a:t>，消灭特定的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"/>
              </a:rPr>
              <a:t>抗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文本框 134153"/>
          <p:cNvSpPr/>
          <p:nvPr/>
        </p:nvSpPr>
        <p:spPr>
          <a:xfrm>
            <a:off x="826920" y="1181160"/>
            <a:ext cx="82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思考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三道防线与第二道防线相比有什么特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34154"/>
          <p:cNvSpPr/>
          <p:nvPr/>
        </p:nvSpPr>
        <p:spPr>
          <a:xfrm>
            <a:off x="971640" y="219564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、人体出生以后逐渐建立起来的后天防御功能。是人出生后获得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134155"/>
          <p:cNvSpPr/>
          <p:nvPr/>
        </p:nvSpPr>
        <p:spPr>
          <a:xfrm>
            <a:off x="1042920" y="321300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、只针对某一特定的病原体或异物起作用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134156"/>
          <p:cNvSpPr/>
          <p:nvPr/>
        </p:nvSpPr>
        <p:spPr>
          <a:xfrm>
            <a:off x="900000" y="4076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种免疫叫做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特异性免疫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又叫后天性免疫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文本框 135170"/>
          <p:cNvSpPr/>
          <p:nvPr/>
        </p:nvSpPr>
        <p:spPr>
          <a:xfrm>
            <a:off x="1547640" y="1413000"/>
            <a:ext cx="624852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ahoma"/>
                <a:ea typeface="隶书"/>
              </a:rPr>
              <a:t>人体的三道防线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35171"/>
          <p:cNvSpPr/>
          <p:nvPr/>
        </p:nvSpPr>
        <p:spPr>
          <a:xfrm>
            <a:off x="1698480" y="3003480"/>
            <a:ext cx="65455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楷体"/>
              </a:rPr>
              <a:t>皮肤和黏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135172"/>
          <p:cNvSpPr/>
          <p:nvPr/>
        </p:nvSpPr>
        <p:spPr>
          <a:xfrm>
            <a:off x="1763640" y="3875040"/>
            <a:ext cx="647712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楷体"/>
              </a:rPr>
              <a:t>体液中的杀菌物质和吞噬细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135173"/>
          <p:cNvSpPr/>
          <p:nvPr/>
        </p:nvSpPr>
        <p:spPr>
          <a:xfrm>
            <a:off x="1763640" y="4732200"/>
            <a:ext cx="6480360" cy="642600"/>
          </a:xfrm>
          <a:prstGeom prst="rect">
            <a:avLst/>
          </a:prstGeom>
          <a:solidFill>
            <a:srgbClr val="056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楷体"/>
              </a:rPr>
              <a:t>免疫器官和免疫细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文本框 136193"/>
          <p:cNvSpPr/>
          <p:nvPr/>
        </p:nvSpPr>
        <p:spPr>
          <a:xfrm>
            <a:off x="1295280" y="76212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ahoma"/>
                <a:ea typeface="隶书"/>
              </a:rPr>
              <a:t>非特异性免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136194"/>
          <p:cNvSpPr/>
          <p:nvPr/>
        </p:nvSpPr>
        <p:spPr>
          <a:xfrm>
            <a:off x="826920" y="1989000"/>
            <a:ext cx="800100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前两道防线是人人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生来就有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的，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不针对某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一种特定的病原体，而是对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多种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病原体都有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防御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作用，因此叫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非特异性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免疫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先天性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免疫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文本框 137217"/>
          <p:cNvSpPr/>
          <p:nvPr/>
        </p:nvSpPr>
        <p:spPr>
          <a:xfrm>
            <a:off x="1295280" y="76212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ahoma"/>
                <a:ea typeface="隶书"/>
              </a:rPr>
              <a:t>特异性免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137218"/>
          <p:cNvSpPr/>
          <p:nvPr/>
        </p:nvSpPr>
        <p:spPr>
          <a:xfrm>
            <a:off x="838080" y="2147760"/>
            <a:ext cx="80010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第三道防线是人体在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出生以后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逐渐形成的，只针对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某一特定的病原体或异物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起作用，因而叫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特异性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免疫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后天性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免疫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4"/>
          <p:cNvSpPr/>
          <p:nvPr/>
        </p:nvSpPr>
        <p:spPr>
          <a:xfrm>
            <a:off x="828720" y="1929240"/>
            <a:ext cx="828036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列属于人体的第三道防线的是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溶菌酶和肝脏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血液和消化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淋巴细胞和淋巴器官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皮肤、黏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"/>
          <p:cNvSpPr/>
          <p:nvPr/>
        </p:nvSpPr>
        <p:spPr>
          <a:xfrm>
            <a:off x="6875640" y="199548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随堂训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828720" y="1570680"/>
            <a:ext cx="8280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下列免疫中，属于非特异性免疫的是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接触过麻疹病人的人不会再患麻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接种过卡介苗的人不得肺结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患过天花的人不会再患天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眼泪中的溶菌酶能杀死细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3"/>
          <p:cNvSpPr/>
          <p:nvPr/>
        </p:nvSpPr>
        <p:spPr>
          <a:xfrm>
            <a:off x="7740720" y="17082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随堂训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"/>
          <p:cNvSpPr/>
          <p:nvPr/>
        </p:nvSpPr>
        <p:spPr>
          <a:xfrm>
            <a:off x="863640" y="1702440"/>
            <a:ext cx="8280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能产生淋巴细胞的器官是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胸腺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肺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肾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心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呼吸道黏膜上的纤毛的作用是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杀菌作用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吞噬作用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清扫作用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保护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5832360" y="177336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5"/>
          <p:cNvSpPr/>
          <p:nvPr/>
        </p:nvSpPr>
        <p:spPr>
          <a:xfrm>
            <a:off x="7056360" y="306864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随堂训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文本框 27649"/>
          <p:cNvSpPr/>
          <p:nvPr/>
        </p:nvSpPr>
        <p:spPr>
          <a:xfrm>
            <a:off x="971640" y="4724280"/>
            <a:ext cx="7885080" cy="1166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涂在清洁皮肤上的病菌被皮肤的分泌物所杀死；这说明皮肤具有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杀灭病菌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的功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27650"/>
          <p:cNvSpPr/>
          <p:nvPr/>
        </p:nvSpPr>
        <p:spPr>
          <a:xfrm>
            <a:off x="900000" y="1700280"/>
            <a:ext cx="7559640" cy="703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链球菌涂在健康人的皮肤上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后再检查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0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的链球菌都被消灭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27651" descr="liangqiu2"/>
          <p:cNvPicPr/>
          <p:nvPr/>
        </p:nvPicPr>
        <p:blipFill>
          <a:blip r:embed="rId3"/>
          <a:stretch/>
        </p:blipFill>
        <p:spPr>
          <a:xfrm>
            <a:off x="5292720" y="2708280"/>
            <a:ext cx="3311640" cy="2521080"/>
          </a:xfrm>
          <a:prstGeom prst="rect">
            <a:avLst/>
          </a:prstGeom>
          <a:ln w="0">
            <a:noFill/>
          </a:ln>
        </p:spPr>
      </p:pic>
      <p:sp>
        <p:nvSpPr>
          <p:cNvPr id="53" name="矩形 27652"/>
          <p:cNvSpPr txBox="1"/>
          <p:nvPr/>
        </p:nvSpPr>
        <p:spPr>
          <a:xfrm>
            <a:off x="2987640" y="2997360"/>
            <a:ext cx="180036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why?</a:t>
            </a:r>
            <a:endParaRPr b="1" lang="en-US" sz="4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齿轮1 501"/>
          <p:cNvSpPr/>
          <p:nvPr/>
        </p:nvSpPr>
        <p:spPr>
          <a:xfrm rot="720000">
            <a:off x="914400" y="937800"/>
            <a:ext cx="706320" cy="500040"/>
          </a:xfrm>
          <a:custGeom>
            <a:avLst/>
            <a:gdLst/>
            <a:ahLst/>
            <a:rect l="l" t="t" r="r" b="b"/>
            <a:pathLst>
              <a:path w="2063518" h="1276454">
                <a:moveTo>
                  <a:pt x="1631470" y="557485"/>
                </a:moveTo>
                <a:cubicBezTo>
                  <a:pt x="1479172" y="557485"/>
                  <a:pt x="1355710" y="680947"/>
                  <a:pt x="1355710" y="833245"/>
                </a:cubicBezTo>
                <a:cubicBezTo>
                  <a:pt x="1355710" y="985543"/>
                  <a:pt x="1479172" y="1109005"/>
                  <a:pt x="1631470" y="1109005"/>
                </a:cubicBezTo>
                <a:cubicBezTo>
                  <a:pt x="1783768" y="1109005"/>
                  <a:pt x="1907230" y="985543"/>
                  <a:pt x="1907230" y="833245"/>
                </a:cubicBezTo>
                <a:cubicBezTo>
                  <a:pt x="1907230" y="680947"/>
                  <a:pt x="1783768" y="557485"/>
                  <a:pt x="1631470" y="557485"/>
                </a:cubicBezTo>
                <a:close/>
                <a:moveTo>
                  <a:pt x="1596087" y="400771"/>
                </a:moveTo>
                <a:lnTo>
                  <a:pt x="1666853" y="400771"/>
                </a:lnTo>
                <a:lnTo>
                  <a:pt x="1682233" y="488008"/>
                </a:lnTo>
                <a:cubicBezTo>
                  <a:pt x="1729134" y="494904"/>
                  <a:pt x="1774137" y="511284"/>
                  <a:pt x="1814498" y="536149"/>
                </a:cubicBezTo>
                <a:lnTo>
                  <a:pt x="1882355" y="479207"/>
                </a:lnTo>
                <a:lnTo>
                  <a:pt x="1936564" y="524695"/>
                </a:lnTo>
                <a:lnTo>
                  <a:pt x="1892271" y="601408"/>
                </a:lnTo>
                <a:cubicBezTo>
                  <a:pt x="1923766" y="636838"/>
                  <a:pt x="1947711" y="678313"/>
                  <a:pt x="1962647" y="723304"/>
                </a:cubicBezTo>
                <a:lnTo>
                  <a:pt x="2051230" y="723302"/>
                </a:lnTo>
                <a:lnTo>
                  <a:pt x="2063518" y="792992"/>
                </a:lnTo>
                <a:lnTo>
                  <a:pt x="1980277" y="823287"/>
                </a:lnTo>
                <a:cubicBezTo>
                  <a:pt x="1981630" y="870672"/>
                  <a:pt x="1973314" y="917837"/>
                  <a:pt x="1955836" y="961902"/>
                </a:cubicBezTo>
                <a:lnTo>
                  <a:pt x="2023695" y="1018840"/>
                </a:lnTo>
                <a:lnTo>
                  <a:pt x="1988313" y="1080125"/>
                </a:lnTo>
                <a:lnTo>
                  <a:pt x="1905073" y="1049826"/>
                </a:lnTo>
                <a:cubicBezTo>
                  <a:pt x="1875651" y="1086995"/>
                  <a:pt x="1838963" y="1117779"/>
                  <a:pt x="1797250" y="1140300"/>
                </a:cubicBezTo>
                <a:lnTo>
                  <a:pt x="1812635" y="1227537"/>
                </a:lnTo>
                <a:lnTo>
                  <a:pt x="1746136" y="1251740"/>
                </a:lnTo>
                <a:lnTo>
                  <a:pt x="1701847" y="1175024"/>
                </a:lnTo>
                <a:cubicBezTo>
                  <a:pt x="1655416" y="1184585"/>
                  <a:pt x="1607524" y="1184585"/>
                  <a:pt x="1561093" y="1175024"/>
                </a:cubicBezTo>
                <a:lnTo>
                  <a:pt x="1516804" y="1251740"/>
                </a:lnTo>
                <a:lnTo>
                  <a:pt x="1450306" y="1227537"/>
                </a:lnTo>
                <a:lnTo>
                  <a:pt x="1465691" y="1140300"/>
                </a:lnTo>
                <a:cubicBezTo>
                  <a:pt x="1423978" y="1117779"/>
                  <a:pt x="1387290" y="1086995"/>
                  <a:pt x="1357868" y="1049826"/>
                </a:cubicBezTo>
                <a:lnTo>
                  <a:pt x="1274628" y="1080125"/>
                </a:lnTo>
                <a:lnTo>
                  <a:pt x="1239245" y="1018840"/>
                </a:lnTo>
                <a:lnTo>
                  <a:pt x="1307105" y="961902"/>
                </a:lnTo>
                <a:cubicBezTo>
                  <a:pt x="1289627" y="917837"/>
                  <a:pt x="1281310" y="870672"/>
                  <a:pt x="1282663" y="823287"/>
                </a:cubicBezTo>
                <a:lnTo>
                  <a:pt x="1199422" y="792992"/>
                </a:lnTo>
                <a:lnTo>
                  <a:pt x="1211710" y="723302"/>
                </a:lnTo>
                <a:lnTo>
                  <a:pt x="1300293" y="723304"/>
                </a:lnTo>
                <a:cubicBezTo>
                  <a:pt x="1315229" y="678313"/>
                  <a:pt x="1339174" y="636838"/>
                  <a:pt x="1370670" y="601408"/>
                </a:cubicBezTo>
                <a:lnTo>
                  <a:pt x="1326376" y="524695"/>
                </a:lnTo>
                <a:lnTo>
                  <a:pt x="1380586" y="479207"/>
                </a:lnTo>
                <a:lnTo>
                  <a:pt x="1448443" y="536149"/>
                </a:lnTo>
                <a:cubicBezTo>
                  <a:pt x="1488803" y="511284"/>
                  <a:pt x="1533807" y="494905"/>
                  <a:pt x="1580707" y="488008"/>
                </a:cubicBezTo>
                <a:lnTo>
                  <a:pt x="1596087" y="400771"/>
                </a:lnTo>
                <a:close/>
                <a:moveTo>
                  <a:pt x="648072" y="235071"/>
                </a:moveTo>
                <a:cubicBezTo>
                  <a:pt x="419625" y="235071"/>
                  <a:pt x="234432" y="420264"/>
                  <a:pt x="234432" y="648711"/>
                </a:cubicBezTo>
                <a:cubicBezTo>
                  <a:pt x="234432" y="877158"/>
                  <a:pt x="419625" y="1062352"/>
                  <a:pt x="648072" y="1062352"/>
                </a:cubicBezTo>
                <a:cubicBezTo>
                  <a:pt x="876519" y="1062352"/>
                  <a:pt x="1061712" y="877158"/>
                  <a:pt x="1061712" y="648711"/>
                </a:cubicBezTo>
                <a:cubicBezTo>
                  <a:pt x="1061712" y="420264"/>
                  <a:pt x="876519" y="235071"/>
                  <a:pt x="648072" y="235071"/>
                </a:cubicBezTo>
                <a:close/>
                <a:moveTo>
                  <a:pt x="594998" y="0"/>
                </a:moveTo>
                <a:lnTo>
                  <a:pt x="701146" y="0"/>
                </a:lnTo>
                <a:lnTo>
                  <a:pt x="724216" y="130856"/>
                </a:lnTo>
                <a:cubicBezTo>
                  <a:pt x="794567" y="141200"/>
                  <a:pt x="862072" y="165770"/>
                  <a:pt x="922614" y="203067"/>
                </a:cubicBezTo>
                <a:lnTo>
                  <a:pt x="1024399" y="117654"/>
                </a:lnTo>
                <a:lnTo>
                  <a:pt x="1105713" y="185886"/>
                </a:lnTo>
                <a:lnTo>
                  <a:pt x="1039273" y="300956"/>
                </a:lnTo>
                <a:cubicBezTo>
                  <a:pt x="1086516" y="354101"/>
                  <a:pt x="1122434" y="416314"/>
                  <a:pt x="1144837" y="483799"/>
                </a:cubicBezTo>
                <a:lnTo>
                  <a:pt x="1277712" y="483796"/>
                </a:lnTo>
                <a:lnTo>
                  <a:pt x="1296144" y="588332"/>
                </a:lnTo>
                <a:lnTo>
                  <a:pt x="1171283" y="633774"/>
                </a:lnTo>
                <a:cubicBezTo>
                  <a:pt x="1173312" y="704852"/>
                  <a:pt x="1160838" y="775599"/>
                  <a:pt x="1134620" y="841697"/>
                </a:cubicBezTo>
                <a:lnTo>
                  <a:pt x="1236410" y="927104"/>
                </a:lnTo>
                <a:lnTo>
                  <a:pt x="1183336" y="1019032"/>
                </a:lnTo>
                <a:lnTo>
                  <a:pt x="1058476" y="973583"/>
                </a:lnTo>
                <a:cubicBezTo>
                  <a:pt x="1014343" y="1029336"/>
                  <a:pt x="959312" y="1075513"/>
                  <a:pt x="896742" y="1109294"/>
                </a:cubicBezTo>
                <a:lnTo>
                  <a:pt x="919819" y="1240149"/>
                </a:lnTo>
                <a:lnTo>
                  <a:pt x="820071" y="1276454"/>
                </a:lnTo>
                <a:lnTo>
                  <a:pt x="753637" y="1161380"/>
                </a:lnTo>
                <a:cubicBezTo>
                  <a:pt x="683991" y="1175721"/>
                  <a:pt x="612153" y="1175721"/>
                  <a:pt x="542507" y="1161380"/>
                </a:cubicBezTo>
                <a:lnTo>
                  <a:pt x="476073" y="1276454"/>
                </a:lnTo>
                <a:lnTo>
                  <a:pt x="376326" y="1240149"/>
                </a:lnTo>
                <a:lnTo>
                  <a:pt x="399403" y="1109294"/>
                </a:lnTo>
                <a:cubicBezTo>
                  <a:pt x="336833" y="1075513"/>
                  <a:pt x="281802" y="1029336"/>
                  <a:pt x="237669" y="973583"/>
                </a:cubicBezTo>
                <a:lnTo>
                  <a:pt x="112809" y="1019032"/>
                </a:lnTo>
                <a:lnTo>
                  <a:pt x="59735" y="927104"/>
                </a:lnTo>
                <a:lnTo>
                  <a:pt x="161524" y="841697"/>
                </a:lnTo>
                <a:cubicBezTo>
                  <a:pt x="135307" y="775599"/>
                  <a:pt x="122832" y="704852"/>
                  <a:pt x="124862" y="633774"/>
                </a:cubicBezTo>
                <a:lnTo>
                  <a:pt x="0" y="588332"/>
                </a:lnTo>
                <a:lnTo>
                  <a:pt x="18432" y="483796"/>
                </a:lnTo>
                <a:lnTo>
                  <a:pt x="151306" y="483799"/>
                </a:lnTo>
                <a:cubicBezTo>
                  <a:pt x="173710" y="416314"/>
                  <a:pt x="209628" y="354100"/>
                  <a:pt x="256871" y="300956"/>
                </a:cubicBezTo>
                <a:lnTo>
                  <a:pt x="190431" y="185886"/>
                </a:lnTo>
                <a:lnTo>
                  <a:pt x="271746" y="117654"/>
                </a:lnTo>
                <a:lnTo>
                  <a:pt x="373531" y="203067"/>
                </a:lnTo>
                <a:cubicBezTo>
                  <a:pt x="434072" y="165770"/>
                  <a:pt x="501577" y="141200"/>
                  <a:pt x="571928" y="130856"/>
                </a:cubicBezTo>
                <a:lnTo>
                  <a:pt x="594998" y="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35846"/>
          <p:cNvSpPr/>
          <p:nvPr/>
        </p:nvSpPr>
        <p:spPr>
          <a:xfrm>
            <a:off x="1676520" y="905040"/>
            <a:ext cx="692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探究点一  人体的第一道防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35847" descr="手"/>
          <p:cNvPicPr/>
          <p:nvPr/>
        </p:nvPicPr>
        <p:blipFill>
          <a:blip r:embed="rId1"/>
          <a:stretch/>
        </p:blipFill>
        <p:spPr>
          <a:xfrm>
            <a:off x="1835280" y="1916280"/>
            <a:ext cx="3627360" cy="4465440"/>
          </a:xfrm>
          <a:prstGeom prst="rect">
            <a:avLst/>
          </a:prstGeom>
          <a:ln w="0">
            <a:noFill/>
          </a:ln>
        </p:spPr>
      </p:pic>
      <p:sp>
        <p:nvSpPr>
          <p:cNvPr id="58" name="文本框 35848"/>
          <p:cNvSpPr/>
          <p:nvPr/>
        </p:nvSpPr>
        <p:spPr>
          <a:xfrm>
            <a:off x="6349680" y="1916280"/>
            <a:ext cx="72900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不管年龄多大，皮肤都是身体的第一道防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39937"/>
          <p:cNvSpPr/>
          <p:nvPr/>
        </p:nvSpPr>
        <p:spPr>
          <a:xfrm>
            <a:off x="1547640" y="5661000"/>
            <a:ext cx="67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皮肤作用：</a:t>
            </a:r>
            <a:r>
              <a:rPr b="1" lang="en-US" sz="3600" spc="-1" strike="noStrike">
                <a:solidFill>
                  <a:srgbClr val="0000ff"/>
                </a:solidFill>
                <a:latin typeface="楷体"/>
                <a:ea typeface="楷体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阻挡   </a:t>
            </a:r>
            <a:r>
              <a:rPr b="1" lang="en-US" sz="3600" spc="-1" strike="noStrike">
                <a:solidFill>
                  <a:srgbClr val="0000ff"/>
                </a:solidFill>
                <a:latin typeface="楷体"/>
                <a:ea typeface="楷体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杀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图片 39938" descr="00011"/>
          <p:cNvPicPr/>
          <p:nvPr/>
        </p:nvPicPr>
        <p:blipFill>
          <a:blip r:embed="rId1"/>
          <a:stretch/>
        </p:blipFill>
        <p:spPr>
          <a:xfrm>
            <a:off x="1908000" y="1125360"/>
            <a:ext cx="5621400" cy="4292640"/>
          </a:xfrm>
          <a:prstGeom prst="rect">
            <a:avLst/>
          </a:prstGeom>
          <a:ln w="0">
            <a:noFill/>
          </a:ln>
        </p:spPr>
      </p:pic>
      <p:sp>
        <p:nvSpPr>
          <p:cNvPr id="6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文本框 41986"/>
          <p:cNvSpPr/>
          <p:nvPr/>
        </p:nvSpPr>
        <p:spPr>
          <a:xfrm>
            <a:off x="7000560" y="1125360"/>
            <a:ext cx="152100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呼吸系统的黏膜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2" descr=""/>
          <p:cNvPicPr/>
          <p:nvPr/>
        </p:nvPicPr>
        <p:blipFill>
          <a:blip r:embed="rId1"/>
          <a:stretch/>
        </p:blipFill>
        <p:spPr>
          <a:xfrm>
            <a:off x="1163520" y="998640"/>
            <a:ext cx="6332760" cy="4862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44033" descr="气管内表面上的纤毛"/>
          <p:cNvPicPr/>
          <p:nvPr/>
        </p:nvPicPr>
        <p:blipFill>
          <a:blip r:embed="rId1"/>
          <a:stretch/>
        </p:blipFill>
        <p:spPr>
          <a:xfrm>
            <a:off x="1258920" y="1052640"/>
            <a:ext cx="6337440" cy="4752720"/>
          </a:xfrm>
          <a:prstGeom prst="rect">
            <a:avLst/>
          </a:prstGeom>
          <a:ln w="0">
            <a:noFill/>
          </a:ln>
        </p:spPr>
      </p:pic>
      <p:sp>
        <p:nvSpPr>
          <p:cNvPr id="67" name="文本框 44034"/>
          <p:cNvSpPr/>
          <p:nvPr/>
        </p:nvSpPr>
        <p:spPr>
          <a:xfrm>
            <a:off x="7133400" y="981000"/>
            <a:ext cx="13993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气管壁黏膜上的纤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文本框 46088"/>
          <p:cNvSpPr/>
          <p:nvPr/>
        </p:nvSpPr>
        <p:spPr>
          <a:xfrm>
            <a:off x="1332000" y="5661000"/>
            <a:ext cx="741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呼吸道黏膜上纤毛的</a:t>
            </a:r>
            <a:r>
              <a:rPr b="0" lang="zh-CN" sz="4000" spc="-1" strike="noStrike" u="sng">
                <a:solidFill>
                  <a:srgbClr val="ff0000"/>
                </a:solidFill>
                <a:uFillTx/>
                <a:latin typeface="Arial"/>
                <a:ea typeface="华文行楷"/>
              </a:rPr>
              <a:t>清扫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作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图片 46089" descr="00021"/>
          <p:cNvPicPr/>
          <p:nvPr/>
        </p:nvPicPr>
        <p:blipFill>
          <a:blip r:embed="rId1"/>
          <a:stretch/>
        </p:blipFill>
        <p:spPr>
          <a:xfrm>
            <a:off x="1835280" y="836640"/>
            <a:ext cx="6172200" cy="4713120"/>
          </a:xfrm>
          <a:prstGeom prst="rect">
            <a:avLst/>
          </a:prstGeom>
          <a:ln w="0">
            <a:noFill/>
          </a:ln>
        </p:spPr>
      </p:pic>
      <p:sp>
        <p:nvSpPr>
          <p:cNvPr id="7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71640" y="836280"/>
            <a:ext cx="7704000" cy="83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400" spc="-1" strike="noStrike">
                <a:solidFill>
                  <a:srgbClr val="ff0000"/>
                </a:solidFill>
                <a:latin typeface="Franklin Gothic Medium"/>
                <a:ea typeface="隶书"/>
              </a:rPr>
              <a:t>人体的第一道防线的组成及作用</a:t>
            </a:r>
            <a:endParaRPr b="0" lang="en-US" sz="3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47280" y="2708280"/>
            <a:ext cx="838836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皮肤有角质层，可以阻挡病原体侵入人体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皮肤的分泌物有杀菌作用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呼吸道上黏膜上有纤毛，可以清扫异物</a:t>
            </a:r>
            <a:r>
              <a:rPr b="1" lang="en-US" sz="30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病菌</a:t>
            </a:r>
            <a:r>
              <a:rPr b="1" lang="en-US" sz="30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4" name="文本框 48131"/>
          <p:cNvSpPr/>
          <p:nvPr/>
        </p:nvSpPr>
        <p:spPr>
          <a:xfrm>
            <a:off x="755640" y="191628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组成：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皮肤与黏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>Administrator</dc:creator>
  <dc:description/>
  <dc:language>en-US</dc:language>
  <cp:lastModifiedBy>Administrator</cp:lastModifiedBy>
  <dcterms:modified xsi:type="dcterms:W3CDTF">2019-01-14T05:49:24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KSORubyTemplateID">
    <vt:lpwstr>13</vt:lpwstr>
  </property>
</Properties>
</file>