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3B89-5BDD-4179-B295-8AD188D3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3A50-1A03-4B86-BA7C-DF425B95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22AB-8B48-4101-BBD8-19D5E3FF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4BE-A0ED-436B-A7E8-9678371B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1274-B527-456A-B027-F8CE1E1A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32BD-342A-4D08-85D5-3CB18D3A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D64-C5F9-46AB-AF7B-5C7920A0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CF88-116A-4DE0-97BF-CBA9E022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262C-9D28-4256-8A7F-8490953A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0AB3-D320-41F3-BD00-150FE74D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B814-18A7-4268-8496-A13AC89D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77E4-FED1-4A26-AFA1-4A4B5913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0A1B-F054-412F-80DB-D1158466F2F1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8D49-3A98-4505-9699-556CB5B4DDEE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918160" y="249804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909"/>
                </a:solidFill>
                <a:latin typeface="宋体"/>
              </a:rPr>
              <a:t>第二章 生物的生殖和发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00000" y="17715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0707"/>
                </a:solidFill>
                <a:latin typeface="黑体"/>
                <a:ea typeface="黑体"/>
              </a:rPr>
              <a:t>第七单元 生物圈中生命的延续和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871000" y="3367800"/>
            <a:ext cx="34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第二节 基因在亲子代间的传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95280" y="1557360"/>
            <a:ext cx="8675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88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比利时的胚胎学家比耐登对体细胞只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染色体的马蛔虫进行研究时发现，马蛔虫的精子和卵细胞都只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染色体（由每一对里的一条组成），而受精卵则又恢复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染色体。那么，是不是所有进行有性生殖的生物都是这样的呢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8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德国动物学家亨金，通过对多种生物的观察研究，证实了：在形成精子或卵细胞的细胞分裂过程中，染色体都要减少一半，而且不是任意的一半，是每对染色体中各有一条进入精子或卵细胞。（这就是以后要说的减数分裂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齿轮1 501"/>
          <p:cNvSpPr/>
          <p:nvPr/>
        </p:nvSpPr>
        <p:spPr>
          <a:xfrm rot="720000">
            <a:off x="914400" y="937800"/>
            <a:ext cx="706320" cy="500040"/>
          </a:xfrm>
          <a:custGeom>
            <a:avLst/>
            <a:gdLst/>
            <a:ahLst/>
            <a:rect l="l" t="t" r="r" b="b"/>
            <a:pathLst>
              <a:path w="2063518" h="1276454">
                <a:moveTo>
                  <a:pt x="1631470" y="557485"/>
                </a:moveTo>
                <a:cubicBezTo>
                  <a:pt x="1479172" y="557485"/>
                  <a:pt x="1355710" y="680947"/>
                  <a:pt x="1355710" y="833245"/>
                </a:cubicBezTo>
                <a:cubicBezTo>
                  <a:pt x="1355710" y="985543"/>
                  <a:pt x="1479172" y="1109005"/>
                  <a:pt x="1631470" y="1109005"/>
                </a:cubicBezTo>
                <a:cubicBezTo>
                  <a:pt x="1783768" y="1109005"/>
                  <a:pt x="1907230" y="985543"/>
                  <a:pt x="1907230" y="833245"/>
                </a:cubicBezTo>
                <a:cubicBezTo>
                  <a:pt x="1907230" y="680947"/>
                  <a:pt x="1783768" y="557485"/>
                  <a:pt x="1631470" y="557485"/>
                </a:cubicBezTo>
                <a:close/>
                <a:moveTo>
                  <a:pt x="1596087" y="400771"/>
                </a:moveTo>
                <a:lnTo>
                  <a:pt x="1666853" y="400771"/>
                </a:lnTo>
                <a:lnTo>
                  <a:pt x="1682233" y="488008"/>
                </a:lnTo>
                <a:cubicBezTo>
                  <a:pt x="1729134" y="494904"/>
                  <a:pt x="1774137" y="511284"/>
                  <a:pt x="1814498" y="536149"/>
                </a:cubicBezTo>
                <a:lnTo>
                  <a:pt x="1882355" y="479207"/>
                </a:lnTo>
                <a:lnTo>
                  <a:pt x="1936564" y="524695"/>
                </a:lnTo>
                <a:lnTo>
                  <a:pt x="1892271" y="601408"/>
                </a:lnTo>
                <a:cubicBezTo>
                  <a:pt x="1923766" y="636838"/>
                  <a:pt x="1947711" y="678313"/>
                  <a:pt x="1962647" y="723304"/>
                </a:cubicBezTo>
                <a:lnTo>
                  <a:pt x="2051230" y="723302"/>
                </a:lnTo>
                <a:lnTo>
                  <a:pt x="2063518" y="792992"/>
                </a:lnTo>
                <a:lnTo>
                  <a:pt x="1980277" y="823287"/>
                </a:lnTo>
                <a:cubicBezTo>
                  <a:pt x="1981630" y="870672"/>
                  <a:pt x="1973314" y="917837"/>
                  <a:pt x="1955836" y="961902"/>
                </a:cubicBezTo>
                <a:lnTo>
                  <a:pt x="2023695" y="1018840"/>
                </a:lnTo>
                <a:lnTo>
                  <a:pt x="1988313" y="1080125"/>
                </a:lnTo>
                <a:lnTo>
                  <a:pt x="1905073" y="1049826"/>
                </a:lnTo>
                <a:cubicBezTo>
                  <a:pt x="1875651" y="1086995"/>
                  <a:pt x="1838963" y="1117779"/>
                  <a:pt x="1797250" y="1140300"/>
                </a:cubicBezTo>
                <a:lnTo>
                  <a:pt x="1812635" y="1227537"/>
                </a:lnTo>
                <a:lnTo>
                  <a:pt x="1746136" y="1251740"/>
                </a:lnTo>
                <a:lnTo>
                  <a:pt x="1701847" y="1175024"/>
                </a:lnTo>
                <a:cubicBezTo>
                  <a:pt x="1655416" y="1184585"/>
                  <a:pt x="1607524" y="1184585"/>
                  <a:pt x="1561093" y="1175024"/>
                </a:cubicBezTo>
                <a:lnTo>
                  <a:pt x="1516804" y="1251740"/>
                </a:lnTo>
                <a:lnTo>
                  <a:pt x="1450306" y="1227537"/>
                </a:lnTo>
                <a:lnTo>
                  <a:pt x="1465691" y="1140300"/>
                </a:lnTo>
                <a:cubicBezTo>
                  <a:pt x="1423978" y="1117779"/>
                  <a:pt x="1387290" y="1086995"/>
                  <a:pt x="1357868" y="1049826"/>
                </a:cubicBezTo>
                <a:lnTo>
                  <a:pt x="1274628" y="1080125"/>
                </a:lnTo>
                <a:lnTo>
                  <a:pt x="1239245" y="1018840"/>
                </a:lnTo>
                <a:lnTo>
                  <a:pt x="1307105" y="961902"/>
                </a:lnTo>
                <a:cubicBezTo>
                  <a:pt x="1289627" y="917837"/>
                  <a:pt x="1281310" y="870672"/>
                  <a:pt x="1282663" y="823287"/>
                </a:cubicBezTo>
                <a:lnTo>
                  <a:pt x="1199422" y="792992"/>
                </a:lnTo>
                <a:lnTo>
                  <a:pt x="1211710" y="723302"/>
                </a:lnTo>
                <a:lnTo>
                  <a:pt x="1300293" y="723304"/>
                </a:lnTo>
                <a:cubicBezTo>
                  <a:pt x="1315229" y="678313"/>
                  <a:pt x="1339174" y="636838"/>
                  <a:pt x="1370670" y="601408"/>
                </a:cubicBezTo>
                <a:lnTo>
                  <a:pt x="1326376" y="524695"/>
                </a:lnTo>
                <a:lnTo>
                  <a:pt x="1380586" y="479207"/>
                </a:lnTo>
                <a:lnTo>
                  <a:pt x="1448443" y="536149"/>
                </a:lnTo>
                <a:cubicBezTo>
                  <a:pt x="1488803" y="511284"/>
                  <a:pt x="1533807" y="494905"/>
                  <a:pt x="1580707" y="488008"/>
                </a:cubicBezTo>
                <a:lnTo>
                  <a:pt x="1596087" y="400771"/>
                </a:lnTo>
                <a:close/>
                <a:moveTo>
                  <a:pt x="648072" y="235071"/>
                </a:moveTo>
                <a:cubicBezTo>
                  <a:pt x="419625" y="235071"/>
                  <a:pt x="234432" y="420264"/>
                  <a:pt x="234432" y="648711"/>
                </a:cubicBezTo>
                <a:cubicBezTo>
                  <a:pt x="234432" y="877158"/>
                  <a:pt x="419625" y="1062352"/>
                  <a:pt x="648072" y="1062352"/>
                </a:cubicBezTo>
                <a:cubicBezTo>
                  <a:pt x="876519" y="1062352"/>
                  <a:pt x="1061712" y="877158"/>
                  <a:pt x="1061712" y="648711"/>
                </a:cubicBezTo>
                <a:cubicBezTo>
                  <a:pt x="1061712" y="420264"/>
                  <a:pt x="876519" y="235071"/>
                  <a:pt x="648072" y="235071"/>
                </a:cubicBezTo>
                <a:close/>
                <a:moveTo>
                  <a:pt x="594998" y="0"/>
                </a:moveTo>
                <a:lnTo>
                  <a:pt x="701146" y="0"/>
                </a:lnTo>
                <a:lnTo>
                  <a:pt x="724216" y="130856"/>
                </a:lnTo>
                <a:cubicBezTo>
                  <a:pt x="794567" y="141200"/>
                  <a:pt x="862072" y="165770"/>
                  <a:pt x="922614" y="203067"/>
                </a:cubicBezTo>
                <a:lnTo>
                  <a:pt x="1024399" y="117654"/>
                </a:lnTo>
                <a:lnTo>
                  <a:pt x="1105713" y="185886"/>
                </a:lnTo>
                <a:lnTo>
                  <a:pt x="1039273" y="300956"/>
                </a:lnTo>
                <a:cubicBezTo>
                  <a:pt x="1086516" y="354101"/>
                  <a:pt x="1122434" y="416314"/>
                  <a:pt x="1144837" y="483799"/>
                </a:cubicBezTo>
                <a:lnTo>
                  <a:pt x="1277712" y="483796"/>
                </a:lnTo>
                <a:lnTo>
                  <a:pt x="1296144" y="588332"/>
                </a:lnTo>
                <a:lnTo>
                  <a:pt x="1171283" y="633774"/>
                </a:lnTo>
                <a:cubicBezTo>
                  <a:pt x="1173312" y="704852"/>
                  <a:pt x="1160838" y="775599"/>
                  <a:pt x="1134620" y="841697"/>
                </a:cubicBezTo>
                <a:lnTo>
                  <a:pt x="1236410" y="927104"/>
                </a:lnTo>
                <a:lnTo>
                  <a:pt x="1183336" y="1019032"/>
                </a:lnTo>
                <a:lnTo>
                  <a:pt x="1058476" y="973583"/>
                </a:lnTo>
                <a:cubicBezTo>
                  <a:pt x="1014343" y="1029336"/>
                  <a:pt x="959312" y="1075513"/>
                  <a:pt x="896742" y="1109294"/>
                </a:cubicBezTo>
                <a:lnTo>
                  <a:pt x="919819" y="1240149"/>
                </a:lnTo>
                <a:lnTo>
                  <a:pt x="820071" y="1276454"/>
                </a:lnTo>
                <a:lnTo>
                  <a:pt x="753637" y="1161380"/>
                </a:lnTo>
                <a:cubicBezTo>
                  <a:pt x="683991" y="1175721"/>
                  <a:pt x="612153" y="1175721"/>
                  <a:pt x="542507" y="1161380"/>
                </a:cubicBezTo>
                <a:lnTo>
                  <a:pt x="476073" y="1276454"/>
                </a:lnTo>
                <a:lnTo>
                  <a:pt x="376326" y="1240149"/>
                </a:lnTo>
                <a:lnTo>
                  <a:pt x="399403" y="1109294"/>
                </a:lnTo>
                <a:cubicBezTo>
                  <a:pt x="336833" y="1075513"/>
                  <a:pt x="281802" y="1029336"/>
                  <a:pt x="237669" y="973583"/>
                </a:cubicBezTo>
                <a:lnTo>
                  <a:pt x="112809" y="1019032"/>
                </a:lnTo>
                <a:lnTo>
                  <a:pt x="59735" y="927104"/>
                </a:lnTo>
                <a:lnTo>
                  <a:pt x="161524" y="841697"/>
                </a:lnTo>
                <a:cubicBezTo>
                  <a:pt x="135307" y="775599"/>
                  <a:pt x="122832" y="704852"/>
                  <a:pt x="124862" y="633774"/>
                </a:cubicBezTo>
                <a:lnTo>
                  <a:pt x="0" y="588332"/>
                </a:lnTo>
                <a:lnTo>
                  <a:pt x="18432" y="483796"/>
                </a:lnTo>
                <a:lnTo>
                  <a:pt x="151306" y="483799"/>
                </a:lnTo>
                <a:cubicBezTo>
                  <a:pt x="173710" y="416314"/>
                  <a:pt x="209628" y="354100"/>
                  <a:pt x="256871" y="300956"/>
                </a:cubicBezTo>
                <a:lnTo>
                  <a:pt x="190431" y="185886"/>
                </a:lnTo>
                <a:lnTo>
                  <a:pt x="271746" y="117654"/>
                </a:lnTo>
                <a:lnTo>
                  <a:pt x="373531" y="203067"/>
                </a:lnTo>
                <a:cubicBezTo>
                  <a:pt x="434072" y="165770"/>
                  <a:pt x="501577" y="141200"/>
                  <a:pt x="571928" y="130856"/>
                </a:cubicBezTo>
                <a:lnTo>
                  <a:pt x="594998" y="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30725"/>
          <p:cNvSpPr/>
          <p:nvPr/>
        </p:nvSpPr>
        <p:spPr>
          <a:xfrm>
            <a:off x="1676520" y="90504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探究点二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基因经精子或卵细胞的传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16000" y="1700280"/>
            <a:ext cx="785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基因是怎么传给后代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"/>
          <p:cNvSpPr/>
          <p:nvPr/>
        </p:nvSpPr>
        <p:spPr>
          <a:xfrm>
            <a:off x="1116000" y="2779560"/>
            <a:ext cx="59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是经过生殖细胞（精子或卵细胞）传给后代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47772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生殖过程中染色体的变化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5" name="Picture 3" descr="111(1)[1]"/>
          <p:cNvPicPr/>
          <p:nvPr/>
        </p:nvPicPr>
        <p:blipFill>
          <a:blip r:embed="rId1"/>
          <a:stretch/>
        </p:blipFill>
        <p:spPr>
          <a:xfrm>
            <a:off x="717480" y="2857680"/>
            <a:ext cx="7239240" cy="3051000"/>
          </a:xfrm>
          <a:prstGeom prst="rect">
            <a:avLst/>
          </a:prstGeom>
          <a:ln w="0">
            <a:noFill/>
          </a:ln>
        </p:spPr>
      </p:pic>
      <p:sp>
        <p:nvSpPr>
          <p:cNvPr id="116" name="Line 13"/>
          <p:cNvSpPr/>
          <p:nvPr/>
        </p:nvSpPr>
        <p:spPr>
          <a:xfrm>
            <a:off x="7151760" y="4172040"/>
            <a:ext cx="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743040" y="1054080"/>
            <a:ext cx="7921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精子和卵细胞结合形成的受精卵中，每对染色体都是一条来自父方，一条来自母方，因此后代具有双亲的遗传物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7" descr=""/>
          <p:cNvPicPr/>
          <p:nvPr/>
        </p:nvPicPr>
        <p:blipFill>
          <a:blip r:embed="rId2"/>
          <a:stretch/>
        </p:blipFill>
        <p:spPr>
          <a:xfrm>
            <a:off x="4272120" y="3301920"/>
            <a:ext cx="312480" cy="5414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8" descr=""/>
          <p:cNvPicPr/>
          <p:nvPr/>
        </p:nvPicPr>
        <p:blipFill>
          <a:blip r:embed="rId3"/>
          <a:stretch/>
        </p:blipFill>
        <p:spPr>
          <a:xfrm>
            <a:off x="4325760" y="4714920"/>
            <a:ext cx="258840" cy="57132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9" descr=""/>
          <p:cNvPicPr/>
          <p:nvPr/>
        </p:nvPicPr>
        <p:blipFill>
          <a:blip r:embed="rId4"/>
          <a:stretch/>
        </p:blipFill>
        <p:spPr>
          <a:xfrm>
            <a:off x="7318440" y="3843360"/>
            <a:ext cx="260280" cy="5713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" descr=""/>
          <p:cNvPicPr/>
          <p:nvPr/>
        </p:nvPicPr>
        <p:blipFill>
          <a:blip r:embed="rId5"/>
          <a:stretch/>
        </p:blipFill>
        <p:spPr>
          <a:xfrm>
            <a:off x="7012080" y="3881520"/>
            <a:ext cx="312480" cy="54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982800" y="752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亲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611280" y="2473200"/>
            <a:ext cx="21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生殖细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201680" y="5802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子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202280" y="952560"/>
            <a:ext cx="13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068880" y="974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母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156200" y="2593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精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031080" y="2573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卵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5021280" y="4410000"/>
            <a:ext cx="17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受精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5154480" y="5925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子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335320" y="1362240"/>
            <a:ext cx="264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23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染色体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6507000" y="1380960"/>
            <a:ext cx="243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23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染色体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300400" y="303840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23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染色体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6545160" y="3076560"/>
            <a:ext cx="243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23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染色体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5611680" y="492444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23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染色体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5811840" y="6067440"/>
            <a:ext cx="24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23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染色体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4621320" y="14763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6602400" y="1476360"/>
            <a:ext cx="0" cy="1085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9"/>
          <p:cNvGrpSpPr/>
          <p:nvPr/>
        </p:nvGrpSpPr>
        <p:grpSpPr>
          <a:xfrm>
            <a:off x="4564080" y="3266640"/>
            <a:ext cx="2190600" cy="1086120"/>
            <a:chOff x="4564080" y="3266640"/>
            <a:chExt cx="2190600" cy="1086120"/>
          </a:xfrm>
        </p:grpSpPr>
        <p:grpSp>
          <p:nvGrpSpPr>
            <p:cNvPr id="141" name="Group 20"/>
            <p:cNvGrpSpPr/>
            <p:nvPr/>
          </p:nvGrpSpPr>
          <p:grpSpPr>
            <a:xfrm>
              <a:off x="4564080" y="3267000"/>
              <a:ext cx="1101600" cy="1085760"/>
              <a:chOff x="4564080" y="3267000"/>
              <a:chExt cx="1101600" cy="1085760"/>
            </a:xfrm>
          </p:grpSpPr>
          <p:sp>
            <p:nvSpPr>
              <p:cNvPr id="142" name="Line 21"/>
              <p:cNvSpPr/>
              <p:nvPr/>
            </p:nvSpPr>
            <p:spPr>
              <a:xfrm>
                <a:off x="5665680" y="3908160"/>
                <a:ext cx="0" cy="44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22"/>
              <p:cNvSpPr/>
              <p:nvPr/>
            </p:nvSpPr>
            <p:spPr>
              <a:xfrm>
                <a:off x="4564080" y="3267000"/>
                <a:ext cx="1101600" cy="64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Line 23"/>
            <p:cNvSpPr/>
            <p:nvPr/>
          </p:nvSpPr>
          <p:spPr>
            <a:xfrm flipV="1">
              <a:off x="5653080" y="3266640"/>
              <a:ext cx="1101600" cy="641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4"/>
          <p:cNvGrpSpPr/>
          <p:nvPr/>
        </p:nvGrpSpPr>
        <p:grpSpPr>
          <a:xfrm>
            <a:off x="2773440" y="438120"/>
            <a:ext cx="5429160" cy="1009800"/>
            <a:chOff x="2773440" y="438120"/>
            <a:chExt cx="5429160" cy="1009800"/>
          </a:xfrm>
        </p:grpSpPr>
        <p:grpSp>
          <p:nvGrpSpPr>
            <p:cNvPr id="146" name="Group 25"/>
            <p:cNvGrpSpPr/>
            <p:nvPr/>
          </p:nvGrpSpPr>
          <p:grpSpPr>
            <a:xfrm>
              <a:off x="2773440" y="438120"/>
              <a:ext cx="990360" cy="990720"/>
              <a:chOff x="2773440" y="438120"/>
              <a:chExt cx="990360" cy="990720"/>
            </a:xfrm>
          </p:grpSpPr>
          <p:sp>
            <p:nvSpPr>
              <p:cNvPr id="147" name="Oval 26"/>
              <p:cNvSpPr/>
              <p:nvPr/>
            </p:nvSpPr>
            <p:spPr>
              <a:xfrm>
                <a:off x="2773440" y="438120"/>
                <a:ext cx="990360" cy="990720"/>
              </a:xfrm>
              <a:prstGeom prst="ellipse">
                <a:avLst/>
              </a:prstGeom>
              <a:solidFill>
                <a:srgbClr val="ffcc99"/>
              </a:solidFill>
              <a:ln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Group 27"/>
              <p:cNvGrpSpPr/>
              <p:nvPr/>
            </p:nvGrpSpPr>
            <p:grpSpPr>
              <a:xfrm>
                <a:off x="2963880" y="590400"/>
                <a:ext cx="228600" cy="685800"/>
                <a:chOff x="2963880" y="590400"/>
                <a:chExt cx="228600" cy="685800"/>
              </a:xfrm>
            </p:grpSpPr>
            <p:sp>
              <p:nvSpPr>
                <p:cNvPr id="149" name="AutoShape 28"/>
                <p:cNvSpPr/>
                <p:nvPr/>
              </p:nvSpPr>
              <p:spPr>
                <a:xfrm>
                  <a:off x="2963880" y="590400"/>
                  <a:ext cx="228600" cy="685800"/>
                </a:xfrm>
                <a:custGeom>
                  <a:avLst/>
                  <a:gdLst>
                    <a:gd name="textAreaLeft" fmla="*/ 11160 w 228600"/>
                    <a:gd name="textAreaRight" fmla="*/ 217440 w 228600"/>
                    <a:gd name="textAreaTop" fmla="*/ 11160 h 685800"/>
                    <a:gd name="textAreaBottom" fmla="*/ 674640 h 685800"/>
                  </a:gdLst>
                  <a:ahLst/>
                  <a:rect l="textAreaLeft" t="textAreaTop" r="textAreaRight" b="textAreaBottom"/>
                  <a:pathLst>
                    <a:path w="21600" h="64732">
                      <a:moveTo>
                        <a:pt x="3600" y="0"/>
                      </a:moveTo>
                      <a:arcTo wR="3600" hR="3600" stAng="16200000" swAng="-5400000"/>
                      <a:lnTo>
                        <a:pt x="0" y="61132"/>
                      </a:lnTo>
                      <a:arcTo wR="3600" hR="3600" stAng="10800000" swAng="-5400000"/>
                      <a:lnTo>
                        <a:pt x="18000" y="6473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5b9bd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Rectangle 29"/>
                <p:cNvSpPr/>
                <p:nvPr/>
              </p:nvSpPr>
              <p:spPr>
                <a:xfrm>
                  <a:off x="2963880" y="772920"/>
                  <a:ext cx="228600" cy="71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30"/>
              <p:cNvGrpSpPr/>
              <p:nvPr/>
            </p:nvGrpSpPr>
            <p:grpSpPr>
              <a:xfrm>
                <a:off x="3325680" y="590400"/>
                <a:ext cx="228600" cy="685800"/>
                <a:chOff x="3325680" y="590400"/>
                <a:chExt cx="228600" cy="685800"/>
              </a:xfrm>
            </p:grpSpPr>
            <p:sp>
              <p:nvSpPr>
                <p:cNvPr id="152" name="AutoShape 31"/>
                <p:cNvSpPr/>
                <p:nvPr/>
              </p:nvSpPr>
              <p:spPr>
                <a:xfrm>
                  <a:off x="3325680" y="590400"/>
                  <a:ext cx="228600" cy="685800"/>
                </a:xfrm>
                <a:custGeom>
                  <a:avLst/>
                  <a:gdLst>
                    <a:gd name="textAreaLeft" fmla="*/ 11160 w 228600"/>
                    <a:gd name="textAreaRight" fmla="*/ 217440 w 228600"/>
                    <a:gd name="textAreaTop" fmla="*/ 11160 h 685800"/>
                    <a:gd name="textAreaBottom" fmla="*/ 674640 h 685800"/>
                  </a:gdLst>
                  <a:ahLst/>
                  <a:rect l="textAreaLeft" t="textAreaTop" r="textAreaRight" b="textAreaBottom"/>
                  <a:pathLst>
                    <a:path w="21600" h="64732">
                      <a:moveTo>
                        <a:pt x="3600" y="0"/>
                      </a:moveTo>
                      <a:arcTo wR="3600" hR="3600" stAng="16200000" swAng="-5400000"/>
                      <a:lnTo>
                        <a:pt x="0" y="61132"/>
                      </a:lnTo>
                      <a:arcTo wR="3600" hR="3600" stAng="10800000" swAng="-5400000"/>
                      <a:lnTo>
                        <a:pt x="18000" y="6473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5b9bd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Rectangle 32"/>
                <p:cNvSpPr/>
                <p:nvPr/>
              </p:nvSpPr>
              <p:spPr>
                <a:xfrm>
                  <a:off x="3325680" y="772920"/>
                  <a:ext cx="228600" cy="71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" name="Group 33"/>
            <p:cNvGrpSpPr/>
            <p:nvPr/>
          </p:nvGrpSpPr>
          <p:grpSpPr>
            <a:xfrm>
              <a:off x="7211880" y="457200"/>
              <a:ext cx="990720" cy="990720"/>
              <a:chOff x="7211880" y="457200"/>
              <a:chExt cx="990720" cy="990720"/>
            </a:xfrm>
          </p:grpSpPr>
          <p:sp>
            <p:nvSpPr>
              <p:cNvPr id="155" name="Oval 34"/>
              <p:cNvSpPr/>
              <p:nvPr/>
            </p:nvSpPr>
            <p:spPr>
              <a:xfrm>
                <a:off x="7211880" y="457200"/>
                <a:ext cx="990720" cy="990720"/>
              </a:xfrm>
              <a:prstGeom prst="ellipse">
                <a:avLst/>
              </a:prstGeom>
              <a:solidFill>
                <a:srgbClr val="ffcc99"/>
              </a:solidFill>
              <a:ln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35"/>
              <p:cNvSpPr/>
              <p:nvPr/>
            </p:nvSpPr>
            <p:spPr>
              <a:xfrm>
                <a:off x="7402320" y="609480"/>
                <a:ext cx="228600" cy="685800"/>
              </a:xfrm>
              <a:custGeom>
                <a:avLst/>
                <a:gdLst>
                  <a:gd name="textAreaLeft" fmla="*/ 11160 w 228600"/>
                  <a:gd name="textAreaRight" fmla="*/ 217440 w 228600"/>
                  <a:gd name="textAreaTop" fmla="*/ 11160 h 685800"/>
                  <a:gd name="textAreaBottom" fmla="*/ 674640 h 685800"/>
                </a:gdLst>
                <a:ahLst/>
                <a:rect l="textAreaLeft" t="textAreaTop" r="textAreaRight" b="textAreaBottom"/>
                <a:pathLst>
                  <a:path w="21600" h="64732">
                    <a:moveTo>
                      <a:pt x="3600" y="0"/>
                    </a:moveTo>
                    <a:arcTo wR="3600" hR="3600" stAng="16200000" swAng="-5400000"/>
                    <a:lnTo>
                      <a:pt x="0" y="61132"/>
                    </a:lnTo>
                    <a:arcTo wR="3600" hR="3600" stAng="10800000" swAng="-5400000"/>
                    <a:lnTo>
                      <a:pt x="18000" y="6473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36"/>
              <p:cNvSpPr/>
              <p:nvPr/>
            </p:nvSpPr>
            <p:spPr>
              <a:xfrm>
                <a:off x="7402320" y="792000"/>
                <a:ext cx="228600" cy="7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utoShape 37"/>
              <p:cNvSpPr/>
              <p:nvPr/>
            </p:nvSpPr>
            <p:spPr>
              <a:xfrm>
                <a:off x="7764480" y="609480"/>
                <a:ext cx="228600" cy="685800"/>
              </a:xfrm>
              <a:custGeom>
                <a:avLst/>
                <a:gdLst>
                  <a:gd name="textAreaLeft" fmla="*/ 11160 w 228600"/>
                  <a:gd name="textAreaRight" fmla="*/ 217440 w 228600"/>
                  <a:gd name="textAreaTop" fmla="*/ 11160 h 685800"/>
                  <a:gd name="textAreaBottom" fmla="*/ 674640 h 685800"/>
                </a:gdLst>
                <a:ahLst/>
                <a:rect l="textAreaLeft" t="textAreaTop" r="textAreaRight" b="textAreaBottom"/>
                <a:pathLst>
                  <a:path w="21600" h="64732">
                    <a:moveTo>
                      <a:pt x="3600" y="0"/>
                    </a:moveTo>
                    <a:arcTo wR="3600" hR="3600" stAng="16200000" swAng="-5400000"/>
                    <a:lnTo>
                      <a:pt x="0" y="61132"/>
                    </a:lnTo>
                    <a:arcTo wR="3600" hR="3600" stAng="10800000" swAng="-5400000"/>
                    <a:lnTo>
                      <a:pt x="18000" y="6473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38"/>
              <p:cNvSpPr/>
              <p:nvPr/>
            </p:nvSpPr>
            <p:spPr>
              <a:xfrm>
                <a:off x="7764480" y="792000"/>
                <a:ext cx="228600" cy="7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Group 39"/>
          <p:cNvGrpSpPr/>
          <p:nvPr/>
        </p:nvGrpSpPr>
        <p:grpSpPr>
          <a:xfrm>
            <a:off x="3954600" y="3936960"/>
            <a:ext cx="990360" cy="990720"/>
            <a:chOff x="3954600" y="3936960"/>
            <a:chExt cx="990360" cy="990720"/>
          </a:xfrm>
        </p:grpSpPr>
        <p:sp>
          <p:nvSpPr>
            <p:cNvPr id="161" name="Oval 40"/>
            <p:cNvSpPr/>
            <p:nvPr/>
          </p:nvSpPr>
          <p:spPr>
            <a:xfrm>
              <a:off x="3954600" y="3936960"/>
              <a:ext cx="990360" cy="990720"/>
            </a:xfrm>
            <a:prstGeom prst="ellipse">
              <a:avLst/>
            </a:prstGeom>
            <a:solidFill>
              <a:srgbClr val="ffcc99"/>
            </a:solidFill>
            <a:ln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41"/>
            <p:cNvSpPr/>
            <p:nvPr/>
          </p:nvSpPr>
          <p:spPr>
            <a:xfrm>
              <a:off x="4145040" y="4089600"/>
              <a:ext cx="228600" cy="68580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685800"/>
                <a:gd name="textAreaBottom" fmla="*/ 674640 h 685800"/>
              </a:gdLst>
              <a:ahLst/>
              <a:rect l="textAreaLeft" t="textAreaTop" r="textAreaRight" b="textAreaBottom"/>
              <a:pathLst>
                <a:path w="21600" h="64732">
                  <a:moveTo>
                    <a:pt x="3600" y="0"/>
                  </a:moveTo>
                  <a:arcTo wR="3600" hR="3600" stAng="16200000" swAng="-5400000"/>
                  <a:lnTo>
                    <a:pt x="0" y="61132"/>
                  </a:lnTo>
                  <a:arcTo wR="3600" hR="3600" stAng="10800000" swAng="-5400000"/>
                  <a:lnTo>
                    <a:pt x="18000" y="647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b9bd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2"/>
            <p:cNvSpPr/>
            <p:nvPr/>
          </p:nvSpPr>
          <p:spPr>
            <a:xfrm>
              <a:off x="4145040" y="4272120"/>
              <a:ext cx="228600" cy="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43"/>
            <p:cNvSpPr/>
            <p:nvPr/>
          </p:nvSpPr>
          <p:spPr>
            <a:xfrm>
              <a:off x="4506840" y="4089600"/>
              <a:ext cx="228600" cy="68580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685800"/>
                <a:gd name="textAreaBottom" fmla="*/ 674640 h 685800"/>
              </a:gdLst>
              <a:ahLst/>
              <a:rect l="textAreaLeft" t="textAreaTop" r="textAreaRight" b="textAreaBottom"/>
              <a:pathLst>
                <a:path w="21600" h="64732">
                  <a:moveTo>
                    <a:pt x="3600" y="0"/>
                  </a:moveTo>
                  <a:arcTo wR="3600" hR="3600" stAng="16200000" swAng="-5400000"/>
                  <a:lnTo>
                    <a:pt x="0" y="61132"/>
                  </a:lnTo>
                  <a:arcTo wR="3600" hR="3600" stAng="10800000" swAng="-5400000"/>
                  <a:lnTo>
                    <a:pt x="18000" y="647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4"/>
            <p:cNvSpPr/>
            <p:nvPr/>
          </p:nvSpPr>
          <p:spPr>
            <a:xfrm>
              <a:off x="4506840" y="4272120"/>
              <a:ext cx="228600" cy="7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45"/>
          <p:cNvGrpSpPr/>
          <p:nvPr/>
        </p:nvGrpSpPr>
        <p:grpSpPr>
          <a:xfrm>
            <a:off x="3992400" y="5478480"/>
            <a:ext cx="990360" cy="990360"/>
            <a:chOff x="3992400" y="5478480"/>
            <a:chExt cx="990360" cy="990360"/>
          </a:xfrm>
        </p:grpSpPr>
        <p:sp>
          <p:nvSpPr>
            <p:cNvPr id="167" name="Oval 46"/>
            <p:cNvSpPr/>
            <p:nvPr/>
          </p:nvSpPr>
          <p:spPr>
            <a:xfrm>
              <a:off x="3992400" y="5478480"/>
              <a:ext cx="990360" cy="990360"/>
            </a:xfrm>
            <a:prstGeom prst="ellipse">
              <a:avLst/>
            </a:prstGeom>
            <a:solidFill>
              <a:srgbClr val="ffcc99"/>
            </a:solidFill>
            <a:ln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47"/>
            <p:cNvSpPr/>
            <p:nvPr/>
          </p:nvSpPr>
          <p:spPr>
            <a:xfrm>
              <a:off x="4182840" y="5630760"/>
              <a:ext cx="228600" cy="68580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685800"/>
                <a:gd name="textAreaBottom" fmla="*/ 674640 h 685800"/>
              </a:gdLst>
              <a:ahLst/>
              <a:rect l="textAreaLeft" t="textAreaTop" r="textAreaRight" b="textAreaBottom"/>
              <a:pathLst>
                <a:path w="21600" h="64732">
                  <a:moveTo>
                    <a:pt x="3600" y="0"/>
                  </a:moveTo>
                  <a:arcTo wR="3600" hR="3600" stAng="16200000" swAng="-5400000"/>
                  <a:lnTo>
                    <a:pt x="0" y="61132"/>
                  </a:lnTo>
                  <a:arcTo wR="3600" hR="3600" stAng="10800000" swAng="-5400000"/>
                  <a:lnTo>
                    <a:pt x="18000" y="647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b9bd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8"/>
            <p:cNvSpPr/>
            <p:nvPr/>
          </p:nvSpPr>
          <p:spPr>
            <a:xfrm>
              <a:off x="4182840" y="5813280"/>
              <a:ext cx="22860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49"/>
            <p:cNvSpPr/>
            <p:nvPr/>
          </p:nvSpPr>
          <p:spPr>
            <a:xfrm>
              <a:off x="4544640" y="5630760"/>
              <a:ext cx="228600" cy="68580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685800"/>
                <a:gd name="textAreaBottom" fmla="*/ 674640 h 685800"/>
              </a:gdLst>
              <a:ahLst/>
              <a:rect l="textAreaLeft" t="textAreaTop" r="textAreaRight" b="textAreaBottom"/>
              <a:pathLst>
                <a:path w="21600" h="64732">
                  <a:moveTo>
                    <a:pt x="3600" y="0"/>
                  </a:moveTo>
                  <a:arcTo wR="3600" hR="3600" stAng="16200000" swAng="-5400000"/>
                  <a:lnTo>
                    <a:pt x="0" y="61132"/>
                  </a:lnTo>
                  <a:arcTo wR="3600" hR="3600" stAng="10800000" swAng="-5400000"/>
                  <a:lnTo>
                    <a:pt x="18000" y="647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0"/>
            <p:cNvSpPr/>
            <p:nvPr/>
          </p:nvSpPr>
          <p:spPr>
            <a:xfrm>
              <a:off x="4544640" y="5813280"/>
              <a:ext cx="228600" cy="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51"/>
          <p:cNvGrpSpPr/>
          <p:nvPr/>
        </p:nvGrpSpPr>
        <p:grpSpPr>
          <a:xfrm>
            <a:off x="2792520" y="2009880"/>
            <a:ext cx="5467320" cy="1009080"/>
            <a:chOff x="2792520" y="2009880"/>
            <a:chExt cx="5467320" cy="1009080"/>
          </a:xfrm>
        </p:grpSpPr>
        <p:grpSp>
          <p:nvGrpSpPr>
            <p:cNvPr id="173" name="Group 52"/>
            <p:cNvGrpSpPr/>
            <p:nvPr/>
          </p:nvGrpSpPr>
          <p:grpSpPr>
            <a:xfrm>
              <a:off x="2792520" y="2028600"/>
              <a:ext cx="990360" cy="990360"/>
              <a:chOff x="2792520" y="2028600"/>
              <a:chExt cx="990360" cy="990360"/>
            </a:xfrm>
          </p:grpSpPr>
          <p:sp>
            <p:nvSpPr>
              <p:cNvPr id="174" name="Oval 53"/>
              <p:cNvSpPr/>
              <p:nvPr/>
            </p:nvSpPr>
            <p:spPr>
              <a:xfrm>
                <a:off x="2792520" y="2028600"/>
                <a:ext cx="990360" cy="990360"/>
              </a:xfrm>
              <a:prstGeom prst="ellipse">
                <a:avLst/>
              </a:prstGeom>
              <a:solidFill>
                <a:srgbClr val="ffcc99"/>
              </a:solidFill>
              <a:ln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Group 54"/>
              <p:cNvGrpSpPr/>
              <p:nvPr/>
            </p:nvGrpSpPr>
            <p:grpSpPr>
              <a:xfrm>
                <a:off x="3173400" y="2180880"/>
                <a:ext cx="228600" cy="685440"/>
                <a:chOff x="3173400" y="2180880"/>
                <a:chExt cx="228600" cy="685440"/>
              </a:xfrm>
            </p:grpSpPr>
            <p:sp>
              <p:nvSpPr>
                <p:cNvPr id="176" name="AutoShape 55"/>
                <p:cNvSpPr/>
                <p:nvPr/>
              </p:nvSpPr>
              <p:spPr>
                <a:xfrm>
                  <a:off x="3173400" y="2180880"/>
                  <a:ext cx="228600" cy="685440"/>
                </a:xfrm>
                <a:custGeom>
                  <a:avLst/>
                  <a:gdLst>
                    <a:gd name="textAreaLeft" fmla="*/ 11160 w 228600"/>
                    <a:gd name="textAreaRight" fmla="*/ 217440 w 228600"/>
                    <a:gd name="textAreaTop" fmla="*/ 11160 h 685440"/>
                    <a:gd name="textAreaBottom" fmla="*/ 674280 h 685440"/>
                  </a:gdLst>
                  <a:ahLst/>
                  <a:rect l="textAreaLeft" t="textAreaTop" r="textAreaRight" b="textAreaBottom"/>
                  <a:pathLst>
                    <a:path w="21600" h="64698">
                      <a:moveTo>
                        <a:pt x="3600" y="0"/>
                      </a:moveTo>
                      <a:arcTo wR="3600" hR="3600" stAng="16200000" swAng="-5400000"/>
                      <a:lnTo>
                        <a:pt x="0" y="61098"/>
                      </a:lnTo>
                      <a:arcTo wR="3600" hR="3600" stAng="10800000" swAng="-5400000"/>
                      <a:lnTo>
                        <a:pt x="18000" y="6469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5b9bd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56"/>
                <p:cNvSpPr/>
                <p:nvPr/>
              </p:nvSpPr>
              <p:spPr>
                <a:xfrm>
                  <a:off x="3173400" y="2363040"/>
                  <a:ext cx="228600" cy="70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Group 57"/>
            <p:cNvGrpSpPr/>
            <p:nvPr/>
          </p:nvGrpSpPr>
          <p:grpSpPr>
            <a:xfrm>
              <a:off x="7269120" y="2009880"/>
              <a:ext cx="990720" cy="990360"/>
              <a:chOff x="7269120" y="2009880"/>
              <a:chExt cx="990720" cy="990360"/>
            </a:xfrm>
          </p:grpSpPr>
          <p:sp>
            <p:nvSpPr>
              <p:cNvPr id="179" name="Oval 58"/>
              <p:cNvSpPr/>
              <p:nvPr/>
            </p:nvSpPr>
            <p:spPr>
              <a:xfrm>
                <a:off x="7269120" y="2009880"/>
                <a:ext cx="990720" cy="990360"/>
              </a:xfrm>
              <a:prstGeom prst="ellipse">
                <a:avLst/>
              </a:prstGeom>
              <a:solidFill>
                <a:srgbClr val="ffcc99"/>
              </a:solidFill>
              <a:ln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59"/>
              <p:cNvGrpSpPr/>
              <p:nvPr/>
            </p:nvGrpSpPr>
            <p:grpSpPr>
              <a:xfrm>
                <a:off x="7650000" y="2162160"/>
                <a:ext cx="228600" cy="685440"/>
                <a:chOff x="7650000" y="2162160"/>
                <a:chExt cx="228600" cy="685440"/>
              </a:xfrm>
            </p:grpSpPr>
            <p:sp>
              <p:nvSpPr>
                <p:cNvPr id="181" name="AutoShape 60"/>
                <p:cNvSpPr/>
                <p:nvPr/>
              </p:nvSpPr>
              <p:spPr>
                <a:xfrm>
                  <a:off x="7650000" y="2162160"/>
                  <a:ext cx="228600" cy="685440"/>
                </a:xfrm>
                <a:custGeom>
                  <a:avLst/>
                  <a:gdLst>
                    <a:gd name="textAreaLeft" fmla="*/ 11160 w 228600"/>
                    <a:gd name="textAreaRight" fmla="*/ 217440 w 228600"/>
                    <a:gd name="textAreaTop" fmla="*/ 11160 h 685440"/>
                    <a:gd name="textAreaBottom" fmla="*/ 674280 h 685440"/>
                  </a:gdLst>
                  <a:ahLst/>
                  <a:rect l="textAreaLeft" t="textAreaTop" r="textAreaRight" b="textAreaBottom"/>
                  <a:pathLst>
                    <a:path w="21600" h="64698">
                      <a:moveTo>
                        <a:pt x="3600" y="0"/>
                      </a:moveTo>
                      <a:arcTo wR="3600" hR="3600" stAng="16200000" swAng="-5400000"/>
                      <a:lnTo>
                        <a:pt x="0" y="61098"/>
                      </a:lnTo>
                      <a:arcTo wR="3600" hR="3600" stAng="10800000" swAng="-5400000"/>
                      <a:lnTo>
                        <a:pt x="18000" y="6469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61"/>
                <p:cNvSpPr/>
                <p:nvPr/>
              </p:nvSpPr>
              <p:spPr>
                <a:xfrm>
                  <a:off x="7650000" y="2344320"/>
                  <a:ext cx="228600" cy="70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Line 62"/>
          <p:cNvSpPr/>
          <p:nvPr/>
        </p:nvSpPr>
        <p:spPr>
          <a:xfrm>
            <a:off x="5668920" y="5000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3"/>
          <p:cNvGrpSpPr/>
          <p:nvPr/>
        </p:nvGrpSpPr>
        <p:grpSpPr>
          <a:xfrm>
            <a:off x="3017880" y="1333440"/>
            <a:ext cx="4866840" cy="483480"/>
            <a:chOff x="3017880" y="1333440"/>
            <a:chExt cx="4866840" cy="483480"/>
          </a:xfrm>
        </p:grpSpPr>
        <p:sp>
          <p:nvSpPr>
            <p:cNvPr id="185" name="Text Box 64"/>
            <p:cNvSpPr/>
            <p:nvPr/>
          </p:nvSpPr>
          <p:spPr>
            <a:xfrm>
              <a:off x="3017880" y="13334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65"/>
            <p:cNvSpPr/>
            <p:nvPr/>
          </p:nvSpPr>
          <p:spPr>
            <a:xfrm>
              <a:off x="7207200" y="1357200"/>
              <a:ext cx="67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66"/>
          <p:cNvGrpSpPr/>
          <p:nvPr/>
        </p:nvGrpSpPr>
        <p:grpSpPr>
          <a:xfrm>
            <a:off x="2982960" y="3014640"/>
            <a:ext cx="4829040" cy="489600"/>
            <a:chOff x="2982960" y="3014640"/>
            <a:chExt cx="4829040" cy="489600"/>
          </a:xfrm>
        </p:grpSpPr>
        <p:sp>
          <p:nvSpPr>
            <p:cNvPr id="188" name="Text Box 67"/>
            <p:cNvSpPr/>
            <p:nvPr/>
          </p:nvSpPr>
          <p:spPr>
            <a:xfrm>
              <a:off x="2982960" y="30146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68"/>
            <p:cNvSpPr/>
            <p:nvPr/>
          </p:nvSpPr>
          <p:spPr>
            <a:xfrm>
              <a:off x="7231320" y="3044520"/>
              <a:ext cx="5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69"/>
          <p:cNvSpPr/>
          <p:nvPr/>
        </p:nvSpPr>
        <p:spPr>
          <a:xfrm>
            <a:off x="6372360" y="4870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0"/>
          <p:cNvSpPr/>
          <p:nvPr/>
        </p:nvSpPr>
        <p:spPr>
          <a:xfrm>
            <a:off x="6554880" y="6021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981080" y="12193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38200" y="2205000"/>
            <a:ext cx="82198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殖细胞中的染色体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存在的，生物体细胞中的染色体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存在的，其中一半来自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，另一半来自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殖细胞中染色体数目只是体细胞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4859280" y="2332080"/>
            <a:ext cx="9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成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3059280" y="2979720"/>
            <a:ext cx="9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成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7451640" y="2979720"/>
            <a:ext cx="9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2198520" y="3629160"/>
            <a:ext cx="9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6732720" y="420516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一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4103"/>
          <p:cNvSpPr/>
          <p:nvPr/>
        </p:nvSpPr>
        <p:spPr>
          <a:xfrm>
            <a:off x="106200" y="64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981080" y="12193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71640" y="5084640"/>
            <a:ext cx="8028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讨论：联系染色体与基因的关系，讨论在染色体遗传的同时，基因的情况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965240" y="811080"/>
            <a:ext cx="5524560" cy="4389480"/>
          </a:xfrm>
          <a:prstGeom prst="rect">
            <a:avLst/>
          </a:prstGeom>
          <a:ln w="0">
            <a:noFill/>
          </a:ln>
        </p:spPr>
      </p:pic>
      <p:sp>
        <p:nvSpPr>
          <p:cNvPr id="20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828800" y="13842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900000" y="3286080"/>
            <a:ext cx="7777440" cy="21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讨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基因在生物体内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存在的，成对的基因分别位于成对的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染色体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826920" y="5265720"/>
            <a:ext cx="7921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后代在得到双亲染色体的同时，也得到了双亲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325120" y="4146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成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5468040" y="4799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两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940400" y="5878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444760" y="654120"/>
            <a:ext cx="4624200" cy="3678120"/>
          </a:xfrm>
          <a:prstGeom prst="rect">
            <a:avLst/>
          </a:prstGeom>
          <a:ln w="0">
            <a:noFill/>
          </a:ln>
        </p:spPr>
      </p:pic>
      <p:sp>
        <p:nvSpPr>
          <p:cNvPr id="21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1041120" y="2544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050480" y="3995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Oval 7" descr=""/>
          <p:cNvPicPr/>
          <p:nvPr/>
        </p:nvPicPr>
        <p:blipFill>
          <a:blip r:embed="rId1"/>
          <a:stretch/>
        </p:blipFill>
        <p:spPr>
          <a:xfrm>
            <a:off x="2935440" y="3714840"/>
            <a:ext cx="1090440" cy="858600"/>
          </a:xfrm>
          <a:prstGeom prst="rect">
            <a:avLst/>
          </a:prstGeom>
          <a:ln w="0">
            <a:noFill/>
          </a:ln>
        </p:spPr>
      </p:pic>
      <p:pic>
        <p:nvPicPr>
          <p:cNvPr id="216" name="Oval 8" descr=""/>
          <p:cNvPicPr/>
          <p:nvPr/>
        </p:nvPicPr>
        <p:blipFill>
          <a:blip r:embed="rId2"/>
          <a:stretch/>
        </p:blipFill>
        <p:spPr>
          <a:xfrm>
            <a:off x="2935440" y="2346480"/>
            <a:ext cx="1090440" cy="761760"/>
          </a:xfrm>
          <a:prstGeom prst="rect">
            <a:avLst/>
          </a:prstGeom>
          <a:ln w="0">
            <a:noFill/>
          </a:ln>
        </p:spPr>
      </p:pic>
      <p:pic>
        <p:nvPicPr>
          <p:cNvPr id="217" name="Oval 10" descr=""/>
          <p:cNvPicPr/>
          <p:nvPr/>
        </p:nvPicPr>
        <p:blipFill>
          <a:blip r:embed="rId3"/>
          <a:stretch/>
        </p:blipFill>
        <p:spPr>
          <a:xfrm>
            <a:off x="5202360" y="3003480"/>
            <a:ext cx="1090440" cy="78588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2"/>
          <p:cNvGrpSpPr/>
          <p:nvPr/>
        </p:nvGrpSpPr>
        <p:grpSpPr>
          <a:xfrm>
            <a:off x="3754440" y="2741760"/>
            <a:ext cx="1511280" cy="1550880"/>
            <a:chOff x="3754440" y="2741760"/>
            <a:chExt cx="1511280" cy="1550880"/>
          </a:xfrm>
        </p:grpSpPr>
        <p:grpSp>
          <p:nvGrpSpPr>
            <p:cNvPr id="219" name=""/>
            <p:cNvGrpSpPr/>
            <p:nvPr/>
          </p:nvGrpSpPr>
          <p:grpSpPr>
            <a:xfrm>
              <a:off x="3779640" y="2741760"/>
              <a:ext cx="1460520" cy="758880"/>
              <a:chOff x="3779640" y="2741760"/>
              <a:chExt cx="1460520" cy="758880"/>
            </a:xfrm>
          </p:grpSpPr>
          <p:sp>
            <p:nvSpPr>
              <p:cNvPr id="220" name="Line 9"/>
              <p:cNvSpPr/>
              <p:nvPr/>
            </p:nvSpPr>
            <p:spPr>
              <a:xfrm>
                <a:off x="3779640" y="2741760"/>
                <a:ext cx="1460520" cy="75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>
                <a:off x="3779640" y="2741760"/>
                <a:ext cx="1460520" cy="758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3754440" y="3500640"/>
              <a:ext cx="1511280" cy="792000"/>
              <a:chOff x="3754440" y="3500640"/>
              <a:chExt cx="1511280" cy="792000"/>
            </a:xfrm>
          </p:grpSpPr>
          <p:sp>
            <p:nvSpPr>
              <p:cNvPr id="223" name="Line 12"/>
              <p:cNvSpPr/>
              <p:nvPr/>
            </p:nvSpPr>
            <p:spPr>
              <a:xfrm flipV="1">
                <a:off x="3754440" y="3500640"/>
                <a:ext cx="1511280" cy="79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 txBox="1"/>
              <p:nvPr/>
            </p:nvSpPr>
            <p:spPr>
              <a:xfrm rot="10800000">
                <a:off x="3754440" y="3500640"/>
                <a:ext cx="1511280" cy="79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Text Box 13"/>
          <p:cNvSpPr/>
          <p:nvPr/>
        </p:nvSpPr>
        <p:spPr>
          <a:xfrm>
            <a:off x="7178760" y="2965320"/>
            <a:ext cx="57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新个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3079800" y="1933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精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2974320" y="4678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卵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Oval 17" descr=""/>
          <p:cNvPicPr/>
          <p:nvPr/>
        </p:nvPicPr>
        <p:blipFill>
          <a:blip r:embed="rId4"/>
          <a:stretch/>
        </p:blipFill>
        <p:spPr>
          <a:xfrm>
            <a:off x="5229360" y="4646520"/>
            <a:ext cx="1108080" cy="866880"/>
          </a:xfrm>
          <a:prstGeom prst="rect">
            <a:avLst/>
          </a:prstGeom>
          <a:ln w="0">
            <a:noFill/>
          </a:ln>
        </p:spPr>
      </p:pic>
      <p:pic>
        <p:nvPicPr>
          <p:cNvPr id="229" name="右箭头 1" descr=""/>
          <p:cNvPicPr/>
          <p:nvPr/>
        </p:nvPicPr>
        <p:blipFill>
          <a:blip r:embed="rId5"/>
          <a:stretch/>
        </p:blipFill>
        <p:spPr>
          <a:xfrm>
            <a:off x="1731960" y="3943440"/>
            <a:ext cx="1011240" cy="539640"/>
          </a:xfrm>
          <a:prstGeom prst="rect">
            <a:avLst/>
          </a:prstGeom>
          <a:ln w="0">
            <a:noFill/>
          </a:ln>
        </p:spPr>
      </p:pic>
      <p:pic>
        <p:nvPicPr>
          <p:cNvPr id="230" name="右箭头 18" descr=""/>
          <p:cNvPicPr/>
          <p:nvPr/>
        </p:nvPicPr>
        <p:blipFill>
          <a:blip r:embed="rId6"/>
          <a:stretch/>
        </p:blipFill>
        <p:spPr>
          <a:xfrm>
            <a:off x="1731960" y="2655720"/>
            <a:ext cx="1011240" cy="538200"/>
          </a:xfrm>
          <a:prstGeom prst="rect">
            <a:avLst/>
          </a:prstGeom>
          <a:ln w="0">
            <a:noFill/>
          </a:ln>
        </p:spPr>
      </p:pic>
      <p:pic>
        <p:nvPicPr>
          <p:cNvPr id="231" name="右箭头 20" descr=""/>
          <p:cNvPicPr/>
          <p:nvPr/>
        </p:nvPicPr>
        <p:blipFill>
          <a:blip r:embed="rId7"/>
          <a:stretch/>
        </p:blipFill>
        <p:spPr>
          <a:xfrm>
            <a:off x="6181560" y="3130560"/>
            <a:ext cx="1009800" cy="538200"/>
          </a:xfrm>
          <a:prstGeom prst="rect">
            <a:avLst/>
          </a:prstGeom>
          <a:ln w="0">
            <a:noFill/>
          </a:ln>
        </p:spPr>
      </p:pic>
      <p:pic>
        <p:nvPicPr>
          <p:cNvPr id="232" name="上箭头 3" descr=""/>
          <p:cNvPicPr/>
          <p:nvPr/>
        </p:nvPicPr>
        <p:blipFill>
          <a:blip r:embed="rId8"/>
          <a:stretch/>
        </p:blipFill>
        <p:spPr>
          <a:xfrm>
            <a:off x="5429160" y="3809880"/>
            <a:ext cx="435240" cy="800280"/>
          </a:xfrm>
          <a:prstGeom prst="rect">
            <a:avLst/>
          </a:prstGeom>
          <a:ln w="0">
            <a:noFill/>
          </a:ln>
        </p:spPr>
      </p:pic>
      <p:sp>
        <p:nvSpPr>
          <p:cNvPr id="23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685800" y="905040"/>
            <a:ext cx="82072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概括染色体、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基因三者之间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用一根长绳代表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，在长绳上用红、橙、黄、绿、蓝等颜色涂在不同的片段上。这些不同颜色的片段表示的是什么？怎样才能把长绳处理成短棒的染色体样子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"/>
          <p:cNvSpPr/>
          <p:nvPr/>
        </p:nvSpPr>
        <p:spPr>
          <a:xfrm>
            <a:off x="2415600" y="1741320"/>
            <a:ext cx="45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基因是染色体上具有控制生物性状的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片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"/>
          <p:cNvSpPr/>
          <p:nvPr/>
        </p:nvSpPr>
        <p:spPr>
          <a:xfrm>
            <a:off x="684360" y="451152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不同颜色的区段表示控制不同性状的基因。不断把长绳螺旋缩短变粗，就能把长绳处理成短棒状的染色体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28720" y="292428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138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生殖细胞中的染色体数是体细胞中的一半，不成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38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对存在。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368360" y="4106880"/>
          <a:ext cx="6553080" cy="207324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  <a:gridCol w="1638360"/>
                <a:gridCol w="1638000"/>
              </a:tblGrid>
              <a:tr h="51912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黑体"/>
                        </a:rPr>
                        <a:t> 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体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精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卵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玉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水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 Box 35"/>
          <p:cNvSpPr/>
          <p:nvPr/>
        </p:nvSpPr>
        <p:spPr>
          <a:xfrm>
            <a:off x="755640" y="1197000"/>
            <a:ext cx="80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玉米、水稻、和马的体细胞中的染色体数分别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，它们产生的精子和卵细胞中的染色体数目分别是多少条？还成双成对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900000" y="1947960"/>
            <a:ext cx="795672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什么叫“遗传”？什么叫“变异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生物的性状包括哪几方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什么叫“相对性状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生物的遗传和变异是通过什么来实现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性状是由什么控制的？是否受环境的影响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476360" y="909720"/>
            <a:ext cx="18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情景引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录像机 512"/>
          <p:cNvSpPr/>
          <p:nvPr/>
        </p:nvSpPr>
        <p:spPr>
          <a:xfrm>
            <a:off x="828720" y="907920"/>
            <a:ext cx="554040" cy="497160"/>
          </a:xfrm>
          <a:custGeom>
            <a:avLst/>
            <a:gdLst/>
            <a:ahLst/>
            <a:rect l="l" t="t" r="r" b="b"/>
            <a:pathLst>
              <a:path w="3710374" h="2848566">
                <a:moveTo>
                  <a:pt x="132902" y="1177607"/>
                </a:moveTo>
                <a:cubicBezTo>
                  <a:pt x="206302" y="1177607"/>
                  <a:pt x="265804" y="1237109"/>
                  <a:pt x="265804" y="1310509"/>
                </a:cubicBezTo>
                <a:lnTo>
                  <a:pt x="265804" y="1822976"/>
                </a:lnTo>
                <a:cubicBezTo>
                  <a:pt x="265804" y="1896376"/>
                  <a:pt x="206302" y="1955878"/>
                  <a:pt x="132902" y="1955878"/>
                </a:cubicBezTo>
                <a:cubicBezTo>
                  <a:pt x="59502" y="1955878"/>
                  <a:pt x="0" y="1896376"/>
                  <a:pt x="0" y="1822976"/>
                </a:cubicBezTo>
                <a:lnTo>
                  <a:pt x="0" y="1310509"/>
                </a:lnTo>
                <a:cubicBezTo>
                  <a:pt x="0" y="1237109"/>
                  <a:pt x="59502" y="1177607"/>
                  <a:pt x="132902" y="1177607"/>
                </a:cubicBezTo>
                <a:close/>
                <a:moveTo>
                  <a:pt x="3676647" y="1014899"/>
                </a:moveTo>
                <a:cubicBezTo>
                  <a:pt x="3699953" y="1011726"/>
                  <a:pt x="3709766" y="1038156"/>
                  <a:pt x="3709762" y="1126078"/>
                </a:cubicBezTo>
                <a:lnTo>
                  <a:pt x="3709762" y="2733814"/>
                </a:lnTo>
                <a:cubicBezTo>
                  <a:pt x="3714789" y="2810852"/>
                  <a:pt x="3689665" y="2852720"/>
                  <a:pt x="3604255" y="2784056"/>
                </a:cubicBezTo>
                <a:cubicBezTo>
                  <a:pt x="3539382" y="2731902"/>
                  <a:pt x="3308368" y="2542961"/>
                  <a:pt x="3100502" y="2373078"/>
                </a:cubicBezTo>
                <a:lnTo>
                  <a:pt x="2983265" y="2373078"/>
                </a:lnTo>
                <a:lnTo>
                  <a:pt x="2983265" y="2692091"/>
                </a:lnTo>
                <a:cubicBezTo>
                  <a:pt x="2983265" y="2778510"/>
                  <a:pt x="2913209" y="2848566"/>
                  <a:pt x="2826790" y="2848566"/>
                </a:cubicBezTo>
                <a:lnTo>
                  <a:pt x="542844" y="2848566"/>
                </a:lnTo>
                <a:cubicBezTo>
                  <a:pt x="456425" y="2848566"/>
                  <a:pt x="386369" y="2778510"/>
                  <a:pt x="386369" y="2692091"/>
                </a:cubicBezTo>
                <a:lnTo>
                  <a:pt x="386369" y="1261585"/>
                </a:lnTo>
                <a:cubicBezTo>
                  <a:pt x="386369" y="1175166"/>
                  <a:pt x="456425" y="1105110"/>
                  <a:pt x="542844" y="1105110"/>
                </a:cubicBezTo>
                <a:lnTo>
                  <a:pt x="2826790" y="1105110"/>
                </a:lnTo>
                <a:cubicBezTo>
                  <a:pt x="2913209" y="1105110"/>
                  <a:pt x="2983265" y="1175166"/>
                  <a:pt x="2983265" y="1261585"/>
                </a:cubicBezTo>
                <a:lnTo>
                  <a:pt x="2983265" y="1470870"/>
                </a:lnTo>
                <a:lnTo>
                  <a:pt x="3095401" y="1470870"/>
                </a:lnTo>
                <a:cubicBezTo>
                  <a:pt x="3315877" y="1289257"/>
                  <a:pt x="3568799" y="1079374"/>
                  <a:pt x="3619327" y="1045691"/>
                </a:cubicBezTo>
                <a:cubicBezTo>
                  <a:pt x="3643821" y="1029362"/>
                  <a:pt x="3662662" y="1016802"/>
                  <a:pt x="3676647" y="1014899"/>
                </a:cubicBezTo>
                <a:close/>
                <a:moveTo>
                  <a:pt x="2266043" y="0"/>
                </a:moveTo>
                <a:cubicBezTo>
                  <a:pt x="2555481" y="0"/>
                  <a:pt x="2790117" y="234636"/>
                  <a:pt x="2790117" y="524074"/>
                </a:cubicBezTo>
                <a:cubicBezTo>
                  <a:pt x="2790117" y="813512"/>
                  <a:pt x="2555481" y="1048148"/>
                  <a:pt x="2266043" y="1048148"/>
                </a:cubicBezTo>
                <a:cubicBezTo>
                  <a:pt x="1976605" y="1048148"/>
                  <a:pt x="1741969" y="813512"/>
                  <a:pt x="1741969" y="524074"/>
                </a:cubicBezTo>
                <a:cubicBezTo>
                  <a:pt x="1741969" y="234636"/>
                  <a:pt x="1976605" y="0"/>
                  <a:pt x="2266043" y="0"/>
                </a:cubicBezTo>
                <a:close/>
                <a:moveTo>
                  <a:pt x="1041907" y="0"/>
                </a:moveTo>
                <a:cubicBezTo>
                  <a:pt x="1331345" y="0"/>
                  <a:pt x="1565981" y="234636"/>
                  <a:pt x="1565981" y="524074"/>
                </a:cubicBezTo>
                <a:cubicBezTo>
                  <a:pt x="1565981" y="813512"/>
                  <a:pt x="1331345" y="1048148"/>
                  <a:pt x="1041907" y="1048148"/>
                </a:cubicBezTo>
                <a:cubicBezTo>
                  <a:pt x="752469" y="1048148"/>
                  <a:pt x="517833" y="813512"/>
                  <a:pt x="517833" y="524074"/>
                </a:cubicBezTo>
                <a:cubicBezTo>
                  <a:pt x="517833" y="234636"/>
                  <a:pt x="752469" y="0"/>
                  <a:pt x="1041907" y="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4103"/>
          <p:cNvSpPr/>
          <p:nvPr/>
        </p:nvSpPr>
        <p:spPr>
          <a:xfrm>
            <a:off x="106200" y="2844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898560" y="1268280"/>
            <a:ext cx="7561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、为什么无性生殖的后代，个体之间十分相象？这与染色体和基因在亲子代之间的传递状况有关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"/>
          <p:cNvSpPr/>
          <p:nvPr/>
        </p:nvSpPr>
        <p:spPr>
          <a:xfrm>
            <a:off x="971640" y="3284640"/>
            <a:ext cx="756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楷体"/>
              </a:rPr>
              <a:t>无性生殖过程没有两性生殖细胞的结合，新个体由母体直接产生的，只具备母体的遗传特性，能稳定地保持母体的特性，故十分相像。与染色体和基因在亲子代间的传递状况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476360" y="2349360"/>
          <a:ext cx="6480000" cy="3411360"/>
        </p:xfrm>
        <a:graphic>
          <a:graphicData uri="http://schemas.openxmlformats.org/drawingml/2006/table">
            <a:tbl>
              <a:tblPr/>
              <a:tblGrid>
                <a:gridCol w="2278080"/>
                <a:gridCol w="2424240"/>
                <a:gridCol w="177768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染色体数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体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生殖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02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7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条（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对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02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条（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对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02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豌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条（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对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01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白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条（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对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46" name="Text Box 31"/>
          <p:cNvSpPr/>
          <p:nvPr/>
        </p:nvSpPr>
        <p:spPr>
          <a:xfrm>
            <a:off x="971640" y="1224000"/>
            <a:ext cx="785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请将各类生物生殖细胞中染色体数目填入下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2"/>
          <p:cNvSpPr/>
          <p:nvPr/>
        </p:nvSpPr>
        <p:spPr>
          <a:xfrm>
            <a:off x="6659640" y="3510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6659640" y="407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19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4"/>
          <p:cNvSpPr/>
          <p:nvPr/>
        </p:nvSpPr>
        <p:spPr>
          <a:xfrm>
            <a:off x="6730920" y="47023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5"/>
          <p:cNvSpPr/>
          <p:nvPr/>
        </p:nvSpPr>
        <p:spPr>
          <a:xfrm>
            <a:off x="6732720" y="5284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920880" y="1890720"/>
            <a:ext cx="2563560" cy="2503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4275000" y="3038400"/>
            <a:ext cx="36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只灵长类转基因猴安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901800" y="4618080"/>
            <a:ext cx="2903400" cy="17874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867120" y="52484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只会吐丝的转基因山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-Wi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"/>
          <p:cNvSpPr/>
          <p:nvPr/>
        </p:nvSpPr>
        <p:spPr>
          <a:xfrm>
            <a:off x="684360" y="98100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基因研究成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4103"/>
          <p:cNvSpPr/>
          <p:nvPr/>
        </p:nvSpPr>
        <p:spPr>
          <a:xfrm>
            <a:off x="106200" y="2844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809640" y="2066760"/>
            <a:ext cx="3911760" cy="3427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646200" y="558972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经过整理后绘制的人体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女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细胞内的染色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>
            <a:off x="3348000" y="4797360"/>
            <a:ext cx="649440" cy="503280"/>
          </a:xfrm>
          <a:prstGeom prst="ellipse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859280" y="2133720"/>
            <a:ext cx="4284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数一数人体细胞内的有多少条染色体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想一想：为什么将这些染色体画成一对一对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齿轮1 501"/>
          <p:cNvSpPr/>
          <p:nvPr/>
        </p:nvSpPr>
        <p:spPr>
          <a:xfrm rot="720000">
            <a:off x="914400" y="937800"/>
            <a:ext cx="706320" cy="500040"/>
          </a:xfrm>
          <a:custGeom>
            <a:avLst/>
            <a:gdLst/>
            <a:ahLst/>
            <a:rect l="l" t="t" r="r" b="b"/>
            <a:pathLst>
              <a:path w="2063518" h="1276454">
                <a:moveTo>
                  <a:pt x="1631470" y="557485"/>
                </a:moveTo>
                <a:cubicBezTo>
                  <a:pt x="1479172" y="557485"/>
                  <a:pt x="1355710" y="680947"/>
                  <a:pt x="1355710" y="833245"/>
                </a:cubicBezTo>
                <a:cubicBezTo>
                  <a:pt x="1355710" y="985543"/>
                  <a:pt x="1479172" y="1109005"/>
                  <a:pt x="1631470" y="1109005"/>
                </a:cubicBezTo>
                <a:cubicBezTo>
                  <a:pt x="1783768" y="1109005"/>
                  <a:pt x="1907230" y="985543"/>
                  <a:pt x="1907230" y="833245"/>
                </a:cubicBezTo>
                <a:cubicBezTo>
                  <a:pt x="1907230" y="680947"/>
                  <a:pt x="1783768" y="557485"/>
                  <a:pt x="1631470" y="557485"/>
                </a:cubicBezTo>
                <a:close/>
                <a:moveTo>
                  <a:pt x="1596087" y="400771"/>
                </a:moveTo>
                <a:lnTo>
                  <a:pt x="1666853" y="400771"/>
                </a:lnTo>
                <a:lnTo>
                  <a:pt x="1682233" y="488008"/>
                </a:lnTo>
                <a:cubicBezTo>
                  <a:pt x="1729134" y="494904"/>
                  <a:pt x="1774137" y="511284"/>
                  <a:pt x="1814498" y="536149"/>
                </a:cubicBezTo>
                <a:lnTo>
                  <a:pt x="1882355" y="479207"/>
                </a:lnTo>
                <a:lnTo>
                  <a:pt x="1936564" y="524695"/>
                </a:lnTo>
                <a:lnTo>
                  <a:pt x="1892271" y="601408"/>
                </a:lnTo>
                <a:cubicBezTo>
                  <a:pt x="1923766" y="636838"/>
                  <a:pt x="1947711" y="678313"/>
                  <a:pt x="1962647" y="723304"/>
                </a:cubicBezTo>
                <a:lnTo>
                  <a:pt x="2051230" y="723302"/>
                </a:lnTo>
                <a:lnTo>
                  <a:pt x="2063518" y="792992"/>
                </a:lnTo>
                <a:lnTo>
                  <a:pt x="1980277" y="823287"/>
                </a:lnTo>
                <a:cubicBezTo>
                  <a:pt x="1981630" y="870672"/>
                  <a:pt x="1973314" y="917837"/>
                  <a:pt x="1955836" y="961902"/>
                </a:cubicBezTo>
                <a:lnTo>
                  <a:pt x="2023695" y="1018840"/>
                </a:lnTo>
                <a:lnTo>
                  <a:pt x="1988313" y="1080125"/>
                </a:lnTo>
                <a:lnTo>
                  <a:pt x="1905073" y="1049826"/>
                </a:lnTo>
                <a:cubicBezTo>
                  <a:pt x="1875651" y="1086995"/>
                  <a:pt x="1838963" y="1117779"/>
                  <a:pt x="1797250" y="1140300"/>
                </a:cubicBezTo>
                <a:lnTo>
                  <a:pt x="1812635" y="1227537"/>
                </a:lnTo>
                <a:lnTo>
                  <a:pt x="1746136" y="1251740"/>
                </a:lnTo>
                <a:lnTo>
                  <a:pt x="1701847" y="1175024"/>
                </a:lnTo>
                <a:cubicBezTo>
                  <a:pt x="1655416" y="1184585"/>
                  <a:pt x="1607524" y="1184585"/>
                  <a:pt x="1561093" y="1175024"/>
                </a:cubicBezTo>
                <a:lnTo>
                  <a:pt x="1516804" y="1251740"/>
                </a:lnTo>
                <a:lnTo>
                  <a:pt x="1450306" y="1227537"/>
                </a:lnTo>
                <a:lnTo>
                  <a:pt x="1465691" y="1140300"/>
                </a:lnTo>
                <a:cubicBezTo>
                  <a:pt x="1423978" y="1117779"/>
                  <a:pt x="1387290" y="1086995"/>
                  <a:pt x="1357868" y="1049826"/>
                </a:cubicBezTo>
                <a:lnTo>
                  <a:pt x="1274628" y="1080125"/>
                </a:lnTo>
                <a:lnTo>
                  <a:pt x="1239245" y="1018840"/>
                </a:lnTo>
                <a:lnTo>
                  <a:pt x="1307105" y="961902"/>
                </a:lnTo>
                <a:cubicBezTo>
                  <a:pt x="1289627" y="917837"/>
                  <a:pt x="1281310" y="870672"/>
                  <a:pt x="1282663" y="823287"/>
                </a:cubicBezTo>
                <a:lnTo>
                  <a:pt x="1199422" y="792992"/>
                </a:lnTo>
                <a:lnTo>
                  <a:pt x="1211710" y="723302"/>
                </a:lnTo>
                <a:lnTo>
                  <a:pt x="1300293" y="723304"/>
                </a:lnTo>
                <a:cubicBezTo>
                  <a:pt x="1315229" y="678313"/>
                  <a:pt x="1339174" y="636838"/>
                  <a:pt x="1370670" y="601408"/>
                </a:cubicBezTo>
                <a:lnTo>
                  <a:pt x="1326376" y="524695"/>
                </a:lnTo>
                <a:lnTo>
                  <a:pt x="1380586" y="479207"/>
                </a:lnTo>
                <a:lnTo>
                  <a:pt x="1448443" y="536149"/>
                </a:lnTo>
                <a:cubicBezTo>
                  <a:pt x="1488803" y="511284"/>
                  <a:pt x="1533807" y="494905"/>
                  <a:pt x="1580707" y="488008"/>
                </a:cubicBezTo>
                <a:lnTo>
                  <a:pt x="1596087" y="400771"/>
                </a:lnTo>
                <a:close/>
                <a:moveTo>
                  <a:pt x="648072" y="235071"/>
                </a:moveTo>
                <a:cubicBezTo>
                  <a:pt x="419625" y="235071"/>
                  <a:pt x="234432" y="420264"/>
                  <a:pt x="234432" y="648711"/>
                </a:cubicBezTo>
                <a:cubicBezTo>
                  <a:pt x="234432" y="877158"/>
                  <a:pt x="419625" y="1062352"/>
                  <a:pt x="648072" y="1062352"/>
                </a:cubicBezTo>
                <a:cubicBezTo>
                  <a:pt x="876519" y="1062352"/>
                  <a:pt x="1061712" y="877158"/>
                  <a:pt x="1061712" y="648711"/>
                </a:cubicBezTo>
                <a:cubicBezTo>
                  <a:pt x="1061712" y="420264"/>
                  <a:pt x="876519" y="235071"/>
                  <a:pt x="648072" y="235071"/>
                </a:cubicBezTo>
                <a:close/>
                <a:moveTo>
                  <a:pt x="594998" y="0"/>
                </a:moveTo>
                <a:lnTo>
                  <a:pt x="701146" y="0"/>
                </a:lnTo>
                <a:lnTo>
                  <a:pt x="724216" y="130856"/>
                </a:lnTo>
                <a:cubicBezTo>
                  <a:pt x="794567" y="141200"/>
                  <a:pt x="862072" y="165770"/>
                  <a:pt x="922614" y="203067"/>
                </a:cubicBezTo>
                <a:lnTo>
                  <a:pt x="1024399" y="117654"/>
                </a:lnTo>
                <a:lnTo>
                  <a:pt x="1105713" y="185886"/>
                </a:lnTo>
                <a:lnTo>
                  <a:pt x="1039273" y="300956"/>
                </a:lnTo>
                <a:cubicBezTo>
                  <a:pt x="1086516" y="354101"/>
                  <a:pt x="1122434" y="416314"/>
                  <a:pt x="1144837" y="483799"/>
                </a:cubicBezTo>
                <a:lnTo>
                  <a:pt x="1277712" y="483796"/>
                </a:lnTo>
                <a:lnTo>
                  <a:pt x="1296144" y="588332"/>
                </a:lnTo>
                <a:lnTo>
                  <a:pt x="1171283" y="633774"/>
                </a:lnTo>
                <a:cubicBezTo>
                  <a:pt x="1173312" y="704852"/>
                  <a:pt x="1160838" y="775599"/>
                  <a:pt x="1134620" y="841697"/>
                </a:cubicBezTo>
                <a:lnTo>
                  <a:pt x="1236410" y="927104"/>
                </a:lnTo>
                <a:lnTo>
                  <a:pt x="1183336" y="1019032"/>
                </a:lnTo>
                <a:lnTo>
                  <a:pt x="1058476" y="973583"/>
                </a:lnTo>
                <a:cubicBezTo>
                  <a:pt x="1014343" y="1029336"/>
                  <a:pt x="959312" y="1075513"/>
                  <a:pt x="896742" y="1109294"/>
                </a:cubicBezTo>
                <a:lnTo>
                  <a:pt x="919819" y="1240149"/>
                </a:lnTo>
                <a:lnTo>
                  <a:pt x="820071" y="1276454"/>
                </a:lnTo>
                <a:lnTo>
                  <a:pt x="753637" y="1161380"/>
                </a:lnTo>
                <a:cubicBezTo>
                  <a:pt x="683991" y="1175721"/>
                  <a:pt x="612153" y="1175721"/>
                  <a:pt x="542507" y="1161380"/>
                </a:cubicBezTo>
                <a:lnTo>
                  <a:pt x="476073" y="1276454"/>
                </a:lnTo>
                <a:lnTo>
                  <a:pt x="376326" y="1240149"/>
                </a:lnTo>
                <a:lnTo>
                  <a:pt x="399403" y="1109294"/>
                </a:lnTo>
                <a:cubicBezTo>
                  <a:pt x="336833" y="1075513"/>
                  <a:pt x="281802" y="1029336"/>
                  <a:pt x="237669" y="973583"/>
                </a:cubicBezTo>
                <a:lnTo>
                  <a:pt x="112809" y="1019032"/>
                </a:lnTo>
                <a:lnTo>
                  <a:pt x="59735" y="927104"/>
                </a:lnTo>
                <a:lnTo>
                  <a:pt x="161524" y="841697"/>
                </a:lnTo>
                <a:cubicBezTo>
                  <a:pt x="135307" y="775599"/>
                  <a:pt x="122832" y="704852"/>
                  <a:pt x="124862" y="633774"/>
                </a:cubicBezTo>
                <a:lnTo>
                  <a:pt x="0" y="588332"/>
                </a:lnTo>
                <a:lnTo>
                  <a:pt x="18432" y="483796"/>
                </a:lnTo>
                <a:lnTo>
                  <a:pt x="151306" y="483799"/>
                </a:lnTo>
                <a:cubicBezTo>
                  <a:pt x="173710" y="416314"/>
                  <a:pt x="209628" y="354100"/>
                  <a:pt x="256871" y="300956"/>
                </a:cubicBezTo>
                <a:lnTo>
                  <a:pt x="190431" y="185886"/>
                </a:lnTo>
                <a:lnTo>
                  <a:pt x="271746" y="117654"/>
                </a:lnTo>
                <a:lnTo>
                  <a:pt x="373531" y="203067"/>
                </a:lnTo>
                <a:cubicBezTo>
                  <a:pt x="434072" y="165770"/>
                  <a:pt x="501577" y="141200"/>
                  <a:pt x="571928" y="130856"/>
                </a:cubicBezTo>
                <a:lnTo>
                  <a:pt x="594998" y="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4585"/>
          <p:cNvSpPr/>
          <p:nvPr/>
        </p:nvSpPr>
        <p:spPr>
          <a:xfrm>
            <a:off x="1676520" y="905040"/>
            <a:ext cx="64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探究点一  染色体、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和基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4586"/>
          <p:cNvSpPr/>
          <p:nvPr/>
        </p:nvSpPr>
        <p:spPr>
          <a:xfrm>
            <a:off x="7198200" y="2741760"/>
            <a:ext cx="1080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23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4587"/>
          <p:cNvSpPr/>
          <p:nvPr/>
        </p:nvSpPr>
        <p:spPr>
          <a:xfrm>
            <a:off x="4932360" y="479736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因为在生物的体细胞中，染色体是成对存在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4103"/>
          <p:cNvSpPr/>
          <p:nvPr/>
        </p:nvSpPr>
        <p:spPr>
          <a:xfrm>
            <a:off x="106200" y="2844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2340000" y="1413000"/>
            <a:ext cx="4032360" cy="2665440"/>
            <a:chOff x="2340000" y="1413000"/>
            <a:chExt cx="4032360" cy="2665440"/>
          </a:xfrm>
        </p:grpSpPr>
        <p:pic>
          <p:nvPicPr>
            <p:cNvPr id="64" name="Picture 3" descr=""/>
            <p:cNvPicPr/>
            <p:nvPr/>
          </p:nvPicPr>
          <p:blipFill>
            <a:blip r:embed="rId1"/>
            <a:stretch/>
          </p:blipFill>
          <p:spPr>
            <a:xfrm>
              <a:off x="2340000" y="1413000"/>
              <a:ext cx="403236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Oval 4"/>
            <p:cNvSpPr/>
            <p:nvPr/>
          </p:nvSpPr>
          <p:spPr>
            <a:xfrm>
              <a:off x="2774160" y="2432520"/>
              <a:ext cx="387000" cy="42948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5"/>
          <p:cNvSpPr/>
          <p:nvPr/>
        </p:nvSpPr>
        <p:spPr>
          <a:xfrm>
            <a:off x="684360" y="384120"/>
            <a:ext cx="8064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个（条）染色体其实是一条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DNA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子链，包绕着众多蛋白质分子而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11280" y="3989520"/>
            <a:ext cx="82087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黑体"/>
              </a:rPr>
              <a:t>、人类有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黑体"/>
              </a:rPr>
              <a:t>对（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黑体"/>
              </a:rPr>
              <a:t>46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黑体"/>
              </a:rPr>
              <a:t>条）染色体。染色体一般呈现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黑体"/>
              </a:rPr>
              <a:t>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黑体"/>
              </a:rPr>
              <a:t>、同种生物染色体的数目和形态是一定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黑体"/>
              </a:rPr>
              <a:t>、在生物的体细胞中染色体是成对存在的（其中一条来自父方，一条来自母方）；在生殖细胞中染色体是单个存在的，其数目是体细胞的一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4103"/>
          <p:cNvSpPr/>
          <p:nvPr/>
        </p:nvSpPr>
        <p:spPr>
          <a:xfrm>
            <a:off x="106200" y="2844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2038320" cy="4105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395280" y="551664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基因与染色体之间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570560" y="5157720"/>
            <a:ext cx="4105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黑体"/>
              </a:rPr>
              <a:t>每条染色体的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黑体"/>
              </a:rPr>
              <a:t>DNA</a:t>
            </a: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黑体"/>
              </a:rPr>
              <a:t>链均由相当多的基因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2" descr=""/>
          <p:cNvPicPr/>
          <p:nvPr/>
        </p:nvPicPr>
        <p:blipFill>
          <a:blip r:embed="rId2"/>
          <a:stretch/>
        </p:blipFill>
        <p:spPr>
          <a:xfrm>
            <a:off x="5126040" y="1087560"/>
            <a:ext cx="2975040" cy="385416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4103"/>
          <p:cNvSpPr/>
          <p:nvPr/>
        </p:nvSpPr>
        <p:spPr>
          <a:xfrm>
            <a:off x="106200" y="2844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3"/>
          <p:cNvSpPr/>
          <p:nvPr/>
        </p:nvSpPr>
        <p:spPr>
          <a:xfrm>
            <a:off x="3348000" y="2060640"/>
            <a:ext cx="3600360" cy="22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"/>
          <p:cNvSpPr/>
          <p:nvPr/>
        </p:nvSpPr>
        <p:spPr>
          <a:xfrm>
            <a:off x="3635280" y="2565360"/>
            <a:ext cx="2590920" cy="115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2131920" y="2371680"/>
            <a:ext cx="206640" cy="1693800"/>
          </a:xfrm>
          <a:custGeom>
            <a:avLst/>
            <a:gdLst>
              <a:gd name="textAreaLeft" fmla="*/ 132120 w 206640"/>
              <a:gd name="textAreaRight" fmla="*/ 207000 w 206640"/>
              <a:gd name="textAreaTop" fmla="*/ 30960 h 1693800"/>
              <a:gd name="textAreaBottom" fmla="*/ 1662840 h 169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3"/>
                  <a:pt x="10800" y="1266"/>
                </a:cubicBezTo>
                <a:lnTo>
                  <a:pt x="10800" y="9534"/>
                </a:lnTo>
                <a:cubicBezTo>
                  <a:pt x="10800" y="10167"/>
                  <a:pt x="5400" y="10800"/>
                  <a:pt x="0" y="10800"/>
                </a:cubicBezTo>
                <a:cubicBezTo>
                  <a:pt x="5400" y="10800"/>
                  <a:pt x="10800" y="11433"/>
                  <a:pt x="10800" y="12066"/>
                </a:cubicBezTo>
                <a:lnTo>
                  <a:pt x="10800" y="20334"/>
                </a:lnTo>
                <a:cubicBezTo>
                  <a:pt x="10800" y="2096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3029040" y="1550880"/>
            <a:ext cx="263520" cy="1643040"/>
          </a:xfrm>
          <a:custGeom>
            <a:avLst/>
            <a:gdLst>
              <a:gd name="textAreaLeft" fmla="*/ 168480 w 263520"/>
              <a:gd name="textAreaRight" fmla="*/ 263880 w 263520"/>
              <a:gd name="textAreaTop" fmla="*/ 21960 h 1643040"/>
              <a:gd name="textAreaBottom" fmla="*/ 1621080 h 16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7"/>
                  <a:pt x="10800" y="933"/>
                </a:cubicBezTo>
                <a:lnTo>
                  <a:pt x="10800" y="9867"/>
                </a:lnTo>
                <a:cubicBezTo>
                  <a:pt x="10800" y="10334"/>
                  <a:pt x="5400" y="10800"/>
                  <a:pt x="0" y="10800"/>
                </a:cubicBezTo>
                <a:cubicBezTo>
                  <a:pt x="5400" y="10800"/>
                  <a:pt x="10800" y="11267"/>
                  <a:pt x="10800" y="11733"/>
                </a:cubicBezTo>
                <a:lnTo>
                  <a:pt x="10800" y="20667"/>
                </a:lnTo>
                <a:cubicBezTo>
                  <a:pt x="10800" y="2113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684360" y="28656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染色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189160" y="208764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343240" y="3780000"/>
            <a:ext cx="15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292560" y="11826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1"/>
          <p:cNvSpPr/>
          <p:nvPr/>
        </p:nvSpPr>
        <p:spPr>
          <a:xfrm>
            <a:off x="3708360" y="2852640"/>
            <a:ext cx="165420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4094640" y="2957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5173560" y="293544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6300720" y="2565360"/>
            <a:ext cx="4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染色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1631880" y="4876920"/>
            <a:ext cx="718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染色体、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DNA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和基因三者关系图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103"/>
          <p:cNvSpPr/>
          <p:nvPr/>
        </p:nvSpPr>
        <p:spPr>
          <a:xfrm>
            <a:off x="106200" y="2844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3"/>
          <p:cNvSpPr/>
          <p:nvPr/>
        </p:nvSpPr>
        <p:spPr>
          <a:xfrm>
            <a:off x="1042920" y="981000"/>
            <a:ext cx="7850160" cy="453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"/>
          <p:cNvSpPr/>
          <p:nvPr/>
        </p:nvSpPr>
        <p:spPr>
          <a:xfrm>
            <a:off x="1042920" y="1557360"/>
            <a:ext cx="6842160" cy="331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"/>
          <p:cNvSpPr/>
          <p:nvPr/>
        </p:nvSpPr>
        <p:spPr>
          <a:xfrm>
            <a:off x="1042920" y="1844640"/>
            <a:ext cx="5761080" cy="27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6"/>
          <p:cNvSpPr/>
          <p:nvPr/>
        </p:nvSpPr>
        <p:spPr>
          <a:xfrm>
            <a:off x="1042920" y="2133720"/>
            <a:ext cx="4824360" cy="21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1042920" y="2276640"/>
            <a:ext cx="3600360" cy="180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8"/>
          <p:cNvSpPr/>
          <p:nvPr/>
        </p:nvSpPr>
        <p:spPr>
          <a:xfrm>
            <a:off x="1042920" y="2492280"/>
            <a:ext cx="2089080" cy="1441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1403280" y="2852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基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237840" y="28558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楷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788000" y="249228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染色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919840" y="2511360"/>
            <a:ext cx="59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细胞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804000" y="2637000"/>
            <a:ext cx="6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8028000" y="2492280"/>
            <a:ext cx="70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生物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103"/>
          <p:cNvSpPr/>
          <p:nvPr/>
        </p:nvSpPr>
        <p:spPr>
          <a:xfrm>
            <a:off x="106200" y="2844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2" descr=""/>
          <p:cNvPicPr/>
          <p:nvPr/>
        </p:nvPicPr>
        <p:blipFill>
          <a:blip r:embed="rId1"/>
          <a:srcRect l="45006" t="43284" r="1489" b="2000"/>
          <a:stretch/>
        </p:blipFill>
        <p:spPr>
          <a:xfrm>
            <a:off x="4232160" y="2127240"/>
            <a:ext cx="4032360" cy="39052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" descr=""/>
          <p:cNvPicPr/>
          <p:nvPr/>
        </p:nvPicPr>
        <p:blipFill>
          <a:blip r:embed="rId2"/>
          <a:srcRect l="1489" t="38481" r="60704" b="1038"/>
          <a:stretch/>
        </p:blipFill>
        <p:spPr>
          <a:xfrm>
            <a:off x="539640" y="2071800"/>
            <a:ext cx="3332160" cy="3960720"/>
          </a:xfrm>
          <a:prstGeom prst="rect">
            <a:avLst/>
          </a:prstGeom>
          <a:ln w="0">
            <a:noFill/>
          </a:ln>
        </p:spPr>
      </p:pic>
      <p:sp>
        <p:nvSpPr>
          <p:cNvPr id="103" name="Oval 5"/>
          <p:cNvSpPr/>
          <p:nvPr/>
        </p:nvSpPr>
        <p:spPr>
          <a:xfrm>
            <a:off x="3132000" y="4941720"/>
            <a:ext cx="792360" cy="100836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6732720" y="5013360"/>
            <a:ext cx="79200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"/>
          <p:cNvSpPr/>
          <p:nvPr/>
        </p:nvSpPr>
        <p:spPr>
          <a:xfrm>
            <a:off x="539640" y="90792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整理过的男性和女性染色体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9-01-14T02:08:09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